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0E23-14C0-4836-8140-49AD49D58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49F-264B-495F-84B7-E3AE03147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BD9-25BB-48AF-9352-8F87A0A8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F59-E652-4994-8D74-3C79025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436-15BE-4D35-9D52-5AFA7D19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E2A-CE7B-4449-9F33-A8957F79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782E-C77F-4D8C-9A84-AA837731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7B8B-342C-42F1-886B-23BFC24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8AD-72E6-447A-8A09-739F920F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A15-F7ED-487D-93AD-2D971E6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2B71-1A63-41CE-8020-9F0102FA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8B96-56BE-430D-95D2-8F199EF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7DB5-108E-41C5-863E-7399A355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595-9F32-4AE0-9965-49DFB358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F208-CC60-4A3D-8BE3-5FDD7E8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0CD3-863F-4E46-9D34-215D48C3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6429-14AE-4D3C-B99B-84A77632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1AEF-2473-4F72-9BC0-E73D1963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7D64-E7F0-4073-B899-12F4E841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AC82-B9DF-4B8C-BFBB-90118DD3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E198-E196-40CE-B48B-A16733E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1D53-B99D-4318-889E-127AD4C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1268-77C3-4779-A612-9DD789D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5F18-200A-42AE-BBE3-59828DEB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F11-CBD3-4469-BDF8-12211823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E1C5-D9E7-44F8-B7F4-02AEAC4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7FB4-7B8F-48E2-AD27-8430041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5346-F7B8-4D68-A1E3-19738B65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46DF-EFD8-4572-9F8C-2AE29C00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F550-7EC0-4A15-BC78-E71BF12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2005-6E14-4E8E-A65C-60E6E3FF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8BC6-A445-413D-AEC1-B22CA773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132A-9BF0-429F-A363-9352B6CC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F528-4466-42CC-AB86-9B08B70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1F59-20A6-433B-97E1-1EB2FE3D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06A-C59C-41E8-B877-80AA4393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9093-EAD4-460D-B891-F8F42B30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B7F1-30F2-4DBB-9365-2470DF3D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BA36-A3F7-49A9-80CA-A05C405D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86C8-60E0-45C3-A009-4DE7F53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EEE5-E3DE-42FC-BB88-BF2D71E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79AA-CEB5-44C4-94F6-0C7C0CA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384A-9A3D-413F-BB07-06483A4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E01CC-00F7-42DE-804C-CA929F36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BA23-FBC0-4DD2-9C7D-96B878A7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BFC36-7243-41B9-97BB-8B71B405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BE8-5A73-47DA-A2FB-2C859B0F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842D-617A-4C20-895C-107C418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FF47-BFBB-44A8-936D-876F9C03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CD6B-27EF-4398-B976-1A8ABA2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3574-88A2-4956-A5B2-4AB8C6D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AEF2-0665-46B7-8B7C-59A649F8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3258-DF3E-4F51-95D1-4CD5C5E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6E373-843C-400D-B086-1460F6E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1CAA-8F57-4C79-A0CD-18D2644A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8BB6-DD1D-44EC-8C24-E184FC0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FBDB-38B1-4C3C-AC9B-8634ED46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DC3-B033-486C-AA75-96DFCC4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B642-CE90-41A3-8B5C-B54CECD1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434-8CFA-48C5-BD4F-FB523117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F96-F707-4F33-AAD6-9BDF8AF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992-0563-4AAF-B669-80D8730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BE5-01A1-4D80-80EB-857E63EEA7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37FA-45A8-42B4-944D-9EBEEE3668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377-027A-4CAB-BCEE-2EDFECBBD3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2E4A-E010-4CF6-81FC-F4BE65C25D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42B-3FC5-4E1B-A3D4-64DF43F9A0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8"/>
          <p:cNvPicPr/>
          <p:nvPr/>
        </p:nvPicPr>
        <p:blipFill>
          <a:blip r:embed="rId1"/>
          <a:stretch/>
        </p:blipFill>
        <p:spPr>
          <a:xfrm>
            <a:off x="-762120" y="-30492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Муниципальное бюджетное дошкольно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детский сад общеразвивающего вида № 6</a:t>
            </a: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352030 Краснодарский край, ст.Кущёвска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ул.Комсомольская, 45 тел.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8 (861-68) 5-54-71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сайт: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Rodnichokdetsad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6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76312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Создание развивающей сред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для детей раннего возраста с нарушениями зрения в условиях неспециализированного  ДОУ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Конференция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«Создание адаптивной среды для детей с ограниченными возможностями здоровья, в том числе детей-инвалидов в условиях образовательных учреждений различных типов и вид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развивающей среды в групповой ячейк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Пользователь\Рабочий стол\P1020314.JPG"/>
          <p:cNvPicPr/>
          <p:nvPr/>
        </p:nvPicPr>
        <p:blipFill>
          <a:blip r:embed="rId2"/>
          <a:stretch/>
        </p:blipFill>
        <p:spPr>
          <a:xfrm>
            <a:off x="533520" y="1066680"/>
            <a:ext cx="4103640" cy="273528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4" name="Picture 7" descr="C:\Users\ДетСад\Desktop\ПРАПРО\DSC01533.JPG"/>
          <p:cNvPicPr/>
          <p:nvPr/>
        </p:nvPicPr>
        <p:blipFill>
          <a:blip r:embed="rId3"/>
          <a:stretch/>
        </p:blipFill>
        <p:spPr>
          <a:xfrm>
            <a:off x="5181480" y="1066680"/>
            <a:ext cx="4176720" cy="27352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3" descr="C:\Documents and Settings\Пользователь\Рабочий стол\P1020311.JPG"/>
          <p:cNvPicPr/>
          <p:nvPr/>
        </p:nvPicPr>
        <p:blipFill>
          <a:blip r:embed="rId4"/>
          <a:stretch/>
        </p:blipFill>
        <p:spPr>
          <a:xfrm>
            <a:off x="533520" y="4294080"/>
            <a:ext cx="4103640" cy="2563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6" name="Picture 5" descr="G:\фотографии с физ\P1050353.JPG"/>
          <p:cNvPicPr/>
          <p:nvPr/>
        </p:nvPicPr>
        <p:blipFill>
          <a:blip r:embed="rId5"/>
          <a:stretch/>
        </p:blipFill>
        <p:spPr>
          <a:xfrm>
            <a:off x="5257800" y="4192560"/>
            <a:ext cx="4103640" cy="26654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237" name="8-конечная звезда 7"/>
          <p:cNvSpPr/>
          <p:nvPr/>
        </p:nvSpPr>
        <p:spPr>
          <a:xfrm>
            <a:off x="3886200" y="3276720"/>
            <a:ext cx="2057400" cy="1523880"/>
          </a:xfrm>
          <a:custGeom>
            <a:avLst/>
            <a:gdLst>
              <a:gd name="textAreaLeft" fmla="*/ 483120 w 2057400"/>
              <a:gd name="textAreaRight" fmla="*/ 1574280 w 2057400"/>
              <a:gd name="textAreaTop" fmla="*/ 357840 h 1523880"/>
              <a:gd name="textAreaBottom" fmla="*/ 11660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млад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Горизонтальный свиток 11"/>
          <p:cNvSpPr/>
          <p:nvPr/>
        </p:nvSpPr>
        <p:spPr>
          <a:xfrm>
            <a:off x="228600" y="228600"/>
            <a:ext cx="876312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тодическая 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7760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Горизонтальный свиток 11"/>
          <p:cNvSpPr/>
          <p:nvPr/>
        </p:nvSpPr>
        <p:spPr>
          <a:xfrm>
            <a:off x="228600" y="22860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сультативная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5852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8"/>
          <p:cNvPicPr/>
          <p:nvPr/>
        </p:nvPicPr>
        <p:blipFill>
          <a:blip r:embed="rId1"/>
          <a:stretch/>
        </p:blipFill>
        <p:spPr>
          <a:xfrm>
            <a:off x="-60948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беспечение оптимальных, щадящих и комфортных условий в ДО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9" descr="E:\106_PANA\P1060176.JPG"/>
          <p:cNvPicPr/>
          <p:nvPr/>
        </p:nvPicPr>
        <p:blipFill>
          <a:blip r:embed="rId2"/>
          <a:stretch/>
        </p:blipFill>
        <p:spPr>
          <a:xfrm>
            <a:off x="609480" y="1295280"/>
            <a:ext cx="381024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7" name="Picture 10" descr="E:\106_PANA\P1060179.JPG"/>
          <p:cNvPicPr/>
          <p:nvPr/>
        </p:nvPicPr>
        <p:blipFill>
          <a:blip r:embed="rId3"/>
          <a:stretch/>
        </p:blipFill>
        <p:spPr>
          <a:xfrm>
            <a:off x="4572000" y="1295280"/>
            <a:ext cx="380988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8" name="Picture 11" descr="E:\106_PANA\P1060184.JPG"/>
          <p:cNvPicPr/>
          <p:nvPr/>
        </p:nvPicPr>
        <p:blipFill>
          <a:blip r:embed="rId4"/>
          <a:stretch/>
        </p:blipFill>
        <p:spPr>
          <a:xfrm>
            <a:off x="609480" y="3962520"/>
            <a:ext cx="381024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9" name="Picture 5" descr="C:\Users\ДетСад\Desktop\DCIM\100KM753\100_5138.JPG"/>
          <p:cNvPicPr/>
          <p:nvPr/>
        </p:nvPicPr>
        <p:blipFill>
          <a:blip r:embed="rId5"/>
          <a:stretch/>
        </p:blipFill>
        <p:spPr>
          <a:xfrm>
            <a:off x="4495680" y="3962520"/>
            <a:ext cx="388620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250" name="Стрелка вправо 14"/>
          <p:cNvSpPr/>
          <p:nvPr/>
        </p:nvSpPr>
        <p:spPr>
          <a:xfrm>
            <a:off x="152280" y="3200400"/>
            <a:ext cx="1663920" cy="533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15"/>
          <p:cNvSpPr/>
          <p:nvPr/>
        </p:nvSpPr>
        <p:spPr>
          <a:xfrm>
            <a:off x="152280" y="5867280"/>
            <a:ext cx="2514600" cy="533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ы со 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лево 16"/>
          <p:cNvSpPr/>
          <p:nvPr/>
        </p:nvSpPr>
        <p:spPr>
          <a:xfrm>
            <a:off x="6553080" y="3200400"/>
            <a:ext cx="2438640" cy="5335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лево 17"/>
          <p:cNvSpPr/>
          <p:nvPr/>
        </p:nvSpPr>
        <p:spPr>
          <a:xfrm>
            <a:off x="6477120" y="5943600"/>
            <a:ext cx="2514600" cy="457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руппов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71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слесловие…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Вертикальный свиток 5"/>
          <p:cNvSpPr/>
          <p:nvPr/>
        </p:nvSpPr>
        <p:spPr>
          <a:xfrm>
            <a:off x="0" y="533520"/>
            <a:ext cx="9144000" cy="6095880"/>
          </a:xfrm>
          <a:prstGeom prst="verticalScroll">
            <a:avLst>
              <a:gd name="adj" fmla="val 12500"/>
            </a:avLst>
          </a:prstGeom>
          <a:solidFill>
            <a:srgbClr val="eaeae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в семье ребёнка, имеющего зрительный дефект, почти всегда вызывает у родителей сильный эмоциональный стресс, порождает тревогу, растерянность перед неопределённостью перспектив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никает большое количество вопросов: «Сможет ли ребёнок нормально развиваться?», «Как скажется снижение зрения на его умственном и физическом развитии?», «Как будут относиться к нему другие люд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этому, цель наша– помочь  ребёнку-инвалиду и его родителям понять, что они являются неотъемлемой частью нашего современного общества, которому необходимо придерживаться принципов инклюзивного обра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Ценность человека не зависит от его способностей и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способен чувствовать и дум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имеет право на общение и на то, чтобы быть услышан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друг в дру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в поддержке и дружбе ровес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Разнообразие усиливает все стороны жизн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Kramar</cp:lastModifiedBy>
  <dcterms:modified xsi:type="dcterms:W3CDTF">2012-02-29T20:49:29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