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48C5-1C63-409C-A14A-03BFF87F57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6A3A-E7A2-491D-AD95-BAA52E954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078-470B-4D97-B2CC-A74ADC18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CFA-429F-48B8-9D53-648FAC8A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72F-EB71-4D02-87E1-DE9D7335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64D-24B3-4059-B0B0-06B3118B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9191-07EA-481D-AB14-B5DFC452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EF9F-2138-40EF-9FAD-9E08C87C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DCD5-2101-4180-BA53-5F5A56A2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0A8E-D74B-4D7F-BDF2-CE863A1A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701E-E30E-447A-B600-71E1F322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CDCF-D88A-4D05-AF5C-2DA5BAD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E134-77CF-41EE-B512-EE7F34B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AD9-9F08-4465-9089-4261716E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51FE-3252-4DA5-A9C9-15DFC94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4330-51E5-45AD-9E36-513A704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3D2F-4323-4550-A8C8-F1378029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F3F3-4174-4537-9C8A-05ACE24B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38F0-FD8F-4D19-AA38-8D7F9BED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3799-2D15-41C8-93F1-57FBDA30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8F91-342F-480F-A0F0-E633CF1B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648B-2CD4-4045-984A-2643D4E4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15EA-0BF0-4E35-9A90-D9CC7835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7734-EAAA-4C54-A385-3AE989AE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0E7-34A6-4634-A6BF-22B97C57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4FEB-5CCD-463F-B4C9-34B083DA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35A7-AB58-47C1-AC89-24141459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A9E6C-17FB-4367-8361-9E7C3FB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7F73-CA06-4657-91CE-A40EEF09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40F5-CA5E-4241-886E-873534C5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976C3-19B5-4662-B3E5-55318E32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91048-7F1A-49B4-93DD-9C0FBD86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283E-DD03-4626-B227-2322CE67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D111-D278-49A8-B627-1B3EA180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9300-E593-4154-BDD6-E2BE7C0B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93F-0999-40A5-8D7A-18FACC62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94BA5-631C-4779-B6E2-CAAD3B9E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5308-BCFE-496A-AC1B-72DF418A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5BF3-9DF5-49E8-BA3C-9C12D932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570E-A239-43E5-A11B-D22468CE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AE25-F31D-468E-81A1-9E2A4AB8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813E-B77B-475A-AAA3-E4010BBD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92168-761C-4A44-8EEB-D15BBB8B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11AD4-0D05-488A-B037-7B9F7B07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09DB-450E-4240-8E40-A3C80B98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17A0-9E44-42D5-B804-75885110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BD2-10DA-4FF7-A250-F672A14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123EF-0E0F-4A61-B26F-3AB86038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913B-79E7-47BB-9FEF-1E5D4277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6762-5AB1-4B4C-82CC-0240D45A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1893D-6C45-40E5-BA83-C8A1BF53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657A-78F6-4CF3-895A-C8A22885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F8D7-699E-4A2D-BDC2-5AF69DA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A4A7-31D2-41C4-B8C9-E6F34228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8D6B-0534-4D7C-A585-F174473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601D-1DB0-4639-B428-94951196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F2698-A616-446A-B40B-096B3BE3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08A-B0C9-4061-9092-D5B18F33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9750-D1DD-4712-985B-7ECD03E7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7E7-9EEB-4096-91C6-F405F1A6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D9B-2BD9-4627-BE3F-AC6DD91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386-9D80-434D-863E-60F3A5C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E5F7-8CF3-4EEC-A794-E3E5BB0D56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6DAA-E5EB-446E-89EC-678398BA3D8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4507-9A21-44E8-B230-4C9E538EB39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AB82-78FB-45EC-BA2F-C5A92667EA4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BA62-5B44-4DA1-9169-6834634D8D5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8"/>
          <p:cNvPicPr/>
          <p:nvPr/>
        </p:nvPicPr>
        <p:blipFill>
          <a:blip r:embed="rId1"/>
          <a:stretch/>
        </p:blipFill>
        <p:spPr>
          <a:xfrm>
            <a:off x="-762120" y="-304920"/>
            <a:ext cx="10692000" cy="7559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Муниципальное бюджетное дошкольно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образовательное учреждени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детский сад общеразвивающего вида № 6</a:t>
            </a:r>
            <a:br>
              <a:rPr sz="2200"/>
            </a:br>
            <a:br>
              <a:rPr sz="22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352030 Краснодарский край, ст.Кущёвская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ул.Комсомольская, 45 тел.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8 (861-68) 5-54-71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сайт: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Rodnichokdetsad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6</a:t>
            </a: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80880" y="2666880"/>
            <a:ext cx="8763120" cy="3733920"/>
          </a:xfrm>
          <a:prstGeom prst="rect">
            <a:avLst/>
          </a:prstGeom>
          <a:solidFill>
            <a:srgbClr val="f2f2f2"/>
          </a:solidFill>
          <a:ln w="76320">
            <a:solidFill>
              <a:srgbClr val="ffff00"/>
            </a:solidFill>
            <a:miter/>
          </a:ln>
        </p:spPr>
        <p:txBody>
          <a:bodyPr lIns="182880" tIns="91440" anchor="t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Создание развивающей сред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для детей раннего возраста с нарушениями зрения в условиях неспециализированного  ДОУ</a:t>
            </a: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Конференция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«Создание адаптивной среды для детей с ограниченными возможностями здоровья, в том числе детей-инвалидов в условиях образовательных учреждений различных типов и вид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оздание развивающей среды в групповой ячейк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2" descr="C:\Documents and Settings\Пользователь\Рабочий стол\P1020314.JPG"/>
          <p:cNvPicPr/>
          <p:nvPr/>
        </p:nvPicPr>
        <p:blipFill>
          <a:blip r:embed="rId2"/>
          <a:stretch/>
        </p:blipFill>
        <p:spPr>
          <a:xfrm>
            <a:off x="533520" y="1066680"/>
            <a:ext cx="4103640" cy="273528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234" name="Picture 7" descr="C:\Users\ДетСад\Desktop\ПРАПРО\DSC01533.JPG"/>
          <p:cNvPicPr/>
          <p:nvPr/>
        </p:nvPicPr>
        <p:blipFill>
          <a:blip r:embed="rId3"/>
          <a:stretch/>
        </p:blipFill>
        <p:spPr>
          <a:xfrm>
            <a:off x="5181480" y="1066680"/>
            <a:ext cx="4176720" cy="27352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35" name="Picture 3" descr="C:\Documents and Settings\Пользователь\Рабочий стол\P1020311.JPG"/>
          <p:cNvPicPr/>
          <p:nvPr/>
        </p:nvPicPr>
        <p:blipFill>
          <a:blip r:embed="rId4"/>
          <a:stretch/>
        </p:blipFill>
        <p:spPr>
          <a:xfrm>
            <a:off x="533520" y="4294080"/>
            <a:ext cx="4103640" cy="25639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236" name="Picture 5" descr="G:\фотографии с физ\P1050353.JPG"/>
          <p:cNvPicPr/>
          <p:nvPr/>
        </p:nvPicPr>
        <p:blipFill>
          <a:blip r:embed="rId5"/>
          <a:stretch/>
        </p:blipFill>
        <p:spPr>
          <a:xfrm>
            <a:off x="5257800" y="4192560"/>
            <a:ext cx="4103640" cy="266544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sp>
        <p:nvSpPr>
          <p:cNvPr id="237" name="8-конечная звезда 7"/>
          <p:cNvSpPr/>
          <p:nvPr/>
        </p:nvSpPr>
        <p:spPr>
          <a:xfrm>
            <a:off x="3886200" y="3276720"/>
            <a:ext cx="2057400" cy="1523880"/>
          </a:xfrm>
          <a:custGeom>
            <a:avLst/>
            <a:gdLst>
              <a:gd name="textAreaLeft" fmla="*/ 483120 w 2057400"/>
              <a:gd name="textAreaRight" fmla="*/ 1574280 w 2057400"/>
              <a:gd name="textAreaTop" fmla="*/ 357840 h 1523880"/>
              <a:gd name="textAreaBottom" fmla="*/ 11660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млад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39" name="Горизонтальный свиток 11"/>
          <p:cNvSpPr/>
          <p:nvPr/>
        </p:nvSpPr>
        <p:spPr>
          <a:xfrm>
            <a:off x="228600" y="228600"/>
            <a:ext cx="8763120" cy="103356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етодическая 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хема 13" descr=""/>
          <p:cNvPicPr/>
          <p:nvPr/>
        </p:nvPicPr>
        <p:blipFill>
          <a:blip r:embed="rId2"/>
          <a:stretch/>
        </p:blipFill>
        <p:spPr>
          <a:xfrm>
            <a:off x="133200" y="1390680"/>
            <a:ext cx="8877600" cy="5016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Горизонтальный свиток 11"/>
          <p:cNvSpPr/>
          <p:nvPr/>
        </p:nvSpPr>
        <p:spPr>
          <a:xfrm>
            <a:off x="228600" y="228600"/>
            <a:ext cx="8610480" cy="103356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нсультативная 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Схема 13" descr=""/>
          <p:cNvPicPr/>
          <p:nvPr/>
        </p:nvPicPr>
        <p:blipFill>
          <a:blip r:embed="rId2"/>
          <a:stretch/>
        </p:blipFill>
        <p:spPr>
          <a:xfrm>
            <a:off x="133200" y="1390680"/>
            <a:ext cx="8858520" cy="50166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8"/>
          <p:cNvPicPr/>
          <p:nvPr/>
        </p:nvPicPr>
        <p:blipFill>
          <a:blip r:embed="rId1"/>
          <a:stretch/>
        </p:blipFill>
        <p:spPr>
          <a:xfrm>
            <a:off x="-60948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беспечение оптимальных, щадящих и комфортных условий в ДОУ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9" descr="E:\106_PANA\P1060176.JPG"/>
          <p:cNvPicPr/>
          <p:nvPr/>
        </p:nvPicPr>
        <p:blipFill>
          <a:blip r:embed="rId2"/>
          <a:stretch/>
        </p:blipFill>
        <p:spPr>
          <a:xfrm>
            <a:off x="609480" y="1295280"/>
            <a:ext cx="3810240" cy="2590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7" name="Picture 10" descr="E:\106_PANA\P1060179.JPG"/>
          <p:cNvPicPr/>
          <p:nvPr/>
        </p:nvPicPr>
        <p:blipFill>
          <a:blip r:embed="rId3"/>
          <a:stretch/>
        </p:blipFill>
        <p:spPr>
          <a:xfrm>
            <a:off x="4572000" y="1295280"/>
            <a:ext cx="3809880" cy="2590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8" name="Picture 11" descr="E:\106_PANA\P1060184.JPG"/>
          <p:cNvPicPr/>
          <p:nvPr/>
        </p:nvPicPr>
        <p:blipFill>
          <a:blip r:embed="rId4"/>
          <a:stretch/>
        </p:blipFill>
        <p:spPr>
          <a:xfrm>
            <a:off x="609480" y="3962520"/>
            <a:ext cx="3810240" cy="25905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9" name="Picture 5" descr="C:\Users\ДетСад\Desktop\DCIM\100KM753\100_5138.JPG"/>
          <p:cNvPicPr/>
          <p:nvPr/>
        </p:nvPicPr>
        <p:blipFill>
          <a:blip r:embed="rId5"/>
          <a:stretch/>
        </p:blipFill>
        <p:spPr>
          <a:xfrm>
            <a:off x="4495680" y="3962520"/>
            <a:ext cx="3886200" cy="25905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250" name="Стрелка вправо 14"/>
          <p:cNvSpPr/>
          <p:nvPr/>
        </p:nvSpPr>
        <p:spPr>
          <a:xfrm>
            <a:off x="152280" y="3200400"/>
            <a:ext cx="1663920" cy="533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гу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право 15"/>
          <p:cNvSpPr/>
          <p:nvPr/>
        </p:nvSpPr>
        <p:spPr>
          <a:xfrm>
            <a:off x="152280" y="5867280"/>
            <a:ext cx="2514600" cy="533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ы со сверст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лево 16"/>
          <p:cNvSpPr/>
          <p:nvPr/>
        </p:nvSpPr>
        <p:spPr>
          <a:xfrm>
            <a:off x="6553080" y="3200400"/>
            <a:ext cx="2438640" cy="5335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та с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лево 17"/>
          <p:cNvSpPr/>
          <p:nvPr/>
        </p:nvSpPr>
        <p:spPr>
          <a:xfrm>
            <a:off x="6477120" y="5943600"/>
            <a:ext cx="2514600" cy="45720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руппов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7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8"/>
          <p:cNvPicPr/>
          <p:nvPr/>
        </p:nvPicPr>
        <p:blipFill>
          <a:blip r:embed="rId1"/>
          <a:stretch/>
        </p:blipFill>
        <p:spPr>
          <a:xfrm>
            <a:off x="-609480" y="-45720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-360"/>
            <a:ext cx="8717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слесловие…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Вертикальный свиток 5"/>
          <p:cNvSpPr/>
          <p:nvPr/>
        </p:nvSpPr>
        <p:spPr>
          <a:xfrm>
            <a:off x="0" y="533520"/>
            <a:ext cx="9144000" cy="6095880"/>
          </a:xfrm>
          <a:prstGeom prst="verticalScroll">
            <a:avLst>
              <a:gd name="adj" fmla="val 12500"/>
            </a:avLst>
          </a:prstGeom>
          <a:solidFill>
            <a:srgbClr val="eaeae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явление в семье ребёнка, имеющего зрительный дефект, почти всегда вызывает у родителей сильный эмоциональный стресс, порождает тревогу, растерянность перед неопределённостью перспектив развития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никает большое количество вопросов: «Сможет ли ребёнок нормально развиваться?», «Как скажется снижение зрения на его умственном и физическом развитии?», «Как будут относиться к нему другие люд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этому, цель наша– помочь  ребёнку-инвалиду и его родителям понять, что они являются неотъемлемой частью нашего современного общества, которому необходимо придерживаться принципов инклюзивного образ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Ценность человека не зависит от его способностей и дости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аждый человек способен чувствовать и дума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аждый человек имеет право на общение и на то, чтобы быть услышан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се люди нуждаются друг в дру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длинное образование может осуществляться только в контексте реальных взаимо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се люди нуждаются в поддержке и дружбе ровес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ля всех обучающихся достижение прогресса скорее может быть в том, что они могут делать, чем в том, что не могу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Разнообразие усиливает все стороны жизн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ад</dc:creator>
  <dc:description/>
  <dc:language>en-US</dc:language>
  <cp:lastModifiedBy>Kramar</cp:lastModifiedBy>
  <dcterms:modified xsi:type="dcterms:W3CDTF">2012-02-29T20:49:29Z</dcterms:modified>
  <cp:revision>1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