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8C8-E6D5-4C37-92BF-5358A36CC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6A6-33D7-4A3A-A04C-434352554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06D-03B2-4667-A5CF-43C7DF0F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26D-5507-4603-BB2D-C061F2E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294-D3D5-453A-BC1F-8A9F680E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74E-17C5-498F-AE80-37A95E62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15A-AFDD-43F7-9561-7E44E7F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C52-07EA-4B0C-BF87-17B679F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04B-AF8C-433B-968E-3CC7BEED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6776-BF00-4493-8872-8C94DAB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DF8-B68F-4A1D-8A44-8F35F196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C8B-2938-46BD-A01E-DDC74FF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38C-DDA1-43C2-90AB-CB9C50A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93F-4C84-4562-9B28-D4CF6B4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EBF-7226-4273-A19D-31264A31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EDE4-15C5-41EE-A649-7B0483E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DAC-3059-4D17-BAFA-7A7811B3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D9A8-B3F0-4332-A0A2-ABE9A73D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4437-C104-4DD5-B47B-24506027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9639-3698-49B6-9C0C-6A7047C7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923C-EE89-4B6D-BE7A-881F51B3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9639-A8EB-4C69-926C-9EC38BB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F293-600A-4056-A196-5319D8B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DAC5-0033-4BDC-950C-3783B22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B28-4D89-4D05-A9A1-BB592F4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5261-B754-4CEF-A5DC-79A8E5AD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1B58-7338-4630-BF7B-5DC32B9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A16E-48A8-4AAA-8751-F952832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D7D4-8A54-47C0-9CFF-9C30A56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A8D3-A453-4E0A-B586-B6CFF5F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ABF7-2728-4811-874E-41AD378D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A111-77D8-4E9B-82B8-DD9CFA8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26E9-6677-4644-B6CD-849060A0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F8FA-B302-477E-B641-1D7DF83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B3AD-13A7-4853-B226-6F93C52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58B-26BC-44F3-9818-ECC430C6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E9F3-6C02-435A-8708-3C2EE341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1293-D42F-405F-A0C4-18331D28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F7A4-A82A-4787-9C02-9E67F5CB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04D1-C03B-44CD-9D73-F267F7F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1D90-A917-4CE1-B533-D9FDC870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69CE-EFF5-4C13-B3D5-6F24ED6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5258-1F75-4BB6-9BF8-945F6B63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64F1-3E18-4E42-8B74-6B3D837B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630E-20B0-460B-BA81-6598AE7F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6F6B-4045-4015-A5A5-943FDE5C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9F8-BC0A-4A06-8DD9-2CDA605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054B-3620-4558-B551-653BE63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BA90-4B55-49A6-BD90-FCA7CE3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B072-8931-4D3E-8A85-A11D7BFC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036A-ABE3-4E7B-ADB5-844E8424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B48C-E584-4141-864E-A05FC22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BF4C-6BC2-4486-BD92-E704B05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8AA9-BD20-4C97-95F9-6A4AE99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52CE-9842-4DE2-8A12-D8F3FC1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2152-0D78-4772-BD1E-2F90FF53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F80D-40BF-4E96-8B93-56F7762E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5F5-8862-48CD-A007-DDC22058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676A-6922-427C-8E2A-B8D71043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430-3339-4705-9C08-66648BD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161-6088-42E9-BA8D-72B73F5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F33-119C-4124-A576-9C66403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A35C-4039-40E5-93F7-3A7FC7DBC4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4CC-7A3D-450A-94AD-41CA77CDEB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9A1-412F-47F9-8F21-07945D46A22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7A9F-A5B3-44ED-B4C2-3A4FD109E9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5C1-3919-4F7D-ACC6-0CE8CBFB7E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8"/>
          <p:cNvPicPr/>
          <p:nvPr/>
        </p:nvPicPr>
        <p:blipFill>
          <a:blip r:embed="rId1"/>
          <a:stretch/>
        </p:blipFill>
        <p:spPr>
          <a:xfrm>
            <a:off x="-762120" y="-304920"/>
            <a:ext cx="10692000" cy="7559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Муниципальное бюджетное дошкольно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comic"/>
              </a:rPr>
              <a:t>детский сад общеразвивающего вида № 6</a:t>
            </a: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352030 Краснодарский край, ст.Кущёвска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ул.Комсомольская, 45 тел.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8 (861-68) 5-54-71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сайт: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Rodnichokdetsad</a:t>
            </a:r>
            <a:r>
              <a:rPr b="1" lang="ru-RU" sz="1800" spc="-1" strike="noStrike">
                <a:solidFill>
                  <a:srgbClr val="990033"/>
                </a:solidFill>
                <a:latin typeface="comic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"/>
              </a:rPr>
              <a:t>6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76312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ff00"/>
            </a:solidFill>
            <a:miter/>
          </a:ln>
        </p:spPr>
        <p:txBody>
          <a:bodyPr lIns="182880" tIns="91440" anchor="t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Создание развивающей сред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для детей раннего возраста с нарушениями зрения в условиях неспециализированного  ДОУ</a:t>
            </a: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Конференция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«Создание адаптивной среды для детей с ограниченными возможностями здоровья, в том числе детей-инвалидов в условиях образовательных учреждений различных типов и вид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развивающей среды в групповой ячейк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Пользователь\Рабочий стол\P1020314.JPG"/>
          <p:cNvPicPr/>
          <p:nvPr/>
        </p:nvPicPr>
        <p:blipFill>
          <a:blip r:embed="rId2"/>
          <a:stretch/>
        </p:blipFill>
        <p:spPr>
          <a:xfrm>
            <a:off x="533520" y="1066680"/>
            <a:ext cx="4103640" cy="273528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4" name="Picture 7" descr="C:\Users\ДетСад\Desktop\ПРАПРО\DSC01533.JPG"/>
          <p:cNvPicPr/>
          <p:nvPr/>
        </p:nvPicPr>
        <p:blipFill>
          <a:blip r:embed="rId3"/>
          <a:stretch/>
        </p:blipFill>
        <p:spPr>
          <a:xfrm>
            <a:off x="5181480" y="1066680"/>
            <a:ext cx="4176720" cy="27352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3" descr="C:\Documents and Settings\Пользователь\Рабочий стол\P1020311.JPG"/>
          <p:cNvPicPr/>
          <p:nvPr/>
        </p:nvPicPr>
        <p:blipFill>
          <a:blip r:embed="rId4"/>
          <a:stretch/>
        </p:blipFill>
        <p:spPr>
          <a:xfrm>
            <a:off x="533520" y="4294080"/>
            <a:ext cx="4103640" cy="2563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236" name="Picture 5" descr="G:\фотографии с физ\P1050353.JPG"/>
          <p:cNvPicPr/>
          <p:nvPr/>
        </p:nvPicPr>
        <p:blipFill>
          <a:blip r:embed="rId5"/>
          <a:stretch/>
        </p:blipFill>
        <p:spPr>
          <a:xfrm>
            <a:off x="5257800" y="4192560"/>
            <a:ext cx="4103640" cy="26654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237" name="8-конечная звезда 7"/>
          <p:cNvSpPr/>
          <p:nvPr/>
        </p:nvSpPr>
        <p:spPr>
          <a:xfrm>
            <a:off x="3886200" y="3276720"/>
            <a:ext cx="2057400" cy="1523880"/>
          </a:xfrm>
          <a:custGeom>
            <a:avLst/>
            <a:gdLst>
              <a:gd name="textAreaLeft" fmla="*/ 483120 w 2057400"/>
              <a:gd name="textAreaRight" fmla="*/ 1574280 w 2057400"/>
              <a:gd name="textAreaTop" fmla="*/ 357840 h 1523880"/>
              <a:gd name="textAreaBottom" fmla="*/ 11660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млад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39" name="Горизонтальный свиток 11"/>
          <p:cNvSpPr/>
          <p:nvPr/>
        </p:nvSpPr>
        <p:spPr>
          <a:xfrm>
            <a:off x="228600" y="228600"/>
            <a:ext cx="876312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тодическая 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7760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8"/>
          <p:cNvPicPr/>
          <p:nvPr/>
        </p:nvPicPr>
        <p:blipFill>
          <a:blip r:embed="rId1"/>
          <a:stretch/>
        </p:blipFill>
        <p:spPr>
          <a:xfrm>
            <a:off x="-609480" y="-30492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Горизонтальный свиток 11"/>
          <p:cNvSpPr/>
          <p:nvPr/>
        </p:nvSpPr>
        <p:spPr>
          <a:xfrm>
            <a:off x="228600" y="22860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сультативная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Схема 13" descr=""/>
          <p:cNvPicPr/>
          <p:nvPr/>
        </p:nvPicPr>
        <p:blipFill>
          <a:blip r:embed="rId2"/>
          <a:stretch/>
        </p:blipFill>
        <p:spPr>
          <a:xfrm>
            <a:off x="133200" y="1390680"/>
            <a:ext cx="8858520" cy="5016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8"/>
          <p:cNvPicPr/>
          <p:nvPr/>
        </p:nvPicPr>
        <p:blipFill>
          <a:blip r:embed="rId1"/>
          <a:stretch/>
        </p:blipFill>
        <p:spPr>
          <a:xfrm>
            <a:off x="-60948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беспечение оптимальных, щадящих и комфортных условий в ДО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9" descr="E:\106_PANA\P1060176.JPG"/>
          <p:cNvPicPr/>
          <p:nvPr/>
        </p:nvPicPr>
        <p:blipFill>
          <a:blip r:embed="rId2"/>
          <a:stretch/>
        </p:blipFill>
        <p:spPr>
          <a:xfrm>
            <a:off x="609480" y="1295280"/>
            <a:ext cx="381024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7" name="Picture 10" descr="E:\106_PANA\P1060179.JPG"/>
          <p:cNvPicPr/>
          <p:nvPr/>
        </p:nvPicPr>
        <p:blipFill>
          <a:blip r:embed="rId3"/>
          <a:stretch/>
        </p:blipFill>
        <p:spPr>
          <a:xfrm>
            <a:off x="4572000" y="1295280"/>
            <a:ext cx="3809880" cy="2590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8" name="Picture 11" descr="E:\106_PANA\P1060184.JPG"/>
          <p:cNvPicPr/>
          <p:nvPr/>
        </p:nvPicPr>
        <p:blipFill>
          <a:blip r:embed="rId4"/>
          <a:stretch/>
        </p:blipFill>
        <p:spPr>
          <a:xfrm>
            <a:off x="609480" y="3962520"/>
            <a:ext cx="381024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49" name="Picture 5" descr="C:\Users\ДетСад\Desktop\DCIM\100KM753\100_5138.JPG"/>
          <p:cNvPicPr/>
          <p:nvPr/>
        </p:nvPicPr>
        <p:blipFill>
          <a:blip r:embed="rId5"/>
          <a:stretch/>
        </p:blipFill>
        <p:spPr>
          <a:xfrm>
            <a:off x="4495680" y="3962520"/>
            <a:ext cx="3886200" cy="25905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250" name="Стрелка вправо 14"/>
          <p:cNvSpPr/>
          <p:nvPr/>
        </p:nvSpPr>
        <p:spPr>
          <a:xfrm>
            <a:off x="152280" y="3200400"/>
            <a:ext cx="1663920" cy="533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15"/>
          <p:cNvSpPr/>
          <p:nvPr/>
        </p:nvSpPr>
        <p:spPr>
          <a:xfrm>
            <a:off x="152280" y="5867280"/>
            <a:ext cx="2514600" cy="533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ы со 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лево 16"/>
          <p:cNvSpPr/>
          <p:nvPr/>
        </p:nvSpPr>
        <p:spPr>
          <a:xfrm>
            <a:off x="6553080" y="3200400"/>
            <a:ext cx="2438640" cy="5335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лево 17"/>
          <p:cNvSpPr/>
          <p:nvPr/>
        </p:nvSpPr>
        <p:spPr>
          <a:xfrm>
            <a:off x="6477120" y="5943600"/>
            <a:ext cx="2514600" cy="457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рупповы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71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слесловие…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Вертикальный свиток 5"/>
          <p:cNvSpPr/>
          <p:nvPr/>
        </p:nvSpPr>
        <p:spPr>
          <a:xfrm>
            <a:off x="0" y="533520"/>
            <a:ext cx="9144000" cy="6095880"/>
          </a:xfrm>
          <a:prstGeom prst="verticalScroll">
            <a:avLst>
              <a:gd name="adj" fmla="val 12500"/>
            </a:avLst>
          </a:prstGeom>
          <a:solidFill>
            <a:srgbClr val="eaeae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в семье ребёнка, имеющего зрительный дефект, почти всегда вызывает у родителей сильный эмоциональный стресс, порождает тревогу, растерянность перед неопределённостью перспектив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никает большое количество вопросов: «Сможет ли ребёнок нормально развиваться?», «Как скажется снижение зрения на его умственном и физическом развитии?», «Как будут относиться к нему другие люд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этому, цель наша– помочь  ребёнку-инвалиду и его родителям понять, что они являются неотъемлемой частью нашего современного общества, которому необходимо придерживаться принципов инклюзивного обра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Ценность человека не зависит от его способностей и дости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способен чувствовать и дум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Каждый человек имеет право на общение и на то, чтобы быть услышан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друг в дру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се люди нуждаются в поддержке и дружбе ровес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ля всех обучающихся достижение прогресса скорее может быть в том, что они могут делать, чем в том, что не могу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Разнообразие усиливает все стороны жизн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ад</dc:creator>
  <dc:description/>
  <dc:language>en-US</dc:language>
  <cp:lastModifiedBy>Kramar</cp:lastModifiedBy>
  <dcterms:modified xsi:type="dcterms:W3CDTF">2012-02-29T20:49:29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