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D61-EBE2-4187-AA48-F4DFA1E5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DF5-06CF-4D04-8F91-592E035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9D3-150C-4AF0-9F5A-4660FE4E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EFA-81D5-478B-A919-B3F9A4B7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B51-4F46-4386-BFFE-0C2D3595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ADB2-264B-429C-86A1-BA1D1AF0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260-F5FD-4AB6-9E79-187A0D2E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E47D-9292-4524-84F4-79544E7F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4881-2C66-4E4A-8A73-C674BEA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8764-D7A3-434B-BBC8-8D1CEB37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D043-B93F-4EDA-88BE-4F9674A8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671-C674-4867-BAD9-E957EB5A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78DD-0774-49E7-B96C-94A11EE8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221C-60FF-44E5-ACF4-524D1A2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F9EF-A761-4C2B-A169-04FCB254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BB34-CB47-4882-B3CF-1DB18985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A67-6B6F-4DFF-B93C-1E4DC6EA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9139-D1C3-4C66-8612-8E17E9F8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7712-DED4-410E-B904-21D4769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B532-B6BD-42C1-8C6A-F2BD198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7F91-8018-413D-BEFE-66B467FF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3CB6-5C99-4892-8841-2315536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68A-E277-49D0-80DD-E2048D85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7541-FECC-4952-97AD-AF682C10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1552-44BC-47B0-96E9-926A8A5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67AF-BC34-4546-AD68-325DF20A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08BE-16A6-4B24-BA74-83D5E3E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3C80-4103-4F89-9612-AD9ABF2E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D5E4-606E-4FF3-BBD8-AFFE5F5D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EE2E-B7DA-4FF9-B121-04FF0358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5D08-0BBB-41CA-BAE1-0B2936FD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BCCE-09E6-4FD4-A9B6-A4B29C05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3A12-55F0-4499-B61B-25B6C870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CCC-AC4A-4C9A-AEA9-928FE5FC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76AF-AFE9-4CAD-8EC3-22B7BC20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1D83-B7FE-4370-B6AD-86E0AFF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0A1F-CE26-432F-A835-6404BE39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1D1F-AAC8-40F5-9D50-A00220C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8180-9C95-410B-B5E7-9CF9863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F69F-42AF-4968-8761-CD6AA36B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45D9-0E25-4C6E-BE71-7088D87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F01B-31A9-4B22-B798-D054FBA4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1350-4B7F-43C4-8AC8-A801678D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3ED2-B2CC-4591-8432-D14A8149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0DC-5EAB-4F71-93AA-AC56F901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AA04-5F9C-4C31-ABF7-1180E4A6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5490-2069-4825-96E0-EDEF50CA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9D02A-036E-4889-A39C-AB10CDC3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313AA-66C0-4EAC-8D80-87936ED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E20F-8BD6-4D3C-9E7D-45113850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18FE4-BC2F-4517-BE3E-75D65D9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D526A-C039-4E0A-A567-37B59A4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ACAC-5044-4C20-95B7-229AADC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2801-E121-4251-9C00-07CBC77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46D8-7618-4A1F-B768-010D4CA4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437-5A3A-4B18-80CE-72B50813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4BC9-31DB-44DC-93E4-55C6F640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1197-CFF7-4B25-BBA2-8F9D3272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9F9D-CF15-44AA-91EF-E736A99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8DD0D-007C-46AC-B154-0D26F119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18B8-3C9F-4EB5-8FAE-F2BFDF93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CFB49-6CB1-4F0D-940A-A0DD794A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7BFE-45EC-4505-AC3E-4E0578D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FB30C-2FB2-4F07-BDD7-94887AB0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6F37E-3637-49DE-A338-435B6F9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24EC-B884-40CA-9B55-969F8B4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73B-B632-4077-A688-E52C8AA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026BD-8405-4F21-9CC0-5AE25AC4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7E9E-FAD1-44EA-BC94-DC38BCA0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0174-BDC3-45BE-AD62-DDDF2735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4A60A-6F5B-41BB-A7F3-4F262D7F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DC35-0BB7-4712-9727-80C50D5B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93F7-DA08-4477-83EC-455D7FC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4DF5-5C5C-4AC4-88AD-0071CCE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ED4F8-AD7B-40E5-AF71-4B0A4103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0E59D-9C7E-4990-912E-925D8612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0B4DF-0125-4D4B-9CC1-6F70A08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87A-86E5-489C-82B3-F2CF537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0E34-F05A-47B4-A2F0-EFEC1C1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CE68-DD50-46B2-A999-2D5F2253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A6C50-9066-48F0-A37C-39FF2D5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9F659-C421-41FF-B916-39A0B9AD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1EC91-EAD4-466D-9604-25C9E309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52E-491E-4076-B068-DDF8D69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AB4-7D5B-4F4B-A534-A421B4619C89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9220-4835-498F-BF76-DC134E4E46DE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3027-B703-40E2-9E16-0A95C940278A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1D77-0F5E-4243-AC79-36468002852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121D-5F5D-451C-9619-926676172CB2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BD07-A67B-48B7-A306-2E5BF3FF86B3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25F3-F1AC-4464-9B9E-256B79EB381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</a:rPr>
              <a:t>Современная модель музыкального воспитания детей-дошкольников делает акцент на развитие творческих и индивидуальных способностей, формирование эмоционально-волевой и двигательной сфер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4" descr="IMG_0989.JPG"/>
          <p:cNvPicPr/>
          <p:nvPr/>
        </p:nvPicPr>
        <p:blipFill>
          <a:blip r:embed="rId1"/>
          <a:stretch/>
        </p:blipFill>
        <p:spPr>
          <a:xfrm>
            <a:off x="1979640" y="1844640"/>
            <a:ext cx="6400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работе с детьми мы широко используем музыкальные инструменты  для проявления и реализации музыкальных, творческих и личностных возможностей дошкольников: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1640" y="1341000"/>
            <a:ext cx="749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держиваем у детей устойчивый интерес к музы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прививаем навыки игры на музыкальных инструментах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знакомим с произведениями детской классической музыки  на практик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Содержимое 8" descr="IMG_0991.JPG"/>
          <p:cNvPicPr/>
          <p:nvPr/>
        </p:nvPicPr>
        <p:blipFill>
          <a:blip r:embed="rId1"/>
          <a:stretch/>
        </p:blipFill>
        <p:spPr>
          <a:xfrm>
            <a:off x="3419640" y="2924280"/>
            <a:ext cx="4984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42560" y="33300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 ярко проявляют себя музыкальные дети – те, которые имеют явную склонность к музыке, и кроме того, являются хорошими организатора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579640" y="475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я каким-либо опытом, умея исполнять то, что хотят, дети чувствуют себя непринужденно, их самостоятельные действия становятся активными, творческими, изобразительными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Содержимое 9" descr="IMG_0990.JPG"/>
          <p:cNvPicPr/>
          <p:nvPr/>
        </p:nvPicPr>
        <p:blipFill>
          <a:blip r:embed="rId1"/>
          <a:stretch/>
        </p:blipFill>
        <p:spPr>
          <a:xfrm>
            <a:off x="1476360" y="306864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организации музицирования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600" y="1052280"/>
            <a:ext cx="35686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ая форма - сюжетно-ролевая иг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76720" y="907920"/>
            <a:ext cx="3873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бирают тему под влиянием различных музыкальных впечатлений, распределяют роли и сюжет получает развит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игра  в оркестр, концерт, музыкальное занятие, известные  музыкальные телепередач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Объект 4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022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076720" y="404280"/>
            <a:ext cx="3857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ая форма  - игровые упражн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 дидактического характера, во время которых ребенок тренируется, осваивая приемы игры на детских музыкальных инструментах или разучивая танцевальные движ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Объект 1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76880" y="475920"/>
            <a:ext cx="3657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Наличие в группе специально оборудованного уголка, материалы которого позволяют пользоваться необходимыми инструментами, пособиями, дидактическими игр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Содержимое 9" descr="IMG_0986.JPG"/>
          <p:cNvPicPr/>
          <p:nvPr/>
        </p:nvPicPr>
        <p:blipFill>
          <a:blip r:embed="rId1"/>
          <a:stretch/>
        </p:blipFill>
        <p:spPr>
          <a:xfrm>
            <a:off x="1547640" y="765000"/>
            <a:ext cx="3657600" cy="30956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6"/>
          <p:cNvSpPr/>
          <p:nvPr/>
        </p:nvSpPr>
        <p:spPr>
          <a:xfrm>
            <a:off x="1547640" y="4221000"/>
            <a:ext cx="333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центр самостоятельной музык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58560" y="404640"/>
            <a:ext cx="3384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Обучение на занятиях, где дети овладевают способами самостоятельных действий; яркие впечатления от художественных зрелищ в детском саду, семье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:</a:t>
            </a: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858920" y="765000"/>
            <a:ext cx="403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праздники, театральные спектакли, музыка в семь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Объект 9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4022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115560"/>
            <a:ext cx="8001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обия, которыми ребенок может пользоваться самостоятельно: 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трументы (металлофоны, трещотки, треугольники, маракасы, музыкальные молоточки, ложки, погремушки, колокольчики и др.).      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Настольные музыкально-дидактические игры.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- Комплекты и атрибуты кукольного и других видов театра, элементы костюмов, художественные игрушки.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2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3024000" cy="2808360"/>
          </a:xfrm>
          <a:prstGeom prst="rect">
            <a:avLst/>
          </a:prstGeom>
          <a:ln w="0">
            <a:noFill/>
          </a:ln>
        </p:spPr>
      </p:pic>
      <p:pic>
        <p:nvPicPr>
          <p:cNvPr id="340" name="Объект 6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36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педагога в формировании самостоятельной музыкальной деятельности дошкольников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03280" y="1699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условие (фактор) развития музицирования –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свенное влияние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о подразумевает некоторые методические приемы, а именно,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ирование и создание условий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их эту деятельность и определенный характер действий самого педагог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должны быть не инструкцией (как надо действовать), а побуждением – «Поиграем в праздник?... А хотите, мы вместе покажем сказку?... Интересно послушать наши любимые песенки… и т.п.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9:06:46Z</dcterms:created>
  <dc:creator>валерий</dc:creator>
  <dc:description/>
  <dc:language>en-US</dc:language>
  <cp:lastModifiedBy>1</cp:lastModifiedBy>
  <dcterms:modified xsi:type="dcterms:W3CDTF">2012-02-25T16:30:08Z</dcterms:modified>
  <cp:revision>55</cp:revision>
  <dc:subject/>
  <dc:title>Развитие творческих способностей и личностного потенциала ребенка в процессе самостоятельной музыкальной деятельности (музицирования).</dc:title>
</cp:coreProperties>
</file>