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BED-817C-48C6-A0D3-39F90E80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B93-787B-4EC7-A454-E2E6CC06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969-6126-4EEC-B27E-1976997F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60F-1CDB-420A-AD20-BD8AB278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DD53-E8B4-42A8-B4D8-52FEABB2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FD63-A7A7-47EB-A5D8-2580005B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BA48-C6BE-4B29-99AE-E15AD86D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1B9F-BD9E-44F2-BB0E-38181075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8057-A3F6-428D-9F5B-C60AE08F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8CC2-7573-4C33-B3DC-9BE9A562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1888-2192-4A48-AA55-42462630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564-1BFC-4AE0-8746-ACB58BAA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63D4-B3BC-4103-ACE4-6B56A995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1894-78D1-4014-8497-E5E05A46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28F9-5057-45A3-9D8A-CAD74FB6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1414-FAA7-4CBE-A679-E94177A0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55A1-D8C1-49E4-AF4C-BB235631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37453-6C5E-4130-9079-3428F1DE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614E-AD91-48D7-A4E2-1748676A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535BB-F625-4664-B65C-AF98559C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2D600-C395-444A-9040-E4DA0B96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FDF17-C69B-40DD-B4F7-D1A5D9D6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3A4-DB5C-499B-80DE-DE9CC3F8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B1A70-FB54-4270-8479-D82A1710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D919D-99C8-4623-8CDB-BE4080DA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0BCB6-2336-4D77-8258-B740D90E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C20CC-9157-4FFB-AC99-0706FB42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608E5-5946-4733-B1F5-36111C0C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DC535-69B6-4EAD-95F5-24FC2E0C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E9EC4-A0DF-40D0-B485-F040CA2C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BA245-5327-4210-AE29-CE1DBFCD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372EA-4E93-4209-88F1-9AA13126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2176A-463C-4DD7-AE58-E9E95889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908-806F-47CF-A6A6-0AC9B728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01FA3-8DC9-452B-B172-CDA379BD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6B2AB-3F81-479F-91F2-707C4F5E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9ACA1-32E2-400C-AEA2-B00B79D1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5C741-302C-4A02-A806-F64DC9F4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CEB08-4B3F-4674-BAAB-3D591D7E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D2CFC-4072-493C-B5A7-3ADBCE31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12C1C-A6F0-4CFB-A93D-2136E701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AD214-87AC-47C7-9498-5C8ECE57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274C2-9C1D-4D26-A39D-07805751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2B10F-91D9-4B01-8518-89E8482E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318-2D34-4779-9A21-63911B7C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22DF7-527D-4CDF-A787-3520E4A9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C03D7-E4C5-4FB8-9B25-9469B744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C8710-F47A-4A71-B569-051807B1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39F25-5E93-4B8E-AF07-C515AA3B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2C87B-FCD0-4EDC-9090-60CC32F9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55664-2716-4245-BC63-BBFF9EAB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E8BEF-0899-4315-82F6-3D61E461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377AE-5A32-412A-AEF4-10467E7D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46EBD-5947-4B37-B54C-C2EA2A5A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B6E9D-A03A-47B9-B39F-97ABC240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6B4-EE60-4185-9AE9-58BAA63D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9676A-C38C-41BC-A35D-67E9DB24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12926-AA46-414B-A785-EC9D7780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1BB5B-790A-4708-A8C8-EA172EC6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1004A-2FC4-4D8A-828C-E0F93A5F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326F3-C6F5-4002-B9C9-56362CB5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1D723-B490-4EC2-B495-3D332F4A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BDC9F-95D1-4AEA-A095-EDF31823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DC392-E609-4AF6-B094-00993DBF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30495-9C9B-4A10-9B69-1F8FFD08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216B0-000B-4D68-8B05-C41C1ED9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B35-57EC-4858-BBDB-CD7D7B83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0C487-3635-4BBE-8D7B-A9276AE8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27BBD-8FF7-4FAE-9DCC-51B2EC8E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E6C0E-D2B3-4532-9C3A-B528895B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E6383-F982-4FBF-824B-16EDADEB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FC363-A768-45CF-8F3C-0E68A4A6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91F59-CA66-4BA6-A990-362F7A03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F39AF-0EC3-4770-9227-54DF5521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E9F88-4129-473B-B7AF-895E0E0A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064CD-D491-49B3-9BC3-902F358D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F6374-4AE4-4B96-BE07-EE610636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125D-9949-441D-969D-C0E7AF75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B3902-AC15-4A42-AA29-C140360A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CF0F4-9009-4447-B901-DD810B7E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EEF38-38F6-41D6-BCD0-5220F26C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A4507-2844-4D7F-BF98-855839EA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1235E-D83B-4348-AB7F-F7D5BDC9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4D5-674E-4139-A0B3-863EEF62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8FDE-B43E-4AB2-B293-86A3A5BEAFC1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16E0-C914-4BF8-B88B-47622073F7FC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A84B-A81D-444D-BD1A-BFD31494971B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2D5C-713D-4BC9-B5A7-F3617673954A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9AFA-17B3-4C98-B4D5-319877E6583B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461A-4306-4A13-8DE7-573D55988490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C50B-291E-48CF-A955-D9C685F37235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572314"/>
                </a:solidFill>
                <a:latin typeface="Times New Roman"/>
              </a:rPr>
              <a:t>Современная модель музыкального воспитания детей-дошкольников делает акцент на развитие творческих и индивидуальных способностей, формирование эмоционально-волевой и двигательной сфер. 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Содержимое 4" descr="IMG_0989.JPG"/>
          <p:cNvPicPr/>
          <p:nvPr/>
        </p:nvPicPr>
        <p:blipFill>
          <a:blip r:embed="rId1"/>
          <a:stretch/>
        </p:blipFill>
        <p:spPr>
          <a:xfrm>
            <a:off x="1979640" y="1844640"/>
            <a:ext cx="64008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работе с детьми мы широко используем музыкальные инструменты  для проявления и реализации музыкальных, творческих и личностных возможностей дошкольников: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331640" y="1341000"/>
            <a:ext cx="7499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ддерживаем у детей устойчивый интерес к музыке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прививаем навыки игры на музыкальных инструментах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знакомим с произведениями детской классической музыки  на практике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Содержимое 8" descr="IMG_0991.JPG"/>
          <p:cNvPicPr/>
          <p:nvPr/>
        </p:nvPicPr>
        <p:blipFill>
          <a:blip r:embed="rId1"/>
          <a:stretch/>
        </p:blipFill>
        <p:spPr>
          <a:xfrm>
            <a:off x="3419640" y="2924280"/>
            <a:ext cx="4984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042560" y="333000"/>
            <a:ext cx="4537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обенно ярко проявляют себя музыкальные дети – те, которые имеют явную склонность к музыке, и кроме того, являются хорошими организаторам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579640" y="475920"/>
            <a:ext cx="331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ладея каким-либо опытом, умея исполнять то, что хотят, дети чувствуют себя непринужденно, их самостоятельные действия становятся активными, творческими, изобразительными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Содержимое 9" descr="IMG_0990.JPG"/>
          <p:cNvPicPr/>
          <p:nvPr/>
        </p:nvPicPr>
        <p:blipFill>
          <a:blip r:embed="rId1"/>
          <a:stretch/>
        </p:blipFill>
        <p:spPr>
          <a:xfrm>
            <a:off x="1476360" y="3068640"/>
            <a:ext cx="4022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 организации музицирования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600" y="1052280"/>
            <a:ext cx="35686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-ая форма - сюжетно-ролевая игр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076720" y="907920"/>
            <a:ext cx="3873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ыбирают тему под влиянием различных музыкальных впечатлений, распределяют роли и сюжет получает развит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игра  в оркестр, концерт, музыкальное занятие, известные  музыкальные телепередач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Объект 4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4022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5076720" y="404280"/>
            <a:ext cx="38577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-ая форма  - игровые упражн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енно дидактического характера, во время которых ребенок тренируется, осваивая приемы игры на детских музыкальных инструментах или разучивая танцевальные движ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Объект 1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3816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276880" y="475920"/>
            <a:ext cx="3657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Наличие в группе специально оборудованного уголка, материалы которого позволяют пользоваться необходимыми инструментами, пособиями, дидактическими игра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Содержимое 9" descr="IMG_0986.JPG"/>
          <p:cNvPicPr/>
          <p:nvPr/>
        </p:nvPicPr>
        <p:blipFill>
          <a:blip r:embed="rId1"/>
          <a:stretch/>
        </p:blipFill>
        <p:spPr>
          <a:xfrm>
            <a:off x="1547640" y="765000"/>
            <a:ext cx="3657600" cy="30956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6"/>
          <p:cNvSpPr/>
          <p:nvPr/>
        </p:nvSpPr>
        <p:spPr>
          <a:xfrm>
            <a:off x="1547640" y="4221000"/>
            <a:ext cx="3337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центр самостоятельной музык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258560" y="404640"/>
            <a:ext cx="3384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Обучение на занятиях, где дети овладевают способами самостоятельных действий; яркие впечатления от художественных зрелищ в детском саду, семье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:</a:t>
            </a: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858920" y="765000"/>
            <a:ext cx="403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праздники, театральные спектакли, музыка в семь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Объект 9" descr=""/>
          <p:cNvPicPr/>
          <p:nvPr/>
        </p:nvPicPr>
        <p:blipFill>
          <a:blip r:embed="rId1"/>
          <a:stretch/>
        </p:blipFill>
        <p:spPr>
          <a:xfrm>
            <a:off x="4859280" y="836640"/>
            <a:ext cx="4022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2640" y="115560"/>
            <a:ext cx="8001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собия, которыми ребенок может пользоваться самостоятельно:  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</a:t>
            </a: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струменты (металлофоны, трещотки, треугольники, маракасы, музыкальные молоточки, ложки, погремушки, колокольчики и др.).      </a:t>
            </a:r>
            <a:br>
              <a:rPr sz="2600"/>
            </a:b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Настольные музыкально-дидактические игры.</a:t>
            </a:r>
            <a:br>
              <a:rPr sz="2600"/>
            </a:b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- Комплекты и атрибуты кукольного и других видов театра, элементы костюмов, художественные игрушки.</a:t>
            </a: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Объект 2" descr=""/>
          <p:cNvPicPr/>
          <p:nvPr/>
        </p:nvPicPr>
        <p:blipFill>
          <a:blip r:embed="rId1"/>
          <a:stretch/>
        </p:blipFill>
        <p:spPr>
          <a:xfrm>
            <a:off x="5651640" y="3716280"/>
            <a:ext cx="3024000" cy="2808360"/>
          </a:xfrm>
          <a:prstGeom prst="rect">
            <a:avLst/>
          </a:prstGeom>
          <a:ln w="0">
            <a:noFill/>
          </a:ln>
        </p:spPr>
      </p:pic>
      <p:pic>
        <p:nvPicPr>
          <p:cNvPr id="340" name="Объект 6" descr=""/>
          <p:cNvPicPr/>
          <p:nvPr/>
        </p:nvPicPr>
        <p:blipFill>
          <a:blip r:embed="rId2"/>
          <a:stretch/>
        </p:blipFill>
        <p:spPr>
          <a:xfrm>
            <a:off x="1476360" y="3716280"/>
            <a:ext cx="3657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77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ль педагога в формировании самостоятельной музыкальной деятельности дошкольников.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03280" y="1699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ее условие (фактор) развития музицирования –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свенное влияние педаг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о подразумевает некоторые методические приемы, а именно, 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нирование и создание условий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их эту деятельность и определенный характер действий самого педагог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должны быть не инструкцией (как надо действовать), а побуждением – «Поиграем в праздник?... А хотите, мы вместе покажем сказку?... Интересно послушать наши любимые песенки… и т.п.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9:06:46Z</dcterms:created>
  <dc:creator>валерий</dc:creator>
  <dc:description/>
  <dc:language>en-US</dc:language>
  <cp:lastModifiedBy>1</cp:lastModifiedBy>
  <dcterms:modified xsi:type="dcterms:W3CDTF">2012-02-25T16:30:08Z</dcterms:modified>
  <cp:revision>55</cp:revision>
  <dc:subject/>
  <dc:title>Развитие творческих способностей и личностного потенциала ребенка в процессе самостоятельной музыкальной деятельности (музицирования).</dc:title>
</cp:coreProperties>
</file>