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720-F341-4D85-8B0A-4CDAA19B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E0-797C-4167-A579-E05725B7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89C-C846-4BC8-8565-2DDA11EB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1C8-FD69-49CD-9A52-DA1A24D3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06B4-0626-4FFA-A397-E456BE2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7A2-08C7-4377-9A5D-038EC8C7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F0C-5D0F-44AF-A44A-EFF0F58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D11-6F35-467C-A150-B2A121EB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4C8-202E-4608-A35A-86F419F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C26-4724-4225-9E5C-889EE32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F3A7-9B1A-48E3-B438-0D1F150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EE3-CC5E-42A3-8D49-E990048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27A-99BE-4D19-999E-9E6CC23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7B2-9EF2-4057-93B7-46D5F11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FF8-C4FF-491D-87F0-F96349F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0530-B0A5-4EE2-A4C4-04F1DD13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945-F74F-4102-9494-70542A06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002F-D71A-4C7D-8323-D32F70FD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659F-9E9D-4423-BE74-996C017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0347-F723-4E45-A1EC-EB0E870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AE50-0E95-45A1-A330-2BDBE4D2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5637-9D27-4155-BE91-A11A6717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069-0C7D-4222-B0B8-44820FAF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BBC5-61F5-4214-914A-C2658C45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147C-402F-4F2B-B94C-AD071D6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AA09-34F0-46DF-A48E-5D0668A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9B5E-C07A-4C23-87EF-A56C82F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7F6C-9B28-4638-B721-BEC3928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C7FF-1230-4519-B447-A3D8E47C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4532-4C9F-4F4E-B9FC-C87A5ADB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8D5A-5A92-4046-AD4E-DED452F1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DC56-322E-49E2-9C2B-4CEEF83D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FE48-1FAE-450A-B057-4C1F4383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C6B-2C84-4E82-A640-6109367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406D-9D0B-44BA-AB59-2F7B5F6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59B2-B125-46DA-B61E-92D0C78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212B-AA15-4146-99E9-D696C08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150F-E44A-434F-8822-AE0168B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9F2D-51DF-489D-B6D8-DEC872E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26DC-E0A3-4109-BFF5-0D437DE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6D44-CC60-43C4-A065-4CD68B2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E49A-AC3F-423A-82EC-CB9A4A67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6F18-E737-4C63-A913-2290ABC0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472F-12E0-473E-8448-06816DEE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BAA-F3AF-40C8-ACC5-F11CCA4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6F61-8424-42E6-940D-B93B828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89C5-47C0-4379-AF5E-B2B15D9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79EF-9D32-4A97-8D7B-B552A285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01FB-749C-49C0-88B6-93BB1F2F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1F7E3-336B-44D2-B4A5-DCF5E65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6C25-7DA2-4549-A9AC-AF552CA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8F65-08A9-48BD-A469-26804C0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B1282-4C02-46DC-B30C-78AC4D8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0D6A-BE51-4816-A767-39D920D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12FD-13DF-4C5F-90EB-11FB25F7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D45-3BAC-48E1-B859-98292C64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850D-AB43-4A69-A6C7-35DB58E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406F4-8279-4350-868C-E9C4D93D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DDCD-6BC5-4C72-A6CA-110C400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34DF-1C6C-4C39-8F20-F052581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10DF-596D-45F3-9A55-338EC39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A8DD-2344-498B-AA6B-8D8027F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9FA66-5D6A-443B-ACBD-50327C0A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598A-4A63-4019-AE30-3D16889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AB62C-022D-452E-9616-19E4595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7874-105F-4424-B672-044840E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A1C-F775-4EB3-8EF5-EB22A2F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8E8F-58DB-488A-9D01-26605B47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584F-38C7-432E-AD9B-44C67A2C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2027-2EAF-47CF-B9ED-B6E3E4DD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DBAA-8D9C-4C42-84E6-98165457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0EC60-1471-47ED-B2EF-A876977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296F7-F79A-4E87-9064-9298A1E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533B-5266-4D33-9B58-3B9D989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9D5EB-8386-4874-AAB5-D167CF4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7413-075B-4086-950F-9A21064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983F-6421-4919-A298-56E2D8C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E67-AC56-4B0F-93A8-DEA815FD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AFA65-0EEB-4646-8394-8CD3A60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494F-5741-4333-915C-5624D52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A265-41E5-4941-8153-C4647AA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0F21-C917-4AE9-96AD-7AC5B1D6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0136-499D-4712-8E42-1268C87C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B88-A807-4254-A785-82463AF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64C6-B89C-456E-A0C2-46B9E017894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0739-DBFB-44A9-8083-03B8138391F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AE6-FE77-444B-B71E-36CA88F4C25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AEF-9808-4264-9B5C-65F4F5C2B79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9D1F-377D-4DC9-BCF6-BCE229EE435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3DC9-3371-491E-867F-F45CDB185F8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0775-5DA2-4910-B06B-E0072332960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Современная модель музыкального воспитания детей-дошкольников делает акцент на развитие творческих и индивидуальных способностей, формирование эмоционально-волевой и двигательной сфер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4" descr="IMG_0989.JPG"/>
          <p:cNvPicPr/>
          <p:nvPr/>
        </p:nvPicPr>
        <p:blipFill>
          <a:blip r:embed="rId1"/>
          <a:stretch/>
        </p:blipFill>
        <p:spPr>
          <a:xfrm>
            <a:off x="1979640" y="1844640"/>
            <a:ext cx="6400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работе с детьми мы широко используем музыкальные инструменты  для проявления и реализации музыкальных, творческих и личностных возможностей дошкольников: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1640" y="1341000"/>
            <a:ext cx="749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держиваем у детей устойчивый интерес к музы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рививаем навыки игры на музыкальных инструментах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знакомим с произведениями детской классической музыки  на практи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8" descr="IMG_0991.JPG"/>
          <p:cNvPicPr/>
          <p:nvPr/>
        </p:nvPicPr>
        <p:blipFill>
          <a:blip r:embed="rId1"/>
          <a:stretch/>
        </p:blipFill>
        <p:spPr>
          <a:xfrm>
            <a:off x="3419640" y="2924280"/>
            <a:ext cx="498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 ярко проявляют себя музыкальные дети – те, которые имеют явную склонность к музыке, и кроме того, являются хорошими организатор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579640" y="475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я каким-либо опытом, умея исполнять то, что хотят, дети чувствуют себя непринужденно, их самостоятельные действия становятся активными, творческими, изобразительны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9" descr="IMG_0990.JPG"/>
          <p:cNvPicPr/>
          <p:nvPr/>
        </p:nvPicPr>
        <p:blipFill>
          <a:blip r:embed="rId1"/>
          <a:stretch/>
        </p:blipFill>
        <p:spPr>
          <a:xfrm>
            <a:off x="1476360" y="306864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музицирования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600" y="1052280"/>
            <a:ext cx="35686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ая форма - сюжетно-ролевая иг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76720" y="907920"/>
            <a:ext cx="3873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бирают тему под влиянием различных музыкальных впечатлений, распределяют роли и сюжет получает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гра  в оркестр, концерт, музыкальное занятие, известные  музыкальные телепередач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Объект 4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076720" y="404280"/>
            <a:ext cx="3857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ая форма  - игровые упражн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дидактического характера, во время которых ребенок тренируется, осваивая приемы игры на детских музыкальных инструментах или разучивая танцевальные движ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Объект 1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76880" y="475920"/>
            <a:ext cx="3657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аличие в группе специально оборудованного уголка, материалы которого позволяют пользоваться необходимыми инструментами, пособиями, дидактическими игр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9" descr="IMG_0986.JPG"/>
          <p:cNvPicPr/>
          <p:nvPr/>
        </p:nvPicPr>
        <p:blipFill>
          <a:blip r:embed="rId1"/>
          <a:stretch/>
        </p:blipFill>
        <p:spPr>
          <a:xfrm>
            <a:off x="1547640" y="765000"/>
            <a:ext cx="3657600" cy="30956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1547640" y="4221000"/>
            <a:ext cx="333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центр самостоятельной музык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40464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Обучение на занятиях, где дети овладевают способами самостоятельных действий; яркие впечатления от художественных зрелищ в детском саду, семье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85892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праздники, театральные спектакли, музыка в семь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Объект 9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402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115560"/>
            <a:ext cx="8001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обия, которыми ребенок может пользоваться самостоятельно: 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трументы (металлофоны, трещотки, треугольники, маракасы, музыкальные молоточки, ложки, погремушки, колокольчики и др.).      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астольные музыкально-дидактические игры.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- Комплекты и атрибуты кукольного и других видов театра, элементы костюмов, художественные игрушки.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6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6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в формировании самостоятельной музыкальной деятельности дошкольников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328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условие (фактор) развития музицирования 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свенное влияние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о подразумевает некоторые методические приемы, а именно,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и создание условий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х эту деятельность и определенный характер действий самого педагог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должны быть не инструкцией (как надо действовать), а побуждением – «Поиграем в праздник?... А хотите, мы вместе покажем сказку?... Интересно послушать наши любимые песенки… и т.п.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9:06:46Z</dcterms:created>
  <dc:creator>валерий</dc:creator>
  <dc:description/>
  <dc:language>en-US</dc:language>
  <cp:lastModifiedBy>1</cp:lastModifiedBy>
  <dcterms:modified xsi:type="dcterms:W3CDTF">2012-02-25T16:30:08Z</dcterms:modified>
  <cp:revision>55</cp:revision>
  <dc:subject/>
  <dc:title>Развитие творческих способностей и личностного потенциала ребенка в процессе самостоятельной музыкальной деятельности (музицирования).</dc:title>
</cp:coreProperties>
</file>