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E87-F33E-459C-93FA-0EA5687B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2EB-D6DA-43DE-B44D-E7D8D7F7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B4A-4671-44B3-A9F1-A81685F7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8EB-B983-4AB8-B3E4-8F9D64FD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217C-881F-41B8-88F5-6F091FCF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60DB-D220-426E-92FB-626152EC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4EFF-F969-4FBA-BBA7-A221F470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19C1-73A4-46F6-8DBD-AF1603EE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2E04-BC10-4244-A632-BF94FE0A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4061-D11B-43A1-A89C-85BF7D1D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D1B0-3256-46E1-BF0F-CDDDE3C5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BA0-9E0A-4724-AA9B-CE55F92B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8640-40B8-4C01-9BDA-62D7B223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AF62-8ED2-43E0-89FF-46C31513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8C68-57FF-4744-9BE0-CCDD9B55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A71E-8654-4AA1-AD97-0E207E4E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231E-6A47-49BC-BC79-60AE7848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57C-003C-4443-ACBD-CAE6C8EF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F23-51A7-4F5C-BDC1-CEFBBC31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4C0-5134-4994-892E-9B3FE65D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EB9-B522-46E7-AD59-0C118D08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40E-A775-425C-B41A-D727A7A0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C9E-A120-4B8E-BC52-9C195E13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355-4EFA-415E-823A-4558E24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29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06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07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56B1-7072-43AA-843A-76404086C9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016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0160"/>
              <a:ext cx="1203120" cy="683748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11160"/>
              <a:chOff x="7848720" y="0"/>
              <a:chExt cx="1295280" cy="63111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284560"/>
                <a:chOff x="8381880" y="0"/>
                <a:chExt cx="762120" cy="22845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26400" y="0"/>
                  <a:ext cx="279360" cy="275040"/>
                  <a:chOff x="8726400" y="0"/>
                  <a:chExt cx="279360" cy="27504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26400" y="0"/>
                    <a:ext cx="279360" cy="275040"/>
                    <a:chOff x="8726400" y="0"/>
                    <a:chExt cx="279360" cy="27504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65640" y="-39240"/>
                      <a:ext cx="20088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74640" y="91800"/>
                      <a:ext cx="14076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45920" y="1479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9680" y="716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50600" y="59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2008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45920" y="209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94440" y="185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80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8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52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316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57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58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5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51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5680"/>
                <a:ext cx="828720" cy="4695480"/>
                <a:chOff x="7848720" y="1615680"/>
                <a:chExt cx="828720" cy="469548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56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72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50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70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1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68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25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46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44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2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30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502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23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17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36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15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7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94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4360"/>
              <a:ext cx="1190520" cy="19339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3600"/>
              <a:ext cx="1219320" cy="1994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9600"/>
              <a:ext cx="1231920" cy="402480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8160"/>
              <a:ext cx="979560" cy="21776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6040"/>
              <a:ext cx="914400" cy="50331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81520"/>
              <a:ext cx="909720" cy="30621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0160"/>
              <a:ext cx="576360" cy="33426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1600"/>
              <a:ext cx="300240" cy="33429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1600"/>
              <a:ext cx="88920" cy="68374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1240"/>
              <a:ext cx="1165320" cy="6170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4400" y="3326040"/>
              <a:ext cx="683748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8E16-6884-4EFC-A744-FFA9AC8DA38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520" y="480024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МБДОУ д/с №56 г.Белгорода 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828800" y="57913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едагог-психолог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олховитина Наталья Сергеев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28600" y="45720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52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d47d"/>
                </a:solidFill>
                <a:latin typeface="Monotype Corsiva"/>
                <a:ea typeface="Times New Roman"/>
              </a:rPr>
              <a:t>Содержание деятельности педагога-психолога  с гиперактивным ребенком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Содержимое 3" descr="j0411818.jpg"/>
          <p:cNvPicPr/>
          <p:nvPr/>
        </p:nvPicPr>
        <p:blipFill>
          <a:blip r:embed="rId2"/>
          <a:stretch/>
        </p:blipFill>
        <p:spPr>
          <a:xfrm>
            <a:off x="1517760" y="2279520"/>
            <a:ext cx="5041800" cy="2683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Игра «Забавные ладошки»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.                              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Цель: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Picture 4" descr="IMG_2916"/>
          <p:cNvPicPr/>
          <p:nvPr/>
        </p:nvPicPr>
        <p:blipFill>
          <a:blip r:embed="rId1"/>
          <a:stretch/>
        </p:blipFill>
        <p:spPr>
          <a:xfrm>
            <a:off x="304920" y="152388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IMG_2919"/>
          <p:cNvPicPr/>
          <p:nvPr/>
        </p:nvPicPr>
        <p:blipFill>
          <a:blip r:embed="rId2"/>
          <a:stretch/>
        </p:blipFill>
        <p:spPr>
          <a:xfrm>
            <a:off x="4419720" y="144792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IMG_2920"/>
          <p:cNvPicPr/>
          <p:nvPr/>
        </p:nvPicPr>
        <p:blipFill>
          <a:blip r:embed="rId3"/>
          <a:stretch/>
        </p:blipFill>
        <p:spPr>
          <a:xfrm>
            <a:off x="2819520" y="4419720"/>
            <a:ext cx="2971800" cy="22096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914400" y="761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пособствовать улучшению внимания, развитию самоконтроля, повышению самооценк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0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8320" y="1598760"/>
            <a:ext cx="304776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альчиковые игры -потешки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сказывает стишок и одновременно показывает действия на пальчик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х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4" descr="IMG_2915"/>
          <p:cNvPicPr/>
          <p:nvPr/>
        </p:nvPicPr>
        <p:blipFill>
          <a:blip r:embed="rId1"/>
          <a:stretch/>
        </p:blipFill>
        <p:spPr>
          <a:xfrm>
            <a:off x="304920" y="1066680"/>
            <a:ext cx="3962160" cy="446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7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3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3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2767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ескотерапия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эффективный  метод коррекции поведения гиперактивных детей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5" descr="IMG_2914"/>
          <p:cNvPicPr/>
          <p:nvPr/>
        </p:nvPicPr>
        <p:blipFill>
          <a:blip r:embed="rId1"/>
          <a:stretch/>
        </p:blipFill>
        <p:spPr>
          <a:xfrm>
            <a:off x="304920" y="533520"/>
            <a:ext cx="3962160" cy="556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DSCN5484"/>
          <p:cNvPicPr/>
          <p:nvPr/>
        </p:nvPicPr>
        <p:blipFill>
          <a:blip r:embed="rId1"/>
          <a:stretch/>
        </p:blipFill>
        <p:spPr>
          <a:xfrm>
            <a:off x="228600" y="1981080"/>
            <a:ext cx="7162920" cy="44960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елаксация и психогимнастика</a:t>
            </a: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может расслабиться 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нять напряжени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Уголок релаксации и подушка «Настроение» </a:t>
            </a:r>
            <a:br>
              <a:rPr sz="32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ат контролировать и выражать свои эмоции по отношению к окружающим людям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4" descr="IMG_2918"/>
          <p:cNvPicPr/>
          <p:nvPr/>
        </p:nvPicPr>
        <p:blipFill>
          <a:blip r:embed="rId1"/>
          <a:stretch/>
        </p:blipFill>
        <p:spPr>
          <a:xfrm>
            <a:off x="685800" y="2133720"/>
            <a:ext cx="662940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885840" y="609480"/>
            <a:ext cx="376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казкотерап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ней отсутствует прямо выраженные нравоучения или рекомендации, усвоение необходимых моделей поведения и реагирования, новых знаний о себе и мире происходит незаметно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51468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иблиогаф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63520" y="1371240"/>
            <a:ext cx="7386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«Что нам делать с непоседой»:советы родителям и педагогам/Л.Магнитская, К.Магнитская, Е.Любезнова.- Белгород;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«Рабочая книга практического психолога» Н.Н.Ежова .-Росто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/Д.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3. «Развитие внимания и эмоционально-волевой сферы детей 4-6 лет» Ю.Е. Веприцкая - Волгоград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4. «Комплексная методика психомоторной коррекции»В.А. Архипов ,.А. Воробъева, А.В. Семенович, Л.С. Назарова.- Москва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5. «Непоседливый ребенок, или все о гиперактивных детях»И.П. Брязгунов, Е.В. Касатикова. – Москв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63520" y="1598400"/>
            <a:ext cx="738648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727280" y="2971440"/>
            <a:ext cx="5640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Рисунок 14" descr="http://www.chrlc.vic.gov.au/cb_pages/images/j0431826.jpg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8"/>
          <p:cNvSpPr/>
          <p:nvPr/>
        </p:nvSpPr>
        <p:spPr>
          <a:xfrm>
            <a:off x="3193920" y="3983040"/>
            <a:ext cx="2756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 Narrow"/>
              </a:rPr>
              <a:t>Памятка для роди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304920" y="-107640"/>
            <a:ext cx="716256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Тактика общения с непоседой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Недопустимы грубость, унижение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злость  ребенок просто перестает их слыш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Не разговаривайте с ребенком между делом, раздраженно, показывая своим видом, что он отвлекает вас от более важных дел, чем общение с ним.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Во время разговора помните, что важен тон, мимика, жесты, на них ребенок реагирует сильнее, чем на слов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Разговаривая с ребенком, задавайте вопросы, требующие пространственного отве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Поощряйте ребенка в ходе разговора, покажите, что вам интересно и важно то , о чем он говорит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Не оставляйте без внимания просьбы ребенка. Если просьбу нельзя выполнить по какой-то причине, не отмалчивайтесь, не ограничивайтесь коротким «нет», объясните, почему вы не можете ее выполнить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63520" y="1904760"/>
            <a:ext cx="7386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Гиперактивность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– прямой перевод соответствующего англоязычного термина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yperactivity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(слишком/чрезмерно активный)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Скругленный прямоугольник 2"/>
          <p:cNvSpPr/>
          <p:nvPr/>
        </p:nvSpPr>
        <p:spPr>
          <a:xfrm>
            <a:off x="533520" y="2133720"/>
            <a:ext cx="2514600" cy="1447560"/>
          </a:xfrm>
          <a:prstGeom prst="roundRect">
            <a:avLst>
              <a:gd name="adj" fmla="val 16667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одовые травм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Скругленный прямоугольник 5"/>
          <p:cNvSpPr/>
          <p:nvPr/>
        </p:nvSpPr>
        <p:spPr>
          <a:xfrm>
            <a:off x="5029200" y="21337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Скругленный прямоугольник 6"/>
          <p:cNvSpPr/>
          <p:nvPr/>
        </p:nvSpPr>
        <p:spPr>
          <a:xfrm>
            <a:off x="2895480" y="3962520"/>
            <a:ext cx="2438640" cy="1523880"/>
          </a:xfrm>
          <a:prstGeom prst="roundRect">
            <a:avLst>
              <a:gd name="adj" fmla="val 16667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нфекционны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аболеван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00" name="Прямая со стрелкой 9"/>
          <p:cNvCxnSpPr/>
          <p:nvPr/>
        </p:nvCxnSpPr>
        <p:spPr>
          <a:xfrm flipH="1">
            <a:off x="1523520" y="990360"/>
            <a:ext cx="991440" cy="106740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cxnSp>
        <p:nvCxnSpPr>
          <p:cNvPr id="201" name="Прямая со стрелкой 11"/>
          <p:cNvCxnSpPr/>
          <p:nvPr/>
        </p:nvCxnSpPr>
        <p:spPr>
          <a:xfrm>
            <a:off x="5257440" y="990360"/>
            <a:ext cx="1067400" cy="99108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cxnSp>
        <p:nvCxnSpPr>
          <p:cNvPr id="202" name="Прямая со стрелкой 13"/>
          <p:cNvCxnSpPr/>
          <p:nvPr/>
        </p:nvCxnSpPr>
        <p:spPr>
          <a:xfrm flipH="1">
            <a:off x="3885840" y="992160"/>
            <a:ext cx="2160" cy="274248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966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Факторы, способствующие возникновению гиперактивност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0" y="914040"/>
            <a:ext cx="7650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c5aa"/>
                </a:solidFill>
                <a:latin typeface="Arial"/>
              </a:rPr>
              <a:t>Диагноз «гиперактивность» ставит невропатолог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, у некоторых детей </a:t>
            </a:r>
            <a:r>
              <a:rPr b="0" lang="ru-RU" sz="2800" spc="-1" strike="noStrike">
                <a:solidFill>
                  <a:srgbClr val="a7c5aa"/>
                </a:solidFill>
                <a:latin typeface="Arial"/>
              </a:rPr>
              <a:t>он отмечен в медицинской карт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 Если </a:t>
            </a:r>
            <a:r>
              <a:rPr b="0" lang="ru-RU" sz="2800" spc="-1" strike="noStrike">
                <a:solidFill>
                  <a:srgbClr val="a7c5aa"/>
                </a:solidFill>
                <a:latin typeface="Arial"/>
              </a:rPr>
              <a:t>диагноз отсутствует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, а у ребенка день за днем проявляются признаки гиперактивности, </a:t>
            </a:r>
            <a:r>
              <a:rPr b="0" lang="ru-RU" sz="2800" spc="-1" strike="noStrike">
                <a:solidFill>
                  <a:srgbClr val="a7c5aa"/>
                </a:solidFill>
                <a:latin typeface="Arial"/>
              </a:rPr>
              <a:t>должны вести за ним целенаправленное наблюд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(психолог, медицинские работники, методист, музыкальный руководитель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:\Documents and Settings\Admin\Мои документы\Мои рисунки\Новая папка\0023-049-Mylom-mylom-Mylom-mylom-Umyvalsja-bez-kontsa.png"/>
          <p:cNvPicPr/>
          <p:nvPr/>
        </p:nvPicPr>
        <p:blipFill>
          <a:blip r:embed="rId2"/>
          <a:stretch/>
        </p:blipFill>
        <p:spPr>
          <a:xfrm>
            <a:off x="2590920" y="1981080"/>
            <a:ext cx="2941560" cy="4648320"/>
          </a:xfrm>
          <a:prstGeom prst="rect">
            <a:avLst/>
          </a:prstGeom>
          <a:ln w="0">
            <a:noFill/>
          </a:ln>
        </p:spPr>
      </p:pic>
      <p:sp>
        <p:nvSpPr>
          <p:cNvPr id="206" name="Выноска-облако 3"/>
          <p:cNvSpPr/>
          <p:nvPr/>
        </p:nvSpPr>
        <p:spPr>
          <a:xfrm>
            <a:off x="4419720" y="0"/>
            <a:ext cx="3581280" cy="3429000"/>
          </a:xfrm>
          <a:prstGeom prst="cloudCallout">
            <a:avLst>
              <a:gd name="adj1" fmla="val -24282"/>
              <a:gd name="adj2" fmla="val 76134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Расстройство внимания, снижены волевые усилия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импульсивность, испытывает трудности ,связанные с запоминанием инструкции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Выноска-облако 4"/>
          <p:cNvSpPr/>
          <p:nvPr/>
        </p:nvSpPr>
        <p:spPr>
          <a:xfrm rot="20845800">
            <a:off x="-85680" y="203040"/>
            <a:ext cx="3476520" cy="3008520"/>
          </a:xfrm>
          <a:prstGeom prst="cloudCallout">
            <a:avLst>
              <a:gd name="adj1" fmla="val 16634"/>
              <a:gd name="adj2" fmla="val 70541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беспокойное движение рук и ног, часто совершает опасные действия ,теряет игрушки, с трудом дожидается своей очереди во время игр ,НОД, экскурсиях                                   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7924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амятк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о деятельности специалиста с гиперактивным ребенком 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в ДО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елесообразно работать с ними в начале дня, а не вечером, уменьшить их рабочую нагрузку, делать перерывы в работ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ред началом работы (занятий,  мероприятия) провести индивидуальную беседу, заранее оговорив правила, за выполнение которых ребенок получает вознаграждение (не обязательно материальное). </a:t>
            </a:r>
            <a:br>
              <a:rPr sz="2800"/>
            </a:b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99160" cy="60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аще поощрять. (например, каждые 15—20 минут выдавать ему жетоны, которые в течение дня он может менять на «награды»: право идти на прогулку в первой паре, дежурство во время обеда и др.</a:t>
            </a:r>
            <a:br>
              <a:rPr sz="2800"/>
            </a:b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инструкции, предъявляемые ребенку, должны быть четкими и краткими (не более 10 слов). </a:t>
            </a:r>
            <a:br>
              <a:rPr sz="2800"/>
            </a:b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практической деятельности с гиперактивным ребенком Данилом М. осуществляется по следующим направлениям 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4000" spc="-1" strike="noStrike">
                <a:solidFill>
                  <a:srgbClr val="2f1311"/>
                </a:solidFill>
                <a:latin typeface="Arial"/>
              </a:rPr>
              <a:t>ребено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i="1" lang="ru-RU" sz="4000" spc="-1" strike="noStrike">
                <a:solidFill>
                  <a:srgbClr val="2f1311"/>
                </a:solidFill>
                <a:latin typeface="Arial"/>
              </a:rPr>
              <a:t>психолог    родитель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cxnSp>
        <p:nvCxnSpPr>
          <p:cNvPr id="211" name="Прямая со стрелкой 4"/>
          <p:cNvCxnSpPr/>
          <p:nvPr/>
        </p:nvCxnSpPr>
        <p:spPr>
          <a:xfrm>
            <a:off x="2437920" y="4038120"/>
            <a:ext cx="381960" cy="2520"/>
          </a:xfrm>
          <a:prstGeom prst="straightConnector1">
            <a:avLst/>
          </a:prstGeom>
          <a:ln w="9360">
            <a:solidFill>
              <a:srgbClr val="d2b37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2" name="Прямая со стрелкой 6"/>
          <p:cNvCxnSpPr/>
          <p:nvPr/>
        </p:nvCxnSpPr>
        <p:spPr>
          <a:xfrm>
            <a:off x="5181480" y="4038120"/>
            <a:ext cx="457920" cy="2520"/>
          </a:xfrm>
          <a:prstGeom prst="straightConnector1">
            <a:avLst/>
          </a:prstGeom>
          <a:ln w="9360">
            <a:solidFill>
              <a:srgbClr val="d2b37c"/>
            </a:solidFill>
            <a:miter/>
            <a:headEnd len="med" type="arrow" w="med"/>
            <a:tailEnd len="med" type="arrow" w="med"/>
          </a:ln>
        </p:spPr>
      </p:cxn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086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Коррекционно-развивающая </a:t>
            </a:r>
            <a:br>
              <a:rPr sz="2800"/>
            </a:b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деятельность с гиперактивными </a:t>
            </a:r>
            <a:br>
              <a:rPr sz="2800"/>
            </a:b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детьми осуществляется в двух направления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240" y="2209320"/>
            <a:ext cx="3429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 Развивать движения и самоконтроль поведения с использованием игр, упражнений направленных на развитие внимания и координации у детей, а также снятию эмоционального напряжения через релаксацию, психогимнастик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190760" y="1981080"/>
            <a:ext cx="33526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формировать у родителей  положительную направленность на организацию эмоционально-насыщенного  взаимодействия с ребенком               ( индивидуальные консультации, беседы и др.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 Способствовать активному  материалов тренинга в семейной практике ( игровые упражнения различной направленности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5-20T17:48:0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