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B8B-D00A-407C-816F-60F711DC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BD1-EC72-40E2-A467-BB1142C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337-5F40-4923-AC31-10569CF6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B5A-F8CD-4B04-8DB0-DF1151EE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4241-5E07-4339-A40A-C4D3DCE1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1D74-DEAF-496B-B9E4-681091CB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9CA5-ADF9-41AB-8BFB-C8B59571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24C3-657C-43E2-89D6-07E1CA72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4AC8-B9B4-4ED7-A533-A737593A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BD3D-1E61-4AFB-A979-73E56D97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9061-BDE1-489F-9079-63FC40E4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0B4-D6A3-4EAB-8F3F-7DFE4011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78EB-E815-4510-883D-3D14CC3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FA89-9FEB-43ED-846B-E084C84F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8328-7D22-42B8-8666-B803C468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C951-E9DD-40E2-AF49-6C76BE91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0C82-4285-4F9C-A76A-8B7FEA52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115-BFFD-435A-A4FF-4864A335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E10-2711-49FF-9B28-CB91D305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7CF-82D4-420C-B78E-8542A14F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964-91A1-43E1-BBC1-31F0A28C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68B-D759-4AB6-B2CD-DE66433E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287-AC71-4EF2-9303-131139E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B60-E27F-4AD7-A6BC-F3116594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8C78-44E0-48CB-9093-C77B2ED5EA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016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0160"/>
              <a:ext cx="1203120" cy="68374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1160"/>
              <a:chOff x="7848720" y="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84560"/>
                <a:chOff x="8381880" y="0"/>
                <a:chExt cx="762120" cy="2284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6400" y="0"/>
                  <a:ext cx="279360" cy="275040"/>
                  <a:chOff x="8726400" y="0"/>
                  <a:chExt cx="279360" cy="27504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6400" y="0"/>
                    <a:ext cx="279360" cy="275040"/>
                    <a:chOff x="8726400" y="0"/>
                    <a:chExt cx="279360" cy="27504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65640" y="-39240"/>
                      <a:ext cx="20088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7464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45920" y="1479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968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5060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2008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45920" y="209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94440" y="185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80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8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52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316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57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58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5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51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5680"/>
                <a:ext cx="828720" cy="4695480"/>
                <a:chOff x="7848720" y="1615680"/>
                <a:chExt cx="828720" cy="46954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56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72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50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70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1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68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25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46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44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2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30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502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23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7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36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15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7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4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4360"/>
              <a:ext cx="1190520" cy="19339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3600"/>
              <a:ext cx="1219320" cy="1994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9600"/>
              <a:ext cx="1231920" cy="40248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8160"/>
              <a:ext cx="979560" cy="21776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6040"/>
              <a:ext cx="914400" cy="50331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81520"/>
              <a:ext cx="909720" cy="30621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0160"/>
              <a:ext cx="576360" cy="3342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1600"/>
              <a:ext cx="300240" cy="33429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1600"/>
              <a:ext cx="88920" cy="68374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1240"/>
              <a:ext cx="1165320" cy="6170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4400" y="3326040"/>
              <a:ext cx="683748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275E-2F6A-4AD6-A01A-B872C5179F5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480024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МБДОУ д/с №56 г.Белгорода 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828800" y="57913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едагог-психолог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олховитина Наталья Сергеев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28600" y="45720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52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Monotype Corsiva"/>
                <a:ea typeface="Times New Roman"/>
              </a:rPr>
              <a:t>Содержание деятельности педагога-психолога  с гиперактивным ребенком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Содержимое 3" descr="j0411818.jpg"/>
          <p:cNvPicPr/>
          <p:nvPr/>
        </p:nvPicPr>
        <p:blipFill>
          <a:blip r:embed="rId2"/>
          <a:stretch/>
        </p:blipFill>
        <p:spPr>
          <a:xfrm>
            <a:off x="1517760" y="2279520"/>
            <a:ext cx="504180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Игра «Забавные ладошки»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.                              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Цель: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4" descr="IMG_2916"/>
          <p:cNvPicPr/>
          <p:nvPr/>
        </p:nvPicPr>
        <p:blipFill>
          <a:blip r:embed="rId1"/>
          <a:stretch/>
        </p:blipFill>
        <p:spPr>
          <a:xfrm>
            <a:off x="304920" y="15238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IMG_2919"/>
          <p:cNvPicPr/>
          <p:nvPr/>
        </p:nvPicPr>
        <p:blipFill>
          <a:blip r:embed="rId2"/>
          <a:stretch/>
        </p:blipFill>
        <p:spPr>
          <a:xfrm>
            <a:off x="4419720" y="144792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IMG_2920"/>
          <p:cNvPicPr/>
          <p:nvPr/>
        </p:nvPicPr>
        <p:blipFill>
          <a:blip r:embed="rId3"/>
          <a:stretch/>
        </p:blipFill>
        <p:spPr>
          <a:xfrm>
            <a:off x="2819520" y="4419720"/>
            <a:ext cx="2971800" cy="22096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914400" y="761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пособствовать улучшению внимания, развитию самоконтроля, повышению самооцен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598760"/>
            <a:ext cx="30477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альчиковые игры -потешки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сказывает стишок и одновременно показывает действия на пальчик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4" descr="IMG_2915"/>
          <p:cNvPicPr/>
          <p:nvPr/>
        </p:nvPicPr>
        <p:blipFill>
          <a:blip r:embed="rId1"/>
          <a:stretch/>
        </p:blipFill>
        <p:spPr>
          <a:xfrm>
            <a:off x="304920" y="1066680"/>
            <a:ext cx="3962160" cy="446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7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2767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ескотерапи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ффективный  метод коррекции поведения гиперактивных детей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5" descr="IMG_2914"/>
          <p:cNvPicPr/>
          <p:nvPr/>
        </p:nvPicPr>
        <p:blipFill>
          <a:blip r:embed="rId1"/>
          <a:stretch/>
        </p:blipFill>
        <p:spPr>
          <a:xfrm>
            <a:off x="304920" y="533520"/>
            <a:ext cx="3962160" cy="556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DSCN5484"/>
          <p:cNvPicPr/>
          <p:nvPr/>
        </p:nvPicPr>
        <p:blipFill>
          <a:blip r:embed="rId1"/>
          <a:stretch/>
        </p:blipFill>
        <p:spPr>
          <a:xfrm>
            <a:off x="228600" y="19810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елаксация и психогимнастика</a:t>
            </a: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может расслабиться 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нять напряже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Уголок релаксации и подушка «Настроение» </a:t>
            </a:r>
            <a:br>
              <a:rPr sz="32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ат контролировать и выражать свои эмоции по отношению к окружающим людя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4" descr="IMG_2918"/>
          <p:cNvPicPr/>
          <p:nvPr/>
        </p:nvPicPr>
        <p:blipFill>
          <a:blip r:embed="rId1"/>
          <a:stretch/>
        </p:blipFill>
        <p:spPr>
          <a:xfrm>
            <a:off x="685800" y="213372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885840" y="609480"/>
            <a:ext cx="376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казкотерап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ней отсутствует прямо выраженные нравоучения или рекомендации, усвоение необходимых моделей поведения и реагирования, новых знаний о себе и мире происходит незаметно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51468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иблиогаф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Что нам делать с непоседой»:советы родителям и педагогам/Л.Магнитская, К.Магнитская, Е.Любезнова.- Белгород;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Рабочая книга практического психолога» Н.Н.Ежова .-Рост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/Д.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3. «Развитие внимания и эмоционально-волевой сферы детей 4-6 лет» Ю.Е. Веприцкая - Волгоград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4. «Комплексная методика психомоторной коррекции»В.А. Архипов ,.А. Воробъева, А.В. Семенович, Л.С. Назарова.- Москв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5. «Непоседливый ребенок, или все о гиперактивных детях»И.П. Брязгунов, Е.В. Касатикова. – Москв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63520" y="1598400"/>
            <a:ext cx="738648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727280" y="2971440"/>
            <a:ext cx="5640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Рисунок 14" descr="http://www.chrlc.vic.gov.au/cb_pages/images/j0431826.jpg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8"/>
          <p:cNvSpPr/>
          <p:nvPr/>
        </p:nvSpPr>
        <p:spPr>
          <a:xfrm>
            <a:off x="3193920" y="3983040"/>
            <a:ext cx="2756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 Narrow"/>
              </a:rPr>
              <a:t>Памятка для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04920" y="-107640"/>
            <a:ext cx="716256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Тактика общения с непоседой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Недопустимы грубость, унижение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злость  ребенок просто перестает их слыш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Не разговаривайте с ребенком между делом, раздраженно, показывая своим видом, что он отвлекает вас от более важных дел, чем общение с ним.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Во время разговора помните, что важен тон, мимика, жесты, на них ребенок реагирует сильнее, чем на слов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Разговаривая с ребенком, задавайте вопросы, требующие пространственного отве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Поощряйте ребенка в ходе разговора, покажите, что вам интересно и важно то , о чем он говори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Не оставляйте без внимания просьбы ребенка. Если просьбу нельзя выполнить по какой-то причине, не отмалчивайтесь, не ограничивайтесь коротким «нет», объясните, почему вы не можете ее выполнит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63520" y="1904760"/>
            <a:ext cx="7386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иперактивност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– прямой перевод соответствующего англоязычного термина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yperactivity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(слишком/чрезмерно активный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2"/>
          <p:cNvSpPr/>
          <p:nvPr/>
        </p:nvSpPr>
        <p:spPr>
          <a:xfrm>
            <a:off x="533520" y="2133720"/>
            <a:ext cx="2514600" cy="144756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довые травм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Скругленный прямоугольник 5"/>
          <p:cNvSpPr/>
          <p:nvPr/>
        </p:nvSpPr>
        <p:spPr>
          <a:xfrm>
            <a:off x="5029200" y="21337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Скругленный прямоугольник 6"/>
          <p:cNvSpPr/>
          <p:nvPr/>
        </p:nvSpPr>
        <p:spPr>
          <a:xfrm>
            <a:off x="2895480" y="3962520"/>
            <a:ext cx="2438640" cy="152388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фекционны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болева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00" name="Прямая со стрелкой 9"/>
          <p:cNvCxnSpPr/>
          <p:nvPr/>
        </p:nvCxnSpPr>
        <p:spPr>
          <a:xfrm flipH="1">
            <a:off x="1523520" y="990360"/>
            <a:ext cx="991440" cy="10674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01" name="Прямая со стрелкой 11"/>
          <p:cNvCxnSpPr/>
          <p:nvPr/>
        </p:nvCxnSpPr>
        <p:spPr>
          <a:xfrm>
            <a:off x="5257440" y="990360"/>
            <a:ext cx="1067400" cy="99108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02" name="Прямая со стрелкой 13"/>
          <p:cNvCxnSpPr/>
          <p:nvPr/>
        </p:nvCxnSpPr>
        <p:spPr>
          <a:xfrm flipH="1">
            <a:off x="3885840" y="992160"/>
            <a:ext cx="2160" cy="274248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96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Факторы, способствующие возникновению гиперактивност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914040"/>
            <a:ext cx="7650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Диагноз «гиперактивность» ставит невропатолог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у некоторых детей </a:t>
            </a: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он отмечен в медицинской карт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Если </a:t>
            </a: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диагноз отсутствует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а у ребенка день за днем проявляются признаки гиперактивности, </a:t>
            </a: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должны вести за ним целенаправленное наблюд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психолог, медицинские работники, методист, музыкальный руководитель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Documents and Settings\Admin\Мои документы\Мои рисунки\Новая папка\0023-049-Mylom-mylom-Mylom-mylom-Umyvalsja-bez-kontsa.png"/>
          <p:cNvPicPr/>
          <p:nvPr/>
        </p:nvPicPr>
        <p:blipFill>
          <a:blip r:embed="rId2"/>
          <a:stretch/>
        </p:blipFill>
        <p:spPr>
          <a:xfrm>
            <a:off x="2590920" y="1981080"/>
            <a:ext cx="2941560" cy="4648320"/>
          </a:xfrm>
          <a:prstGeom prst="rect">
            <a:avLst/>
          </a:prstGeom>
          <a:ln w="0">
            <a:noFill/>
          </a:ln>
        </p:spPr>
      </p:pic>
      <p:sp>
        <p:nvSpPr>
          <p:cNvPr id="206" name="Выноска-облако 3"/>
          <p:cNvSpPr/>
          <p:nvPr/>
        </p:nvSpPr>
        <p:spPr>
          <a:xfrm>
            <a:off x="4419720" y="0"/>
            <a:ext cx="3581280" cy="3429000"/>
          </a:xfrm>
          <a:prstGeom prst="cloudCallout">
            <a:avLst>
              <a:gd name="adj1" fmla="val -24282"/>
              <a:gd name="adj2" fmla="val 76134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Расстройство внимания, снижены волевые усилия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импульсивность, испытывает трудности ,связанные с запоминанием инструкции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Выноска-облако 4"/>
          <p:cNvSpPr/>
          <p:nvPr/>
        </p:nvSpPr>
        <p:spPr>
          <a:xfrm rot="20845800">
            <a:off x="-85680" y="203040"/>
            <a:ext cx="3476520" cy="3008520"/>
          </a:xfrm>
          <a:prstGeom prst="cloudCallout">
            <a:avLst>
              <a:gd name="adj1" fmla="val 16634"/>
              <a:gd name="adj2" fmla="val 70541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беспокойное движение рук и ног, часто совершает опасные действия ,теряет игрушки, с трудом дожидается своей очереди во время игр ,НОД, экскурсиях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амятк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о деятельности специалиста с гиперактивным ребенком 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в ДО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елесообразно работать с ними в начале дня, а не вечером, уменьшить их рабочую нагрузку, делать перерывы в работ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ед началом работы (занятий,  мероприятия) провести индивидуальную беседу, заранее оговорив правила, за выполнение которых ребенок получает вознаграждение (не обязательно материальное). 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9916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аще поощрять. (например, каждые 15—20 минут выдавать ему жетоны, которые в течение дня он может менять на «награды»: право идти на прогулку в первой паре, дежурство во время обеда и др.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инструкции, предъявляемые ребенку, должны быть четкими и краткими (не более 10 слов). 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практической деятельности с гиперактивным ребенком Данилом М. осуществляется по следующим направлениям 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ребено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психолог    родитель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cxnSp>
        <p:nvCxnSpPr>
          <p:cNvPr id="211" name="Прямая со стрелкой 4"/>
          <p:cNvCxnSpPr/>
          <p:nvPr/>
        </p:nvCxnSpPr>
        <p:spPr>
          <a:xfrm>
            <a:off x="2437920" y="4038120"/>
            <a:ext cx="381960" cy="2520"/>
          </a:xfrm>
          <a:prstGeom prst="straightConnector1">
            <a:avLst/>
          </a:prstGeom>
          <a:ln w="9360">
            <a:solidFill>
              <a:srgbClr val="d2b37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5181480" y="4038120"/>
            <a:ext cx="457920" cy="2520"/>
          </a:xfrm>
          <a:prstGeom prst="straightConnector1">
            <a:avLst/>
          </a:prstGeom>
          <a:ln w="9360">
            <a:solidFill>
              <a:srgbClr val="d2b37c"/>
            </a:solidFill>
            <a:miter/>
            <a:headEnd len="med" type="arrow" w="med"/>
            <a:tailEnd len="med" type="arrow" w="med"/>
          </a:ln>
        </p:spPr>
      </p:cxn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086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Коррекционно-развивающая </a:t>
            </a:r>
            <a:br>
              <a:rPr sz="2800"/>
            </a:b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деятельность с гиперактивными </a:t>
            </a:r>
            <a:br>
              <a:rPr sz="2800"/>
            </a:b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детьми осуществляется в двух направления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2209320"/>
            <a:ext cx="3429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 Развивать движения и самоконтроль поведения с использованием игр, упражнений направленных на развитие внимания и координации у детей, а также снятию эмоционального напряжения через релаксацию, психогимнасти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190760" y="1981080"/>
            <a:ext cx="3352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формировать у родителей  положительную направленность на организацию эмоционально-насыщенного  взаимодействия с ребенком               ( индивидуальные консультации, беседы и др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 Способствовать активному  материалов тренинга в семейной практике ( игровые упражнения различной направленност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20T17:48:0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