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6BFB-23F8-4A22-80FC-6E6AE665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3BBB-DF36-4EE8-A557-F8EEC79F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792C-1026-4D95-8FDD-C7034D0D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23BA-F1D7-45A5-BD07-02F19FAD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706A-7535-4583-9721-6A318E16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27C4-E762-45B0-BAEE-3B0F9D89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0827-7EF1-42C9-97A5-ED4B0CC5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5B18-532E-4A26-8CE0-4A534E77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81D3-1CB7-4BA6-A02C-DEE7F36C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2FFB-48FB-4AFA-AF88-DA149FE5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3A81-6539-4D55-A8E1-E1117E82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7D5B-56FF-4046-87D3-A63EA3D3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751F-F387-488F-8ECB-6405A150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BCF9-C360-4B05-91A7-E13D457D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9DB1-BDF8-4684-BFC8-49F4DD35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83AB-6041-411A-B63D-AAD9FABB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0AD8-ACC1-42BB-9447-AF1E538C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889-6EEF-4D42-8631-97ABEC13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0ED6-3E4C-4E52-B7F1-B29EB5AF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904D-F691-45E5-8FFF-2ACA5EF8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B74A-F940-4395-8091-FD92303F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3F3-9910-4342-9D1A-C6551841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9D06-4012-43FB-9793-FF99E826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A78A-CFA0-43EE-AB6B-B72309F9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5292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068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072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043A-1A8E-44AA-9317-59CF6645443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240"/>
            <a:chOff x="0" y="0"/>
            <a:chExt cx="9159840" cy="6870240"/>
          </a:xfrm>
        </p:grpSpPr>
        <p:sp>
          <p:nvSpPr>
            <p:cNvPr id="97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20160"/>
              <a:ext cx="8078760" cy="199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20160"/>
              <a:ext cx="1203120" cy="683748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0"/>
              <a:ext cx="1295280" cy="6311160"/>
              <a:chOff x="7848720" y="0"/>
              <a:chExt cx="1295280" cy="63111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0"/>
                <a:ext cx="762120" cy="2284560"/>
                <a:chOff x="8381880" y="0"/>
                <a:chExt cx="762120" cy="22845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26400" y="0"/>
                  <a:ext cx="279360" cy="275040"/>
                  <a:chOff x="8726400" y="0"/>
                  <a:chExt cx="279360" cy="27504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26400" y="0"/>
                    <a:ext cx="279360" cy="275040"/>
                    <a:chOff x="8726400" y="0"/>
                    <a:chExt cx="279360" cy="27504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65640" y="-39240"/>
                      <a:ext cx="20088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74640" y="91800"/>
                      <a:ext cx="14076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45920" y="1479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79680" y="7164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50600" y="5904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2008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45920" y="209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94440" y="185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480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480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52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316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557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358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153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951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15680"/>
                <a:ext cx="828720" cy="4695480"/>
                <a:chOff x="7848720" y="1615680"/>
                <a:chExt cx="828720" cy="469548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156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9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72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550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70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108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68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425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46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44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22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230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502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823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617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36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15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17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94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4360"/>
              <a:ext cx="1190520" cy="19339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3600"/>
              <a:ext cx="1219320" cy="1994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9600"/>
              <a:ext cx="1231920" cy="402480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8160"/>
              <a:ext cx="979560" cy="217764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46040"/>
              <a:ext cx="914400" cy="503316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81520"/>
              <a:ext cx="909720" cy="30621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20160"/>
              <a:ext cx="576360" cy="33426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1600"/>
              <a:ext cx="300240" cy="33429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1600"/>
              <a:ext cx="88920" cy="683748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1240"/>
              <a:ext cx="1165320" cy="6170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34400" y="3326040"/>
              <a:ext cx="683748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C7A3-0DDB-4A3E-8BE5-C15F79C54A1F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520" y="4800240"/>
            <a:ext cx="4876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МБДОУ д/с №56 г.Белгорода 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828800" y="57913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едагог-психолог: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Болховитина Наталья Сергеевн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28600" y="45720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52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7d47d"/>
                </a:solidFill>
                <a:latin typeface="Monotype Corsiva"/>
                <a:ea typeface="Times New Roman"/>
              </a:rPr>
              <a:t>Содержание деятельности педагога-психолога  с гиперактивным ребенком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Содержимое 3" descr="j0411818.jpg"/>
          <p:cNvPicPr/>
          <p:nvPr/>
        </p:nvPicPr>
        <p:blipFill>
          <a:blip r:embed="rId2"/>
          <a:stretch/>
        </p:blipFill>
        <p:spPr>
          <a:xfrm>
            <a:off x="1517760" y="2279520"/>
            <a:ext cx="5041800" cy="2683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Игра «Забавные ладошки»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.                              </a:t>
            </a: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Цель: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7" name="Picture 4" descr="IMG_2916"/>
          <p:cNvPicPr/>
          <p:nvPr/>
        </p:nvPicPr>
        <p:blipFill>
          <a:blip r:embed="rId1"/>
          <a:stretch/>
        </p:blipFill>
        <p:spPr>
          <a:xfrm>
            <a:off x="304920" y="152388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IMG_2919"/>
          <p:cNvPicPr/>
          <p:nvPr/>
        </p:nvPicPr>
        <p:blipFill>
          <a:blip r:embed="rId2"/>
          <a:stretch/>
        </p:blipFill>
        <p:spPr>
          <a:xfrm>
            <a:off x="4419720" y="1447920"/>
            <a:ext cx="3047760" cy="2743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IMG_2920"/>
          <p:cNvPicPr/>
          <p:nvPr/>
        </p:nvPicPr>
        <p:blipFill>
          <a:blip r:embed="rId3"/>
          <a:stretch/>
        </p:blipFill>
        <p:spPr>
          <a:xfrm>
            <a:off x="2819520" y="4419720"/>
            <a:ext cx="2971800" cy="22096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7"/>
          <p:cNvSpPr/>
          <p:nvPr/>
        </p:nvSpPr>
        <p:spPr>
          <a:xfrm>
            <a:off x="914400" y="761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пособствовать улучшению внимания, развитию самоконтроля, повышению самооценки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40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8320" y="1598760"/>
            <a:ext cx="304776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альчиковые игры -потешки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ссказывает стишок и одновременно показывает действия на пальчик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х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Picture 4" descr="IMG_2915"/>
          <p:cNvPicPr/>
          <p:nvPr/>
        </p:nvPicPr>
        <p:blipFill>
          <a:blip r:embed="rId1"/>
          <a:stretch/>
        </p:blipFill>
        <p:spPr>
          <a:xfrm>
            <a:off x="304920" y="1066680"/>
            <a:ext cx="3962160" cy="4467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47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3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3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2767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ескотерапия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эффективный  метод коррекции поведения гиперактивных детей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Picture 5" descr="IMG_2914"/>
          <p:cNvPicPr/>
          <p:nvPr/>
        </p:nvPicPr>
        <p:blipFill>
          <a:blip r:embed="rId1"/>
          <a:stretch/>
        </p:blipFill>
        <p:spPr>
          <a:xfrm>
            <a:off x="304920" y="533520"/>
            <a:ext cx="3962160" cy="556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DSCN5484"/>
          <p:cNvPicPr/>
          <p:nvPr/>
        </p:nvPicPr>
        <p:blipFill>
          <a:blip r:embed="rId1"/>
          <a:stretch/>
        </p:blipFill>
        <p:spPr>
          <a:xfrm>
            <a:off x="228600" y="1981080"/>
            <a:ext cx="7162920" cy="44960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914400" y="3805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Релаксация и психогимнастика</a:t>
            </a: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может расслабиться 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8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нять напряжение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9af7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8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Уголок релаксации и подушка «Настроение» </a:t>
            </a:r>
            <a:br>
              <a:rPr sz="3200"/>
            </a:b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ат контролировать и выражать свои эмоции по отношению к окружающим людям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0" name="Picture 4" descr="IMG_2918"/>
          <p:cNvPicPr/>
          <p:nvPr/>
        </p:nvPicPr>
        <p:blipFill>
          <a:blip r:embed="rId1"/>
          <a:stretch/>
        </p:blipFill>
        <p:spPr>
          <a:xfrm>
            <a:off x="685800" y="2133720"/>
            <a:ext cx="6629400" cy="434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885840" y="609480"/>
            <a:ext cx="376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Сказкотерап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 ней отсутствует прямо выраженные нравоучения или рекомендации, усвоение необходимых моделей поведения и реагирования, новых знаний о себе и мире происходит незаметно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51468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иблиогаф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63520" y="1371240"/>
            <a:ext cx="7386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«Что нам делать с непоседой»:советы родителям и педагогам/Л.Магнитская, К.Магнитская, Е.Любезнова.- Белгород;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«Рабочая книга практического психолога» Н.Н.Ежова .-Ростов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/Д.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3. «Развитие внимания и эмоционально-волевой сферы детей 4-6 лет» Ю.Е. Веприцкая - Волгоград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4. «Комплексная методика психомоторной коррекции»В.А. Архипов ,.А. Воробъева, А.В. Семенович, Л.С. Назарова.- Москва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5. «Непоседливый ребенок, или все о гиперактивных детях»И.П. Брязгунов, Е.В. Касатикова. – Москва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63520" y="1598400"/>
            <a:ext cx="738648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727280" y="2971440"/>
            <a:ext cx="5640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Рисунок 14" descr="http://www.chrlc.vic.gov.au/cb_pages/images/j0431826.jpg"/>
          <p:cNvPicPr/>
          <p:nvPr/>
        </p:nvPicPr>
        <p:blipFill>
          <a:blip r:embed="rId1"/>
          <a:stretch/>
        </p:blipFill>
        <p:spPr>
          <a:xfrm>
            <a:off x="0" y="0"/>
            <a:ext cx="784872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8"/>
          <p:cNvSpPr/>
          <p:nvPr/>
        </p:nvSpPr>
        <p:spPr>
          <a:xfrm>
            <a:off x="3193920" y="3983040"/>
            <a:ext cx="2756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 Narrow"/>
              </a:rPr>
              <a:t>Памятка для родителе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304920" y="-107640"/>
            <a:ext cx="7162560" cy="64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Тактика общения с непоседой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Times New Roman"/>
              </a:rPr>
              <a:t>Недопустимы грубость, унижение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Times New Roman"/>
              </a:rPr>
              <a:t>злость  ребенок просто перестает их слыша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Times New Roman"/>
              </a:rPr>
              <a:t>Не разговаривайте с ребенком между делом, раздраженно, показывая своим видом, что он отвлекает вас от более важных дел, чем общение с ним.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Times New Roman"/>
              </a:rPr>
              <a:t>Во время разговора помните, что важен тон, мимика, жесты, на них ребенок реагирует сильнее, чем на слов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Times New Roman"/>
              </a:rPr>
              <a:t>Разговаривая с ребенком, задавайте вопросы, требующие пространственного ответ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Times New Roman"/>
              </a:rPr>
              <a:t>Поощряйте ребенка в ходе разговора, покажите, что вам интересно и важно то , о чем он говорит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Times New Roman"/>
              </a:rPr>
              <a:t>Не оставляйте без внимания просьбы ребенка. Если просьбу нельзя выполнить по какой-то причине, не отмалчивайтесь, не ограничивайтесь коротким «нет», объясните, почему вы не можете ее выполнить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63520" y="1904760"/>
            <a:ext cx="7386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Гиперактивность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– прямой перевод соответствующего англоязычного термина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yperactivity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(слишком/чрезмерно активный)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Скругленный прямоугольник 2"/>
          <p:cNvSpPr/>
          <p:nvPr/>
        </p:nvSpPr>
        <p:spPr>
          <a:xfrm>
            <a:off x="533520" y="2133720"/>
            <a:ext cx="2514600" cy="1447560"/>
          </a:xfrm>
          <a:prstGeom prst="roundRect">
            <a:avLst>
              <a:gd name="adj" fmla="val 16667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одовые травм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Скругленный прямоугольник 5"/>
          <p:cNvSpPr/>
          <p:nvPr/>
        </p:nvSpPr>
        <p:spPr>
          <a:xfrm>
            <a:off x="5029200" y="21337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генетически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Скругленный прямоугольник 6"/>
          <p:cNvSpPr/>
          <p:nvPr/>
        </p:nvSpPr>
        <p:spPr>
          <a:xfrm>
            <a:off x="2895480" y="3962520"/>
            <a:ext cx="2438640" cy="1523880"/>
          </a:xfrm>
          <a:prstGeom prst="roundRect">
            <a:avLst>
              <a:gd name="adj" fmla="val 16667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нфекционны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аболевания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00" name="Прямая со стрелкой 9"/>
          <p:cNvCxnSpPr/>
          <p:nvPr/>
        </p:nvCxnSpPr>
        <p:spPr>
          <a:xfrm flipH="1">
            <a:off x="1523520" y="990360"/>
            <a:ext cx="991440" cy="1067400"/>
          </a:xfrm>
          <a:prstGeom prst="straightConnector1">
            <a:avLst/>
          </a:prstGeom>
          <a:ln w="9360">
            <a:solidFill>
              <a:srgbClr val="d2b37c"/>
            </a:solidFill>
            <a:miter/>
            <a:tailEnd len="med" type="arrow" w="med"/>
          </a:ln>
        </p:spPr>
      </p:cxnSp>
      <p:cxnSp>
        <p:nvCxnSpPr>
          <p:cNvPr id="201" name="Прямая со стрелкой 11"/>
          <p:cNvCxnSpPr/>
          <p:nvPr/>
        </p:nvCxnSpPr>
        <p:spPr>
          <a:xfrm>
            <a:off x="5257440" y="990360"/>
            <a:ext cx="1067400" cy="991080"/>
          </a:xfrm>
          <a:prstGeom prst="straightConnector1">
            <a:avLst/>
          </a:prstGeom>
          <a:ln w="9360">
            <a:solidFill>
              <a:srgbClr val="d2b37c"/>
            </a:solidFill>
            <a:miter/>
            <a:tailEnd len="med" type="arrow" w="med"/>
          </a:ln>
        </p:spPr>
      </p:cxnSp>
      <p:cxnSp>
        <p:nvCxnSpPr>
          <p:cNvPr id="202" name="Прямая со стрелкой 13"/>
          <p:cNvCxnSpPr/>
          <p:nvPr/>
        </p:nvCxnSpPr>
        <p:spPr>
          <a:xfrm flipH="1">
            <a:off x="3885840" y="992160"/>
            <a:ext cx="2160" cy="2742480"/>
          </a:xfrm>
          <a:prstGeom prst="straightConnector1">
            <a:avLst/>
          </a:prstGeom>
          <a:ln w="9360">
            <a:solidFill>
              <a:srgbClr val="d2b37c"/>
            </a:solidFill>
            <a:miter/>
            <a:tailEnd len="med" type="arrow" w="med"/>
          </a:ln>
        </p:spPr>
      </p:cxn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6966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Факторы, способствующие возникновению гиперактивности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3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8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3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0" y="914040"/>
            <a:ext cx="7650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7c5aa"/>
                </a:solidFill>
                <a:latin typeface="Arial"/>
              </a:rPr>
              <a:t>Диагноз «гиперактивность» ставит невропатолог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, у некоторых детей </a:t>
            </a:r>
            <a:r>
              <a:rPr b="0" lang="ru-RU" sz="2800" spc="-1" strike="noStrike">
                <a:solidFill>
                  <a:srgbClr val="a7c5aa"/>
                </a:solidFill>
                <a:latin typeface="Arial"/>
              </a:rPr>
              <a:t>он отмечен в медицинской карт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. Если </a:t>
            </a:r>
            <a:r>
              <a:rPr b="0" lang="ru-RU" sz="2800" spc="-1" strike="noStrike">
                <a:solidFill>
                  <a:srgbClr val="a7c5aa"/>
                </a:solidFill>
                <a:latin typeface="Arial"/>
              </a:rPr>
              <a:t>диагноз отсутствует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, а у ребенка день за днем проявляются признаки гиперактивности, </a:t>
            </a:r>
            <a:r>
              <a:rPr b="0" lang="ru-RU" sz="2800" spc="-1" strike="noStrike">
                <a:solidFill>
                  <a:srgbClr val="a7c5aa"/>
                </a:solidFill>
                <a:latin typeface="Arial"/>
              </a:rPr>
              <a:t>должны вести за ним целенаправленное наблюд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(психолог, медицинские работники, методист, музыкальный руководитель)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C:\Documents and Settings\Admin\Мои документы\Мои рисунки\Новая папка\0023-049-Mylom-mylom-Mylom-mylom-Umyvalsja-bez-kontsa.png"/>
          <p:cNvPicPr/>
          <p:nvPr/>
        </p:nvPicPr>
        <p:blipFill>
          <a:blip r:embed="rId2"/>
          <a:stretch/>
        </p:blipFill>
        <p:spPr>
          <a:xfrm>
            <a:off x="2590920" y="1981080"/>
            <a:ext cx="2941560" cy="4648320"/>
          </a:xfrm>
          <a:prstGeom prst="rect">
            <a:avLst/>
          </a:prstGeom>
          <a:ln w="0">
            <a:noFill/>
          </a:ln>
        </p:spPr>
      </p:pic>
      <p:sp>
        <p:nvSpPr>
          <p:cNvPr id="206" name="Выноска-облако 3"/>
          <p:cNvSpPr/>
          <p:nvPr/>
        </p:nvSpPr>
        <p:spPr>
          <a:xfrm>
            <a:off x="4419720" y="0"/>
            <a:ext cx="3581280" cy="3429000"/>
          </a:xfrm>
          <a:prstGeom prst="cloudCallout">
            <a:avLst>
              <a:gd name="adj1" fmla="val -24282"/>
              <a:gd name="adj2" fmla="val 76134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Расстройство внимания, снижены волевые усилия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импульсивность, испытывает трудности ,связанные с запоминанием инструкции                             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Выноска-облако 4"/>
          <p:cNvSpPr/>
          <p:nvPr/>
        </p:nvSpPr>
        <p:spPr>
          <a:xfrm rot="20845800">
            <a:off x="-85680" y="203040"/>
            <a:ext cx="3476520" cy="3008520"/>
          </a:xfrm>
          <a:prstGeom prst="cloudCallout">
            <a:avLst>
              <a:gd name="adj1" fmla="val 16634"/>
              <a:gd name="adj2" fmla="val 70541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беспокойное движение рук и ног, часто совершает опасные действия ,теряет игрушки, с трудом дожидается своей очереди во время игр ,НОД, экскурсиях                                                                         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7924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амятк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о деятельности специалиста с гиперактивным ребенком </a:t>
            </a: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в ДО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целесообразно работать с ними в начале дня, а не вечером, уменьшить их рабочую нагрузку, делать перерывы в работе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еред началом работы (занятий,  мероприятия) провести индивидуальную беседу, заранее оговорив правила, за выполнение которых ребенок получает вознаграждение (не обязательно материальное). </a:t>
            </a:r>
            <a:br>
              <a:rPr sz="2800"/>
            </a:b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99160" cy="601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аще поощрять. (например, каждые 15—20 минут выдавать ему жетоны, которые в течение дня он может менять на «награды»: право идти на прогулку в первой паре, дежурство во время обеда и др.</a:t>
            </a:r>
            <a:br>
              <a:rPr sz="2800"/>
            </a:b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инструкции, предъявляемые ребенку, должны быть четкими и краткими (не более 10 слов). </a:t>
            </a:r>
            <a:br>
              <a:rPr sz="2800"/>
            </a:b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практической деятельности с гиперактивным ребенком Данилом М. осуществляется по следующим направлениям 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4000" spc="-1" strike="noStrike">
                <a:solidFill>
                  <a:srgbClr val="2f1311"/>
                </a:solidFill>
                <a:latin typeface="Arial"/>
              </a:rPr>
              <a:t>ребенок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i="1" lang="ru-RU" sz="4000" spc="-1" strike="noStrike">
                <a:solidFill>
                  <a:srgbClr val="2f1311"/>
                </a:solidFill>
                <a:latin typeface="Arial"/>
              </a:rPr>
              <a:t>психолог    родитель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cxnSp>
        <p:nvCxnSpPr>
          <p:cNvPr id="211" name="Прямая со стрелкой 4"/>
          <p:cNvCxnSpPr/>
          <p:nvPr/>
        </p:nvCxnSpPr>
        <p:spPr>
          <a:xfrm>
            <a:off x="2437920" y="4038120"/>
            <a:ext cx="381960" cy="2520"/>
          </a:xfrm>
          <a:prstGeom prst="straightConnector1">
            <a:avLst/>
          </a:prstGeom>
          <a:ln w="9360">
            <a:solidFill>
              <a:srgbClr val="d2b37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12" name="Прямая со стрелкой 6"/>
          <p:cNvCxnSpPr/>
          <p:nvPr/>
        </p:nvCxnSpPr>
        <p:spPr>
          <a:xfrm>
            <a:off x="5181480" y="4038120"/>
            <a:ext cx="457920" cy="2520"/>
          </a:xfrm>
          <a:prstGeom prst="straightConnector1">
            <a:avLst/>
          </a:prstGeom>
          <a:ln w="9360">
            <a:solidFill>
              <a:srgbClr val="d2b37c"/>
            </a:solidFill>
            <a:miter/>
            <a:headEnd len="med" type="arrow" w="med"/>
            <a:tailEnd len="med" type="arrow" w="med"/>
          </a:ln>
        </p:spPr>
      </p:cxn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086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Коррекционно-развивающая </a:t>
            </a:r>
            <a:br>
              <a:rPr sz="2800"/>
            </a:b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деятельность с гиперактивными </a:t>
            </a:r>
            <a:br>
              <a:rPr sz="2800"/>
            </a:b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детьми осуществляется в двух направления: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28240" y="2209320"/>
            <a:ext cx="3429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- Развивать движения и самоконтроль поведения с использованием игр, упражнений направленных на развитие внимания и координации у детей, а также снятию эмоционального напряжения через релаксацию, психогимнастику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190760" y="1981080"/>
            <a:ext cx="33526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-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формировать у родителей  положительную направленность на организацию эмоционально-насыщенного  взаимодействия с ребенком               ( индивидуальные консультации, беседы и др.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- Способствовать активному  материалов тренинга в семейной практике ( игровые упражнения различной направленности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5-20T17:48:07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