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6BB-064A-4007-A092-B1CEE64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80D-7B99-4A9A-BDB9-52AB767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EC7-2FBB-499E-BB6A-3E6F07ED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3EB-5798-4EBE-B445-45C64EC2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CE8-9CF0-4334-A531-70A9CB04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C79C-8E35-48C3-AF8C-382A485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E78-30C9-4FC3-87E9-20FD504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3CA0-EC85-4E17-BE20-4629E18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11BA-6311-4E2E-AD7A-BE3B805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D8E-F58B-4549-A323-3583627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BA84-76A2-4DF0-9349-C7AD69B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218-E98A-4657-BF73-4A7A41E8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12AE-5A2C-46C8-B604-744C1A3B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D697-817F-4A2A-8C14-787CA40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7FFC-BF2B-4CA8-A4B9-8BACFFAC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35EA-9A7D-463E-B5A5-3B742735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FD7F-B9D9-4DCC-8B0C-8BD63365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E0E2-C183-42AD-992E-597CC4B4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B3CD-E5E4-429F-8036-C53C455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D997-1FD4-4516-9FFB-3BCA49F3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02C0-948C-449F-96B0-6C5CE114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F959-C585-4B5B-B9C7-25AB8E1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8E4-0B12-4144-917C-A5FBED37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6FBF-A1D7-4FA1-AEF4-CFE057D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EC13-FFC1-42FB-8CAE-1EB8349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C058-BB37-404B-AA88-0D115F2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192A-0762-4EDD-8BD6-615E942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7247-1A79-4E37-928D-3B8F4C6F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A98C-04CD-449C-B967-77BB1D1B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5F19-CBEF-4F4B-AA23-655413E7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1116-2684-4D27-95FF-DC354BB9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3D9C-12C2-406F-B77F-56417E84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1384-011C-4847-A7FB-12C3FDC7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7A8-2E11-4A32-AAD7-CEB347D9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90F4-EBF6-4C74-A61F-D15ACC26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7C813-9489-479B-A344-ACB1BF6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4CA6-3368-4457-A735-74B01A8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FF750-4BD0-40E5-A49A-6F30944B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BC0E-4DA8-4624-8CE7-2A68E069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080C-8E4E-4056-9561-105B6C4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3B92-6637-473F-AAF0-3A97532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392D-24B4-4932-8E06-243149CA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7CF7-85B0-4A85-84EE-CD0AB753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A217-CA39-44AB-A52F-88AFD722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A43-7C7C-46F0-8830-E2B4FD5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3ABBF-BA6C-4A35-B8C5-36EF670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987F-604C-4F7F-BAEA-20FE7D58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82B4-A24E-487B-963B-21EDED0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C6A6-07AB-4099-A6F4-F9D8540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5E32-C42C-4719-917D-FCECBA7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E822-80A6-45C1-8E73-0870135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2741-9DEC-4E53-9F7C-6C4B0AF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8984-7CC7-41DB-86CD-252BE1A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44F5-0E05-4518-A06A-A2412B4E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7A4F-813E-4336-BA2D-2A675938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F78-4F76-474E-BBD8-7B1DFFA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6BD4-0501-43A7-B5C6-BCD504F6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67863-7F48-4582-B0AE-1A7AEC35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FBFFD-59B0-4E4A-9F67-D02D7D71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0050A-36FB-49E2-A686-B0F96409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BAA7-962D-4EB9-930F-689BEA6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96051-1F50-4E27-BA05-F722FE6B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AB97-BE9F-421F-A062-1448716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93576-281F-4FC1-BFF9-2213A85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AA07-4F1D-4F33-B43F-CEA6A917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E2CE7-89AC-4431-8E66-32AF4F3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D88-A342-47F9-968D-6591EC22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3E9F-E288-4D19-A53D-08C1976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E05AB-8616-45D3-B0C2-C566ED63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C008-E155-4CA0-B623-4F0BA7D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5791-F7CC-43E4-AE22-16B3E77E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0C42-B8B4-4BED-900A-48D3A188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96482-AB13-44F9-AAA0-56956DC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BFF1-0648-45A2-A181-4695C23A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B32FB-E268-48AC-AB72-7D6BA1B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2EFF7-BF73-48E6-8D70-6583B49D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D4C9-9C9A-48D7-8825-9FE484E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5EE-4372-43D9-BF7A-8177A37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3E4EB-8E01-4BBD-8D81-AE6A4AD5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E52B-B17C-4CA4-B6E3-24A34EA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8EB1-BC20-46E1-9EB6-47482B3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60B09-878D-4ED8-AEC9-1CC16862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5F30-EE8B-475D-A1EA-4B5AA873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D7D-DBC1-4938-9550-13555BB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1D3-8344-4715-932B-7E01825B16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57B5-A50B-47DB-9FEB-9909DD1054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342-B6C4-4D4A-BCF3-D901034C99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4521-FE19-4BB6-B012-B4EEE62F3B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183-4458-411B-A0DB-E252EA60EB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85CD-63B6-464B-8343-DF810EF60D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A1C6-71D3-4623-8D29-596B280C97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050240" cy="146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округ на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865480" y="4454280"/>
            <a:ext cx="2252520" cy="1765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0e04"/>
                </a:solidFill>
                <a:latin typeface="Comic Sans MS"/>
                <a:ea typeface="Comic Sans MS"/>
              </a:rPr>
              <a:t>Панина Надежда Александровн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микроми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5" name="Shape 109" descr=""/>
          <p:cNvPicPr/>
          <p:nvPr/>
        </p:nvPicPr>
        <p:blipFill>
          <a:blip r:embed="rId1"/>
          <a:stretch/>
        </p:blipFill>
        <p:spPr>
          <a:xfrm>
            <a:off x="793800" y="1928880"/>
            <a:ext cx="2813040" cy="4052880"/>
          </a:xfrm>
          <a:prstGeom prst="rect">
            <a:avLst/>
          </a:prstGeom>
          <a:ln w="0">
            <a:noFill/>
          </a:ln>
        </p:spPr>
      </p:pic>
      <p:pic>
        <p:nvPicPr>
          <p:cNvPr id="396" name="Shape 110" descr=""/>
          <p:cNvPicPr/>
          <p:nvPr/>
        </p:nvPicPr>
        <p:blipFill>
          <a:blip r:embed="rId2"/>
          <a:stretch/>
        </p:blipFill>
        <p:spPr>
          <a:xfrm>
            <a:off x="5240160" y="1928880"/>
            <a:ext cx="289404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в древности слово “симметрия”употреблялось как “гармония”, “красота”. Действительно по гречески оно означает “соразмерность, пропорциональность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Определ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природ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Shape 55" descr=""/>
          <p:cNvPicPr/>
          <p:nvPr/>
        </p:nvPicPr>
        <p:blipFill>
          <a:blip r:embed="rId1"/>
          <a:stretch/>
        </p:blipFill>
        <p:spPr>
          <a:xfrm>
            <a:off x="457200" y="1677960"/>
            <a:ext cx="2303640" cy="2343240"/>
          </a:xfrm>
          <a:prstGeom prst="rect">
            <a:avLst/>
          </a:prstGeom>
          <a:ln w="0">
            <a:noFill/>
          </a:ln>
        </p:spPr>
      </p:pic>
      <p:pic>
        <p:nvPicPr>
          <p:cNvPr id="370" name="Shape 56" descr=""/>
          <p:cNvPicPr/>
          <p:nvPr/>
        </p:nvPicPr>
        <p:blipFill>
          <a:blip r:embed="rId2"/>
          <a:stretch/>
        </p:blipFill>
        <p:spPr>
          <a:xfrm>
            <a:off x="3322800" y="1663560"/>
            <a:ext cx="1890720" cy="2527560"/>
          </a:xfrm>
          <a:prstGeom prst="rect">
            <a:avLst/>
          </a:prstGeom>
          <a:ln w="0">
            <a:noFill/>
          </a:ln>
        </p:spPr>
      </p:pic>
      <p:pic>
        <p:nvPicPr>
          <p:cNvPr id="371" name="Shape 57" descr=""/>
          <p:cNvPicPr/>
          <p:nvPr/>
        </p:nvPicPr>
        <p:blipFill>
          <a:blip r:embed="rId3"/>
          <a:stretch/>
        </p:blipFill>
        <p:spPr>
          <a:xfrm>
            <a:off x="6946920" y="1677960"/>
            <a:ext cx="1790640" cy="2454480"/>
          </a:xfrm>
          <a:prstGeom prst="rect">
            <a:avLst/>
          </a:prstGeom>
          <a:ln w="0">
            <a:noFill/>
          </a:ln>
        </p:spPr>
      </p:pic>
      <p:pic>
        <p:nvPicPr>
          <p:cNvPr id="372" name="Shape 58" descr=""/>
          <p:cNvPicPr/>
          <p:nvPr/>
        </p:nvPicPr>
        <p:blipFill>
          <a:blip r:embed="rId4"/>
          <a:stretch/>
        </p:blipFill>
        <p:spPr>
          <a:xfrm>
            <a:off x="985680" y="4478400"/>
            <a:ext cx="1473480" cy="1898640"/>
          </a:xfrm>
          <a:prstGeom prst="rect">
            <a:avLst/>
          </a:prstGeom>
          <a:ln w="0">
            <a:noFill/>
          </a:ln>
        </p:spPr>
      </p:pic>
      <p:pic>
        <p:nvPicPr>
          <p:cNvPr id="373" name="Shape 59" descr=""/>
          <p:cNvPicPr/>
          <p:nvPr/>
        </p:nvPicPr>
        <p:blipFill>
          <a:blip r:embed="rId5"/>
          <a:stretch/>
        </p:blipFill>
        <p:spPr>
          <a:xfrm>
            <a:off x="4913280" y="4255920"/>
            <a:ext cx="2033640" cy="21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архитек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Shape 66" descr=""/>
          <p:cNvPicPr/>
          <p:nvPr/>
        </p:nvPicPr>
        <p:blipFill>
          <a:blip r:embed="rId1"/>
          <a:stretch/>
        </p:blipFill>
        <p:spPr>
          <a:xfrm>
            <a:off x="388800" y="3755880"/>
            <a:ext cx="3027600" cy="2730600"/>
          </a:xfrm>
          <a:prstGeom prst="rect">
            <a:avLst/>
          </a:prstGeom>
          <a:ln w="0">
            <a:noFill/>
          </a:ln>
        </p:spPr>
      </p:pic>
      <p:pic>
        <p:nvPicPr>
          <p:cNvPr id="377" name="Shape 67" descr=""/>
          <p:cNvPicPr/>
          <p:nvPr/>
        </p:nvPicPr>
        <p:blipFill>
          <a:blip r:embed="rId2"/>
          <a:stretch/>
        </p:blipFill>
        <p:spPr>
          <a:xfrm>
            <a:off x="5987880" y="3662280"/>
            <a:ext cx="2784600" cy="2916360"/>
          </a:xfrm>
          <a:prstGeom prst="rect">
            <a:avLst/>
          </a:prstGeom>
          <a:ln w="0">
            <a:noFill/>
          </a:ln>
        </p:spPr>
      </p:pic>
      <p:pic>
        <p:nvPicPr>
          <p:cNvPr id="378" name="Shape 68" descr=""/>
          <p:cNvPicPr/>
          <p:nvPr/>
        </p:nvPicPr>
        <p:blipFill>
          <a:blip r:embed="rId3"/>
          <a:stretch/>
        </p:blipFill>
        <p:spPr>
          <a:xfrm>
            <a:off x="3416400" y="1733400"/>
            <a:ext cx="255096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ы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Shape 75" descr=""/>
          <p:cNvPicPr/>
          <p:nvPr/>
        </p:nvPicPr>
        <p:blipFill>
          <a:blip r:embed="rId1"/>
          <a:stretch/>
        </p:blipFill>
        <p:spPr>
          <a:xfrm>
            <a:off x="6330960" y="1658880"/>
            <a:ext cx="2689200" cy="3187800"/>
          </a:xfrm>
          <a:prstGeom prst="rect">
            <a:avLst/>
          </a:prstGeom>
          <a:ln w="0">
            <a:noFill/>
          </a:ln>
        </p:spPr>
      </p:pic>
      <p:pic>
        <p:nvPicPr>
          <p:cNvPr id="382" name="Shape 76" descr=""/>
          <p:cNvPicPr/>
          <p:nvPr/>
        </p:nvPicPr>
        <p:blipFill>
          <a:blip r:embed="rId2"/>
          <a:stretch/>
        </p:blipFill>
        <p:spPr>
          <a:xfrm>
            <a:off x="220680" y="165888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3" name="Shape 77" descr=""/>
          <p:cNvPicPr/>
          <p:nvPr/>
        </p:nvPicPr>
        <p:blipFill>
          <a:blip r:embed="rId3"/>
          <a:stretch/>
        </p:blipFill>
        <p:spPr>
          <a:xfrm>
            <a:off x="3522600" y="3070080"/>
            <a:ext cx="251460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Палиндром - это абсолютное проявление симметрии в литерату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например “А роза упала на лапу Азора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литератур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Ж                                       200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Т                          6996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буквах и цифр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Л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слов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7200" y="16585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Симметрия в техник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2" name="Shape 102" descr=""/>
          <p:cNvPicPr/>
          <p:nvPr/>
        </p:nvPicPr>
        <p:blipFill>
          <a:blip r:embed="rId1"/>
          <a:stretch/>
        </p:blipFill>
        <p:spPr>
          <a:xfrm>
            <a:off x="1278000" y="1914480"/>
            <a:ext cx="3670200" cy="429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8:27:19Z</dcterms:created>
  <dc:creator>Siv518</dc:creator>
  <dc:description/>
  <dc:language>en-US</dc:language>
  <cp:lastModifiedBy>home</cp:lastModifiedBy>
  <dcterms:modified xsi:type="dcterms:W3CDTF">2015-03-26T17:04:25Z</dcterms:modified>
  <cp:revision>53</cp:revision>
  <dc:subject/>
  <dc:title>Составитель – Щалпегина И.В.</dc:title>
</cp:coreProperties>
</file>