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38F-018E-477B-89C2-C1F7DB4E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10B-4DC0-4A16-B79F-8BB6DCBF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C00-A8AB-4F7A-A1BD-91E96262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556-C3E7-40EC-9953-EAC6608B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1C4E-DF37-4FCB-9B4C-ED9252B1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812E-598B-4E8E-A851-FAC03ED6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20AD-D0D5-4816-A62D-5AD728C9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490D-47E0-4C51-B22E-E9A2F8C3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6A20-0919-4515-B4F2-AC730778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CD8C-3772-42DC-93CB-33394FFC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CD7D-FFD5-45B8-9B1F-11DD2F8B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3A6-ADAE-4D0E-BCE6-FA518847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3D0A-6B34-4C11-9AD5-41484032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4092-E028-44A6-80C9-889E1286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3B15-2D29-4DF4-A153-712BEF08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7853-08B4-4732-9CFB-B38C2CA8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6909-5923-447F-90D7-113E8E9A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8BDF-C194-42E0-A00E-3CF702E1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9654-527A-413A-8F88-2F417B22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C0CC-6BED-42BB-B455-14A8D440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22B8-375B-431A-9D04-0B72EE0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1160-EE29-4CC2-BB4C-FF2DA67B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6B5-FE4A-4B92-91EB-AA63A732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6006-7836-4048-9197-48E1C835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7DA4-E060-4820-8CF6-0AD17DF2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A0B8-AE3E-429B-9DE0-7F575417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6645-E063-4974-BC42-D67B7780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02DC-78E6-4DCA-9B57-3206475D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934D-7E44-4E8E-8B43-6FB10549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08D8E-98E4-424C-996A-0BC3E07F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C8AF-D6BE-45FD-A2E1-19B4E266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1F45C-0766-44A3-A4DB-A24D39CB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9FC1-E321-4C01-861B-A4F199D5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19D-1A11-4925-BD0D-9B2E0B58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5C05-DFCB-43D3-BC5F-F18F1654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9694-B34B-4490-9D1F-053BD20A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0122-E654-48C6-B286-4BDF52CC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7E34-31C3-4E43-935D-76334AC3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A5A9-33EB-4F0F-B02F-65461B9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54597-3E0B-4E07-B7C0-41104539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43EB-8E9E-4EF6-AF81-638F4EAF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9E708-ABE2-4D06-9A0F-CCCCC77A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5922-B87F-4DB5-A706-C6827A8C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8DABA-B9B1-4BEF-B6D2-8AA2071C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B0A-7FFC-4B9F-939D-CC5D6003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E7A25-88EA-4C9E-8895-2F910EA7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18C0C-58C7-4D16-B27A-1D059A84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DF086-F576-48A2-9CA3-027E3B25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7C69-6083-45CF-9BEE-8B6EC6C5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3FC50-A766-49A2-917F-7DC93AAE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B9E65-44CA-41F6-8D08-991E406B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4AF4-DF37-42F2-9D78-71AADFF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CA0F8-CEAF-4A99-92AB-9C9BD49B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3A3EE-ED3C-45B1-ADD8-96A97059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3D470-6D65-49E4-AEF6-7E533411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2F5-33CF-4561-93BC-C95B7376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05DF-4E00-4044-8095-2A496D7C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916F2-D5F9-4923-B9AB-61F24C17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31B9D-7464-44CE-BF00-299602FA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589B-F233-411D-85E2-67C98ED9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2B354-811E-4254-A019-548D678C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44957-9B9D-4D8C-9D0E-6D98F761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2D6F0-ECCA-4897-94DB-7147BE19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C9007-F57E-4D8B-A143-A8438772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91B75-4AEA-4FD8-BDDC-FE59F6C3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7F62-A518-4AA2-99C2-33FD9DCA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5A8-7FB6-4F97-99BB-4C3A6084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647B9-BD98-4296-8AA1-86202E24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51D29-7236-4A58-A6C3-9B10B88F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4E874-13CD-44C9-A7A3-9B2B99E4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CB7CF-108B-4B65-A75F-9ABF79EA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F8921-9A7B-4785-951A-6A96CABA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855C0-80A5-474A-AB3E-02699B9F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66BD5-FF69-4D48-991D-D4AAEAF5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3E149-B6AB-43EB-BCD4-9BC37B2E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427C1-0420-4CB3-9793-6160CDB8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E2157-02BB-4D1A-BB24-0255E7C4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C67-D25C-493D-9E50-4473E19D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EB9E9-EC80-429F-AB17-C227903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90C73-13D2-49B8-8D8F-D8A844C1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81664-0010-4492-9C57-7C219358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8C93-DF17-432E-B263-E578518C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C8A5D-65CE-4E89-B664-3CD582DB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F1B-4734-4E2C-87E2-9433AB0F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3C95-B7E5-4EBF-9FF4-2302CD3CF72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6CFD-874F-4F01-8EC4-AABF16E9FD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03B4-78FF-423A-9D43-760FEA83F12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6A55-56D2-4FD0-A742-E7A8A5152B1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BBF2-29C9-4F17-AC29-0AB4C0C50C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96A4-730D-4291-B5FA-312AB3F811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69C9-13AC-4304-B074-9F881F86F7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050240" cy="1469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округ на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865480" y="4454280"/>
            <a:ext cx="2252520" cy="1765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Comic Sans MS"/>
                <a:ea typeface="Comic Sans MS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Comic Sans MS"/>
                <a:ea typeface="Comic Sans MS"/>
              </a:rPr>
              <a:t>Панина Надежда Александров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микроми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5" name="Shape 109" descr=""/>
          <p:cNvPicPr/>
          <p:nvPr/>
        </p:nvPicPr>
        <p:blipFill>
          <a:blip r:embed="rId1"/>
          <a:stretch/>
        </p:blipFill>
        <p:spPr>
          <a:xfrm>
            <a:off x="793800" y="1928880"/>
            <a:ext cx="2813040" cy="4052880"/>
          </a:xfrm>
          <a:prstGeom prst="rect">
            <a:avLst/>
          </a:prstGeom>
          <a:ln w="0">
            <a:noFill/>
          </a:ln>
        </p:spPr>
      </p:pic>
      <p:pic>
        <p:nvPicPr>
          <p:cNvPr id="396" name="Shape 110" descr=""/>
          <p:cNvPicPr/>
          <p:nvPr/>
        </p:nvPicPr>
        <p:blipFill>
          <a:blip r:embed="rId2"/>
          <a:stretch/>
        </p:blipFill>
        <p:spPr>
          <a:xfrm>
            <a:off x="5240160" y="1928880"/>
            <a:ext cx="28940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в древности слово “симметрия”употреблялось как “гармония”, “красота”. Действительно по гречески оно означает “соразмерность, пропорциональность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Определ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природ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Shape 55" descr=""/>
          <p:cNvPicPr/>
          <p:nvPr/>
        </p:nvPicPr>
        <p:blipFill>
          <a:blip r:embed="rId1"/>
          <a:stretch/>
        </p:blipFill>
        <p:spPr>
          <a:xfrm>
            <a:off x="457200" y="1677960"/>
            <a:ext cx="2303640" cy="2343240"/>
          </a:xfrm>
          <a:prstGeom prst="rect">
            <a:avLst/>
          </a:prstGeom>
          <a:ln w="0">
            <a:noFill/>
          </a:ln>
        </p:spPr>
      </p:pic>
      <p:pic>
        <p:nvPicPr>
          <p:cNvPr id="370" name="Shape 56" descr=""/>
          <p:cNvPicPr/>
          <p:nvPr/>
        </p:nvPicPr>
        <p:blipFill>
          <a:blip r:embed="rId2"/>
          <a:stretch/>
        </p:blipFill>
        <p:spPr>
          <a:xfrm>
            <a:off x="3322800" y="1663560"/>
            <a:ext cx="1890720" cy="2527560"/>
          </a:xfrm>
          <a:prstGeom prst="rect">
            <a:avLst/>
          </a:prstGeom>
          <a:ln w="0">
            <a:noFill/>
          </a:ln>
        </p:spPr>
      </p:pic>
      <p:pic>
        <p:nvPicPr>
          <p:cNvPr id="371" name="Shape 57" descr=""/>
          <p:cNvPicPr/>
          <p:nvPr/>
        </p:nvPicPr>
        <p:blipFill>
          <a:blip r:embed="rId3"/>
          <a:stretch/>
        </p:blipFill>
        <p:spPr>
          <a:xfrm>
            <a:off x="6946920" y="1677960"/>
            <a:ext cx="1790640" cy="2454480"/>
          </a:xfrm>
          <a:prstGeom prst="rect">
            <a:avLst/>
          </a:prstGeom>
          <a:ln w="0">
            <a:noFill/>
          </a:ln>
        </p:spPr>
      </p:pic>
      <p:pic>
        <p:nvPicPr>
          <p:cNvPr id="372" name="Shape 58" descr=""/>
          <p:cNvPicPr/>
          <p:nvPr/>
        </p:nvPicPr>
        <p:blipFill>
          <a:blip r:embed="rId4"/>
          <a:stretch/>
        </p:blipFill>
        <p:spPr>
          <a:xfrm>
            <a:off x="985680" y="4478400"/>
            <a:ext cx="1473480" cy="1898640"/>
          </a:xfrm>
          <a:prstGeom prst="rect">
            <a:avLst/>
          </a:prstGeom>
          <a:ln w="0">
            <a:noFill/>
          </a:ln>
        </p:spPr>
      </p:pic>
      <p:pic>
        <p:nvPicPr>
          <p:cNvPr id="373" name="Shape 59" descr=""/>
          <p:cNvPicPr/>
          <p:nvPr/>
        </p:nvPicPr>
        <p:blipFill>
          <a:blip r:embed="rId5"/>
          <a:stretch/>
        </p:blipFill>
        <p:spPr>
          <a:xfrm>
            <a:off x="4913280" y="4255920"/>
            <a:ext cx="2033640" cy="21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архитектур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6" name="Shape 66" descr=""/>
          <p:cNvPicPr/>
          <p:nvPr/>
        </p:nvPicPr>
        <p:blipFill>
          <a:blip r:embed="rId1"/>
          <a:stretch/>
        </p:blipFill>
        <p:spPr>
          <a:xfrm>
            <a:off x="388800" y="3755880"/>
            <a:ext cx="3027600" cy="2730600"/>
          </a:xfrm>
          <a:prstGeom prst="rect">
            <a:avLst/>
          </a:prstGeom>
          <a:ln w="0">
            <a:noFill/>
          </a:ln>
        </p:spPr>
      </p:pic>
      <p:pic>
        <p:nvPicPr>
          <p:cNvPr id="377" name="Shape 67" descr=""/>
          <p:cNvPicPr/>
          <p:nvPr/>
        </p:nvPicPr>
        <p:blipFill>
          <a:blip r:embed="rId2"/>
          <a:stretch/>
        </p:blipFill>
        <p:spPr>
          <a:xfrm>
            <a:off x="5987880" y="3662280"/>
            <a:ext cx="2784600" cy="2916360"/>
          </a:xfrm>
          <a:prstGeom prst="rect">
            <a:avLst/>
          </a:prstGeom>
          <a:ln w="0">
            <a:noFill/>
          </a:ln>
        </p:spPr>
      </p:pic>
      <p:pic>
        <p:nvPicPr>
          <p:cNvPr id="378" name="Shape 68" descr=""/>
          <p:cNvPicPr/>
          <p:nvPr/>
        </p:nvPicPr>
        <p:blipFill>
          <a:blip r:embed="rId3"/>
          <a:stretch/>
        </p:blipFill>
        <p:spPr>
          <a:xfrm>
            <a:off x="3416400" y="1733400"/>
            <a:ext cx="255096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бы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Shape 75" descr=""/>
          <p:cNvPicPr/>
          <p:nvPr/>
        </p:nvPicPr>
        <p:blipFill>
          <a:blip r:embed="rId1"/>
          <a:stretch/>
        </p:blipFill>
        <p:spPr>
          <a:xfrm>
            <a:off x="6330960" y="1658880"/>
            <a:ext cx="2689200" cy="3187800"/>
          </a:xfrm>
          <a:prstGeom prst="rect">
            <a:avLst/>
          </a:prstGeom>
          <a:ln w="0">
            <a:noFill/>
          </a:ln>
        </p:spPr>
      </p:pic>
      <p:pic>
        <p:nvPicPr>
          <p:cNvPr id="382" name="Shape 76" descr=""/>
          <p:cNvPicPr/>
          <p:nvPr/>
        </p:nvPicPr>
        <p:blipFill>
          <a:blip r:embed="rId2"/>
          <a:stretch/>
        </p:blipFill>
        <p:spPr>
          <a:xfrm>
            <a:off x="220680" y="165888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383" name="Shape 77" descr=""/>
          <p:cNvPicPr/>
          <p:nvPr/>
        </p:nvPicPr>
        <p:blipFill>
          <a:blip r:embed="rId3"/>
          <a:stretch/>
        </p:blipFill>
        <p:spPr>
          <a:xfrm>
            <a:off x="3522600" y="3070080"/>
            <a:ext cx="251460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Палиндром - это абсолютное проявление симметрии в литерату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например “А роза упала на лапу Азора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литератур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Ж                                       200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Т                          6996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буквах и цифр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Ш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Р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Л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Н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слов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техник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2" name="Shape 102" descr=""/>
          <p:cNvPicPr/>
          <p:nvPr/>
        </p:nvPicPr>
        <p:blipFill>
          <a:blip r:embed="rId1"/>
          <a:stretch/>
        </p:blipFill>
        <p:spPr>
          <a:xfrm>
            <a:off x="1278000" y="1914480"/>
            <a:ext cx="3670200" cy="429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8:27:19Z</dcterms:created>
  <dc:creator>Siv518</dc:creator>
  <dc:description/>
  <dc:language>en-US</dc:language>
  <cp:lastModifiedBy>home</cp:lastModifiedBy>
  <dcterms:modified xsi:type="dcterms:W3CDTF">2015-03-26T17:04:25Z</dcterms:modified>
  <cp:revision>53</cp:revision>
  <dc:subject/>
  <dc:title>Составитель – Щалпегина И.В.</dc:title>
</cp:coreProperties>
</file>