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F5A-630C-4D06-B059-789B7926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1BC-9AB1-4D8F-9E82-594540D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EDD-3FE5-4F9F-A44D-E974739F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12A-8D61-420C-8E8B-9C5CBC70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B46C-1B0B-4945-9774-49ED20BB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42C8-5C1C-4BD2-BF3C-53B09074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F2C-A4F6-478C-9EA2-366DB0F9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17A6-FD85-4F8E-93D4-4D21BF42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45AD-4E79-49F3-906B-264C30F7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35A7-92D7-4F82-AC10-62BDCB4D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C65-C276-4F79-B82C-A9F4506D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AA1-7003-4A89-9489-1BEF855C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0AA4-EA7A-47F0-B738-56E0E6E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66D-E597-4B51-A9B1-54B5E97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625C-657B-4594-8B5F-EE1535C5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841B-229D-4E2B-91E8-F0B0D4D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AA26-50E4-4D0A-9BD5-3006465D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992C-37F4-4B6A-B1F3-B88EE48A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8DE9-FF3F-44AF-B92A-B9C4BAEA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44D9-7091-4C74-9BF7-AFE69FB3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DF7C-66C2-4DD4-85AD-1D857956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6DEB-A4C6-4670-89ED-DA33144C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5A6-F459-43F1-9549-B47E3FE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4913-B9C8-48A2-8AF8-878483D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37A7-41F7-4DDB-906D-B4B60AFF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992E-66AB-4D06-B529-7A932CF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5B8B-40C5-4147-AE32-19FB01A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3A14-8D7D-45F8-BA4C-816C3DD4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BD30-8A65-4C5E-82A4-EF118EB9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CFB9E-89FF-430F-B439-658109C2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1582-C3F1-4E95-9345-296DAF65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E2FF-B9AF-4BD2-9949-CC208B5C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B47C-B00C-474E-B334-F806642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2C7-4C52-4AA1-9539-02F457F4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4A7EF-2C8F-4171-8846-CFA28567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F6F1-0DA2-4347-8437-EC4E5DE8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AE21-8239-4352-A18F-37EA851D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C7C3-8C30-49EB-8540-EB205CD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B8A5-D09A-47EA-B61A-7E05EE00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F44F-22A5-4690-93B1-23C6424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E458-E051-4B63-B427-41542A9D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EC81-55CC-4919-8A08-B03EF7D6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A623E-409D-4CDE-AD5E-AD9E65F6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DA76-C755-402F-AEB3-A21475A2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BFF-BC2B-4479-8F8A-68EE12BB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D56DC-CC22-4614-983E-E1D2152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17037-811F-47A7-98D1-2F4E9F4C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99E4-1AA2-4555-A0C2-0FA17CD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171E-EA10-431B-8C8D-B5A0A502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CC2D-B5E7-4FAC-AC28-793DC7D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44631-71BE-486C-8D6B-B9C8C448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1885-87D8-4C8F-8228-9BE03B39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EBDE-E045-4951-A245-0E00C52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4775-557E-44E9-85EF-D1E56CC1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ABC7D-31C3-4A4F-8CC3-1DECB163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7EA-EC0F-4D27-8333-7AFD22E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357E-6447-44E7-B623-6A6067DF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9123-7D22-4FD8-BCB1-67164C92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C29CD-6AEE-4F6A-803F-5E688819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2E07-646D-4A38-B08C-2DD04FB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EB00-2BEB-467A-A9D9-32298E0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4FEF-E38A-45EB-A3F3-83154DCB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EBD9-0768-4B47-855E-37A3D979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27C11-D910-4B32-99B0-397721BE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B71F0-6E12-42F4-8D1D-7CF134E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B3955-9FA4-4B78-ACC8-E5A2B82A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476-1BF1-4983-8F2E-4B1F0F8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C6E4-5850-41A1-97EB-69CF551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3A63-3A9E-47AB-B190-7FCDB305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AB95-0720-44AF-9429-9C0079EB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25FA-2284-4C39-83FB-0A428D7A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7F5F-37AA-49CC-B0B8-43ACEF3C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28607-8C3A-4A5F-B579-B3E380BF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6874-7D34-4DCF-A629-924032B2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8E860-C89E-40C9-958E-EF3E7AC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2E16-369C-441D-B808-AC5CBE93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623D-A6F8-48A1-B089-F5F0EF1C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929-28A4-4758-A0D6-F22867E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01010-471E-45EF-A5B6-F7C65598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E9E27-85AD-42D8-87BE-BB23495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2D3B-7449-4EFF-9708-3613F750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CCFF8-3EE1-45F3-A34B-8ECD4111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D501-4741-424B-A298-4AE0E61C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9EF-0399-41BA-92FF-C261E7A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42D0-E43E-4AFC-B79D-7EB059CB63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3DFE-CB0A-4284-877F-06E24C1C83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2CFC-B60D-4772-833D-467C1FF794D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456C-6C75-41CA-B0AE-5D858A0EDE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E95-7501-435E-8E62-5A9F951DD8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91F-CF3C-4054-AA9D-440D5D5AF64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2BA5-9200-4169-AB31-F05587899A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050240" cy="1469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округ на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865480" y="4454280"/>
            <a:ext cx="2252520" cy="1765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Comic Sans MS"/>
                <a:ea typeface="Comic Sans MS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Comic Sans MS"/>
                <a:ea typeface="Comic Sans MS"/>
              </a:rPr>
              <a:t>Панина Надежда Александро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микроми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Shape 109" descr=""/>
          <p:cNvPicPr/>
          <p:nvPr/>
        </p:nvPicPr>
        <p:blipFill>
          <a:blip r:embed="rId1"/>
          <a:stretch/>
        </p:blipFill>
        <p:spPr>
          <a:xfrm>
            <a:off x="793800" y="1928880"/>
            <a:ext cx="2813040" cy="4052880"/>
          </a:xfrm>
          <a:prstGeom prst="rect">
            <a:avLst/>
          </a:prstGeom>
          <a:ln w="0">
            <a:noFill/>
          </a:ln>
        </p:spPr>
      </p:pic>
      <p:pic>
        <p:nvPicPr>
          <p:cNvPr id="396" name="Shape 110" descr=""/>
          <p:cNvPicPr/>
          <p:nvPr/>
        </p:nvPicPr>
        <p:blipFill>
          <a:blip r:embed="rId2"/>
          <a:stretch/>
        </p:blipFill>
        <p:spPr>
          <a:xfrm>
            <a:off x="5240160" y="1928880"/>
            <a:ext cx="2894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в древности слово “симметрия”употреблялось как “гармония”, “красота”. Действительно по гречески оно означает “соразмерность, пропорциональность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Опреде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природ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Shape 55" descr=""/>
          <p:cNvPicPr/>
          <p:nvPr/>
        </p:nvPicPr>
        <p:blipFill>
          <a:blip r:embed="rId1"/>
          <a:stretch/>
        </p:blipFill>
        <p:spPr>
          <a:xfrm>
            <a:off x="457200" y="1677960"/>
            <a:ext cx="2303640" cy="2343240"/>
          </a:xfrm>
          <a:prstGeom prst="rect">
            <a:avLst/>
          </a:prstGeom>
          <a:ln w="0">
            <a:noFill/>
          </a:ln>
        </p:spPr>
      </p:pic>
      <p:pic>
        <p:nvPicPr>
          <p:cNvPr id="370" name="Shape 56" descr=""/>
          <p:cNvPicPr/>
          <p:nvPr/>
        </p:nvPicPr>
        <p:blipFill>
          <a:blip r:embed="rId2"/>
          <a:stretch/>
        </p:blipFill>
        <p:spPr>
          <a:xfrm>
            <a:off x="3322800" y="1663560"/>
            <a:ext cx="1890720" cy="2527560"/>
          </a:xfrm>
          <a:prstGeom prst="rect">
            <a:avLst/>
          </a:prstGeom>
          <a:ln w="0">
            <a:noFill/>
          </a:ln>
        </p:spPr>
      </p:pic>
      <p:pic>
        <p:nvPicPr>
          <p:cNvPr id="371" name="Shape 57" descr=""/>
          <p:cNvPicPr/>
          <p:nvPr/>
        </p:nvPicPr>
        <p:blipFill>
          <a:blip r:embed="rId3"/>
          <a:stretch/>
        </p:blipFill>
        <p:spPr>
          <a:xfrm>
            <a:off x="6946920" y="1677960"/>
            <a:ext cx="1790640" cy="2454480"/>
          </a:xfrm>
          <a:prstGeom prst="rect">
            <a:avLst/>
          </a:prstGeom>
          <a:ln w="0">
            <a:noFill/>
          </a:ln>
        </p:spPr>
      </p:pic>
      <p:pic>
        <p:nvPicPr>
          <p:cNvPr id="372" name="Shape 58" descr=""/>
          <p:cNvPicPr/>
          <p:nvPr/>
        </p:nvPicPr>
        <p:blipFill>
          <a:blip r:embed="rId4"/>
          <a:stretch/>
        </p:blipFill>
        <p:spPr>
          <a:xfrm>
            <a:off x="985680" y="4478400"/>
            <a:ext cx="1473480" cy="1898640"/>
          </a:xfrm>
          <a:prstGeom prst="rect">
            <a:avLst/>
          </a:prstGeom>
          <a:ln w="0">
            <a:noFill/>
          </a:ln>
        </p:spPr>
      </p:pic>
      <p:pic>
        <p:nvPicPr>
          <p:cNvPr id="373" name="Shape 59" descr=""/>
          <p:cNvPicPr/>
          <p:nvPr/>
        </p:nvPicPr>
        <p:blipFill>
          <a:blip r:embed="rId5"/>
          <a:stretch/>
        </p:blipFill>
        <p:spPr>
          <a:xfrm>
            <a:off x="4913280" y="4255920"/>
            <a:ext cx="2033640" cy="21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архитектур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6" name="Shape 66" descr=""/>
          <p:cNvPicPr/>
          <p:nvPr/>
        </p:nvPicPr>
        <p:blipFill>
          <a:blip r:embed="rId1"/>
          <a:stretch/>
        </p:blipFill>
        <p:spPr>
          <a:xfrm>
            <a:off x="388800" y="3755880"/>
            <a:ext cx="3027600" cy="2730600"/>
          </a:xfrm>
          <a:prstGeom prst="rect">
            <a:avLst/>
          </a:prstGeom>
          <a:ln w="0">
            <a:noFill/>
          </a:ln>
        </p:spPr>
      </p:pic>
      <p:pic>
        <p:nvPicPr>
          <p:cNvPr id="377" name="Shape 67" descr=""/>
          <p:cNvPicPr/>
          <p:nvPr/>
        </p:nvPicPr>
        <p:blipFill>
          <a:blip r:embed="rId2"/>
          <a:stretch/>
        </p:blipFill>
        <p:spPr>
          <a:xfrm>
            <a:off x="5987880" y="3662280"/>
            <a:ext cx="2784600" cy="2916360"/>
          </a:xfrm>
          <a:prstGeom prst="rect">
            <a:avLst/>
          </a:prstGeom>
          <a:ln w="0">
            <a:noFill/>
          </a:ln>
        </p:spPr>
      </p:pic>
      <p:pic>
        <p:nvPicPr>
          <p:cNvPr id="378" name="Shape 68" descr=""/>
          <p:cNvPicPr/>
          <p:nvPr/>
        </p:nvPicPr>
        <p:blipFill>
          <a:blip r:embed="rId3"/>
          <a:stretch/>
        </p:blipFill>
        <p:spPr>
          <a:xfrm>
            <a:off x="3416400" y="1733400"/>
            <a:ext cx="255096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бы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Shape 75" descr=""/>
          <p:cNvPicPr/>
          <p:nvPr/>
        </p:nvPicPr>
        <p:blipFill>
          <a:blip r:embed="rId1"/>
          <a:stretch/>
        </p:blipFill>
        <p:spPr>
          <a:xfrm>
            <a:off x="6330960" y="1658880"/>
            <a:ext cx="2689200" cy="3187800"/>
          </a:xfrm>
          <a:prstGeom prst="rect">
            <a:avLst/>
          </a:prstGeom>
          <a:ln w="0">
            <a:noFill/>
          </a:ln>
        </p:spPr>
      </p:pic>
      <p:pic>
        <p:nvPicPr>
          <p:cNvPr id="382" name="Shape 76" descr=""/>
          <p:cNvPicPr/>
          <p:nvPr/>
        </p:nvPicPr>
        <p:blipFill>
          <a:blip r:embed="rId2"/>
          <a:stretch/>
        </p:blipFill>
        <p:spPr>
          <a:xfrm>
            <a:off x="220680" y="165888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3" name="Shape 77" descr=""/>
          <p:cNvPicPr/>
          <p:nvPr/>
        </p:nvPicPr>
        <p:blipFill>
          <a:blip r:embed="rId3"/>
          <a:stretch/>
        </p:blipFill>
        <p:spPr>
          <a:xfrm>
            <a:off x="3522600" y="3070080"/>
            <a:ext cx="251460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Палиндром - это абсолютное проявление симметрии в литерату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например “А роза упала на лапу Азора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литератур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Ж                                       200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Т                          6996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буквах и цифр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Ш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Л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слов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техни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2" name="Shape 102" descr=""/>
          <p:cNvPicPr/>
          <p:nvPr/>
        </p:nvPicPr>
        <p:blipFill>
          <a:blip r:embed="rId1"/>
          <a:stretch/>
        </p:blipFill>
        <p:spPr>
          <a:xfrm>
            <a:off x="1278000" y="1914480"/>
            <a:ext cx="3670200" cy="429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8:27:19Z</dcterms:created>
  <dc:creator>Siv518</dc:creator>
  <dc:description/>
  <dc:language>en-US</dc:language>
  <cp:lastModifiedBy>home</cp:lastModifiedBy>
  <dcterms:modified xsi:type="dcterms:W3CDTF">2015-03-26T17:04:25Z</dcterms:modified>
  <cp:revision>53</cp:revision>
  <dc:subject/>
  <dc:title>Составитель – Щалпегина И.В.</dc:title>
</cp:coreProperties>
</file>