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725-7327-44FF-B6F7-4A13576B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874-4B4A-4FEB-9F10-7FE0737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F73-59F0-475A-9790-93C80C6B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954-453E-4AED-8982-CC12128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37A-CADC-44D9-91D6-D68914FF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C658-D339-4FD8-A70E-10493BC4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68B-E0F5-4CEB-AF88-3BF9601D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B077-C9D6-4ECD-9ACF-A8C3028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A4C-8EBC-44D2-8DBC-90FBD9AD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A84-4957-43F8-B5C0-9769846C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E792-4C7C-422D-B9F3-BD74C317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9B1-0808-4C4E-8EC7-78026AFB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A4EF-BDE4-4805-A6FC-D940A1B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1190-CE21-4D49-94CE-DF1255E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9927-A01F-44ED-9F83-5DEF48C5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BDB6-9A4E-45C2-AB19-37777D89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F5CC-B08C-451C-A364-0CC2E6DD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A696-A176-4870-B8F9-8443F5FE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096B-6E51-48D4-814E-A648C3D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7D0A-2095-4FD3-B8E9-DA15998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BDD3-0C93-4218-9B82-EC452E5E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88AB-771C-42D8-96BE-D0D7139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48-819B-4FAC-BD25-D466251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F9A9-BB9A-48CF-8B43-4173C93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1550-9F18-4D25-8B48-65CC388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5121-4C00-4DE8-AFB2-E8AAB783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CF9E-E664-4169-B117-08C2EDAB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24A1-237A-439D-96CD-009D4E0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0A49-BF7B-4C57-B743-BAFCA5E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8D44-DB89-4175-8B00-4E20BC39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39D8-1AED-45AB-8085-F7133290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E1BC-6B84-486C-8F34-6D782C78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CD3C-E96B-485A-9AAC-E0BCFBA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D17-5B1A-49F0-A177-278E66F6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D80D-5619-4A58-A740-D609C8B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30FF-FE5C-4E43-897E-5E372B67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3F7F-EE8B-4494-9DFA-4CF8367D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8938-5BDD-4FEE-9B0F-235A63DC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7756-7587-4C39-B3C2-B35EB82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40DE-8030-484D-AA1F-D708D70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9B82-7E32-49CE-994B-71CD8F2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477E-AC60-42FA-B744-AEBE141D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A7A7F-FF8D-415C-9A6F-43F97D5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686-5425-43F1-8F0B-9DBE115B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09E-6F2E-4221-991C-CDF35C3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9E1-E7E8-45F9-A8C1-B7D3046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0C-EDDD-4151-BC48-F9E8409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BF2-FFE8-49DD-9828-F6F1618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45EA-452B-415F-AF1B-D52E08F81E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917-A27B-44F2-B1B8-A236C30D4C3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770-AAFB-4DF1-AB4E-CC2ABFF2D7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2D2-F513-48B7-BBBC-13465FC5759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" Target="slide13.xm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4"/>
          <p:cNvSpPr/>
          <p:nvPr/>
        </p:nvSpPr>
        <p:spPr>
          <a:xfrm>
            <a:off x="703440" y="476280"/>
            <a:ext cx="79293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Arkalyk state pedagogical Institute named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Y. Altyns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The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Prepar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hoibasov A. M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Checked by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Sarsenbaeva Z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Arkalyk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201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Логотип Ц"/>
          <p:cNvPicPr/>
          <p:nvPr/>
        </p:nvPicPr>
        <p:blipFill>
          <a:blip r:embed="rId1"/>
          <a:stretch/>
        </p:blipFill>
        <p:spPr>
          <a:xfrm>
            <a:off x="3564000" y="1413000"/>
            <a:ext cx="2020680" cy="116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3297240" y="1600200"/>
                <a:ext cx="362916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7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718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6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8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" name="AutoShape 36"/>
          <p:cNvSpPr/>
          <p:nvPr/>
        </p:nvSpPr>
        <p:spPr>
          <a:xfrm>
            <a:off x="152280" y="1747800"/>
            <a:ext cx="2286000" cy="33274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&gt;0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37"/>
              <p:cNvSpPr txBox="1"/>
              <p:nvPr/>
            </p:nvSpPr>
            <p:spPr>
              <a:xfrm>
                <a:off x="512640" y="4032360"/>
                <a:ext cx="1563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fraction erected in the degree of the numerator and denominator of the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5"/>
          <p:cNvSpPr/>
          <p:nvPr/>
        </p:nvSpPr>
        <p:spPr>
          <a:xfrm>
            <a:off x="1652040" y="54936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story of the number of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6" descr="ГБОУ города Москвы СОШ 2025 - Задачи по теме &quot;Диофантовы ура…"/>
          <p:cNvPicPr/>
          <p:nvPr/>
        </p:nvPicPr>
        <p:blipFill>
          <a:blip r:embed="rId1"/>
          <a:stretch/>
        </p:blipFill>
        <p:spPr>
          <a:xfrm>
            <a:off x="531720" y="1746360"/>
            <a:ext cx="3038400" cy="350496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9"/>
          <p:cNvSpPr/>
          <p:nvPr/>
        </p:nvSpPr>
        <p:spPr>
          <a:xfrm>
            <a:off x="4140360" y="22748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famous book " Arithmetic " Diophantus of Alexandria described the first natural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Chapter Ten Putting the Earth into Motion"/>
          <p:cNvPicPr/>
          <p:nvPr/>
        </p:nvPicPr>
        <p:blipFill>
          <a:blip r:embed="rId1"/>
          <a:stretch/>
        </p:blipFill>
        <p:spPr>
          <a:xfrm>
            <a:off x="539640" y="981000"/>
            <a:ext cx="4130640" cy="5058000"/>
          </a:xfrm>
          <a:prstGeom prst="rect">
            <a:avLst/>
          </a:prstGeom>
          <a:ln w="0">
            <a:noFill/>
          </a:ln>
        </p:spPr>
      </p:pic>
      <p:sp>
        <p:nvSpPr>
          <p:cNvPr id="756" name="Прямоугольник 7"/>
          <p:cNvSpPr/>
          <p:nvPr/>
        </p:nvSpPr>
        <p:spPr>
          <a:xfrm>
            <a:off x="5076720" y="220500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 Descartes in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geometry" ( 1637 )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d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ion of deg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Прямоугольник 10"/>
          <p:cNvSpPr/>
          <p:nvPr/>
        </p:nvSpPr>
        <p:spPr>
          <a:xfrm>
            <a:off x="5214600" y="3989520"/>
            <a:ext cx="11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Заголовок 1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376960" cy="1328760"/>
          </a:xfrm>
          <a:prstGeom prst="rect">
            <a:avLst/>
          </a:prstGeom>
          <a:ln w="0">
            <a:noFill/>
          </a:ln>
        </p:spPr>
      </p:pic>
      <p:sp>
        <p:nvSpPr>
          <p:cNvPr id="759" name="Содержимое 2"/>
          <p:cNvSpPr/>
          <p:nvPr/>
        </p:nvSpPr>
        <p:spPr>
          <a:xfrm>
            <a:off x="46188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llow thes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х∙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х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;          (а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;             (-За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ompare the expression to zer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(-6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1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(-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 5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-(- 4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Calculate the value of the express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1∙ 3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  (-1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∙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- (2 ∙ 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   1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∙ (-3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1" name=""/>
          <p:cNvGraphicFramePr/>
          <p:nvPr/>
        </p:nvGraphicFramePr>
        <p:xfrm>
          <a:off x="380880" y="1600200"/>
          <a:ext cx="8458200" cy="4505400"/>
        </p:xfrm>
        <a:graphic>
          <a:graphicData uri="http://schemas.openxmlformats.org/drawingml/2006/table">
            <a:tbl>
              <a:tblPr/>
              <a:tblGrid>
                <a:gridCol w="4145040"/>
                <a:gridCol w="4313160"/>
              </a:tblGrid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2ху∙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 - 5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cd5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3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-0,6а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∙ (-8)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 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a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-5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∙ 2ас  ∙  (-0,6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  6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х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х ∙ 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 -9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en-US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  4,8а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)   2х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32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762" name="Стрелка вправо 5"/>
          <p:cNvSpPr/>
          <p:nvPr/>
        </p:nvSpPr>
        <p:spPr>
          <a:xfrm>
            <a:off x="7391520" y="6019920"/>
            <a:ext cx="151128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Заголовок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686800" cy="1498320"/>
          </a:xfrm>
          <a:prstGeom prst="rect">
            <a:avLst/>
          </a:prstGeom>
          <a:ln w="0">
            <a:noFill/>
          </a:ln>
        </p:spPr>
      </p:pic>
      <p:sp>
        <p:nvSpPr>
          <p:cNvPr id="764" name="Содержимое 2"/>
          <p:cNvSpPr/>
          <p:nvPr/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1, 4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2,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3,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4,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(5, 2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Объект 5"/>
              <p:cNvSpPr txBox="1"/>
              <p:nvPr/>
            </p:nvSpPr>
            <p:spPr>
              <a:xfrm>
                <a:off x="847800" y="1989000"/>
                <a:ext cx="6937200" cy="36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7" name="Прямоугольник 7"/>
          <p:cNvSpPr/>
          <p:nvPr/>
        </p:nvSpPr>
        <p:spPr>
          <a:xfrm>
            <a:off x="2291400" y="47628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al p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AutoShape 2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193240" cy="1500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img002"/>
          <p:cNvPicPr/>
          <p:nvPr/>
        </p:nvPicPr>
        <p:blipFill>
          <a:blip r:embed="rId2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8"/>
          <p:cNvSpPr/>
          <p:nvPr/>
        </p:nvSpPr>
        <p:spPr>
          <a:xfrm>
            <a:off x="826920" y="1989000"/>
            <a:ext cx="769320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are without performing calculations. Find the correct inequalities. From their respective letters make up the name of the architect , the project is the building of the Bolshoi Theater in Moscow was built in 1825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10" descr="img002"/>
          <p:cNvPicPr/>
          <p:nvPr/>
        </p:nvPicPr>
        <p:blipFill>
          <a:blip r:embed="rId3"/>
          <a:stretch/>
        </p:blipFill>
        <p:spPr>
          <a:xfrm>
            <a:off x="6480" y="3429000"/>
            <a:ext cx="2460600" cy="19699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2" descr=""/>
          <p:cNvPicPr/>
          <p:nvPr/>
        </p:nvPicPr>
        <p:blipFill>
          <a:blip r:embed="rId4"/>
          <a:stretch/>
        </p:blipFill>
        <p:spPr>
          <a:xfrm>
            <a:off x="2232000" y="3429000"/>
            <a:ext cx="3046320" cy="19699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3" descr="БТ 2"/>
          <p:cNvPicPr/>
          <p:nvPr/>
        </p:nvPicPr>
        <p:blipFill>
          <a:blip r:embed="rId5"/>
          <a:stretch/>
        </p:blipFill>
        <p:spPr>
          <a:xfrm>
            <a:off x="5003640" y="3349800"/>
            <a:ext cx="324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AutoShape 2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8113680" cy="135864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755640" y="242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shows a circle, if the shaded portion shows a specified number . A record in the form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22" descr=""/>
          <p:cNvPicPr/>
          <p:nvPr/>
        </p:nvPicPr>
        <p:blipFill>
          <a:blip r:embed="rId2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1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0" descr=""/>
          <p:cNvPicPr/>
          <p:nvPr/>
        </p:nvPicPr>
        <p:blipFill>
          <a:blip r:embed="rId4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9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5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69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76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0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Таблица 1" descr=""/>
          <p:cNvPicPr/>
          <p:nvPr/>
        </p:nvPicPr>
        <p:blipFill>
          <a:blip r:embed="rId1"/>
          <a:stretch/>
        </p:blipFill>
        <p:spPr>
          <a:xfrm>
            <a:off x="609480" y="1335240"/>
            <a:ext cx="8077320" cy="4370400"/>
          </a:xfrm>
          <a:prstGeom prst="rect">
            <a:avLst/>
          </a:prstGeom>
          <a:ln w="0">
            <a:noFill/>
          </a:ln>
        </p:spPr>
      </p:pic>
      <p:pic>
        <p:nvPicPr>
          <p:cNvPr id="792" name="Прямоугольник 2" descr=""/>
          <p:cNvPicPr/>
          <p:nvPr/>
        </p:nvPicPr>
        <p:blipFill>
          <a:blip r:embed="rId2"/>
          <a:stretch/>
        </p:blipFill>
        <p:spPr>
          <a:xfrm>
            <a:off x="3187800" y="-36360"/>
            <a:ext cx="25477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1908000" y="1771560"/>
            <a:ext cx="60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 People unfamiliar with algebra can not imagine the wonderful things that can be achieved with the help of ... called science.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 Leibn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Содержимое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5681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Решив математический ребус, вы прочитаете девиз урока - Фото 1279/3"/>
          <p:cNvPicPr/>
          <p:nvPr/>
        </p:nvPicPr>
        <p:blipFill>
          <a:blip r:embed="rId2"/>
          <a:stretch/>
        </p:blipFill>
        <p:spPr>
          <a:xfrm>
            <a:off x="500040" y="274968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3" descr="Программа математического кружка 6 класс - Лучшая библиотек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2786040"/>
            <a:ext cx="404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585720" y="401760"/>
            <a:ext cx="8058240" cy="1360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351"/>
          <p:cNvGrpSpPr/>
          <p:nvPr/>
        </p:nvGrpSpPr>
        <p:grpSpPr>
          <a:xfrm>
            <a:off x="568440" y="2352600"/>
            <a:ext cx="3364560" cy="4266360"/>
            <a:chOff x="568440" y="2352600"/>
            <a:chExt cx="3364560" cy="4266360"/>
          </a:xfrm>
        </p:grpSpPr>
        <p:grpSp>
          <p:nvGrpSpPr>
            <p:cNvPr id="219" name="Group 346"/>
            <p:cNvGrpSpPr/>
            <p:nvPr/>
          </p:nvGrpSpPr>
          <p:grpSpPr>
            <a:xfrm>
              <a:off x="568440" y="2352600"/>
              <a:ext cx="3364560" cy="4266360"/>
              <a:chOff x="568440" y="2352600"/>
              <a:chExt cx="3364560" cy="4266360"/>
            </a:xfrm>
          </p:grpSpPr>
          <p:grpSp>
            <p:nvGrpSpPr>
              <p:cNvPr id="220" name="Group 204"/>
              <p:cNvGrpSpPr/>
              <p:nvPr/>
            </p:nvGrpSpPr>
            <p:grpSpPr>
              <a:xfrm>
                <a:off x="568440" y="2352600"/>
                <a:ext cx="3364560" cy="4266360"/>
                <a:chOff x="568440" y="2352600"/>
                <a:chExt cx="3364560" cy="4266360"/>
              </a:xfrm>
            </p:grpSpPr>
            <p:sp>
              <p:nvSpPr>
                <p:cNvPr id="221" name="Rectangle 4"/>
                <p:cNvSpPr/>
                <p:nvPr/>
              </p:nvSpPr>
              <p:spPr>
                <a:xfrm>
                  <a:off x="626040" y="2354040"/>
                  <a:ext cx="3249000" cy="200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5"/>
                <p:cNvSpPr/>
                <p:nvPr/>
              </p:nvSpPr>
              <p:spPr>
                <a:xfrm>
                  <a:off x="3871440" y="2352600"/>
                  <a:ext cx="5760" cy="20070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7000"/>
                    <a:gd name="textAreaBottom" fmla="*/ 2007360 h 2007000"/>
                  </a:gdLst>
                  <a:ahLst/>
                  <a:rect l="textAreaLeft" t="textAreaTop" r="textAreaRight" b="textAreaBottom"/>
                  <a:pathLst>
                    <a:path w="6" h="2165">
                      <a:moveTo>
                        <a:pt x="3" y="5"/>
                      </a:moveTo>
                      <a:lnTo>
                        <a:pt x="0" y="2"/>
                      </a:lnTo>
                      <a:lnTo>
                        <a:pt x="0" y="2165"/>
                      </a:lnTo>
                      <a:lnTo>
                        <a:pt x="6" y="216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6"/>
                <p:cNvSpPr/>
                <p:nvPr/>
              </p:nvSpPr>
              <p:spPr>
                <a:xfrm>
                  <a:off x="623880" y="2352600"/>
                  <a:ext cx="3251160" cy="324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262" h="5">
                      <a:moveTo>
                        <a:pt x="6" y="2"/>
                      </a:moveTo>
                      <a:lnTo>
                        <a:pt x="4" y="5"/>
                      </a:lnTo>
                      <a:lnTo>
                        <a:pt x="3262" y="5"/>
                      </a:lnTo>
                      <a:lnTo>
                        <a:pt x="3262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7"/>
                <p:cNvSpPr/>
                <p:nvPr/>
              </p:nvSpPr>
              <p:spPr>
                <a:xfrm>
                  <a:off x="623880" y="2354040"/>
                  <a:ext cx="5760" cy="20091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09160"/>
                    <a:gd name="textAreaBottom" fmla="*/ 2009520 h 2009160"/>
                  </a:gdLst>
                  <a:ahLst/>
                  <a:rect l="textAreaLeft" t="textAreaTop" r="textAreaRight" b="textAreaBottom"/>
                  <a:pathLst>
                    <a:path w="6" h="2166">
                      <a:moveTo>
                        <a:pt x="4" y="2160"/>
                      </a:moveTo>
                      <a:lnTo>
                        <a:pt x="6" y="216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163"/>
                      </a:lnTo>
                      <a:lnTo>
                        <a:pt x="4" y="2166"/>
                      </a:lnTo>
                      <a:lnTo>
                        <a:pt x="0" y="2163"/>
                      </a:lnTo>
                      <a:lnTo>
                        <a:pt x="0" y="2166"/>
                      </a:lnTo>
                      <a:lnTo>
                        <a:pt x="4" y="2166"/>
                      </a:lnTo>
                      <a:lnTo>
                        <a:pt x="4" y="2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8"/>
                <p:cNvSpPr/>
                <p:nvPr/>
              </p:nvSpPr>
              <p:spPr>
                <a:xfrm>
                  <a:off x="626040" y="4357800"/>
                  <a:ext cx="3251160" cy="5400"/>
                </a:xfrm>
                <a:custGeom>
                  <a:avLst/>
                  <a:gdLst>
                    <a:gd name="textAreaLeft" fmla="*/ 0 w 3251160"/>
                    <a:gd name="textAreaRight" fmla="*/ 3251520 w 32511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261" h="6">
                      <a:moveTo>
                        <a:pt x="3255" y="3"/>
                      </a:moveTo>
                      <a:lnTo>
                        <a:pt x="32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258" y="6"/>
                      </a:lnTo>
                      <a:lnTo>
                        <a:pt x="3261" y="3"/>
                      </a:lnTo>
                      <a:lnTo>
                        <a:pt x="3258" y="6"/>
                      </a:lnTo>
                      <a:lnTo>
                        <a:pt x="3261" y="6"/>
                      </a:lnTo>
                      <a:lnTo>
                        <a:pt x="3261" y="3"/>
                      </a:lnTo>
                      <a:lnTo>
                        <a:pt x="325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9"/>
                <p:cNvSpPr/>
                <p:nvPr/>
              </p:nvSpPr>
              <p:spPr>
                <a:xfrm>
                  <a:off x="673560" y="2385720"/>
                  <a:ext cx="3155760" cy="20383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"/>
                <p:cNvSpPr/>
                <p:nvPr/>
              </p:nvSpPr>
              <p:spPr>
                <a:xfrm>
                  <a:off x="3825360" y="2383920"/>
                  <a:ext cx="5760" cy="20401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0120"/>
                    <a:gd name="textAreaBottom" fmla="*/ 2040480 h 2040120"/>
                  </a:gdLst>
                  <a:ahLst/>
                  <a:rect l="textAreaLeft" t="textAreaTop" r="textAreaRight" b="textAreaBottom"/>
                  <a:pathLst>
                    <a:path w="6" h="2199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0" y="2199"/>
                      </a:lnTo>
                      <a:lnTo>
                        <a:pt x="6" y="2199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1"/>
                <p:cNvSpPr/>
                <p:nvPr/>
              </p:nvSpPr>
              <p:spPr>
                <a:xfrm>
                  <a:off x="669960" y="2383920"/>
                  <a:ext cx="3159360" cy="5400"/>
                </a:xfrm>
                <a:custGeom>
                  <a:avLst/>
                  <a:gdLst>
                    <a:gd name="textAreaLeft" fmla="*/ 0 w 3159360"/>
                    <a:gd name="textAreaRight" fmla="*/ 3159720 w 31593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4">
                      <a:moveTo>
                        <a:pt x="5" y="2"/>
                      </a:moveTo>
                      <a:lnTo>
                        <a:pt x="3" y="4"/>
                      </a:lnTo>
                      <a:lnTo>
                        <a:pt x="3169" y="4"/>
                      </a:lnTo>
                      <a:lnTo>
                        <a:pt x="316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2"/>
                <p:cNvSpPr/>
                <p:nvPr/>
              </p:nvSpPr>
              <p:spPr>
                <a:xfrm>
                  <a:off x="669960" y="2385720"/>
                  <a:ext cx="5760" cy="20422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42280"/>
                    <a:gd name="textAreaBottom" fmla="*/ 2042640 h 2042280"/>
                  </a:gdLst>
                  <a:ahLst/>
                  <a:rect l="textAreaLeft" t="textAreaTop" r="textAreaRight" b="textAreaBottom"/>
                  <a:pathLst>
                    <a:path w="5" h="2200">
                      <a:moveTo>
                        <a:pt x="3" y="2194"/>
                      </a:moveTo>
                      <a:lnTo>
                        <a:pt x="5" y="2197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197"/>
                      </a:lnTo>
                      <a:lnTo>
                        <a:pt x="3" y="2200"/>
                      </a:lnTo>
                      <a:lnTo>
                        <a:pt x="0" y="2197"/>
                      </a:lnTo>
                      <a:lnTo>
                        <a:pt x="0" y="2200"/>
                      </a:lnTo>
                      <a:lnTo>
                        <a:pt x="3" y="2200"/>
                      </a:lnTo>
                      <a:lnTo>
                        <a:pt x="3" y="2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3"/>
                <p:cNvSpPr/>
                <p:nvPr/>
              </p:nvSpPr>
              <p:spPr>
                <a:xfrm>
                  <a:off x="673560" y="4422600"/>
                  <a:ext cx="3157560" cy="5400"/>
                </a:xfrm>
                <a:custGeom>
                  <a:avLst/>
                  <a:gdLst>
                    <a:gd name="textAreaLeft" fmla="*/ 0 w 3157560"/>
                    <a:gd name="textAreaRight" fmla="*/ 3157920 w 31575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169" h="6">
                      <a:moveTo>
                        <a:pt x="3163" y="3"/>
                      </a:moveTo>
                      <a:lnTo>
                        <a:pt x="316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166" y="6"/>
                      </a:lnTo>
                      <a:lnTo>
                        <a:pt x="3169" y="3"/>
                      </a:lnTo>
                      <a:lnTo>
                        <a:pt x="3166" y="6"/>
                      </a:lnTo>
                      <a:lnTo>
                        <a:pt x="3169" y="6"/>
                      </a:lnTo>
                      <a:lnTo>
                        <a:pt x="3169" y="3"/>
                      </a:lnTo>
                      <a:lnTo>
                        <a:pt x="316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4"/>
                <p:cNvSpPr/>
                <p:nvPr/>
              </p:nvSpPr>
              <p:spPr>
                <a:xfrm>
                  <a:off x="578160" y="4359600"/>
                  <a:ext cx="3344760" cy="107640"/>
                </a:xfrm>
                <a:prstGeom prst="rect">
                  <a:avLst/>
                </a:prstGeom>
                <a:solidFill>
                  <a:srgbClr val="d1a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5"/>
                <p:cNvSpPr/>
                <p:nvPr/>
              </p:nvSpPr>
              <p:spPr>
                <a:xfrm>
                  <a:off x="3913200" y="4352040"/>
                  <a:ext cx="19800" cy="1152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11" y="20"/>
                      </a:moveTo>
                      <a:lnTo>
                        <a:pt x="0" y="10"/>
                      </a:lnTo>
                      <a:lnTo>
                        <a:pt x="0" y="125"/>
                      </a:lnTo>
                      <a:lnTo>
                        <a:pt x="20" y="125"/>
                      </a:lnTo>
                      <a:lnTo>
                        <a:pt x="20" y="10"/>
                      </a:lnTo>
                      <a:lnTo>
                        <a:pt x="11" y="0"/>
                      </a:lnTo>
                      <a:lnTo>
                        <a:pt x="20" y="10"/>
                      </a:lnTo>
                      <a:lnTo>
                        <a:pt x="20" y="0"/>
                      </a:lnTo>
                      <a:lnTo>
                        <a:pt x="11" y="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6"/>
                <p:cNvSpPr/>
                <p:nvPr/>
              </p:nvSpPr>
              <p:spPr>
                <a:xfrm>
                  <a:off x="568440" y="435204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20">
                      <a:moveTo>
                        <a:pt x="20" y="10"/>
                      </a:moveTo>
                      <a:lnTo>
                        <a:pt x="9" y="20"/>
                      </a:lnTo>
                      <a:lnTo>
                        <a:pt x="3367" y="20"/>
                      </a:lnTo>
                      <a:lnTo>
                        <a:pt x="3367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7"/>
                <p:cNvSpPr/>
                <p:nvPr/>
              </p:nvSpPr>
              <p:spPr>
                <a:xfrm>
                  <a:off x="568440" y="4359600"/>
                  <a:ext cx="19800" cy="1166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9" y="106"/>
                      </a:moveTo>
                      <a:lnTo>
                        <a:pt x="20" y="115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9" y="125"/>
                      </a:lnTo>
                      <a:lnTo>
                        <a:pt x="0" y="115"/>
                      </a:lnTo>
                      <a:lnTo>
                        <a:pt x="0" y="125"/>
                      </a:lnTo>
                      <a:lnTo>
                        <a:pt x="9" y="125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8"/>
                <p:cNvSpPr/>
                <p:nvPr/>
              </p:nvSpPr>
              <p:spPr>
                <a:xfrm>
                  <a:off x="578160" y="4457880"/>
                  <a:ext cx="3354840" cy="18360"/>
                </a:xfrm>
                <a:custGeom>
                  <a:avLst/>
                  <a:gdLst>
                    <a:gd name="textAreaLeft" fmla="*/ 0 w 3354840"/>
                    <a:gd name="textAreaRight" fmla="*/ 3355200 w 3354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367" h="19">
                      <a:moveTo>
                        <a:pt x="3347" y="9"/>
                      </a:moveTo>
                      <a:lnTo>
                        <a:pt x="335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358" y="19"/>
                      </a:lnTo>
                      <a:lnTo>
                        <a:pt x="3367" y="9"/>
                      </a:lnTo>
                      <a:lnTo>
                        <a:pt x="3358" y="19"/>
                      </a:lnTo>
                      <a:lnTo>
                        <a:pt x="3367" y="19"/>
                      </a:lnTo>
                      <a:lnTo>
                        <a:pt x="3367" y="9"/>
                      </a:lnTo>
                      <a:lnTo>
                        <a:pt x="33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9"/>
                <p:cNvSpPr/>
                <p:nvPr/>
              </p:nvSpPr>
              <p:spPr>
                <a:xfrm>
                  <a:off x="2370240" y="3198600"/>
                  <a:ext cx="408600" cy="565200"/>
                </a:xfrm>
                <a:custGeom>
                  <a:avLst/>
                  <a:gdLst>
                    <a:gd name="textAreaLeft" fmla="*/ 0 w 408600"/>
                    <a:gd name="textAreaRight" fmla="*/ 408960 w 408600"/>
                    <a:gd name="textAreaTop" fmla="*/ 0 h 565200"/>
                    <a:gd name="textAreaBottom" fmla="*/ 565560 h 565200"/>
                  </a:gdLst>
                  <a:ahLst/>
                  <a:rect l="textAreaLeft" t="textAreaTop" r="textAreaRight" b="textAreaBottom"/>
                  <a:pathLst>
                    <a:path w="409" h="612">
                      <a:moveTo>
                        <a:pt x="371" y="447"/>
                      </a:moveTo>
                      <a:lnTo>
                        <a:pt x="378" y="414"/>
                      </a:lnTo>
                      <a:lnTo>
                        <a:pt x="385" y="382"/>
                      </a:lnTo>
                      <a:lnTo>
                        <a:pt x="391" y="350"/>
                      </a:lnTo>
                      <a:lnTo>
                        <a:pt x="395" y="322"/>
                      </a:lnTo>
                      <a:lnTo>
                        <a:pt x="400" y="295"/>
                      </a:lnTo>
                      <a:lnTo>
                        <a:pt x="402" y="269"/>
                      </a:lnTo>
                      <a:lnTo>
                        <a:pt x="404" y="244"/>
                      </a:lnTo>
                      <a:lnTo>
                        <a:pt x="407" y="221"/>
                      </a:lnTo>
                      <a:lnTo>
                        <a:pt x="408" y="200"/>
                      </a:lnTo>
                      <a:lnTo>
                        <a:pt x="409" y="180"/>
                      </a:lnTo>
                      <a:lnTo>
                        <a:pt x="409" y="160"/>
                      </a:lnTo>
                      <a:lnTo>
                        <a:pt x="408" y="143"/>
                      </a:lnTo>
                      <a:lnTo>
                        <a:pt x="407" y="127"/>
                      </a:lnTo>
                      <a:lnTo>
                        <a:pt x="407" y="112"/>
                      </a:lnTo>
                      <a:lnTo>
                        <a:pt x="404" y="98"/>
                      </a:lnTo>
                      <a:lnTo>
                        <a:pt x="402" y="84"/>
                      </a:lnTo>
                      <a:lnTo>
                        <a:pt x="401" y="73"/>
                      </a:lnTo>
                      <a:lnTo>
                        <a:pt x="399" y="62"/>
                      </a:lnTo>
                      <a:lnTo>
                        <a:pt x="395" y="52"/>
                      </a:lnTo>
                      <a:lnTo>
                        <a:pt x="393" y="44"/>
                      </a:lnTo>
                      <a:lnTo>
                        <a:pt x="391" y="36"/>
                      </a:lnTo>
                      <a:lnTo>
                        <a:pt x="388" y="29"/>
                      </a:lnTo>
                      <a:lnTo>
                        <a:pt x="386" y="23"/>
                      </a:lnTo>
                      <a:lnTo>
                        <a:pt x="383" y="18"/>
                      </a:lnTo>
                      <a:lnTo>
                        <a:pt x="380" y="13"/>
                      </a:lnTo>
                      <a:lnTo>
                        <a:pt x="378" y="9"/>
                      </a:lnTo>
                      <a:lnTo>
                        <a:pt x="376" y="6"/>
                      </a:lnTo>
                      <a:lnTo>
                        <a:pt x="374" y="5"/>
                      </a:lnTo>
                      <a:lnTo>
                        <a:pt x="372" y="3"/>
                      </a:lnTo>
                      <a:lnTo>
                        <a:pt x="372" y="1"/>
                      </a:lnTo>
                      <a:lnTo>
                        <a:pt x="371" y="1"/>
                      </a:lnTo>
                      <a:lnTo>
                        <a:pt x="371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1" y="448"/>
                      </a:lnTo>
                      <a:lnTo>
                        <a:pt x="3" y="452"/>
                      </a:lnTo>
                      <a:lnTo>
                        <a:pt x="7" y="456"/>
                      </a:lnTo>
                      <a:lnTo>
                        <a:pt x="13" y="462"/>
                      </a:lnTo>
                      <a:lnTo>
                        <a:pt x="18" y="470"/>
                      </a:lnTo>
                      <a:lnTo>
                        <a:pt x="26" y="479"/>
                      </a:lnTo>
                      <a:lnTo>
                        <a:pt x="36" y="489"/>
                      </a:lnTo>
                      <a:lnTo>
                        <a:pt x="46" y="499"/>
                      </a:lnTo>
                      <a:lnTo>
                        <a:pt x="56" y="511"/>
                      </a:lnTo>
                      <a:lnTo>
                        <a:pt x="68" y="522"/>
                      </a:lnTo>
                      <a:lnTo>
                        <a:pt x="82" y="534"/>
                      </a:lnTo>
                      <a:lnTo>
                        <a:pt x="94" y="545"/>
                      </a:lnTo>
                      <a:lnTo>
                        <a:pt x="108" y="557"/>
                      </a:lnTo>
                      <a:lnTo>
                        <a:pt x="123" y="567"/>
                      </a:lnTo>
                      <a:lnTo>
                        <a:pt x="138" y="577"/>
                      </a:lnTo>
                      <a:lnTo>
                        <a:pt x="153" y="587"/>
                      </a:lnTo>
                      <a:lnTo>
                        <a:pt x="169" y="595"/>
                      </a:lnTo>
                      <a:lnTo>
                        <a:pt x="184" y="602"/>
                      </a:lnTo>
                      <a:lnTo>
                        <a:pt x="200" y="607"/>
                      </a:lnTo>
                      <a:lnTo>
                        <a:pt x="215" y="611"/>
                      </a:lnTo>
                      <a:lnTo>
                        <a:pt x="232" y="612"/>
                      </a:lnTo>
                      <a:lnTo>
                        <a:pt x="247" y="612"/>
                      </a:lnTo>
                      <a:lnTo>
                        <a:pt x="262" y="610"/>
                      </a:lnTo>
                      <a:lnTo>
                        <a:pt x="277" y="604"/>
                      </a:lnTo>
                      <a:lnTo>
                        <a:pt x="291" y="596"/>
                      </a:lnTo>
                      <a:lnTo>
                        <a:pt x="305" y="585"/>
                      </a:lnTo>
                      <a:lnTo>
                        <a:pt x="318" y="572"/>
                      </a:lnTo>
                      <a:lnTo>
                        <a:pt x="331" y="554"/>
                      </a:lnTo>
                      <a:lnTo>
                        <a:pt x="342" y="534"/>
                      </a:lnTo>
                      <a:lnTo>
                        <a:pt x="353" y="508"/>
                      </a:lnTo>
                      <a:lnTo>
                        <a:pt x="362" y="481"/>
                      </a:lnTo>
                      <a:lnTo>
                        <a:pt x="371" y="4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20"/>
                <p:cNvSpPr/>
                <p:nvPr/>
              </p:nvSpPr>
              <p:spPr>
                <a:xfrm>
                  <a:off x="2736720" y="3194640"/>
                  <a:ext cx="43560" cy="41868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418680"/>
                    <a:gd name="textAreaBottom" fmla="*/ 419040 h 418680"/>
                  </a:gdLst>
                  <a:ahLst/>
                  <a:rect l="textAreaLeft" t="textAreaTop" r="textAreaRight" b="textAreaBottom"/>
                  <a:pathLst>
                    <a:path w="43" h="451">
                      <a:moveTo>
                        <a:pt x="3" y="7"/>
                      </a:move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8" y="15"/>
                      </a:lnTo>
                      <a:lnTo>
                        <a:pt x="10" y="18"/>
                      </a:lnTo>
                      <a:lnTo>
                        <a:pt x="12" y="23"/>
                      </a:lnTo>
                      <a:lnTo>
                        <a:pt x="15" y="27"/>
                      </a:lnTo>
                      <a:lnTo>
                        <a:pt x="17" y="33"/>
                      </a:lnTo>
                      <a:lnTo>
                        <a:pt x="19" y="40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27" y="67"/>
                      </a:lnTo>
                      <a:lnTo>
                        <a:pt x="29" y="77"/>
                      </a:lnTo>
                      <a:lnTo>
                        <a:pt x="32" y="88"/>
                      </a:lnTo>
                      <a:lnTo>
                        <a:pt x="33" y="101"/>
                      </a:lnTo>
                      <a:lnTo>
                        <a:pt x="35" y="115"/>
                      </a:lnTo>
                      <a:lnTo>
                        <a:pt x="36" y="130"/>
                      </a:lnTo>
                      <a:lnTo>
                        <a:pt x="36" y="146"/>
                      </a:lnTo>
                      <a:lnTo>
                        <a:pt x="38" y="163"/>
                      </a:lnTo>
                      <a:lnTo>
                        <a:pt x="38" y="183"/>
                      </a:lnTo>
                      <a:lnTo>
                        <a:pt x="36" y="203"/>
                      </a:lnTo>
                      <a:lnTo>
                        <a:pt x="35" y="224"/>
                      </a:lnTo>
                      <a:lnTo>
                        <a:pt x="34" y="246"/>
                      </a:lnTo>
                      <a:lnTo>
                        <a:pt x="32" y="272"/>
                      </a:lnTo>
                      <a:lnTo>
                        <a:pt x="28" y="297"/>
                      </a:lnTo>
                      <a:lnTo>
                        <a:pt x="24" y="325"/>
                      </a:lnTo>
                      <a:lnTo>
                        <a:pt x="19" y="353"/>
                      </a:lnTo>
                      <a:lnTo>
                        <a:pt x="13" y="383"/>
                      </a:lnTo>
                      <a:lnTo>
                        <a:pt x="6" y="416"/>
                      </a:lnTo>
                      <a:lnTo>
                        <a:pt x="0" y="449"/>
                      </a:lnTo>
                      <a:lnTo>
                        <a:pt x="6" y="451"/>
                      </a:lnTo>
                      <a:lnTo>
                        <a:pt x="13" y="417"/>
                      </a:lnTo>
                      <a:lnTo>
                        <a:pt x="20" y="385"/>
                      </a:lnTo>
                      <a:lnTo>
                        <a:pt x="26" y="355"/>
                      </a:lnTo>
                      <a:lnTo>
                        <a:pt x="31" y="325"/>
                      </a:lnTo>
                      <a:lnTo>
                        <a:pt x="34" y="298"/>
                      </a:lnTo>
                      <a:lnTo>
                        <a:pt x="38" y="272"/>
                      </a:lnTo>
                      <a:lnTo>
                        <a:pt x="40" y="247"/>
                      </a:lnTo>
                      <a:lnTo>
                        <a:pt x="42" y="224"/>
                      </a:lnTo>
                      <a:lnTo>
                        <a:pt x="43" y="203"/>
                      </a:lnTo>
                      <a:lnTo>
                        <a:pt x="43" y="183"/>
                      </a:lnTo>
                      <a:lnTo>
                        <a:pt x="43" y="163"/>
                      </a:lnTo>
                      <a:lnTo>
                        <a:pt x="43" y="146"/>
                      </a:lnTo>
                      <a:lnTo>
                        <a:pt x="42" y="130"/>
                      </a:lnTo>
                      <a:lnTo>
                        <a:pt x="41" y="114"/>
                      </a:lnTo>
                      <a:lnTo>
                        <a:pt x="40" y="100"/>
                      </a:lnTo>
                      <a:lnTo>
                        <a:pt x="38" y="87"/>
                      </a:lnTo>
                      <a:lnTo>
                        <a:pt x="36" y="76"/>
                      </a:lnTo>
                      <a:lnTo>
                        <a:pt x="34" y="64"/>
                      </a:lnTo>
                      <a:lnTo>
                        <a:pt x="31" y="55"/>
                      </a:lnTo>
                      <a:lnTo>
                        <a:pt x="28" y="46"/>
                      </a:lnTo>
                      <a:lnTo>
                        <a:pt x="26" y="38"/>
                      </a:lnTo>
                      <a:lnTo>
                        <a:pt x="23" y="31"/>
                      </a:lnTo>
                      <a:lnTo>
                        <a:pt x="20" y="25"/>
                      </a:lnTo>
                      <a:lnTo>
                        <a:pt x="18" y="19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1" y="8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21"/>
                <p:cNvSpPr/>
                <p:nvPr/>
              </p:nvSpPr>
              <p:spPr>
                <a:xfrm>
                  <a:off x="2368440" y="3194640"/>
                  <a:ext cx="372240" cy="54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374" h="7">
                      <a:moveTo>
                        <a:pt x="6" y="3"/>
                      </a:moveTo>
                      <a:lnTo>
                        <a:pt x="3" y="7"/>
                      </a:lnTo>
                      <a:lnTo>
                        <a:pt x="374" y="7"/>
                      </a:lnTo>
                      <a:lnTo>
                        <a:pt x="374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22"/>
                <p:cNvSpPr/>
                <p:nvPr/>
              </p:nvSpPr>
              <p:spPr>
                <a:xfrm>
                  <a:off x="2368440" y="3198600"/>
                  <a:ext cx="5760" cy="415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15080"/>
                    <a:gd name="textAreaBottom" fmla="*/ 415440 h 415080"/>
                  </a:gdLst>
                  <a:ahLst/>
                  <a:rect l="textAreaLeft" t="textAreaTop" r="textAreaRight" b="textAreaBottom"/>
                  <a:pathLst>
                    <a:path w="6" h="450">
                      <a:moveTo>
                        <a:pt x="5" y="446"/>
                      </a:moveTo>
                      <a:lnTo>
                        <a:pt x="6" y="44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0"/>
                      </a:lnTo>
                      <a:lnTo>
                        <a:pt x="0" y="447"/>
                      </a:lnTo>
                      <a:lnTo>
                        <a:pt x="0" y="448"/>
                      </a:lnTo>
                      <a:lnTo>
                        <a:pt x="0" y="450"/>
                      </a:lnTo>
                      <a:lnTo>
                        <a:pt x="5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23"/>
                <p:cNvSpPr/>
                <p:nvPr/>
              </p:nvSpPr>
              <p:spPr>
                <a:xfrm>
                  <a:off x="2368440" y="3611880"/>
                  <a:ext cx="376560" cy="155520"/>
                </a:xfrm>
                <a:custGeom>
                  <a:avLst/>
                  <a:gdLst>
                    <a:gd name="textAreaLeft" fmla="*/ 0 w 376560"/>
                    <a:gd name="textAreaRight" fmla="*/ 376920 w 376560"/>
                    <a:gd name="textAreaTop" fmla="*/ 0 h 155520"/>
                    <a:gd name="textAreaBottom" fmla="*/ 155880 h 155520"/>
                  </a:gdLst>
                  <a:ahLst/>
                  <a:rect l="textAreaLeft" t="textAreaTop" r="textAreaRight" b="textAreaBottom"/>
                  <a:pathLst>
                    <a:path w="377" h="169">
                      <a:moveTo>
                        <a:pt x="371" y="0"/>
                      </a:moveTo>
                      <a:lnTo>
                        <a:pt x="371" y="0"/>
                      </a:lnTo>
                      <a:lnTo>
                        <a:pt x="361" y="33"/>
                      </a:lnTo>
                      <a:lnTo>
                        <a:pt x="352" y="62"/>
                      </a:lnTo>
                      <a:lnTo>
                        <a:pt x="342" y="85"/>
                      </a:lnTo>
                      <a:lnTo>
                        <a:pt x="330" y="106"/>
                      </a:lnTo>
                      <a:lnTo>
                        <a:pt x="319" y="123"/>
                      </a:lnTo>
                      <a:lnTo>
                        <a:pt x="306" y="137"/>
                      </a:lnTo>
                      <a:lnTo>
                        <a:pt x="292" y="148"/>
                      </a:lnTo>
                      <a:lnTo>
                        <a:pt x="278" y="156"/>
                      </a:lnTo>
                      <a:lnTo>
                        <a:pt x="265" y="160"/>
                      </a:lnTo>
                      <a:lnTo>
                        <a:pt x="250" y="163"/>
                      </a:lnTo>
                      <a:lnTo>
                        <a:pt x="235" y="164"/>
                      </a:lnTo>
                      <a:lnTo>
                        <a:pt x="220" y="161"/>
                      </a:lnTo>
                      <a:lnTo>
                        <a:pt x="205" y="158"/>
                      </a:lnTo>
                      <a:lnTo>
                        <a:pt x="188" y="152"/>
                      </a:lnTo>
                      <a:lnTo>
                        <a:pt x="174" y="146"/>
                      </a:lnTo>
                      <a:lnTo>
                        <a:pt x="157" y="138"/>
                      </a:lnTo>
                      <a:lnTo>
                        <a:pt x="142" y="129"/>
                      </a:lnTo>
                      <a:lnTo>
                        <a:pt x="129" y="119"/>
                      </a:lnTo>
                      <a:lnTo>
                        <a:pt x="114" y="108"/>
                      </a:lnTo>
                      <a:lnTo>
                        <a:pt x="100" y="97"/>
                      </a:lnTo>
                      <a:lnTo>
                        <a:pt x="87" y="85"/>
                      </a:lnTo>
                      <a:lnTo>
                        <a:pt x="73" y="74"/>
                      </a:lnTo>
                      <a:lnTo>
                        <a:pt x="62" y="62"/>
                      </a:lnTo>
                      <a:lnTo>
                        <a:pt x="51" y="51"/>
                      </a:lnTo>
                      <a:lnTo>
                        <a:pt x="41" y="40"/>
                      </a:lnTo>
                      <a:lnTo>
                        <a:pt x="32" y="31"/>
                      </a:lnTo>
                      <a:lnTo>
                        <a:pt x="24" y="22"/>
                      </a:lnTo>
                      <a:lnTo>
                        <a:pt x="18" y="15"/>
                      </a:lnTo>
                      <a:lnTo>
                        <a:pt x="12" y="8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8" y="12"/>
                      </a:lnTo>
                      <a:lnTo>
                        <a:pt x="13" y="19"/>
                      </a:lnTo>
                      <a:lnTo>
                        <a:pt x="19" y="27"/>
                      </a:lnTo>
                      <a:lnTo>
                        <a:pt x="27" y="36"/>
                      </a:lnTo>
                      <a:lnTo>
                        <a:pt x="36" y="45"/>
                      </a:lnTo>
                      <a:lnTo>
                        <a:pt x="47" y="55"/>
                      </a:lnTo>
                      <a:lnTo>
                        <a:pt x="57" y="67"/>
                      </a:lnTo>
                      <a:lnTo>
                        <a:pt x="69" y="78"/>
                      </a:lnTo>
                      <a:lnTo>
                        <a:pt x="82" y="90"/>
                      </a:lnTo>
                      <a:lnTo>
                        <a:pt x="96" y="101"/>
                      </a:lnTo>
                      <a:lnTo>
                        <a:pt x="110" y="113"/>
                      </a:lnTo>
                      <a:lnTo>
                        <a:pt x="124" y="124"/>
                      </a:lnTo>
                      <a:lnTo>
                        <a:pt x="139" y="134"/>
                      </a:lnTo>
                      <a:lnTo>
                        <a:pt x="155" y="143"/>
                      </a:lnTo>
                      <a:lnTo>
                        <a:pt x="170" y="152"/>
                      </a:lnTo>
                      <a:lnTo>
                        <a:pt x="186" y="159"/>
                      </a:lnTo>
                      <a:lnTo>
                        <a:pt x="202" y="164"/>
                      </a:lnTo>
                      <a:lnTo>
                        <a:pt x="218" y="168"/>
                      </a:lnTo>
                      <a:lnTo>
                        <a:pt x="235" y="169"/>
                      </a:lnTo>
                      <a:lnTo>
                        <a:pt x="251" y="168"/>
                      </a:lnTo>
                      <a:lnTo>
                        <a:pt x="266" y="166"/>
                      </a:lnTo>
                      <a:lnTo>
                        <a:pt x="281" y="161"/>
                      </a:lnTo>
                      <a:lnTo>
                        <a:pt x="296" y="153"/>
                      </a:lnTo>
                      <a:lnTo>
                        <a:pt x="311" y="142"/>
                      </a:lnTo>
                      <a:lnTo>
                        <a:pt x="323" y="127"/>
                      </a:lnTo>
                      <a:lnTo>
                        <a:pt x="336" y="110"/>
                      </a:lnTo>
                      <a:lnTo>
                        <a:pt x="347" y="89"/>
                      </a:lnTo>
                      <a:lnTo>
                        <a:pt x="359" y="63"/>
                      </a:lnTo>
                      <a:lnTo>
                        <a:pt x="368" y="35"/>
                      </a:lnTo>
                      <a:lnTo>
                        <a:pt x="377" y="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24"/>
                <p:cNvSpPr/>
                <p:nvPr/>
              </p:nvSpPr>
              <p:spPr>
                <a:xfrm>
                  <a:off x="2579400" y="6201720"/>
                  <a:ext cx="555840" cy="413280"/>
                </a:xfrm>
                <a:custGeom>
                  <a:avLst/>
                  <a:gdLst>
                    <a:gd name="textAreaLeft" fmla="*/ 0 w 555840"/>
                    <a:gd name="textAreaRight" fmla="*/ 556200 w 5558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8" h="447">
                      <a:moveTo>
                        <a:pt x="53" y="0"/>
                      </a:moveTo>
                      <a:lnTo>
                        <a:pt x="0" y="110"/>
                      </a:lnTo>
                      <a:lnTo>
                        <a:pt x="11" y="218"/>
                      </a:lnTo>
                      <a:lnTo>
                        <a:pt x="12" y="218"/>
                      </a:lnTo>
                      <a:lnTo>
                        <a:pt x="13" y="220"/>
                      </a:lnTo>
                      <a:lnTo>
                        <a:pt x="16" y="221"/>
                      </a:lnTo>
                      <a:lnTo>
                        <a:pt x="19" y="223"/>
                      </a:lnTo>
                      <a:lnTo>
                        <a:pt x="24" y="227"/>
                      </a:lnTo>
                      <a:lnTo>
                        <a:pt x="28" y="229"/>
                      </a:lnTo>
                      <a:lnTo>
                        <a:pt x="33" y="232"/>
                      </a:lnTo>
                      <a:lnTo>
                        <a:pt x="39" y="236"/>
                      </a:lnTo>
                      <a:lnTo>
                        <a:pt x="46" y="239"/>
                      </a:lnTo>
                      <a:lnTo>
                        <a:pt x="53" y="243"/>
                      </a:lnTo>
                      <a:lnTo>
                        <a:pt x="59" y="246"/>
                      </a:lnTo>
                      <a:lnTo>
                        <a:pt x="66" y="248"/>
                      </a:lnTo>
                      <a:lnTo>
                        <a:pt x="73" y="252"/>
                      </a:lnTo>
                      <a:lnTo>
                        <a:pt x="80" y="255"/>
                      </a:lnTo>
                      <a:lnTo>
                        <a:pt x="88" y="258"/>
                      </a:lnTo>
                      <a:lnTo>
                        <a:pt x="95" y="259"/>
                      </a:lnTo>
                      <a:lnTo>
                        <a:pt x="107" y="261"/>
                      </a:lnTo>
                      <a:lnTo>
                        <a:pt x="114" y="262"/>
                      </a:lnTo>
                      <a:lnTo>
                        <a:pt x="118" y="265"/>
                      </a:lnTo>
                      <a:lnTo>
                        <a:pt x="122" y="266"/>
                      </a:lnTo>
                      <a:lnTo>
                        <a:pt x="126" y="267"/>
                      </a:lnTo>
                      <a:lnTo>
                        <a:pt x="132" y="271"/>
                      </a:lnTo>
                      <a:lnTo>
                        <a:pt x="141" y="276"/>
                      </a:lnTo>
                      <a:lnTo>
                        <a:pt x="156" y="285"/>
                      </a:lnTo>
                      <a:lnTo>
                        <a:pt x="164" y="290"/>
                      </a:lnTo>
                      <a:lnTo>
                        <a:pt x="172" y="296"/>
                      </a:lnTo>
                      <a:lnTo>
                        <a:pt x="180" y="301"/>
                      </a:lnTo>
                      <a:lnTo>
                        <a:pt x="188" y="308"/>
                      </a:lnTo>
                      <a:lnTo>
                        <a:pt x="197" y="315"/>
                      </a:lnTo>
                      <a:lnTo>
                        <a:pt x="203" y="323"/>
                      </a:lnTo>
                      <a:lnTo>
                        <a:pt x="210" y="330"/>
                      </a:lnTo>
                      <a:lnTo>
                        <a:pt x="217" y="338"/>
                      </a:lnTo>
                      <a:lnTo>
                        <a:pt x="224" y="345"/>
                      </a:lnTo>
                      <a:lnTo>
                        <a:pt x="230" y="352"/>
                      </a:lnTo>
                      <a:lnTo>
                        <a:pt x="237" y="359"/>
                      </a:lnTo>
                      <a:lnTo>
                        <a:pt x="243" y="366"/>
                      </a:lnTo>
                      <a:lnTo>
                        <a:pt x="248" y="373"/>
                      </a:lnTo>
                      <a:lnTo>
                        <a:pt x="253" y="379"/>
                      </a:lnTo>
                      <a:lnTo>
                        <a:pt x="258" y="384"/>
                      </a:lnTo>
                      <a:lnTo>
                        <a:pt x="262" y="389"/>
                      </a:lnTo>
                      <a:lnTo>
                        <a:pt x="267" y="392"/>
                      </a:lnTo>
                      <a:lnTo>
                        <a:pt x="274" y="397"/>
                      </a:lnTo>
                      <a:lnTo>
                        <a:pt x="281" y="402"/>
                      </a:lnTo>
                      <a:lnTo>
                        <a:pt x="290" y="406"/>
                      </a:lnTo>
                      <a:lnTo>
                        <a:pt x="299" y="410"/>
                      </a:lnTo>
                      <a:lnTo>
                        <a:pt x="308" y="414"/>
                      </a:lnTo>
                      <a:lnTo>
                        <a:pt x="320" y="419"/>
                      </a:lnTo>
                      <a:lnTo>
                        <a:pt x="330" y="422"/>
                      </a:lnTo>
                      <a:lnTo>
                        <a:pt x="342" y="426"/>
                      </a:lnTo>
                      <a:lnTo>
                        <a:pt x="353" y="429"/>
                      </a:lnTo>
                      <a:lnTo>
                        <a:pt x="365" y="433"/>
                      </a:lnTo>
                      <a:lnTo>
                        <a:pt x="376" y="436"/>
                      </a:lnTo>
                      <a:lnTo>
                        <a:pt x="387" y="440"/>
                      </a:lnTo>
                      <a:lnTo>
                        <a:pt x="398" y="442"/>
                      </a:lnTo>
                      <a:lnTo>
                        <a:pt x="407" y="444"/>
                      </a:lnTo>
                      <a:lnTo>
                        <a:pt x="418" y="445"/>
                      </a:lnTo>
                      <a:lnTo>
                        <a:pt x="427" y="447"/>
                      </a:lnTo>
                      <a:lnTo>
                        <a:pt x="437" y="447"/>
                      </a:lnTo>
                      <a:lnTo>
                        <a:pt x="448" y="445"/>
                      </a:lnTo>
                      <a:lnTo>
                        <a:pt x="458" y="443"/>
                      </a:lnTo>
                      <a:lnTo>
                        <a:pt x="468" y="441"/>
                      </a:lnTo>
                      <a:lnTo>
                        <a:pt x="479" y="437"/>
                      </a:lnTo>
                      <a:lnTo>
                        <a:pt x="488" y="434"/>
                      </a:lnTo>
                      <a:lnTo>
                        <a:pt x="498" y="430"/>
                      </a:lnTo>
                      <a:lnTo>
                        <a:pt x="507" y="426"/>
                      </a:lnTo>
                      <a:lnTo>
                        <a:pt x="516" y="422"/>
                      </a:lnTo>
                      <a:lnTo>
                        <a:pt x="523" y="419"/>
                      </a:lnTo>
                      <a:lnTo>
                        <a:pt x="530" y="415"/>
                      </a:lnTo>
                      <a:lnTo>
                        <a:pt x="534" y="413"/>
                      </a:lnTo>
                      <a:lnTo>
                        <a:pt x="539" y="411"/>
                      </a:lnTo>
                      <a:lnTo>
                        <a:pt x="541" y="410"/>
                      </a:lnTo>
                      <a:lnTo>
                        <a:pt x="541" y="409"/>
                      </a:lnTo>
                      <a:lnTo>
                        <a:pt x="543" y="407"/>
                      </a:lnTo>
                      <a:lnTo>
                        <a:pt x="546" y="403"/>
                      </a:lnTo>
                      <a:lnTo>
                        <a:pt x="550" y="396"/>
                      </a:lnTo>
                      <a:lnTo>
                        <a:pt x="554" y="388"/>
                      </a:lnTo>
                      <a:lnTo>
                        <a:pt x="557" y="377"/>
                      </a:lnTo>
                      <a:lnTo>
                        <a:pt x="558" y="367"/>
                      </a:lnTo>
                      <a:lnTo>
                        <a:pt x="557" y="357"/>
                      </a:lnTo>
                      <a:lnTo>
                        <a:pt x="553" y="345"/>
                      </a:lnTo>
                      <a:lnTo>
                        <a:pt x="549" y="341"/>
                      </a:lnTo>
                      <a:lnTo>
                        <a:pt x="545" y="335"/>
                      </a:lnTo>
                      <a:lnTo>
                        <a:pt x="540" y="330"/>
                      </a:lnTo>
                      <a:lnTo>
                        <a:pt x="534" y="324"/>
                      </a:lnTo>
                      <a:lnTo>
                        <a:pt x="528" y="321"/>
                      </a:lnTo>
                      <a:lnTo>
                        <a:pt x="521" y="316"/>
                      </a:lnTo>
                      <a:lnTo>
                        <a:pt x="516" y="313"/>
                      </a:lnTo>
                      <a:lnTo>
                        <a:pt x="509" y="308"/>
                      </a:lnTo>
                      <a:lnTo>
                        <a:pt x="503" y="306"/>
                      </a:lnTo>
                      <a:lnTo>
                        <a:pt x="497" y="303"/>
                      </a:lnTo>
                      <a:lnTo>
                        <a:pt x="493" y="299"/>
                      </a:lnTo>
                      <a:lnTo>
                        <a:pt x="488" y="298"/>
                      </a:lnTo>
                      <a:lnTo>
                        <a:pt x="483" y="296"/>
                      </a:lnTo>
                      <a:lnTo>
                        <a:pt x="481" y="294"/>
                      </a:lnTo>
                      <a:lnTo>
                        <a:pt x="479" y="294"/>
                      </a:lnTo>
                      <a:lnTo>
                        <a:pt x="479" y="293"/>
                      </a:lnTo>
                      <a:lnTo>
                        <a:pt x="478" y="292"/>
                      </a:lnTo>
                      <a:lnTo>
                        <a:pt x="474" y="289"/>
                      </a:lnTo>
                      <a:lnTo>
                        <a:pt x="470" y="284"/>
                      </a:lnTo>
                      <a:lnTo>
                        <a:pt x="463" y="277"/>
                      </a:lnTo>
                      <a:lnTo>
                        <a:pt x="456" y="269"/>
                      </a:lnTo>
                      <a:lnTo>
                        <a:pt x="447" y="260"/>
                      </a:lnTo>
                      <a:lnTo>
                        <a:pt x="437" y="251"/>
                      </a:lnTo>
                      <a:lnTo>
                        <a:pt x="428" y="239"/>
                      </a:lnTo>
                      <a:lnTo>
                        <a:pt x="418" y="229"/>
                      </a:lnTo>
                      <a:lnTo>
                        <a:pt x="409" y="218"/>
                      </a:lnTo>
                      <a:lnTo>
                        <a:pt x="399" y="208"/>
                      </a:lnTo>
                      <a:lnTo>
                        <a:pt x="391" y="198"/>
                      </a:lnTo>
                      <a:lnTo>
                        <a:pt x="383" y="188"/>
                      </a:lnTo>
                      <a:lnTo>
                        <a:pt x="376" y="179"/>
                      </a:lnTo>
                      <a:lnTo>
                        <a:pt x="372" y="172"/>
                      </a:lnTo>
                      <a:lnTo>
                        <a:pt x="368" y="167"/>
                      </a:lnTo>
                      <a:lnTo>
                        <a:pt x="366" y="161"/>
                      </a:lnTo>
                      <a:lnTo>
                        <a:pt x="364" y="155"/>
                      </a:lnTo>
                      <a:lnTo>
                        <a:pt x="361" y="148"/>
                      </a:lnTo>
                      <a:lnTo>
                        <a:pt x="359" y="140"/>
                      </a:lnTo>
                      <a:lnTo>
                        <a:pt x="357" y="132"/>
                      </a:lnTo>
                      <a:lnTo>
                        <a:pt x="354" y="124"/>
                      </a:lnTo>
                      <a:lnTo>
                        <a:pt x="352" y="116"/>
                      </a:lnTo>
                      <a:lnTo>
                        <a:pt x="350" y="108"/>
                      </a:lnTo>
                      <a:lnTo>
                        <a:pt x="348" y="101"/>
                      </a:lnTo>
                      <a:lnTo>
                        <a:pt x="346" y="93"/>
                      </a:lnTo>
                      <a:lnTo>
                        <a:pt x="344" y="87"/>
                      </a:lnTo>
                      <a:lnTo>
                        <a:pt x="343" y="80"/>
                      </a:lnTo>
                      <a:lnTo>
                        <a:pt x="342" y="76"/>
                      </a:lnTo>
                      <a:lnTo>
                        <a:pt x="341" y="72"/>
                      </a:lnTo>
                      <a:lnTo>
                        <a:pt x="341" y="70"/>
                      </a:lnTo>
                      <a:lnTo>
                        <a:pt x="341" y="69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5"/>
                <p:cNvSpPr/>
                <p:nvPr/>
              </p:nvSpPr>
              <p:spPr>
                <a:xfrm>
                  <a:off x="2577600" y="6199560"/>
                  <a:ext cx="55440" cy="105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58" h="113">
                      <a:moveTo>
                        <a:pt x="6" y="111"/>
                      </a:moveTo>
                      <a:lnTo>
                        <a:pt x="6" y="113"/>
                      </a:lnTo>
                      <a:lnTo>
                        <a:pt x="58" y="4"/>
                      </a:lnTo>
                      <a:lnTo>
                        <a:pt x="52" y="0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0"/>
                      </a:ln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26"/>
                <p:cNvSpPr/>
                <p:nvPr/>
              </p:nvSpPr>
              <p:spPr>
                <a:xfrm>
                  <a:off x="2577600" y="6303600"/>
                  <a:ext cx="15480" cy="1018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12">
                      <a:moveTo>
                        <a:pt x="16" y="107"/>
                      </a:moveTo>
                      <a:lnTo>
                        <a:pt x="18" y="10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2" y="109"/>
                      </a:lnTo>
                      <a:lnTo>
                        <a:pt x="13" y="112"/>
                      </a:lnTo>
                      <a:lnTo>
                        <a:pt x="12" y="109"/>
                      </a:lnTo>
                      <a:lnTo>
                        <a:pt x="12" y="112"/>
                      </a:lnTo>
                      <a:lnTo>
                        <a:pt x="13" y="112"/>
                      </a:lnTo>
                      <a:lnTo>
                        <a:pt x="16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27"/>
                <p:cNvSpPr/>
                <p:nvPr/>
              </p:nvSpPr>
              <p:spPr>
                <a:xfrm>
                  <a:off x="2589480" y="6401880"/>
                  <a:ext cx="85680" cy="4284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86" h="46">
                      <a:moveTo>
                        <a:pt x="85" y="39"/>
                      </a:moveTo>
                      <a:lnTo>
                        <a:pt x="86" y="39"/>
                      </a:lnTo>
                      <a:lnTo>
                        <a:pt x="79" y="38"/>
                      </a:lnTo>
                      <a:lnTo>
                        <a:pt x="71" y="36"/>
                      </a:lnTo>
                      <a:lnTo>
                        <a:pt x="64" y="34"/>
                      </a:lnTo>
                      <a:lnTo>
                        <a:pt x="58" y="30"/>
                      </a:lnTo>
                      <a:lnTo>
                        <a:pt x="51" y="27"/>
                      </a:lnTo>
                      <a:lnTo>
                        <a:pt x="44" y="23"/>
                      </a:lnTo>
                      <a:lnTo>
                        <a:pt x="37" y="20"/>
                      </a:lnTo>
                      <a:lnTo>
                        <a:pt x="31" y="16"/>
                      </a:lnTo>
                      <a:lnTo>
                        <a:pt x="25" y="14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1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6" y="16"/>
                      </a:lnTo>
                      <a:lnTo>
                        <a:pt x="22" y="19"/>
                      </a:lnTo>
                      <a:lnTo>
                        <a:pt x="28" y="22"/>
                      </a:lnTo>
                      <a:lnTo>
                        <a:pt x="34" y="25"/>
                      </a:lnTo>
                      <a:lnTo>
                        <a:pt x="40" y="29"/>
                      </a:lnTo>
                      <a:lnTo>
                        <a:pt x="47" y="32"/>
                      </a:lnTo>
                      <a:lnTo>
                        <a:pt x="55" y="36"/>
                      </a:lnTo>
                      <a:lnTo>
                        <a:pt x="62" y="39"/>
                      </a:lnTo>
                      <a:lnTo>
                        <a:pt x="70" y="42"/>
                      </a:lnTo>
                      <a:lnTo>
                        <a:pt x="77" y="44"/>
                      </a:lnTo>
                      <a:lnTo>
                        <a:pt x="84" y="46"/>
                      </a:lnTo>
                      <a:lnTo>
                        <a:pt x="85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28"/>
                <p:cNvSpPr/>
                <p:nvPr/>
              </p:nvSpPr>
              <p:spPr>
                <a:xfrm>
                  <a:off x="2673000" y="6438960"/>
                  <a:ext cx="63720" cy="295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63" h="33">
                      <a:moveTo>
                        <a:pt x="63" y="27"/>
                      </a:moveTo>
                      <a:lnTo>
                        <a:pt x="63" y="27"/>
                      </a:lnTo>
                      <a:lnTo>
                        <a:pt x="50" y="19"/>
                      </a:lnTo>
                      <a:lnTo>
                        <a:pt x="40" y="13"/>
                      </a:lnTo>
                      <a:lnTo>
                        <a:pt x="33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1" y="5"/>
                      </a:lnTo>
                      <a:lnTo>
                        <a:pt x="13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3" y="12"/>
                      </a:lnTo>
                      <a:lnTo>
                        <a:pt x="27" y="13"/>
                      </a:lnTo>
                      <a:lnTo>
                        <a:pt x="31" y="15"/>
                      </a:lnTo>
                      <a:lnTo>
                        <a:pt x="37" y="19"/>
                      </a:lnTo>
                      <a:lnTo>
                        <a:pt x="46" y="25"/>
                      </a:lnTo>
                      <a:lnTo>
                        <a:pt x="60" y="33"/>
                      </a:lnTo>
                      <a:lnTo>
                        <a:pt x="6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29"/>
                <p:cNvSpPr/>
                <p:nvPr/>
              </p:nvSpPr>
              <p:spPr>
                <a:xfrm>
                  <a:off x="2733120" y="6463440"/>
                  <a:ext cx="109080" cy="1015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11" h="109">
                      <a:moveTo>
                        <a:pt x="111" y="105"/>
                      </a:moveTo>
                      <a:lnTo>
                        <a:pt x="111" y="105"/>
                      </a:lnTo>
                      <a:lnTo>
                        <a:pt x="106" y="100"/>
                      </a:lnTo>
                      <a:lnTo>
                        <a:pt x="101" y="94"/>
                      </a:lnTo>
                      <a:lnTo>
                        <a:pt x="97" y="89"/>
                      </a:lnTo>
                      <a:lnTo>
                        <a:pt x="91" y="82"/>
                      </a:lnTo>
                      <a:lnTo>
                        <a:pt x="85" y="75"/>
                      </a:lnTo>
                      <a:lnTo>
                        <a:pt x="78" y="69"/>
                      </a:lnTo>
                      <a:lnTo>
                        <a:pt x="73" y="61"/>
                      </a:lnTo>
                      <a:lnTo>
                        <a:pt x="66" y="54"/>
                      </a:lnTo>
                      <a:lnTo>
                        <a:pt x="59" y="46"/>
                      </a:lnTo>
                      <a:lnTo>
                        <a:pt x="52" y="39"/>
                      </a:lnTo>
                      <a:lnTo>
                        <a:pt x="45" y="31"/>
                      </a:lnTo>
                      <a:lnTo>
                        <a:pt x="37" y="24"/>
                      </a:lnTo>
                      <a:lnTo>
                        <a:pt x="29" y="17"/>
                      </a:lnTo>
                      <a:lnTo>
                        <a:pt x="21" y="11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9" y="10"/>
                      </a:lnTo>
                      <a:lnTo>
                        <a:pt x="17" y="17"/>
                      </a:lnTo>
                      <a:lnTo>
                        <a:pt x="25" y="22"/>
                      </a:lnTo>
                      <a:lnTo>
                        <a:pt x="32" y="29"/>
                      </a:lnTo>
                      <a:lnTo>
                        <a:pt x="40" y="36"/>
                      </a:lnTo>
                      <a:lnTo>
                        <a:pt x="47" y="44"/>
                      </a:lnTo>
                      <a:lnTo>
                        <a:pt x="54" y="50"/>
                      </a:lnTo>
                      <a:lnTo>
                        <a:pt x="61" y="59"/>
                      </a:lnTo>
                      <a:lnTo>
                        <a:pt x="68" y="65"/>
                      </a:lnTo>
                      <a:lnTo>
                        <a:pt x="74" y="72"/>
                      </a:lnTo>
                      <a:lnTo>
                        <a:pt x="81" y="79"/>
                      </a:lnTo>
                      <a:lnTo>
                        <a:pt x="86" y="86"/>
                      </a:lnTo>
                      <a:lnTo>
                        <a:pt x="92" y="93"/>
                      </a:lnTo>
                      <a:lnTo>
                        <a:pt x="97" y="98"/>
                      </a:lnTo>
                      <a:lnTo>
                        <a:pt x="101" y="105"/>
                      </a:lnTo>
                      <a:lnTo>
                        <a:pt x="106" y="109"/>
                      </a:lnTo>
                      <a:lnTo>
                        <a:pt x="1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30"/>
                <p:cNvSpPr/>
                <p:nvPr/>
              </p:nvSpPr>
              <p:spPr>
                <a:xfrm>
                  <a:off x="2838600" y="6559920"/>
                  <a:ext cx="157680" cy="57600"/>
                </a:xfrm>
                <a:custGeom>
                  <a:avLst/>
                  <a:gdLst>
                    <a:gd name="textAreaLeft" fmla="*/ 0 w 157680"/>
                    <a:gd name="textAreaRight" fmla="*/ 158040 w 15768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58" h="62">
                      <a:moveTo>
                        <a:pt x="158" y="55"/>
                      </a:moveTo>
                      <a:lnTo>
                        <a:pt x="158" y="55"/>
                      </a:lnTo>
                      <a:lnTo>
                        <a:pt x="149" y="54"/>
                      </a:lnTo>
                      <a:lnTo>
                        <a:pt x="138" y="51"/>
                      </a:lnTo>
                      <a:lnTo>
                        <a:pt x="128" y="49"/>
                      </a:lnTo>
                      <a:lnTo>
                        <a:pt x="117" y="46"/>
                      </a:lnTo>
                      <a:lnTo>
                        <a:pt x="106" y="43"/>
                      </a:lnTo>
                      <a:lnTo>
                        <a:pt x="94" y="39"/>
                      </a:lnTo>
                      <a:lnTo>
                        <a:pt x="83" y="35"/>
                      </a:lnTo>
                      <a:lnTo>
                        <a:pt x="71" y="32"/>
                      </a:lnTo>
                      <a:lnTo>
                        <a:pt x="60" y="28"/>
                      </a:lnTo>
                      <a:lnTo>
                        <a:pt x="51" y="25"/>
                      </a:lnTo>
                      <a:lnTo>
                        <a:pt x="40" y="20"/>
                      </a:lnTo>
                      <a:lnTo>
                        <a:pt x="31" y="16"/>
                      </a:lnTo>
                      <a:lnTo>
                        <a:pt x="23" y="11"/>
                      </a:lnTo>
                      <a:lnTo>
                        <a:pt x="15" y="8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11" y="13"/>
                      </a:lnTo>
                      <a:lnTo>
                        <a:pt x="20" y="17"/>
                      </a:lnTo>
                      <a:lnTo>
                        <a:pt x="28" y="22"/>
                      </a:lnTo>
                      <a:lnTo>
                        <a:pt x="37" y="26"/>
                      </a:lnTo>
                      <a:lnTo>
                        <a:pt x="47" y="31"/>
                      </a:lnTo>
                      <a:lnTo>
                        <a:pt x="59" y="34"/>
                      </a:lnTo>
                      <a:lnTo>
                        <a:pt x="69" y="39"/>
                      </a:lnTo>
                      <a:lnTo>
                        <a:pt x="81" y="42"/>
                      </a:lnTo>
                      <a:lnTo>
                        <a:pt x="92" y="46"/>
                      </a:lnTo>
                      <a:lnTo>
                        <a:pt x="104" y="49"/>
                      </a:lnTo>
                      <a:lnTo>
                        <a:pt x="115" y="53"/>
                      </a:lnTo>
                      <a:lnTo>
                        <a:pt x="127" y="55"/>
                      </a:lnTo>
                      <a:lnTo>
                        <a:pt x="137" y="57"/>
                      </a:lnTo>
                      <a:lnTo>
                        <a:pt x="147" y="60"/>
                      </a:lnTo>
                      <a:lnTo>
                        <a:pt x="157" y="62"/>
                      </a:lnTo>
                      <a:lnTo>
                        <a:pt x="15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31"/>
                <p:cNvSpPr/>
                <p:nvPr/>
              </p:nvSpPr>
              <p:spPr>
                <a:xfrm>
                  <a:off x="2994120" y="6578280"/>
                  <a:ext cx="127800" cy="406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6" h="44">
                      <a:moveTo>
                        <a:pt x="122" y="1"/>
                      </a:move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19" y="1"/>
                      </a:lnTo>
                      <a:lnTo>
                        <a:pt x="116" y="4"/>
                      </a:lnTo>
                      <a:lnTo>
                        <a:pt x="110" y="7"/>
                      </a:lnTo>
                      <a:lnTo>
                        <a:pt x="104" y="11"/>
                      </a:lnTo>
                      <a:lnTo>
                        <a:pt x="96" y="14"/>
                      </a:lnTo>
                      <a:lnTo>
                        <a:pt x="88" y="18"/>
                      </a:lnTo>
                      <a:lnTo>
                        <a:pt x="80" y="22"/>
                      </a:lnTo>
                      <a:lnTo>
                        <a:pt x="71" y="24"/>
                      </a:lnTo>
                      <a:lnTo>
                        <a:pt x="61" y="29"/>
                      </a:lnTo>
                      <a:lnTo>
                        <a:pt x="50" y="31"/>
                      </a:lnTo>
                      <a:lnTo>
                        <a:pt x="40" y="34"/>
                      </a:lnTo>
                      <a:lnTo>
                        <a:pt x="30" y="36"/>
                      </a:lnTo>
                      <a:lnTo>
                        <a:pt x="20" y="37"/>
                      </a:lnTo>
                      <a:lnTo>
                        <a:pt x="10" y="37"/>
                      </a:lnTo>
                      <a:lnTo>
                        <a:pt x="1" y="36"/>
                      </a:lnTo>
                      <a:lnTo>
                        <a:pt x="0" y="43"/>
                      </a:lnTo>
                      <a:lnTo>
                        <a:pt x="10" y="44"/>
                      </a:lnTo>
                      <a:lnTo>
                        <a:pt x="20" y="44"/>
                      </a:lnTo>
                      <a:lnTo>
                        <a:pt x="31" y="43"/>
                      </a:lnTo>
                      <a:lnTo>
                        <a:pt x="41" y="41"/>
                      </a:lnTo>
                      <a:lnTo>
                        <a:pt x="53" y="38"/>
                      </a:lnTo>
                      <a:lnTo>
                        <a:pt x="62" y="35"/>
                      </a:lnTo>
                      <a:lnTo>
                        <a:pt x="72" y="31"/>
                      </a:lnTo>
                      <a:lnTo>
                        <a:pt x="83" y="27"/>
                      </a:lnTo>
                      <a:lnTo>
                        <a:pt x="92" y="23"/>
                      </a:lnTo>
                      <a:lnTo>
                        <a:pt x="100" y="20"/>
                      </a:lnTo>
                      <a:lnTo>
                        <a:pt x="107" y="15"/>
                      </a:lnTo>
                      <a:lnTo>
                        <a:pt x="114" y="13"/>
                      </a:lnTo>
                      <a:lnTo>
                        <a:pt x="118" y="9"/>
                      </a:lnTo>
                      <a:lnTo>
                        <a:pt x="123" y="7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32"/>
                <p:cNvSpPr/>
                <p:nvPr/>
              </p:nvSpPr>
              <p:spPr>
                <a:xfrm>
                  <a:off x="3115800" y="651888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6" y="14"/>
                      </a:lnTo>
                      <a:lnTo>
                        <a:pt x="16" y="24"/>
                      </a:lnTo>
                      <a:lnTo>
                        <a:pt x="15" y="34"/>
                      </a:lnTo>
                      <a:lnTo>
                        <a:pt x="12" y="44"/>
                      </a:lnTo>
                      <a:lnTo>
                        <a:pt x="8" y="52"/>
                      </a:lnTo>
                      <a:lnTo>
                        <a:pt x="4" y="57"/>
                      </a:lnTo>
                      <a:lnTo>
                        <a:pt x="1" y="62"/>
                      </a:lnTo>
                      <a:lnTo>
                        <a:pt x="0" y="64"/>
                      </a:lnTo>
                      <a:lnTo>
                        <a:pt x="4" y="68"/>
                      </a:lnTo>
                      <a:lnTo>
                        <a:pt x="7" y="67"/>
                      </a:lnTo>
                      <a:lnTo>
                        <a:pt x="9" y="62"/>
                      </a:lnTo>
                      <a:lnTo>
                        <a:pt x="14" y="55"/>
                      </a:lnTo>
                      <a:lnTo>
                        <a:pt x="18" y="46"/>
                      </a:lnTo>
                      <a:lnTo>
                        <a:pt x="22" y="36"/>
                      </a:lnTo>
                      <a:lnTo>
                        <a:pt x="23" y="24"/>
                      </a:lnTo>
                      <a:lnTo>
                        <a:pt x="22" y="13"/>
                      </a:lnTo>
                      <a:lnTo>
                        <a:pt x="17" y="0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33"/>
                <p:cNvSpPr/>
                <p:nvPr/>
              </p:nvSpPr>
              <p:spPr>
                <a:xfrm>
                  <a:off x="3054240" y="647280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79" h="56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3" y="12"/>
                      </a:lnTo>
                      <a:lnTo>
                        <a:pt x="19" y="14"/>
                      </a:lnTo>
                      <a:lnTo>
                        <a:pt x="25" y="17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1" y="41"/>
                      </a:lnTo>
                      <a:lnTo>
                        <a:pt x="65" y="46"/>
                      </a:lnTo>
                      <a:lnTo>
                        <a:pt x="70" y="51"/>
                      </a:lnTo>
                      <a:lnTo>
                        <a:pt x="73" y="56"/>
                      </a:lnTo>
                      <a:lnTo>
                        <a:pt x="79" y="52"/>
                      </a:lnTo>
                      <a:lnTo>
                        <a:pt x="74" y="47"/>
                      </a:lnTo>
                      <a:lnTo>
                        <a:pt x="70" y="41"/>
                      </a:lnTo>
                      <a:lnTo>
                        <a:pt x="65" y="37"/>
                      </a:lnTo>
                      <a:lnTo>
                        <a:pt x="59" y="31"/>
                      </a:lnTo>
                      <a:lnTo>
                        <a:pt x="53" y="27"/>
                      </a:lnTo>
                      <a:lnTo>
                        <a:pt x="47" y="22"/>
                      </a:lnTo>
                      <a:lnTo>
                        <a:pt x="41" y="18"/>
                      </a:lnTo>
                      <a:lnTo>
                        <a:pt x="34" y="15"/>
                      </a:lnTo>
                      <a:lnTo>
                        <a:pt x="27" y="12"/>
                      </a:lnTo>
                      <a:lnTo>
                        <a:pt x="23" y="8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34"/>
                <p:cNvSpPr/>
                <p:nvPr/>
              </p:nvSpPr>
              <p:spPr>
                <a:xfrm>
                  <a:off x="2944440" y="6355800"/>
                  <a:ext cx="115560" cy="120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115" h="131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8" y="17"/>
                      </a:lnTo>
                      <a:lnTo>
                        <a:pt x="15" y="25"/>
                      </a:lnTo>
                      <a:lnTo>
                        <a:pt x="23" y="35"/>
                      </a:lnTo>
                      <a:lnTo>
                        <a:pt x="31" y="45"/>
                      </a:lnTo>
                      <a:lnTo>
                        <a:pt x="40" y="56"/>
                      </a:lnTo>
                      <a:lnTo>
                        <a:pt x="49" y="66"/>
                      </a:lnTo>
                      <a:lnTo>
                        <a:pt x="60" y="76"/>
                      </a:lnTo>
                      <a:lnTo>
                        <a:pt x="69" y="88"/>
                      </a:lnTo>
                      <a:lnTo>
                        <a:pt x="78" y="97"/>
                      </a:lnTo>
                      <a:lnTo>
                        <a:pt x="88" y="106"/>
                      </a:lnTo>
                      <a:lnTo>
                        <a:pt x="94" y="115"/>
                      </a:lnTo>
                      <a:lnTo>
                        <a:pt x="101" y="121"/>
                      </a:lnTo>
                      <a:lnTo>
                        <a:pt x="106" y="126"/>
                      </a:lnTo>
                      <a:lnTo>
                        <a:pt x="109" y="129"/>
                      </a:lnTo>
                      <a:lnTo>
                        <a:pt x="111" y="131"/>
                      </a:lnTo>
                      <a:lnTo>
                        <a:pt x="115" y="126"/>
                      </a:lnTo>
                      <a:lnTo>
                        <a:pt x="114" y="125"/>
                      </a:lnTo>
                      <a:lnTo>
                        <a:pt x="111" y="121"/>
                      </a:lnTo>
                      <a:lnTo>
                        <a:pt x="106" y="117"/>
                      </a:lnTo>
                      <a:lnTo>
                        <a:pt x="99" y="110"/>
                      </a:lnTo>
                      <a:lnTo>
                        <a:pt x="92" y="102"/>
                      </a:lnTo>
                      <a:lnTo>
                        <a:pt x="83" y="93"/>
                      </a:lnTo>
                      <a:lnTo>
                        <a:pt x="74" y="83"/>
                      </a:lnTo>
                      <a:lnTo>
                        <a:pt x="64" y="72"/>
                      </a:lnTo>
                      <a:lnTo>
                        <a:pt x="54" y="62"/>
                      </a:lnTo>
                      <a:lnTo>
                        <a:pt x="45" y="51"/>
                      </a:lnTo>
                      <a:lnTo>
                        <a:pt x="36" y="41"/>
                      </a:lnTo>
                      <a:lnTo>
                        <a:pt x="28" y="30"/>
                      </a:lnTo>
                      <a:lnTo>
                        <a:pt x="20" y="21"/>
                      </a:lnTo>
                      <a:lnTo>
                        <a:pt x="14" y="13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35"/>
                <p:cNvSpPr/>
                <p:nvPr/>
              </p:nvSpPr>
              <p:spPr>
                <a:xfrm>
                  <a:off x="2916360" y="6262920"/>
                  <a:ext cx="33840" cy="943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35" h="102">
                      <a:moveTo>
                        <a:pt x="2" y="6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6" y="28"/>
                      </a:lnTo>
                      <a:lnTo>
                        <a:pt x="8" y="35"/>
                      </a:lnTo>
                      <a:lnTo>
                        <a:pt x="11" y="43"/>
                      </a:lnTo>
                      <a:lnTo>
                        <a:pt x="12" y="51"/>
                      </a:lnTo>
                      <a:lnTo>
                        <a:pt x="14" y="59"/>
                      </a:lnTo>
                      <a:lnTo>
                        <a:pt x="17" y="67"/>
                      </a:lnTo>
                      <a:lnTo>
                        <a:pt x="20" y="75"/>
                      </a:lnTo>
                      <a:lnTo>
                        <a:pt x="22" y="83"/>
                      </a:lnTo>
                      <a:lnTo>
                        <a:pt x="24" y="90"/>
                      </a:lnTo>
                      <a:lnTo>
                        <a:pt x="27" y="96"/>
                      </a:lnTo>
                      <a:lnTo>
                        <a:pt x="29" y="102"/>
                      </a:lnTo>
                      <a:lnTo>
                        <a:pt x="35" y="99"/>
                      </a:lnTo>
                      <a:lnTo>
                        <a:pt x="32" y="95"/>
                      </a:lnTo>
                      <a:lnTo>
                        <a:pt x="30" y="88"/>
                      </a:lnTo>
                      <a:lnTo>
                        <a:pt x="28" y="81"/>
                      </a:lnTo>
                      <a:lnTo>
                        <a:pt x="25" y="74"/>
                      </a:lnTo>
                      <a:lnTo>
                        <a:pt x="23" y="65"/>
                      </a:lnTo>
                      <a:lnTo>
                        <a:pt x="21" y="58"/>
                      </a:lnTo>
                      <a:lnTo>
                        <a:pt x="19" y="49"/>
                      </a:lnTo>
                      <a:lnTo>
                        <a:pt x="16" y="42"/>
                      </a:lnTo>
                      <a:lnTo>
                        <a:pt x="14" y="34"/>
                      </a:lnTo>
                      <a:lnTo>
                        <a:pt x="13" y="26"/>
                      </a:lnTo>
                      <a:lnTo>
                        <a:pt x="11" y="20"/>
                      </a:lnTo>
                      <a:lnTo>
                        <a:pt x="9" y="14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36"/>
                <p:cNvSpPr/>
                <p:nvPr/>
              </p:nvSpPr>
              <p:spPr>
                <a:xfrm>
                  <a:off x="2629440" y="6198120"/>
                  <a:ext cx="289080" cy="7056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292" h="76">
                      <a:moveTo>
                        <a:pt x="6" y="6"/>
                      </a:moveTo>
                      <a:lnTo>
                        <a:pt x="2" y="7"/>
                      </a:lnTo>
                      <a:lnTo>
                        <a:pt x="290" y="76"/>
                      </a:lnTo>
                      <a:lnTo>
                        <a:pt x="292" y="70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37"/>
                <p:cNvSpPr/>
                <p:nvPr/>
              </p:nvSpPr>
              <p:spPr>
                <a:xfrm>
                  <a:off x="2555640" y="4500360"/>
                  <a:ext cx="468000" cy="18604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1860480"/>
                    <a:gd name="textAreaBottom" fmla="*/ 1860840 h 1860480"/>
                  </a:gdLst>
                  <a:ahLst/>
                  <a:rect l="textAreaLeft" t="textAreaTop" r="textAreaRight" b="textAreaBottom"/>
                  <a:pathLst>
                    <a:path w="471" h="2004">
                      <a:moveTo>
                        <a:pt x="47" y="1886"/>
                      </a:moveTo>
                      <a:lnTo>
                        <a:pt x="53" y="1793"/>
                      </a:lnTo>
                      <a:lnTo>
                        <a:pt x="78" y="977"/>
                      </a:lnTo>
                      <a:lnTo>
                        <a:pt x="0" y="151"/>
                      </a:lnTo>
                      <a:lnTo>
                        <a:pt x="21" y="0"/>
                      </a:lnTo>
                      <a:lnTo>
                        <a:pt x="471" y="18"/>
                      </a:lnTo>
                      <a:lnTo>
                        <a:pt x="430" y="894"/>
                      </a:lnTo>
                      <a:lnTo>
                        <a:pt x="430" y="895"/>
                      </a:lnTo>
                      <a:lnTo>
                        <a:pt x="429" y="899"/>
                      </a:lnTo>
                      <a:lnTo>
                        <a:pt x="429" y="905"/>
                      </a:lnTo>
                      <a:lnTo>
                        <a:pt x="429" y="914"/>
                      </a:lnTo>
                      <a:lnTo>
                        <a:pt x="428" y="926"/>
                      </a:lnTo>
                      <a:lnTo>
                        <a:pt x="427" y="940"/>
                      </a:lnTo>
                      <a:lnTo>
                        <a:pt x="426" y="956"/>
                      </a:lnTo>
                      <a:lnTo>
                        <a:pt x="425" y="974"/>
                      </a:lnTo>
                      <a:lnTo>
                        <a:pt x="423" y="994"/>
                      </a:lnTo>
                      <a:lnTo>
                        <a:pt x="422" y="1017"/>
                      </a:lnTo>
                      <a:lnTo>
                        <a:pt x="420" y="1040"/>
                      </a:lnTo>
                      <a:lnTo>
                        <a:pt x="418" y="1066"/>
                      </a:lnTo>
                      <a:lnTo>
                        <a:pt x="416" y="1094"/>
                      </a:lnTo>
                      <a:lnTo>
                        <a:pt x="414" y="1123"/>
                      </a:lnTo>
                      <a:lnTo>
                        <a:pt x="413" y="1154"/>
                      </a:lnTo>
                      <a:lnTo>
                        <a:pt x="411" y="1186"/>
                      </a:lnTo>
                      <a:lnTo>
                        <a:pt x="408" y="1220"/>
                      </a:lnTo>
                      <a:lnTo>
                        <a:pt x="406" y="1254"/>
                      </a:lnTo>
                      <a:lnTo>
                        <a:pt x="404" y="1291"/>
                      </a:lnTo>
                      <a:lnTo>
                        <a:pt x="401" y="1328"/>
                      </a:lnTo>
                      <a:lnTo>
                        <a:pt x="399" y="1366"/>
                      </a:lnTo>
                      <a:lnTo>
                        <a:pt x="397" y="1405"/>
                      </a:lnTo>
                      <a:lnTo>
                        <a:pt x="395" y="1444"/>
                      </a:lnTo>
                      <a:lnTo>
                        <a:pt x="391" y="1486"/>
                      </a:lnTo>
                      <a:lnTo>
                        <a:pt x="389" y="1527"/>
                      </a:lnTo>
                      <a:lnTo>
                        <a:pt x="386" y="1569"/>
                      </a:lnTo>
                      <a:lnTo>
                        <a:pt x="384" y="1611"/>
                      </a:lnTo>
                      <a:lnTo>
                        <a:pt x="382" y="1654"/>
                      </a:lnTo>
                      <a:lnTo>
                        <a:pt x="380" y="1697"/>
                      </a:lnTo>
                      <a:lnTo>
                        <a:pt x="376" y="1740"/>
                      </a:lnTo>
                      <a:lnTo>
                        <a:pt x="374" y="1784"/>
                      </a:lnTo>
                      <a:lnTo>
                        <a:pt x="372" y="1828"/>
                      </a:lnTo>
                      <a:lnTo>
                        <a:pt x="372" y="1834"/>
                      </a:lnTo>
                      <a:lnTo>
                        <a:pt x="372" y="1841"/>
                      </a:lnTo>
                      <a:lnTo>
                        <a:pt x="373" y="1848"/>
                      </a:lnTo>
                      <a:lnTo>
                        <a:pt x="373" y="1856"/>
                      </a:lnTo>
                      <a:lnTo>
                        <a:pt x="374" y="1865"/>
                      </a:lnTo>
                      <a:lnTo>
                        <a:pt x="375" y="1874"/>
                      </a:lnTo>
                      <a:lnTo>
                        <a:pt x="376" y="1883"/>
                      </a:lnTo>
                      <a:lnTo>
                        <a:pt x="376" y="1892"/>
                      </a:lnTo>
                      <a:lnTo>
                        <a:pt x="377" y="1902"/>
                      </a:lnTo>
                      <a:lnTo>
                        <a:pt x="378" y="1912"/>
                      </a:lnTo>
                      <a:lnTo>
                        <a:pt x="380" y="1921"/>
                      </a:lnTo>
                      <a:lnTo>
                        <a:pt x="381" y="1929"/>
                      </a:lnTo>
                      <a:lnTo>
                        <a:pt x="381" y="1939"/>
                      </a:lnTo>
                      <a:lnTo>
                        <a:pt x="381" y="1945"/>
                      </a:lnTo>
                      <a:lnTo>
                        <a:pt x="381" y="1952"/>
                      </a:lnTo>
                      <a:lnTo>
                        <a:pt x="381" y="1959"/>
                      </a:lnTo>
                      <a:lnTo>
                        <a:pt x="365" y="1971"/>
                      </a:lnTo>
                      <a:lnTo>
                        <a:pt x="347" y="1980"/>
                      </a:lnTo>
                      <a:lnTo>
                        <a:pt x="331" y="1989"/>
                      </a:lnTo>
                      <a:lnTo>
                        <a:pt x="315" y="1995"/>
                      </a:lnTo>
                      <a:lnTo>
                        <a:pt x="299" y="2000"/>
                      </a:lnTo>
                      <a:lnTo>
                        <a:pt x="283" y="2003"/>
                      </a:lnTo>
                      <a:lnTo>
                        <a:pt x="268" y="2004"/>
                      </a:lnTo>
                      <a:lnTo>
                        <a:pt x="253" y="2004"/>
                      </a:lnTo>
                      <a:lnTo>
                        <a:pt x="238" y="2003"/>
                      </a:lnTo>
                      <a:lnTo>
                        <a:pt x="223" y="2002"/>
                      </a:lnTo>
                      <a:lnTo>
                        <a:pt x="209" y="1998"/>
                      </a:lnTo>
                      <a:lnTo>
                        <a:pt x="195" y="1995"/>
                      </a:lnTo>
                      <a:lnTo>
                        <a:pt x="183" y="1990"/>
                      </a:lnTo>
                      <a:lnTo>
                        <a:pt x="170" y="1985"/>
                      </a:lnTo>
                      <a:lnTo>
                        <a:pt x="157" y="1979"/>
                      </a:lnTo>
                      <a:lnTo>
                        <a:pt x="146" y="1973"/>
                      </a:lnTo>
                      <a:lnTo>
                        <a:pt x="135" y="1966"/>
                      </a:lnTo>
                      <a:lnTo>
                        <a:pt x="125" y="1959"/>
                      </a:lnTo>
                      <a:lnTo>
                        <a:pt x="115" y="1951"/>
                      </a:lnTo>
                      <a:lnTo>
                        <a:pt x="105" y="1944"/>
                      </a:lnTo>
                      <a:lnTo>
                        <a:pt x="96" y="1936"/>
                      </a:lnTo>
                      <a:lnTo>
                        <a:pt x="88" y="1929"/>
                      </a:lnTo>
                      <a:lnTo>
                        <a:pt x="81" y="1922"/>
                      </a:lnTo>
                      <a:lnTo>
                        <a:pt x="74" y="1916"/>
                      </a:lnTo>
                      <a:lnTo>
                        <a:pt x="67" y="1910"/>
                      </a:lnTo>
                      <a:lnTo>
                        <a:pt x="63" y="1904"/>
                      </a:lnTo>
                      <a:lnTo>
                        <a:pt x="58" y="1898"/>
                      </a:lnTo>
                      <a:lnTo>
                        <a:pt x="53" y="1894"/>
                      </a:lnTo>
                      <a:lnTo>
                        <a:pt x="51" y="1890"/>
                      </a:lnTo>
                      <a:lnTo>
                        <a:pt x="49" y="1888"/>
                      </a:lnTo>
                      <a:lnTo>
                        <a:pt x="48" y="1886"/>
                      </a:lnTo>
                      <a:lnTo>
                        <a:pt x="47" y="1886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38"/>
                <p:cNvSpPr/>
                <p:nvPr/>
              </p:nvSpPr>
              <p:spPr>
                <a:xfrm>
                  <a:off x="2595240" y="6164640"/>
                  <a:ext cx="19800" cy="849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19" h="94">
                      <a:moveTo>
                        <a:pt x="7" y="1"/>
                      </a:moveTo>
                      <a:lnTo>
                        <a:pt x="7" y="0"/>
                      </a:lnTo>
                      <a:lnTo>
                        <a:pt x="0" y="92"/>
                      </a:lnTo>
                      <a:lnTo>
                        <a:pt x="12" y="94"/>
                      </a:lnTo>
                      <a:lnTo>
                        <a:pt x="19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39"/>
                <p:cNvSpPr/>
                <p:nvPr/>
              </p:nvSpPr>
              <p:spPr>
                <a:xfrm>
                  <a:off x="2603520" y="5405760"/>
                  <a:ext cx="35640" cy="75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58880"/>
                    <a:gd name="textAreaBottom" fmla="*/ 759240 h 758880"/>
                  </a:gdLst>
                  <a:ahLst/>
                  <a:rect l="textAreaLeft" t="textAreaTop" r="textAreaRight" b="textAreaBottom"/>
                  <a:pathLst>
                    <a:path w="35" h="818">
                      <a:moveTo>
                        <a:pt x="23" y="2"/>
                      </a:moveTo>
                      <a:lnTo>
                        <a:pt x="23" y="2"/>
                      </a:lnTo>
                      <a:lnTo>
                        <a:pt x="0" y="818"/>
                      </a:lnTo>
                      <a:lnTo>
                        <a:pt x="12" y="818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2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40"/>
                <p:cNvSpPr/>
                <p:nvPr/>
              </p:nvSpPr>
              <p:spPr>
                <a:xfrm>
                  <a:off x="2549880" y="4641480"/>
                  <a:ext cx="89280" cy="76608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766080"/>
                    <a:gd name="textAreaBottom" fmla="*/ 766440 h 766080"/>
                  </a:gdLst>
                  <a:ahLst/>
                  <a:rect l="textAreaLeft" t="textAreaTop" r="textAreaRight" b="textAreaBottom"/>
                  <a:pathLst>
                    <a:path w="88" h="82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6" y="826"/>
                      </a:lnTo>
                      <a:lnTo>
                        <a:pt x="88" y="824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41"/>
                <p:cNvSpPr/>
                <p:nvPr/>
              </p:nvSpPr>
              <p:spPr>
                <a:xfrm>
                  <a:off x="2549880" y="4494960"/>
                  <a:ext cx="31320" cy="146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2" h="159">
                      <a:moveTo>
                        <a:pt x="26" y="0"/>
                      </a:moveTo>
                      <a:lnTo>
                        <a:pt x="19" y="6"/>
                      </a:lnTo>
                      <a:lnTo>
                        <a:pt x="0" y="158"/>
                      </a:lnTo>
                      <a:lnTo>
                        <a:pt x="12" y="159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9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42"/>
                <p:cNvSpPr/>
                <p:nvPr/>
              </p:nvSpPr>
              <p:spPr>
                <a:xfrm>
                  <a:off x="2575440" y="4494960"/>
                  <a:ext cx="456480" cy="29160"/>
                </a:xfrm>
                <a:custGeom>
                  <a:avLst/>
                  <a:gdLst>
                    <a:gd name="textAreaLeft" fmla="*/ 0 w 456480"/>
                    <a:gd name="textAreaRight" fmla="*/ 456840 w 45648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58" h="32">
                      <a:moveTo>
                        <a:pt x="458" y="26"/>
                      </a:moveTo>
                      <a:lnTo>
                        <a:pt x="451" y="19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451" y="32"/>
                      </a:lnTo>
                      <a:lnTo>
                        <a:pt x="444" y="25"/>
                      </a:lnTo>
                      <a:lnTo>
                        <a:pt x="458" y="26"/>
                      </a:lnTo>
                      <a:lnTo>
                        <a:pt x="458" y="19"/>
                      </a:lnTo>
                      <a:lnTo>
                        <a:pt x="451" y="19"/>
                      </a:lnTo>
                      <a:lnTo>
                        <a:pt x="45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43"/>
                <p:cNvSpPr/>
                <p:nvPr/>
              </p:nvSpPr>
              <p:spPr>
                <a:xfrm>
                  <a:off x="2978280" y="4519080"/>
                  <a:ext cx="53640" cy="81036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5" h="876">
                      <a:moveTo>
                        <a:pt x="13" y="876"/>
                      </a:moveTo>
                      <a:lnTo>
                        <a:pt x="13" y="876"/>
                      </a:lnTo>
                      <a:lnTo>
                        <a:pt x="55" y="1"/>
                      </a:lnTo>
                      <a:lnTo>
                        <a:pt x="41" y="0"/>
                      </a:lnTo>
                      <a:lnTo>
                        <a:pt x="0" y="875"/>
                      </a:lnTo>
                      <a:lnTo>
                        <a:pt x="13" y="8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44"/>
                <p:cNvSpPr/>
                <p:nvPr/>
              </p:nvSpPr>
              <p:spPr>
                <a:xfrm>
                  <a:off x="2920320" y="5329800"/>
                  <a:ext cx="69480" cy="86652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866520"/>
                    <a:gd name="textAreaBottom" fmla="*/ 866880 h 866520"/>
                  </a:gdLst>
                  <a:ahLst/>
                  <a:rect l="textAreaLeft" t="textAreaTop" r="textAreaRight" b="textAreaBottom"/>
                  <a:pathLst>
                    <a:path w="70" h="935">
                      <a:moveTo>
                        <a:pt x="12" y="935"/>
                      </a:moveTo>
                      <a:lnTo>
                        <a:pt x="12" y="935"/>
                      </a:lnTo>
                      <a:lnTo>
                        <a:pt x="15" y="891"/>
                      </a:lnTo>
                      <a:lnTo>
                        <a:pt x="17" y="847"/>
                      </a:lnTo>
                      <a:lnTo>
                        <a:pt x="19" y="805"/>
                      </a:lnTo>
                      <a:lnTo>
                        <a:pt x="22" y="761"/>
                      </a:lnTo>
                      <a:lnTo>
                        <a:pt x="24" y="718"/>
                      </a:lnTo>
                      <a:lnTo>
                        <a:pt x="27" y="677"/>
                      </a:lnTo>
                      <a:lnTo>
                        <a:pt x="30" y="634"/>
                      </a:lnTo>
                      <a:lnTo>
                        <a:pt x="32" y="593"/>
                      </a:lnTo>
                      <a:lnTo>
                        <a:pt x="34" y="552"/>
                      </a:lnTo>
                      <a:lnTo>
                        <a:pt x="37" y="512"/>
                      </a:lnTo>
                      <a:lnTo>
                        <a:pt x="39" y="473"/>
                      </a:lnTo>
                      <a:lnTo>
                        <a:pt x="42" y="435"/>
                      </a:lnTo>
                      <a:lnTo>
                        <a:pt x="45" y="398"/>
                      </a:lnTo>
                      <a:lnTo>
                        <a:pt x="47" y="362"/>
                      </a:lnTo>
                      <a:lnTo>
                        <a:pt x="49" y="327"/>
                      </a:lnTo>
                      <a:lnTo>
                        <a:pt x="50" y="293"/>
                      </a:lnTo>
                      <a:lnTo>
                        <a:pt x="53" y="261"/>
                      </a:lnTo>
                      <a:lnTo>
                        <a:pt x="55" y="230"/>
                      </a:lnTo>
                      <a:lnTo>
                        <a:pt x="56" y="201"/>
                      </a:lnTo>
                      <a:lnTo>
                        <a:pt x="59" y="173"/>
                      </a:lnTo>
                      <a:lnTo>
                        <a:pt x="61" y="148"/>
                      </a:lnTo>
                      <a:lnTo>
                        <a:pt x="62" y="124"/>
                      </a:lnTo>
                      <a:lnTo>
                        <a:pt x="63" y="102"/>
                      </a:lnTo>
                      <a:lnTo>
                        <a:pt x="65" y="81"/>
                      </a:lnTo>
                      <a:lnTo>
                        <a:pt x="67" y="64"/>
                      </a:lnTo>
                      <a:lnTo>
                        <a:pt x="68" y="48"/>
                      </a:lnTo>
                      <a:lnTo>
                        <a:pt x="68" y="34"/>
                      </a:lnTo>
                      <a:lnTo>
                        <a:pt x="69" y="23"/>
                      </a:lnTo>
                      <a:lnTo>
                        <a:pt x="70" y="13"/>
                      </a:lnTo>
                      <a:lnTo>
                        <a:pt x="70" y="6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5"/>
                      </a:lnTo>
                      <a:lnTo>
                        <a:pt x="56" y="12"/>
                      </a:lnTo>
                      <a:lnTo>
                        <a:pt x="56" y="21"/>
                      </a:lnTo>
                      <a:lnTo>
                        <a:pt x="55" y="33"/>
                      </a:lnTo>
                      <a:lnTo>
                        <a:pt x="54" y="47"/>
                      </a:lnTo>
                      <a:lnTo>
                        <a:pt x="54" y="63"/>
                      </a:lnTo>
                      <a:lnTo>
                        <a:pt x="52" y="80"/>
                      </a:lnTo>
                      <a:lnTo>
                        <a:pt x="50" y="101"/>
                      </a:lnTo>
                      <a:lnTo>
                        <a:pt x="49" y="123"/>
                      </a:lnTo>
                      <a:lnTo>
                        <a:pt x="47" y="147"/>
                      </a:lnTo>
                      <a:lnTo>
                        <a:pt x="46" y="172"/>
                      </a:lnTo>
                      <a:lnTo>
                        <a:pt x="44" y="200"/>
                      </a:lnTo>
                      <a:lnTo>
                        <a:pt x="42" y="230"/>
                      </a:lnTo>
                      <a:lnTo>
                        <a:pt x="40" y="260"/>
                      </a:lnTo>
                      <a:lnTo>
                        <a:pt x="38" y="292"/>
                      </a:lnTo>
                      <a:lnTo>
                        <a:pt x="35" y="327"/>
                      </a:lnTo>
                      <a:lnTo>
                        <a:pt x="33" y="361"/>
                      </a:lnTo>
                      <a:lnTo>
                        <a:pt x="31" y="397"/>
                      </a:lnTo>
                      <a:lnTo>
                        <a:pt x="29" y="435"/>
                      </a:lnTo>
                      <a:lnTo>
                        <a:pt x="26" y="472"/>
                      </a:lnTo>
                      <a:lnTo>
                        <a:pt x="24" y="511"/>
                      </a:lnTo>
                      <a:lnTo>
                        <a:pt x="22" y="551"/>
                      </a:lnTo>
                      <a:lnTo>
                        <a:pt x="19" y="592"/>
                      </a:lnTo>
                      <a:lnTo>
                        <a:pt x="17" y="633"/>
                      </a:lnTo>
                      <a:lnTo>
                        <a:pt x="15" y="676"/>
                      </a:lnTo>
                      <a:lnTo>
                        <a:pt x="11" y="718"/>
                      </a:lnTo>
                      <a:lnTo>
                        <a:pt x="9" y="760"/>
                      </a:lnTo>
                      <a:lnTo>
                        <a:pt x="7" y="804"/>
                      </a:lnTo>
                      <a:lnTo>
                        <a:pt x="4" y="847"/>
                      </a:lnTo>
                      <a:lnTo>
                        <a:pt x="2" y="890"/>
                      </a:lnTo>
                      <a:lnTo>
                        <a:pt x="0" y="934"/>
                      </a:lnTo>
                      <a:lnTo>
                        <a:pt x="12" y="9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45"/>
                <p:cNvSpPr/>
                <p:nvPr/>
              </p:nvSpPr>
              <p:spPr>
                <a:xfrm>
                  <a:off x="2920320" y="6196320"/>
                  <a:ext cx="21960" cy="1256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22" h="137">
                      <a:moveTo>
                        <a:pt x="19" y="137"/>
                      </a:moveTo>
                      <a:lnTo>
                        <a:pt x="22" y="132"/>
                      </a:lnTo>
                      <a:lnTo>
                        <a:pt x="22" y="125"/>
                      </a:lnTo>
                      <a:lnTo>
                        <a:pt x="22" y="118"/>
                      </a:lnTo>
                      <a:lnTo>
                        <a:pt x="22" y="110"/>
                      </a:lnTo>
                      <a:lnTo>
                        <a:pt x="20" y="102"/>
                      </a:lnTo>
                      <a:lnTo>
                        <a:pt x="19" y="93"/>
                      </a:lnTo>
                      <a:lnTo>
                        <a:pt x="19" y="84"/>
                      </a:lnTo>
                      <a:lnTo>
                        <a:pt x="18" y="75"/>
                      </a:lnTo>
                      <a:lnTo>
                        <a:pt x="17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38"/>
                      </a:lnTo>
                      <a:lnTo>
                        <a:pt x="14" y="29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2" y="7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1" y="30"/>
                      </a:lnTo>
                      <a:lnTo>
                        <a:pt x="1" y="38"/>
                      </a:lnTo>
                      <a:lnTo>
                        <a:pt x="2" y="47"/>
                      </a:lnTo>
                      <a:lnTo>
                        <a:pt x="3" y="56"/>
                      </a:lnTo>
                      <a:lnTo>
                        <a:pt x="4" y="67"/>
                      </a:lnTo>
                      <a:lnTo>
                        <a:pt x="6" y="76"/>
                      </a:lnTo>
                      <a:lnTo>
                        <a:pt x="6" y="85"/>
                      </a:lnTo>
                      <a:lnTo>
                        <a:pt x="7" y="94"/>
                      </a:lnTo>
                      <a:lnTo>
                        <a:pt x="8" y="103"/>
                      </a:lnTo>
                      <a:lnTo>
                        <a:pt x="8" y="112"/>
                      </a:lnTo>
                      <a:lnTo>
                        <a:pt x="9" y="118"/>
                      </a:lnTo>
                      <a:lnTo>
                        <a:pt x="9" y="125"/>
                      </a:lnTo>
                      <a:lnTo>
                        <a:pt x="9" y="132"/>
                      </a:lnTo>
                      <a:lnTo>
                        <a:pt x="11" y="128"/>
                      </a:lnTo>
                      <a:lnTo>
                        <a:pt x="19" y="137"/>
                      </a:lnTo>
                      <a:lnTo>
                        <a:pt x="22" y="136"/>
                      </a:lnTo>
                      <a:lnTo>
                        <a:pt x="22" y="132"/>
                      </a:lnTo>
                      <a:lnTo>
                        <a:pt x="19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46"/>
                <p:cNvSpPr/>
                <p:nvPr/>
              </p:nvSpPr>
              <p:spPr>
                <a:xfrm>
                  <a:off x="2595240" y="6246360"/>
                  <a:ext cx="344880" cy="12024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344" h="130">
                      <a:moveTo>
                        <a:pt x="0" y="3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22" y="32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2" y="53"/>
                      </a:lnTo>
                      <a:lnTo>
                        <a:pt x="51" y="61"/>
                      </a:lnTo>
                      <a:lnTo>
                        <a:pt x="60" y="68"/>
                      </a:lnTo>
                      <a:lnTo>
                        <a:pt x="70" y="76"/>
                      </a:lnTo>
                      <a:lnTo>
                        <a:pt x="79" y="83"/>
                      </a:lnTo>
                      <a:lnTo>
                        <a:pt x="91" y="90"/>
                      </a:lnTo>
                      <a:lnTo>
                        <a:pt x="102" y="97"/>
                      </a:lnTo>
                      <a:lnTo>
                        <a:pt x="114" y="104"/>
                      </a:lnTo>
                      <a:lnTo>
                        <a:pt x="125" y="111"/>
                      </a:lnTo>
                      <a:lnTo>
                        <a:pt x="139" y="115"/>
                      </a:lnTo>
                      <a:lnTo>
                        <a:pt x="153" y="120"/>
                      </a:lnTo>
                      <a:lnTo>
                        <a:pt x="167" y="124"/>
                      </a:lnTo>
                      <a:lnTo>
                        <a:pt x="181" y="127"/>
                      </a:lnTo>
                      <a:lnTo>
                        <a:pt x="196" y="129"/>
                      </a:lnTo>
                      <a:lnTo>
                        <a:pt x="212" y="130"/>
                      </a:lnTo>
                      <a:lnTo>
                        <a:pt x="227" y="129"/>
                      </a:lnTo>
                      <a:lnTo>
                        <a:pt x="243" y="128"/>
                      </a:lnTo>
                      <a:lnTo>
                        <a:pt x="259" y="124"/>
                      </a:lnTo>
                      <a:lnTo>
                        <a:pt x="275" y="120"/>
                      </a:lnTo>
                      <a:lnTo>
                        <a:pt x="292" y="114"/>
                      </a:lnTo>
                      <a:lnTo>
                        <a:pt x="310" y="105"/>
                      </a:lnTo>
                      <a:lnTo>
                        <a:pt x="326" y="96"/>
                      </a:lnTo>
                      <a:lnTo>
                        <a:pt x="344" y="83"/>
                      </a:lnTo>
                      <a:lnTo>
                        <a:pt x="336" y="74"/>
                      </a:lnTo>
                      <a:lnTo>
                        <a:pt x="320" y="84"/>
                      </a:lnTo>
                      <a:lnTo>
                        <a:pt x="303" y="94"/>
                      </a:lnTo>
                      <a:lnTo>
                        <a:pt x="287" y="101"/>
                      </a:lnTo>
                      <a:lnTo>
                        <a:pt x="272" y="108"/>
                      </a:lnTo>
                      <a:lnTo>
                        <a:pt x="257" y="112"/>
                      </a:lnTo>
                      <a:lnTo>
                        <a:pt x="241" y="115"/>
                      </a:lnTo>
                      <a:lnTo>
                        <a:pt x="226" y="116"/>
                      </a:lnTo>
                      <a:lnTo>
                        <a:pt x="212" y="117"/>
                      </a:lnTo>
                      <a:lnTo>
                        <a:pt x="197" y="116"/>
                      </a:lnTo>
                      <a:lnTo>
                        <a:pt x="183" y="114"/>
                      </a:lnTo>
                      <a:lnTo>
                        <a:pt x="169" y="112"/>
                      </a:lnTo>
                      <a:lnTo>
                        <a:pt x="157" y="108"/>
                      </a:lnTo>
                      <a:lnTo>
                        <a:pt x="144" y="104"/>
                      </a:lnTo>
                      <a:lnTo>
                        <a:pt x="131" y="98"/>
                      </a:lnTo>
                      <a:lnTo>
                        <a:pt x="120" y="92"/>
                      </a:lnTo>
                      <a:lnTo>
                        <a:pt x="108" y="86"/>
                      </a:lnTo>
                      <a:lnTo>
                        <a:pt x="98" y="79"/>
                      </a:lnTo>
                      <a:lnTo>
                        <a:pt x="87" y="73"/>
                      </a:lnTo>
                      <a:lnTo>
                        <a:pt x="77" y="66"/>
                      </a:lnTo>
                      <a:lnTo>
                        <a:pt x="68" y="59"/>
                      </a:lnTo>
                      <a:lnTo>
                        <a:pt x="59" y="51"/>
                      </a:lnTo>
                      <a:lnTo>
                        <a:pt x="52" y="44"/>
                      </a:lnTo>
                      <a:lnTo>
                        <a:pt x="45" y="37"/>
                      </a:lnTo>
                      <a:lnTo>
                        <a:pt x="38" y="30"/>
                      </a:lnTo>
                      <a:lnTo>
                        <a:pt x="31" y="24"/>
                      </a:lnTo>
                      <a:lnTo>
                        <a:pt x="26" y="18"/>
                      </a:lnTo>
                      <a:lnTo>
                        <a:pt x="22" y="14"/>
                      </a:lnTo>
                      <a:lnTo>
                        <a:pt x="18" y="9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2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47"/>
                <p:cNvSpPr/>
                <p:nvPr/>
              </p:nvSpPr>
              <p:spPr>
                <a:xfrm>
                  <a:off x="2081520" y="6177600"/>
                  <a:ext cx="554040" cy="413280"/>
                </a:xfrm>
                <a:custGeom>
                  <a:avLst/>
                  <a:gdLst>
                    <a:gd name="textAreaLeft" fmla="*/ 0 w 554040"/>
                    <a:gd name="textAreaRight" fmla="*/ 554400 w 55404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557" h="447">
                      <a:moveTo>
                        <a:pt x="505" y="0"/>
                      </a:moveTo>
                      <a:lnTo>
                        <a:pt x="557" y="110"/>
                      </a:lnTo>
                      <a:lnTo>
                        <a:pt x="545" y="219"/>
                      </a:lnTo>
                      <a:lnTo>
                        <a:pt x="544" y="219"/>
                      </a:lnTo>
                      <a:lnTo>
                        <a:pt x="543" y="220"/>
                      </a:lnTo>
                      <a:lnTo>
                        <a:pt x="541" y="221"/>
                      </a:lnTo>
                      <a:lnTo>
                        <a:pt x="537" y="224"/>
                      </a:lnTo>
                      <a:lnTo>
                        <a:pt x="533" y="227"/>
                      </a:lnTo>
                      <a:lnTo>
                        <a:pt x="528" y="229"/>
                      </a:lnTo>
                      <a:lnTo>
                        <a:pt x="524" y="233"/>
                      </a:lnTo>
                      <a:lnTo>
                        <a:pt x="518" y="236"/>
                      </a:lnTo>
                      <a:lnTo>
                        <a:pt x="511" y="239"/>
                      </a:lnTo>
                      <a:lnTo>
                        <a:pt x="505" y="243"/>
                      </a:lnTo>
                      <a:lnTo>
                        <a:pt x="498" y="245"/>
                      </a:lnTo>
                      <a:lnTo>
                        <a:pt x="490" y="249"/>
                      </a:lnTo>
                      <a:lnTo>
                        <a:pt x="483" y="252"/>
                      </a:lnTo>
                      <a:lnTo>
                        <a:pt x="476" y="255"/>
                      </a:lnTo>
                      <a:lnTo>
                        <a:pt x="468" y="257"/>
                      </a:lnTo>
                      <a:lnTo>
                        <a:pt x="461" y="259"/>
                      </a:lnTo>
                      <a:lnTo>
                        <a:pt x="450" y="262"/>
                      </a:lnTo>
                      <a:lnTo>
                        <a:pt x="443" y="263"/>
                      </a:lnTo>
                      <a:lnTo>
                        <a:pt x="438" y="264"/>
                      </a:lnTo>
                      <a:lnTo>
                        <a:pt x="435" y="266"/>
                      </a:lnTo>
                      <a:lnTo>
                        <a:pt x="431" y="267"/>
                      </a:lnTo>
                      <a:lnTo>
                        <a:pt x="424" y="271"/>
                      </a:lnTo>
                      <a:lnTo>
                        <a:pt x="415" y="277"/>
                      </a:lnTo>
                      <a:lnTo>
                        <a:pt x="401" y="285"/>
                      </a:lnTo>
                      <a:lnTo>
                        <a:pt x="392" y="290"/>
                      </a:lnTo>
                      <a:lnTo>
                        <a:pt x="384" y="296"/>
                      </a:lnTo>
                      <a:lnTo>
                        <a:pt x="376" y="302"/>
                      </a:lnTo>
                      <a:lnTo>
                        <a:pt x="369" y="309"/>
                      </a:lnTo>
                      <a:lnTo>
                        <a:pt x="361" y="316"/>
                      </a:lnTo>
                      <a:lnTo>
                        <a:pt x="353" y="324"/>
                      </a:lnTo>
                      <a:lnTo>
                        <a:pt x="346" y="331"/>
                      </a:lnTo>
                      <a:lnTo>
                        <a:pt x="339" y="338"/>
                      </a:lnTo>
                      <a:lnTo>
                        <a:pt x="332" y="346"/>
                      </a:lnTo>
                      <a:lnTo>
                        <a:pt x="327" y="353"/>
                      </a:lnTo>
                      <a:lnTo>
                        <a:pt x="321" y="359"/>
                      </a:lnTo>
                      <a:lnTo>
                        <a:pt x="315" y="366"/>
                      </a:lnTo>
                      <a:lnTo>
                        <a:pt x="309" y="372"/>
                      </a:lnTo>
                      <a:lnTo>
                        <a:pt x="305" y="379"/>
                      </a:lnTo>
                      <a:lnTo>
                        <a:pt x="300" y="384"/>
                      </a:lnTo>
                      <a:lnTo>
                        <a:pt x="295" y="388"/>
                      </a:lnTo>
                      <a:lnTo>
                        <a:pt x="290" y="393"/>
                      </a:lnTo>
                      <a:lnTo>
                        <a:pt x="284" y="398"/>
                      </a:lnTo>
                      <a:lnTo>
                        <a:pt x="277" y="402"/>
                      </a:lnTo>
                      <a:lnTo>
                        <a:pt x="268" y="407"/>
                      </a:lnTo>
                      <a:lnTo>
                        <a:pt x="259" y="410"/>
                      </a:lnTo>
                      <a:lnTo>
                        <a:pt x="249" y="415"/>
                      </a:lnTo>
                      <a:lnTo>
                        <a:pt x="238" y="418"/>
                      </a:lnTo>
                      <a:lnTo>
                        <a:pt x="227" y="423"/>
                      </a:lnTo>
                      <a:lnTo>
                        <a:pt x="216" y="426"/>
                      </a:lnTo>
                      <a:lnTo>
                        <a:pt x="204" y="430"/>
                      </a:lnTo>
                      <a:lnTo>
                        <a:pt x="193" y="434"/>
                      </a:lnTo>
                      <a:lnTo>
                        <a:pt x="183" y="437"/>
                      </a:lnTo>
                      <a:lnTo>
                        <a:pt x="172" y="440"/>
                      </a:lnTo>
                      <a:lnTo>
                        <a:pt x="162" y="442"/>
                      </a:lnTo>
                      <a:lnTo>
                        <a:pt x="151" y="445"/>
                      </a:lnTo>
                      <a:lnTo>
                        <a:pt x="141" y="446"/>
                      </a:lnTo>
                      <a:lnTo>
                        <a:pt x="132" y="447"/>
                      </a:lnTo>
                      <a:lnTo>
                        <a:pt x="123" y="447"/>
                      </a:lnTo>
                      <a:lnTo>
                        <a:pt x="112" y="446"/>
                      </a:lnTo>
                      <a:lnTo>
                        <a:pt x="102" y="444"/>
                      </a:lnTo>
                      <a:lnTo>
                        <a:pt x="91" y="441"/>
                      </a:lnTo>
                      <a:lnTo>
                        <a:pt x="81" y="439"/>
                      </a:lnTo>
                      <a:lnTo>
                        <a:pt x="71" y="434"/>
                      </a:lnTo>
                      <a:lnTo>
                        <a:pt x="62" y="431"/>
                      </a:lnTo>
                      <a:lnTo>
                        <a:pt x="52" y="427"/>
                      </a:lnTo>
                      <a:lnTo>
                        <a:pt x="44" y="423"/>
                      </a:lnTo>
                      <a:lnTo>
                        <a:pt x="36" y="419"/>
                      </a:lnTo>
                      <a:lnTo>
                        <a:pt x="30" y="416"/>
                      </a:lnTo>
                      <a:lnTo>
                        <a:pt x="25" y="414"/>
                      </a:lnTo>
                      <a:lnTo>
                        <a:pt x="21" y="411"/>
                      </a:lnTo>
                      <a:lnTo>
                        <a:pt x="19" y="409"/>
                      </a:lnTo>
                      <a:lnTo>
                        <a:pt x="18" y="409"/>
                      </a:lnTo>
                      <a:lnTo>
                        <a:pt x="17" y="408"/>
                      </a:lnTo>
                      <a:lnTo>
                        <a:pt x="13" y="403"/>
                      </a:lnTo>
                      <a:lnTo>
                        <a:pt x="10" y="396"/>
                      </a:lnTo>
                      <a:lnTo>
                        <a:pt x="5" y="388"/>
                      </a:lnTo>
                      <a:lnTo>
                        <a:pt x="3" y="378"/>
                      </a:lnTo>
                      <a:lnTo>
                        <a:pt x="0" y="368"/>
                      </a:lnTo>
                      <a:lnTo>
                        <a:pt x="2" y="356"/>
                      </a:lnTo>
                      <a:lnTo>
                        <a:pt x="6" y="346"/>
                      </a:lnTo>
                      <a:lnTo>
                        <a:pt x="10" y="340"/>
                      </a:lnTo>
                      <a:lnTo>
                        <a:pt x="14" y="335"/>
                      </a:lnTo>
                      <a:lnTo>
                        <a:pt x="19" y="331"/>
                      </a:lnTo>
                      <a:lnTo>
                        <a:pt x="26" y="325"/>
                      </a:lnTo>
                      <a:lnTo>
                        <a:pt x="32" y="321"/>
                      </a:lnTo>
                      <a:lnTo>
                        <a:pt x="37" y="317"/>
                      </a:lnTo>
                      <a:lnTo>
                        <a:pt x="44" y="312"/>
                      </a:lnTo>
                      <a:lnTo>
                        <a:pt x="50" y="309"/>
                      </a:lnTo>
                      <a:lnTo>
                        <a:pt x="56" y="305"/>
                      </a:lnTo>
                      <a:lnTo>
                        <a:pt x="62" y="303"/>
                      </a:lnTo>
                      <a:lnTo>
                        <a:pt x="67" y="300"/>
                      </a:lnTo>
                      <a:lnTo>
                        <a:pt x="72" y="298"/>
                      </a:lnTo>
                      <a:lnTo>
                        <a:pt x="75" y="296"/>
                      </a:lnTo>
                      <a:lnTo>
                        <a:pt x="79" y="295"/>
                      </a:lnTo>
                      <a:lnTo>
                        <a:pt x="81" y="294"/>
                      </a:lnTo>
                      <a:lnTo>
                        <a:pt x="82" y="293"/>
                      </a:lnTo>
                      <a:lnTo>
                        <a:pt x="86" y="289"/>
                      </a:lnTo>
                      <a:lnTo>
                        <a:pt x="90" y="285"/>
                      </a:lnTo>
                      <a:lnTo>
                        <a:pt x="97" y="278"/>
                      </a:lnTo>
                      <a:lnTo>
                        <a:pt x="104" y="270"/>
                      </a:lnTo>
                      <a:lnTo>
                        <a:pt x="112" y="260"/>
                      </a:lnTo>
                      <a:lnTo>
                        <a:pt x="121" y="250"/>
                      </a:lnTo>
                      <a:lnTo>
                        <a:pt x="132" y="240"/>
                      </a:lnTo>
                      <a:lnTo>
                        <a:pt x="141" y="229"/>
                      </a:lnTo>
                      <a:lnTo>
                        <a:pt x="150" y="219"/>
                      </a:lnTo>
                      <a:lnTo>
                        <a:pt x="159" y="209"/>
                      </a:lnTo>
                      <a:lnTo>
                        <a:pt x="169" y="198"/>
                      </a:lnTo>
                      <a:lnTo>
                        <a:pt x="176" y="188"/>
                      </a:lnTo>
                      <a:lnTo>
                        <a:pt x="183" y="180"/>
                      </a:lnTo>
                      <a:lnTo>
                        <a:pt x="187" y="173"/>
                      </a:lnTo>
                      <a:lnTo>
                        <a:pt x="191" y="167"/>
                      </a:lnTo>
                      <a:lnTo>
                        <a:pt x="192" y="161"/>
                      </a:lnTo>
                      <a:lnTo>
                        <a:pt x="194" y="156"/>
                      </a:lnTo>
                      <a:lnTo>
                        <a:pt x="196" y="149"/>
                      </a:lnTo>
                      <a:lnTo>
                        <a:pt x="199" y="142"/>
                      </a:lnTo>
                      <a:lnTo>
                        <a:pt x="201" y="133"/>
                      </a:lnTo>
                      <a:lnTo>
                        <a:pt x="203" y="126"/>
                      </a:lnTo>
                      <a:lnTo>
                        <a:pt x="206" y="116"/>
                      </a:lnTo>
                      <a:lnTo>
                        <a:pt x="208" y="108"/>
                      </a:lnTo>
                      <a:lnTo>
                        <a:pt x="209" y="100"/>
                      </a:lnTo>
                      <a:lnTo>
                        <a:pt x="211" y="93"/>
                      </a:lnTo>
                      <a:lnTo>
                        <a:pt x="212" y="86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16" y="73"/>
                      </a:lnTo>
                      <a:lnTo>
                        <a:pt x="217" y="70"/>
                      </a:lnTo>
                      <a:lnTo>
                        <a:pt x="217" y="69"/>
                      </a:lnTo>
                      <a:lnTo>
                        <a:pt x="5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48"/>
                <p:cNvSpPr/>
                <p:nvPr/>
              </p:nvSpPr>
              <p:spPr>
                <a:xfrm>
                  <a:off x="2581200" y="6175800"/>
                  <a:ext cx="57600" cy="1036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57" h="113">
                      <a:moveTo>
                        <a:pt x="57" y="112"/>
                      </a:moveTo>
                      <a:lnTo>
                        <a:pt x="56" y="10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1" y="113"/>
                      </a:lnTo>
                      <a:lnTo>
                        <a:pt x="51" y="111"/>
                      </a:lnTo>
                      <a:lnTo>
                        <a:pt x="57" y="112"/>
                      </a:lnTo>
                      <a:lnTo>
                        <a:pt x="57" y="111"/>
                      </a:lnTo>
                      <a:lnTo>
                        <a:pt x="56" y="109"/>
                      </a:lnTo>
                      <a:lnTo>
                        <a:pt x="5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49"/>
                <p:cNvSpPr/>
                <p:nvPr/>
              </p:nvSpPr>
              <p:spPr>
                <a:xfrm>
                  <a:off x="2621520" y="6278040"/>
                  <a:ext cx="17280" cy="1036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8" h="111">
                      <a:moveTo>
                        <a:pt x="5" y="111"/>
                      </a:moveTo>
                      <a:lnTo>
                        <a:pt x="7" y="109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0" y="108"/>
                      </a:lnTo>
                      <a:lnTo>
                        <a:pt x="1" y="105"/>
                      </a:lnTo>
                      <a:lnTo>
                        <a:pt x="5" y="111"/>
                      </a:lnTo>
                      <a:lnTo>
                        <a:pt x="7" y="110"/>
                      </a:lnTo>
                      <a:lnTo>
                        <a:pt x="7" y="109"/>
                      </a:lnTo>
                      <a:lnTo>
                        <a:pt x="5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50"/>
                <p:cNvSpPr/>
                <p:nvPr/>
              </p:nvSpPr>
              <p:spPr>
                <a:xfrm>
                  <a:off x="2539800" y="6375960"/>
                  <a:ext cx="85680" cy="44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" y="48"/>
                      </a:moveTo>
                      <a:lnTo>
                        <a:pt x="2" y="48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3" y="40"/>
                      </a:lnTo>
                      <a:lnTo>
                        <a:pt x="30" y="37"/>
                      </a:lnTo>
                      <a:lnTo>
                        <a:pt x="38" y="34"/>
                      </a:lnTo>
                      <a:lnTo>
                        <a:pt x="45" y="30"/>
                      </a:lnTo>
                      <a:lnTo>
                        <a:pt x="51" y="27"/>
                      </a:lnTo>
                      <a:lnTo>
                        <a:pt x="58" y="24"/>
                      </a:lnTo>
                      <a:lnTo>
                        <a:pt x="65" y="20"/>
                      </a:lnTo>
                      <a:lnTo>
                        <a:pt x="69" y="17"/>
                      </a:lnTo>
                      <a:lnTo>
                        <a:pt x="74" y="14"/>
                      </a:lnTo>
                      <a:lnTo>
                        <a:pt x="79" y="12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6" y="7"/>
                      </a:lnTo>
                      <a:lnTo>
                        <a:pt x="86" y="6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78" y="4"/>
                      </a:lnTo>
                      <a:lnTo>
                        <a:pt x="74" y="6"/>
                      </a:lnTo>
                      <a:lnTo>
                        <a:pt x="71" y="9"/>
                      </a:lnTo>
                      <a:lnTo>
                        <a:pt x="66" y="12"/>
                      </a:lnTo>
                      <a:lnTo>
                        <a:pt x="60" y="14"/>
                      </a:lnTo>
                      <a:lnTo>
                        <a:pt x="56" y="18"/>
                      </a:lnTo>
                      <a:lnTo>
                        <a:pt x="49" y="21"/>
                      </a:lnTo>
                      <a:lnTo>
                        <a:pt x="42" y="25"/>
                      </a:lnTo>
                      <a:lnTo>
                        <a:pt x="35" y="28"/>
                      </a:lnTo>
                      <a:lnTo>
                        <a:pt x="28" y="32"/>
                      </a:lnTo>
                      <a:lnTo>
                        <a:pt x="21" y="35"/>
                      </a:lnTo>
                      <a:lnTo>
                        <a:pt x="14" y="37"/>
                      </a:lnTo>
                      <a:lnTo>
                        <a:pt x="7" y="40"/>
                      </a:lnTo>
                      <a:lnTo>
                        <a:pt x="0" y="4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51"/>
                <p:cNvSpPr/>
                <p:nvPr/>
              </p:nvSpPr>
              <p:spPr>
                <a:xfrm>
                  <a:off x="2480040" y="6413400"/>
                  <a:ext cx="61200" cy="31320"/>
                </a:xfrm>
                <a:custGeom>
                  <a:avLst/>
                  <a:gdLst>
                    <a:gd name="textAreaLeft" fmla="*/ 0 w 61200"/>
                    <a:gd name="textAreaRight" fmla="*/ 61560 w 612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63" h="32">
                      <a:moveTo>
                        <a:pt x="3" y="32"/>
                      </a:moveTo>
                      <a:lnTo>
                        <a:pt x="3" y="32"/>
                      </a:lnTo>
                      <a:lnTo>
                        <a:pt x="18" y="24"/>
                      </a:lnTo>
                      <a:lnTo>
                        <a:pt x="27" y="18"/>
                      </a:lnTo>
                      <a:lnTo>
                        <a:pt x="33" y="15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4" y="10"/>
                      </a:lnTo>
                      <a:lnTo>
                        <a:pt x="51" y="9"/>
                      </a:lnTo>
                      <a:lnTo>
                        <a:pt x="63" y="7"/>
                      </a:lnTo>
                      <a:lnTo>
                        <a:pt x="61" y="0"/>
                      </a:lnTo>
                      <a:lnTo>
                        <a:pt x="50" y="2"/>
                      </a:lnTo>
                      <a:lnTo>
                        <a:pt x="42" y="3"/>
                      </a:lnTo>
                      <a:lnTo>
                        <a:pt x="37" y="6"/>
                      </a:lnTo>
                      <a:lnTo>
                        <a:pt x="34" y="7"/>
                      </a:lnTo>
                      <a:lnTo>
                        <a:pt x="29" y="9"/>
                      </a:lnTo>
                      <a:lnTo>
                        <a:pt x="23" y="12"/>
                      </a:lnTo>
                      <a:lnTo>
                        <a:pt x="14" y="18"/>
                      </a:lnTo>
                      <a:lnTo>
                        <a:pt x="0" y="26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52"/>
                <p:cNvSpPr/>
                <p:nvPr/>
              </p:nvSpPr>
              <p:spPr>
                <a:xfrm>
                  <a:off x="2372040" y="6438960"/>
                  <a:ext cx="109800" cy="10008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10" h="109">
                      <a:moveTo>
                        <a:pt x="5" y="109"/>
                      </a:moveTo>
                      <a:lnTo>
                        <a:pt x="5" y="109"/>
                      </a:lnTo>
                      <a:lnTo>
                        <a:pt x="9" y="104"/>
                      </a:lnTo>
                      <a:lnTo>
                        <a:pt x="14" y="98"/>
                      </a:lnTo>
                      <a:lnTo>
                        <a:pt x="19" y="92"/>
                      </a:lnTo>
                      <a:lnTo>
                        <a:pt x="24" y="87"/>
                      </a:lnTo>
                      <a:lnTo>
                        <a:pt x="30" y="80"/>
                      </a:lnTo>
                      <a:lnTo>
                        <a:pt x="36" y="73"/>
                      </a:lnTo>
                      <a:lnTo>
                        <a:pt x="42" y="66"/>
                      </a:lnTo>
                      <a:lnTo>
                        <a:pt x="49" y="58"/>
                      </a:lnTo>
                      <a:lnTo>
                        <a:pt x="55" y="51"/>
                      </a:lnTo>
                      <a:lnTo>
                        <a:pt x="62" y="44"/>
                      </a:lnTo>
                      <a:lnTo>
                        <a:pt x="70" y="36"/>
                      </a:lnTo>
                      <a:lnTo>
                        <a:pt x="78" y="29"/>
                      </a:lnTo>
                      <a:lnTo>
                        <a:pt x="85" y="22"/>
                      </a:lnTo>
                      <a:lnTo>
                        <a:pt x="93" y="16"/>
                      </a:lnTo>
                      <a:lnTo>
                        <a:pt x="102" y="11"/>
                      </a:lnTo>
                      <a:lnTo>
                        <a:pt x="110" y="6"/>
                      </a:lnTo>
                      <a:lnTo>
                        <a:pt x="107" y="0"/>
                      </a:lnTo>
                      <a:lnTo>
                        <a:pt x="98" y="5"/>
                      </a:lnTo>
                      <a:lnTo>
                        <a:pt x="90" y="12"/>
                      </a:lnTo>
                      <a:lnTo>
                        <a:pt x="82" y="18"/>
                      </a:lnTo>
                      <a:lnTo>
                        <a:pt x="74" y="25"/>
                      </a:lnTo>
                      <a:lnTo>
                        <a:pt x="66" y="31"/>
                      </a:lnTo>
                      <a:lnTo>
                        <a:pt x="58" y="39"/>
                      </a:lnTo>
                      <a:lnTo>
                        <a:pt x="51" y="46"/>
                      </a:lnTo>
                      <a:lnTo>
                        <a:pt x="44" y="53"/>
                      </a:lnTo>
                      <a:lnTo>
                        <a:pt x="37" y="61"/>
                      </a:lnTo>
                      <a:lnTo>
                        <a:pt x="31" y="69"/>
                      </a:lnTo>
                      <a:lnTo>
                        <a:pt x="25" y="75"/>
                      </a:lnTo>
                      <a:lnTo>
                        <a:pt x="20" y="82"/>
                      </a:lnTo>
                      <a:lnTo>
                        <a:pt x="14" y="88"/>
                      </a:lnTo>
                      <a:lnTo>
                        <a:pt x="9" y="95"/>
                      </a:lnTo>
                      <a:lnTo>
                        <a:pt x="5" y="99"/>
                      </a:lnTo>
                      <a:lnTo>
                        <a:pt x="0" y="104"/>
                      </a:lnTo>
                      <a:lnTo>
                        <a:pt x="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53"/>
                <p:cNvSpPr/>
                <p:nvPr/>
              </p:nvSpPr>
              <p:spPr>
                <a:xfrm>
                  <a:off x="2220480" y="6533640"/>
                  <a:ext cx="155160" cy="59040"/>
                </a:xfrm>
                <a:custGeom>
                  <a:avLst/>
                  <a:gdLst>
                    <a:gd name="textAreaLeft" fmla="*/ 0 w 155160"/>
                    <a:gd name="textAreaRight" fmla="*/ 155520 w 1551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57" h="63">
                      <a:moveTo>
                        <a:pt x="1" y="63"/>
                      </a:moveTo>
                      <a:lnTo>
                        <a:pt x="1" y="63"/>
                      </a:lnTo>
                      <a:lnTo>
                        <a:pt x="10" y="61"/>
                      </a:lnTo>
                      <a:lnTo>
                        <a:pt x="21" y="60"/>
                      </a:lnTo>
                      <a:lnTo>
                        <a:pt x="32" y="58"/>
                      </a:lnTo>
                      <a:lnTo>
                        <a:pt x="43" y="54"/>
                      </a:lnTo>
                      <a:lnTo>
                        <a:pt x="53" y="51"/>
                      </a:lnTo>
                      <a:lnTo>
                        <a:pt x="65" y="47"/>
                      </a:lnTo>
                      <a:lnTo>
                        <a:pt x="76" y="44"/>
                      </a:lnTo>
                      <a:lnTo>
                        <a:pt x="88" y="40"/>
                      </a:lnTo>
                      <a:lnTo>
                        <a:pt x="98" y="36"/>
                      </a:lnTo>
                      <a:lnTo>
                        <a:pt x="110" y="32"/>
                      </a:lnTo>
                      <a:lnTo>
                        <a:pt x="119" y="28"/>
                      </a:lnTo>
                      <a:lnTo>
                        <a:pt x="128" y="23"/>
                      </a:lnTo>
                      <a:lnTo>
                        <a:pt x="137" y="18"/>
                      </a:lnTo>
                      <a:lnTo>
                        <a:pt x="145" y="14"/>
                      </a:lnTo>
                      <a:lnTo>
                        <a:pt x="151" y="9"/>
                      </a:lnTo>
                      <a:lnTo>
                        <a:pt x="157" y="5"/>
                      </a:lnTo>
                      <a:lnTo>
                        <a:pt x="152" y="0"/>
                      </a:lnTo>
                      <a:lnTo>
                        <a:pt x="148" y="5"/>
                      </a:lnTo>
                      <a:lnTo>
                        <a:pt x="141" y="9"/>
                      </a:lnTo>
                      <a:lnTo>
                        <a:pt x="134" y="13"/>
                      </a:lnTo>
                      <a:lnTo>
                        <a:pt x="126" y="17"/>
                      </a:lnTo>
                      <a:lnTo>
                        <a:pt x="116" y="22"/>
                      </a:lnTo>
                      <a:lnTo>
                        <a:pt x="106" y="26"/>
                      </a:lnTo>
                      <a:lnTo>
                        <a:pt x="97" y="30"/>
                      </a:lnTo>
                      <a:lnTo>
                        <a:pt x="85" y="33"/>
                      </a:lnTo>
                      <a:lnTo>
                        <a:pt x="74" y="37"/>
                      </a:lnTo>
                      <a:lnTo>
                        <a:pt x="62" y="41"/>
                      </a:lnTo>
                      <a:lnTo>
                        <a:pt x="51" y="45"/>
                      </a:lnTo>
                      <a:lnTo>
                        <a:pt x="42" y="47"/>
                      </a:lnTo>
                      <a:lnTo>
                        <a:pt x="30" y="51"/>
                      </a:lnTo>
                      <a:lnTo>
                        <a:pt x="20" y="53"/>
                      </a:lnTo>
                      <a:lnTo>
                        <a:pt x="9" y="55"/>
                      </a:lnTo>
                      <a:lnTo>
                        <a:pt x="0" y="58"/>
                      </a:lnTo>
                      <a:lnTo>
                        <a:pt x="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54"/>
                <p:cNvSpPr/>
                <p:nvPr/>
              </p:nvSpPr>
              <p:spPr>
                <a:xfrm>
                  <a:off x="2095560" y="6554160"/>
                  <a:ext cx="127440" cy="4068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27" h="4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16"/>
                      </a:lnTo>
                      <a:lnTo>
                        <a:pt x="27" y="19"/>
                      </a:lnTo>
                      <a:lnTo>
                        <a:pt x="36" y="23"/>
                      </a:lnTo>
                      <a:lnTo>
                        <a:pt x="45" y="27"/>
                      </a:lnTo>
                      <a:lnTo>
                        <a:pt x="55" y="31"/>
                      </a:lnTo>
                      <a:lnTo>
                        <a:pt x="65" y="34"/>
                      </a:lnTo>
                      <a:lnTo>
                        <a:pt x="75" y="38"/>
                      </a:lnTo>
                      <a:lnTo>
                        <a:pt x="86" y="40"/>
                      </a:lnTo>
                      <a:lnTo>
                        <a:pt x="96" y="42"/>
                      </a:lnTo>
                      <a:lnTo>
                        <a:pt x="108" y="44"/>
                      </a:lnTo>
                      <a:lnTo>
                        <a:pt x="117" y="44"/>
                      </a:lnTo>
                      <a:lnTo>
                        <a:pt x="127" y="42"/>
                      </a:lnTo>
                      <a:lnTo>
                        <a:pt x="126" y="37"/>
                      </a:lnTo>
                      <a:lnTo>
                        <a:pt x="117" y="37"/>
                      </a:lnTo>
                      <a:lnTo>
                        <a:pt x="108" y="37"/>
                      </a:lnTo>
                      <a:lnTo>
                        <a:pt x="97" y="37"/>
                      </a:lnTo>
                      <a:lnTo>
                        <a:pt x="87" y="34"/>
                      </a:lnTo>
                      <a:lnTo>
                        <a:pt x="78" y="32"/>
                      </a:lnTo>
                      <a:lnTo>
                        <a:pt x="66" y="29"/>
                      </a:lnTo>
                      <a:lnTo>
                        <a:pt x="57" y="25"/>
                      </a:lnTo>
                      <a:lnTo>
                        <a:pt x="48" y="22"/>
                      </a:lnTo>
                      <a:lnTo>
                        <a:pt x="38" y="17"/>
                      </a:lnTo>
                      <a:lnTo>
                        <a:pt x="30" y="14"/>
                      </a:lnTo>
                      <a:lnTo>
                        <a:pt x="22" y="10"/>
                      </a:lnTo>
                      <a:lnTo>
                        <a:pt x="17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55"/>
                <p:cNvSpPr/>
                <p:nvPr/>
              </p:nvSpPr>
              <p:spPr>
                <a:xfrm>
                  <a:off x="2077200" y="6495120"/>
                  <a:ext cx="23760" cy="630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2" y="36"/>
                      </a:lnTo>
                      <a:lnTo>
                        <a:pt x="6" y="46"/>
                      </a:lnTo>
                      <a:lnTo>
                        <a:pt x="9" y="55"/>
                      </a:lnTo>
                      <a:lnTo>
                        <a:pt x="14" y="61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3" y="64"/>
                      </a:lnTo>
                      <a:lnTo>
                        <a:pt x="22" y="63"/>
                      </a:lnTo>
                      <a:lnTo>
                        <a:pt x="20" y="58"/>
                      </a:lnTo>
                      <a:lnTo>
                        <a:pt x="15" y="52"/>
                      </a:lnTo>
                      <a:lnTo>
                        <a:pt x="12" y="44"/>
                      </a:lnTo>
                      <a:lnTo>
                        <a:pt x="8" y="34"/>
                      </a:lnTo>
                      <a:lnTo>
                        <a:pt x="7" y="25"/>
                      </a:lnTo>
                      <a:lnTo>
                        <a:pt x="8" y="14"/>
                      </a:lnTo>
                      <a:lnTo>
                        <a:pt x="12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56"/>
                <p:cNvSpPr/>
                <p:nvPr/>
              </p:nvSpPr>
              <p:spPr>
                <a:xfrm>
                  <a:off x="2083320" y="6446520"/>
                  <a:ext cx="79560" cy="5148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80" h="55">
                      <a:moveTo>
                        <a:pt x="76" y="0"/>
                      </a:move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5" y="0"/>
                      </a:lnTo>
                      <a:lnTo>
                        <a:pt x="71" y="2"/>
                      </a:lnTo>
                      <a:lnTo>
                        <a:pt x="68" y="3"/>
                      </a:lnTo>
                      <a:lnTo>
                        <a:pt x="63" y="5"/>
                      </a:lnTo>
                      <a:lnTo>
                        <a:pt x="57" y="8"/>
                      </a:lnTo>
                      <a:lnTo>
                        <a:pt x="52" y="11"/>
                      </a:lnTo>
                      <a:lnTo>
                        <a:pt x="46" y="15"/>
                      </a:lnTo>
                      <a:lnTo>
                        <a:pt x="39" y="18"/>
                      </a:lnTo>
                      <a:lnTo>
                        <a:pt x="32" y="21"/>
                      </a:lnTo>
                      <a:lnTo>
                        <a:pt x="26" y="26"/>
                      </a:lnTo>
                      <a:lnTo>
                        <a:pt x="21" y="31"/>
                      </a:lnTo>
                      <a:lnTo>
                        <a:pt x="14" y="36"/>
                      </a:lnTo>
                      <a:lnTo>
                        <a:pt x="9" y="41"/>
                      </a:lnTo>
                      <a:lnTo>
                        <a:pt x="4" y="47"/>
                      </a:lnTo>
                      <a:lnTo>
                        <a:pt x="0" y="51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4" y="46"/>
                      </a:lnTo>
                      <a:lnTo>
                        <a:pt x="18" y="41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7" y="27"/>
                      </a:lnTo>
                      <a:lnTo>
                        <a:pt x="42" y="24"/>
                      </a:lnTo>
                      <a:lnTo>
                        <a:pt x="48" y="20"/>
                      </a:lnTo>
                      <a:lnTo>
                        <a:pt x="55" y="17"/>
                      </a:lnTo>
                      <a:lnTo>
                        <a:pt x="60" y="13"/>
                      </a:lnTo>
                      <a:lnTo>
                        <a:pt x="65" y="11"/>
                      </a:lnTo>
                      <a:lnTo>
                        <a:pt x="70" y="9"/>
                      </a:lnTo>
                      <a:lnTo>
                        <a:pt x="74" y="6"/>
                      </a:lnTo>
                      <a:lnTo>
                        <a:pt x="77" y="6"/>
                      </a:lnTo>
                      <a:lnTo>
                        <a:pt x="79" y="5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7"/>
                <p:cNvSpPr/>
                <p:nvPr/>
              </p:nvSpPr>
              <p:spPr>
                <a:xfrm>
                  <a:off x="2159280" y="6329520"/>
                  <a:ext cx="111600" cy="12240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13" h="130">
                      <a:moveTo>
                        <a:pt x="108" y="0"/>
                      </a:moveTo>
                      <a:lnTo>
                        <a:pt x="108" y="0"/>
                      </a:lnTo>
                      <a:lnTo>
                        <a:pt x="106" y="5"/>
                      </a:lnTo>
                      <a:lnTo>
                        <a:pt x="101" y="13"/>
                      </a:lnTo>
                      <a:lnTo>
                        <a:pt x="94" y="21"/>
                      </a:lnTo>
                      <a:lnTo>
                        <a:pt x="87" y="30"/>
                      </a:lnTo>
                      <a:lnTo>
                        <a:pt x="78" y="40"/>
                      </a:lnTo>
                      <a:lnTo>
                        <a:pt x="69" y="51"/>
                      </a:lnTo>
                      <a:lnTo>
                        <a:pt x="60" y="61"/>
                      </a:lnTo>
                      <a:lnTo>
                        <a:pt x="51" y="71"/>
                      </a:lnTo>
                      <a:lnTo>
                        <a:pt x="40" y="82"/>
                      </a:lnTo>
                      <a:lnTo>
                        <a:pt x="31" y="92"/>
                      </a:lnTo>
                      <a:lnTo>
                        <a:pt x="23" y="101"/>
                      </a:lnTo>
                      <a:lnTo>
                        <a:pt x="16" y="109"/>
                      </a:lnTo>
                      <a:lnTo>
                        <a:pt x="9" y="116"/>
                      </a:lnTo>
                      <a:lnTo>
                        <a:pt x="4" y="121"/>
                      </a:lnTo>
                      <a:lnTo>
                        <a:pt x="1" y="124"/>
                      </a:lnTo>
                      <a:lnTo>
                        <a:pt x="0" y="126"/>
                      </a:lnTo>
                      <a:lnTo>
                        <a:pt x="4" y="130"/>
                      </a:lnTo>
                      <a:lnTo>
                        <a:pt x="6" y="129"/>
                      </a:lnTo>
                      <a:lnTo>
                        <a:pt x="9" y="126"/>
                      </a:lnTo>
                      <a:lnTo>
                        <a:pt x="14" y="121"/>
                      </a:lnTo>
                      <a:lnTo>
                        <a:pt x="21" y="114"/>
                      </a:lnTo>
                      <a:lnTo>
                        <a:pt x="27" y="106"/>
                      </a:lnTo>
                      <a:lnTo>
                        <a:pt x="36" y="97"/>
                      </a:lnTo>
                      <a:lnTo>
                        <a:pt x="45" y="86"/>
                      </a:lnTo>
                      <a:lnTo>
                        <a:pt x="55" y="76"/>
                      </a:lnTo>
                      <a:lnTo>
                        <a:pt x="64" y="66"/>
                      </a:lnTo>
                      <a:lnTo>
                        <a:pt x="74" y="55"/>
                      </a:lnTo>
                      <a:lnTo>
                        <a:pt x="83" y="45"/>
                      </a:lnTo>
                      <a:lnTo>
                        <a:pt x="92" y="33"/>
                      </a:lnTo>
                      <a:lnTo>
                        <a:pt x="99" y="24"/>
                      </a:lnTo>
                      <a:lnTo>
                        <a:pt x="106" y="16"/>
                      </a:lnTo>
                      <a:lnTo>
                        <a:pt x="110" y="8"/>
                      </a:lnTo>
                      <a:lnTo>
                        <a:pt x="113" y="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58"/>
                <p:cNvSpPr/>
                <p:nvPr/>
              </p:nvSpPr>
              <p:spPr>
                <a:xfrm>
                  <a:off x="2266560" y="6237000"/>
                  <a:ext cx="33840" cy="961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4" h="102">
                      <a:moveTo>
                        <a:pt x="29" y="0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5" y="5"/>
                      </a:lnTo>
                      <a:lnTo>
                        <a:pt x="25" y="9"/>
                      </a:lnTo>
                      <a:lnTo>
                        <a:pt x="24" y="15"/>
                      </a:lnTo>
                      <a:lnTo>
                        <a:pt x="23" y="20"/>
                      </a:lnTo>
                      <a:lnTo>
                        <a:pt x="21" y="26"/>
                      </a:lnTo>
                      <a:lnTo>
                        <a:pt x="19" y="34"/>
                      </a:lnTo>
                      <a:lnTo>
                        <a:pt x="17" y="41"/>
                      </a:lnTo>
                      <a:lnTo>
                        <a:pt x="15" y="50"/>
                      </a:lnTo>
                      <a:lnTo>
                        <a:pt x="13" y="58"/>
                      </a:lnTo>
                      <a:lnTo>
                        <a:pt x="11" y="67"/>
                      </a:lnTo>
                      <a:lnTo>
                        <a:pt x="8" y="75"/>
                      </a:lnTo>
                      <a:lnTo>
                        <a:pt x="6" y="82"/>
                      </a:lnTo>
                      <a:lnTo>
                        <a:pt x="4" y="88"/>
                      </a:lnTo>
                      <a:lnTo>
                        <a:pt x="2" y="94"/>
                      </a:lnTo>
                      <a:lnTo>
                        <a:pt x="0" y="100"/>
                      </a:lnTo>
                      <a:lnTo>
                        <a:pt x="5" y="102"/>
                      </a:lnTo>
                      <a:lnTo>
                        <a:pt x="7" y="96"/>
                      </a:lnTo>
                      <a:lnTo>
                        <a:pt x="9" y="90"/>
                      </a:lnTo>
                      <a:lnTo>
                        <a:pt x="12" y="83"/>
                      </a:lnTo>
                      <a:lnTo>
                        <a:pt x="14" y="76"/>
                      </a:lnTo>
                      <a:lnTo>
                        <a:pt x="16" y="68"/>
                      </a:lnTo>
                      <a:lnTo>
                        <a:pt x="19" y="60"/>
                      </a:lnTo>
                      <a:lnTo>
                        <a:pt x="21" y="52"/>
                      </a:lnTo>
                      <a:lnTo>
                        <a:pt x="23" y="44"/>
                      </a:lnTo>
                      <a:lnTo>
                        <a:pt x="25" y="35"/>
                      </a:lnTo>
                      <a:lnTo>
                        <a:pt x="28" y="29"/>
                      </a:lnTo>
                      <a:lnTo>
                        <a:pt x="29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34" y="5"/>
                      </a:lnTo>
                      <a:lnTo>
                        <a:pt x="34" y="4"/>
                      </a:lnTo>
                      <a:lnTo>
                        <a:pt x="31" y="7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59"/>
                <p:cNvSpPr/>
                <p:nvPr/>
              </p:nvSpPr>
              <p:spPr>
                <a:xfrm>
                  <a:off x="2294280" y="6174000"/>
                  <a:ext cx="290880" cy="7020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291" h="76">
                      <a:moveTo>
                        <a:pt x="291" y="2"/>
                      </a:moveTo>
                      <a:lnTo>
                        <a:pt x="288" y="0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290" y="7"/>
                      </a:lnTo>
                      <a:lnTo>
                        <a:pt x="287" y="4"/>
                      </a:lnTo>
                      <a:lnTo>
                        <a:pt x="291" y="2"/>
                      </a:lnTo>
                      <a:lnTo>
                        <a:pt x="291" y="0"/>
                      </a:lnTo>
                      <a:lnTo>
                        <a:pt x="288" y="0"/>
                      </a:lnTo>
                      <a:lnTo>
                        <a:pt x="29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60"/>
                <p:cNvSpPr/>
                <p:nvPr/>
              </p:nvSpPr>
              <p:spPr>
                <a:xfrm>
                  <a:off x="2193120" y="4494960"/>
                  <a:ext cx="420120" cy="1839960"/>
                </a:xfrm>
                <a:custGeom>
                  <a:avLst/>
                  <a:gdLst>
                    <a:gd name="textAreaLeft" fmla="*/ 0 w 420120"/>
                    <a:gd name="textAreaRight" fmla="*/ 420480 w 420120"/>
                    <a:gd name="textAreaTop" fmla="*/ 0 h 1839960"/>
                    <a:gd name="textAreaBottom" fmla="*/ 1840320 h 1839960"/>
                  </a:gdLst>
                  <a:ahLst/>
                  <a:rect l="textAreaLeft" t="textAreaTop" r="textAreaRight" b="textAreaBottom"/>
                  <a:pathLst>
                    <a:path w="422" h="1984">
                      <a:moveTo>
                        <a:pt x="0" y="0"/>
                      </a:moveTo>
                      <a:lnTo>
                        <a:pt x="40" y="873"/>
                      </a:lnTo>
                      <a:lnTo>
                        <a:pt x="40" y="874"/>
                      </a:lnTo>
                      <a:lnTo>
                        <a:pt x="41" y="878"/>
                      </a:lnTo>
                      <a:lnTo>
                        <a:pt x="41" y="885"/>
                      </a:lnTo>
                      <a:lnTo>
                        <a:pt x="42" y="894"/>
                      </a:lnTo>
                      <a:lnTo>
                        <a:pt x="42" y="905"/>
                      </a:lnTo>
                      <a:lnTo>
                        <a:pt x="43" y="919"/>
                      </a:lnTo>
                      <a:lnTo>
                        <a:pt x="44" y="935"/>
                      </a:lnTo>
                      <a:lnTo>
                        <a:pt x="45" y="954"/>
                      </a:lnTo>
                      <a:lnTo>
                        <a:pt x="46" y="973"/>
                      </a:lnTo>
                      <a:lnTo>
                        <a:pt x="49" y="995"/>
                      </a:lnTo>
                      <a:lnTo>
                        <a:pt x="50" y="1021"/>
                      </a:lnTo>
                      <a:lnTo>
                        <a:pt x="52" y="1046"/>
                      </a:lnTo>
                      <a:lnTo>
                        <a:pt x="53" y="1074"/>
                      </a:lnTo>
                      <a:lnTo>
                        <a:pt x="56" y="1102"/>
                      </a:lnTo>
                      <a:lnTo>
                        <a:pt x="58" y="1134"/>
                      </a:lnTo>
                      <a:lnTo>
                        <a:pt x="60" y="1166"/>
                      </a:lnTo>
                      <a:lnTo>
                        <a:pt x="61" y="1199"/>
                      </a:lnTo>
                      <a:lnTo>
                        <a:pt x="64" y="1234"/>
                      </a:lnTo>
                      <a:lnTo>
                        <a:pt x="66" y="1269"/>
                      </a:lnTo>
                      <a:lnTo>
                        <a:pt x="68" y="1307"/>
                      </a:lnTo>
                      <a:lnTo>
                        <a:pt x="71" y="1345"/>
                      </a:lnTo>
                      <a:lnTo>
                        <a:pt x="73" y="1385"/>
                      </a:lnTo>
                      <a:lnTo>
                        <a:pt x="75" y="1424"/>
                      </a:lnTo>
                      <a:lnTo>
                        <a:pt x="78" y="1465"/>
                      </a:lnTo>
                      <a:lnTo>
                        <a:pt x="79" y="1507"/>
                      </a:lnTo>
                      <a:lnTo>
                        <a:pt x="81" y="1548"/>
                      </a:lnTo>
                      <a:lnTo>
                        <a:pt x="85" y="1591"/>
                      </a:lnTo>
                      <a:lnTo>
                        <a:pt x="87" y="1634"/>
                      </a:lnTo>
                      <a:lnTo>
                        <a:pt x="89" y="1676"/>
                      </a:lnTo>
                      <a:lnTo>
                        <a:pt x="91" y="1720"/>
                      </a:lnTo>
                      <a:lnTo>
                        <a:pt x="94" y="1763"/>
                      </a:lnTo>
                      <a:lnTo>
                        <a:pt x="96" y="1806"/>
                      </a:lnTo>
                      <a:lnTo>
                        <a:pt x="96" y="1813"/>
                      </a:lnTo>
                      <a:lnTo>
                        <a:pt x="96" y="1820"/>
                      </a:lnTo>
                      <a:lnTo>
                        <a:pt x="95" y="1827"/>
                      </a:lnTo>
                      <a:lnTo>
                        <a:pt x="95" y="1835"/>
                      </a:lnTo>
                      <a:lnTo>
                        <a:pt x="95" y="1844"/>
                      </a:lnTo>
                      <a:lnTo>
                        <a:pt x="94" y="1854"/>
                      </a:lnTo>
                      <a:lnTo>
                        <a:pt x="93" y="1863"/>
                      </a:lnTo>
                      <a:lnTo>
                        <a:pt x="91" y="1872"/>
                      </a:lnTo>
                      <a:lnTo>
                        <a:pt x="90" y="1881"/>
                      </a:lnTo>
                      <a:lnTo>
                        <a:pt x="89" y="1892"/>
                      </a:lnTo>
                      <a:lnTo>
                        <a:pt x="88" y="1901"/>
                      </a:lnTo>
                      <a:lnTo>
                        <a:pt x="88" y="1909"/>
                      </a:lnTo>
                      <a:lnTo>
                        <a:pt x="88" y="1917"/>
                      </a:lnTo>
                      <a:lnTo>
                        <a:pt x="87" y="1925"/>
                      </a:lnTo>
                      <a:lnTo>
                        <a:pt x="87" y="1933"/>
                      </a:lnTo>
                      <a:lnTo>
                        <a:pt x="87" y="1939"/>
                      </a:lnTo>
                      <a:lnTo>
                        <a:pt x="104" y="1950"/>
                      </a:lnTo>
                      <a:lnTo>
                        <a:pt x="120" y="1960"/>
                      </a:lnTo>
                      <a:lnTo>
                        <a:pt x="138" y="1968"/>
                      </a:lnTo>
                      <a:lnTo>
                        <a:pt x="154" y="1974"/>
                      </a:lnTo>
                      <a:lnTo>
                        <a:pt x="170" y="1979"/>
                      </a:lnTo>
                      <a:lnTo>
                        <a:pt x="185" y="1981"/>
                      </a:lnTo>
                      <a:lnTo>
                        <a:pt x="201" y="1984"/>
                      </a:lnTo>
                      <a:lnTo>
                        <a:pt x="216" y="1984"/>
                      </a:lnTo>
                      <a:lnTo>
                        <a:pt x="231" y="1983"/>
                      </a:lnTo>
                      <a:lnTo>
                        <a:pt x="245" y="1981"/>
                      </a:lnTo>
                      <a:lnTo>
                        <a:pt x="258" y="1978"/>
                      </a:lnTo>
                      <a:lnTo>
                        <a:pt x="272" y="1974"/>
                      </a:lnTo>
                      <a:lnTo>
                        <a:pt x="285" y="1970"/>
                      </a:lnTo>
                      <a:lnTo>
                        <a:pt x="298" y="1964"/>
                      </a:lnTo>
                      <a:lnTo>
                        <a:pt x="310" y="1958"/>
                      </a:lnTo>
                      <a:lnTo>
                        <a:pt x="322" y="1953"/>
                      </a:lnTo>
                      <a:lnTo>
                        <a:pt x="333" y="1946"/>
                      </a:lnTo>
                      <a:lnTo>
                        <a:pt x="344" y="1939"/>
                      </a:lnTo>
                      <a:lnTo>
                        <a:pt x="353" y="1931"/>
                      </a:lnTo>
                      <a:lnTo>
                        <a:pt x="363" y="1924"/>
                      </a:lnTo>
                      <a:lnTo>
                        <a:pt x="371" y="1916"/>
                      </a:lnTo>
                      <a:lnTo>
                        <a:pt x="379" y="1909"/>
                      </a:lnTo>
                      <a:lnTo>
                        <a:pt x="388" y="1902"/>
                      </a:lnTo>
                      <a:lnTo>
                        <a:pt x="394" y="1895"/>
                      </a:lnTo>
                      <a:lnTo>
                        <a:pt x="400" y="1889"/>
                      </a:lnTo>
                      <a:lnTo>
                        <a:pt x="406" y="1882"/>
                      </a:lnTo>
                      <a:lnTo>
                        <a:pt x="411" y="1878"/>
                      </a:lnTo>
                      <a:lnTo>
                        <a:pt x="414" y="1873"/>
                      </a:lnTo>
                      <a:lnTo>
                        <a:pt x="416" y="1870"/>
                      </a:lnTo>
                      <a:lnTo>
                        <a:pt x="419" y="1866"/>
                      </a:lnTo>
                      <a:lnTo>
                        <a:pt x="420" y="1865"/>
                      </a:lnTo>
                      <a:lnTo>
                        <a:pt x="421" y="1864"/>
                      </a:lnTo>
                      <a:lnTo>
                        <a:pt x="414" y="1772"/>
                      </a:lnTo>
                      <a:lnTo>
                        <a:pt x="390" y="956"/>
                      </a:lnTo>
                      <a:lnTo>
                        <a:pt x="422" y="3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61"/>
                <p:cNvSpPr/>
                <p:nvPr/>
              </p:nvSpPr>
              <p:spPr>
                <a:xfrm>
                  <a:off x="2186640" y="4494960"/>
                  <a:ext cx="51840" cy="8103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53" h="873">
                      <a:moveTo>
                        <a:pt x="53" y="872"/>
                      </a:moveTo>
                      <a:lnTo>
                        <a:pt x="53" y="872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41" y="873"/>
                      </a:lnTo>
                      <a:lnTo>
                        <a:pt x="53" y="8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62"/>
                <p:cNvSpPr/>
                <p:nvPr/>
              </p:nvSpPr>
              <p:spPr>
                <a:xfrm>
                  <a:off x="2226960" y="5305680"/>
                  <a:ext cx="67320" cy="8661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66160"/>
                    <a:gd name="textAreaBottom" fmla="*/ 866520 h 866160"/>
                  </a:gdLst>
                  <a:ahLst/>
                  <a:rect l="textAreaLeft" t="textAreaTop" r="textAreaRight" b="textAreaBottom"/>
                  <a:pathLst>
                    <a:path w="68" h="935">
                      <a:moveTo>
                        <a:pt x="68" y="934"/>
                      </a:moveTo>
                      <a:lnTo>
                        <a:pt x="68" y="934"/>
                      </a:lnTo>
                      <a:lnTo>
                        <a:pt x="65" y="891"/>
                      </a:lnTo>
                      <a:lnTo>
                        <a:pt x="63" y="847"/>
                      </a:lnTo>
                      <a:lnTo>
                        <a:pt x="61" y="804"/>
                      </a:lnTo>
                      <a:lnTo>
                        <a:pt x="59" y="762"/>
                      </a:lnTo>
                      <a:lnTo>
                        <a:pt x="56" y="718"/>
                      </a:lnTo>
                      <a:lnTo>
                        <a:pt x="54" y="676"/>
                      </a:lnTo>
                      <a:lnTo>
                        <a:pt x="52" y="634"/>
                      </a:lnTo>
                      <a:lnTo>
                        <a:pt x="49" y="592"/>
                      </a:lnTo>
                      <a:lnTo>
                        <a:pt x="47" y="552"/>
                      </a:lnTo>
                      <a:lnTo>
                        <a:pt x="45" y="512"/>
                      </a:lnTo>
                      <a:lnTo>
                        <a:pt x="44" y="473"/>
                      </a:lnTo>
                      <a:lnTo>
                        <a:pt x="41" y="434"/>
                      </a:lnTo>
                      <a:lnTo>
                        <a:pt x="39" y="397"/>
                      </a:lnTo>
                      <a:lnTo>
                        <a:pt x="37" y="362"/>
                      </a:lnTo>
                      <a:lnTo>
                        <a:pt x="34" y="326"/>
                      </a:lnTo>
                      <a:lnTo>
                        <a:pt x="32" y="293"/>
                      </a:lnTo>
                      <a:lnTo>
                        <a:pt x="30" y="260"/>
                      </a:lnTo>
                      <a:lnTo>
                        <a:pt x="29" y="229"/>
                      </a:lnTo>
                      <a:lnTo>
                        <a:pt x="26" y="200"/>
                      </a:lnTo>
                      <a:lnTo>
                        <a:pt x="24" y="173"/>
                      </a:lnTo>
                      <a:lnTo>
                        <a:pt x="23" y="147"/>
                      </a:lnTo>
                      <a:lnTo>
                        <a:pt x="21" y="123"/>
                      </a:lnTo>
                      <a:lnTo>
                        <a:pt x="19" y="101"/>
                      </a:lnTo>
                      <a:lnTo>
                        <a:pt x="18" y="81"/>
                      </a:lnTo>
                      <a:lnTo>
                        <a:pt x="17" y="63"/>
                      </a:lnTo>
                      <a:lnTo>
                        <a:pt x="16" y="47"/>
                      </a:lnTo>
                      <a:lnTo>
                        <a:pt x="15" y="33"/>
                      </a:lnTo>
                      <a:lnTo>
                        <a:pt x="14" y="22"/>
                      </a:lnTo>
                      <a:lnTo>
                        <a:pt x="14" y="13"/>
                      </a:lnTo>
                      <a:lnTo>
                        <a:pt x="12" y="6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1" y="22"/>
                      </a:lnTo>
                      <a:lnTo>
                        <a:pt x="2" y="33"/>
                      </a:lnTo>
                      <a:lnTo>
                        <a:pt x="3" y="47"/>
                      </a:lnTo>
                      <a:lnTo>
                        <a:pt x="3" y="63"/>
                      </a:lnTo>
                      <a:lnTo>
                        <a:pt x="6" y="82"/>
                      </a:lnTo>
                      <a:lnTo>
                        <a:pt x="7" y="103"/>
                      </a:lnTo>
                      <a:lnTo>
                        <a:pt x="8" y="124"/>
                      </a:lnTo>
                      <a:lnTo>
                        <a:pt x="10" y="149"/>
                      </a:lnTo>
                      <a:lnTo>
                        <a:pt x="11" y="174"/>
                      </a:lnTo>
                      <a:lnTo>
                        <a:pt x="12" y="202"/>
                      </a:lnTo>
                      <a:lnTo>
                        <a:pt x="15" y="230"/>
                      </a:lnTo>
                      <a:lnTo>
                        <a:pt x="17" y="262"/>
                      </a:lnTo>
                      <a:lnTo>
                        <a:pt x="19" y="294"/>
                      </a:lnTo>
                      <a:lnTo>
                        <a:pt x="22" y="327"/>
                      </a:lnTo>
                      <a:lnTo>
                        <a:pt x="24" y="363"/>
                      </a:lnTo>
                      <a:lnTo>
                        <a:pt x="26" y="399"/>
                      </a:lnTo>
                      <a:lnTo>
                        <a:pt x="29" y="435"/>
                      </a:lnTo>
                      <a:lnTo>
                        <a:pt x="31" y="473"/>
                      </a:lnTo>
                      <a:lnTo>
                        <a:pt x="33" y="513"/>
                      </a:lnTo>
                      <a:lnTo>
                        <a:pt x="36" y="552"/>
                      </a:lnTo>
                      <a:lnTo>
                        <a:pt x="38" y="593"/>
                      </a:lnTo>
                      <a:lnTo>
                        <a:pt x="40" y="635"/>
                      </a:lnTo>
                      <a:lnTo>
                        <a:pt x="42" y="676"/>
                      </a:lnTo>
                      <a:lnTo>
                        <a:pt x="44" y="719"/>
                      </a:lnTo>
                      <a:lnTo>
                        <a:pt x="46" y="762"/>
                      </a:lnTo>
                      <a:lnTo>
                        <a:pt x="48" y="805"/>
                      </a:lnTo>
                      <a:lnTo>
                        <a:pt x="51" y="848"/>
                      </a:lnTo>
                      <a:lnTo>
                        <a:pt x="53" y="892"/>
                      </a:lnTo>
                      <a:lnTo>
                        <a:pt x="55" y="935"/>
                      </a:lnTo>
                      <a:lnTo>
                        <a:pt x="68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63"/>
                <p:cNvSpPr/>
                <p:nvPr/>
              </p:nvSpPr>
              <p:spPr>
                <a:xfrm>
                  <a:off x="2274480" y="6171840"/>
                  <a:ext cx="19800" cy="1281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21" h="139">
                      <a:moveTo>
                        <a:pt x="9" y="128"/>
                      </a:moveTo>
                      <a:lnTo>
                        <a:pt x="13" y="133"/>
                      </a:lnTo>
                      <a:lnTo>
                        <a:pt x="13" y="127"/>
                      </a:lnTo>
                      <a:lnTo>
                        <a:pt x="13" y="119"/>
                      </a:lnTo>
                      <a:lnTo>
                        <a:pt x="13" y="112"/>
                      </a:lnTo>
                      <a:lnTo>
                        <a:pt x="14" y="104"/>
                      </a:lnTo>
                      <a:lnTo>
                        <a:pt x="14" y="95"/>
                      </a:lnTo>
                      <a:lnTo>
                        <a:pt x="15" y="86"/>
                      </a:lnTo>
                      <a:lnTo>
                        <a:pt x="16" y="76"/>
                      </a:lnTo>
                      <a:lnTo>
                        <a:pt x="17" y="67"/>
                      </a:ln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20" y="38"/>
                      </a:lnTo>
                      <a:lnTo>
                        <a:pt x="21" y="30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8" y="14"/>
                      </a:lnTo>
                      <a:lnTo>
                        <a:pt x="8" y="21"/>
                      </a:lnTo>
                      <a:lnTo>
                        <a:pt x="7" y="29"/>
                      </a:lnTo>
                      <a:lnTo>
                        <a:pt x="7" y="37"/>
                      </a:lnTo>
                      <a:lnTo>
                        <a:pt x="6" y="46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2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11"/>
                      </a:lnTo>
                      <a:lnTo>
                        <a:pt x="0" y="119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2" y="139"/>
                      </a:lnTo>
                      <a:lnTo>
                        <a:pt x="0" y="134"/>
                      </a:lnTo>
                      <a:lnTo>
                        <a:pt x="0" y="136"/>
                      </a:lnTo>
                      <a:lnTo>
                        <a:pt x="2" y="139"/>
                      </a:lnTo>
                      <a:lnTo>
                        <a:pt x="9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64"/>
                <p:cNvSpPr/>
                <p:nvPr/>
              </p:nvSpPr>
              <p:spPr>
                <a:xfrm>
                  <a:off x="2276640" y="6221880"/>
                  <a:ext cx="340560" cy="120600"/>
                </a:xfrm>
                <a:custGeom>
                  <a:avLst/>
                  <a:gdLst>
                    <a:gd name="textAreaLeft" fmla="*/ 0 w 340560"/>
                    <a:gd name="textAreaRight" fmla="*/ 340560 w 3405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44" h="131">
                      <a:moveTo>
                        <a:pt x="331" y="5"/>
                      </a:moveTo>
                      <a:lnTo>
                        <a:pt x="332" y="0"/>
                      </a:lnTo>
                      <a:lnTo>
                        <a:pt x="331" y="3"/>
                      </a:lnTo>
                      <a:lnTo>
                        <a:pt x="329" y="5"/>
                      </a:lnTo>
                      <a:lnTo>
                        <a:pt x="325" y="9"/>
                      </a:lnTo>
                      <a:lnTo>
                        <a:pt x="322" y="13"/>
                      </a:lnTo>
                      <a:lnTo>
                        <a:pt x="318" y="19"/>
                      </a:lnTo>
                      <a:lnTo>
                        <a:pt x="313" y="25"/>
                      </a:lnTo>
                      <a:lnTo>
                        <a:pt x="307" y="30"/>
                      </a:lnTo>
                      <a:lnTo>
                        <a:pt x="300" y="37"/>
                      </a:lnTo>
                      <a:lnTo>
                        <a:pt x="292" y="44"/>
                      </a:lnTo>
                      <a:lnTo>
                        <a:pt x="285" y="51"/>
                      </a:lnTo>
                      <a:lnTo>
                        <a:pt x="276" y="59"/>
                      </a:lnTo>
                      <a:lnTo>
                        <a:pt x="267" y="66"/>
                      </a:lnTo>
                      <a:lnTo>
                        <a:pt x="256" y="73"/>
                      </a:lnTo>
                      <a:lnTo>
                        <a:pt x="247" y="80"/>
                      </a:lnTo>
                      <a:lnTo>
                        <a:pt x="235" y="87"/>
                      </a:lnTo>
                      <a:lnTo>
                        <a:pt x="224" y="94"/>
                      </a:lnTo>
                      <a:lnTo>
                        <a:pt x="212" y="98"/>
                      </a:lnTo>
                      <a:lnTo>
                        <a:pt x="200" y="103"/>
                      </a:lnTo>
                      <a:lnTo>
                        <a:pt x="187" y="109"/>
                      </a:lnTo>
                      <a:lnTo>
                        <a:pt x="174" y="112"/>
                      </a:lnTo>
                      <a:lnTo>
                        <a:pt x="161" y="114"/>
                      </a:lnTo>
                      <a:lnTo>
                        <a:pt x="147" y="117"/>
                      </a:lnTo>
                      <a:lnTo>
                        <a:pt x="133" y="117"/>
                      </a:lnTo>
                      <a:lnTo>
                        <a:pt x="118" y="117"/>
                      </a:lnTo>
                      <a:lnTo>
                        <a:pt x="103" y="116"/>
                      </a:lnTo>
                      <a:lnTo>
                        <a:pt x="88" y="112"/>
                      </a:lnTo>
                      <a:lnTo>
                        <a:pt x="72" y="108"/>
                      </a:lnTo>
                      <a:lnTo>
                        <a:pt x="57" y="102"/>
                      </a:lnTo>
                      <a:lnTo>
                        <a:pt x="41" y="94"/>
                      </a:lnTo>
                      <a:lnTo>
                        <a:pt x="25" y="85"/>
                      </a:lnTo>
                      <a:lnTo>
                        <a:pt x="7" y="74"/>
                      </a:lnTo>
                      <a:lnTo>
                        <a:pt x="0" y="85"/>
                      </a:lnTo>
                      <a:lnTo>
                        <a:pt x="18" y="96"/>
                      </a:lnTo>
                      <a:lnTo>
                        <a:pt x="35" y="105"/>
                      </a:lnTo>
                      <a:lnTo>
                        <a:pt x="51" y="114"/>
                      </a:lnTo>
                      <a:lnTo>
                        <a:pt x="68" y="120"/>
                      </a:lnTo>
                      <a:lnTo>
                        <a:pt x="86" y="125"/>
                      </a:lnTo>
                      <a:lnTo>
                        <a:pt x="102" y="128"/>
                      </a:lnTo>
                      <a:lnTo>
                        <a:pt x="117" y="129"/>
                      </a:lnTo>
                      <a:lnTo>
                        <a:pt x="133" y="131"/>
                      </a:lnTo>
                      <a:lnTo>
                        <a:pt x="148" y="129"/>
                      </a:lnTo>
                      <a:lnTo>
                        <a:pt x="163" y="127"/>
                      </a:lnTo>
                      <a:lnTo>
                        <a:pt x="177" y="125"/>
                      </a:lnTo>
                      <a:lnTo>
                        <a:pt x="192" y="120"/>
                      </a:lnTo>
                      <a:lnTo>
                        <a:pt x="204" y="116"/>
                      </a:lnTo>
                      <a:lnTo>
                        <a:pt x="218" y="110"/>
                      </a:lnTo>
                      <a:lnTo>
                        <a:pt x="231" y="104"/>
                      </a:lnTo>
                      <a:lnTo>
                        <a:pt x="242" y="97"/>
                      </a:lnTo>
                      <a:lnTo>
                        <a:pt x="254" y="91"/>
                      </a:lnTo>
                      <a:lnTo>
                        <a:pt x="264" y="83"/>
                      </a:lnTo>
                      <a:lnTo>
                        <a:pt x="275" y="76"/>
                      </a:lnTo>
                      <a:lnTo>
                        <a:pt x="284" y="68"/>
                      </a:lnTo>
                      <a:lnTo>
                        <a:pt x="293" y="60"/>
                      </a:lnTo>
                      <a:lnTo>
                        <a:pt x="301" y="53"/>
                      </a:lnTo>
                      <a:lnTo>
                        <a:pt x="309" y="47"/>
                      </a:lnTo>
                      <a:lnTo>
                        <a:pt x="316" y="40"/>
                      </a:lnTo>
                      <a:lnTo>
                        <a:pt x="322" y="33"/>
                      </a:lnTo>
                      <a:lnTo>
                        <a:pt x="328" y="27"/>
                      </a:lnTo>
                      <a:lnTo>
                        <a:pt x="332" y="22"/>
                      </a:lnTo>
                      <a:lnTo>
                        <a:pt x="336" y="18"/>
                      </a:lnTo>
                      <a:lnTo>
                        <a:pt x="339" y="13"/>
                      </a:lnTo>
                      <a:lnTo>
                        <a:pt x="341" y="11"/>
                      </a:lnTo>
                      <a:lnTo>
                        <a:pt x="343" y="9"/>
                      </a:lnTo>
                      <a:lnTo>
                        <a:pt x="344" y="4"/>
                      </a:lnTo>
                      <a:lnTo>
                        <a:pt x="343" y="9"/>
                      </a:lnTo>
                      <a:lnTo>
                        <a:pt x="344" y="6"/>
                      </a:lnTo>
                      <a:lnTo>
                        <a:pt x="344" y="4"/>
                      </a:lnTo>
                      <a:lnTo>
                        <a:pt x="3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65"/>
                <p:cNvSpPr/>
                <p:nvPr/>
              </p:nvSpPr>
              <p:spPr>
                <a:xfrm>
                  <a:off x="2599560" y="6138720"/>
                  <a:ext cx="18000" cy="867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20" h="9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" y="93"/>
                      </a:lnTo>
                      <a:lnTo>
                        <a:pt x="20" y="92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66"/>
                <p:cNvSpPr/>
                <p:nvPr/>
              </p:nvSpPr>
              <p:spPr>
                <a:xfrm>
                  <a:off x="2575440" y="5382000"/>
                  <a:ext cx="36000" cy="7567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56720"/>
                    <a:gd name="textAreaBottom" fmla="*/ 757080 h 756720"/>
                  </a:gdLst>
                  <a:ahLst/>
                  <a:rect l="textAreaLeft" t="textAreaTop" r="textAreaRight" b="textAreaBottom"/>
                  <a:pathLst>
                    <a:path w="36" h="8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3" y="817"/>
                      </a:lnTo>
                      <a:lnTo>
                        <a:pt x="36" y="817"/>
                      </a:lnTo>
                      <a:lnTo>
                        <a:pt x="13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67"/>
                <p:cNvSpPr/>
                <p:nvPr/>
              </p:nvSpPr>
              <p:spPr>
                <a:xfrm>
                  <a:off x="2575440" y="4782240"/>
                  <a:ext cx="46080" cy="600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0840"/>
                    <a:gd name="textAreaBottom" fmla="*/ 601200 h 600840"/>
                  </a:gdLst>
                  <a:ahLst/>
                  <a:rect l="textAreaLeft" t="textAreaTop" r="textAreaRight" b="textAreaBottom"/>
                  <a:pathLst>
                    <a:path w="45" h="646">
                      <a:moveTo>
                        <a:pt x="38" y="0"/>
                      </a:moveTo>
                      <a:lnTo>
                        <a:pt x="32" y="0"/>
                      </a:lnTo>
                      <a:lnTo>
                        <a:pt x="0" y="645"/>
                      </a:lnTo>
                      <a:lnTo>
                        <a:pt x="13" y="646"/>
                      </a:lnTo>
                      <a:lnTo>
                        <a:pt x="45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68"/>
                <p:cNvSpPr/>
                <p:nvPr/>
              </p:nvSpPr>
              <p:spPr>
                <a:xfrm>
                  <a:off x="1433160" y="3380040"/>
                  <a:ext cx="362880" cy="368640"/>
                </a:xfrm>
                <a:custGeom>
                  <a:avLst/>
                  <a:gdLst>
                    <a:gd name="textAreaLeft" fmla="*/ 0 w 362880"/>
                    <a:gd name="textAreaRight" fmla="*/ 363240 w 36288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364" h="399">
                      <a:moveTo>
                        <a:pt x="31" y="271"/>
                      </a:moveTo>
                      <a:lnTo>
                        <a:pt x="79" y="311"/>
                      </a:lnTo>
                      <a:lnTo>
                        <a:pt x="197" y="362"/>
                      </a:lnTo>
                      <a:lnTo>
                        <a:pt x="197" y="364"/>
                      </a:lnTo>
                      <a:lnTo>
                        <a:pt x="199" y="370"/>
                      </a:lnTo>
                      <a:lnTo>
                        <a:pt x="203" y="377"/>
                      </a:lnTo>
                      <a:lnTo>
                        <a:pt x="206" y="385"/>
                      </a:lnTo>
                      <a:lnTo>
                        <a:pt x="211" y="392"/>
                      </a:lnTo>
                      <a:lnTo>
                        <a:pt x="215" y="398"/>
                      </a:lnTo>
                      <a:lnTo>
                        <a:pt x="221" y="399"/>
                      </a:lnTo>
                      <a:lnTo>
                        <a:pt x="227" y="397"/>
                      </a:lnTo>
                      <a:lnTo>
                        <a:pt x="231" y="394"/>
                      </a:lnTo>
                      <a:lnTo>
                        <a:pt x="237" y="388"/>
                      </a:lnTo>
                      <a:lnTo>
                        <a:pt x="245" y="383"/>
                      </a:lnTo>
                      <a:lnTo>
                        <a:pt x="254" y="375"/>
                      </a:lnTo>
                      <a:lnTo>
                        <a:pt x="265" y="367"/>
                      </a:lnTo>
                      <a:lnTo>
                        <a:pt x="276" y="357"/>
                      </a:lnTo>
                      <a:lnTo>
                        <a:pt x="289" y="349"/>
                      </a:lnTo>
                      <a:lnTo>
                        <a:pt x="301" y="340"/>
                      </a:lnTo>
                      <a:lnTo>
                        <a:pt x="313" y="331"/>
                      </a:lnTo>
                      <a:lnTo>
                        <a:pt x="324" y="323"/>
                      </a:lnTo>
                      <a:lnTo>
                        <a:pt x="335" y="314"/>
                      </a:lnTo>
                      <a:lnTo>
                        <a:pt x="344" y="307"/>
                      </a:lnTo>
                      <a:lnTo>
                        <a:pt x="352" y="301"/>
                      </a:lnTo>
                      <a:lnTo>
                        <a:pt x="358" y="296"/>
                      </a:lnTo>
                      <a:lnTo>
                        <a:pt x="363" y="294"/>
                      </a:lnTo>
                      <a:lnTo>
                        <a:pt x="364" y="293"/>
                      </a:lnTo>
                      <a:lnTo>
                        <a:pt x="362" y="293"/>
                      </a:lnTo>
                      <a:lnTo>
                        <a:pt x="357" y="291"/>
                      </a:lnTo>
                      <a:lnTo>
                        <a:pt x="349" y="287"/>
                      </a:lnTo>
                      <a:lnTo>
                        <a:pt x="342" y="282"/>
                      </a:lnTo>
                      <a:lnTo>
                        <a:pt x="334" y="276"/>
                      </a:lnTo>
                      <a:lnTo>
                        <a:pt x="328" y="268"/>
                      </a:lnTo>
                      <a:lnTo>
                        <a:pt x="325" y="257"/>
                      </a:lnTo>
                      <a:lnTo>
                        <a:pt x="326" y="244"/>
                      </a:lnTo>
                      <a:lnTo>
                        <a:pt x="327" y="238"/>
                      </a:lnTo>
                      <a:lnTo>
                        <a:pt x="326" y="228"/>
                      </a:lnTo>
                      <a:lnTo>
                        <a:pt x="324" y="219"/>
                      </a:lnTo>
                      <a:lnTo>
                        <a:pt x="320" y="209"/>
                      </a:lnTo>
                      <a:lnTo>
                        <a:pt x="317" y="197"/>
                      </a:lnTo>
                      <a:lnTo>
                        <a:pt x="312" y="186"/>
                      </a:lnTo>
                      <a:lnTo>
                        <a:pt x="307" y="173"/>
                      </a:lnTo>
                      <a:lnTo>
                        <a:pt x="303" y="160"/>
                      </a:lnTo>
                      <a:lnTo>
                        <a:pt x="299" y="148"/>
                      </a:lnTo>
                      <a:lnTo>
                        <a:pt x="296" y="136"/>
                      </a:lnTo>
                      <a:lnTo>
                        <a:pt x="295" y="124"/>
                      </a:lnTo>
                      <a:lnTo>
                        <a:pt x="294" y="112"/>
                      </a:lnTo>
                      <a:lnTo>
                        <a:pt x="296" y="102"/>
                      </a:lnTo>
                      <a:lnTo>
                        <a:pt x="299" y="91"/>
                      </a:lnTo>
                      <a:lnTo>
                        <a:pt x="305" y="82"/>
                      </a:lnTo>
                      <a:lnTo>
                        <a:pt x="314" y="74"/>
                      </a:lnTo>
                      <a:lnTo>
                        <a:pt x="322" y="60"/>
                      </a:lnTo>
                      <a:lnTo>
                        <a:pt x="328" y="51"/>
                      </a:lnTo>
                      <a:lnTo>
                        <a:pt x="332" y="44"/>
                      </a:lnTo>
                      <a:lnTo>
                        <a:pt x="335" y="39"/>
                      </a:lnTo>
                      <a:lnTo>
                        <a:pt x="336" y="36"/>
                      </a:lnTo>
                      <a:lnTo>
                        <a:pt x="337" y="35"/>
                      </a:lnTo>
                      <a:lnTo>
                        <a:pt x="337" y="34"/>
                      </a:lnTo>
                      <a:lnTo>
                        <a:pt x="337" y="32"/>
                      </a:lnTo>
                      <a:lnTo>
                        <a:pt x="339" y="29"/>
                      </a:lnTo>
                      <a:lnTo>
                        <a:pt x="339" y="24"/>
                      </a:lnTo>
                      <a:lnTo>
                        <a:pt x="337" y="19"/>
                      </a:lnTo>
                      <a:lnTo>
                        <a:pt x="335" y="13"/>
                      </a:lnTo>
                      <a:lnTo>
                        <a:pt x="330" y="7"/>
                      </a:lnTo>
                      <a:lnTo>
                        <a:pt x="322" y="3"/>
                      </a:lnTo>
                      <a:lnTo>
                        <a:pt x="311" y="0"/>
                      </a:lnTo>
                      <a:lnTo>
                        <a:pt x="294" y="0"/>
                      </a:lnTo>
                      <a:lnTo>
                        <a:pt x="280" y="3"/>
                      </a:lnTo>
                      <a:lnTo>
                        <a:pt x="269" y="9"/>
                      </a:lnTo>
                      <a:lnTo>
                        <a:pt x="261" y="18"/>
                      </a:lnTo>
                      <a:lnTo>
                        <a:pt x="257" y="28"/>
                      </a:lnTo>
                      <a:lnTo>
                        <a:pt x="253" y="39"/>
                      </a:lnTo>
                      <a:lnTo>
                        <a:pt x="251" y="52"/>
                      </a:lnTo>
                      <a:lnTo>
                        <a:pt x="250" y="65"/>
                      </a:lnTo>
                      <a:lnTo>
                        <a:pt x="250" y="77"/>
                      </a:lnTo>
                      <a:lnTo>
                        <a:pt x="250" y="89"/>
                      </a:lnTo>
                      <a:lnTo>
                        <a:pt x="250" y="99"/>
                      </a:lnTo>
                      <a:lnTo>
                        <a:pt x="247" y="109"/>
                      </a:lnTo>
                      <a:lnTo>
                        <a:pt x="245" y="114"/>
                      </a:lnTo>
                      <a:lnTo>
                        <a:pt x="242" y="118"/>
                      </a:lnTo>
                      <a:lnTo>
                        <a:pt x="236" y="118"/>
                      </a:lnTo>
                      <a:lnTo>
                        <a:pt x="228" y="113"/>
                      </a:lnTo>
                      <a:lnTo>
                        <a:pt x="208" y="94"/>
                      </a:lnTo>
                      <a:lnTo>
                        <a:pt x="191" y="74"/>
                      </a:lnTo>
                      <a:lnTo>
                        <a:pt x="176" y="58"/>
                      </a:lnTo>
                      <a:lnTo>
                        <a:pt x="161" y="44"/>
                      </a:lnTo>
                      <a:lnTo>
                        <a:pt x="148" y="31"/>
                      </a:lnTo>
                      <a:lnTo>
                        <a:pt x="138" y="21"/>
                      </a:lnTo>
                      <a:lnTo>
                        <a:pt x="128" y="14"/>
                      </a:lnTo>
                      <a:lnTo>
                        <a:pt x="121" y="8"/>
                      </a:lnTo>
                      <a:lnTo>
                        <a:pt x="114" y="6"/>
                      </a:lnTo>
                      <a:lnTo>
                        <a:pt x="108" y="6"/>
                      </a:lnTo>
                      <a:lnTo>
                        <a:pt x="105" y="8"/>
                      </a:lnTo>
                      <a:lnTo>
                        <a:pt x="102" y="13"/>
                      </a:lnTo>
                      <a:lnTo>
                        <a:pt x="102" y="21"/>
                      </a:lnTo>
                      <a:lnTo>
                        <a:pt x="102" y="30"/>
                      </a:lnTo>
                      <a:lnTo>
                        <a:pt x="103" y="44"/>
                      </a:lnTo>
                      <a:lnTo>
                        <a:pt x="107" y="59"/>
                      </a:lnTo>
                      <a:lnTo>
                        <a:pt x="97" y="56"/>
                      </a:lnTo>
                      <a:lnTo>
                        <a:pt x="88" y="57"/>
                      </a:lnTo>
                      <a:lnTo>
                        <a:pt x="83" y="59"/>
                      </a:lnTo>
                      <a:lnTo>
                        <a:pt x="78" y="64"/>
                      </a:lnTo>
                      <a:lnTo>
                        <a:pt x="76" y="69"/>
                      </a:lnTo>
                      <a:lnTo>
                        <a:pt x="75" y="74"/>
                      </a:lnTo>
                      <a:lnTo>
                        <a:pt x="75" y="77"/>
                      </a:lnTo>
                      <a:lnTo>
                        <a:pt x="75" y="79"/>
                      </a:lnTo>
                      <a:lnTo>
                        <a:pt x="70" y="95"/>
                      </a:lnTo>
                      <a:lnTo>
                        <a:pt x="50" y="102"/>
                      </a:lnTo>
                      <a:lnTo>
                        <a:pt x="31" y="145"/>
                      </a:lnTo>
                      <a:lnTo>
                        <a:pt x="30" y="147"/>
                      </a:lnTo>
                      <a:lnTo>
                        <a:pt x="29" y="147"/>
                      </a:lnTo>
                      <a:lnTo>
                        <a:pt x="25" y="149"/>
                      </a:lnTo>
                      <a:lnTo>
                        <a:pt x="22" y="151"/>
                      </a:lnTo>
                      <a:lnTo>
                        <a:pt x="18" y="155"/>
                      </a:lnTo>
                      <a:lnTo>
                        <a:pt x="14" y="159"/>
                      </a:lnTo>
                      <a:lnTo>
                        <a:pt x="9" y="164"/>
                      </a:lnTo>
                      <a:lnTo>
                        <a:pt x="4" y="172"/>
                      </a:lnTo>
                      <a:lnTo>
                        <a:pt x="2" y="179"/>
                      </a:lnTo>
                      <a:lnTo>
                        <a:pt x="1" y="186"/>
                      </a:lnTo>
                      <a:lnTo>
                        <a:pt x="0" y="194"/>
                      </a:lnTo>
                      <a:lnTo>
                        <a:pt x="1" y="202"/>
                      </a:lnTo>
                      <a:lnTo>
                        <a:pt x="2" y="210"/>
                      </a:lnTo>
                      <a:lnTo>
                        <a:pt x="4" y="218"/>
                      </a:lnTo>
                      <a:lnTo>
                        <a:pt x="8" y="226"/>
                      </a:lnTo>
                      <a:lnTo>
                        <a:pt x="11" y="234"/>
                      </a:lnTo>
                      <a:lnTo>
                        <a:pt x="15" y="242"/>
                      </a:lnTo>
                      <a:lnTo>
                        <a:pt x="17" y="249"/>
                      </a:lnTo>
                      <a:lnTo>
                        <a:pt x="22" y="255"/>
                      </a:lnTo>
                      <a:lnTo>
                        <a:pt x="24" y="261"/>
                      </a:lnTo>
                      <a:lnTo>
                        <a:pt x="26" y="265"/>
                      </a:lnTo>
                      <a:lnTo>
                        <a:pt x="29" y="268"/>
                      </a:lnTo>
                      <a:lnTo>
                        <a:pt x="31" y="270"/>
                      </a:lnTo>
                      <a:lnTo>
                        <a:pt x="31" y="27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69"/>
                <p:cNvSpPr/>
                <p:nvPr/>
              </p:nvSpPr>
              <p:spPr>
                <a:xfrm>
                  <a:off x="1461240" y="3626640"/>
                  <a:ext cx="55800" cy="4824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57" h="52">
                      <a:moveTo>
                        <a:pt x="56" y="41"/>
                      </a:moveTo>
                      <a:lnTo>
                        <a:pt x="57" y="42"/>
                      </a:lnTo>
                      <a:lnTo>
                        <a:pt x="9" y="0"/>
                      </a:lnTo>
                      <a:lnTo>
                        <a:pt x="0" y="11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56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70"/>
                <p:cNvSpPr/>
                <p:nvPr/>
              </p:nvSpPr>
              <p:spPr>
                <a:xfrm>
                  <a:off x="1509120" y="3663720"/>
                  <a:ext cx="127440" cy="5760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57600"/>
                    <a:gd name="textAreaBottom" fmla="*/ 57960 h 57600"/>
                  </a:gdLst>
                  <a:ahLst/>
                  <a:rect l="textAreaLeft" t="textAreaTop" r="textAreaRight" b="textAreaBottom"/>
                  <a:pathLst>
                    <a:path w="127" h="63">
                      <a:moveTo>
                        <a:pt x="127" y="55"/>
                      </a:moveTo>
                      <a:lnTo>
                        <a:pt x="123" y="5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118" y="63"/>
                      </a:lnTo>
                      <a:lnTo>
                        <a:pt x="115" y="58"/>
                      </a:lnTo>
                      <a:lnTo>
                        <a:pt x="127" y="55"/>
                      </a:lnTo>
                      <a:lnTo>
                        <a:pt x="125" y="51"/>
                      </a:lnTo>
                      <a:lnTo>
                        <a:pt x="123" y="50"/>
                      </a:lnTo>
                      <a:lnTo>
                        <a:pt x="12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71"/>
                <p:cNvSpPr/>
                <p:nvPr/>
              </p:nvSpPr>
              <p:spPr>
                <a:xfrm>
                  <a:off x="1624680" y="3713760"/>
                  <a:ext cx="39600" cy="428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0" h="45">
                      <a:moveTo>
                        <a:pt x="31" y="31"/>
                      </a:moveTo>
                      <a:lnTo>
                        <a:pt x="31" y="31"/>
                      </a:lnTo>
                      <a:lnTo>
                        <a:pt x="30" y="32"/>
                      </a:lnTo>
                      <a:lnTo>
                        <a:pt x="29" y="31"/>
                      </a:lnTo>
                      <a:lnTo>
                        <a:pt x="24" y="27"/>
                      </a:lnTo>
                      <a:lnTo>
                        <a:pt x="21" y="21"/>
                      </a:lnTo>
                      <a:lnTo>
                        <a:pt x="17" y="14"/>
                      </a:lnTo>
                      <a:lnTo>
                        <a:pt x="15" y="7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9"/>
                      </a:lnTo>
                      <a:lnTo>
                        <a:pt x="10" y="27"/>
                      </a:lnTo>
                      <a:lnTo>
                        <a:pt x="15" y="34"/>
                      </a:lnTo>
                      <a:lnTo>
                        <a:pt x="21" y="41"/>
                      </a:lnTo>
                      <a:lnTo>
                        <a:pt x="31" y="45"/>
                      </a:lnTo>
                      <a:lnTo>
                        <a:pt x="40" y="40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72"/>
                <p:cNvSpPr/>
                <p:nvPr/>
              </p:nvSpPr>
              <p:spPr>
                <a:xfrm>
                  <a:off x="1656360" y="3645360"/>
                  <a:ext cx="153360" cy="1076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156" h="115">
                      <a:moveTo>
                        <a:pt x="140" y="14"/>
                      </a:moveTo>
                      <a:lnTo>
                        <a:pt x="138" y="2"/>
                      </a:lnTo>
                      <a:lnTo>
                        <a:pt x="136" y="2"/>
                      </a:lnTo>
                      <a:lnTo>
                        <a:pt x="133" y="6"/>
                      </a:lnTo>
                      <a:lnTo>
                        <a:pt x="127" y="10"/>
                      </a:lnTo>
                      <a:lnTo>
                        <a:pt x="119" y="16"/>
                      </a:lnTo>
                      <a:lnTo>
                        <a:pt x="110" y="23"/>
                      </a:lnTo>
                      <a:lnTo>
                        <a:pt x="98" y="31"/>
                      </a:lnTo>
                      <a:lnTo>
                        <a:pt x="88" y="39"/>
                      </a:lnTo>
                      <a:lnTo>
                        <a:pt x="75" y="48"/>
                      </a:lnTo>
                      <a:lnTo>
                        <a:pt x="62" y="58"/>
                      </a:lnTo>
                      <a:lnTo>
                        <a:pt x="51" y="67"/>
                      </a:lnTo>
                      <a:lnTo>
                        <a:pt x="39" y="76"/>
                      </a:lnTo>
                      <a:lnTo>
                        <a:pt x="28" y="84"/>
                      </a:lnTo>
                      <a:lnTo>
                        <a:pt x="19" y="91"/>
                      </a:lnTo>
                      <a:lnTo>
                        <a:pt x="11" y="98"/>
                      </a:lnTo>
                      <a:lnTo>
                        <a:pt x="5" y="102"/>
                      </a:lnTo>
                      <a:lnTo>
                        <a:pt x="0" y="106"/>
                      </a:lnTo>
                      <a:lnTo>
                        <a:pt x="9" y="115"/>
                      </a:lnTo>
                      <a:lnTo>
                        <a:pt x="13" y="113"/>
                      </a:lnTo>
                      <a:lnTo>
                        <a:pt x="19" y="108"/>
                      </a:lnTo>
                      <a:lnTo>
                        <a:pt x="27" y="101"/>
                      </a:lnTo>
                      <a:lnTo>
                        <a:pt x="37" y="94"/>
                      </a:lnTo>
                      <a:lnTo>
                        <a:pt x="47" y="85"/>
                      </a:lnTo>
                      <a:lnTo>
                        <a:pt x="58" y="77"/>
                      </a:lnTo>
                      <a:lnTo>
                        <a:pt x="70" y="68"/>
                      </a:lnTo>
                      <a:lnTo>
                        <a:pt x="83" y="59"/>
                      </a:lnTo>
                      <a:lnTo>
                        <a:pt x="95" y="49"/>
                      </a:lnTo>
                      <a:lnTo>
                        <a:pt x="106" y="41"/>
                      </a:lnTo>
                      <a:lnTo>
                        <a:pt x="117" y="33"/>
                      </a:lnTo>
                      <a:lnTo>
                        <a:pt x="126" y="26"/>
                      </a:lnTo>
                      <a:lnTo>
                        <a:pt x="134" y="21"/>
                      </a:lnTo>
                      <a:lnTo>
                        <a:pt x="141" y="16"/>
                      </a:lnTo>
                      <a:lnTo>
                        <a:pt x="144" y="13"/>
                      </a:lnTo>
                      <a:lnTo>
                        <a:pt x="145" y="11"/>
                      </a:lnTo>
                      <a:lnTo>
                        <a:pt x="143" y="0"/>
                      </a:lnTo>
                      <a:lnTo>
                        <a:pt x="145" y="11"/>
                      </a:lnTo>
                      <a:lnTo>
                        <a:pt x="156" y="5"/>
                      </a:lnTo>
                      <a:lnTo>
                        <a:pt x="143" y="0"/>
                      </a:lnTo>
                      <a:lnTo>
                        <a:pt x="1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73"/>
                <p:cNvSpPr/>
                <p:nvPr/>
              </p:nvSpPr>
              <p:spPr>
                <a:xfrm>
                  <a:off x="1752120" y="3606480"/>
                  <a:ext cx="45360" cy="51480"/>
                </a:xfrm>
                <a:custGeom>
                  <a:avLst/>
                  <a:gdLst>
                    <a:gd name="textAreaLeft" fmla="*/ 0 w 45360"/>
                    <a:gd name="textAreaRight" fmla="*/ 45360 w 453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46" h="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" y="27"/>
                      </a:lnTo>
                      <a:lnTo>
                        <a:pt x="10" y="37"/>
                      </a:lnTo>
                      <a:lnTo>
                        <a:pt x="18" y="44"/>
                      </a:lnTo>
                      <a:lnTo>
                        <a:pt x="28" y="50"/>
                      </a:lnTo>
                      <a:lnTo>
                        <a:pt x="36" y="53"/>
                      </a:lnTo>
                      <a:lnTo>
                        <a:pt x="41" y="56"/>
                      </a:lnTo>
                      <a:lnTo>
                        <a:pt x="43" y="57"/>
                      </a:lnTo>
                      <a:lnTo>
                        <a:pt x="46" y="43"/>
                      </a:lnTo>
                      <a:lnTo>
                        <a:pt x="45" y="43"/>
                      </a:lnTo>
                      <a:lnTo>
                        <a:pt x="40" y="42"/>
                      </a:lnTo>
                      <a:lnTo>
                        <a:pt x="33" y="38"/>
                      </a:lnTo>
                      <a:lnTo>
                        <a:pt x="26" y="34"/>
                      </a:lnTo>
                      <a:lnTo>
                        <a:pt x="20" y="29"/>
                      </a:lnTo>
                      <a:lnTo>
                        <a:pt x="15" y="22"/>
                      </a:lnTo>
                      <a:lnTo>
                        <a:pt x="13" y="14"/>
                      </a:lnTo>
                      <a:lnTo>
                        <a:pt x="1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74"/>
                <p:cNvSpPr/>
                <p:nvPr/>
              </p:nvSpPr>
              <p:spPr>
                <a:xfrm>
                  <a:off x="1720080" y="3443400"/>
                  <a:ext cx="46080" cy="164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45" h="179">
                      <a:moveTo>
                        <a:pt x="21" y="3"/>
                      </a:moveTo>
                      <a:lnTo>
                        <a:pt x="23" y="0"/>
                      </a:lnTo>
                      <a:lnTo>
                        <a:pt x="13" y="9"/>
                      </a:lnTo>
                      <a:lnTo>
                        <a:pt x="6" y="20"/>
                      </a:lnTo>
                      <a:lnTo>
                        <a:pt x="1" y="31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69"/>
                      </a:lnTo>
                      <a:lnTo>
                        <a:pt x="4" y="82"/>
                      </a:lnTo>
                      <a:lnTo>
                        <a:pt x="9" y="95"/>
                      </a:lnTo>
                      <a:lnTo>
                        <a:pt x="13" y="107"/>
                      </a:lnTo>
                      <a:lnTo>
                        <a:pt x="17" y="120"/>
                      </a:lnTo>
                      <a:lnTo>
                        <a:pt x="22" y="132"/>
                      </a:lnTo>
                      <a:lnTo>
                        <a:pt x="26" y="142"/>
                      </a:lnTo>
                      <a:lnTo>
                        <a:pt x="30" y="153"/>
                      </a:lnTo>
                      <a:lnTo>
                        <a:pt x="31" y="161"/>
                      </a:lnTo>
                      <a:lnTo>
                        <a:pt x="32" y="170"/>
                      </a:lnTo>
                      <a:lnTo>
                        <a:pt x="31" y="175"/>
                      </a:lnTo>
                      <a:lnTo>
                        <a:pt x="45" y="179"/>
                      </a:lnTo>
                      <a:lnTo>
                        <a:pt x="45" y="170"/>
                      </a:lnTo>
                      <a:lnTo>
                        <a:pt x="45" y="160"/>
                      </a:lnTo>
                      <a:lnTo>
                        <a:pt x="41" y="149"/>
                      </a:lnTo>
                      <a:lnTo>
                        <a:pt x="38" y="138"/>
                      </a:lnTo>
                      <a:lnTo>
                        <a:pt x="34" y="127"/>
                      </a:lnTo>
                      <a:lnTo>
                        <a:pt x="30" y="115"/>
                      </a:lnTo>
                      <a:lnTo>
                        <a:pt x="25" y="103"/>
                      </a:lnTo>
                      <a:lnTo>
                        <a:pt x="21" y="91"/>
                      </a:lnTo>
                      <a:lnTo>
                        <a:pt x="17" y="79"/>
                      </a:lnTo>
                      <a:lnTo>
                        <a:pt x="15" y="66"/>
                      </a:lnTo>
                      <a:lnTo>
                        <a:pt x="13" y="56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7" y="26"/>
                      </a:lnTo>
                      <a:lnTo>
                        <a:pt x="23" y="17"/>
                      </a:lnTo>
                      <a:lnTo>
                        <a:pt x="30" y="11"/>
                      </a:lnTo>
                      <a:lnTo>
                        <a:pt x="32" y="8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75"/>
                <p:cNvSpPr/>
                <p:nvPr/>
              </p:nvSpPr>
              <p:spPr>
                <a:xfrm>
                  <a:off x="1742400" y="3407760"/>
                  <a:ext cx="33840" cy="42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4" h="47">
                      <a:moveTo>
                        <a:pt x="23" y="3"/>
                      </a:moveTo>
                      <a:lnTo>
                        <a:pt x="28" y="5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20" y="7"/>
                      </a:lnTo>
                      <a:lnTo>
                        <a:pt x="17" y="12"/>
                      </a:lnTo>
                      <a:lnTo>
                        <a:pt x="13" y="18"/>
                      </a:lnTo>
                      <a:lnTo>
                        <a:pt x="8" y="29"/>
                      </a:lnTo>
                      <a:lnTo>
                        <a:pt x="0" y="42"/>
                      </a:lnTo>
                      <a:lnTo>
                        <a:pt x="11" y="47"/>
                      </a:lnTo>
                      <a:lnTo>
                        <a:pt x="19" y="35"/>
                      </a:lnTo>
                      <a:lnTo>
                        <a:pt x="24" y="24"/>
                      </a:lnTo>
                      <a:lnTo>
                        <a:pt x="28" y="17"/>
                      </a:lnTo>
                      <a:lnTo>
                        <a:pt x="31" y="13"/>
                      </a:ln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28" y="5"/>
                      </a:ln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76"/>
                <p:cNvSpPr/>
                <p:nvPr/>
              </p:nvSpPr>
              <p:spPr>
                <a:xfrm>
                  <a:off x="1742400" y="3374280"/>
                  <a:ext cx="35640" cy="388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34" h="43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19" y="23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33" y="43"/>
                      </a:lnTo>
                      <a:lnTo>
                        <a:pt x="34" y="41"/>
                      </a:lnTo>
                      <a:lnTo>
                        <a:pt x="34" y="37"/>
                      </a:lnTo>
                      <a:lnTo>
                        <a:pt x="34" y="31"/>
                      </a:lnTo>
                      <a:lnTo>
                        <a:pt x="33" y="23"/>
                      </a:lnTo>
                      <a:lnTo>
                        <a:pt x="30" y="16"/>
                      </a:lnTo>
                      <a:lnTo>
                        <a:pt x="24" y="10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77"/>
                <p:cNvSpPr/>
                <p:nvPr/>
              </p:nvSpPr>
              <p:spPr>
                <a:xfrm>
                  <a:off x="1656360" y="3374280"/>
                  <a:ext cx="89640" cy="12060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89" h="131">
                      <a:moveTo>
                        <a:pt x="0" y="125"/>
                      </a:moveTo>
                      <a:lnTo>
                        <a:pt x="1" y="126"/>
                      </a:lnTo>
                      <a:lnTo>
                        <a:pt x="11" y="131"/>
                      </a:lnTo>
                      <a:lnTo>
                        <a:pt x="21" y="131"/>
                      </a:lnTo>
                      <a:lnTo>
                        <a:pt x="28" y="125"/>
                      </a:lnTo>
                      <a:lnTo>
                        <a:pt x="31" y="117"/>
                      </a:lnTo>
                      <a:lnTo>
                        <a:pt x="33" y="106"/>
                      </a:lnTo>
                      <a:lnTo>
                        <a:pt x="34" y="96"/>
                      </a:lnTo>
                      <a:lnTo>
                        <a:pt x="34" y="84"/>
                      </a:lnTo>
                      <a:lnTo>
                        <a:pt x="34" y="72"/>
                      </a:lnTo>
                      <a:lnTo>
                        <a:pt x="35" y="59"/>
                      </a:lnTo>
                      <a:lnTo>
                        <a:pt x="36" y="48"/>
                      </a:lnTo>
                      <a:lnTo>
                        <a:pt x="39" y="37"/>
                      </a:lnTo>
                      <a:lnTo>
                        <a:pt x="44" y="28"/>
                      </a:lnTo>
                      <a:lnTo>
                        <a:pt x="51" y="21"/>
                      </a:lnTo>
                      <a:lnTo>
                        <a:pt x="59" y="16"/>
                      </a:lnTo>
                      <a:lnTo>
                        <a:pt x="71" y="13"/>
                      </a:lnTo>
                      <a:lnTo>
                        <a:pt x="87" y="14"/>
                      </a:lnTo>
                      <a:lnTo>
                        <a:pt x="89" y="0"/>
                      </a:lnTo>
                      <a:lnTo>
                        <a:pt x="71" y="0"/>
                      </a:lnTo>
                      <a:lnTo>
                        <a:pt x="54" y="4"/>
                      </a:lnTo>
                      <a:lnTo>
                        <a:pt x="43" y="11"/>
                      </a:lnTo>
                      <a:lnTo>
                        <a:pt x="34" y="21"/>
                      </a:lnTo>
                      <a:lnTo>
                        <a:pt x="28" y="33"/>
                      </a:lnTo>
                      <a:lnTo>
                        <a:pt x="23" y="45"/>
                      </a:lnTo>
                      <a:lnTo>
                        <a:pt x="22" y="58"/>
                      </a:lnTo>
                      <a:lnTo>
                        <a:pt x="21" y="72"/>
                      </a:lnTo>
                      <a:lnTo>
                        <a:pt x="20" y="84"/>
                      </a:lnTo>
                      <a:lnTo>
                        <a:pt x="20" y="96"/>
                      </a:lnTo>
                      <a:lnTo>
                        <a:pt x="20" y="106"/>
                      </a:lnTo>
                      <a:lnTo>
                        <a:pt x="19" y="113"/>
                      </a:lnTo>
                      <a:lnTo>
                        <a:pt x="18" y="118"/>
                      </a:lnTo>
                      <a:lnTo>
                        <a:pt x="18" y="119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10" y="117"/>
                      </a:lnTo>
                      <a:lnTo>
                        <a:pt x="0" y="125"/>
                      </a:lnTo>
                      <a:lnTo>
                        <a:pt x="0" y="126"/>
                      </a:lnTo>
                      <a:lnTo>
                        <a:pt x="1" y="126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8"/>
                <p:cNvSpPr/>
                <p:nvPr/>
              </p:nvSpPr>
              <p:spPr>
                <a:xfrm>
                  <a:off x="1528920" y="3380040"/>
                  <a:ext cx="137160" cy="10908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138" h="119">
                      <a:moveTo>
                        <a:pt x="10" y="66"/>
                      </a:moveTo>
                      <a:lnTo>
                        <a:pt x="19" y="59"/>
                      </a:lnTo>
                      <a:lnTo>
                        <a:pt x="15" y="44"/>
                      </a:lnTo>
                      <a:lnTo>
                        <a:pt x="13" y="31"/>
                      </a:lnTo>
                      <a:lnTo>
                        <a:pt x="13" y="22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22" y="15"/>
                      </a:lnTo>
                      <a:lnTo>
                        <a:pt x="29" y="20"/>
                      </a:lnTo>
                      <a:lnTo>
                        <a:pt x="38" y="28"/>
                      </a:lnTo>
                      <a:lnTo>
                        <a:pt x="49" y="37"/>
                      </a:lnTo>
                      <a:lnTo>
                        <a:pt x="61" y="50"/>
                      </a:lnTo>
                      <a:lnTo>
                        <a:pt x="76" y="63"/>
                      </a:lnTo>
                      <a:lnTo>
                        <a:pt x="91" y="80"/>
                      </a:lnTo>
                      <a:lnTo>
                        <a:pt x="109" y="98"/>
                      </a:lnTo>
                      <a:lnTo>
                        <a:pt x="128" y="119"/>
                      </a:lnTo>
                      <a:lnTo>
                        <a:pt x="138" y="111"/>
                      </a:lnTo>
                      <a:lnTo>
                        <a:pt x="118" y="90"/>
                      </a:lnTo>
                      <a:lnTo>
                        <a:pt x="101" y="70"/>
                      </a:lnTo>
                      <a:lnTo>
                        <a:pt x="86" y="54"/>
                      </a:lnTo>
                      <a:lnTo>
                        <a:pt x="71" y="40"/>
                      </a:lnTo>
                      <a:lnTo>
                        <a:pt x="58" y="28"/>
                      </a:lnTo>
                      <a:lnTo>
                        <a:pt x="46" y="17"/>
                      </a:lnTo>
                      <a:lnTo>
                        <a:pt x="37" y="10"/>
                      </a:lnTo>
                      <a:lnTo>
                        <a:pt x="28" y="4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5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5"/>
                      </a:lnTo>
                      <a:lnTo>
                        <a:pt x="5" y="61"/>
                      </a:lnTo>
                      <a:lnTo>
                        <a:pt x="14" y="54"/>
                      </a:lnTo>
                      <a:lnTo>
                        <a:pt x="10" y="66"/>
                      </a:lnTo>
                      <a:lnTo>
                        <a:pt x="21" y="70"/>
                      </a:lnTo>
                      <a:lnTo>
                        <a:pt x="19" y="59"/>
                      </a:lnTo>
                      <a:lnTo>
                        <a:pt x="1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79"/>
                <p:cNvSpPr/>
                <p:nvPr/>
              </p:nvSpPr>
              <p:spPr>
                <a:xfrm>
                  <a:off x="1500840" y="3426480"/>
                  <a:ext cx="41760" cy="277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12" y="31"/>
                      </a:move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4" y="21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22" y="12"/>
                      </a:lnTo>
                      <a:lnTo>
                        <a:pt x="27" y="12"/>
                      </a:lnTo>
                      <a:lnTo>
                        <a:pt x="37" y="15"/>
                      </a:lnTo>
                      <a:lnTo>
                        <a:pt x="41" y="3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11" y="4"/>
                      </a:ln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80"/>
                <p:cNvSpPr/>
                <p:nvPr/>
              </p:nvSpPr>
              <p:spPr>
                <a:xfrm>
                  <a:off x="1497240" y="3450600"/>
                  <a:ext cx="17280" cy="219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9" y="24"/>
                      </a:moveTo>
                      <a:lnTo>
                        <a:pt x="13" y="20"/>
                      </a:lnTo>
                      <a:lnTo>
                        <a:pt x="17" y="5"/>
                      </a:lnTo>
                      <a:lnTo>
                        <a:pt x="6" y="0"/>
                      </a:lnTo>
                      <a:lnTo>
                        <a:pt x="0" y="16"/>
                      </a:lnTo>
                      <a:lnTo>
                        <a:pt x="5" y="12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3" y="20"/>
                      </a:lnTo>
                      <a:lnTo>
                        <a:pt x="9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81"/>
                <p:cNvSpPr/>
                <p:nvPr/>
              </p:nvSpPr>
              <p:spPr>
                <a:xfrm>
                  <a:off x="1479240" y="3461760"/>
                  <a:ext cx="27720" cy="1836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7" h="21">
                      <a:moveTo>
                        <a:pt x="11" y="17"/>
                      </a:moveTo>
                      <a:lnTo>
                        <a:pt x="8" y="21"/>
                      </a:lnTo>
                      <a:lnTo>
                        <a:pt x="27" y="12"/>
                      </a:lnTo>
                      <a:lnTo>
                        <a:pt x="23" y="0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3" y="8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1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82"/>
                <p:cNvSpPr/>
                <p:nvPr/>
              </p:nvSpPr>
              <p:spPr>
                <a:xfrm>
                  <a:off x="1456920" y="3472560"/>
                  <a:ext cx="33840" cy="482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32" h="53">
                      <a:moveTo>
                        <a:pt x="8" y="53"/>
                      </a:moveTo>
                      <a:lnTo>
                        <a:pt x="13" y="50"/>
                      </a:lnTo>
                      <a:lnTo>
                        <a:pt x="32" y="6"/>
                      </a:lnTo>
                      <a:lnTo>
                        <a:pt x="21" y="0"/>
                      </a:lnTo>
                      <a:lnTo>
                        <a:pt x="0" y="44"/>
                      </a:lnTo>
                      <a:lnTo>
                        <a:pt x="5" y="41"/>
                      </a:lnTo>
                      <a:lnTo>
                        <a:pt x="8" y="53"/>
                      </a:lnTo>
                      <a:lnTo>
                        <a:pt x="11" y="52"/>
                      </a:lnTo>
                      <a:lnTo>
                        <a:pt x="13" y="50"/>
                      </a:lnTo>
                      <a:lnTo>
                        <a:pt x="8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83"/>
                <p:cNvSpPr/>
                <p:nvPr/>
              </p:nvSpPr>
              <p:spPr>
                <a:xfrm>
                  <a:off x="1433160" y="3509640"/>
                  <a:ext cx="33840" cy="334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3480"/>
                    <a:gd name="textAreaBottom" fmla="*/ 33480 h 33480"/>
                  </a:gdLst>
                  <a:ahLst/>
                  <a:rect l="textAreaLeft" t="textAreaTop" r="textAreaRight" b="textAreaBottom"/>
                  <a:pathLst>
                    <a:path w="33" h="35">
                      <a:moveTo>
                        <a:pt x="11" y="35"/>
                      </a:moveTo>
                      <a:lnTo>
                        <a:pt x="11" y="35"/>
                      </a:lnTo>
                      <a:lnTo>
                        <a:pt x="16" y="28"/>
                      </a:lnTo>
                      <a:lnTo>
                        <a:pt x="20" y="23"/>
                      </a:lnTo>
                      <a:lnTo>
                        <a:pt x="24" y="19"/>
                      </a:lnTo>
                      <a:lnTo>
                        <a:pt x="27" y="16"/>
                      </a:lnTo>
                      <a:lnTo>
                        <a:pt x="30" y="13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5" y="10"/>
                      </a:lnTo>
                      <a:lnTo>
                        <a:pt x="10" y="15"/>
                      </a:lnTo>
                      <a:lnTo>
                        <a:pt x="5" y="20"/>
                      </a:lnTo>
                      <a:lnTo>
                        <a:pt x="0" y="28"/>
                      </a:lnTo>
                      <a:lnTo>
                        <a:pt x="1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84"/>
                <p:cNvSpPr/>
                <p:nvPr/>
              </p:nvSpPr>
              <p:spPr>
                <a:xfrm>
                  <a:off x="1429560" y="3535920"/>
                  <a:ext cx="39600" cy="100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" h="108">
                      <a:moveTo>
                        <a:pt x="41" y="97"/>
                      </a:moveTo>
                      <a:lnTo>
                        <a:pt x="41" y="100"/>
                      </a:lnTo>
                      <a:lnTo>
                        <a:pt x="41" y="98"/>
                      </a:lnTo>
                      <a:lnTo>
                        <a:pt x="40" y="96"/>
                      </a:lnTo>
                      <a:lnTo>
                        <a:pt x="38" y="93"/>
                      </a:lnTo>
                      <a:lnTo>
                        <a:pt x="36" y="89"/>
                      </a:lnTo>
                      <a:lnTo>
                        <a:pt x="32" y="83"/>
                      </a:lnTo>
                      <a:lnTo>
                        <a:pt x="29" y="78"/>
                      </a:lnTo>
                      <a:lnTo>
                        <a:pt x="27" y="71"/>
                      </a:lnTo>
                      <a:lnTo>
                        <a:pt x="23" y="64"/>
                      </a:lnTo>
                      <a:lnTo>
                        <a:pt x="20" y="56"/>
                      </a:lnTo>
                      <a:lnTo>
                        <a:pt x="16" y="49"/>
                      </a:lnTo>
                      <a:lnTo>
                        <a:pt x="15" y="41"/>
                      </a:lnTo>
                      <a:lnTo>
                        <a:pt x="14" y="33"/>
                      </a:lnTo>
                      <a:lnTo>
                        <a:pt x="13" y="26"/>
                      </a:lnTo>
                      <a:lnTo>
                        <a:pt x="13" y="19"/>
                      </a:lnTo>
                      <a:lnTo>
                        <a:pt x="14" y="12"/>
                      </a:lnTo>
                      <a:lnTo>
                        <a:pt x="16" y="7"/>
                      </a:lnTo>
                      <a:lnTo>
                        <a:pt x="5" y="0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2" y="43"/>
                      </a:lnTo>
                      <a:lnTo>
                        <a:pt x="5" y="52"/>
                      </a:lnTo>
                      <a:lnTo>
                        <a:pt x="8" y="60"/>
                      </a:lnTo>
                      <a:lnTo>
                        <a:pt x="12" y="68"/>
                      </a:lnTo>
                      <a:lnTo>
                        <a:pt x="14" y="76"/>
                      </a:lnTo>
                      <a:lnTo>
                        <a:pt x="18" y="83"/>
                      </a:lnTo>
                      <a:lnTo>
                        <a:pt x="22" y="90"/>
                      </a:lnTo>
                      <a:lnTo>
                        <a:pt x="24" y="95"/>
                      </a:lnTo>
                      <a:lnTo>
                        <a:pt x="28" y="101"/>
                      </a:lnTo>
                      <a:lnTo>
                        <a:pt x="30" y="104"/>
                      </a:lnTo>
                      <a:lnTo>
                        <a:pt x="31" y="105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41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85"/>
                <p:cNvSpPr/>
                <p:nvPr/>
              </p:nvSpPr>
              <p:spPr>
                <a:xfrm>
                  <a:off x="1588680" y="3582000"/>
                  <a:ext cx="79920" cy="27720"/>
                </a:xfrm>
                <a:custGeom>
                  <a:avLst/>
                  <a:gdLst>
                    <a:gd name="textAreaLeft" fmla="*/ 0 w 79920"/>
                    <a:gd name="textAreaRight" fmla="*/ 79920 w 799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81" h="30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4" y="1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4" y="8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8" y="23"/>
                      </a:lnTo>
                      <a:lnTo>
                        <a:pt x="81" y="3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86"/>
                <p:cNvSpPr/>
                <p:nvPr/>
              </p:nvSpPr>
              <p:spPr>
                <a:xfrm>
                  <a:off x="1588680" y="3578400"/>
                  <a:ext cx="83880" cy="3348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83" h="34">
                      <a:moveTo>
                        <a:pt x="83" y="32"/>
                      </a:moveTo>
                      <a:lnTo>
                        <a:pt x="81" y="25"/>
                      </a:lnTo>
                      <a:lnTo>
                        <a:pt x="76" y="18"/>
                      </a:lnTo>
                      <a:lnTo>
                        <a:pt x="72" y="12"/>
                      </a:lnTo>
                      <a:lnTo>
                        <a:pt x="66" y="9"/>
                      </a:lnTo>
                      <a:lnTo>
                        <a:pt x="59" y="5"/>
                      </a:lnTo>
                      <a:lnTo>
                        <a:pt x="52" y="2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3" y="8"/>
                      </a:lnTo>
                      <a:lnTo>
                        <a:pt x="50" y="9"/>
                      </a:lnTo>
                      <a:lnTo>
                        <a:pt x="56" y="11"/>
                      </a:lnTo>
                      <a:lnTo>
                        <a:pt x="63" y="13"/>
                      </a:lnTo>
                      <a:lnTo>
                        <a:pt x="67" y="17"/>
                      </a:lnTo>
                      <a:lnTo>
                        <a:pt x="72" y="21"/>
                      </a:lnTo>
                      <a:lnTo>
                        <a:pt x="75" y="27"/>
                      </a:lnTo>
                      <a:lnTo>
                        <a:pt x="78" y="34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87"/>
                <p:cNvSpPr/>
                <p:nvPr/>
              </p:nvSpPr>
              <p:spPr>
                <a:xfrm>
                  <a:off x="1608840" y="3404160"/>
                  <a:ext cx="13320" cy="144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8"/>
                <p:cNvSpPr/>
                <p:nvPr/>
              </p:nvSpPr>
              <p:spPr>
                <a:xfrm>
                  <a:off x="1606680" y="3402360"/>
                  <a:ext cx="18000" cy="183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2" y="20"/>
                      </a:moveTo>
                      <a:lnTo>
                        <a:pt x="4" y="21"/>
                      </a:lnTo>
                      <a:lnTo>
                        <a:pt x="18" y="5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89"/>
                <p:cNvSpPr/>
                <p:nvPr/>
              </p:nvSpPr>
              <p:spPr>
                <a:xfrm>
                  <a:off x="2504160" y="3190680"/>
                  <a:ext cx="91080" cy="10008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94" h="108">
                      <a:moveTo>
                        <a:pt x="78" y="108"/>
                      </a:move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20" y="108"/>
                      </a:lnTo>
                      <a:lnTo>
                        <a:pt x="78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90"/>
                <p:cNvSpPr/>
                <p:nvPr/>
              </p:nvSpPr>
              <p:spPr>
                <a:xfrm>
                  <a:off x="2577600" y="3187080"/>
                  <a:ext cx="21600" cy="10368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3" h="111">
                      <a:moveTo>
                        <a:pt x="20" y="5"/>
                      </a:moveTo>
                      <a:lnTo>
                        <a:pt x="16" y="2"/>
                      </a:lnTo>
                      <a:lnTo>
                        <a:pt x="0" y="110"/>
                      </a:lnTo>
                      <a:lnTo>
                        <a:pt x="7" y="111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91"/>
                <p:cNvSpPr/>
                <p:nvPr/>
              </p:nvSpPr>
              <p:spPr>
                <a:xfrm>
                  <a:off x="2499840" y="3187080"/>
                  <a:ext cx="95040" cy="54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97" h="5">
                      <a:moveTo>
                        <a:pt x="7" y="2"/>
                      </a:moveTo>
                      <a:lnTo>
                        <a:pt x="3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92"/>
                <p:cNvSpPr/>
                <p:nvPr/>
              </p:nvSpPr>
              <p:spPr>
                <a:xfrm>
                  <a:off x="2501640" y="3188880"/>
                  <a:ext cx="23760" cy="1036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26" h="112">
                      <a:moveTo>
                        <a:pt x="22" y="106"/>
                      </a:moveTo>
                      <a:lnTo>
                        <a:pt x="26" y="108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9" y="109"/>
                      </a:lnTo>
                      <a:lnTo>
                        <a:pt x="22" y="112"/>
                      </a:lnTo>
                      <a:lnTo>
                        <a:pt x="19" y="109"/>
                      </a:lnTo>
                      <a:lnTo>
                        <a:pt x="19" y="112"/>
                      </a:lnTo>
                      <a:lnTo>
                        <a:pt x="22" y="112"/>
                      </a:ln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93"/>
                <p:cNvSpPr/>
                <p:nvPr/>
              </p:nvSpPr>
              <p:spPr>
                <a:xfrm>
                  <a:off x="2523960" y="3287160"/>
                  <a:ext cx="59400" cy="5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1" h="6">
                      <a:moveTo>
                        <a:pt x="54" y="2"/>
                      </a:move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8" y="6"/>
                      </a:lnTo>
                      <a:lnTo>
                        <a:pt x="61" y="3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94"/>
                <p:cNvSpPr/>
                <p:nvPr/>
              </p:nvSpPr>
              <p:spPr>
                <a:xfrm>
                  <a:off x="2697120" y="2782800"/>
                  <a:ext cx="63720" cy="14436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144360"/>
                    <a:gd name="textAreaBottom" fmla="*/ 144360 h 144360"/>
                  </a:gdLst>
                  <a:ahLst/>
                  <a:rect l="textAreaLeft" t="textAreaTop" r="textAreaRight" b="textAreaBottom"/>
                  <a:pathLst>
                    <a:path w="64" h="158">
                      <a:moveTo>
                        <a:pt x="29" y="158"/>
                      </a:moveTo>
                      <a:lnTo>
                        <a:pt x="26" y="158"/>
                      </a:lnTo>
                      <a:lnTo>
                        <a:pt x="22" y="157"/>
                      </a:lnTo>
                      <a:lnTo>
                        <a:pt x="20" y="154"/>
                      </a:lnTo>
                      <a:lnTo>
                        <a:pt x="17" y="152"/>
                      </a:lnTo>
                      <a:lnTo>
                        <a:pt x="14" y="149"/>
                      </a:lnTo>
                      <a:lnTo>
                        <a:pt x="12" y="145"/>
                      </a:lnTo>
                      <a:lnTo>
                        <a:pt x="9" y="141"/>
                      </a:lnTo>
                      <a:lnTo>
                        <a:pt x="7" y="136"/>
                      </a:lnTo>
                      <a:lnTo>
                        <a:pt x="6" y="130"/>
                      </a:lnTo>
                      <a:lnTo>
                        <a:pt x="4" y="125"/>
                      </a:lnTo>
                      <a:lnTo>
                        <a:pt x="3" y="118"/>
                      </a:lnTo>
                      <a:lnTo>
                        <a:pt x="1" y="111"/>
                      </a:lnTo>
                      <a:lnTo>
                        <a:pt x="0" y="104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1" y="63"/>
                      </a:lnTo>
                      <a:lnTo>
                        <a:pt x="3" y="57"/>
                      </a:lnTo>
                      <a:lnTo>
                        <a:pt x="4" y="48"/>
                      </a:lnTo>
                      <a:lnTo>
                        <a:pt x="5" y="42"/>
                      </a:lnTo>
                      <a:lnTo>
                        <a:pt x="7" y="35"/>
                      </a:lnTo>
                      <a:lnTo>
                        <a:pt x="8" y="29"/>
                      </a:lnTo>
                      <a:lnTo>
                        <a:pt x="11" y="23"/>
                      </a:lnTo>
                      <a:lnTo>
                        <a:pt x="13" y="19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6" y="6"/>
                      </a:lnTo>
                      <a:lnTo>
                        <a:pt x="50" y="9"/>
                      </a:lnTo>
                      <a:lnTo>
                        <a:pt x="52" y="13"/>
                      </a:lnTo>
                      <a:lnTo>
                        <a:pt x="54" y="17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9" y="34"/>
                      </a:lnTo>
                      <a:lnTo>
                        <a:pt x="61" y="40"/>
                      </a:lnTo>
                      <a:lnTo>
                        <a:pt x="62" y="47"/>
                      </a:lnTo>
                      <a:lnTo>
                        <a:pt x="64" y="54"/>
                      </a:lnTo>
                      <a:lnTo>
                        <a:pt x="64" y="62"/>
                      </a:lnTo>
                      <a:lnTo>
                        <a:pt x="64" y="70"/>
                      </a:lnTo>
                      <a:lnTo>
                        <a:pt x="64" y="78"/>
                      </a:lnTo>
                      <a:lnTo>
                        <a:pt x="64" y="87"/>
                      </a:lnTo>
                      <a:lnTo>
                        <a:pt x="62" y="95"/>
                      </a:lnTo>
                      <a:lnTo>
                        <a:pt x="61" y="101"/>
                      </a:lnTo>
                      <a:lnTo>
                        <a:pt x="60" y="110"/>
                      </a:lnTo>
                      <a:lnTo>
                        <a:pt x="59" y="116"/>
                      </a:lnTo>
                      <a:lnTo>
                        <a:pt x="57" y="123"/>
                      </a:lnTo>
                      <a:lnTo>
                        <a:pt x="54" y="129"/>
                      </a:lnTo>
                      <a:lnTo>
                        <a:pt x="52" y="135"/>
                      </a:lnTo>
                      <a:lnTo>
                        <a:pt x="50" y="140"/>
                      </a:lnTo>
                      <a:lnTo>
                        <a:pt x="47" y="145"/>
                      </a:lnTo>
                      <a:lnTo>
                        <a:pt x="45" y="149"/>
                      </a:lnTo>
                      <a:lnTo>
                        <a:pt x="42" y="152"/>
                      </a:lnTo>
                      <a:lnTo>
                        <a:pt x="38" y="154"/>
                      </a:lnTo>
                      <a:lnTo>
                        <a:pt x="36" y="157"/>
                      </a:lnTo>
                      <a:lnTo>
                        <a:pt x="32" y="158"/>
                      </a:lnTo>
                      <a:lnTo>
                        <a:pt x="29" y="158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95"/>
                <p:cNvSpPr/>
                <p:nvPr/>
              </p:nvSpPr>
              <p:spPr>
                <a:xfrm>
                  <a:off x="2691360" y="2855160"/>
                  <a:ext cx="35640" cy="79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36" h="8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1" y="32"/>
                      </a:lnTo>
                      <a:lnTo>
                        <a:pt x="4" y="39"/>
                      </a:lnTo>
                      <a:lnTo>
                        <a:pt x="5" y="46"/>
                      </a:lnTo>
                      <a:lnTo>
                        <a:pt x="6" y="51"/>
                      </a:lnTo>
                      <a:lnTo>
                        <a:pt x="8" y="58"/>
                      </a:lnTo>
                      <a:lnTo>
                        <a:pt x="11" y="64"/>
                      </a:lnTo>
                      <a:lnTo>
                        <a:pt x="13" y="69"/>
                      </a:lnTo>
                      <a:lnTo>
                        <a:pt x="16" y="72"/>
                      </a:lnTo>
                      <a:lnTo>
                        <a:pt x="20" y="77"/>
                      </a:lnTo>
                      <a:lnTo>
                        <a:pt x="22" y="80"/>
                      </a:lnTo>
                      <a:lnTo>
                        <a:pt x="27" y="83"/>
                      </a:lnTo>
                      <a:lnTo>
                        <a:pt x="31" y="84"/>
                      </a:lnTo>
                      <a:lnTo>
                        <a:pt x="36" y="85"/>
                      </a:lnTo>
                      <a:lnTo>
                        <a:pt x="36" y="72"/>
                      </a:lnTo>
                      <a:lnTo>
                        <a:pt x="34" y="71"/>
                      </a:lnTo>
                      <a:lnTo>
                        <a:pt x="33" y="71"/>
                      </a:lnTo>
                      <a:lnTo>
                        <a:pt x="31" y="70"/>
                      </a:lnTo>
                      <a:lnTo>
                        <a:pt x="29" y="69"/>
                      </a:lnTo>
                      <a:lnTo>
                        <a:pt x="27" y="65"/>
                      </a:lnTo>
                      <a:lnTo>
                        <a:pt x="24" y="62"/>
                      </a:lnTo>
                      <a:lnTo>
                        <a:pt x="22" y="58"/>
                      </a:lnTo>
                      <a:lnTo>
                        <a:pt x="20" y="54"/>
                      </a:lnTo>
                      <a:lnTo>
                        <a:pt x="19" y="48"/>
                      </a:lnTo>
                      <a:lnTo>
                        <a:pt x="18" y="42"/>
                      </a:lnTo>
                      <a:lnTo>
                        <a:pt x="16" y="36"/>
                      </a:lnTo>
                      <a:lnTo>
                        <a:pt x="15" y="30"/>
                      </a:lnTo>
                      <a:lnTo>
                        <a:pt x="14" y="23"/>
                      </a:lnTo>
                      <a:lnTo>
                        <a:pt x="13" y="16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96"/>
                <p:cNvSpPr/>
                <p:nvPr/>
              </p:nvSpPr>
              <p:spPr>
                <a:xfrm>
                  <a:off x="2691360" y="2775240"/>
                  <a:ext cx="39600" cy="799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42" h="87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33" y="3"/>
                      </a:lnTo>
                      <a:lnTo>
                        <a:pt x="28" y="5"/>
                      </a:lnTo>
                      <a:lnTo>
                        <a:pt x="24" y="8"/>
                      </a:lnTo>
                      <a:lnTo>
                        <a:pt x="21" y="13"/>
                      </a:lnTo>
                      <a:lnTo>
                        <a:pt x="18" y="17"/>
                      </a:lnTo>
                      <a:lnTo>
                        <a:pt x="15" y="23"/>
                      </a:lnTo>
                      <a:lnTo>
                        <a:pt x="12" y="28"/>
                      </a:lnTo>
                      <a:lnTo>
                        <a:pt x="10" y="34"/>
                      </a:lnTo>
                      <a:lnTo>
                        <a:pt x="8" y="41"/>
                      </a:lnTo>
                      <a:lnTo>
                        <a:pt x="6" y="47"/>
                      </a:lnTo>
                      <a:lnTo>
                        <a:pt x="4" y="54"/>
                      </a:lnTo>
                      <a:lnTo>
                        <a:pt x="3" y="62"/>
                      </a:lnTo>
                      <a:lnTo>
                        <a:pt x="1" y="69"/>
                      </a:lnTo>
                      <a:lnTo>
                        <a:pt x="1" y="79"/>
                      </a:lnTo>
                      <a:lnTo>
                        <a:pt x="0" y="87"/>
                      </a:lnTo>
                      <a:lnTo>
                        <a:pt x="13" y="87"/>
                      </a:lnTo>
                      <a:lnTo>
                        <a:pt x="14" y="79"/>
                      </a:lnTo>
                      <a:lnTo>
                        <a:pt x="14" y="72"/>
                      </a:lnTo>
                      <a:lnTo>
                        <a:pt x="15" y="65"/>
                      </a:lnTo>
                      <a:lnTo>
                        <a:pt x="18" y="58"/>
                      </a:lnTo>
                      <a:lnTo>
                        <a:pt x="19" y="51"/>
                      </a:lnTo>
                      <a:lnTo>
                        <a:pt x="20" y="44"/>
                      </a:lnTo>
                      <a:lnTo>
                        <a:pt x="22" y="38"/>
                      </a:lnTo>
                      <a:lnTo>
                        <a:pt x="24" y="34"/>
                      </a:lnTo>
                      <a:lnTo>
                        <a:pt x="26" y="28"/>
                      </a:lnTo>
                      <a:lnTo>
                        <a:pt x="29" y="23"/>
                      </a:lnTo>
                      <a:lnTo>
                        <a:pt x="31" y="21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8" y="14"/>
                      </a:lnTo>
                      <a:lnTo>
                        <a:pt x="41" y="13"/>
                      </a:lnTo>
                      <a:lnTo>
                        <a:pt x="42" y="1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97"/>
                <p:cNvSpPr/>
                <p:nvPr/>
              </p:nvSpPr>
              <p:spPr>
                <a:xfrm>
                  <a:off x="2730960" y="2775240"/>
                  <a:ext cx="36000" cy="799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35" h="85">
                      <a:moveTo>
                        <a:pt x="35" y="85"/>
                      </a:moveTo>
                      <a:lnTo>
                        <a:pt x="35" y="85"/>
                      </a:lnTo>
                      <a:lnTo>
                        <a:pt x="35" y="77"/>
                      </a:lnTo>
                      <a:lnTo>
                        <a:pt x="35" y="69"/>
                      </a:lnTo>
                      <a:lnTo>
                        <a:pt x="34" y="61"/>
                      </a:lnTo>
                      <a:lnTo>
                        <a:pt x="33" y="53"/>
                      </a:lnTo>
                      <a:lnTo>
                        <a:pt x="32" y="46"/>
                      </a:lnTo>
                      <a:lnTo>
                        <a:pt x="31" y="39"/>
                      </a:lnTo>
                      <a:lnTo>
                        <a:pt x="29" y="32"/>
                      </a:lnTo>
                      <a:lnTo>
                        <a:pt x="27" y="27"/>
                      </a:lnTo>
                      <a:lnTo>
                        <a:pt x="25" y="21"/>
                      </a:lnTo>
                      <a:lnTo>
                        <a:pt x="22" y="16"/>
                      </a:lnTo>
                      <a:lnTo>
                        <a:pt x="19" y="12"/>
                      </a:lnTo>
                      <a:lnTo>
                        <a:pt x="16" y="8"/>
                      </a:lnTo>
                      <a:lnTo>
                        <a:pt x="12" y="5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3"/>
                      </a:lnTo>
                      <a:lnTo>
                        <a:pt x="12" y="27"/>
                      </a:lnTo>
                      <a:lnTo>
                        <a:pt x="15" y="31"/>
                      </a:lnTo>
                      <a:lnTo>
                        <a:pt x="17" y="37"/>
                      </a:lnTo>
                      <a:lnTo>
                        <a:pt x="18" y="42"/>
                      </a:lnTo>
                      <a:lnTo>
                        <a:pt x="19" y="49"/>
                      </a:lnTo>
                      <a:lnTo>
                        <a:pt x="21" y="55"/>
                      </a:lnTo>
                      <a:lnTo>
                        <a:pt x="22" y="62"/>
                      </a:lnTo>
                      <a:lnTo>
                        <a:pt x="22" y="69"/>
                      </a:lnTo>
                      <a:lnTo>
                        <a:pt x="22" y="77"/>
                      </a:lnTo>
                      <a:lnTo>
                        <a:pt x="22" y="85"/>
                      </a:lnTo>
                      <a:lnTo>
                        <a:pt x="35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98"/>
                <p:cNvSpPr/>
                <p:nvPr/>
              </p:nvSpPr>
              <p:spPr>
                <a:xfrm>
                  <a:off x="2727000" y="2855160"/>
                  <a:ext cx="39960" cy="7920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1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5" y="86"/>
                      </a:lnTo>
                      <a:lnTo>
                        <a:pt x="9" y="85"/>
                      </a:lnTo>
                      <a:lnTo>
                        <a:pt x="14" y="81"/>
                      </a:lnTo>
                      <a:lnTo>
                        <a:pt x="17" y="79"/>
                      </a:lnTo>
                      <a:lnTo>
                        <a:pt x="21" y="74"/>
                      </a:lnTo>
                      <a:lnTo>
                        <a:pt x="24" y="70"/>
                      </a:lnTo>
                      <a:lnTo>
                        <a:pt x="27" y="65"/>
                      </a:lnTo>
                      <a:lnTo>
                        <a:pt x="30" y="59"/>
                      </a:lnTo>
                      <a:lnTo>
                        <a:pt x="32" y="53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37" y="33"/>
                      </a:lnTo>
                      <a:lnTo>
                        <a:pt x="39" y="25"/>
                      </a:lnTo>
                      <a:lnTo>
                        <a:pt x="39" y="18"/>
                      </a:lnTo>
                      <a:lnTo>
                        <a:pt x="40" y="10"/>
                      </a:ln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8" y="9"/>
                      </a:lnTo>
                      <a:lnTo>
                        <a:pt x="27" y="15"/>
                      </a:lnTo>
                      <a:lnTo>
                        <a:pt x="25" y="23"/>
                      </a:lnTo>
                      <a:lnTo>
                        <a:pt x="24" y="30"/>
                      </a:lnTo>
                      <a:lnTo>
                        <a:pt x="23" y="37"/>
                      </a:lnTo>
                      <a:lnTo>
                        <a:pt x="22" y="43"/>
                      </a:lnTo>
                      <a:lnTo>
                        <a:pt x="20" y="49"/>
                      </a:lnTo>
                      <a:lnTo>
                        <a:pt x="17" y="53"/>
                      </a:lnTo>
                      <a:lnTo>
                        <a:pt x="15" y="59"/>
                      </a:lnTo>
                      <a:lnTo>
                        <a:pt x="13" y="64"/>
                      </a:lnTo>
                      <a:lnTo>
                        <a:pt x="10" y="66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0" y="74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9"/>
                <p:cNvSpPr/>
                <p:nvPr/>
              </p:nvSpPr>
              <p:spPr>
                <a:xfrm>
                  <a:off x="2272680" y="2860560"/>
                  <a:ext cx="93240" cy="133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93" h="143">
                      <a:moveTo>
                        <a:pt x="84" y="141"/>
                      </a:moveTo>
                      <a:lnTo>
                        <a:pt x="78" y="143"/>
                      </a:lnTo>
                      <a:lnTo>
                        <a:pt x="71" y="142"/>
                      </a:lnTo>
                      <a:lnTo>
                        <a:pt x="63" y="139"/>
                      </a:lnTo>
                      <a:lnTo>
                        <a:pt x="54" y="133"/>
                      </a:lnTo>
                      <a:lnTo>
                        <a:pt x="45" y="125"/>
                      </a:lnTo>
                      <a:lnTo>
                        <a:pt x="36" y="114"/>
                      </a:lnTo>
                      <a:lnTo>
                        <a:pt x="28" y="102"/>
                      </a:lnTo>
                      <a:lnTo>
                        <a:pt x="19" y="88"/>
                      </a:lnTo>
                      <a:lnTo>
                        <a:pt x="15" y="81"/>
                      </a:lnTo>
                      <a:lnTo>
                        <a:pt x="13" y="74"/>
                      </a:lnTo>
                      <a:lnTo>
                        <a:pt x="9" y="67"/>
                      </a:lnTo>
                      <a:lnTo>
                        <a:pt x="7" y="60"/>
                      </a:lnTo>
                      <a:lnTo>
                        <a:pt x="5" y="53"/>
                      </a:lnTo>
                      <a:lnTo>
                        <a:pt x="3" y="46"/>
                      </a:lnTo>
                      <a:lnTo>
                        <a:pt x="1" y="41"/>
                      </a:lnTo>
                      <a:lnTo>
                        <a:pt x="1" y="35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2" y="0"/>
                      </a:lnTo>
                      <a:lnTo>
                        <a:pt x="30" y="5"/>
                      </a:lnTo>
                      <a:lnTo>
                        <a:pt x="38" y="11"/>
                      </a:lnTo>
                      <a:lnTo>
                        <a:pt x="47" y="19"/>
                      </a:lnTo>
                      <a:lnTo>
                        <a:pt x="56" y="29"/>
                      </a:lnTo>
                      <a:lnTo>
                        <a:pt x="66" y="42"/>
                      </a:lnTo>
                      <a:lnTo>
                        <a:pt x="74" y="56"/>
                      </a:lnTo>
                      <a:lnTo>
                        <a:pt x="77" y="63"/>
                      </a:lnTo>
                      <a:lnTo>
                        <a:pt x="81" y="69"/>
                      </a:lnTo>
                      <a:lnTo>
                        <a:pt x="84" y="76"/>
                      </a:lnTo>
                      <a:lnTo>
                        <a:pt x="86" y="83"/>
                      </a:lnTo>
                      <a:lnTo>
                        <a:pt x="89" y="90"/>
                      </a:lnTo>
                      <a:lnTo>
                        <a:pt x="91" y="97"/>
                      </a:lnTo>
                      <a:lnTo>
                        <a:pt x="92" y="103"/>
                      </a:lnTo>
                      <a:lnTo>
                        <a:pt x="93" y="109"/>
                      </a:lnTo>
                      <a:lnTo>
                        <a:pt x="93" y="114"/>
                      </a:lnTo>
                      <a:lnTo>
                        <a:pt x="93" y="120"/>
                      </a:lnTo>
                      <a:lnTo>
                        <a:pt x="93" y="125"/>
                      </a:lnTo>
                      <a:lnTo>
                        <a:pt x="92" y="129"/>
                      </a:lnTo>
                      <a:lnTo>
                        <a:pt x="91" y="133"/>
                      </a:lnTo>
                      <a:lnTo>
                        <a:pt x="89" y="136"/>
                      </a:lnTo>
                      <a:lnTo>
                        <a:pt x="87" y="140"/>
                      </a:lnTo>
                      <a:lnTo>
                        <a:pt x="84" y="14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00"/>
                <p:cNvSpPr/>
                <p:nvPr/>
              </p:nvSpPr>
              <p:spPr>
                <a:xfrm>
                  <a:off x="2286720" y="2940480"/>
                  <a:ext cx="73440" cy="5904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3" h="64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20"/>
                      </a:lnTo>
                      <a:lnTo>
                        <a:pt x="17" y="32"/>
                      </a:lnTo>
                      <a:lnTo>
                        <a:pt x="26" y="43"/>
                      </a:lnTo>
                      <a:lnTo>
                        <a:pt x="35" y="51"/>
                      </a:lnTo>
                      <a:lnTo>
                        <a:pt x="46" y="58"/>
                      </a:lnTo>
                      <a:lnTo>
                        <a:pt x="55" y="62"/>
                      </a:lnTo>
                      <a:lnTo>
                        <a:pt x="65" y="64"/>
                      </a:lnTo>
                      <a:lnTo>
                        <a:pt x="73" y="61"/>
                      </a:lnTo>
                      <a:lnTo>
                        <a:pt x="68" y="50"/>
                      </a:lnTo>
                      <a:lnTo>
                        <a:pt x="64" y="50"/>
                      </a:lnTo>
                      <a:lnTo>
                        <a:pt x="58" y="50"/>
                      </a:lnTo>
                      <a:lnTo>
                        <a:pt x="52" y="47"/>
                      </a:lnTo>
                      <a:lnTo>
                        <a:pt x="45" y="41"/>
                      </a:lnTo>
                      <a:lnTo>
                        <a:pt x="35" y="34"/>
                      </a:lnTo>
                      <a:lnTo>
                        <a:pt x="27" y="24"/>
                      </a:lnTo>
                      <a:lnTo>
                        <a:pt x="19" y="12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01"/>
                <p:cNvSpPr/>
                <p:nvPr/>
              </p:nvSpPr>
              <p:spPr>
                <a:xfrm>
                  <a:off x="2268360" y="2856960"/>
                  <a:ext cx="27720" cy="8892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29" h="95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46"/>
                      </a:lnTo>
                      <a:lnTo>
                        <a:pt x="3" y="53"/>
                      </a:lnTo>
                      <a:lnTo>
                        <a:pt x="4" y="60"/>
                      </a:lnTo>
                      <a:lnTo>
                        <a:pt x="6" y="67"/>
                      </a:lnTo>
                      <a:lnTo>
                        <a:pt x="8" y="73"/>
                      </a:lnTo>
                      <a:lnTo>
                        <a:pt x="11" y="80"/>
                      </a:lnTo>
                      <a:lnTo>
                        <a:pt x="14" y="87"/>
                      </a:lnTo>
                      <a:lnTo>
                        <a:pt x="19" y="95"/>
                      </a:lnTo>
                      <a:lnTo>
                        <a:pt x="29" y="90"/>
                      </a:lnTo>
                      <a:lnTo>
                        <a:pt x="27" y="83"/>
                      </a:lnTo>
                      <a:lnTo>
                        <a:pt x="23" y="76"/>
                      </a:lnTo>
                      <a:lnTo>
                        <a:pt x="20" y="69"/>
                      </a:lnTo>
                      <a:lnTo>
                        <a:pt x="18" y="62"/>
                      </a:lnTo>
                      <a:lnTo>
                        <a:pt x="15" y="55"/>
                      </a:lnTo>
                      <a:lnTo>
                        <a:pt x="14" y="49"/>
                      </a:lnTo>
                      <a:lnTo>
                        <a:pt x="13" y="44"/>
                      </a:lnTo>
                      <a:lnTo>
                        <a:pt x="12" y="38"/>
                      </a:lnTo>
                      <a:lnTo>
                        <a:pt x="12" y="32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02"/>
                <p:cNvSpPr/>
                <p:nvPr/>
              </p:nvSpPr>
              <p:spPr>
                <a:xfrm>
                  <a:off x="2276640" y="2855160"/>
                  <a:ext cx="75240" cy="59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4" h="65">
                      <a:moveTo>
                        <a:pt x="74" y="59"/>
                      </a:moveTo>
                      <a:lnTo>
                        <a:pt x="74" y="59"/>
                      </a:lnTo>
                      <a:lnTo>
                        <a:pt x="65" y="44"/>
                      </a:lnTo>
                      <a:lnTo>
                        <a:pt x="56" y="33"/>
                      </a:lnTo>
                      <a:lnTo>
                        <a:pt x="47" y="21"/>
                      </a:lnTo>
                      <a:lnTo>
                        <a:pt x="38" y="12"/>
                      </a:lnTo>
                      <a:lnTo>
                        <a:pt x="28" y="6"/>
                      </a:lnTo>
                      <a:lnTo>
                        <a:pt x="19" y="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14"/>
                      </a:lnTo>
                      <a:lnTo>
                        <a:pt x="10" y="13"/>
                      </a:lnTo>
                      <a:lnTo>
                        <a:pt x="14" y="14"/>
                      </a:lnTo>
                      <a:lnTo>
                        <a:pt x="21" y="17"/>
                      </a:lnTo>
                      <a:lnTo>
                        <a:pt x="29" y="22"/>
                      </a:lnTo>
                      <a:lnTo>
                        <a:pt x="38" y="30"/>
                      </a:lnTo>
                      <a:lnTo>
                        <a:pt x="47" y="41"/>
                      </a:lnTo>
                      <a:lnTo>
                        <a:pt x="55" y="52"/>
                      </a:lnTo>
                      <a:lnTo>
                        <a:pt x="63" y="65"/>
                      </a:lnTo>
                      <a:lnTo>
                        <a:pt x="7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103"/>
                <p:cNvSpPr/>
                <p:nvPr/>
              </p:nvSpPr>
              <p:spPr>
                <a:xfrm>
                  <a:off x="2340360" y="2909160"/>
                  <a:ext cx="31320" cy="86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2" h="95">
                      <a:moveTo>
                        <a:pt x="19" y="95"/>
                      </a:moveTo>
                      <a:lnTo>
                        <a:pt x="19" y="95"/>
                      </a:lnTo>
                      <a:lnTo>
                        <a:pt x="24" y="92"/>
                      </a:lnTo>
                      <a:lnTo>
                        <a:pt x="26" y="88"/>
                      </a:lnTo>
                      <a:lnTo>
                        <a:pt x="29" y="84"/>
                      </a:lnTo>
                      <a:lnTo>
                        <a:pt x="31" y="79"/>
                      </a:lnTo>
                      <a:lnTo>
                        <a:pt x="31" y="73"/>
                      </a:lnTo>
                      <a:lnTo>
                        <a:pt x="32" y="68"/>
                      </a:lnTo>
                      <a:lnTo>
                        <a:pt x="32" y="62"/>
                      </a:lnTo>
                      <a:lnTo>
                        <a:pt x="31" y="57"/>
                      </a:lnTo>
                      <a:lnTo>
                        <a:pt x="30" y="50"/>
                      </a:lnTo>
                      <a:lnTo>
                        <a:pt x="29" y="43"/>
                      </a:lnTo>
                      <a:lnTo>
                        <a:pt x="26" y="36"/>
                      </a:lnTo>
                      <a:lnTo>
                        <a:pt x="24" y="29"/>
                      </a:lnTo>
                      <a:lnTo>
                        <a:pt x="22" y="22"/>
                      </a:lnTo>
                      <a:lnTo>
                        <a:pt x="18" y="14"/>
                      </a:lnTo>
                      <a:lnTo>
                        <a:pt x="15" y="8"/>
                      </a:ln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7" y="20"/>
                      </a:lnTo>
                      <a:lnTo>
                        <a:pt x="9" y="27"/>
                      </a:lnTo>
                      <a:lnTo>
                        <a:pt x="13" y="34"/>
                      </a:lnTo>
                      <a:lnTo>
                        <a:pt x="15" y="39"/>
                      </a:lnTo>
                      <a:lnTo>
                        <a:pt x="16" y="46"/>
                      </a:lnTo>
                      <a:lnTo>
                        <a:pt x="17" y="52"/>
                      </a:lnTo>
                      <a:lnTo>
                        <a:pt x="18" y="58"/>
                      </a:lnTo>
                      <a:lnTo>
                        <a:pt x="18" y="64"/>
                      </a:lnTo>
                      <a:lnTo>
                        <a:pt x="18" y="68"/>
                      </a:lnTo>
                      <a:lnTo>
                        <a:pt x="18" y="73"/>
                      </a:lnTo>
                      <a:lnTo>
                        <a:pt x="18" y="76"/>
                      </a:lnTo>
                      <a:lnTo>
                        <a:pt x="17" y="79"/>
                      </a:lnTo>
                      <a:lnTo>
                        <a:pt x="16" y="82"/>
                      </a:lnTo>
                      <a:lnTo>
                        <a:pt x="15" y="83"/>
                      </a:lnTo>
                      <a:lnTo>
                        <a:pt x="14" y="84"/>
                      </a:lnTo>
                      <a:lnTo>
                        <a:pt x="19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104"/>
                <p:cNvSpPr/>
                <p:nvPr/>
              </p:nvSpPr>
              <p:spPr>
                <a:xfrm>
                  <a:off x="2400120" y="2986920"/>
                  <a:ext cx="300960" cy="211320"/>
                </a:xfrm>
                <a:custGeom>
                  <a:avLst/>
                  <a:gdLst>
                    <a:gd name="textAreaLeft" fmla="*/ 0 w 300960"/>
                    <a:gd name="textAreaRight" fmla="*/ 301320 w 3009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02" h="227">
                      <a:moveTo>
                        <a:pt x="149" y="227"/>
                      </a:moveTo>
                      <a:lnTo>
                        <a:pt x="8" y="188"/>
                      </a:lnTo>
                      <a:lnTo>
                        <a:pt x="0" y="21"/>
                      </a:lnTo>
                      <a:lnTo>
                        <a:pt x="302" y="0"/>
                      </a:lnTo>
                      <a:lnTo>
                        <a:pt x="300" y="185"/>
                      </a:lnTo>
                      <a:lnTo>
                        <a:pt x="149" y="227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105"/>
                <p:cNvSpPr/>
                <p:nvPr/>
              </p:nvSpPr>
              <p:spPr>
                <a:xfrm>
                  <a:off x="2402280" y="3155400"/>
                  <a:ext cx="149040" cy="4824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50" h="51">
                      <a:moveTo>
                        <a:pt x="0" y="7"/>
                      </a:moveTo>
                      <a:lnTo>
                        <a:pt x="5" y="12"/>
                      </a:lnTo>
                      <a:lnTo>
                        <a:pt x="146" y="51"/>
                      </a:lnTo>
                      <a:lnTo>
                        <a:pt x="150" y="39"/>
                      </a:lnTo>
                      <a:lnTo>
                        <a:pt x="8" y="0"/>
                      </a:lnTo>
                      <a:lnTo>
                        <a:pt x="13" y="6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06"/>
                <p:cNvSpPr/>
                <p:nvPr/>
              </p:nvSpPr>
              <p:spPr>
                <a:xfrm>
                  <a:off x="2394360" y="2999880"/>
                  <a:ext cx="19800" cy="1630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21" h="17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8" y="175"/>
                      </a:lnTo>
                      <a:lnTo>
                        <a:pt x="21" y="174"/>
                      </a:lnTo>
                      <a:lnTo>
                        <a:pt x="13" y="7"/>
                      </a:lnTo>
                      <a:lnTo>
                        <a:pt x="7" y="14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07"/>
                <p:cNvSpPr/>
                <p:nvPr/>
              </p:nvSpPr>
              <p:spPr>
                <a:xfrm>
                  <a:off x="2400120" y="2981520"/>
                  <a:ext cx="308880" cy="31320"/>
                </a:xfrm>
                <a:custGeom>
                  <a:avLst/>
                  <a:gdLst>
                    <a:gd name="textAreaLeft" fmla="*/ 0 w 308880"/>
                    <a:gd name="textAreaRight" fmla="*/ 309240 w 3088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310" h="35">
                      <a:moveTo>
                        <a:pt x="310" y="7"/>
                      </a:moveTo>
                      <a:lnTo>
                        <a:pt x="303" y="2"/>
                      </a:lnTo>
                      <a:lnTo>
                        <a:pt x="0" y="21"/>
                      </a:lnTo>
                      <a:lnTo>
                        <a:pt x="1" y="35"/>
                      </a:lnTo>
                      <a:lnTo>
                        <a:pt x="304" y="14"/>
                      </a:lnTo>
                      <a:lnTo>
                        <a:pt x="297" y="7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03" y="2"/>
                      </a:lnTo>
                      <a:lnTo>
                        <a:pt x="3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08"/>
                <p:cNvSpPr/>
                <p:nvPr/>
              </p:nvSpPr>
              <p:spPr>
                <a:xfrm>
                  <a:off x="2693160" y="2986920"/>
                  <a:ext cx="16200" cy="1760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5" h="190">
                      <a:moveTo>
                        <a:pt x="8" y="190"/>
                      </a:moveTo>
                      <a:lnTo>
                        <a:pt x="12" y="185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185"/>
                      </a:lnTo>
                      <a:lnTo>
                        <a:pt x="4" y="178"/>
                      </a:lnTo>
                      <a:lnTo>
                        <a:pt x="8" y="190"/>
                      </a:lnTo>
                      <a:lnTo>
                        <a:pt x="12" y="189"/>
                      </a:lnTo>
                      <a:lnTo>
                        <a:pt x="12" y="185"/>
                      </a:lnTo>
                      <a:lnTo>
                        <a:pt x="8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09"/>
                <p:cNvSpPr/>
                <p:nvPr/>
              </p:nvSpPr>
              <p:spPr>
                <a:xfrm>
                  <a:off x="2548080" y="3151800"/>
                  <a:ext cx="153000" cy="51840"/>
                </a:xfrm>
                <a:custGeom>
                  <a:avLst/>
                  <a:gdLst>
                    <a:gd name="textAreaLeft" fmla="*/ 0 w 153000"/>
                    <a:gd name="textAreaRight" fmla="*/ 153360 w 1530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55" h="55">
                      <a:moveTo>
                        <a:pt x="0" y="55"/>
                      </a:moveTo>
                      <a:lnTo>
                        <a:pt x="4" y="55"/>
                      </a:lnTo>
                      <a:lnTo>
                        <a:pt x="155" y="12"/>
                      </a:lnTo>
                      <a:lnTo>
                        <a:pt x="151" y="0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4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110"/>
                <p:cNvSpPr/>
                <p:nvPr/>
              </p:nvSpPr>
              <p:spPr>
                <a:xfrm>
                  <a:off x="2270880" y="2552760"/>
                  <a:ext cx="454320" cy="580320"/>
                </a:xfrm>
                <a:custGeom>
                  <a:avLst/>
                  <a:gdLst>
                    <a:gd name="textAreaLeft" fmla="*/ 0 w 454320"/>
                    <a:gd name="textAreaRight" fmla="*/ 454680 w 454320"/>
                    <a:gd name="textAreaTop" fmla="*/ 0 h 580320"/>
                    <a:gd name="textAreaBottom" fmla="*/ 580680 h 580320"/>
                  </a:gdLst>
                  <a:ahLst/>
                  <a:rect l="textAreaLeft" t="textAreaTop" r="textAreaRight" b="textAreaBottom"/>
                  <a:pathLst>
                    <a:path w="456" h="627">
                      <a:moveTo>
                        <a:pt x="314" y="626"/>
                      </a:moveTo>
                      <a:lnTo>
                        <a:pt x="326" y="621"/>
                      </a:lnTo>
                      <a:lnTo>
                        <a:pt x="337" y="617"/>
                      </a:lnTo>
                      <a:lnTo>
                        <a:pt x="349" y="610"/>
                      </a:lnTo>
                      <a:lnTo>
                        <a:pt x="360" y="601"/>
                      </a:lnTo>
                      <a:lnTo>
                        <a:pt x="371" y="591"/>
                      </a:lnTo>
                      <a:lnTo>
                        <a:pt x="381" y="582"/>
                      </a:lnTo>
                      <a:lnTo>
                        <a:pt x="391" y="571"/>
                      </a:lnTo>
                      <a:lnTo>
                        <a:pt x="401" y="559"/>
                      </a:lnTo>
                      <a:lnTo>
                        <a:pt x="410" y="548"/>
                      </a:lnTo>
                      <a:lnTo>
                        <a:pt x="418" y="536"/>
                      </a:lnTo>
                      <a:lnTo>
                        <a:pt x="426" y="526"/>
                      </a:lnTo>
                      <a:lnTo>
                        <a:pt x="433" y="515"/>
                      </a:lnTo>
                      <a:lnTo>
                        <a:pt x="439" y="504"/>
                      </a:lnTo>
                      <a:lnTo>
                        <a:pt x="444" y="495"/>
                      </a:lnTo>
                      <a:lnTo>
                        <a:pt x="448" y="487"/>
                      </a:lnTo>
                      <a:lnTo>
                        <a:pt x="451" y="480"/>
                      </a:lnTo>
                      <a:lnTo>
                        <a:pt x="452" y="476"/>
                      </a:lnTo>
                      <a:lnTo>
                        <a:pt x="454" y="470"/>
                      </a:lnTo>
                      <a:lnTo>
                        <a:pt x="455" y="464"/>
                      </a:lnTo>
                      <a:lnTo>
                        <a:pt x="455" y="455"/>
                      </a:lnTo>
                      <a:lnTo>
                        <a:pt x="456" y="445"/>
                      </a:lnTo>
                      <a:lnTo>
                        <a:pt x="456" y="435"/>
                      </a:lnTo>
                      <a:lnTo>
                        <a:pt x="456" y="423"/>
                      </a:lnTo>
                      <a:lnTo>
                        <a:pt x="456" y="411"/>
                      </a:lnTo>
                      <a:lnTo>
                        <a:pt x="456" y="397"/>
                      </a:lnTo>
                      <a:lnTo>
                        <a:pt x="456" y="384"/>
                      </a:lnTo>
                      <a:lnTo>
                        <a:pt x="455" y="369"/>
                      </a:lnTo>
                      <a:lnTo>
                        <a:pt x="455" y="354"/>
                      </a:lnTo>
                      <a:lnTo>
                        <a:pt x="455" y="338"/>
                      </a:lnTo>
                      <a:lnTo>
                        <a:pt x="454" y="323"/>
                      </a:lnTo>
                      <a:lnTo>
                        <a:pt x="452" y="307"/>
                      </a:lnTo>
                      <a:lnTo>
                        <a:pt x="452" y="291"/>
                      </a:lnTo>
                      <a:lnTo>
                        <a:pt x="451" y="275"/>
                      </a:lnTo>
                      <a:lnTo>
                        <a:pt x="450" y="260"/>
                      </a:lnTo>
                      <a:lnTo>
                        <a:pt x="450" y="244"/>
                      </a:lnTo>
                      <a:lnTo>
                        <a:pt x="449" y="230"/>
                      </a:lnTo>
                      <a:lnTo>
                        <a:pt x="448" y="215"/>
                      </a:lnTo>
                      <a:lnTo>
                        <a:pt x="447" y="201"/>
                      </a:lnTo>
                      <a:lnTo>
                        <a:pt x="445" y="188"/>
                      </a:lnTo>
                      <a:lnTo>
                        <a:pt x="444" y="176"/>
                      </a:lnTo>
                      <a:lnTo>
                        <a:pt x="443" y="165"/>
                      </a:lnTo>
                      <a:lnTo>
                        <a:pt x="443" y="155"/>
                      </a:lnTo>
                      <a:lnTo>
                        <a:pt x="441" y="146"/>
                      </a:lnTo>
                      <a:lnTo>
                        <a:pt x="441" y="138"/>
                      </a:lnTo>
                      <a:lnTo>
                        <a:pt x="440" y="132"/>
                      </a:lnTo>
                      <a:lnTo>
                        <a:pt x="439" y="127"/>
                      </a:lnTo>
                      <a:lnTo>
                        <a:pt x="439" y="124"/>
                      </a:lnTo>
                      <a:lnTo>
                        <a:pt x="437" y="123"/>
                      </a:lnTo>
                      <a:lnTo>
                        <a:pt x="418" y="95"/>
                      </a:lnTo>
                      <a:lnTo>
                        <a:pt x="399" y="72"/>
                      </a:lnTo>
                      <a:lnTo>
                        <a:pt x="380" y="52"/>
                      </a:lnTo>
                      <a:lnTo>
                        <a:pt x="360" y="36"/>
                      </a:lnTo>
                      <a:lnTo>
                        <a:pt x="341" y="23"/>
                      </a:lnTo>
                      <a:lnTo>
                        <a:pt x="321" y="13"/>
                      </a:lnTo>
                      <a:lnTo>
                        <a:pt x="303" y="6"/>
                      </a:lnTo>
                      <a:lnTo>
                        <a:pt x="283" y="2"/>
                      </a:lnTo>
                      <a:lnTo>
                        <a:pt x="263" y="0"/>
                      </a:lnTo>
                      <a:lnTo>
                        <a:pt x="245" y="0"/>
                      </a:lnTo>
                      <a:lnTo>
                        <a:pt x="227" y="4"/>
                      </a:lnTo>
                      <a:lnTo>
                        <a:pt x="209" y="7"/>
                      </a:lnTo>
                      <a:lnTo>
                        <a:pt x="191" y="14"/>
                      </a:lnTo>
                      <a:lnTo>
                        <a:pt x="174" y="22"/>
                      </a:lnTo>
                      <a:lnTo>
                        <a:pt x="157" y="30"/>
                      </a:lnTo>
                      <a:lnTo>
                        <a:pt x="141" y="41"/>
                      </a:lnTo>
                      <a:lnTo>
                        <a:pt x="125" y="52"/>
                      </a:lnTo>
                      <a:lnTo>
                        <a:pt x="111" y="64"/>
                      </a:lnTo>
                      <a:lnTo>
                        <a:pt x="96" y="76"/>
                      </a:lnTo>
                      <a:lnTo>
                        <a:pt x="84" y="89"/>
                      </a:lnTo>
                      <a:lnTo>
                        <a:pt x="71" y="101"/>
                      </a:lnTo>
                      <a:lnTo>
                        <a:pt x="58" y="114"/>
                      </a:lnTo>
                      <a:lnTo>
                        <a:pt x="48" y="126"/>
                      </a:lnTo>
                      <a:lnTo>
                        <a:pt x="38" y="138"/>
                      </a:lnTo>
                      <a:lnTo>
                        <a:pt x="28" y="149"/>
                      </a:lnTo>
                      <a:lnTo>
                        <a:pt x="21" y="161"/>
                      </a:lnTo>
                      <a:lnTo>
                        <a:pt x="15" y="170"/>
                      </a:lnTo>
                      <a:lnTo>
                        <a:pt x="9" y="178"/>
                      </a:lnTo>
                      <a:lnTo>
                        <a:pt x="4" y="184"/>
                      </a:lnTo>
                      <a:lnTo>
                        <a:pt x="1" y="189"/>
                      </a:lnTo>
                      <a:lnTo>
                        <a:pt x="0" y="193"/>
                      </a:lnTo>
                      <a:lnTo>
                        <a:pt x="0" y="194"/>
                      </a:lnTo>
                      <a:lnTo>
                        <a:pt x="0" y="197"/>
                      </a:lnTo>
                      <a:lnTo>
                        <a:pt x="0" y="201"/>
                      </a:lnTo>
                      <a:lnTo>
                        <a:pt x="1" y="207"/>
                      </a:lnTo>
                      <a:lnTo>
                        <a:pt x="3" y="214"/>
                      </a:lnTo>
                      <a:lnTo>
                        <a:pt x="5" y="222"/>
                      </a:lnTo>
                      <a:lnTo>
                        <a:pt x="8" y="232"/>
                      </a:lnTo>
                      <a:lnTo>
                        <a:pt x="11" y="242"/>
                      </a:lnTo>
                      <a:lnTo>
                        <a:pt x="13" y="254"/>
                      </a:lnTo>
                      <a:lnTo>
                        <a:pt x="17" y="265"/>
                      </a:lnTo>
                      <a:lnTo>
                        <a:pt x="20" y="279"/>
                      </a:lnTo>
                      <a:lnTo>
                        <a:pt x="24" y="293"/>
                      </a:lnTo>
                      <a:lnTo>
                        <a:pt x="28" y="307"/>
                      </a:lnTo>
                      <a:lnTo>
                        <a:pt x="33" y="322"/>
                      </a:lnTo>
                      <a:lnTo>
                        <a:pt x="36" y="337"/>
                      </a:lnTo>
                      <a:lnTo>
                        <a:pt x="41" y="352"/>
                      </a:lnTo>
                      <a:lnTo>
                        <a:pt x="46" y="367"/>
                      </a:lnTo>
                      <a:lnTo>
                        <a:pt x="50" y="382"/>
                      </a:lnTo>
                      <a:lnTo>
                        <a:pt x="54" y="397"/>
                      </a:lnTo>
                      <a:lnTo>
                        <a:pt x="58" y="412"/>
                      </a:lnTo>
                      <a:lnTo>
                        <a:pt x="63" y="427"/>
                      </a:lnTo>
                      <a:lnTo>
                        <a:pt x="68" y="440"/>
                      </a:lnTo>
                      <a:lnTo>
                        <a:pt x="72" y="454"/>
                      </a:lnTo>
                      <a:lnTo>
                        <a:pt x="77" y="467"/>
                      </a:lnTo>
                      <a:lnTo>
                        <a:pt x="81" y="480"/>
                      </a:lnTo>
                      <a:lnTo>
                        <a:pt x="85" y="491"/>
                      </a:lnTo>
                      <a:lnTo>
                        <a:pt x="89" y="502"/>
                      </a:lnTo>
                      <a:lnTo>
                        <a:pt x="93" y="511"/>
                      </a:lnTo>
                      <a:lnTo>
                        <a:pt x="96" y="519"/>
                      </a:lnTo>
                      <a:lnTo>
                        <a:pt x="100" y="526"/>
                      </a:lnTo>
                      <a:lnTo>
                        <a:pt x="103" y="532"/>
                      </a:lnTo>
                      <a:lnTo>
                        <a:pt x="106" y="535"/>
                      </a:lnTo>
                      <a:lnTo>
                        <a:pt x="113" y="542"/>
                      </a:lnTo>
                      <a:lnTo>
                        <a:pt x="121" y="550"/>
                      </a:lnTo>
                      <a:lnTo>
                        <a:pt x="130" y="557"/>
                      </a:lnTo>
                      <a:lnTo>
                        <a:pt x="141" y="566"/>
                      </a:lnTo>
                      <a:lnTo>
                        <a:pt x="154" y="574"/>
                      </a:lnTo>
                      <a:lnTo>
                        <a:pt x="168" y="582"/>
                      </a:lnTo>
                      <a:lnTo>
                        <a:pt x="183" y="591"/>
                      </a:lnTo>
                      <a:lnTo>
                        <a:pt x="198" y="598"/>
                      </a:lnTo>
                      <a:lnTo>
                        <a:pt x="213" y="606"/>
                      </a:lnTo>
                      <a:lnTo>
                        <a:pt x="229" y="612"/>
                      </a:lnTo>
                      <a:lnTo>
                        <a:pt x="244" y="618"/>
                      </a:lnTo>
                      <a:lnTo>
                        <a:pt x="259" y="623"/>
                      </a:lnTo>
                      <a:lnTo>
                        <a:pt x="274" y="626"/>
                      </a:lnTo>
                      <a:lnTo>
                        <a:pt x="289" y="627"/>
                      </a:lnTo>
                      <a:lnTo>
                        <a:pt x="301" y="627"/>
                      </a:lnTo>
                      <a:lnTo>
                        <a:pt x="314" y="626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111"/>
                <p:cNvSpPr/>
                <p:nvPr/>
              </p:nvSpPr>
              <p:spPr>
                <a:xfrm>
                  <a:off x="2581200" y="2994120"/>
                  <a:ext cx="145440" cy="14292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45" h="155">
                      <a:moveTo>
                        <a:pt x="133" y="0"/>
                      </a:moveTo>
                      <a:lnTo>
                        <a:pt x="133" y="0"/>
                      </a:lnTo>
                      <a:lnTo>
                        <a:pt x="130" y="7"/>
                      </a:lnTo>
                      <a:lnTo>
                        <a:pt x="127" y="15"/>
                      </a:lnTo>
                      <a:lnTo>
                        <a:pt x="122" y="25"/>
                      </a:lnTo>
                      <a:lnTo>
                        <a:pt x="115" y="35"/>
                      </a:lnTo>
                      <a:lnTo>
                        <a:pt x="108" y="45"/>
                      </a:lnTo>
                      <a:lnTo>
                        <a:pt x="101" y="56"/>
                      </a:lnTo>
                      <a:lnTo>
                        <a:pt x="93" y="67"/>
                      </a:lnTo>
                      <a:lnTo>
                        <a:pt x="84" y="79"/>
                      </a:lnTo>
                      <a:lnTo>
                        <a:pt x="75" y="89"/>
                      </a:lnTo>
                      <a:lnTo>
                        <a:pt x="64" y="101"/>
                      </a:lnTo>
                      <a:lnTo>
                        <a:pt x="54" y="110"/>
                      </a:lnTo>
                      <a:lnTo>
                        <a:pt x="44" y="119"/>
                      </a:lnTo>
                      <a:lnTo>
                        <a:pt x="32" y="127"/>
                      </a:lnTo>
                      <a:lnTo>
                        <a:pt x="22" y="134"/>
                      </a:lnTo>
                      <a:lnTo>
                        <a:pt x="11" y="139"/>
                      </a:lnTo>
                      <a:lnTo>
                        <a:pt x="0" y="142"/>
                      </a:lnTo>
                      <a:lnTo>
                        <a:pt x="3" y="155"/>
                      </a:lnTo>
                      <a:lnTo>
                        <a:pt x="16" y="151"/>
                      </a:lnTo>
                      <a:lnTo>
                        <a:pt x="27" y="144"/>
                      </a:lnTo>
                      <a:lnTo>
                        <a:pt x="40" y="137"/>
                      </a:lnTo>
                      <a:lnTo>
                        <a:pt x="52" y="129"/>
                      </a:lnTo>
                      <a:lnTo>
                        <a:pt x="62" y="119"/>
                      </a:lnTo>
                      <a:lnTo>
                        <a:pt x="74" y="110"/>
                      </a:lnTo>
                      <a:lnTo>
                        <a:pt x="84" y="98"/>
                      </a:lnTo>
                      <a:lnTo>
                        <a:pt x="94" y="87"/>
                      </a:lnTo>
                      <a:lnTo>
                        <a:pt x="104" y="75"/>
                      </a:lnTo>
                      <a:lnTo>
                        <a:pt x="112" y="64"/>
                      </a:lnTo>
                      <a:lnTo>
                        <a:pt x="120" y="52"/>
                      </a:lnTo>
                      <a:lnTo>
                        <a:pt x="127" y="41"/>
                      </a:lnTo>
                      <a:lnTo>
                        <a:pt x="132" y="30"/>
                      </a:lnTo>
                      <a:lnTo>
                        <a:pt x="138" y="21"/>
                      </a:lnTo>
                      <a:lnTo>
                        <a:pt x="143" y="13"/>
                      </a:lnTo>
                      <a:lnTo>
                        <a:pt x="145" y="5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12"/>
                <p:cNvSpPr/>
                <p:nvPr/>
              </p:nvSpPr>
              <p:spPr>
                <a:xfrm>
                  <a:off x="2701080" y="2660400"/>
                  <a:ext cx="29520" cy="3373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7320"/>
                    <a:gd name="textAreaBottom" fmla="*/ 337680 h 337320"/>
                  </a:gdLst>
                  <a:ahLst/>
                  <a:rect l="textAreaLeft" t="textAreaTop" r="textAreaRight" b="textAreaBottom"/>
                  <a:pathLst>
                    <a:path w="31" h="365">
                      <a:moveTo>
                        <a:pt x="0" y="9"/>
                      </a:move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2"/>
                      </a:lnTo>
                      <a:lnTo>
                        <a:pt x="3" y="30"/>
                      </a:lnTo>
                      <a:lnTo>
                        <a:pt x="4" y="39"/>
                      </a:lnTo>
                      <a:lnTo>
                        <a:pt x="5" y="48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9" y="85"/>
                      </a:lnTo>
                      <a:lnTo>
                        <a:pt x="9" y="99"/>
                      </a:lnTo>
                      <a:lnTo>
                        <a:pt x="10" y="113"/>
                      </a:lnTo>
                      <a:lnTo>
                        <a:pt x="11" y="128"/>
                      </a:lnTo>
                      <a:lnTo>
                        <a:pt x="12" y="143"/>
                      </a:lnTo>
                      <a:lnTo>
                        <a:pt x="13" y="159"/>
                      </a:lnTo>
                      <a:lnTo>
                        <a:pt x="13" y="175"/>
                      </a:lnTo>
                      <a:lnTo>
                        <a:pt x="15" y="190"/>
                      </a:lnTo>
                      <a:lnTo>
                        <a:pt x="16" y="206"/>
                      </a:lnTo>
                      <a:lnTo>
                        <a:pt x="16" y="221"/>
                      </a:lnTo>
                      <a:lnTo>
                        <a:pt x="16" y="237"/>
                      </a:lnTo>
                      <a:lnTo>
                        <a:pt x="17" y="252"/>
                      </a:lnTo>
                      <a:lnTo>
                        <a:pt x="17" y="267"/>
                      </a:lnTo>
                      <a:lnTo>
                        <a:pt x="18" y="280"/>
                      </a:lnTo>
                      <a:lnTo>
                        <a:pt x="18" y="294"/>
                      </a:lnTo>
                      <a:lnTo>
                        <a:pt x="18" y="306"/>
                      </a:lnTo>
                      <a:lnTo>
                        <a:pt x="17" y="318"/>
                      </a:lnTo>
                      <a:lnTo>
                        <a:pt x="17" y="328"/>
                      </a:lnTo>
                      <a:lnTo>
                        <a:pt x="17" y="337"/>
                      </a:lnTo>
                      <a:lnTo>
                        <a:pt x="16" y="345"/>
                      </a:lnTo>
                      <a:lnTo>
                        <a:pt x="16" y="352"/>
                      </a:lnTo>
                      <a:lnTo>
                        <a:pt x="15" y="357"/>
                      </a:lnTo>
                      <a:lnTo>
                        <a:pt x="13" y="360"/>
                      </a:lnTo>
                      <a:lnTo>
                        <a:pt x="25" y="365"/>
                      </a:lnTo>
                      <a:lnTo>
                        <a:pt x="27" y="360"/>
                      </a:lnTo>
                      <a:lnTo>
                        <a:pt x="28" y="355"/>
                      </a:lnTo>
                      <a:lnTo>
                        <a:pt x="28" y="347"/>
                      </a:lnTo>
                      <a:lnTo>
                        <a:pt x="30" y="338"/>
                      </a:lnTo>
                      <a:lnTo>
                        <a:pt x="30" y="328"/>
                      </a:lnTo>
                      <a:lnTo>
                        <a:pt x="30" y="318"/>
                      </a:lnTo>
                      <a:lnTo>
                        <a:pt x="31" y="306"/>
                      </a:lnTo>
                      <a:lnTo>
                        <a:pt x="31" y="294"/>
                      </a:lnTo>
                      <a:lnTo>
                        <a:pt x="31" y="280"/>
                      </a:lnTo>
                      <a:lnTo>
                        <a:pt x="30" y="267"/>
                      </a:lnTo>
                      <a:lnTo>
                        <a:pt x="30" y="252"/>
                      </a:lnTo>
                      <a:lnTo>
                        <a:pt x="30" y="237"/>
                      </a:lnTo>
                      <a:lnTo>
                        <a:pt x="28" y="221"/>
                      </a:lnTo>
                      <a:lnTo>
                        <a:pt x="28" y="205"/>
                      </a:lnTo>
                      <a:lnTo>
                        <a:pt x="27" y="189"/>
                      </a:lnTo>
                      <a:lnTo>
                        <a:pt x="27" y="174"/>
                      </a:lnTo>
                      <a:lnTo>
                        <a:pt x="26" y="158"/>
                      </a:lnTo>
                      <a:lnTo>
                        <a:pt x="25" y="141"/>
                      </a:lnTo>
                      <a:lnTo>
                        <a:pt x="24" y="127"/>
                      </a:lnTo>
                      <a:lnTo>
                        <a:pt x="23" y="112"/>
                      </a:lnTo>
                      <a:lnTo>
                        <a:pt x="23" y="98"/>
                      </a:lnTo>
                      <a:lnTo>
                        <a:pt x="22" y="84"/>
                      </a:lnTo>
                      <a:lnTo>
                        <a:pt x="20" y="71"/>
                      </a:lnTo>
                      <a:lnTo>
                        <a:pt x="19" y="59"/>
                      </a:lnTo>
                      <a:lnTo>
                        <a:pt x="18" y="47"/>
                      </a:lnTo>
                      <a:lnTo>
                        <a:pt x="17" y="37"/>
                      </a:lnTo>
                      <a:lnTo>
                        <a:pt x="16" y="27"/>
                      </a:lnTo>
                      <a:lnTo>
                        <a:pt x="15" y="21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13"/>
                <p:cNvSpPr/>
                <p:nvPr/>
              </p:nvSpPr>
              <p:spPr>
                <a:xfrm>
                  <a:off x="2262600" y="2545200"/>
                  <a:ext cx="450720" cy="18900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450" h="202">
                      <a:moveTo>
                        <a:pt x="11" y="198"/>
                      </a:moveTo>
                      <a:lnTo>
                        <a:pt x="10" y="202"/>
                      </a:lnTo>
                      <a:lnTo>
                        <a:pt x="11" y="202"/>
                      </a:lnTo>
                      <a:lnTo>
                        <a:pt x="14" y="199"/>
                      </a:lnTo>
                      <a:lnTo>
                        <a:pt x="17" y="194"/>
                      </a:lnTo>
                      <a:lnTo>
                        <a:pt x="22" y="187"/>
                      </a:lnTo>
                      <a:lnTo>
                        <a:pt x="26" y="179"/>
                      </a:lnTo>
                      <a:lnTo>
                        <a:pt x="33" y="170"/>
                      </a:lnTo>
                      <a:lnTo>
                        <a:pt x="41" y="160"/>
                      </a:lnTo>
                      <a:lnTo>
                        <a:pt x="50" y="148"/>
                      </a:lnTo>
                      <a:lnTo>
                        <a:pt x="61" y="137"/>
                      </a:lnTo>
                      <a:lnTo>
                        <a:pt x="70" y="124"/>
                      </a:lnTo>
                      <a:lnTo>
                        <a:pt x="83" y="111"/>
                      </a:lnTo>
                      <a:lnTo>
                        <a:pt x="95" y="99"/>
                      </a:lnTo>
                      <a:lnTo>
                        <a:pt x="108" y="87"/>
                      </a:lnTo>
                      <a:lnTo>
                        <a:pt x="122" y="74"/>
                      </a:lnTo>
                      <a:lnTo>
                        <a:pt x="137" y="63"/>
                      </a:lnTo>
                      <a:lnTo>
                        <a:pt x="152" y="53"/>
                      </a:lnTo>
                      <a:lnTo>
                        <a:pt x="168" y="42"/>
                      </a:lnTo>
                      <a:lnTo>
                        <a:pt x="184" y="34"/>
                      </a:lnTo>
                      <a:lnTo>
                        <a:pt x="200" y="26"/>
                      </a:lnTo>
                      <a:lnTo>
                        <a:pt x="217" y="19"/>
                      </a:lnTo>
                      <a:lnTo>
                        <a:pt x="236" y="16"/>
                      </a:lnTo>
                      <a:lnTo>
                        <a:pt x="253" y="13"/>
                      </a:lnTo>
                      <a:lnTo>
                        <a:pt x="270" y="12"/>
                      </a:lnTo>
                      <a:lnTo>
                        <a:pt x="289" y="14"/>
                      </a:lnTo>
                      <a:lnTo>
                        <a:pt x="307" y="18"/>
                      </a:lnTo>
                      <a:lnTo>
                        <a:pt x="326" y="25"/>
                      </a:lnTo>
                      <a:lnTo>
                        <a:pt x="344" y="35"/>
                      </a:lnTo>
                      <a:lnTo>
                        <a:pt x="363" y="47"/>
                      </a:lnTo>
                      <a:lnTo>
                        <a:pt x="382" y="63"/>
                      </a:lnTo>
                      <a:lnTo>
                        <a:pt x="402" y="82"/>
                      </a:lnTo>
                      <a:lnTo>
                        <a:pt x="420" y="104"/>
                      </a:lnTo>
                      <a:lnTo>
                        <a:pt x="439" y="132"/>
                      </a:lnTo>
                      <a:lnTo>
                        <a:pt x="450" y="125"/>
                      </a:lnTo>
                      <a:lnTo>
                        <a:pt x="429" y="97"/>
                      </a:lnTo>
                      <a:lnTo>
                        <a:pt x="411" y="74"/>
                      </a:lnTo>
                      <a:lnTo>
                        <a:pt x="390" y="54"/>
                      </a:lnTo>
                      <a:lnTo>
                        <a:pt x="371" y="38"/>
                      </a:lnTo>
                      <a:lnTo>
                        <a:pt x="351" y="24"/>
                      </a:lnTo>
                      <a:lnTo>
                        <a:pt x="330" y="13"/>
                      </a:lnTo>
                      <a:lnTo>
                        <a:pt x="311" y="6"/>
                      </a:lnTo>
                      <a:lnTo>
                        <a:pt x="291" y="2"/>
                      </a:lnTo>
                      <a:lnTo>
                        <a:pt x="270" y="0"/>
                      </a:lnTo>
                      <a:lnTo>
                        <a:pt x="252" y="1"/>
                      </a:lnTo>
                      <a:lnTo>
                        <a:pt x="232" y="3"/>
                      </a:lnTo>
                      <a:lnTo>
                        <a:pt x="214" y="8"/>
                      </a:lnTo>
                      <a:lnTo>
                        <a:pt x="196" y="14"/>
                      </a:lnTo>
                      <a:lnTo>
                        <a:pt x="178" y="21"/>
                      </a:lnTo>
                      <a:lnTo>
                        <a:pt x="161" y="31"/>
                      </a:lnTo>
                      <a:lnTo>
                        <a:pt x="145" y="41"/>
                      </a:lnTo>
                      <a:lnTo>
                        <a:pt x="129" y="53"/>
                      </a:lnTo>
                      <a:lnTo>
                        <a:pt x="114" y="65"/>
                      </a:lnTo>
                      <a:lnTo>
                        <a:pt x="100" y="78"/>
                      </a:lnTo>
                      <a:lnTo>
                        <a:pt x="86" y="91"/>
                      </a:lnTo>
                      <a:lnTo>
                        <a:pt x="73" y="102"/>
                      </a:lnTo>
                      <a:lnTo>
                        <a:pt x="61" y="116"/>
                      </a:lnTo>
                      <a:lnTo>
                        <a:pt x="50" y="127"/>
                      </a:lnTo>
                      <a:lnTo>
                        <a:pt x="40" y="140"/>
                      </a:lnTo>
                      <a:lnTo>
                        <a:pt x="31" y="152"/>
                      </a:lnTo>
                      <a:lnTo>
                        <a:pt x="23" y="162"/>
                      </a:lnTo>
                      <a:lnTo>
                        <a:pt x="16" y="171"/>
                      </a:lnTo>
                      <a:lnTo>
                        <a:pt x="10" y="180"/>
                      </a:lnTo>
                      <a:lnTo>
                        <a:pt x="7" y="186"/>
                      </a:lnTo>
                      <a:lnTo>
                        <a:pt x="3" y="192"/>
                      </a:lnTo>
                      <a:lnTo>
                        <a:pt x="1" y="194"/>
                      </a:lnTo>
                      <a:lnTo>
                        <a:pt x="1" y="197"/>
                      </a:lnTo>
                      <a:lnTo>
                        <a:pt x="0" y="201"/>
                      </a:lnTo>
                      <a:lnTo>
                        <a:pt x="1" y="197"/>
                      </a:lnTo>
                      <a:lnTo>
                        <a:pt x="0" y="199"/>
                      </a:lnTo>
                      <a:lnTo>
                        <a:pt x="0" y="201"/>
                      </a:lnTo>
                      <a:lnTo>
                        <a:pt x="1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14"/>
                <p:cNvSpPr/>
                <p:nvPr/>
              </p:nvSpPr>
              <p:spPr>
                <a:xfrm>
                  <a:off x="2262600" y="2728800"/>
                  <a:ext cx="119520" cy="32256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118" h="348">
                      <a:moveTo>
                        <a:pt x="118" y="340"/>
                      </a:moveTo>
                      <a:lnTo>
                        <a:pt x="118" y="340"/>
                      </a:lnTo>
                      <a:lnTo>
                        <a:pt x="116" y="336"/>
                      </a:lnTo>
                      <a:lnTo>
                        <a:pt x="113" y="330"/>
                      </a:lnTo>
                      <a:lnTo>
                        <a:pt x="109" y="325"/>
                      </a:lnTo>
                      <a:lnTo>
                        <a:pt x="106" y="316"/>
                      </a:lnTo>
                      <a:lnTo>
                        <a:pt x="102" y="307"/>
                      </a:lnTo>
                      <a:lnTo>
                        <a:pt x="98" y="297"/>
                      </a:lnTo>
                      <a:lnTo>
                        <a:pt x="94" y="285"/>
                      </a:lnTo>
                      <a:lnTo>
                        <a:pt x="90" y="273"/>
                      </a:lnTo>
                      <a:lnTo>
                        <a:pt x="85" y="260"/>
                      </a:lnTo>
                      <a:lnTo>
                        <a:pt x="81" y="247"/>
                      </a:lnTo>
                      <a:lnTo>
                        <a:pt x="77" y="232"/>
                      </a:lnTo>
                      <a:lnTo>
                        <a:pt x="72" y="217"/>
                      </a:lnTo>
                      <a:lnTo>
                        <a:pt x="68" y="204"/>
                      </a:lnTo>
                      <a:lnTo>
                        <a:pt x="63" y="189"/>
                      </a:lnTo>
                      <a:lnTo>
                        <a:pt x="58" y="174"/>
                      </a:lnTo>
                      <a:lnTo>
                        <a:pt x="54" y="157"/>
                      </a:lnTo>
                      <a:lnTo>
                        <a:pt x="49" y="143"/>
                      </a:lnTo>
                      <a:lnTo>
                        <a:pt x="46" y="128"/>
                      </a:lnTo>
                      <a:lnTo>
                        <a:pt x="41" y="113"/>
                      </a:lnTo>
                      <a:lnTo>
                        <a:pt x="38" y="99"/>
                      </a:lnTo>
                      <a:lnTo>
                        <a:pt x="34" y="86"/>
                      </a:lnTo>
                      <a:lnTo>
                        <a:pt x="31" y="72"/>
                      </a:lnTo>
                      <a:lnTo>
                        <a:pt x="26" y="60"/>
                      </a:lnTo>
                      <a:lnTo>
                        <a:pt x="24" y="49"/>
                      </a:lnTo>
                      <a:lnTo>
                        <a:pt x="22" y="38"/>
                      </a:lnTo>
                      <a:lnTo>
                        <a:pt x="18" y="28"/>
                      </a:lnTo>
                      <a:lnTo>
                        <a:pt x="17" y="19"/>
                      </a:lnTo>
                      <a:lnTo>
                        <a:pt x="15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7" y="32"/>
                      </a:lnTo>
                      <a:lnTo>
                        <a:pt x="9" y="41"/>
                      </a:lnTo>
                      <a:lnTo>
                        <a:pt x="11" y="52"/>
                      </a:lnTo>
                      <a:lnTo>
                        <a:pt x="15" y="63"/>
                      </a:lnTo>
                      <a:lnTo>
                        <a:pt x="18" y="76"/>
                      </a:lnTo>
                      <a:lnTo>
                        <a:pt x="22" y="88"/>
                      </a:lnTo>
                      <a:lnTo>
                        <a:pt x="25" y="102"/>
                      </a:lnTo>
                      <a:lnTo>
                        <a:pt x="30" y="116"/>
                      </a:lnTo>
                      <a:lnTo>
                        <a:pt x="33" y="131"/>
                      </a:lnTo>
                      <a:lnTo>
                        <a:pt x="38" y="146"/>
                      </a:lnTo>
                      <a:lnTo>
                        <a:pt x="42" y="162"/>
                      </a:lnTo>
                      <a:lnTo>
                        <a:pt x="47" y="177"/>
                      </a:lnTo>
                      <a:lnTo>
                        <a:pt x="52" y="192"/>
                      </a:lnTo>
                      <a:lnTo>
                        <a:pt x="55" y="207"/>
                      </a:lnTo>
                      <a:lnTo>
                        <a:pt x="60" y="222"/>
                      </a:lnTo>
                      <a:lnTo>
                        <a:pt x="64" y="236"/>
                      </a:lnTo>
                      <a:lnTo>
                        <a:pt x="69" y="251"/>
                      </a:lnTo>
                      <a:lnTo>
                        <a:pt x="73" y="263"/>
                      </a:lnTo>
                      <a:lnTo>
                        <a:pt x="78" y="277"/>
                      </a:lnTo>
                      <a:lnTo>
                        <a:pt x="81" y="290"/>
                      </a:lnTo>
                      <a:lnTo>
                        <a:pt x="86" y="301"/>
                      </a:lnTo>
                      <a:lnTo>
                        <a:pt x="91" y="312"/>
                      </a:lnTo>
                      <a:lnTo>
                        <a:pt x="94" y="321"/>
                      </a:lnTo>
                      <a:lnTo>
                        <a:pt x="98" y="330"/>
                      </a:lnTo>
                      <a:lnTo>
                        <a:pt x="101" y="337"/>
                      </a:lnTo>
                      <a:lnTo>
                        <a:pt x="105" y="342"/>
                      </a:lnTo>
                      <a:lnTo>
                        <a:pt x="108" y="348"/>
                      </a:lnTo>
                      <a:lnTo>
                        <a:pt x="118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15"/>
                <p:cNvSpPr/>
                <p:nvPr/>
              </p:nvSpPr>
              <p:spPr>
                <a:xfrm>
                  <a:off x="2370240" y="3044160"/>
                  <a:ext cx="214920" cy="9648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211" y="87"/>
                      </a:moveTo>
                      <a:lnTo>
                        <a:pt x="211" y="87"/>
                      </a:lnTo>
                      <a:lnTo>
                        <a:pt x="200" y="89"/>
                      </a:lnTo>
                      <a:lnTo>
                        <a:pt x="188" y="89"/>
                      </a:lnTo>
                      <a:lnTo>
                        <a:pt x="174" y="87"/>
                      </a:lnTo>
                      <a:lnTo>
                        <a:pt x="160" y="85"/>
                      </a:lnTo>
                      <a:lnTo>
                        <a:pt x="145" y="80"/>
                      </a:lnTo>
                      <a:lnTo>
                        <a:pt x="130" y="74"/>
                      </a:lnTo>
                      <a:lnTo>
                        <a:pt x="114" y="69"/>
                      </a:lnTo>
                      <a:lnTo>
                        <a:pt x="99" y="62"/>
                      </a:lnTo>
                      <a:lnTo>
                        <a:pt x="84" y="54"/>
                      </a:lnTo>
                      <a:lnTo>
                        <a:pt x="70" y="46"/>
                      </a:lnTo>
                      <a:lnTo>
                        <a:pt x="56" y="36"/>
                      </a:lnTo>
                      <a:lnTo>
                        <a:pt x="45" y="28"/>
                      </a:lnTo>
                      <a:lnTo>
                        <a:pt x="33" y="20"/>
                      </a:lnTo>
                      <a:lnTo>
                        <a:pt x="24" y="12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15" y="23"/>
                      </a:lnTo>
                      <a:lnTo>
                        <a:pt x="25" y="31"/>
                      </a:lnTo>
                      <a:lnTo>
                        <a:pt x="37" y="39"/>
                      </a:lnTo>
                      <a:lnTo>
                        <a:pt x="50" y="48"/>
                      </a:lnTo>
                      <a:lnTo>
                        <a:pt x="63" y="56"/>
                      </a:lnTo>
                      <a:lnTo>
                        <a:pt x="78" y="64"/>
                      </a:lnTo>
                      <a:lnTo>
                        <a:pt x="93" y="72"/>
                      </a:lnTo>
                      <a:lnTo>
                        <a:pt x="109" y="80"/>
                      </a:lnTo>
                      <a:lnTo>
                        <a:pt x="126" y="87"/>
                      </a:lnTo>
                      <a:lnTo>
                        <a:pt x="142" y="92"/>
                      </a:lnTo>
                      <a:lnTo>
                        <a:pt x="157" y="97"/>
                      </a:lnTo>
                      <a:lnTo>
                        <a:pt x="172" y="101"/>
                      </a:lnTo>
                      <a:lnTo>
                        <a:pt x="187" y="102"/>
                      </a:lnTo>
                      <a:lnTo>
                        <a:pt x="202" y="102"/>
                      </a:lnTo>
                      <a:lnTo>
                        <a:pt x="214" y="100"/>
                      </a:lnTo>
                      <a:lnTo>
                        <a:pt x="211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116"/>
                <p:cNvSpPr/>
                <p:nvPr/>
              </p:nvSpPr>
              <p:spPr>
                <a:xfrm>
                  <a:off x="2220480" y="2525040"/>
                  <a:ext cx="540000" cy="34488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543" h="371">
                      <a:moveTo>
                        <a:pt x="293" y="1"/>
                      </a:moveTo>
                      <a:lnTo>
                        <a:pt x="303" y="3"/>
                      </a:lnTo>
                      <a:lnTo>
                        <a:pt x="313" y="5"/>
                      </a:lnTo>
                      <a:lnTo>
                        <a:pt x="323" y="9"/>
                      </a:lnTo>
                      <a:lnTo>
                        <a:pt x="332" y="11"/>
                      </a:lnTo>
                      <a:lnTo>
                        <a:pt x="340" y="15"/>
                      </a:lnTo>
                      <a:lnTo>
                        <a:pt x="347" y="18"/>
                      </a:lnTo>
                      <a:lnTo>
                        <a:pt x="354" y="23"/>
                      </a:lnTo>
                      <a:lnTo>
                        <a:pt x="360" y="26"/>
                      </a:lnTo>
                      <a:lnTo>
                        <a:pt x="365" y="30"/>
                      </a:lnTo>
                      <a:lnTo>
                        <a:pt x="370" y="33"/>
                      </a:lnTo>
                      <a:lnTo>
                        <a:pt x="375" y="36"/>
                      </a:lnTo>
                      <a:lnTo>
                        <a:pt x="378" y="40"/>
                      </a:lnTo>
                      <a:lnTo>
                        <a:pt x="380" y="42"/>
                      </a:lnTo>
                      <a:lnTo>
                        <a:pt x="383" y="43"/>
                      </a:lnTo>
                      <a:lnTo>
                        <a:pt x="383" y="45"/>
                      </a:lnTo>
                      <a:lnTo>
                        <a:pt x="384" y="46"/>
                      </a:lnTo>
                      <a:lnTo>
                        <a:pt x="384" y="43"/>
                      </a:lnTo>
                      <a:lnTo>
                        <a:pt x="385" y="40"/>
                      </a:lnTo>
                      <a:lnTo>
                        <a:pt x="387" y="34"/>
                      </a:lnTo>
                      <a:lnTo>
                        <a:pt x="391" y="28"/>
                      </a:lnTo>
                      <a:lnTo>
                        <a:pt x="399" y="24"/>
                      </a:lnTo>
                      <a:lnTo>
                        <a:pt x="409" y="20"/>
                      </a:lnTo>
                      <a:lnTo>
                        <a:pt x="424" y="19"/>
                      </a:lnTo>
                      <a:lnTo>
                        <a:pt x="444" y="22"/>
                      </a:lnTo>
                      <a:lnTo>
                        <a:pt x="454" y="24"/>
                      </a:lnTo>
                      <a:lnTo>
                        <a:pt x="464" y="28"/>
                      </a:lnTo>
                      <a:lnTo>
                        <a:pt x="475" y="33"/>
                      </a:lnTo>
                      <a:lnTo>
                        <a:pt x="483" y="39"/>
                      </a:lnTo>
                      <a:lnTo>
                        <a:pt x="491" y="45"/>
                      </a:lnTo>
                      <a:lnTo>
                        <a:pt x="499" y="51"/>
                      </a:lnTo>
                      <a:lnTo>
                        <a:pt x="506" y="58"/>
                      </a:lnTo>
                      <a:lnTo>
                        <a:pt x="512" y="65"/>
                      </a:lnTo>
                      <a:lnTo>
                        <a:pt x="517" y="72"/>
                      </a:lnTo>
                      <a:lnTo>
                        <a:pt x="522" y="78"/>
                      </a:lnTo>
                      <a:lnTo>
                        <a:pt x="525" y="85"/>
                      </a:lnTo>
                      <a:lnTo>
                        <a:pt x="529" y="89"/>
                      </a:lnTo>
                      <a:lnTo>
                        <a:pt x="532" y="94"/>
                      </a:lnTo>
                      <a:lnTo>
                        <a:pt x="534" y="98"/>
                      </a:lnTo>
                      <a:lnTo>
                        <a:pt x="535" y="100"/>
                      </a:lnTo>
                      <a:lnTo>
                        <a:pt x="535" y="101"/>
                      </a:lnTo>
                      <a:lnTo>
                        <a:pt x="536" y="103"/>
                      </a:lnTo>
                      <a:lnTo>
                        <a:pt x="537" y="106"/>
                      </a:lnTo>
                      <a:lnTo>
                        <a:pt x="538" y="110"/>
                      </a:lnTo>
                      <a:lnTo>
                        <a:pt x="539" y="115"/>
                      </a:lnTo>
                      <a:lnTo>
                        <a:pt x="540" y="121"/>
                      </a:lnTo>
                      <a:lnTo>
                        <a:pt x="542" y="128"/>
                      </a:lnTo>
                      <a:lnTo>
                        <a:pt x="542" y="134"/>
                      </a:lnTo>
                      <a:lnTo>
                        <a:pt x="543" y="142"/>
                      </a:lnTo>
                      <a:lnTo>
                        <a:pt x="543" y="151"/>
                      </a:lnTo>
                      <a:lnTo>
                        <a:pt x="543" y="160"/>
                      </a:lnTo>
                      <a:lnTo>
                        <a:pt x="542" y="169"/>
                      </a:lnTo>
                      <a:lnTo>
                        <a:pt x="540" y="178"/>
                      </a:lnTo>
                      <a:lnTo>
                        <a:pt x="538" y="189"/>
                      </a:lnTo>
                      <a:lnTo>
                        <a:pt x="535" y="198"/>
                      </a:lnTo>
                      <a:lnTo>
                        <a:pt x="531" y="208"/>
                      </a:lnTo>
                      <a:lnTo>
                        <a:pt x="527" y="217"/>
                      </a:lnTo>
                      <a:lnTo>
                        <a:pt x="523" y="228"/>
                      </a:lnTo>
                      <a:lnTo>
                        <a:pt x="520" y="237"/>
                      </a:lnTo>
                      <a:lnTo>
                        <a:pt x="516" y="246"/>
                      </a:lnTo>
                      <a:lnTo>
                        <a:pt x="514" y="254"/>
                      </a:lnTo>
                      <a:lnTo>
                        <a:pt x="512" y="262"/>
                      </a:lnTo>
                      <a:lnTo>
                        <a:pt x="510" y="272"/>
                      </a:lnTo>
                      <a:lnTo>
                        <a:pt x="509" y="278"/>
                      </a:lnTo>
                      <a:lnTo>
                        <a:pt x="507" y="285"/>
                      </a:lnTo>
                      <a:lnTo>
                        <a:pt x="507" y="291"/>
                      </a:lnTo>
                      <a:lnTo>
                        <a:pt x="506" y="297"/>
                      </a:lnTo>
                      <a:lnTo>
                        <a:pt x="505" y="301"/>
                      </a:lnTo>
                      <a:lnTo>
                        <a:pt x="505" y="305"/>
                      </a:lnTo>
                      <a:lnTo>
                        <a:pt x="505" y="308"/>
                      </a:lnTo>
                      <a:lnTo>
                        <a:pt x="505" y="310"/>
                      </a:lnTo>
                      <a:lnTo>
                        <a:pt x="505" y="311"/>
                      </a:lnTo>
                      <a:lnTo>
                        <a:pt x="505" y="308"/>
                      </a:lnTo>
                      <a:lnTo>
                        <a:pt x="504" y="306"/>
                      </a:lnTo>
                      <a:lnTo>
                        <a:pt x="504" y="300"/>
                      </a:lnTo>
                      <a:lnTo>
                        <a:pt x="502" y="293"/>
                      </a:lnTo>
                      <a:lnTo>
                        <a:pt x="502" y="285"/>
                      </a:lnTo>
                      <a:lnTo>
                        <a:pt x="501" y="276"/>
                      </a:lnTo>
                      <a:lnTo>
                        <a:pt x="500" y="267"/>
                      </a:lnTo>
                      <a:lnTo>
                        <a:pt x="499" y="255"/>
                      </a:lnTo>
                      <a:lnTo>
                        <a:pt x="497" y="246"/>
                      </a:lnTo>
                      <a:lnTo>
                        <a:pt x="495" y="236"/>
                      </a:lnTo>
                      <a:lnTo>
                        <a:pt x="493" y="225"/>
                      </a:lnTo>
                      <a:lnTo>
                        <a:pt x="490" y="217"/>
                      </a:lnTo>
                      <a:lnTo>
                        <a:pt x="486" y="209"/>
                      </a:lnTo>
                      <a:lnTo>
                        <a:pt x="484" y="204"/>
                      </a:lnTo>
                      <a:lnTo>
                        <a:pt x="479" y="199"/>
                      </a:lnTo>
                      <a:lnTo>
                        <a:pt x="475" y="195"/>
                      </a:lnTo>
                      <a:lnTo>
                        <a:pt x="467" y="191"/>
                      </a:lnTo>
                      <a:lnTo>
                        <a:pt x="459" y="184"/>
                      </a:lnTo>
                      <a:lnTo>
                        <a:pt x="452" y="175"/>
                      </a:lnTo>
                      <a:lnTo>
                        <a:pt x="447" y="166"/>
                      </a:lnTo>
                      <a:lnTo>
                        <a:pt x="442" y="156"/>
                      </a:lnTo>
                      <a:lnTo>
                        <a:pt x="438" y="148"/>
                      </a:lnTo>
                      <a:lnTo>
                        <a:pt x="437" y="142"/>
                      </a:lnTo>
                      <a:lnTo>
                        <a:pt x="436" y="140"/>
                      </a:lnTo>
                      <a:lnTo>
                        <a:pt x="403" y="152"/>
                      </a:lnTo>
                      <a:lnTo>
                        <a:pt x="371" y="132"/>
                      </a:lnTo>
                      <a:lnTo>
                        <a:pt x="370" y="133"/>
                      </a:lnTo>
                      <a:lnTo>
                        <a:pt x="366" y="138"/>
                      </a:lnTo>
                      <a:lnTo>
                        <a:pt x="360" y="145"/>
                      </a:lnTo>
                      <a:lnTo>
                        <a:pt x="351" y="153"/>
                      </a:lnTo>
                      <a:lnTo>
                        <a:pt x="342" y="163"/>
                      </a:lnTo>
                      <a:lnTo>
                        <a:pt x="331" y="174"/>
                      </a:lnTo>
                      <a:lnTo>
                        <a:pt x="318" y="184"/>
                      </a:lnTo>
                      <a:lnTo>
                        <a:pt x="304" y="195"/>
                      </a:lnTo>
                      <a:lnTo>
                        <a:pt x="289" y="207"/>
                      </a:lnTo>
                      <a:lnTo>
                        <a:pt x="274" y="216"/>
                      </a:lnTo>
                      <a:lnTo>
                        <a:pt x="259" y="225"/>
                      </a:lnTo>
                      <a:lnTo>
                        <a:pt x="244" y="232"/>
                      </a:lnTo>
                      <a:lnTo>
                        <a:pt x="229" y="238"/>
                      </a:lnTo>
                      <a:lnTo>
                        <a:pt x="214" y="240"/>
                      </a:lnTo>
                      <a:lnTo>
                        <a:pt x="201" y="239"/>
                      </a:lnTo>
                      <a:lnTo>
                        <a:pt x="189" y="236"/>
                      </a:lnTo>
                      <a:lnTo>
                        <a:pt x="177" y="230"/>
                      </a:lnTo>
                      <a:lnTo>
                        <a:pt x="166" y="228"/>
                      </a:lnTo>
                      <a:lnTo>
                        <a:pt x="154" y="227"/>
                      </a:lnTo>
                      <a:lnTo>
                        <a:pt x="144" y="228"/>
                      </a:lnTo>
                      <a:lnTo>
                        <a:pt x="135" y="229"/>
                      </a:lnTo>
                      <a:lnTo>
                        <a:pt x="126" y="232"/>
                      </a:lnTo>
                      <a:lnTo>
                        <a:pt x="116" y="235"/>
                      </a:lnTo>
                      <a:lnTo>
                        <a:pt x="108" y="239"/>
                      </a:lnTo>
                      <a:lnTo>
                        <a:pt x="101" y="244"/>
                      </a:lnTo>
                      <a:lnTo>
                        <a:pt x="96" y="248"/>
                      </a:lnTo>
                      <a:lnTo>
                        <a:pt x="90" y="253"/>
                      </a:lnTo>
                      <a:lnTo>
                        <a:pt x="85" y="258"/>
                      </a:lnTo>
                      <a:lnTo>
                        <a:pt x="82" y="262"/>
                      </a:lnTo>
                      <a:lnTo>
                        <a:pt x="80" y="265"/>
                      </a:lnTo>
                      <a:lnTo>
                        <a:pt x="77" y="267"/>
                      </a:lnTo>
                      <a:lnTo>
                        <a:pt x="93" y="371"/>
                      </a:lnTo>
                      <a:lnTo>
                        <a:pt x="92" y="371"/>
                      </a:lnTo>
                      <a:lnTo>
                        <a:pt x="89" y="368"/>
                      </a:lnTo>
                      <a:lnTo>
                        <a:pt x="84" y="366"/>
                      </a:lnTo>
                      <a:lnTo>
                        <a:pt x="77" y="361"/>
                      </a:lnTo>
                      <a:lnTo>
                        <a:pt x="69" y="357"/>
                      </a:lnTo>
                      <a:lnTo>
                        <a:pt x="61" y="352"/>
                      </a:lnTo>
                      <a:lnTo>
                        <a:pt x="52" y="345"/>
                      </a:lnTo>
                      <a:lnTo>
                        <a:pt x="44" y="338"/>
                      </a:lnTo>
                      <a:lnTo>
                        <a:pt x="35" y="331"/>
                      </a:lnTo>
                      <a:lnTo>
                        <a:pt x="27" y="324"/>
                      </a:lnTo>
                      <a:lnTo>
                        <a:pt x="18" y="316"/>
                      </a:lnTo>
                      <a:lnTo>
                        <a:pt x="12" y="308"/>
                      </a:lnTo>
                      <a:lnTo>
                        <a:pt x="6" y="301"/>
                      </a:lnTo>
                      <a:lnTo>
                        <a:pt x="1" y="293"/>
                      </a:lnTo>
                      <a:lnTo>
                        <a:pt x="0" y="286"/>
                      </a:lnTo>
                      <a:lnTo>
                        <a:pt x="0" y="280"/>
                      </a:lnTo>
                      <a:lnTo>
                        <a:pt x="1" y="273"/>
                      </a:lnTo>
                      <a:lnTo>
                        <a:pt x="2" y="265"/>
                      </a:lnTo>
                      <a:lnTo>
                        <a:pt x="3" y="257"/>
                      </a:lnTo>
                      <a:lnTo>
                        <a:pt x="5" y="248"/>
                      </a:lnTo>
                      <a:lnTo>
                        <a:pt x="7" y="239"/>
                      </a:lnTo>
                      <a:lnTo>
                        <a:pt x="8" y="230"/>
                      </a:lnTo>
                      <a:lnTo>
                        <a:pt x="9" y="221"/>
                      </a:lnTo>
                      <a:lnTo>
                        <a:pt x="12" y="213"/>
                      </a:lnTo>
                      <a:lnTo>
                        <a:pt x="13" y="204"/>
                      </a:lnTo>
                      <a:lnTo>
                        <a:pt x="15" y="195"/>
                      </a:lnTo>
                      <a:lnTo>
                        <a:pt x="17" y="187"/>
                      </a:lnTo>
                      <a:lnTo>
                        <a:pt x="20" y="180"/>
                      </a:lnTo>
                      <a:lnTo>
                        <a:pt x="22" y="174"/>
                      </a:lnTo>
                      <a:lnTo>
                        <a:pt x="25" y="168"/>
                      </a:lnTo>
                      <a:lnTo>
                        <a:pt x="28" y="163"/>
                      </a:lnTo>
                      <a:lnTo>
                        <a:pt x="32" y="160"/>
                      </a:lnTo>
                      <a:lnTo>
                        <a:pt x="35" y="156"/>
                      </a:lnTo>
                      <a:lnTo>
                        <a:pt x="37" y="153"/>
                      </a:lnTo>
                      <a:lnTo>
                        <a:pt x="39" y="148"/>
                      </a:lnTo>
                      <a:lnTo>
                        <a:pt x="40" y="144"/>
                      </a:lnTo>
                      <a:lnTo>
                        <a:pt x="42" y="138"/>
                      </a:lnTo>
                      <a:lnTo>
                        <a:pt x="42" y="132"/>
                      </a:lnTo>
                      <a:lnTo>
                        <a:pt x="43" y="126"/>
                      </a:lnTo>
                      <a:lnTo>
                        <a:pt x="44" y="121"/>
                      </a:lnTo>
                      <a:lnTo>
                        <a:pt x="45" y="115"/>
                      </a:lnTo>
                      <a:lnTo>
                        <a:pt x="46" y="108"/>
                      </a:lnTo>
                      <a:lnTo>
                        <a:pt x="48" y="101"/>
                      </a:lnTo>
                      <a:lnTo>
                        <a:pt x="50" y="94"/>
                      </a:lnTo>
                      <a:lnTo>
                        <a:pt x="53" y="87"/>
                      </a:lnTo>
                      <a:lnTo>
                        <a:pt x="58" y="81"/>
                      </a:lnTo>
                      <a:lnTo>
                        <a:pt x="62" y="75"/>
                      </a:lnTo>
                      <a:lnTo>
                        <a:pt x="69" y="69"/>
                      </a:lnTo>
                      <a:lnTo>
                        <a:pt x="77" y="63"/>
                      </a:lnTo>
                      <a:lnTo>
                        <a:pt x="88" y="56"/>
                      </a:lnTo>
                      <a:lnTo>
                        <a:pt x="99" y="50"/>
                      </a:lnTo>
                      <a:lnTo>
                        <a:pt x="113" y="43"/>
                      </a:lnTo>
                      <a:lnTo>
                        <a:pt x="127" y="38"/>
                      </a:lnTo>
                      <a:lnTo>
                        <a:pt x="142" y="32"/>
                      </a:lnTo>
                      <a:lnTo>
                        <a:pt x="157" y="25"/>
                      </a:lnTo>
                      <a:lnTo>
                        <a:pt x="173" y="20"/>
                      </a:lnTo>
                      <a:lnTo>
                        <a:pt x="189" y="15"/>
                      </a:lnTo>
                      <a:lnTo>
                        <a:pt x="205" y="11"/>
                      </a:lnTo>
                      <a:lnTo>
                        <a:pt x="221" y="7"/>
                      </a:lnTo>
                      <a:lnTo>
                        <a:pt x="237" y="4"/>
                      </a:lnTo>
                      <a:lnTo>
                        <a:pt x="252" y="2"/>
                      </a:lnTo>
                      <a:lnTo>
                        <a:pt x="267" y="1"/>
                      </a:lnTo>
                      <a:lnTo>
                        <a:pt x="280" y="0"/>
                      </a:lnTo>
                      <a:lnTo>
                        <a:pt x="29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17"/>
                <p:cNvSpPr/>
                <p:nvPr/>
              </p:nvSpPr>
              <p:spPr>
                <a:xfrm>
                  <a:off x="2511720" y="2522880"/>
                  <a:ext cx="95760" cy="5184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95" h="57">
                      <a:moveTo>
                        <a:pt x="88" y="49"/>
                      </a:moveTo>
                      <a:lnTo>
                        <a:pt x="94" y="46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1" y="43"/>
                      </a:lnTo>
                      <a:lnTo>
                        <a:pt x="88" y="41"/>
                      </a:lnTo>
                      <a:lnTo>
                        <a:pt x="85" y="37"/>
                      </a:lnTo>
                      <a:lnTo>
                        <a:pt x="80" y="34"/>
                      </a:lnTo>
                      <a:lnTo>
                        <a:pt x="76" y="30"/>
                      </a:lnTo>
                      <a:lnTo>
                        <a:pt x="70" y="27"/>
                      </a:lnTo>
                      <a:lnTo>
                        <a:pt x="64" y="23"/>
                      </a:lnTo>
                      <a:lnTo>
                        <a:pt x="56" y="19"/>
                      </a:lnTo>
                      <a:lnTo>
                        <a:pt x="49" y="15"/>
                      </a:lnTo>
                      <a:lnTo>
                        <a:pt x="40" y="12"/>
                      </a:lnTo>
                      <a:lnTo>
                        <a:pt x="32" y="8"/>
                      </a:lnTo>
                      <a:lnTo>
                        <a:pt x="23" y="5"/>
                      </a:lnTo>
                      <a:lnTo>
                        <a:pt x="11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0" y="10"/>
                      </a:lnTo>
                      <a:lnTo>
                        <a:pt x="20" y="12"/>
                      </a:lnTo>
                      <a:lnTo>
                        <a:pt x="30" y="14"/>
                      </a:lnTo>
                      <a:lnTo>
                        <a:pt x="39" y="18"/>
                      </a:lnTo>
                      <a:lnTo>
                        <a:pt x="47" y="21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66" y="33"/>
                      </a:lnTo>
                      <a:lnTo>
                        <a:pt x="72" y="36"/>
                      </a:lnTo>
                      <a:lnTo>
                        <a:pt x="77" y="39"/>
                      </a:lnTo>
                      <a:lnTo>
                        <a:pt x="80" y="42"/>
                      </a:lnTo>
                      <a:lnTo>
                        <a:pt x="84" y="45"/>
                      </a:lnTo>
                      <a:lnTo>
                        <a:pt x="86" y="48"/>
                      </a:lnTo>
                      <a:lnTo>
                        <a:pt x="88" y="49"/>
                      </a:lnTo>
                      <a:lnTo>
                        <a:pt x="88" y="50"/>
                      </a:lnTo>
                      <a:lnTo>
                        <a:pt x="89" y="51"/>
                      </a:lnTo>
                      <a:lnTo>
                        <a:pt x="95" y="49"/>
                      </a:lnTo>
                      <a:lnTo>
                        <a:pt x="89" y="51"/>
                      </a:lnTo>
                      <a:lnTo>
                        <a:pt x="95" y="57"/>
                      </a:lnTo>
                      <a:lnTo>
                        <a:pt x="95" y="49"/>
                      </a:lnTo>
                      <a:lnTo>
                        <a:pt x="88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18"/>
                <p:cNvSpPr/>
                <p:nvPr/>
              </p:nvSpPr>
              <p:spPr>
                <a:xfrm>
                  <a:off x="2599560" y="2539800"/>
                  <a:ext cx="63720" cy="277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64" h="30">
                      <a:moveTo>
                        <a:pt x="64" y="2"/>
                      </a:moveTo>
                      <a:lnTo>
                        <a:pt x="64" y="2"/>
                      </a:lnTo>
                      <a:lnTo>
                        <a:pt x="44" y="0"/>
                      </a:lnTo>
                      <a:lnTo>
                        <a:pt x="28" y="1"/>
                      </a:lnTo>
                      <a:lnTo>
                        <a:pt x="16" y="4"/>
                      </a:lnTo>
                      <a:lnTo>
                        <a:pt x="8" y="10"/>
                      </a:lnTo>
                      <a:lnTo>
                        <a:pt x="4" y="17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20" y="10"/>
                      </a:lnTo>
                      <a:lnTo>
                        <a:pt x="29" y="7"/>
                      </a:lnTo>
                      <a:lnTo>
                        <a:pt x="44" y="7"/>
                      </a:lnTo>
                      <a:lnTo>
                        <a:pt x="62" y="9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119"/>
                <p:cNvSpPr/>
                <p:nvPr/>
              </p:nvSpPr>
              <p:spPr>
                <a:xfrm>
                  <a:off x="2661480" y="2543400"/>
                  <a:ext cx="95760" cy="7776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96" h="84">
                      <a:moveTo>
                        <a:pt x="96" y="82"/>
                      </a:moveTo>
                      <a:lnTo>
                        <a:pt x="96" y="81"/>
                      </a:lnTo>
                      <a:lnTo>
                        <a:pt x="95" y="81"/>
                      </a:lnTo>
                      <a:lnTo>
                        <a:pt x="95" y="78"/>
                      </a:lnTo>
                      <a:lnTo>
                        <a:pt x="93" y="74"/>
                      </a:lnTo>
                      <a:lnTo>
                        <a:pt x="90" y="70"/>
                      </a:lnTo>
                      <a:lnTo>
                        <a:pt x="87" y="65"/>
                      </a:lnTo>
                      <a:lnTo>
                        <a:pt x="82" y="59"/>
                      </a:lnTo>
                      <a:lnTo>
                        <a:pt x="78" y="52"/>
                      </a:lnTo>
                      <a:lnTo>
                        <a:pt x="72" y="45"/>
                      </a:lnTo>
                      <a:lnTo>
                        <a:pt x="66" y="38"/>
                      </a:lnTo>
                      <a:lnTo>
                        <a:pt x="59" y="31"/>
                      </a:lnTo>
                      <a:lnTo>
                        <a:pt x="51" y="24"/>
                      </a:lnTo>
                      <a:lnTo>
                        <a:pt x="43" y="18"/>
                      </a:lnTo>
                      <a:lnTo>
                        <a:pt x="34" y="13"/>
                      </a:lnTo>
                      <a:lnTo>
                        <a:pt x="24" y="7"/>
                      </a:lnTo>
                      <a:lnTo>
                        <a:pt x="13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2" y="9"/>
                      </a:lnTo>
                      <a:lnTo>
                        <a:pt x="21" y="13"/>
                      </a:lnTo>
                      <a:lnTo>
                        <a:pt x="30" y="18"/>
                      </a:lnTo>
                      <a:lnTo>
                        <a:pt x="40" y="23"/>
                      </a:lnTo>
                      <a:lnTo>
                        <a:pt x="48" y="29"/>
                      </a:lnTo>
                      <a:lnTo>
                        <a:pt x="55" y="36"/>
                      </a:lnTo>
                      <a:lnTo>
                        <a:pt x="62" y="43"/>
                      </a:lnTo>
                      <a:lnTo>
                        <a:pt x="67" y="50"/>
                      </a:lnTo>
                      <a:lnTo>
                        <a:pt x="73" y="55"/>
                      </a:lnTo>
                      <a:lnTo>
                        <a:pt x="77" y="62"/>
                      </a:lnTo>
                      <a:lnTo>
                        <a:pt x="81" y="68"/>
                      </a:lnTo>
                      <a:lnTo>
                        <a:pt x="85" y="74"/>
                      </a:lnTo>
                      <a:lnTo>
                        <a:pt x="87" y="78"/>
                      </a:lnTo>
                      <a:lnTo>
                        <a:pt x="89" y="81"/>
                      </a:lnTo>
                      <a:lnTo>
                        <a:pt x="90" y="83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6" y="82"/>
                      </a:lnTo>
                      <a:lnTo>
                        <a:pt x="96" y="81"/>
                      </a:lnTo>
                      <a:lnTo>
                        <a:pt x="9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120"/>
                <p:cNvSpPr/>
                <p:nvPr/>
              </p:nvSpPr>
              <p:spPr>
                <a:xfrm>
                  <a:off x="2746800" y="2617560"/>
                  <a:ext cx="18000" cy="1018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8" h="109">
                      <a:moveTo>
                        <a:pt x="6" y="109"/>
                      </a:moveTo>
                      <a:lnTo>
                        <a:pt x="6" y="109"/>
                      </a:lnTo>
                      <a:lnTo>
                        <a:pt x="10" y="99"/>
                      </a:lnTo>
                      <a:lnTo>
                        <a:pt x="14" y="90"/>
                      </a:lnTo>
                      <a:lnTo>
                        <a:pt x="16" y="79"/>
                      </a:lnTo>
                      <a:lnTo>
                        <a:pt x="17" y="70"/>
                      </a:lnTo>
                      <a:lnTo>
                        <a:pt x="18" y="61"/>
                      </a:lnTo>
                      <a:lnTo>
                        <a:pt x="18" y="51"/>
                      </a:lnTo>
                      <a:lnTo>
                        <a:pt x="18" y="42"/>
                      </a:lnTo>
                      <a:lnTo>
                        <a:pt x="17" y="34"/>
                      </a:ln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0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7" y="10"/>
                      </a:lnTo>
                      <a:lnTo>
                        <a:pt x="8" y="16"/>
                      </a:lnTo>
                      <a:lnTo>
                        <a:pt x="9" y="21"/>
                      </a:lnTo>
                      <a:lnTo>
                        <a:pt x="10" y="28"/>
                      </a:lnTo>
                      <a:lnTo>
                        <a:pt x="11" y="36"/>
                      </a:lnTo>
                      <a:lnTo>
                        <a:pt x="11" y="42"/>
                      </a:lnTo>
                      <a:lnTo>
                        <a:pt x="11" y="51"/>
                      </a:lnTo>
                      <a:lnTo>
                        <a:pt x="11" y="60"/>
                      </a:lnTo>
                      <a:lnTo>
                        <a:pt x="10" y="69"/>
                      </a:lnTo>
                      <a:lnTo>
                        <a:pt x="9" y="78"/>
                      </a:lnTo>
                      <a:lnTo>
                        <a:pt x="7" y="87"/>
                      </a:lnTo>
                      <a:lnTo>
                        <a:pt x="4" y="98"/>
                      </a:lnTo>
                      <a:lnTo>
                        <a:pt x="0" y="107"/>
                      </a:lnTo>
                      <a:lnTo>
                        <a:pt x="6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21"/>
                <p:cNvSpPr/>
                <p:nvPr/>
              </p:nvSpPr>
              <p:spPr>
                <a:xfrm>
                  <a:off x="2721240" y="2717640"/>
                  <a:ext cx="32040" cy="12420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33" h="134">
                      <a:moveTo>
                        <a:pt x="0" y="104"/>
                      </a:move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6" y="101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8" y="90"/>
                      </a:lnTo>
                      <a:lnTo>
                        <a:pt x="8" y="85"/>
                      </a:lnTo>
                      <a:lnTo>
                        <a:pt x="9" y="78"/>
                      </a:lnTo>
                      <a:lnTo>
                        <a:pt x="11" y="71"/>
                      </a:lnTo>
                      <a:lnTo>
                        <a:pt x="13" y="65"/>
                      </a:lnTo>
                      <a:lnTo>
                        <a:pt x="14" y="56"/>
                      </a:lnTo>
                      <a:lnTo>
                        <a:pt x="16" y="48"/>
                      </a:lnTo>
                      <a:lnTo>
                        <a:pt x="19" y="39"/>
                      </a:lnTo>
                      <a:lnTo>
                        <a:pt x="22" y="30"/>
                      </a:lnTo>
                      <a:lnTo>
                        <a:pt x="26" y="22"/>
                      </a:lnTo>
                      <a:lnTo>
                        <a:pt x="29" y="12"/>
                      </a:lnTo>
                      <a:lnTo>
                        <a:pt x="33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6"/>
                      </a:lnTo>
                      <a:lnTo>
                        <a:pt x="8" y="55"/>
                      </a:lnTo>
                      <a:lnTo>
                        <a:pt x="6" y="63"/>
                      </a:lnTo>
                      <a:lnTo>
                        <a:pt x="5" y="71"/>
                      </a:lnTo>
                      <a:lnTo>
                        <a:pt x="4" y="78"/>
                      </a:lnTo>
                      <a:lnTo>
                        <a:pt x="3" y="84"/>
                      </a:lnTo>
                      <a:lnTo>
                        <a:pt x="1" y="90"/>
                      </a:lnTo>
                      <a:lnTo>
                        <a:pt x="1" y="94"/>
                      </a:lnTo>
                      <a:lnTo>
                        <a:pt x="0" y="98"/>
                      </a:lnTo>
                      <a:lnTo>
                        <a:pt x="0" y="10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lnTo>
                        <a:pt x="4" y="13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122"/>
                <p:cNvSpPr/>
                <p:nvPr/>
              </p:nvSpPr>
              <p:spPr>
                <a:xfrm>
                  <a:off x="2693160" y="2705040"/>
                  <a:ext cx="33840" cy="10908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09080"/>
                    <a:gd name="textAreaBottom" fmla="*/ 109440 h 109080"/>
                  </a:gdLst>
                  <a:ahLst/>
                  <a:rect l="textAreaLeft" t="textAreaTop" r="textAreaRight" b="textAreaBottom"/>
                  <a:pathLst>
                    <a:path w="32" h="11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12"/>
                      </a:lnTo>
                      <a:lnTo>
                        <a:pt x="9" y="17"/>
                      </a:lnTo>
                      <a:lnTo>
                        <a:pt x="11" y="26"/>
                      </a:lnTo>
                      <a:lnTo>
                        <a:pt x="15" y="34"/>
                      </a:lnTo>
                      <a:lnTo>
                        <a:pt x="17" y="43"/>
                      </a:lnTo>
                      <a:lnTo>
                        <a:pt x="18" y="53"/>
                      </a:lnTo>
                      <a:lnTo>
                        <a:pt x="20" y="64"/>
                      </a:lnTo>
                      <a:lnTo>
                        <a:pt x="22" y="74"/>
                      </a:lnTo>
                      <a:lnTo>
                        <a:pt x="23" y="83"/>
                      </a:lnTo>
                      <a:lnTo>
                        <a:pt x="24" y="92"/>
                      </a:lnTo>
                      <a:lnTo>
                        <a:pt x="25" y="102"/>
                      </a:lnTo>
                      <a:lnTo>
                        <a:pt x="25" y="108"/>
                      </a:lnTo>
                      <a:lnTo>
                        <a:pt x="25" y="113"/>
                      </a:lnTo>
                      <a:lnTo>
                        <a:pt x="26" y="117"/>
                      </a:lnTo>
                      <a:lnTo>
                        <a:pt x="26" y="118"/>
                      </a:lnTo>
                      <a:lnTo>
                        <a:pt x="32" y="118"/>
                      </a:lnTo>
                      <a:lnTo>
                        <a:pt x="32" y="115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31" y="100"/>
                      </a:lnTo>
                      <a:lnTo>
                        <a:pt x="31" y="92"/>
                      </a:lnTo>
                      <a:lnTo>
                        <a:pt x="30" y="83"/>
                      </a:lnTo>
                      <a:lnTo>
                        <a:pt x="29" y="73"/>
                      </a:lnTo>
                      <a:lnTo>
                        <a:pt x="27" y="62"/>
                      </a:lnTo>
                      <a:lnTo>
                        <a:pt x="25" y="52"/>
                      </a:lnTo>
                      <a:lnTo>
                        <a:pt x="23" y="42"/>
                      </a:lnTo>
                      <a:lnTo>
                        <a:pt x="20" y="32"/>
                      </a:lnTo>
                      <a:lnTo>
                        <a:pt x="18" y="23"/>
                      </a:lnTo>
                      <a:lnTo>
                        <a:pt x="15" y="15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123"/>
                <p:cNvSpPr/>
                <p:nvPr/>
              </p:nvSpPr>
              <p:spPr>
                <a:xfrm>
                  <a:off x="2651400" y="2651040"/>
                  <a:ext cx="43560" cy="59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4" h="63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3"/>
                      </a:lnTo>
                      <a:lnTo>
                        <a:pt x="7" y="21"/>
                      </a:lnTo>
                      <a:lnTo>
                        <a:pt x="12" y="31"/>
                      </a:lnTo>
                      <a:lnTo>
                        <a:pt x="17" y="41"/>
                      </a:lnTo>
                      <a:lnTo>
                        <a:pt x="24" y="50"/>
                      </a:lnTo>
                      <a:lnTo>
                        <a:pt x="32" y="58"/>
                      </a:lnTo>
                      <a:lnTo>
                        <a:pt x="43" y="63"/>
                      </a:lnTo>
                      <a:lnTo>
                        <a:pt x="44" y="57"/>
                      </a:lnTo>
                      <a:lnTo>
                        <a:pt x="36" y="53"/>
                      </a:lnTo>
                      <a:lnTo>
                        <a:pt x="29" y="46"/>
                      </a:lnTo>
                      <a:lnTo>
                        <a:pt x="23" y="36"/>
                      </a:lnTo>
                      <a:lnTo>
                        <a:pt x="17" y="27"/>
                      </a:lnTo>
                      <a:lnTo>
                        <a:pt x="13" y="18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2" y="1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24"/>
                <p:cNvSpPr/>
                <p:nvPr/>
              </p:nvSpPr>
              <p:spPr>
                <a:xfrm>
                  <a:off x="2621520" y="2652840"/>
                  <a:ext cx="33840" cy="183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5" h="19">
                      <a:moveTo>
                        <a:pt x="0" y="18"/>
                      </a:moveTo>
                      <a:lnTo>
                        <a:pt x="2" y="18"/>
                      </a:lnTo>
                      <a:lnTo>
                        <a:pt x="35" y="7"/>
                      </a:lnTo>
                      <a:lnTo>
                        <a:pt x="32" y="0"/>
                      </a:lnTo>
                      <a:lnTo>
                        <a:pt x="1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125"/>
                <p:cNvSpPr/>
                <p:nvPr/>
              </p:nvSpPr>
              <p:spPr>
                <a:xfrm>
                  <a:off x="2587680" y="2645280"/>
                  <a:ext cx="37800" cy="241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4" y="5"/>
                      </a:moveTo>
                      <a:lnTo>
                        <a:pt x="1" y="7"/>
                      </a:lnTo>
                      <a:lnTo>
                        <a:pt x="33" y="26"/>
                      </a:lnTo>
                      <a:lnTo>
                        <a:pt x="37" y="2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126"/>
                <p:cNvSpPr/>
                <p:nvPr/>
              </p:nvSpPr>
              <p:spPr>
                <a:xfrm>
                  <a:off x="2405880" y="2645280"/>
                  <a:ext cx="187560" cy="1058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86" h="114">
                      <a:moveTo>
                        <a:pt x="0" y="108"/>
                      </a:moveTo>
                      <a:lnTo>
                        <a:pt x="0" y="108"/>
                      </a:lnTo>
                      <a:lnTo>
                        <a:pt x="14" y="113"/>
                      </a:lnTo>
                      <a:lnTo>
                        <a:pt x="27" y="114"/>
                      </a:lnTo>
                      <a:lnTo>
                        <a:pt x="43" y="112"/>
                      </a:lnTo>
                      <a:lnTo>
                        <a:pt x="58" y="106"/>
                      </a:lnTo>
                      <a:lnTo>
                        <a:pt x="73" y="99"/>
                      </a:lnTo>
                      <a:lnTo>
                        <a:pt x="90" y="90"/>
                      </a:lnTo>
                      <a:lnTo>
                        <a:pt x="105" y="79"/>
                      </a:lnTo>
                      <a:lnTo>
                        <a:pt x="118" y="68"/>
                      </a:lnTo>
                      <a:lnTo>
                        <a:pt x="133" y="56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67" y="25"/>
                      </a:lnTo>
                      <a:lnTo>
                        <a:pt x="175" y="17"/>
                      </a:lnTo>
                      <a:lnTo>
                        <a:pt x="182" y="10"/>
                      </a:lnTo>
                      <a:lnTo>
                        <a:pt x="185" y="6"/>
                      </a:lnTo>
                      <a:lnTo>
                        <a:pt x="186" y="4"/>
                      </a:lnTo>
                      <a:lnTo>
                        <a:pt x="182" y="0"/>
                      </a:lnTo>
                      <a:lnTo>
                        <a:pt x="181" y="1"/>
                      </a:lnTo>
                      <a:lnTo>
                        <a:pt x="177" y="6"/>
                      </a:lnTo>
                      <a:lnTo>
                        <a:pt x="170" y="12"/>
                      </a:lnTo>
                      <a:lnTo>
                        <a:pt x="162" y="21"/>
                      </a:lnTo>
                      <a:lnTo>
                        <a:pt x="153" y="31"/>
                      </a:lnTo>
                      <a:lnTo>
                        <a:pt x="141" y="41"/>
                      </a:lnTo>
                      <a:lnTo>
                        <a:pt x="129" y="52"/>
                      </a:lnTo>
                      <a:lnTo>
                        <a:pt x="115" y="63"/>
                      </a:lnTo>
                      <a:lnTo>
                        <a:pt x="101" y="75"/>
                      </a:lnTo>
                      <a:lnTo>
                        <a:pt x="85" y="84"/>
                      </a:lnTo>
                      <a:lnTo>
                        <a:pt x="71" y="93"/>
                      </a:lnTo>
                      <a:lnTo>
                        <a:pt x="55" y="100"/>
                      </a:lnTo>
                      <a:lnTo>
                        <a:pt x="41" y="105"/>
                      </a:lnTo>
                      <a:lnTo>
                        <a:pt x="27" y="107"/>
                      </a:lnTo>
                      <a:lnTo>
                        <a:pt x="15" y="107"/>
                      </a:lnTo>
                      <a:lnTo>
                        <a:pt x="3" y="10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27"/>
                <p:cNvSpPr/>
                <p:nvPr/>
              </p:nvSpPr>
              <p:spPr>
                <a:xfrm>
                  <a:off x="2294280" y="2732760"/>
                  <a:ext cx="115560" cy="424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116" h="46">
                      <a:moveTo>
                        <a:pt x="7" y="44"/>
                      </a:move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14" y="37"/>
                      </a:lnTo>
                      <a:lnTo>
                        <a:pt x="18" y="32"/>
                      </a:lnTo>
                      <a:lnTo>
                        <a:pt x="23" y="29"/>
                      </a:lnTo>
                      <a:lnTo>
                        <a:pt x="30" y="24"/>
                      </a:lnTo>
                      <a:lnTo>
                        <a:pt x="37" y="20"/>
                      </a:lnTo>
                      <a:lnTo>
                        <a:pt x="44" y="15"/>
                      </a:lnTo>
                      <a:lnTo>
                        <a:pt x="53" y="12"/>
                      </a:lnTo>
                      <a:lnTo>
                        <a:pt x="62" y="9"/>
                      </a:lnTo>
                      <a:lnTo>
                        <a:pt x="71" y="7"/>
                      </a:lnTo>
                      <a:lnTo>
                        <a:pt x="80" y="7"/>
                      </a:lnTo>
                      <a:lnTo>
                        <a:pt x="91" y="8"/>
                      </a:lnTo>
                      <a:lnTo>
                        <a:pt x="102" y="10"/>
                      </a:lnTo>
                      <a:lnTo>
                        <a:pt x="113" y="15"/>
                      </a:lnTo>
                      <a:lnTo>
                        <a:pt x="116" y="9"/>
                      </a:lnTo>
                      <a:lnTo>
                        <a:pt x="103" y="5"/>
                      </a:lnTo>
                      <a:lnTo>
                        <a:pt x="92" y="1"/>
                      </a:lnTo>
                      <a:lnTo>
                        <a:pt x="80" y="0"/>
                      </a:lnTo>
                      <a:lnTo>
                        <a:pt x="70" y="1"/>
                      </a:lnTo>
                      <a:lnTo>
                        <a:pt x="60" y="2"/>
                      </a:lnTo>
                      <a:lnTo>
                        <a:pt x="50" y="6"/>
                      </a:lnTo>
                      <a:lnTo>
                        <a:pt x="41" y="9"/>
                      </a:lnTo>
                      <a:lnTo>
                        <a:pt x="33" y="14"/>
                      </a:lnTo>
                      <a:lnTo>
                        <a:pt x="26" y="19"/>
                      </a:lnTo>
                      <a:lnTo>
                        <a:pt x="19" y="23"/>
                      </a:lnTo>
                      <a:lnTo>
                        <a:pt x="14" y="28"/>
                      </a:lnTo>
                      <a:lnTo>
                        <a:pt x="9" y="32"/>
                      </a:lnTo>
                      <a:lnTo>
                        <a:pt x="6" y="37"/>
                      </a:lnTo>
                      <a:lnTo>
                        <a:pt x="3" y="39"/>
                      </a:lnTo>
                      <a:lnTo>
                        <a:pt x="1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128"/>
                <p:cNvSpPr/>
                <p:nvPr/>
              </p:nvSpPr>
              <p:spPr>
                <a:xfrm>
                  <a:off x="2294280" y="2773440"/>
                  <a:ext cx="21960" cy="101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3" h="110">
                      <a:moveTo>
                        <a:pt x="18" y="107"/>
                      </a:moveTo>
                      <a:lnTo>
                        <a:pt x="23" y="104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6" y="105"/>
                      </a:lnTo>
                      <a:lnTo>
                        <a:pt x="21" y="101"/>
                      </a:lnTo>
                      <a:lnTo>
                        <a:pt x="18" y="107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1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129"/>
                <p:cNvSpPr/>
                <p:nvPr/>
              </p:nvSpPr>
              <p:spPr>
                <a:xfrm>
                  <a:off x="2216880" y="2784600"/>
                  <a:ext cx="97560" cy="889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98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7"/>
                      </a:lnTo>
                      <a:lnTo>
                        <a:pt x="5" y="25"/>
                      </a:lnTo>
                      <a:lnTo>
                        <a:pt x="12" y="33"/>
                      </a:lnTo>
                      <a:lnTo>
                        <a:pt x="19" y="41"/>
                      </a:lnTo>
                      <a:lnTo>
                        <a:pt x="27" y="49"/>
                      </a:lnTo>
                      <a:lnTo>
                        <a:pt x="36" y="56"/>
                      </a:lnTo>
                      <a:lnTo>
                        <a:pt x="46" y="64"/>
                      </a:lnTo>
                      <a:lnTo>
                        <a:pt x="54" y="70"/>
                      </a:lnTo>
                      <a:lnTo>
                        <a:pt x="62" y="76"/>
                      </a:lnTo>
                      <a:lnTo>
                        <a:pt x="71" y="82"/>
                      </a:lnTo>
                      <a:lnTo>
                        <a:pt x="78" y="87"/>
                      </a:lnTo>
                      <a:lnTo>
                        <a:pt x="85" y="90"/>
                      </a:lnTo>
                      <a:lnTo>
                        <a:pt x="89" y="94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8" y="90"/>
                      </a:lnTo>
                      <a:lnTo>
                        <a:pt x="96" y="90"/>
                      </a:lnTo>
                      <a:lnTo>
                        <a:pt x="93" y="88"/>
                      </a:lnTo>
                      <a:lnTo>
                        <a:pt x="88" y="85"/>
                      </a:lnTo>
                      <a:lnTo>
                        <a:pt x="81" y="81"/>
                      </a:lnTo>
                      <a:lnTo>
                        <a:pt x="74" y="76"/>
                      </a:lnTo>
                      <a:lnTo>
                        <a:pt x="65" y="71"/>
                      </a:lnTo>
                      <a:lnTo>
                        <a:pt x="57" y="65"/>
                      </a:lnTo>
                      <a:lnTo>
                        <a:pt x="49" y="58"/>
                      </a:lnTo>
                      <a:lnTo>
                        <a:pt x="40" y="51"/>
                      </a:lnTo>
                      <a:lnTo>
                        <a:pt x="32" y="44"/>
                      </a:lnTo>
                      <a:lnTo>
                        <a:pt x="24" y="36"/>
                      </a:lnTo>
                      <a:lnTo>
                        <a:pt x="17" y="29"/>
                      </a:lnTo>
                      <a:lnTo>
                        <a:pt x="11" y="21"/>
                      </a:lnTo>
                      <a:lnTo>
                        <a:pt x="8" y="14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130"/>
                <p:cNvSpPr/>
                <p:nvPr/>
              </p:nvSpPr>
              <p:spPr>
                <a:xfrm>
                  <a:off x="2216880" y="267120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36" h="124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28" y="5"/>
                      </a:lnTo>
                      <a:lnTo>
                        <a:pt x="25" y="10"/>
                      </a:lnTo>
                      <a:lnTo>
                        <a:pt x="23" y="15"/>
                      </a:lnTo>
                      <a:lnTo>
                        <a:pt x="19" y="22"/>
                      </a:lnTo>
                      <a:lnTo>
                        <a:pt x="17" y="29"/>
                      </a:lnTo>
                      <a:lnTo>
                        <a:pt x="15" y="37"/>
                      </a:lnTo>
                      <a:lnTo>
                        <a:pt x="12" y="47"/>
                      </a:lnTo>
                      <a:lnTo>
                        <a:pt x="11" y="55"/>
                      </a:lnTo>
                      <a:lnTo>
                        <a:pt x="10" y="64"/>
                      </a:lnTo>
                      <a:lnTo>
                        <a:pt x="8" y="73"/>
                      </a:lnTo>
                      <a:lnTo>
                        <a:pt x="6" y="82"/>
                      </a:lnTo>
                      <a:lnTo>
                        <a:pt x="5" y="90"/>
                      </a:lnTo>
                      <a:lnTo>
                        <a:pt x="3" y="100"/>
                      </a:lnTo>
                      <a:lnTo>
                        <a:pt x="2" y="108"/>
                      </a:lnTo>
                      <a:lnTo>
                        <a:pt x="1" y="115"/>
                      </a:lnTo>
                      <a:lnTo>
                        <a:pt x="0" y="121"/>
                      </a:lnTo>
                      <a:lnTo>
                        <a:pt x="5" y="124"/>
                      </a:lnTo>
                      <a:lnTo>
                        <a:pt x="8" y="116"/>
                      </a:lnTo>
                      <a:lnTo>
                        <a:pt x="9" y="108"/>
                      </a:lnTo>
                      <a:lnTo>
                        <a:pt x="10" y="101"/>
                      </a:lnTo>
                      <a:lnTo>
                        <a:pt x="11" y="91"/>
                      </a:lnTo>
                      <a:lnTo>
                        <a:pt x="12" y="82"/>
                      </a:lnTo>
                      <a:lnTo>
                        <a:pt x="15" y="73"/>
                      </a:lnTo>
                      <a:lnTo>
                        <a:pt x="16" y="65"/>
                      </a:lnTo>
                      <a:lnTo>
                        <a:pt x="17" y="56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4" y="32"/>
                      </a:lnTo>
                      <a:lnTo>
                        <a:pt x="26" y="25"/>
                      </a:lnTo>
                      <a:lnTo>
                        <a:pt x="28" y="18"/>
                      </a:lnTo>
                      <a:lnTo>
                        <a:pt x="31" y="13"/>
                      </a:lnTo>
                      <a:lnTo>
                        <a:pt x="33" y="9"/>
                      </a:lnTo>
                      <a:lnTo>
                        <a:pt x="36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131"/>
                <p:cNvSpPr/>
                <p:nvPr/>
              </p:nvSpPr>
              <p:spPr>
                <a:xfrm>
                  <a:off x="2250360" y="2588040"/>
                  <a:ext cx="41760" cy="885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41" h="96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0" y="6"/>
                      </a:lnTo>
                      <a:lnTo>
                        <a:pt x="24" y="13"/>
                      </a:lnTo>
                      <a:lnTo>
                        <a:pt x="21" y="20"/>
                      </a:lnTo>
                      <a:lnTo>
                        <a:pt x="18" y="27"/>
                      </a:lnTo>
                      <a:lnTo>
                        <a:pt x="15" y="34"/>
                      </a:lnTo>
                      <a:lnTo>
                        <a:pt x="13" y="41"/>
                      </a:lnTo>
                      <a:lnTo>
                        <a:pt x="12" y="48"/>
                      </a:lnTo>
                      <a:lnTo>
                        <a:pt x="10" y="53"/>
                      </a:lnTo>
                      <a:lnTo>
                        <a:pt x="9" y="60"/>
                      </a:lnTo>
                      <a:lnTo>
                        <a:pt x="9" y="66"/>
                      </a:lnTo>
                      <a:lnTo>
                        <a:pt x="8" y="72"/>
                      </a:lnTo>
                      <a:lnTo>
                        <a:pt x="7" y="76"/>
                      </a:lnTo>
                      <a:lnTo>
                        <a:pt x="6" y="81"/>
                      </a:lnTo>
                      <a:lnTo>
                        <a:pt x="5" y="86"/>
                      </a:lnTo>
                      <a:lnTo>
                        <a:pt x="2" y="89"/>
                      </a:lnTo>
                      <a:lnTo>
                        <a:pt x="0" y="91"/>
                      </a:lnTo>
                      <a:lnTo>
                        <a:pt x="3" y="96"/>
                      </a:lnTo>
                      <a:lnTo>
                        <a:pt x="7" y="93"/>
                      </a:lnTo>
                      <a:lnTo>
                        <a:pt x="10" y="88"/>
                      </a:lnTo>
                      <a:lnTo>
                        <a:pt x="13" y="83"/>
                      </a:lnTo>
                      <a:lnTo>
                        <a:pt x="14" y="79"/>
                      </a:lnTo>
                      <a:lnTo>
                        <a:pt x="15" y="73"/>
                      </a:lnTo>
                      <a:lnTo>
                        <a:pt x="15" y="67"/>
                      </a:lnTo>
                      <a:lnTo>
                        <a:pt x="16" y="60"/>
                      </a:lnTo>
                      <a:lnTo>
                        <a:pt x="17" y="55"/>
                      </a:lnTo>
                      <a:lnTo>
                        <a:pt x="18" y="49"/>
                      </a:lnTo>
                      <a:lnTo>
                        <a:pt x="20" y="42"/>
                      </a:lnTo>
                      <a:lnTo>
                        <a:pt x="21" y="36"/>
                      </a:lnTo>
                      <a:lnTo>
                        <a:pt x="22" y="29"/>
                      </a:lnTo>
                      <a:lnTo>
                        <a:pt x="25" y="23"/>
                      </a:lnTo>
                      <a:lnTo>
                        <a:pt x="30" y="17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132"/>
                <p:cNvSpPr/>
                <p:nvPr/>
              </p:nvSpPr>
              <p:spPr>
                <a:xfrm>
                  <a:off x="2286720" y="2522880"/>
                  <a:ext cx="225000" cy="6876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26" h="74">
                      <a:moveTo>
                        <a:pt x="226" y="0"/>
                      </a:moveTo>
                      <a:lnTo>
                        <a:pt x="226" y="0"/>
                      </a:lnTo>
                      <a:lnTo>
                        <a:pt x="213" y="0"/>
                      </a:lnTo>
                      <a:lnTo>
                        <a:pt x="200" y="0"/>
                      </a:lnTo>
                      <a:lnTo>
                        <a:pt x="185" y="1"/>
                      </a:lnTo>
                      <a:lnTo>
                        <a:pt x="170" y="4"/>
                      </a:lnTo>
                      <a:lnTo>
                        <a:pt x="154" y="7"/>
                      </a:lnTo>
                      <a:lnTo>
                        <a:pt x="138" y="11"/>
                      </a:lnTo>
                      <a:lnTo>
                        <a:pt x="122" y="14"/>
                      </a:lnTo>
                      <a:lnTo>
                        <a:pt x="106" y="20"/>
                      </a:lnTo>
                      <a:lnTo>
                        <a:pt x="90" y="26"/>
                      </a:lnTo>
                      <a:lnTo>
                        <a:pt x="74" y="31"/>
                      </a:lnTo>
                      <a:lnTo>
                        <a:pt x="57" y="37"/>
                      </a:lnTo>
                      <a:lnTo>
                        <a:pt x="44" y="44"/>
                      </a:lnTo>
                      <a:lnTo>
                        <a:pt x="31" y="50"/>
                      </a:lnTo>
                      <a:lnTo>
                        <a:pt x="18" y="57"/>
                      </a:lnTo>
                      <a:lnTo>
                        <a:pt x="9" y="63"/>
                      </a:lnTo>
                      <a:lnTo>
                        <a:pt x="0" y="69"/>
                      </a:lnTo>
                      <a:lnTo>
                        <a:pt x="4" y="74"/>
                      </a:lnTo>
                      <a:lnTo>
                        <a:pt x="13" y="68"/>
                      </a:lnTo>
                      <a:lnTo>
                        <a:pt x="23" y="63"/>
                      </a:lnTo>
                      <a:lnTo>
                        <a:pt x="33" y="56"/>
                      </a:lnTo>
                      <a:lnTo>
                        <a:pt x="47" y="50"/>
                      </a:lnTo>
                      <a:lnTo>
                        <a:pt x="61" y="43"/>
                      </a:lnTo>
                      <a:lnTo>
                        <a:pt x="76" y="37"/>
                      </a:lnTo>
                      <a:lnTo>
                        <a:pt x="91" y="31"/>
                      </a:lnTo>
                      <a:lnTo>
                        <a:pt x="107" y="26"/>
                      </a:lnTo>
                      <a:lnTo>
                        <a:pt x="123" y="21"/>
                      </a:lnTo>
                      <a:lnTo>
                        <a:pt x="139" y="16"/>
                      </a:lnTo>
                      <a:lnTo>
                        <a:pt x="155" y="13"/>
                      </a:lnTo>
                      <a:lnTo>
                        <a:pt x="172" y="10"/>
                      </a:lnTo>
                      <a:lnTo>
                        <a:pt x="187" y="7"/>
                      </a:lnTo>
                      <a:lnTo>
                        <a:pt x="200" y="7"/>
                      </a:lnTo>
                      <a:lnTo>
                        <a:pt x="213" y="6"/>
                      </a:lnTo>
                      <a:lnTo>
                        <a:pt x="225" y="7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33"/>
                <p:cNvSpPr/>
                <p:nvPr/>
              </p:nvSpPr>
              <p:spPr>
                <a:xfrm>
                  <a:off x="2591640" y="275112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19"/>
                      </a:moveTo>
                      <a:lnTo>
                        <a:pt x="88" y="11"/>
                      </a:lnTo>
                      <a:lnTo>
                        <a:pt x="5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134"/>
                <p:cNvSpPr/>
                <p:nvPr/>
              </p:nvSpPr>
              <p:spPr>
                <a:xfrm>
                  <a:off x="2591640" y="2758320"/>
                  <a:ext cx="101160" cy="151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03" h="15">
                      <a:moveTo>
                        <a:pt x="88" y="7"/>
                      </a:moveTo>
                      <a:lnTo>
                        <a:pt x="88" y="0"/>
                      </a:lnTo>
                      <a:lnTo>
                        <a:pt x="0" y="8"/>
                      </a:lnTo>
                      <a:lnTo>
                        <a:pt x="1" y="15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103" y="5"/>
                      </a:lnTo>
                      <a:lnTo>
                        <a:pt x="89" y="0"/>
                      </a:lnTo>
                      <a:lnTo>
                        <a:pt x="8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135"/>
                <p:cNvSpPr/>
                <p:nvPr/>
              </p:nvSpPr>
              <p:spPr>
                <a:xfrm>
                  <a:off x="2641320" y="2748960"/>
                  <a:ext cx="37800" cy="165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37" h="19">
                      <a:moveTo>
                        <a:pt x="1" y="7"/>
                      </a:moveTo>
                      <a:lnTo>
                        <a:pt x="0" y="7"/>
                      </a:lnTo>
                      <a:lnTo>
                        <a:pt x="36" y="19"/>
                      </a:lnTo>
                      <a:lnTo>
                        <a:pt x="37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36"/>
                <p:cNvSpPr/>
                <p:nvPr/>
              </p:nvSpPr>
              <p:spPr>
                <a:xfrm>
                  <a:off x="2569680" y="2748960"/>
                  <a:ext cx="73440" cy="2592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74" h="28">
                      <a:moveTo>
                        <a:pt x="21" y="20"/>
                      </a:moveTo>
                      <a:lnTo>
                        <a:pt x="22" y="27"/>
                      </a:lnTo>
                      <a:lnTo>
                        <a:pt x="74" y="7"/>
                      </a:lnTo>
                      <a:lnTo>
                        <a:pt x="73" y="0"/>
                      </a:lnTo>
                      <a:lnTo>
                        <a:pt x="21" y="20"/>
                      </a:lnTo>
                      <a:lnTo>
                        <a:pt x="22" y="27"/>
                      </a:lnTo>
                      <a:lnTo>
                        <a:pt x="21" y="20"/>
                      </a:lnTo>
                      <a:lnTo>
                        <a:pt x="0" y="28"/>
                      </a:lnTo>
                      <a:lnTo>
                        <a:pt x="22" y="2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137"/>
                <p:cNvSpPr/>
                <p:nvPr/>
              </p:nvSpPr>
              <p:spPr>
                <a:xfrm>
                  <a:off x="2611800" y="2810520"/>
                  <a:ext cx="37440" cy="291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19" y="33"/>
                      </a:moveTo>
                      <a:lnTo>
                        <a:pt x="23" y="32"/>
                      </a:lnTo>
                      <a:lnTo>
                        <a:pt x="27" y="32"/>
                      </a:lnTo>
                      <a:lnTo>
                        <a:pt x="31" y="30"/>
                      </a:lnTo>
                      <a:lnTo>
                        <a:pt x="33" y="28"/>
                      </a:lnTo>
                      <a:lnTo>
                        <a:pt x="36" y="25"/>
                      </a:lnTo>
                      <a:lnTo>
                        <a:pt x="38" y="23"/>
                      </a:lnTo>
                      <a:lnTo>
                        <a:pt x="39" y="20"/>
                      </a:lnTo>
                      <a:lnTo>
                        <a:pt x="39" y="16"/>
                      </a:lnTo>
                      <a:lnTo>
                        <a:pt x="39" y="13"/>
                      </a:lnTo>
                      <a:lnTo>
                        <a:pt x="38" y="9"/>
                      </a:lnTo>
                      <a:lnTo>
                        <a:pt x="36" y="7"/>
                      </a:lnTo>
                      <a:lnTo>
                        <a:pt x="33" y="5"/>
                      </a:lnTo>
                      <a:lnTo>
                        <a:pt x="31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8"/>
                      </a:lnTo>
                      <a:lnTo>
                        <a:pt x="9" y="30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138"/>
                <p:cNvSpPr/>
                <p:nvPr/>
              </p:nvSpPr>
              <p:spPr>
                <a:xfrm>
                  <a:off x="2631600" y="282528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7" y="2"/>
                      </a:lnTo>
                      <a:lnTo>
                        <a:pt x="17" y="5"/>
                      </a:lnTo>
                      <a:lnTo>
                        <a:pt x="14" y="7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3" y="17"/>
                      </a:lnTo>
                      <a:lnTo>
                        <a:pt x="17" y="14"/>
                      </a:lnTo>
                      <a:lnTo>
                        <a:pt x="19" y="12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39"/>
                <p:cNvSpPr/>
                <p:nvPr/>
              </p:nvSpPr>
              <p:spPr>
                <a:xfrm>
                  <a:off x="2631600" y="2806920"/>
                  <a:ext cx="21600" cy="18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1" y="8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18" y="19"/>
                      </a:lnTo>
                      <a:lnTo>
                        <a:pt x="23" y="19"/>
                      </a:lnTo>
                      <a:lnTo>
                        <a:pt x="23" y="16"/>
                      </a:lnTo>
                      <a:lnTo>
                        <a:pt x="22" y="11"/>
                      </a:lnTo>
                      <a:lnTo>
                        <a:pt x="19" y="8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140"/>
                <p:cNvSpPr/>
                <p:nvPr/>
              </p:nvSpPr>
              <p:spPr>
                <a:xfrm>
                  <a:off x="2607480" y="280692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10" y="12"/>
                      </a:lnTo>
                      <a:lnTo>
                        <a:pt x="12" y="10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20" y="7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8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141"/>
                <p:cNvSpPr/>
                <p:nvPr/>
              </p:nvSpPr>
              <p:spPr>
                <a:xfrm>
                  <a:off x="2607480" y="2825280"/>
                  <a:ext cx="23760" cy="183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23" y="14"/>
                      </a:moveTo>
                      <a:lnTo>
                        <a:pt x="23" y="14"/>
                      </a:lnTo>
                      <a:lnTo>
                        <a:pt x="20" y="14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2" y="9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9" y="20"/>
                      </a:lnTo>
                      <a:lnTo>
                        <a:pt x="23" y="21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142"/>
                <p:cNvSpPr/>
                <p:nvPr/>
              </p:nvSpPr>
              <p:spPr>
                <a:xfrm>
                  <a:off x="2354400" y="2782800"/>
                  <a:ext cx="85320" cy="1836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6" h="21">
                      <a:moveTo>
                        <a:pt x="86" y="6"/>
                      </a:moveTo>
                      <a:lnTo>
                        <a:pt x="0" y="21"/>
                      </a:lnTo>
                      <a:lnTo>
                        <a:pt x="3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143"/>
                <p:cNvSpPr/>
                <p:nvPr/>
              </p:nvSpPr>
              <p:spPr>
                <a:xfrm>
                  <a:off x="2338560" y="2784600"/>
                  <a:ext cx="101160" cy="2196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02" h="26">
                      <a:moveTo>
                        <a:pt x="13" y="17"/>
                      </a:moveTo>
                      <a:lnTo>
                        <a:pt x="16" y="22"/>
                      </a:lnTo>
                      <a:lnTo>
                        <a:pt x="102" y="7"/>
                      </a:lnTo>
                      <a:lnTo>
                        <a:pt x="101" y="0"/>
                      </a:lnTo>
                      <a:lnTo>
                        <a:pt x="15" y="17"/>
                      </a:lnTo>
                      <a:lnTo>
                        <a:pt x="17" y="22"/>
                      </a:lnTo>
                      <a:lnTo>
                        <a:pt x="13" y="17"/>
                      </a:lnTo>
                      <a:lnTo>
                        <a:pt x="0" y="26"/>
                      </a:lnTo>
                      <a:lnTo>
                        <a:pt x="16" y="22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144"/>
                <p:cNvSpPr/>
                <p:nvPr/>
              </p:nvSpPr>
              <p:spPr>
                <a:xfrm>
                  <a:off x="2352240" y="2778840"/>
                  <a:ext cx="37800" cy="25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" h="27">
                      <a:moveTo>
                        <a:pt x="38" y="0"/>
                      </a:moveTo>
                      <a:lnTo>
                        <a:pt x="36" y="0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40" y="5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45"/>
                <p:cNvSpPr/>
                <p:nvPr/>
              </p:nvSpPr>
              <p:spPr>
                <a:xfrm>
                  <a:off x="2388240" y="2778840"/>
                  <a:ext cx="71280" cy="108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72" h="12">
                      <a:moveTo>
                        <a:pt x="52" y="12"/>
                      </a:moveTo>
                      <a:lnTo>
                        <a:pt x="52" y="5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1" y="12"/>
                      </a:lnTo>
                      <a:lnTo>
                        <a:pt x="51" y="5"/>
                      </a:lnTo>
                      <a:lnTo>
                        <a:pt x="52" y="12"/>
                      </a:lnTo>
                      <a:lnTo>
                        <a:pt x="72" y="9"/>
                      </a:lnTo>
                      <a:lnTo>
                        <a:pt x="52" y="5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146"/>
                <p:cNvSpPr/>
                <p:nvPr/>
              </p:nvSpPr>
              <p:spPr>
                <a:xfrm>
                  <a:off x="2396160" y="2834640"/>
                  <a:ext cx="39960" cy="313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20" y="33"/>
                      </a:move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4" y="7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5" y="4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40" y="12"/>
                      </a:lnTo>
                      <a:lnTo>
                        <a:pt x="41" y="16"/>
                      </a:lnTo>
                      <a:lnTo>
                        <a:pt x="40" y="19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1" y="30"/>
                      </a:lnTo>
                      <a:lnTo>
                        <a:pt x="28" y="32"/>
                      </a:lnTo>
                      <a:lnTo>
                        <a:pt x="25" y="32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147"/>
                <p:cNvSpPr/>
                <p:nvPr/>
              </p:nvSpPr>
              <p:spPr>
                <a:xfrm>
                  <a:off x="2392560" y="2849400"/>
                  <a:ext cx="23400" cy="20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7" y="13"/>
                      </a:lnTo>
                      <a:lnTo>
                        <a:pt x="14" y="11"/>
                      </a:lnTo>
                      <a:lnTo>
                        <a:pt x="11" y="9"/>
                      </a:lnTo>
                      <a:lnTo>
                        <a:pt x="9" y="7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48"/>
                <p:cNvSpPr/>
                <p:nvPr/>
              </p:nvSpPr>
              <p:spPr>
                <a:xfrm>
                  <a:off x="2392560" y="2832840"/>
                  <a:ext cx="23400" cy="16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3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149"/>
                <p:cNvSpPr/>
                <p:nvPr/>
              </p:nvSpPr>
              <p:spPr>
                <a:xfrm>
                  <a:off x="2415960" y="2832840"/>
                  <a:ext cx="21960" cy="162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20"/>
                      </a:moveTo>
                      <a:lnTo>
                        <a:pt x="23" y="20"/>
                      </a:lnTo>
                      <a:lnTo>
                        <a:pt x="23" y="16"/>
                      </a:lnTo>
                      <a:lnTo>
                        <a:pt x="22" y="12"/>
                      </a:lnTo>
                      <a:lnTo>
                        <a:pt x="20" y="8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11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2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150"/>
                <p:cNvSpPr/>
                <p:nvPr/>
              </p:nvSpPr>
              <p:spPr>
                <a:xfrm>
                  <a:off x="2415960" y="2849400"/>
                  <a:ext cx="21960" cy="20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5" y="19"/>
                      </a:lnTo>
                      <a:lnTo>
                        <a:pt x="9" y="18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20" y="11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51"/>
                <p:cNvSpPr/>
                <p:nvPr/>
              </p:nvSpPr>
              <p:spPr>
                <a:xfrm>
                  <a:off x="2456280" y="2975400"/>
                  <a:ext cx="186840" cy="7056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188" h="76">
                      <a:moveTo>
                        <a:pt x="0" y="27"/>
                      </a:moveTo>
                      <a:lnTo>
                        <a:pt x="188" y="0"/>
                      </a:lnTo>
                      <a:lnTo>
                        <a:pt x="187" y="1"/>
                      </a:lnTo>
                      <a:lnTo>
                        <a:pt x="186" y="3"/>
                      </a:lnTo>
                      <a:lnTo>
                        <a:pt x="185" y="7"/>
                      </a:lnTo>
                      <a:lnTo>
                        <a:pt x="181" y="11"/>
                      </a:lnTo>
                      <a:lnTo>
                        <a:pt x="179" y="17"/>
                      </a:lnTo>
                      <a:lnTo>
                        <a:pt x="174" y="23"/>
                      </a:lnTo>
                      <a:lnTo>
                        <a:pt x="170" y="30"/>
                      </a:lnTo>
                      <a:lnTo>
                        <a:pt x="165" y="37"/>
                      </a:lnTo>
                      <a:lnTo>
                        <a:pt x="159" y="44"/>
                      </a:lnTo>
                      <a:lnTo>
                        <a:pt x="153" y="50"/>
                      </a:lnTo>
                      <a:lnTo>
                        <a:pt x="147" y="56"/>
                      </a:lnTo>
                      <a:lnTo>
                        <a:pt x="139" y="62"/>
                      </a:lnTo>
                      <a:lnTo>
                        <a:pt x="130" y="68"/>
                      </a:lnTo>
                      <a:lnTo>
                        <a:pt x="122" y="71"/>
                      </a:lnTo>
                      <a:lnTo>
                        <a:pt x="113" y="75"/>
                      </a:lnTo>
                      <a:lnTo>
                        <a:pt x="104" y="76"/>
                      </a:lnTo>
                      <a:lnTo>
                        <a:pt x="94" y="76"/>
                      </a:lnTo>
                      <a:lnTo>
                        <a:pt x="84" y="75"/>
                      </a:lnTo>
                      <a:lnTo>
                        <a:pt x="75" y="72"/>
                      </a:lnTo>
                      <a:lnTo>
                        <a:pt x="66" y="70"/>
                      </a:lnTo>
                      <a:lnTo>
                        <a:pt x="57" y="67"/>
                      </a:lnTo>
                      <a:lnTo>
                        <a:pt x="49" y="62"/>
                      </a:lnTo>
                      <a:lnTo>
                        <a:pt x="41" y="57"/>
                      </a:lnTo>
                      <a:lnTo>
                        <a:pt x="33" y="53"/>
                      </a:lnTo>
                      <a:lnTo>
                        <a:pt x="26" y="48"/>
                      </a:lnTo>
                      <a:lnTo>
                        <a:pt x="20" y="44"/>
                      </a:lnTo>
                      <a:lnTo>
                        <a:pt x="14" y="40"/>
                      </a:lnTo>
                      <a:lnTo>
                        <a:pt x="9" y="35"/>
                      </a:lnTo>
                      <a:lnTo>
                        <a:pt x="6" y="32"/>
                      </a:lnTo>
                      <a:lnTo>
                        <a:pt x="3" y="30"/>
                      </a:lnTo>
                      <a:lnTo>
                        <a:pt x="1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152"/>
                <p:cNvSpPr/>
                <p:nvPr/>
              </p:nvSpPr>
              <p:spPr>
                <a:xfrm>
                  <a:off x="2456280" y="2973960"/>
                  <a:ext cx="191160" cy="3132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193" h="35">
                      <a:moveTo>
                        <a:pt x="190" y="6"/>
                      </a:moveTo>
                      <a:lnTo>
                        <a:pt x="187" y="1"/>
                      </a:lnTo>
                      <a:lnTo>
                        <a:pt x="0" y="29"/>
                      </a:lnTo>
                      <a:lnTo>
                        <a:pt x="1" y="35"/>
                      </a:lnTo>
                      <a:lnTo>
                        <a:pt x="188" y="7"/>
                      </a:lnTo>
                      <a:lnTo>
                        <a:pt x="185" y="3"/>
                      </a:lnTo>
                      <a:lnTo>
                        <a:pt x="190" y="6"/>
                      </a:lnTo>
                      <a:lnTo>
                        <a:pt x="193" y="0"/>
                      </a:lnTo>
                      <a:lnTo>
                        <a:pt x="187" y="1"/>
                      </a:lnTo>
                      <a:lnTo>
                        <a:pt x="19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153"/>
                <p:cNvSpPr/>
                <p:nvPr/>
              </p:nvSpPr>
              <p:spPr>
                <a:xfrm>
                  <a:off x="2557800" y="2975400"/>
                  <a:ext cx="87480" cy="7416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87" h="80">
                      <a:moveTo>
                        <a:pt x="1" y="80"/>
                      </a:moveTo>
                      <a:lnTo>
                        <a:pt x="1" y="80"/>
                      </a:lnTo>
                      <a:lnTo>
                        <a:pt x="11" y="79"/>
                      </a:lnTo>
                      <a:lnTo>
                        <a:pt x="21" y="75"/>
                      </a:lnTo>
                      <a:lnTo>
                        <a:pt x="30" y="71"/>
                      </a:lnTo>
                      <a:lnTo>
                        <a:pt x="38" y="66"/>
                      </a:lnTo>
                      <a:lnTo>
                        <a:pt x="46" y="60"/>
                      </a:lnTo>
                      <a:lnTo>
                        <a:pt x="53" y="54"/>
                      </a:lnTo>
                      <a:lnTo>
                        <a:pt x="59" y="47"/>
                      </a:lnTo>
                      <a:lnTo>
                        <a:pt x="64" y="40"/>
                      </a:lnTo>
                      <a:lnTo>
                        <a:pt x="70" y="33"/>
                      </a:lnTo>
                      <a:lnTo>
                        <a:pt x="75" y="26"/>
                      </a:lnTo>
                      <a:lnTo>
                        <a:pt x="78" y="19"/>
                      </a:lnTo>
                      <a:lnTo>
                        <a:pt x="82" y="13"/>
                      </a:lnTo>
                      <a:lnTo>
                        <a:pt x="84" y="10"/>
                      </a:lnTo>
                      <a:lnTo>
                        <a:pt x="86" y="5"/>
                      </a:lnTo>
                      <a:lnTo>
                        <a:pt x="87" y="3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0" y="3"/>
                      </a:lnTo>
                      <a:lnTo>
                        <a:pt x="78" y="5"/>
                      </a:lnTo>
                      <a:lnTo>
                        <a:pt x="76" y="11"/>
                      </a:lnTo>
                      <a:lnTo>
                        <a:pt x="74" y="16"/>
                      </a:lnTo>
                      <a:lnTo>
                        <a:pt x="69" y="23"/>
                      </a:lnTo>
                      <a:lnTo>
                        <a:pt x="64" y="28"/>
                      </a:lnTo>
                      <a:lnTo>
                        <a:pt x="60" y="35"/>
                      </a:lnTo>
                      <a:lnTo>
                        <a:pt x="54" y="42"/>
                      </a:lnTo>
                      <a:lnTo>
                        <a:pt x="48" y="49"/>
                      </a:lnTo>
                      <a:lnTo>
                        <a:pt x="41" y="55"/>
                      </a:lnTo>
                      <a:lnTo>
                        <a:pt x="34" y="61"/>
                      </a:lnTo>
                      <a:lnTo>
                        <a:pt x="26" y="65"/>
                      </a:lnTo>
                      <a:lnTo>
                        <a:pt x="18" y="70"/>
                      </a:lnTo>
                      <a:lnTo>
                        <a:pt x="9" y="72"/>
                      </a:lnTo>
                      <a:lnTo>
                        <a:pt x="0" y="73"/>
                      </a:lnTo>
                      <a:lnTo>
                        <a:pt x="1" y="73"/>
                      </a:lnTo>
                      <a:lnTo>
                        <a:pt x="1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154"/>
                <p:cNvSpPr/>
                <p:nvPr/>
              </p:nvSpPr>
              <p:spPr>
                <a:xfrm>
                  <a:off x="2449800" y="2999880"/>
                  <a:ext cx="109800" cy="500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11" h="54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1" y="9"/>
                      </a:lnTo>
                      <a:lnTo>
                        <a:pt x="14" y="13"/>
                      </a:lnTo>
                      <a:lnTo>
                        <a:pt x="19" y="17"/>
                      </a:lnTo>
                      <a:lnTo>
                        <a:pt x="25" y="22"/>
                      </a:lnTo>
                      <a:lnTo>
                        <a:pt x="31" y="27"/>
                      </a:lnTo>
                      <a:lnTo>
                        <a:pt x="38" y="31"/>
                      </a:lnTo>
                      <a:lnTo>
                        <a:pt x="45" y="36"/>
                      </a:lnTo>
                      <a:lnTo>
                        <a:pt x="54" y="40"/>
                      </a:lnTo>
                      <a:lnTo>
                        <a:pt x="63" y="44"/>
                      </a:lnTo>
                      <a:lnTo>
                        <a:pt x="72" y="49"/>
                      </a:lnTo>
                      <a:lnTo>
                        <a:pt x="81" y="51"/>
                      </a:lnTo>
                      <a:lnTo>
                        <a:pt x="91" y="53"/>
                      </a:lnTo>
                      <a:lnTo>
                        <a:pt x="101" y="54"/>
                      </a:lnTo>
                      <a:lnTo>
                        <a:pt x="111" y="54"/>
                      </a:lnTo>
                      <a:lnTo>
                        <a:pt x="111" y="47"/>
                      </a:lnTo>
                      <a:lnTo>
                        <a:pt x="101" y="47"/>
                      </a:lnTo>
                      <a:lnTo>
                        <a:pt x="91" y="46"/>
                      </a:lnTo>
                      <a:lnTo>
                        <a:pt x="83" y="44"/>
                      </a:lnTo>
                      <a:lnTo>
                        <a:pt x="74" y="42"/>
                      </a:lnTo>
                      <a:lnTo>
                        <a:pt x="65" y="38"/>
                      </a:lnTo>
                      <a:lnTo>
                        <a:pt x="57" y="35"/>
                      </a:lnTo>
                      <a:lnTo>
                        <a:pt x="49" y="30"/>
                      </a:lnTo>
                      <a:lnTo>
                        <a:pt x="42" y="25"/>
                      </a:lnTo>
                      <a:lnTo>
                        <a:pt x="35" y="21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19" y="8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55"/>
                <p:cNvSpPr/>
                <p:nvPr/>
              </p:nvSpPr>
              <p:spPr>
                <a:xfrm>
                  <a:off x="2418120" y="2962440"/>
                  <a:ext cx="25560" cy="6876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7" h="73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9" y="66"/>
                      </a:lnTo>
                      <a:lnTo>
                        <a:pt x="8" y="62"/>
                      </a:lnTo>
                      <a:lnTo>
                        <a:pt x="7" y="55"/>
                      </a:lnTo>
                      <a:lnTo>
                        <a:pt x="8" y="47"/>
                      </a:lnTo>
                      <a:lnTo>
                        <a:pt x="10" y="36"/>
                      </a:lnTo>
                      <a:lnTo>
                        <a:pt x="16" y="21"/>
                      </a:lnTo>
                      <a:lnTo>
                        <a:pt x="27" y="5"/>
                      </a:lnTo>
                      <a:lnTo>
                        <a:pt x="21" y="0"/>
                      </a:lnTo>
                      <a:lnTo>
                        <a:pt x="10" y="18"/>
                      </a:lnTo>
                      <a:lnTo>
                        <a:pt x="5" y="33"/>
                      </a:lnTo>
                      <a:lnTo>
                        <a:pt x="1" y="46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6" y="73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56"/>
                <p:cNvSpPr/>
                <p:nvPr/>
              </p:nvSpPr>
              <p:spPr>
                <a:xfrm>
                  <a:off x="2643480" y="2938320"/>
                  <a:ext cx="25920" cy="64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27" h="72">
                      <a:moveTo>
                        <a:pt x="22" y="72"/>
                      </a:moveTo>
                      <a:lnTo>
                        <a:pt x="23" y="71"/>
                      </a:lnTo>
                      <a:lnTo>
                        <a:pt x="24" y="68"/>
                      </a:lnTo>
                      <a:lnTo>
                        <a:pt x="25" y="63"/>
                      </a:lnTo>
                      <a:lnTo>
                        <a:pt x="27" y="56"/>
                      </a:lnTo>
                      <a:lnTo>
                        <a:pt x="25" y="46"/>
                      </a:lnTo>
                      <a:lnTo>
                        <a:pt x="23" y="34"/>
                      </a:lnTo>
                      <a:lnTo>
                        <a:pt x="16" y="1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0" y="21"/>
                      </a:lnTo>
                      <a:lnTo>
                        <a:pt x="16" y="35"/>
                      </a:lnTo>
                      <a:lnTo>
                        <a:pt x="18" y="46"/>
                      </a:lnTo>
                      <a:lnTo>
                        <a:pt x="20" y="56"/>
                      </a:lnTo>
                      <a:lnTo>
                        <a:pt x="20" y="61"/>
                      </a:lnTo>
                      <a:lnTo>
                        <a:pt x="18" y="65"/>
                      </a:lnTo>
                      <a:lnTo>
                        <a:pt x="17" y="67"/>
                      </a:lnTo>
                      <a:lnTo>
                        <a:pt x="2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57"/>
                <p:cNvSpPr/>
                <p:nvPr/>
              </p:nvSpPr>
              <p:spPr>
                <a:xfrm>
                  <a:off x="2495880" y="2925360"/>
                  <a:ext cx="9720" cy="3348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0" h="37">
                      <a:moveTo>
                        <a:pt x="4" y="30"/>
                      </a:moveTo>
                      <a:lnTo>
                        <a:pt x="6" y="34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33"/>
                      </a:lnTo>
                      <a:lnTo>
                        <a:pt x="3" y="37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3" y="37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58"/>
                <p:cNvSpPr/>
                <p:nvPr/>
              </p:nvSpPr>
              <p:spPr>
                <a:xfrm>
                  <a:off x="2499840" y="2938320"/>
                  <a:ext cx="95040" cy="219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96" h="26">
                      <a:moveTo>
                        <a:pt x="89" y="3"/>
                      </a:moveTo>
                      <a:lnTo>
                        <a:pt x="89" y="0"/>
                      </a:lnTo>
                      <a:lnTo>
                        <a:pt x="84" y="5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7" y="15"/>
                      </a:lnTo>
                      <a:lnTo>
                        <a:pt x="59" y="16"/>
                      </a:lnTo>
                      <a:lnTo>
                        <a:pt x="52" y="19"/>
                      </a:lnTo>
                      <a:lnTo>
                        <a:pt x="44" y="19"/>
                      </a:lnTo>
                      <a:lnTo>
                        <a:pt x="37" y="20"/>
                      </a:lnTo>
                      <a:lnTo>
                        <a:pt x="30" y="20"/>
                      </a:lnTo>
                      <a:lnTo>
                        <a:pt x="23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7" y="18"/>
                      </a:lnTo>
                      <a:lnTo>
                        <a:pt x="3" y="16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6" y="23"/>
                      </a:lnTo>
                      <a:lnTo>
                        <a:pt x="10" y="24"/>
                      </a:lnTo>
                      <a:lnTo>
                        <a:pt x="16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7" y="26"/>
                      </a:lnTo>
                      <a:lnTo>
                        <a:pt x="45" y="26"/>
                      </a:lnTo>
                      <a:lnTo>
                        <a:pt x="53" y="24"/>
                      </a:lnTo>
                      <a:lnTo>
                        <a:pt x="60" y="23"/>
                      </a:lnTo>
                      <a:lnTo>
                        <a:pt x="68" y="21"/>
                      </a:lnTo>
                      <a:lnTo>
                        <a:pt x="76" y="19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95" y="4"/>
                      </a:lnTo>
                      <a:lnTo>
                        <a:pt x="95" y="1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95" y="1"/>
                      </a:lnTo>
                      <a:lnTo>
                        <a:pt x="8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59"/>
                <p:cNvSpPr/>
                <p:nvPr/>
              </p:nvSpPr>
              <p:spPr>
                <a:xfrm>
                  <a:off x="2575440" y="2910600"/>
                  <a:ext cx="18000" cy="29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9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13" y="33"/>
                      </a:lnTo>
                      <a:lnTo>
                        <a:pt x="19" y="31"/>
                      </a:lnTo>
                      <a:lnTo>
                        <a:pt x="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60"/>
                <p:cNvSpPr/>
                <p:nvPr/>
              </p:nvSpPr>
              <p:spPr>
                <a:xfrm>
                  <a:off x="2366280" y="3101760"/>
                  <a:ext cx="193320" cy="1983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194" h="213">
                      <a:moveTo>
                        <a:pt x="38" y="0"/>
                      </a:moveTo>
                      <a:lnTo>
                        <a:pt x="40" y="1"/>
                      </a:lnTo>
                      <a:lnTo>
                        <a:pt x="42" y="4"/>
                      </a:lnTo>
                      <a:lnTo>
                        <a:pt x="46" y="9"/>
                      </a:lnTo>
                      <a:lnTo>
                        <a:pt x="52" y="16"/>
                      </a:lnTo>
                      <a:lnTo>
                        <a:pt x="59" y="23"/>
                      </a:lnTo>
                      <a:lnTo>
                        <a:pt x="67" y="32"/>
                      </a:lnTo>
                      <a:lnTo>
                        <a:pt x="78" y="41"/>
                      </a:lnTo>
                      <a:lnTo>
                        <a:pt x="88" y="50"/>
                      </a:lnTo>
                      <a:lnTo>
                        <a:pt x="99" y="60"/>
                      </a:lnTo>
                      <a:lnTo>
                        <a:pt x="111" y="69"/>
                      </a:lnTo>
                      <a:lnTo>
                        <a:pt x="124" y="76"/>
                      </a:lnTo>
                      <a:lnTo>
                        <a:pt x="137" y="84"/>
                      </a:lnTo>
                      <a:lnTo>
                        <a:pt x="151" y="90"/>
                      </a:lnTo>
                      <a:lnTo>
                        <a:pt x="165" y="93"/>
                      </a:lnTo>
                      <a:lnTo>
                        <a:pt x="179" y="95"/>
                      </a:lnTo>
                      <a:lnTo>
                        <a:pt x="194" y="95"/>
                      </a:lnTo>
                      <a:lnTo>
                        <a:pt x="193" y="94"/>
                      </a:lnTo>
                      <a:lnTo>
                        <a:pt x="192" y="94"/>
                      </a:lnTo>
                      <a:lnTo>
                        <a:pt x="189" y="93"/>
                      </a:lnTo>
                      <a:lnTo>
                        <a:pt x="186" y="93"/>
                      </a:lnTo>
                      <a:lnTo>
                        <a:pt x="181" y="94"/>
                      </a:lnTo>
                      <a:lnTo>
                        <a:pt x="176" y="99"/>
                      </a:lnTo>
                      <a:lnTo>
                        <a:pt x="170" y="105"/>
                      </a:lnTo>
                      <a:lnTo>
                        <a:pt x="163" y="115"/>
                      </a:lnTo>
                      <a:lnTo>
                        <a:pt x="157" y="123"/>
                      </a:lnTo>
                      <a:lnTo>
                        <a:pt x="152" y="131"/>
                      </a:lnTo>
                      <a:lnTo>
                        <a:pt x="148" y="138"/>
                      </a:lnTo>
                      <a:lnTo>
                        <a:pt x="143" y="146"/>
                      </a:lnTo>
                      <a:lnTo>
                        <a:pt x="140" y="153"/>
                      </a:lnTo>
                      <a:lnTo>
                        <a:pt x="135" y="161"/>
                      </a:lnTo>
                      <a:lnTo>
                        <a:pt x="132" y="168"/>
                      </a:lnTo>
                      <a:lnTo>
                        <a:pt x="129" y="174"/>
                      </a:lnTo>
                      <a:lnTo>
                        <a:pt x="126" y="181"/>
                      </a:lnTo>
                      <a:lnTo>
                        <a:pt x="124" y="186"/>
                      </a:lnTo>
                      <a:lnTo>
                        <a:pt x="121" y="191"/>
                      </a:lnTo>
                      <a:lnTo>
                        <a:pt x="120" y="197"/>
                      </a:lnTo>
                      <a:lnTo>
                        <a:pt x="119" y="201"/>
                      </a:lnTo>
                      <a:lnTo>
                        <a:pt x="118" y="206"/>
                      </a:lnTo>
                      <a:lnTo>
                        <a:pt x="117" y="209"/>
                      </a:lnTo>
                      <a:lnTo>
                        <a:pt x="117" y="213"/>
                      </a:lnTo>
                      <a:lnTo>
                        <a:pt x="101" y="199"/>
                      </a:lnTo>
                      <a:lnTo>
                        <a:pt x="86" y="186"/>
                      </a:lnTo>
                      <a:lnTo>
                        <a:pt x="72" y="173"/>
                      </a:lnTo>
                      <a:lnTo>
                        <a:pt x="60" y="160"/>
                      </a:lnTo>
                      <a:lnTo>
                        <a:pt x="50" y="147"/>
                      </a:lnTo>
                      <a:lnTo>
                        <a:pt x="40" y="135"/>
                      </a:lnTo>
                      <a:lnTo>
                        <a:pt x="31" y="123"/>
                      </a:lnTo>
                      <a:lnTo>
                        <a:pt x="25" y="113"/>
                      </a:lnTo>
                      <a:lnTo>
                        <a:pt x="18" y="103"/>
                      </a:lnTo>
                      <a:lnTo>
                        <a:pt x="13" y="94"/>
                      </a:lnTo>
                      <a:lnTo>
                        <a:pt x="8" y="86"/>
                      </a:lnTo>
                      <a:lnTo>
                        <a:pt x="6" y="80"/>
                      </a:lnTo>
                      <a:lnTo>
                        <a:pt x="3" y="75"/>
                      </a:lnTo>
                      <a:lnTo>
                        <a:pt x="2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61"/>
                <p:cNvSpPr/>
                <p:nvPr/>
              </p:nvSpPr>
              <p:spPr>
                <a:xfrm>
                  <a:off x="2402280" y="3099960"/>
                  <a:ext cx="163080" cy="943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94320"/>
                    <a:gd name="textAreaBottom" fmla="*/ 94680 h 94320"/>
                  </a:gdLst>
                  <a:ahLst/>
                  <a:rect l="textAreaLeft" t="textAreaTop" r="textAreaRight" b="textAreaBottom"/>
                  <a:pathLst>
                    <a:path w="165" h="102">
                      <a:moveTo>
                        <a:pt x="156" y="101"/>
                      </a:moveTo>
                      <a:lnTo>
                        <a:pt x="157" y="95"/>
                      </a:lnTo>
                      <a:lnTo>
                        <a:pt x="143" y="95"/>
                      </a:lnTo>
                      <a:lnTo>
                        <a:pt x="129" y="93"/>
                      </a:lnTo>
                      <a:lnTo>
                        <a:pt x="116" y="89"/>
                      </a:lnTo>
                      <a:lnTo>
                        <a:pt x="103" y="83"/>
                      </a:lnTo>
                      <a:lnTo>
                        <a:pt x="90" y="76"/>
                      </a:lnTo>
                      <a:lnTo>
                        <a:pt x="77" y="68"/>
                      </a:lnTo>
                      <a:lnTo>
                        <a:pt x="65" y="60"/>
                      </a:lnTo>
                      <a:lnTo>
                        <a:pt x="53" y="51"/>
                      </a:lnTo>
                      <a:lnTo>
                        <a:pt x="44" y="42"/>
                      </a:lnTo>
                      <a:lnTo>
                        <a:pt x="34" y="33"/>
                      </a:lnTo>
                      <a:lnTo>
                        <a:pt x="25" y="23"/>
                      </a:lnTo>
                      <a:lnTo>
                        <a:pt x="19" y="17"/>
                      </a:lnTo>
                      <a:lnTo>
                        <a:pt x="13" y="10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29" y="37"/>
                      </a:lnTo>
                      <a:lnTo>
                        <a:pt x="39" y="46"/>
                      </a:lnTo>
                      <a:lnTo>
                        <a:pt x="50" y="56"/>
                      </a:lnTo>
                      <a:lnTo>
                        <a:pt x="61" y="65"/>
                      </a:lnTo>
                      <a:lnTo>
                        <a:pt x="74" y="74"/>
                      </a:lnTo>
                      <a:lnTo>
                        <a:pt x="87" y="82"/>
                      </a:lnTo>
                      <a:lnTo>
                        <a:pt x="100" y="89"/>
                      </a:lnTo>
                      <a:lnTo>
                        <a:pt x="114" y="95"/>
                      </a:lnTo>
                      <a:lnTo>
                        <a:pt x="129" y="99"/>
                      </a:lnTo>
                      <a:lnTo>
                        <a:pt x="143" y="102"/>
                      </a:lnTo>
                      <a:lnTo>
                        <a:pt x="158" y="102"/>
                      </a:lnTo>
                      <a:lnTo>
                        <a:pt x="160" y="96"/>
                      </a:lnTo>
                      <a:lnTo>
                        <a:pt x="158" y="102"/>
                      </a:lnTo>
                      <a:lnTo>
                        <a:pt x="165" y="101"/>
                      </a:lnTo>
                      <a:lnTo>
                        <a:pt x="160" y="96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62"/>
                <p:cNvSpPr/>
                <p:nvPr/>
              </p:nvSpPr>
              <p:spPr>
                <a:xfrm>
                  <a:off x="2525760" y="3185280"/>
                  <a:ext cx="35640" cy="255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6" y="26"/>
                      </a:moveTo>
                      <a:lnTo>
                        <a:pt x="6" y="26"/>
                      </a:lnTo>
                      <a:lnTo>
                        <a:pt x="13" y="17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7" y="6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3" y="8"/>
                      </a:lnTo>
                      <a:lnTo>
                        <a:pt x="37" y="3"/>
                      </a:lnTo>
                      <a:lnTo>
                        <a:pt x="36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4" y="6"/>
                      </a:lnTo>
                      <a:lnTo>
                        <a:pt x="8" y="13"/>
                      </a:lnTo>
                      <a:lnTo>
                        <a:pt x="0" y="23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63"/>
                <p:cNvSpPr/>
                <p:nvPr/>
              </p:nvSpPr>
              <p:spPr>
                <a:xfrm>
                  <a:off x="2480040" y="3207600"/>
                  <a:ext cx="51480" cy="9792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52" h="106">
                      <a:moveTo>
                        <a:pt x="1" y="102"/>
                      </a:move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11" y="85"/>
                      </a:lnTo>
                      <a:lnTo>
                        <a:pt x="12" y="79"/>
                      </a:lnTo>
                      <a:lnTo>
                        <a:pt x="13" y="74"/>
                      </a:lnTo>
                      <a:lnTo>
                        <a:pt x="16" y="69"/>
                      </a:lnTo>
                      <a:lnTo>
                        <a:pt x="19" y="62"/>
                      </a:lnTo>
                      <a:lnTo>
                        <a:pt x="22" y="56"/>
                      </a:lnTo>
                      <a:lnTo>
                        <a:pt x="26" y="49"/>
                      </a:lnTo>
                      <a:lnTo>
                        <a:pt x="29" y="41"/>
                      </a:lnTo>
                      <a:lnTo>
                        <a:pt x="34" y="34"/>
                      </a:lnTo>
                      <a:lnTo>
                        <a:pt x="37" y="27"/>
                      </a:lnTo>
                      <a:lnTo>
                        <a:pt x="42" y="19"/>
                      </a:lnTo>
                      <a:lnTo>
                        <a:pt x="48" y="11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2" y="8"/>
                      </a:lnTo>
                      <a:lnTo>
                        <a:pt x="36" y="16"/>
                      </a:lnTo>
                      <a:lnTo>
                        <a:pt x="31" y="24"/>
                      </a:lnTo>
                      <a:lnTo>
                        <a:pt x="28" y="32"/>
                      </a:lnTo>
                      <a:lnTo>
                        <a:pt x="23" y="39"/>
                      </a:lnTo>
                      <a:lnTo>
                        <a:pt x="20" y="46"/>
                      </a:lnTo>
                      <a:lnTo>
                        <a:pt x="16" y="53"/>
                      </a:lnTo>
                      <a:lnTo>
                        <a:pt x="13" y="60"/>
                      </a:lnTo>
                      <a:lnTo>
                        <a:pt x="11" y="66"/>
                      </a:lnTo>
                      <a:lnTo>
                        <a:pt x="8" y="71"/>
                      </a:lnTo>
                      <a:lnTo>
                        <a:pt x="6" y="78"/>
                      </a:lnTo>
                      <a:lnTo>
                        <a:pt x="4" y="83"/>
                      </a:lnTo>
                      <a:lnTo>
                        <a:pt x="3" y="87"/>
                      </a:lnTo>
                      <a:lnTo>
                        <a:pt x="1" y="92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6" y="98"/>
                      </a:lnTo>
                      <a:lnTo>
                        <a:pt x="1" y="102"/>
                      </a:lnTo>
                      <a:lnTo>
                        <a:pt x="7" y="106"/>
                      </a:lnTo>
                      <a:lnTo>
                        <a:pt x="7" y="100"/>
                      </a:lnTo>
                      <a:lnTo>
                        <a:pt x="1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64"/>
                <p:cNvSpPr/>
                <p:nvPr/>
              </p:nvSpPr>
              <p:spPr>
                <a:xfrm>
                  <a:off x="2361960" y="3162960"/>
                  <a:ext cx="123840" cy="138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122" h="15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6" y="17"/>
                      </a:lnTo>
                      <a:lnTo>
                        <a:pt x="9" y="22"/>
                      </a:lnTo>
                      <a:lnTo>
                        <a:pt x="14" y="30"/>
                      </a:lnTo>
                      <a:lnTo>
                        <a:pt x="18" y="41"/>
                      </a:lnTo>
                      <a:lnTo>
                        <a:pt x="24" y="50"/>
                      </a:lnTo>
                      <a:lnTo>
                        <a:pt x="32" y="60"/>
                      </a:lnTo>
                      <a:lnTo>
                        <a:pt x="40" y="72"/>
                      </a:lnTo>
                      <a:lnTo>
                        <a:pt x="51" y="83"/>
                      </a:lnTo>
                      <a:lnTo>
                        <a:pt x="61" y="97"/>
                      </a:lnTo>
                      <a:lnTo>
                        <a:pt x="73" y="110"/>
                      </a:lnTo>
                      <a:lnTo>
                        <a:pt x="86" y="124"/>
                      </a:lnTo>
                      <a:lnTo>
                        <a:pt x="101" y="136"/>
                      </a:lnTo>
                      <a:lnTo>
                        <a:pt x="117" y="150"/>
                      </a:lnTo>
                      <a:lnTo>
                        <a:pt x="122" y="146"/>
                      </a:lnTo>
                      <a:lnTo>
                        <a:pt x="106" y="132"/>
                      </a:lnTo>
                      <a:lnTo>
                        <a:pt x="91" y="119"/>
                      </a:lnTo>
                      <a:lnTo>
                        <a:pt x="77" y="105"/>
                      </a:lnTo>
                      <a:lnTo>
                        <a:pt x="66" y="93"/>
                      </a:lnTo>
                      <a:lnTo>
                        <a:pt x="55" y="80"/>
                      </a:lnTo>
                      <a:lnTo>
                        <a:pt x="46" y="68"/>
                      </a:lnTo>
                      <a:lnTo>
                        <a:pt x="37" y="57"/>
                      </a:lnTo>
                      <a:lnTo>
                        <a:pt x="30" y="45"/>
                      </a:lnTo>
                      <a:lnTo>
                        <a:pt x="24" y="36"/>
                      </a:lnTo>
                      <a:lnTo>
                        <a:pt x="18" y="28"/>
                      </a:lnTo>
                      <a:lnTo>
                        <a:pt x="15" y="20"/>
                      </a:lnTo>
                      <a:lnTo>
                        <a:pt x="11" y="13"/>
                      </a:lnTo>
                      <a:lnTo>
                        <a:pt x="9" y="8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65"/>
                <p:cNvSpPr/>
                <p:nvPr/>
              </p:nvSpPr>
              <p:spPr>
                <a:xfrm>
                  <a:off x="2361960" y="3096360"/>
                  <a:ext cx="43560" cy="705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44" h="76">
                      <a:moveTo>
                        <a:pt x="44" y="4"/>
                      </a:moveTo>
                      <a:lnTo>
                        <a:pt x="39" y="4"/>
                      </a:lnTo>
                      <a:lnTo>
                        <a:pt x="0" y="72"/>
                      </a:lnTo>
                      <a:lnTo>
                        <a:pt x="6" y="76"/>
                      </a:lnTo>
                      <a:lnTo>
                        <a:pt x="44" y="8"/>
                      </a:lnTo>
                      <a:lnTo>
                        <a:pt x="39" y="8"/>
                      </a:lnTo>
                      <a:lnTo>
                        <a:pt x="44" y="4"/>
                      </a:lnTo>
                      <a:lnTo>
                        <a:pt x="41" y="0"/>
                      </a:lnTo>
                      <a:lnTo>
                        <a:pt x="39" y="4"/>
                      </a:lnTo>
                      <a:lnTo>
                        <a:pt x="4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166"/>
                <p:cNvSpPr/>
                <p:nvPr/>
              </p:nvSpPr>
              <p:spPr>
                <a:xfrm>
                  <a:off x="2543760" y="3105360"/>
                  <a:ext cx="185040" cy="18900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185" h="204">
                      <a:moveTo>
                        <a:pt x="163" y="0"/>
                      </a:moveTo>
                      <a:lnTo>
                        <a:pt x="162" y="1"/>
                      </a:lnTo>
                      <a:lnTo>
                        <a:pt x="160" y="5"/>
                      </a:lnTo>
                      <a:lnTo>
                        <a:pt x="154" y="9"/>
                      </a:lnTo>
                      <a:lnTo>
                        <a:pt x="148" y="15"/>
                      </a:lnTo>
                      <a:lnTo>
                        <a:pt x="140" y="23"/>
                      </a:lnTo>
                      <a:lnTo>
                        <a:pt x="131" y="31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98" y="57"/>
                      </a:lnTo>
                      <a:lnTo>
                        <a:pt x="85" y="66"/>
                      </a:lnTo>
                      <a:lnTo>
                        <a:pt x="71" y="73"/>
                      </a:lnTo>
                      <a:lnTo>
                        <a:pt x="57" y="80"/>
                      </a:lnTo>
                      <a:lnTo>
                        <a:pt x="44" y="85"/>
                      </a:lnTo>
                      <a:lnTo>
                        <a:pt x="29" y="89"/>
                      </a:lnTo>
                      <a:lnTo>
                        <a:pt x="15" y="91"/>
                      </a:lnTo>
                      <a:lnTo>
                        <a:pt x="0" y="91"/>
                      </a:lnTo>
                      <a:lnTo>
                        <a:pt x="1" y="90"/>
                      </a:lnTo>
                      <a:lnTo>
                        <a:pt x="3" y="90"/>
                      </a:lnTo>
                      <a:lnTo>
                        <a:pt x="8" y="90"/>
                      </a:lnTo>
                      <a:lnTo>
                        <a:pt x="12" y="91"/>
                      </a:lnTo>
                      <a:lnTo>
                        <a:pt x="18" y="93"/>
                      </a:lnTo>
                      <a:lnTo>
                        <a:pt x="25" y="98"/>
                      </a:lnTo>
                      <a:lnTo>
                        <a:pt x="32" y="105"/>
                      </a:lnTo>
                      <a:lnTo>
                        <a:pt x="40" y="115"/>
                      </a:lnTo>
                      <a:lnTo>
                        <a:pt x="45" y="123"/>
                      </a:lnTo>
                      <a:lnTo>
                        <a:pt x="49" y="132"/>
                      </a:lnTo>
                      <a:lnTo>
                        <a:pt x="54" y="138"/>
                      </a:lnTo>
                      <a:lnTo>
                        <a:pt x="59" y="145"/>
                      </a:lnTo>
                      <a:lnTo>
                        <a:pt x="63" y="152"/>
                      </a:lnTo>
                      <a:lnTo>
                        <a:pt x="67" y="159"/>
                      </a:lnTo>
                      <a:lnTo>
                        <a:pt x="70" y="165"/>
                      </a:lnTo>
                      <a:lnTo>
                        <a:pt x="72" y="171"/>
                      </a:lnTo>
                      <a:lnTo>
                        <a:pt x="76" y="175"/>
                      </a:lnTo>
                      <a:lnTo>
                        <a:pt x="78" y="181"/>
                      </a:lnTo>
                      <a:lnTo>
                        <a:pt x="80" y="186"/>
                      </a:lnTo>
                      <a:lnTo>
                        <a:pt x="82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1"/>
                      </a:lnTo>
                      <a:lnTo>
                        <a:pt x="85" y="204"/>
                      </a:lnTo>
                      <a:lnTo>
                        <a:pt x="101" y="190"/>
                      </a:lnTo>
                      <a:lnTo>
                        <a:pt x="116" y="178"/>
                      </a:lnTo>
                      <a:lnTo>
                        <a:pt x="128" y="165"/>
                      </a:lnTo>
                      <a:lnTo>
                        <a:pt x="139" y="151"/>
                      </a:lnTo>
                      <a:lnTo>
                        <a:pt x="148" y="140"/>
                      </a:lnTo>
                      <a:lnTo>
                        <a:pt x="158" y="127"/>
                      </a:lnTo>
                      <a:lnTo>
                        <a:pt x="165" y="117"/>
                      </a:lnTo>
                      <a:lnTo>
                        <a:pt x="169" y="105"/>
                      </a:lnTo>
                      <a:lnTo>
                        <a:pt x="174" y="96"/>
                      </a:lnTo>
                      <a:lnTo>
                        <a:pt x="178" y="88"/>
                      </a:lnTo>
                      <a:lnTo>
                        <a:pt x="181" y="80"/>
                      </a:lnTo>
                      <a:lnTo>
                        <a:pt x="183" y="74"/>
                      </a:lnTo>
                      <a:lnTo>
                        <a:pt x="184" y="68"/>
                      </a:lnTo>
                      <a:lnTo>
                        <a:pt x="185" y="65"/>
                      </a:lnTo>
                      <a:lnTo>
                        <a:pt x="185" y="62"/>
                      </a:lnTo>
                      <a:lnTo>
                        <a:pt x="185" y="61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67"/>
                <p:cNvSpPr/>
                <p:nvPr/>
              </p:nvSpPr>
              <p:spPr>
                <a:xfrm>
                  <a:off x="2531520" y="3103920"/>
                  <a:ext cx="177480" cy="88560"/>
                </a:xfrm>
                <a:custGeom>
                  <a:avLst/>
                  <a:gdLst>
                    <a:gd name="textAreaLeft" fmla="*/ 0 w 177480"/>
                    <a:gd name="textAreaRight" fmla="*/ 177840 w 177480"/>
                    <a:gd name="textAreaTop" fmla="*/ 0 h 88560"/>
                    <a:gd name="textAreaBottom" fmla="*/ 88560 h 88560"/>
                  </a:gdLst>
                  <a:ahLst/>
                  <a:rect l="textAreaLeft" t="textAreaTop" r="textAreaRight" b="textAreaBottom"/>
                  <a:pathLst>
                    <a:path w="179" h="97">
                      <a:moveTo>
                        <a:pt x="12" y="90"/>
                      </a:moveTo>
                      <a:lnTo>
                        <a:pt x="13" y="95"/>
                      </a:lnTo>
                      <a:lnTo>
                        <a:pt x="28" y="97"/>
                      </a:lnTo>
                      <a:lnTo>
                        <a:pt x="42" y="94"/>
                      </a:lnTo>
                      <a:lnTo>
                        <a:pt x="58" y="91"/>
                      </a:lnTo>
                      <a:lnTo>
                        <a:pt x="72" y="85"/>
                      </a:lnTo>
                      <a:lnTo>
                        <a:pt x="85" y="78"/>
                      </a:lnTo>
                      <a:lnTo>
                        <a:pt x="99" y="70"/>
                      </a:lnTo>
                      <a:lnTo>
                        <a:pt x="113" y="62"/>
                      </a:lnTo>
                      <a:lnTo>
                        <a:pt x="125" y="53"/>
                      </a:lnTo>
                      <a:lnTo>
                        <a:pt x="136" y="44"/>
                      </a:lnTo>
                      <a:lnTo>
                        <a:pt x="146" y="36"/>
                      </a:lnTo>
                      <a:lnTo>
                        <a:pt x="156" y="28"/>
                      </a:lnTo>
                      <a:lnTo>
                        <a:pt x="164" y="19"/>
                      </a:lnTo>
                      <a:lnTo>
                        <a:pt x="170" y="14"/>
                      </a:lnTo>
                      <a:lnTo>
                        <a:pt x="175" y="9"/>
                      </a:lnTo>
                      <a:lnTo>
                        <a:pt x="178" y="6"/>
                      </a:lnTo>
                      <a:lnTo>
                        <a:pt x="179" y="4"/>
                      </a:lnTo>
                      <a:lnTo>
                        <a:pt x="174" y="0"/>
                      </a:lnTo>
                      <a:lnTo>
                        <a:pt x="173" y="1"/>
                      </a:lnTo>
                      <a:lnTo>
                        <a:pt x="171" y="4"/>
                      </a:lnTo>
                      <a:lnTo>
                        <a:pt x="165" y="9"/>
                      </a:lnTo>
                      <a:lnTo>
                        <a:pt x="159" y="15"/>
                      </a:lnTo>
                      <a:lnTo>
                        <a:pt x="151" y="23"/>
                      </a:lnTo>
                      <a:lnTo>
                        <a:pt x="142" y="31"/>
                      </a:lnTo>
                      <a:lnTo>
                        <a:pt x="133" y="39"/>
                      </a:lnTo>
                      <a:lnTo>
                        <a:pt x="121" y="47"/>
                      </a:lnTo>
                      <a:lnTo>
                        <a:pt x="108" y="56"/>
                      </a:lnTo>
                      <a:lnTo>
                        <a:pt x="96" y="64"/>
                      </a:lnTo>
                      <a:lnTo>
                        <a:pt x="83" y="72"/>
                      </a:lnTo>
                      <a:lnTo>
                        <a:pt x="69" y="79"/>
                      </a:lnTo>
                      <a:lnTo>
                        <a:pt x="55" y="84"/>
                      </a:lnTo>
                      <a:lnTo>
                        <a:pt x="42" y="87"/>
                      </a:lnTo>
                      <a:lnTo>
                        <a:pt x="28" y="90"/>
                      </a:lnTo>
                      <a:lnTo>
                        <a:pt x="14" y="90"/>
                      </a:lnTo>
                      <a:lnTo>
                        <a:pt x="14" y="95"/>
                      </a:lnTo>
                      <a:lnTo>
                        <a:pt x="12" y="90"/>
                      </a:lnTo>
                      <a:lnTo>
                        <a:pt x="0" y="94"/>
                      </a:lnTo>
                      <a:lnTo>
                        <a:pt x="13" y="95"/>
                      </a:lnTo>
                      <a:lnTo>
                        <a:pt x="12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68"/>
                <p:cNvSpPr/>
                <p:nvPr/>
              </p:nvSpPr>
              <p:spPr>
                <a:xfrm>
                  <a:off x="2541600" y="318528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43" y="27"/>
                      </a:moveTo>
                      <a:lnTo>
                        <a:pt x="43" y="27"/>
                      </a:lnTo>
                      <a:lnTo>
                        <a:pt x="35" y="17"/>
                      </a:lnTo>
                      <a:lnTo>
                        <a:pt x="27" y="9"/>
                      </a:lnTo>
                      <a:lnTo>
                        <a:pt x="20" y="4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12" y="8"/>
                      </a:lnTo>
                      <a:lnTo>
                        <a:pt x="17" y="10"/>
                      </a:lnTo>
                      <a:lnTo>
                        <a:pt x="24" y="13"/>
                      </a:lnTo>
                      <a:lnTo>
                        <a:pt x="31" y="20"/>
                      </a:lnTo>
                      <a:lnTo>
                        <a:pt x="38" y="31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169"/>
                <p:cNvSpPr/>
                <p:nvPr/>
              </p:nvSpPr>
              <p:spPr>
                <a:xfrm>
                  <a:off x="2579400" y="3211200"/>
                  <a:ext cx="51840" cy="889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8920"/>
                    <a:gd name="textAreaBottom" fmla="*/ 88920 h 88920"/>
                  </a:gdLst>
                  <a:ahLst/>
                  <a:rect l="textAreaLeft" t="textAreaTop" r="textAreaRight" b="textAreaBottom"/>
                  <a:pathLst>
                    <a:path w="52" h="97">
                      <a:moveTo>
                        <a:pt x="46" y="88"/>
                      </a:moveTo>
                      <a:lnTo>
                        <a:pt x="52" y="90"/>
                      </a:lnTo>
                      <a:lnTo>
                        <a:pt x="52" y="87"/>
                      </a:lnTo>
                      <a:lnTo>
                        <a:pt x="50" y="83"/>
                      </a:lnTo>
                      <a:lnTo>
                        <a:pt x="49" y="79"/>
                      </a:lnTo>
                      <a:lnTo>
                        <a:pt x="48" y="75"/>
                      </a:lnTo>
                      <a:lnTo>
                        <a:pt x="46" y="70"/>
                      </a:lnTo>
                      <a:lnTo>
                        <a:pt x="43" y="65"/>
                      </a:lnTo>
                      <a:lnTo>
                        <a:pt x="41" y="60"/>
                      </a:lnTo>
                      <a:lnTo>
                        <a:pt x="39" y="56"/>
                      </a:lnTo>
                      <a:lnTo>
                        <a:pt x="35" y="50"/>
                      </a:lnTo>
                      <a:lnTo>
                        <a:pt x="32" y="44"/>
                      </a:lnTo>
                      <a:lnTo>
                        <a:pt x="28" y="37"/>
                      </a:lnTo>
                      <a:lnTo>
                        <a:pt x="24" y="30"/>
                      </a:lnTo>
                      <a:lnTo>
                        <a:pt x="20" y="23"/>
                      </a:lnTo>
                      <a:lnTo>
                        <a:pt x="16" y="15"/>
                      </a:lnTo>
                      <a:lnTo>
                        <a:pt x="10" y="7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10" y="19"/>
                      </a:lnTo>
                      <a:lnTo>
                        <a:pt x="15" y="27"/>
                      </a:lnTo>
                      <a:lnTo>
                        <a:pt x="19" y="34"/>
                      </a:lnTo>
                      <a:lnTo>
                        <a:pt x="23" y="41"/>
                      </a:lnTo>
                      <a:lnTo>
                        <a:pt x="26" y="46"/>
                      </a:lnTo>
                      <a:lnTo>
                        <a:pt x="30" y="52"/>
                      </a:lnTo>
                      <a:lnTo>
                        <a:pt x="33" y="58"/>
                      </a:lnTo>
                      <a:lnTo>
                        <a:pt x="35" y="62"/>
                      </a:lnTo>
                      <a:lnTo>
                        <a:pt x="38" y="68"/>
                      </a:lnTo>
                      <a:lnTo>
                        <a:pt x="40" y="73"/>
                      </a:lnTo>
                      <a:lnTo>
                        <a:pt x="41" y="76"/>
                      </a:lnTo>
                      <a:lnTo>
                        <a:pt x="42" y="81"/>
                      </a:lnTo>
                      <a:lnTo>
                        <a:pt x="43" y="84"/>
                      </a:lnTo>
                      <a:lnTo>
                        <a:pt x="45" y="88"/>
                      </a:lnTo>
                      <a:lnTo>
                        <a:pt x="45" y="90"/>
                      </a:lnTo>
                      <a:lnTo>
                        <a:pt x="49" y="92"/>
                      </a:lnTo>
                      <a:lnTo>
                        <a:pt x="45" y="90"/>
                      </a:lnTo>
                      <a:lnTo>
                        <a:pt x="45" y="97"/>
                      </a:lnTo>
                      <a:lnTo>
                        <a:pt x="49" y="92"/>
                      </a:lnTo>
                      <a:lnTo>
                        <a:pt x="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70"/>
                <p:cNvSpPr/>
                <p:nvPr/>
              </p:nvSpPr>
              <p:spPr>
                <a:xfrm>
                  <a:off x="2625840" y="3161160"/>
                  <a:ext cx="105120" cy="13536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135360"/>
                    <a:gd name="textAreaBottom" fmla="*/ 135720 h 135360"/>
                  </a:gdLst>
                  <a:ahLst/>
                  <a:rect l="textAreaLeft" t="textAreaTop" r="textAreaRight" b="textAreaBottom"/>
                  <a:pathLst>
                    <a:path w="106" h="146">
                      <a:moveTo>
                        <a:pt x="100" y="2"/>
                      </a:moveTo>
                      <a:lnTo>
                        <a:pt x="100" y="1"/>
                      </a:lnTo>
                      <a:lnTo>
                        <a:pt x="99" y="4"/>
                      </a:lnTo>
                      <a:lnTo>
                        <a:pt x="98" y="7"/>
                      </a:lnTo>
                      <a:lnTo>
                        <a:pt x="97" y="13"/>
                      </a:lnTo>
                      <a:lnTo>
                        <a:pt x="94" y="20"/>
                      </a:lnTo>
                      <a:lnTo>
                        <a:pt x="92" y="27"/>
                      </a:lnTo>
                      <a:lnTo>
                        <a:pt x="88" y="35"/>
                      </a:lnTo>
                      <a:lnTo>
                        <a:pt x="84" y="44"/>
                      </a:lnTo>
                      <a:lnTo>
                        <a:pt x="78" y="54"/>
                      </a:lnTo>
                      <a:lnTo>
                        <a:pt x="71" y="66"/>
                      </a:lnTo>
                      <a:lnTo>
                        <a:pt x="63" y="77"/>
                      </a:lnTo>
                      <a:lnTo>
                        <a:pt x="54" y="90"/>
                      </a:lnTo>
                      <a:lnTo>
                        <a:pt x="42" y="103"/>
                      </a:lnTo>
                      <a:lnTo>
                        <a:pt x="31" y="115"/>
                      </a:lnTo>
                      <a:lnTo>
                        <a:pt x="16" y="128"/>
                      </a:lnTo>
                      <a:lnTo>
                        <a:pt x="0" y="142"/>
                      </a:lnTo>
                      <a:lnTo>
                        <a:pt x="3" y="146"/>
                      </a:lnTo>
                      <a:lnTo>
                        <a:pt x="21" y="133"/>
                      </a:lnTo>
                      <a:lnTo>
                        <a:pt x="35" y="120"/>
                      </a:lnTo>
                      <a:lnTo>
                        <a:pt x="47" y="107"/>
                      </a:lnTo>
                      <a:lnTo>
                        <a:pt x="59" y="93"/>
                      </a:lnTo>
                      <a:lnTo>
                        <a:pt x="69" y="81"/>
                      </a:lnTo>
                      <a:lnTo>
                        <a:pt x="77" y="69"/>
                      </a:lnTo>
                      <a:lnTo>
                        <a:pt x="84" y="58"/>
                      </a:lnTo>
                      <a:lnTo>
                        <a:pt x="90" y="47"/>
                      </a:lnTo>
                      <a:lnTo>
                        <a:pt x="94" y="38"/>
                      </a:lnTo>
                      <a:lnTo>
                        <a:pt x="98" y="29"/>
                      </a:lnTo>
                      <a:lnTo>
                        <a:pt x="101" y="21"/>
                      </a:lnTo>
                      <a:lnTo>
                        <a:pt x="103" y="15"/>
                      </a:lnTo>
                      <a:lnTo>
                        <a:pt x="105" y="9"/>
                      </a:lnTo>
                      <a:lnTo>
                        <a:pt x="106" y="6"/>
                      </a:lnTo>
                      <a:lnTo>
                        <a:pt x="106" y="2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71"/>
                <p:cNvSpPr/>
                <p:nvPr/>
              </p:nvSpPr>
              <p:spPr>
                <a:xfrm>
                  <a:off x="2702880" y="3099960"/>
                  <a:ext cx="27720" cy="630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9" h="68">
                      <a:moveTo>
                        <a:pt x="6" y="8"/>
                      </a:moveTo>
                      <a:lnTo>
                        <a:pt x="0" y="7"/>
                      </a:lnTo>
                      <a:lnTo>
                        <a:pt x="23" y="68"/>
                      </a:lnTo>
                      <a:lnTo>
                        <a:pt x="29" y="66"/>
                      </a:lnTo>
                      <a:lnTo>
                        <a:pt x="7" y="5"/>
                      </a:lnTo>
                      <a:lnTo>
                        <a:pt x="1" y="4"/>
                      </a:lnTo>
                      <a:lnTo>
                        <a:pt x="7" y="5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72"/>
                <p:cNvSpPr/>
                <p:nvPr/>
              </p:nvSpPr>
              <p:spPr>
                <a:xfrm>
                  <a:off x="2467800" y="3291120"/>
                  <a:ext cx="181080" cy="6379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181" h="689">
                      <a:moveTo>
                        <a:pt x="109" y="689"/>
                      </a:moveTo>
                      <a:lnTo>
                        <a:pt x="181" y="469"/>
                      </a:lnTo>
                      <a:lnTo>
                        <a:pt x="112" y="0"/>
                      </a:lnTo>
                      <a:lnTo>
                        <a:pt x="51" y="0"/>
                      </a:lnTo>
                      <a:lnTo>
                        <a:pt x="0" y="461"/>
                      </a:lnTo>
                      <a:lnTo>
                        <a:pt x="109" y="6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173"/>
                <p:cNvSpPr/>
                <p:nvPr/>
              </p:nvSpPr>
              <p:spPr>
                <a:xfrm>
                  <a:off x="2573640" y="3725280"/>
                  <a:ext cx="79560" cy="2055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78" h="223">
                      <a:moveTo>
                        <a:pt x="71" y="1"/>
                      </a:moveTo>
                      <a:lnTo>
                        <a:pt x="71" y="0"/>
                      </a:lnTo>
                      <a:lnTo>
                        <a:pt x="0" y="220"/>
                      </a:lnTo>
                      <a:lnTo>
                        <a:pt x="7" y="223"/>
                      </a:lnTo>
                      <a:lnTo>
                        <a:pt x="78" y="2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174"/>
                <p:cNvSpPr/>
                <p:nvPr/>
              </p:nvSpPr>
              <p:spPr>
                <a:xfrm>
                  <a:off x="2577600" y="3287160"/>
                  <a:ext cx="75240" cy="437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437760"/>
                    <a:gd name="textAreaBottom" fmla="*/ 438120 h 437760"/>
                  </a:gdLst>
                  <a:ahLst/>
                  <a:rect l="textAreaLeft" t="textAreaTop" r="textAreaRight" b="textAreaBottom"/>
                  <a:pathLst>
                    <a:path w="76" h="472">
                      <a:moveTo>
                        <a:pt x="4" y="6"/>
                      </a:moveTo>
                      <a:lnTo>
                        <a:pt x="0" y="3"/>
                      </a:lnTo>
                      <a:lnTo>
                        <a:pt x="69" y="472"/>
                      </a:lnTo>
                      <a:lnTo>
                        <a:pt x="76" y="47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175"/>
                <p:cNvSpPr/>
                <p:nvPr/>
              </p:nvSpPr>
              <p:spPr>
                <a:xfrm>
                  <a:off x="2517480" y="3287160"/>
                  <a:ext cx="61920" cy="5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4" h="6">
                      <a:moveTo>
                        <a:pt x="6" y="3"/>
                      </a:moveTo>
                      <a:lnTo>
                        <a:pt x="3" y="6"/>
                      </a:lnTo>
                      <a:lnTo>
                        <a:pt x="64" y="6"/>
                      </a:lnTo>
                      <a:lnTo>
                        <a:pt x="6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76"/>
                <p:cNvSpPr/>
                <p:nvPr/>
              </p:nvSpPr>
              <p:spPr>
                <a:xfrm>
                  <a:off x="2466000" y="3289320"/>
                  <a:ext cx="57600" cy="43020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430200"/>
                    <a:gd name="textAreaBottom" fmla="*/ 430560 h 430200"/>
                  </a:gdLst>
                  <a:ahLst/>
                  <a:rect l="textAreaLeft" t="textAreaTop" r="textAreaRight" b="textAreaBottom"/>
                  <a:pathLst>
                    <a:path w="56" h="463">
                      <a:moveTo>
                        <a:pt x="5" y="460"/>
                      </a:moveTo>
                      <a:lnTo>
                        <a:pt x="5" y="462"/>
                      </a:lnTo>
                      <a:lnTo>
                        <a:pt x="56" y="1"/>
                      </a:lnTo>
                      <a:lnTo>
                        <a:pt x="50" y="0"/>
                      </a:lnTo>
                      <a:lnTo>
                        <a:pt x="0" y="461"/>
                      </a:lnTo>
                      <a:lnTo>
                        <a:pt x="0" y="463"/>
                      </a:lnTo>
                      <a:lnTo>
                        <a:pt x="0" y="461"/>
                      </a:lnTo>
                      <a:lnTo>
                        <a:pt x="0" y="462"/>
                      </a:lnTo>
                      <a:lnTo>
                        <a:pt x="0" y="463"/>
                      </a:lnTo>
                      <a:lnTo>
                        <a:pt x="5" y="4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77"/>
                <p:cNvSpPr/>
                <p:nvPr/>
              </p:nvSpPr>
              <p:spPr>
                <a:xfrm>
                  <a:off x="2466000" y="37159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15" h="240">
                      <a:moveTo>
                        <a:pt x="108" y="229"/>
                      </a:moveTo>
                      <a:lnTo>
                        <a:pt x="115" y="22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9" y="232"/>
                      </a:lnTo>
                      <a:lnTo>
                        <a:pt x="115" y="232"/>
                      </a:lnTo>
                      <a:lnTo>
                        <a:pt x="109" y="232"/>
                      </a:lnTo>
                      <a:lnTo>
                        <a:pt x="113" y="240"/>
                      </a:lnTo>
                      <a:lnTo>
                        <a:pt x="115" y="232"/>
                      </a:lnTo>
                      <a:lnTo>
                        <a:pt x="108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178"/>
                <p:cNvSpPr/>
                <p:nvPr/>
              </p:nvSpPr>
              <p:spPr>
                <a:xfrm>
                  <a:off x="2015280" y="3157200"/>
                  <a:ext cx="1096200" cy="1630800"/>
                </a:xfrm>
                <a:custGeom>
                  <a:avLst/>
                  <a:gdLst>
                    <a:gd name="textAreaLeft" fmla="*/ 0 w 1096200"/>
                    <a:gd name="textAreaRight" fmla="*/ 1096560 w 1096200"/>
                    <a:gd name="textAreaTop" fmla="*/ 0 h 1630800"/>
                    <a:gd name="textAreaBottom" fmla="*/ 1631160 h 1630800"/>
                  </a:gdLst>
                  <a:ahLst/>
                  <a:rect l="textAreaLeft" t="textAreaTop" r="textAreaRight" b="textAreaBottom"/>
                  <a:pathLst>
                    <a:path w="1099" h="1758">
                      <a:moveTo>
                        <a:pt x="351" y="0"/>
                      </a:moveTo>
                      <a:lnTo>
                        <a:pt x="547" y="599"/>
                      </a:lnTo>
                      <a:lnTo>
                        <a:pt x="714" y="4"/>
                      </a:lnTo>
                      <a:lnTo>
                        <a:pt x="1089" y="94"/>
                      </a:lnTo>
                      <a:lnTo>
                        <a:pt x="1009" y="948"/>
                      </a:lnTo>
                      <a:lnTo>
                        <a:pt x="1099" y="1716"/>
                      </a:lnTo>
                      <a:lnTo>
                        <a:pt x="1098" y="1716"/>
                      </a:lnTo>
                      <a:lnTo>
                        <a:pt x="1095" y="1717"/>
                      </a:lnTo>
                      <a:lnTo>
                        <a:pt x="1090" y="1717"/>
                      </a:lnTo>
                      <a:lnTo>
                        <a:pt x="1084" y="1718"/>
                      </a:lnTo>
                      <a:lnTo>
                        <a:pt x="1076" y="1721"/>
                      </a:lnTo>
                      <a:lnTo>
                        <a:pt x="1067" y="1722"/>
                      </a:lnTo>
                      <a:lnTo>
                        <a:pt x="1057" y="1723"/>
                      </a:lnTo>
                      <a:lnTo>
                        <a:pt x="1045" y="1725"/>
                      </a:lnTo>
                      <a:lnTo>
                        <a:pt x="1032" y="1728"/>
                      </a:lnTo>
                      <a:lnTo>
                        <a:pt x="1019" y="1730"/>
                      </a:lnTo>
                      <a:lnTo>
                        <a:pt x="1004" y="1732"/>
                      </a:lnTo>
                      <a:lnTo>
                        <a:pt x="989" y="1735"/>
                      </a:lnTo>
                      <a:lnTo>
                        <a:pt x="971" y="1737"/>
                      </a:lnTo>
                      <a:lnTo>
                        <a:pt x="954" y="1739"/>
                      </a:lnTo>
                      <a:lnTo>
                        <a:pt x="937" y="1741"/>
                      </a:lnTo>
                      <a:lnTo>
                        <a:pt x="919" y="1744"/>
                      </a:lnTo>
                      <a:lnTo>
                        <a:pt x="901" y="1746"/>
                      </a:lnTo>
                      <a:lnTo>
                        <a:pt x="883" y="1748"/>
                      </a:lnTo>
                      <a:lnTo>
                        <a:pt x="864" y="1751"/>
                      </a:lnTo>
                      <a:lnTo>
                        <a:pt x="845" y="1752"/>
                      </a:lnTo>
                      <a:lnTo>
                        <a:pt x="826" y="1753"/>
                      </a:lnTo>
                      <a:lnTo>
                        <a:pt x="808" y="1755"/>
                      </a:lnTo>
                      <a:lnTo>
                        <a:pt x="789" y="1755"/>
                      </a:lnTo>
                      <a:lnTo>
                        <a:pt x="772" y="1756"/>
                      </a:lnTo>
                      <a:lnTo>
                        <a:pt x="755" y="1758"/>
                      </a:lnTo>
                      <a:lnTo>
                        <a:pt x="737" y="1758"/>
                      </a:lnTo>
                      <a:lnTo>
                        <a:pt x="721" y="1758"/>
                      </a:lnTo>
                      <a:lnTo>
                        <a:pt x="706" y="1756"/>
                      </a:lnTo>
                      <a:lnTo>
                        <a:pt x="691" y="1755"/>
                      </a:lnTo>
                      <a:lnTo>
                        <a:pt x="679" y="1754"/>
                      </a:lnTo>
                      <a:lnTo>
                        <a:pt x="666" y="1752"/>
                      </a:lnTo>
                      <a:lnTo>
                        <a:pt x="654" y="1750"/>
                      </a:lnTo>
                      <a:lnTo>
                        <a:pt x="581" y="1532"/>
                      </a:lnTo>
                      <a:lnTo>
                        <a:pt x="538" y="1755"/>
                      </a:lnTo>
                      <a:lnTo>
                        <a:pt x="516" y="1755"/>
                      </a:lnTo>
                      <a:lnTo>
                        <a:pt x="494" y="1756"/>
                      </a:lnTo>
                      <a:lnTo>
                        <a:pt x="472" y="1758"/>
                      </a:lnTo>
                      <a:lnTo>
                        <a:pt x="450" y="1758"/>
                      </a:lnTo>
                      <a:lnTo>
                        <a:pt x="429" y="1758"/>
                      </a:lnTo>
                      <a:lnTo>
                        <a:pt x="408" y="1756"/>
                      </a:lnTo>
                      <a:lnTo>
                        <a:pt x="386" y="1756"/>
                      </a:lnTo>
                      <a:lnTo>
                        <a:pt x="365" y="1755"/>
                      </a:lnTo>
                      <a:lnTo>
                        <a:pt x="344" y="1754"/>
                      </a:lnTo>
                      <a:lnTo>
                        <a:pt x="324" y="1753"/>
                      </a:lnTo>
                      <a:lnTo>
                        <a:pt x="304" y="1751"/>
                      </a:lnTo>
                      <a:lnTo>
                        <a:pt x="285" y="1750"/>
                      </a:lnTo>
                      <a:lnTo>
                        <a:pt x="265" y="1747"/>
                      </a:lnTo>
                      <a:lnTo>
                        <a:pt x="249" y="1746"/>
                      </a:lnTo>
                      <a:lnTo>
                        <a:pt x="230" y="1744"/>
                      </a:lnTo>
                      <a:lnTo>
                        <a:pt x="213" y="1741"/>
                      </a:lnTo>
                      <a:lnTo>
                        <a:pt x="197" y="1739"/>
                      </a:lnTo>
                      <a:lnTo>
                        <a:pt x="181" y="1738"/>
                      </a:lnTo>
                      <a:lnTo>
                        <a:pt x="166" y="1736"/>
                      </a:lnTo>
                      <a:lnTo>
                        <a:pt x="152" y="1733"/>
                      </a:lnTo>
                      <a:lnTo>
                        <a:pt x="138" y="1731"/>
                      </a:lnTo>
                      <a:lnTo>
                        <a:pt x="127" y="1730"/>
                      </a:lnTo>
                      <a:lnTo>
                        <a:pt x="115" y="1728"/>
                      </a:lnTo>
                      <a:lnTo>
                        <a:pt x="104" y="1725"/>
                      </a:lnTo>
                      <a:lnTo>
                        <a:pt x="94" y="1724"/>
                      </a:lnTo>
                      <a:lnTo>
                        <a:pt x="86" y="1723"/>
                      </a:lnTo>
                      <a:lnTo>
                        <a:pt x="79" y="1721"/>
                      </a:lnTo>
                      <a:lnTo>
                        <a:pt x="74" y="1721"/>
                      </a:lnTo>
                      <a:lnTo>
                        <a:pt x="69" y="1720"/>
                      </a:lnTo>
                      <a:lnTo>
                        <a:pt x="66" y="1718"/>
                      </a:lnTo>
                      <a:lnTo>
                        <a:pt x="63" y="1718"/>
                      </a:lnTo>
                      <a:lnTo>
                        <a:pt x="62" y="1718"/>
                      </a:lnTo>
                      <a:lnTo>
                        <a:pt x="136" y="1080"/>
                      </a:lnTo>
                      <a:lnTo>
                        <a:pt x="0" y="129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024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79"/>
                <p:cNvSpPr/>
                <p:nvPr/>
              </p:nvSpPr>
              <p:spPr>
                <a:xfrm>
                  <a:off x="2360160" y="3155400"/>
                  <a:ext cx="207360" cy="5770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577080"/>
                    <a:gd name="textAreaBottom" fmla="*/ 577440 h 577080"/>
                  </a:gdLst>
                  <a:ahLst/>
                  <a:rect l="textAreaLeft" t="textAreaTop" r="textAreaRight" b="textAreaBottom"/>
                  <a:pathLst>
                    <a:path w="207" h="622">
                      <a:moveTo>
                        <a:pt x="195" y="599"/>
                      </a:moveTo>
                      <a:lnTo>
                        <a:pt x="207" y="599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95" y="603"/>
                      </a:lnTo>
                      <a:lnTo>
                        <a:pt x="207" y="603"/>
                      </a:lnTo>
                      <a:lnTo>
                        <a:pt x="195" y="603"/>
                      </a:lnTo>
                      <a:lnTo>
                        <a:pt x="202" y="622"/>
                      </a:lnTo>
                      <a:lnTo>
                        <a:pt x="207" y="603"/>
                      </a:lnTo>
                      <a:lnTo>
                        <a:pt x="195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80"/>
                <p:cNvSpPr/>
                <p:nvPr/>
              </p:nvSpPr>
              <p:spPr>
                <a:xfrm>
                  <a:off x="2555640" y="3155400"/>
                  <a:ext cx="179280" cy="55800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180" h="604">
                      <a:moveTo>
                        <a:pt x="176" y="1"/>
                      </a:moveTo>
                      <a:lnTo>
                        <a:pt x="168" y="6"/>
                      </a:lnTo>
                      <a:lnTo>
                        <a:pt x="0" y="600"/>
                      </a:lnTo>
                      <a:lnTo>
                        <a:pt x="12" y="604"/>
                      </a:lnTo>
                      <a:lnTo>
                        <a:pt x="180" y="11"/>
                      </a:lnTo>
                      <a:lnTo>
                        <a:pt x="172" y="15"/>
                      </a:lnTo>
                      <a:lnTo>
                        <a:pt x="176" y="1"/>
                      </a:lnTo>
                      <a:lnTo>
                        <a:pt x="169" y="0"/>
                      </a:lnTo>
                      <a:lnTo>
                        <a:pt x="168" y="6"/>
                      </a:lnTo>
                      <a:lnTo>
                        <a:pt x="1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81"/>
                <p:cNvSpPr/>
                <p:nvPr/>
              </p:nvSpPr>
              <p:spPr>
                <a:xfrm>
                  <a:off x="2727000" y="3155400"/>
                  <a:ext cx="380880" cy="961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83" h="104">
                      <a:moveTo>
                        <a:pt x="383" y="97"/>
                      </a:moveTo>
                      <a:lnTo>
                        <a:pt x="377" y="9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375" y="104"/>
                      </a:lnTo>
                      <a:lnTo>
                        <a:pt x="370" y="97"/>
                      </a:lnTo>
                      <a:lnTo>
                        <a:pt x="383" y="97"/>
                      </a:lnTo>
                      <a:lnTo>
                        <a:pt x="383" y="92"/>
                      </a:lnTo>
                      <a:lnTo>
                        <a:pt x="377" y="90"/>
                      </a:lnTo>
                      <a:lnTo>
                        <a:pt x="38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82"/>
                <p:cNvSpPr/>
                <p:nvPr/>
              </p:nvSpPr>
              <p:spPr>
                <a:xfrm>
                  <a:off x="3016440" y="3246480"/>
                  <a:ext cx="91440" cy="7920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94" h="855">
                      <a:moveTo>
                        <a:pt x="14" y="853"/>
                      </a:moveTo>
                      <a:lnTo>
                        <a:pt x="14" y="855"/>
                      </a:lnTo>
                      <a:lnTo>
                        <a:pt x="94" y="0"/>
                      </a:lnTo>
                      <a:lnTo>
                        <a:pt x="81" y="0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14" y="8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83"/>
                <p:cNvSpPr/>
                <p:nvPr/>
              </p:nvSpPr>
              <p:spPr>
                <a:xfrm>
                  <a:off x="3016440" y="4037040"/>
                  <a:ext cx="103320" cy="71964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719640"/>
                    <a:gd name="textAreaBottom" fmla="*/ 720000 h 719640"/>
                  </a:gdLst>
                  <a:ahLst/>
                  <a:rect l="textAreaLeft" t="textAreaTop" r="textAreaRight" b="textAreaBottom"/>
                  <a:pathLst>
                    <a:path w="104" h="776">
                      <a:moveTo>
                        <a:pt x="98" y="776"/>
                      </a:moveTo>
                      <a:lnTo>
                        <a:pt x="103" y="768"/>
                      </a:ln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90" y="770"/>
                      </a:lnTo>
                      <a:lnTo>
                        <a:pt x="95" y="762"/>
                      </a:lnTo>
                      <a:lnTo>
                        <a:pt x="98" y="776"/>
                      </a:lnTo>
                      <a:lnTo>
                        <a:pt x="104" y="774"/>
                      </a:lnTo>
                      <a:lnTo>
                        <a:pt x="103" y="768"/>
                      </a:lnTo>
                      <a:lnTo>
                        <a:pt x="98" y="7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84"/>
                <p:cNvSpPr/>
                <p:nvPr/>
              </p:nvSpPr>
              <p:spPr>
                <a:xfrm>
                  <a:off x="2663280" y="4743720"/>
                  <a:ext cx="450720" cy="5004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451" h="54">
                      <a:moveTo>
                        <a:pt x="0" y="42"/>
                      </a:moveTo>
                      <a:lnTo>
                        <a:pt x="4" y="46"/>
                      </a:lnTo>
                      <a:lnTo>
                        <a:pt x="16" y="50"/>
                      </a:lnTo>
                      <a:lnTo>
                        <a:pt x="28" y="51"/>
                      </a:lnTo>
                      <a:lnTo>
                        <a:pt x="42" y="53"/>
                      </a:lnTo>
                      <a:lnTo>
                        <a:pt x="57" y="54"/>
                      </a:lnTo>
                      <a:lnTo>
                        <a:pt x="72" y="54"/>
                      </a:lnTo>
                      <a:lnTo>
                        <a:pt x="88" y="54"/>
                      </a:lnTo>
                      <a:lnTo>
                        <a:pt x="106" y="54"/>
                      </a:lnTo>
                      <a:lnTo>
                        <a:pt x="123" y="54"/>
                      </a:lnTo>
                      <a:lnTo>
                        <a:pt x="141" y="53"/>
                      </a:lnTo>
                      <a:lnTo>
                        <a:pt x="160" y="52"/>
                      </a:lnTo>
                      <a:lnTo>
                        <a:pt x="178" y="51"/>
                      </a:lnTo>
                      <a:lnTo>
                        <a:pt x="197" y="50"/>
                      </a:lnTo>
                      <a:lnTo>
                        <a:pt x="215" y="47"/>
                      </a:lnTo>
                      <a:lnTo>
                        <a:pt x="234" y="46"/>
                      </a:lnTo>
                      <a:lnTo>
                        <a:pt x="253" y="44"/>
                      </a:lnTo>
                      <a:lnTo>
                        <a:pt x="270" y="42"/>
                      </a:lnTo>
                      <a:lnTo>
                        <a:pt x="289" y="39"/>
                      </a:lnTo>
                      <a:lnTo>
                        <a:pt x="306" y="37"/>
                      </a:lnTo>
                      <a:lnTo>
                        <a:pt x="323" y="35"/>
                      </a:lnTo>
                      <a:lnTo>
                        <a:pt x="340" y="32"/>
                      </a:lnTo>
                      <a:lnTo>
                        <a:pt x="356" y="30"/>
                      </a:lnTo>
                      <a:lnTo>
                        <a:pt x="371" y="28"/>
                      </a:lnTo>
                      <a:lnTo>
                        <a:pt x="384" y="26"/>
                      </a:lnTo>
                      <a:lnTo>
                        <a:pt x="397" y="23"/>
                      </a:lnTo>
                      <a:lnTo>
                        <a:pt x="409" y="21"/>
                      </a:lnTo>
                      <a:lnTo>
                        <a:pt x="419" y="19"/>
                      </a:lnTo>
                      <a:lnTo>
                        <a:pt x="428" y="17"/>
                      </a:lnTo>
                      <a:lnTo>
                        <a:pt x="436" y="16"/>
                      </a:lnTo>
                      <a:lnTo>
                        <a:pt x="442" y="15"/>
                      </a:lnTo>
                      <a:lnTo>
                        <a:pt x="448" y="14"/>
                      </a:lnTo>
                      <a:lnTo>
                        <a:pt x="450" y="14"/>
                      </a:lnTo>
                      <a:lnTo>
                        <a:pt x="451" y="14"/>
                      </a:lnTo>
                      <a:lnTo>
                        <a:pt x="448" y="0"/>
                      </a:lnTo>
                      <a:lnTo>
                        <a:pt x="444" y="1"/>
                      </a:lnTo>
                      <a:lnTo>
                        <a:pt x="441" y="3"/>
                      </a:lnTo>
                      <a:lnTo>
                        <a:pt x="434" y="4"/>
                      </a:lnTo>
                      <a:lnTo>
                        <a:pt x="427" y="5"/>
                      </a:lnTo>
                      <a:lnTo>
                        <a:pt x="418" y="6"/>
                      </a:lnTo>
                      <a:lnTo>
                        <a:pt x="406" y="8"/>
                      </a:lnTo>
                      <a:lnTo>
                        <a:pt x="395" y="9"/>
                      </a:lnTo>
                      <a:lnTo>
                        <a:pt x="382" y="12"/>
                      </a:lnTo>
                      <a:lnTo>
                        <a:pt x="368" y="14"/>
                      </a:lnTo>
                      <a:lnTo>
                        <a:pt x="353" y="16"/>
                      </a:lnTo>
                      <a:lnTo>
                        <a:pt x="338" y="19"/>
                      </a:lnTo>
                      <a:lnTo>
                        <a:pt x="321" y="21"/>
                      </a:lnTo>
                      <a:lnTo>
                        <a:pt x="305" y="23"/>
                      </a:lnTo>
                      <a:lnTo>
                        <a:pt x="287" y="26"/>
                      </a:lnTo>
                      <a:lnTo>
                        <a:pt x="269" y="28"/>
                      </a:lnTo>
                      <a:lnTo>
                        <a:pt x="251" y="30"/>
                      </a:lnTo>
                      <a:lnTo>
                        <a:pt x="232" y="32"/>
                      </a:lnTo>
                      <a:lnTo>
                        <a:pt x="214" y="35"/>
                      </a:lnTo>
                      <a:lnTo>
                        <a:pt x="196" y="37"/>
                      </a:lnTo>
                      <a:lnTo>
                        <a:pt x="177" y="38"/>
                      </a:lnTo>
                      <a:lnTo>
                        <a:pt x="159" y="39"/>
                      </a:lnTo>
                      <a:lnTo>
                        <a:pt x="140" y="41"/>
                      </a:lnTo>
                      <a:lnTo>
                        <a:pt x="123" y="42"/>
                      </a:lnTo>
                      <a:lnTo>
                        <a:pt x="106" y="42"/>
                      </a:lnTo>
                      <a:lnTo>
                        <a:pt x="88" y="42"/>
                      </a:lnTo>
                      <a:lnTo>
                        <a:pt x="72" y="42"/>
                      </a:lnTo>
                      <a:lnTo>
                        <a:pt x="58" y="42"/>
                      </a:lnTo>
                      <a:lnTo>
                        <a:pt x="43" y="39"/>
                      </a:lnTo>
                      <a:lnTo>
                        <a:pt x="31" y="38"/>
                      </a:lnTo>
                      <a:lnTo>
                        <a:pt x="18" y="37"/>
                      </a:lnTo>
                      <a:lnTo>
                        <a:pt x="8" y="34"/>
                      </a:lnTo>
                      <a:lnTo>
                        <a:pt x="12" y="38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85"/>
                <p:cNvSpPr/>
                <p:nvPr/>
              </p:nvSpPr>
              <p:spPr>
                <a:xfrm>
                  <a:off x="2587680" y="4556160"/>
                  <a:ext cx="87480" cy="22608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87" h="243">
                      <a:moveTo>
                        <a:pt x="14" y="26"/>
                      </a:moveTo>
                      <a:lnTo>
                        <a:pt x="1" y="26"/>
                      </a:lnTo>
                      <a:lnTo>
                        <a:pt x="75" y="243"/>
                      </a:lnTo>
                      <a:lnTo>
                        <a:pt x="87" y="239"/>
                      </a:lnTo>
                      <a:lnTo>
                        <a:pt x="12" y="23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4" y="0"/>
                      </a:lnTo>
                      <a:lnTo>
                        <a:pt x="0" y="2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86"/>
                <p:cNvSpPr/>
                <p:nvPr/>
              </p:nvSpPr>
              <p:spPr>
                <a:xfrm>
                  <a:off x="2548080" y="4578480"/>
                  <a:ext cx="53640" cy="21312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56" h="230">
                      <a:moveTo>
                        <a:pt x="7" y="230"/>
                      </a:moveTo>
                      <a:lnTo>
                        <a:pt x="13" y="225"/>
                      </a:lnTo>
                      <a:lnTo>
                        <a:pt x="56" y="3"/>
                      </a:lnTo>
                      <a:lnTo>
                        <a:pt x="42" y="0"/>
                      </a:lnTo>
                      <a:lnTo>
                        <a:pt x="0" y="222"/>
                      </a:lnTo>
                      <a:lnTo>
                        <a:pt x="6" y="217"/>
                      </a:lnTo>
                      <a:lnTo>
                        <a:pt x="7" y="230"/>
                      </a:lnTo>
                      <a:lnTo>
                        <a:pt x="12" y="230"/>
                      </a:lnTo>
                      <a:lnTo>
                        <a:pt x="13" y="225"/>
                      </a:lnTo>
                      <a:lnTo>
                        <a:pt x="7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87"/>
                <p:cNvSpPr/>
                <p:nvPr/>
              </p:nvSpPr>
              <p:spPr>
                <a:xfrm>
                  <a:off x="2071440" y="4745160"/>
                  <a:ext cx="482040" cy="48240"/>
                </a:xfrm>
                <a:custGeom>
                  <a:avLst/>
                  <a:gdLst>
                    <a:gd name="textAreaLeft" fmla="*/ 0 w 482040"/>
                    <a:gd name="textAreaRight" fmla="*/ 482400 w 4820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484" h="51">
                      <a:moveTo>
                        <a:pt x="1" y="5"/>
                      </a:move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8" y="14"/>
                      </a:lnTo>
                      <a:lnTo>
                        <a:pt x="23" y="16"/>
                      </a:lnTo>
                      <a:lnTo>
                        <a:pt x="30" y="17"/>
                      </a:lnTo>
                      <a:lnTo>
                        <a:pt x="38" y="18"/>
                      </a:lnTo>
                      <a:lnTo>
                        <a:pt x="47" y="20"/>
                      </a:lnTo>
                      <a:lnTo>
                        <a:pt x="59" y="23"/>
                      </a:lnTo>
                      <a:lnTo>
                        <a:pt x="71" y="24"/>
                      </a:lnTo>
                      <a:lnTo>
                        <a:pt x="83" y="26"/>
                      </a:lnTo>
                      <a:lnTo>
                        <a:pt x="96" y="27"/>
                      </a:lnTo>
                      <a:lnTo>
                        <a:pt x="110" y="29"/>
                      </a:lnTo>
                      <a:lnTo>
                        <a:pt x="125" y="32"/>
                      </a:lnTo>
                      <a:lnTo>
                        <a:pt x="141" y="34"/>
                      </a:lnTo>
                      <a:lnTo>
                        <a:pt x="157" y="36"/>
                      </a:lnTo>
                      <a:lnTo>
                        <a:pt x="175" y="39"/>
                      </a:lnTo>
                      <a:lnTo>
                        <a:pt x="193" y="40"/>
                      </a:lnTo>
                      <a:lnTo>
                        <a:pt x="210" y="42"/>
                      </a:lnTo>
                      <a:lnTo>
                        <a:pt x="228" y="43"/>
                      </a:lnTo>
                      <a:lnTo>
                        <a:pt x="249" y="46"/>
                      </a:lnTo>
                      <a:lnTo>
                        <a:pt x="269" y="47"/>
                      </a:lnTo>
                      <a:lnTo>
                        <a:pt x="288" y="48"/>
                      </a:lnTo>
                      <a:lnTo>
                        <a:pt x="309" y="50"/>
                      </a:lnTo>
                      <a:lnTo>
                        <a:pt x="331" y="50"/>
                      </a:lnTo>
                      <a:lnTo>
                        <a:pt x="353" y="51"/>
                      </a:lnTo>
                      <a:lnTo>
                        <a:pt x="374" y="51"/>
                      </a:lnTo>
                      <a:lnTo>
                        <a:pt x="395" y="51"/>
                      </a:lnTo>
                      <a:lnTo>
                        <a:pt x="417" y="51"/>
                      </a:lnTo>
                      <a:lnTo>
                        <a:pt x="439" y="51"/>
                      </a:lnTo>
                      <a:lnTo>
                        <a:pt x="461" y="50"/>
                      </a:lnTo>
                      <a:lnTo>
                        <a:pt x="484" y="49"/>
                      </a:lnTo>
                      <a:lnTo>
                        <a:pt x="483" y="36"/>
                      </a:lnTo>
                      <a:lnTo>
                        <a:pt x="461" y="38"/>
                      </a:lnTo>
                      <a:lnTo>
                        <a:pt x="439" y="39"/>
                      </a:lnTo>
                      <a:lnTo>
                        <a:pt x="417" y="39"/>
                      </a:lnTo>
                      <a:lnTo>
                        <a:pt x="395" y="39"/>
                      </a:lnTo>
                      <a:lnTo>
                        <a:pt x="374" y="39"/>
                      </a:lnTo>
                      <a:lnTo>
                        <a:pt x="353" y="39"/>
                      </a:lnTo>
                      <a:lnTo>
                        <a:pt x="331" y="38"/>
                      </a:lnTo>
                      <a:lnTo>
                        <a:pt x="310" y="36"/>
                      </a:lnTo>
                      <a:lnTo>
                        <a:pt x="289" y="35"/>
                      </a:lnTo>
                      <a:lnTo>
                        <a:pt x="270" y="34"/>
                      </a:lnTo>
                      <a:lnTo>
                        <a:pt x="249" y="33"/>
                      </a:lnTo>
                      <a:lnTo>
                        <a:pt x="230" y="31"/>
                      </a:lnTo>
                      <a:lnTo>
                        <a:pt x="211" y="29"/>
                      </a:lnTo>
                      <a:lnTo>
                        <a:pt x="194" y="27"/>
                      </a:lnTo>
                      <a:lnTo>
                        <a:pt x="175" y="25"/>
                      </a:lnTo>
                      <a:lnTo>
                        <a:pt x="159" y="24"/>
                      </a:lnTo>
                      <a:lnTo>
                        <a:pt x="143" y="21"/>
                      </a:lnTo>
                      <a:lnTo>
                        <a:pt x="127" y="19"/>
                      </a:lnTo>
                      <a:lnTo>
                        <a:pt x="112" y="17"/>
                      </a:lnTo>
                      <a:lnTo>
                        <a:pt x="98" y="14"/>
                      </a:lnTo>
                      <a:lnTo>
                        <a:pt x="84" y="13"/>
                      </a:lnTo>
                      <a:lnTo>
                        <a:pt x="72" y="11"/>
                      </a:lnTo>
                      <a:lnTo>
                        <a:pt x="60" y="9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3" y="4"/>
                      </a:lnTo>
                      <a:lnTo>
                        <a:pt x="26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14" y="6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88"/>
                <p:cNvSpPr/>
                <p:nvPr/>
              </p:nvSpPr>
              <p:spPr>
                <a:xfrm>
                  <a:off x="2073240" y="4159440"/>
                  <a:ext cx="85680" cy="59328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593280"/>
                    <a:gd name="textAreaBottom" fmla="*/ 593640 h 593280"/>
                  </a:gdLst>
                  <a:ahLst/>
                  <a:rect l="textAreaLeft" t="textAreaTop" r="textAreaRight" b="textAreaBottom"/>
                  <a:pathLst>
                    <a:path w="87" h="639">
                      <a:moveTo>
                        <a:pt x="74" y="1"/>
                      </a:moveTo>
                      <a:lnTo>
                        <a:pt x="74" y="0"/>
                      </a:lnTo>
                      <a:lnTo>
                        <a:pt x="0" y="638"/>
                      </a:lnTo>
                      <a:lnTo>
                        <a:pt x="13" y="639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7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89"/>
                <p:cNvSpPr/>
                <p:nvPr/>
              </p:nvSpPr>
              <p:spPr>
                <a:xfrm>
                  <a:off x="2009520" y="3270240"/>
                  <a:ext cx="149400" cy="89028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890280"/>
                    <a:gd name="textAreaBottom" fmla="*/ 890640 h 890280"/>
                  </a:gdLst>
                  <a:ahLst/>
                  <a:rect l="textAreaLeft" t="textAreaTop" r="textAreaRight" b="textAreaBottom"/>
                  <a:pathLst>
                    <a:path w="150" h="958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37" y="958"/>
                      </a:lnTo>
                      <a:lnTo>
                        <a:pt x="150" y="957"/>
                      </a:lnTo>
                      <a:lnTo>
                        <a:pt x="14" y="5"/>
                      </a:lnTo>
                      <a:lnTo>
                        <a:pt x="9" y="1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90"/>
                <p:cNvSpPr/>
                <p:nvPr/>
              </p:nvSpPr>
              <p:spPr>
                <a:xfrm>
                  <a:off x="2013480" y="3150000"/>
                  <a:ext cx="358200" cy="133200"/>
                </a:xfrm>
                <a:custGeom>
                  <a:avLst/>
                  <a:gdLst>
                    <a:gd name="textAreaLeft" fmla="*/ 0 w 358200"/>
                    <a:gd name="textAreaRight" fmla="*/ 358560 w 3582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59" h="142">
                      <a:moveTo>
                        <a:pt x="359" y="5"/>
                      </a:moveTo>
                      <a:lnTo>
                        <a:pt x="351" y="2"/>
                      </a:lnTo>
                      <a:lnTo>
                        <a:pt x="0" y="130"/>
                      </a:lnTo>
                      <a:lnTo>
                        <a:pt x="4" y="142"/>
                      </a:lnTo>
                      <a:lnTo>
                        <a:pt x="356" y="13"/>
                      </a:lnTo>
                      <a:lnTo>
                        <a:pt x="348" y="10"/>
                      </a:lnTo>
                      <a:lnTo>
                        <a:pt x="359" y="5"/>
                      </a:lnTo>
                      <a:lnTo>
                        <a:pt x="357" y="0"/>
                      </a:lnTo>
                      <a:lnTo>
                        <a:pt x="351" y="2"/>
                      </a:lnTo>
                      <a:lnTo>
                        <a:pt x="35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91"/>
                <p:cNvSpPr/>
                <p:nvPr/>
              </p:nvSpPr>
              <p:spPr>
                <a:xfrm>
                  <a:off x="2557800" y="3014640"/>
                  <a:ext cx="428400" cy="53784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537840"/>
                    <a:gd name="textAreaBottom" fmla="*/ 538200 h 537840"/>
                  </a:gdLst>
                  <a:ahLst/>
                  <a:rect l="textAreaLeft" t="textAreaTop" r="textAreaRight" b="textAreaBottom"/>
                  <a:pathLst>
                    <a:path w="429" h="581">
                      <a:moveTo>
                        <a:pt x="0" y="112"/>
                      </a:moveTo>
                      <a:lnTo>
                        <a:pt x="306" y="0"/>
                      </a:lnTo>
                      <a:lnTo>
                        <a:pt x="429" y="458"/>
                      </a:lnTo>
                      <a:lnTo>
                        <a:pt x="131" y="58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92"/>
                <p:cNvSpPr/>
                <p:nvPr/>
              </p:nvSpPr>
              <p:spPr>
                <a:xfrm>
                  <a:off x="2555640" y="3010680"/>
                  <a:ext cx="310680" cy="111240"/>
                </a:xfrm>
                <a:custGeom>
                  <a:avLst/>
                  <a:gdLst>
                    <a:gd name="textAreaLeft" fmla="*/ 0 w 310680"/>
                    <a:gd name="textAreaRight" fmla="*/ 311040 w 31068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312" h="118">
                      <a:moveTo>
                        <a:pt x="312" y="3"/>
                      </a:moveTo>
                      <a:lnTo>
                        <a:pt x="307" y="1"/>
                      </a:lnTo>
                      <a:lnTo>
                        <a:pt x="0" y="112"/>
                      </a:lnTo>
                      <a:lnTo>
                        <a:pt x="3" y="118"/>
                      </a:lnTo>
                      <a:lnTo>
                        <a:pt x="309" y="7"/>
                      </a:lnTo>
                      <a:lnTo>
                        <a:pt x="305" y="4"/>
                      </a:lnTo>
                      <a:lnTo>
                        <a:pt x="312" y="3"/>
                      </a:lnTo>
                      <a:lnTo>
                        <a:pt x="310" y="0"/>
                      </a:lnTo>
                      <a:lnTo>
                        <a:pt x="307" y="1"/>
                      </a:lnTo>
                      <a:lnTo>
                        <a:pt x="3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93"/>
                <p:cNvSpPr/>
                <p:nvPr/>
              </p:nvSpPr>
              <p:spPr>
                <a:xfrm>
                  <a:off x="2858400" y="3014640"/>
                  <a:ext cx="131400" cy="42840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428400"/>
                    <a:gd name="textAreaBottom" fmla="*/ 428760 h 428400"/>
                  </a:gdLst>
                  <a:ahLst/>
                  <a:rect l="textAreaLeft" t="textAreaTop" r="textAreaRight" b="textAreaBottom"/>
                  <a:pathLst>
                    <a:path w="131" h="461">
                      <a:moveTo>
                        <a:pt x="129" y="461"/>
                      </a:moveTo>
                      <a:lnTo>
                        <a:pt x="130" y="45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24" y="459"/>
                      </a:lnTo>
                      <a:lnTo>
                        <a:pt x="125" y="455"/>
                      </a:lnTo>
                      <a:lnTo>
                        <a:pt x="129" y="461"/>
                      </a:lnTo>
                      <a:lnTo>
                        <a:pt x="131" y="460"/>
                      </a:lnTo>
                      <a:lnTo>
                        <a:pt x="130" y="456"/>
                      </a:lnTo>
                      <a:lnTo>
                        <a:pt x="129" y="4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94"/>
                <p:cNvSpPr/>
                <p:nvPr/>
              </p:nvSpPr>
              <p:spPr>
                <a:xfrm>
                  <a:off x="2685240" y="3437280"/>
                  <a:ext cx="302760" cy="12060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304" h="130">
                      <a:moveTo>
                        <a:pt x="0" y="127"/>
                      </a:moveTo>
                      <a:lnTo>
                        <a:pt x="4" y="128"/>
                      </a:lnTo>
                      <a:lnTo>
                        <a:pt x="304" y="6"/>
                      </a:lnTo>
                      <a:lnTo>
                        <a:pt x="300" y="0"/>
                      </a:lnTo>
                      <a:lnTo>
                        <a:pt x="2" y="124"/>
                      </a:lnTo>
                      <a:lnTo>
                        <a:pt x="6" y="125"/>
                      </a:lnTo>
                      <a:lnTo>
                        <a:pt x="0" y="127"/>
                      </a:lnTo>
                      <a:lnTo>
                        <a:pt x="1" y="130"/>
                      </a:lnTo>
                      <a:lnTo>
                        <a:pt x="4" y="128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95"/>
                <p:cNvSpPr/>
                <p:nvPr/>
              </p:nvSpPr>
              <p:spPr>
                <a:xfrm>
                  <a:off x="2553840" y="3114720"/>
                  <a:ext cx="137160" cy="43956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138" h="473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132" y="473"/>
                      </a:lnTo>
                      <a:lnTo>
                        <a:pt x="138" y="471"/>
                      </a:lnTo>
                      <a:lnTo>
                        <a:pt x="7" y="2"/>
                      </a:lnTo>
                      <a:lnTo>
                        <a:pt x="5" y="6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96"/>
                <p:cNvSpPr/>
                <p:nvPr/>
              </p:nvSpPr>
              <p:spPr>
                <a:xfrm>
                  <a:off x="2649240" y="3014640"/>
                  <a:ext cx="344880" cy="54900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549000"/>
                    <a:gd name="textAreaBottom" fmla="*/ 549360 h 549000"/>
                  </a:gdLst>
                  <a:ahLst/>
                  <a:rect l="textAreaLeft" t="textAreaTop" r="textAreaRight" b="textAreaBottom"/>
                  <a:pathLst>
                    <a:path w="347" h="592">
                      <a:moveTo>
                        <a:pt x="214" y="0"/>
                      </a:moveTo>
                      <a:lnTo>
                        <a:pt x="235" y="13"/>
                      </a:lnTo>
                      <a:lnTo>
                        <a:pt x="235" y="14"/>
                      </a:lnTo>
                      <a:lnTo>
                        <a:pt x="235" y="15"/>
                      </a:lnTo>
                      <a:lnTo>
                        <a:pt x="236" y="19"/>
                      </a:lnTo>
                      <a:lnTo>
                        <a:pt x="236" y="23"/>
                      </a:lnTo>
                      <a:lnTo>
                        <a:pt x="236" y="28"/>
                      </a:lnTo>
                      <a:lnTo>
                        <a:pt x="236" y="34"/>
                      </a:lnTo>
                      <a:lnTo>
                        <a:pt x="236" y="41"/>
                      </a:lnTo>
                      <a:lnTo>
                        <a:pt x="235" y="46"/>
                      </a:lnTo>
                      <a:lnTo>
                        <a:pt x="234" y="54"/>
                      </a:lnTo>
                      <a:lnTo>
                        <a:pt x="231" y="61"/>
                      </a:lnTo>
                      <a:lnTo>
                        <a:pt x="229" y="68"/>
                      </a:lnTo>
                      <a:lnTo>
                        <a:pt x="226" y="75"/>
                      </a:lnTo>
                      <a:lnTo>
                        <a:pt x="222" y="81"/>
                      </a:lnTo>
                      <a:lnTo>
                        <a:pt x="216" y="87"/>
                      </a:lnTo>
                      <a:lnTo>
                        <a:pt x="211" y="92"/>
                      </a:lnTo>
                      <a:lnTo>
                        <a:pt x="203" y="96"/>
                      </a:lnTo>
                      <a:lnTo>
                        <a:pt x="198" y="98"/>
                      </a:lnTo>
                      <a:lnTo>
                        <a:pt x="192" y="99"/>
                      </a:lnTo>
                      <a:lnTo>
                        <a:pt x="185" y="100"/>
                      </a:lnTo>
                      <a:lnTo>
                        <a:pt x="178" y="102"/>
                      </a:lnTo>
                      <a:lnTo>
                        <a:pt x="172" y="102"/>
                      </a:lnTo>
                      <a:lnTo>
                        <a:pt x="163" y="102"/>
                      </a:lnTo>
                      <a:lnTo>
                        <a:pt x="155" y="103"/>
                      </a:lnTo>
                      <a:lnTo>
                        <a:pt x="146" y="103"/>
                      </a:lnTo>
                      <a:lnTo>
                        <a:pt x="137" y="103"/>
                      </a:lnTo>
                      <a:lnTo>
                        <a:pt x="128" y="104"/>
                      </a:lnTo>
                      <a:lnTo>
                        <a:pt x="118" y="104"/>
                      </a:lnTo>
                      <a:lnTo>
                        <a:pt x="108" y="105"/>
                      </a:lnTo>
                      <a:lnTo>
                        <a:pt x="99" y="106"/>
                      </a:lnTo>
                      <a:lnTo>
                        <a:pt x="90" y="109"/>
                      </a:lnTo>
                      <a:lnTo>
                        <a:pt x="80" y="110"/>
                      </a:lnTo>
                      <a:lnTo>
                        <a:pt x="71" y="112"/>
                      </a:lnTo>
                      <a:lnTo>
                        <a:pt x="56" y="118"/>
                      </a:lnTo>
                      <a:lnTo>
                        <a:pt x="42" y="125"/>
                      </a:lnTo>
                      <a:lnTo>
                        <a:pt x="30" y="133"/>
                      </a:lnTo>
                      <a:lnTo>
                        <a:pt x="19" y="141"/>
                      </a:lnTo>
                      <a:lnTo>
                        <a:pt x="11" y="148"/>
                      </a:lnTo>
                      <a:lnTo>
                        <a:pt x="6" y="155"/>
                      </a:lnTo>
                      <a:lnTo>
                        <a:pt x="1" y="158"/>
                      </a:lnTo>
                      <a:lnTo>
                        <a:pt x="0" y="159"/>
                      </a:lnTo>
                      <a:lnTo>
                        <a:pt x="91" y="592"/>
                      </a:lnTo>
                      <a:lnTo>
                        <a:pt x="92" y="592"/>
                      </a:lnTo>
                      <a:lnTo>
                        <a:pt x="93" y="591"/>
                      </a:lnTo>
                      <a:lnTo>
                        <a:pt x="94" y="590"/>
                      </a:lnTo>
                      <a:lnTo>
                        <a:pt x="97" y="588"/>
                      </a:lnTo>
                      <a:lnTo>
                        <a:pt x="100" y="585"/>
                      </a:lnTo>
                      <a:lnTo>
                        <a:pt x="104" y="583"/>
                      </a:lnTo>
                      <a:lnTo>
                        <a:pt x="107" y="580"/>
                      </a:lnTo>
                      <a:lnTo>
                        <a:pt x="112" y="576"/>
                      </a:lnTo>
                      <a:lnTo>
                        <a:pt x="117" y="573"/>
                      </a:lnTo>
                      <a:lnTo>
                        <a:pt x="123" y="569"/>
                      </a:lnTo>
                      <a:lnTo>
                        <a:pt x="129" y="565"/>
                      </a:lnTo>
                      <a:lnTo>
                        <a:pt x="136" y="561"/>
                      </a:lnTo>
                      <a:lnTo>
                        <a:pt x="143" y="558"/>
                      </a:lnTo>
                      <a:lnTo>
                        <a:pt x="151" y="556"/>
                      </a:lnTo>
                      <a:lnTo>
                        <a:pt x="159" y="552"/>
                      </a:lnTo>
                      <a:lnTo>
                        <a:pt x="167" y="549"/>
                      </a:lnTo>
                      <a:lnTo>
                        <a:pt x="181" y="545"/>
                      </a:lnTo>
                      <a:lnTo>
                        <a:pt x="195" y="542"/>
                      </a:lnTo>
                      <a:lnTo>
                        <a:pt x="208" y="537"/>
                      </a:lnTo>
                      <a:lnTo>
                        <a:pt x="223" y="534"/>
                      </a:lnTo>
                      <a:lnTo>
                        <a:pt x="238" y="530"/>
                      </a:lnTo>
                      <a:lnTo>
                        <a:pt x="252" y="527"/>
                      </a:lnTo>
                      <a:lnTo>
                        <a:pt x="266" y="523"/>
                      </a:lnTo>
                      <a:lnTo>
                        <a:pt x="280" y="519"/>
                      </a:lnTo>
                      <a:lnTo>
                        <a:pt x="291" y="514"/>
                      </a:lnTo>
                      <a:lnTo>
                        <a:pt x="304" y="509"/>
                      </a:lnTo>
                      <a:lnTo>
                        <a:pt x="314" y="505"/>
                      </a:lnTo>
                      <a:lnTo>
                        <a:pt x="324" y="500"/>
                      </a:lnTo>
                      <a:lnTo>
                        <a:pt x="332" y="494"/>
                      </a:lnTo>
                      <a:lnTo>
                        <a:pt x="339" y="489"/>
                      </a:lnTo>
                      <a:lnTo>
                        <a:pt x="343" y="482"/>
                      </a:lnTo>
                      <a:lnTo>
                        <a:pt x="347" y="474"/>
                      </a:lnTo>
                      <a:lnTo>
                        <a:pt x="347" y="469"/>
                      </a:lnTo>
                      <a:lnTo>
                        <a:pt x="345" y="463"/>
                      </a:lnTo>
                      <a:lnTo>
                        <a:pt x="344" y="454"/>
                      </a:lnTo>
                      <a:lnTo>
                        <a:pt x="342" y="444"/>
                      </a:lnTo>
                      <a:lnTo>
                        <a:pt x="340" y="431"/>
                      </a:lnTo>
                      <a:lnTo>
                        <a:pt x="337" y="418"/>
                      </a:lnTo>
                      <a:lnTo>
                        <a:pt x="334" y="403"/>
                      </a:lnTo>
                      <a:lnTo>
                        <a:pt x="331" y="387"/>
                      </a:lnTo>
                      <a:lnTo>
                        <a:pt x="326" y="369"/>
                      </a:lnTo>
                      <a:lnTo>
                        <a:pt x="321" y="350"/>
                      </a:lnTo>
                      <a:lnTo>
                        <a:pt x="317" y="332"/>
                      </a:lnTo>
                      <a:lnTo>
                        <a:pt x="312" y="312"/>
                      </a:lnTo>
                      <a:lnTo>
                        <a:pt x="307" y="292"/>
                      </a:lnTo>
                      <a:lnTo>
                        <a:pt x="303" y="271"/>
                      </a:lnTo>
                      <a:lnTo>
                        <a:pt x="297" y="250"/>
                      </a:lnTo>
                      <a:lnTo>
                        <a:pt x="291" y="230"/>
                      </a:lnTo>
                      <a:lnTo>
                        <a:pt x="287" y="209"/>
                      </a:lnTo>
                      <a:lnTo>
                        <a:pt x="281" y="189"/>
                      </a:lnTo>
                      <a:lnTo>
                        <a:pt x="276" y="168"/>
                      </a:lnTo>
                      <a:lnTo>
                        <a:pt x="271" y="149"/>
                      </a:lnTo>
                      <a:lnTo>
                        <a:pt x="266" y="130"/>
                      </a:lnTo>
                      <a:lnTo>
                        <a:pt x="261" y="113"/>
                      </a:lnTo>
                      <a:lnTo>
                        <a:pt x="257" y="96"/>
                      </a:lnTo>
                      <a:lnTo>
                        <a:pt x="252" y="80"/>
                      </a:lnTo>
                      <a:lnTo>
                        <a:pt x="249" y="65"/>
                      </a:lnTo>
                      <a:lnTo>
                        <a:pt x="245" y="52"/>
                      </a:lnTo>
                      <a:lnTo>
                        <a:pt x="242" y="41"/>
                      </a:lnTo>
                      <a:lnTo>
                        <a:pt x="239" y="31"/>
                      </a:lnTo>
                      <a:lnTo>
                        <a:pt x="237" y="23"/>
                      </a:lnTo>
                      <a:lnTo>
                        <a:pt x="236" y="18"/>
                      </a:lnTo>
                      <a:lnTo>
                        <a:pt x="235" y="14"/>
                      </a:lnTo>
                      <a:lnTo>
                        <a:pt x="235" y="13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97"/>
                <p:cNvSpPr/>
                <p:nvPr/>
              </p:nvSpPr>
              <p:spPr>
                <a:xfrm>
                  <a:off x="2860920" y="3012840"/>
                  <a:ext cx="25560" cy="1620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25" h="17">
                      <a:moveTo>
                        <a:pt x="25" y="14"/>
                      </a:moveTo>
                      <a:lnTo>
                        <a:pt x="23" y="11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0" y="17"/>
                      </a:lnTo>
                      <a:lnTo>
                        <a:pt x="18" y="15"/>
                      </a:lnTo>
                      <a:lnTo>
                        <a:pt x="25" y="14"/>
                      </a:lnTo>
                      <a:lnTo>
                        <a:pt x="24" y="13"/>
                      </a:lnTo>
                      <a:lnTo>
                        <a:pt x="23" y="11"/>
                      </a:lnTo>
                      <a:lnTo>
                        <a:pt x="2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98"/>
                <p:cNvSpPr/>
                <p:nvPr/>
              </p:nvSpPr>
              <p:spPr>
                <a:xfrm>
                  <a:off x="2850840" y="3025440"/>
                  <a:ext cx="37800" cy="8136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3" y="87"/>
                      </a:moveTo>
                      <a:lnTo>
                        <a:pt x="3" y="87"/>
                      </a:lnTo>
                      <a:lnTo>
                        <a:pt x="11" y="83"/>
                      </a:lnTo>
                      <a:lnTo>
                        <a:pt x="18" y="77"/>
                      </a:lnTo>
                      <a:lnTo>
                        <a:pt x="24" y="71"/>
                      </a:lnTo>
                      <a:lnTo>
                        <a:pt x="28" y="64"/>
                      </a:lnTo>
                      <a:lnTo>
                        <a:pt x="32" y="57"/>
                      </a:lnTo>
                      <a:lnTo>
                        <a:pt x="34" y="50"/>
                      </a:lnTo>
                      <a:lnTo>
                        <a:pt x="36" y="44"/>
                      </a:lnTo>
                      <a:lnTo>
                        <a:pt x="37" y="35"/>
                      </a:lnTo>
                      <a:lnTo>
                        <a:pt x="38" y="29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2" y="7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9"/>
                      </a:lnTo>
                      <a:lnTo>
                        <a:pt x="30" y="34"/>
                      </a:lnTo>
                      <a:lnTo>
                        <a:pt x="29" y="41"/>
                      </a:lnTo>
                      <a:lnTo>
                        <a:pt x="28" y="48"/>
                      </a:lnTo>
                      <a:lnTo>
                        <a:pt x="26" y="55"/>
                      </a:lnTo>
                      <a:lnTo>
                        <a:pt x="22" y="61"/>
                      </a:lnTo>
                      <a:lnTo>
                        <a:pt x="18" y="67"/>
                      </a:lnTo>
                      <a:lnTo>
                        <a:pt x="13" y="72"/>
                      </a:lnTo>
                      <a:lnTo>
                        <a:pt x="7" y="77"/>
                      </a:lnTo>
                      <a:lnTo>
                        <a:pt x="0" y="82"/>
                      </a:lnTo>
                      <a:lnTo>
                        <a:pt x="3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99"/>
                <p:cNvSpPr/>
                <p:nvPr/>
              </p:nvSpPr>
              <p:spPr>
                <a:xfrm>
                  <a:off x="2719080" y="3101760"/>
                  <a:ext cx="133200" cy="2052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34" h="21">
                      <a:moveTo>
                        <a:pt x="2" y="21"/>
                      </a:moveTo>
                      <a:lnTo>
                        <a:pt x="2" y="21"/>
                      </a:lnTo>
                      <a:lnTo>
                        <a:pt x="12" y="19"/>
                      </a:lnTo>
                      <a:lnTo>
                        <a:pt x="20" y="17"/>
                      </a:lnTo>
                      <a:lnTo>
                        <a:pt x="29" y="16"/>
                      </a:lnTo>
                      <a:lnTo>
                        <a:pt x="39" y="15"/>
                      </a:lnTo>
                      <a:lnTo>
                        <a:pt x="48" y="13"/>
                      </a:lnTo>
                      <a:lnTo>
                        <a:pt x="58" y="12"/>
                      </a:lnTo>
                      <a:lnTo>
                        <a:pt x="67" y="12"/>
                      </a:lnTo>
                      <a:lnTo>
                        <a:pt x="76" y="12"/>
                      </a:lnTo>
                      <a:lnTo>
                        <a:pt x="85" y="12"/>
                      </a:lnTo>
                      <a:lnTo>
                        <a:pt x="93" y="11"/>
                      </a:lnTo>
                      <a:lnTo>
                        <a:pt x="102" y="11"/>
                      </a:lnTo>
                      <a:lnTo>
                        <a:pt x="110" y="10"/>
                      </a:lnTo>
                      <a:lnTo>
                        <a:pt x="116" y="10"/>
                      </a:lnTo>
                      <a:lnTo>
                        <a:pt x="122" y="9"/>
                      </a:lnTo>
                      <a:lnTo>
                        <a:pt x="129" y="8"/>
                      </a:lnTo>
                      <a:lnTo>
                        <a:pt x="134" y="5"/>
                      </a:lnTo>
                      <a:lnTo>
                        <a:pt x="131" y="0"/>
                      </a:lnTo>
                      <a:lnTo>
                        <a:pt x="127" y="1"/>
                      </a:lnTo>
                      <a:lnTo>
                        <a:pt x="122" y="2"/>
                      </a:lnTo>
                      <a:lnTo>
                        <a:pt x="115" y="3"/>
                      </a:lnTo>
                      <a:lnTo>
                        <a:pt x="108" y="4"/>
                      </a:lnTo>
                      <a:lnTo>
                        <a:pt x="102" y="4"/>
                      </a:lnTo>
                      <a:lnTo>
                        <a:pt x="93" y="5"/>
                      </a:lnTo>
                      <a:lnTo>
                        <a:pt x="85" y="5"/>
                      </a:lnTo>
                      <a:lnTo>
                        <a:pt x="76" y="5"/>
                      </a:lnTo>
                      <a:lnTo>
                        <a:pt x="67" y="5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8" y="8"/>
                      </a:lnTo>
                      <a:lnTo>
                        <a:pt x="28" y="9"/>
                      </a:lnTo>
                      <a:lnTo>
                        <a:pt x="19" y="11"/>
                      </a:lnTo>
                      <a:lnTo>
                        <a:pt x="9" y="12"/>
                      </a:lnTo>
                      <a:lnTo>
                        <a:pt x="0" y="15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00"/>
                <p:cNvSpPr/>
                <p:nvPr/>
              </p:nvSpPr>
              <p:spPr>
                <a:xfrm>
                  <a:off x="2645640" y="3114720"/>
                  <a:ext cx="75240" cy="5004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76" h="53">
                      <a:moveTo>
                        <a:pt x="7" y="50"/>
                      </a:move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12" y="48"/>
                      </a:lnTo>
                      <a:lnTo>
                        <a:pt x="18" y="41"/>
                      </a:lnTo>
                      <a:lnTo>
                        <a:pt x="26" y="34"/>
                      </a:lnTo>
                      <a:lnTo>
                        <a:pt x="36" y="26"/>
                      </a:lnTo>
                      <a:lnTo>
                        <a:pt x="48" y="18"/>
                      </a:lnTo>
                      <a:lnTo>
                        <a:pt x="61" y="11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59" y="6"/>
                      </a:lnTo>
                      <a:lnTo>
                        <a:pt x="45" y="13"/>
                      </a:lnTo>
                      <a:lnTo>
                        <a:pt x="33" y="20"/>
                      </a:lnTo>
                      <a:lnTo>
                        <a:pt x="22" y="29"/>
                      </a:lnTo>
                      <a:lnTo>
                        <a:pt x="13" y="36"/>
                      </a:lnTo>
                      <a:lnTo>
                        <a:pt x="7" y="43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0" y="51"/>
                      </a:lnTo>
                      <a:lnTo>
                        <a:pt x="2" y="48"/>
                      </a:lnTo>
                      <a:lnTo>
                        <a:pt x="0" y="50"/>
                      </a:lnTo>
                      <a:lnTo>
                        <a:pt x="0" y="51"/>
                      </a:lnTo>
                      <a:lnTo>
                        <a:pt x="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01"/>
                <p:cNvSpPr/>
                <p:nvPr/>
              </p:nvSpPr>
              <p:spPr>
                <a:xfrm>
                  <a:off x="2645640" y="3162960"/>
                  <a:ext cx="97560" cy="40788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98" h="440">
                      <a:moveTo>
                        <a:pt x="93" y="431"/>
                      </a:moveTo>
                      <a:lnTo>
                        <a:pt x="98" y="433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93" y="435"/>
                      </a:lnTo>
                      <a:lnTo>
                        <a:pt x="97" y="436"/>
                      </a:lnTo>
                      <a:lnTo>
                        <a:pt x="93" y="435"/>
                      </a:lnTo>
                      <a:lnTo>
                        <a:pt x="94" y="440"/>
                      </a:lnTo>
                      <a:lnTo>
                        <a:pt x="97" y="436"/>
                      </a:lnTo>
                      <a:lnTo>
                        <a:pt x="93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02"/>
                <p:cNvSpPr/>
                <p:nvPr/>
              </p:nvSpPr>
              <p:spPr>
                <a:xfrm>
                  <a:off x="2736720" y="3521160"/>
                  <a:ext cx="79920" cy="4428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79" h="49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69" y="3"/>
                      </a:lnTo>
                      <a:lnTo>
                        <a:pt x="59" y="6"/>
                      </a:lnTo>
                      <a:lnTo>
                        <a:pt x="53" y="10"/>
                      </a:lnTo>
                      <a:lnTo>
                        <a:pt x="46" y="13"/>
                      </a:lnTo>
                      <a:lnTo>
                        <a:pt x="39" y="16"/>
                      </a:lnTo>
                      <a:lnTo>
                        <a:pt x="32" y="20"/>
                      </a:lnTo>
                      <a:lnTo>
                        <a:pt x="26" y="23"/>
                      </a:lnTo>
                      <a:lnTo>
                        <a:pt x="21" y="28"/>
                      </a:lnTo>
                      <a:lnTo>
                        <a:pt x="16" y="30"/>
                      </a:lnTo>
                      <a:lnTo>
                        <a:pt x="12" y="35"/>
                      </a:lnTo>
                      <a:lnTo>
                        <a:pt x="9" y="37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3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5" y="48"/>
                      </a:lnTo>
                      <a:lnTo>
                        <a:pt x="8" y="46"/>
                      </a:lnTo>
                      <a:lnTo>
                        <a:pt x="10" y="44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0" y="36"/>
                      </a:lnTo>
                      <a:lnTo>
                        <a:pt x="25" y="33"/>
                      </a:lnTo>
                      <a:lnTo>
                        <a:pt x="29" y="29"/>
                      </a:lnTo>
                      <a:lnTo>
                        <a:pt x="35" y="26"/>
                      </a:lnTo>
                      <a:lnTo>
                        <a:pt x="41" y="22"/>
                      </a:lnTo>
                      <a:lnTo>
                        <a:pt x="48" y="19"/>
                      </a:lnTo>
                      <a:lnTo>
                        <a:pt x="55" y="15"/>
                      </a:lnTo>
                      <a:lnTo>
                        <a:pt x="63" y="12"/>
                      </a:lnTo>
                      <a:lnTo>
                        <a:pt x="71" y="10"/>
                      </a:lnTo>
                      <a:lnTo>
                        <a:pt x="79" y="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03"/>
                <p:cNvSpPr/>
                <p:nvPr/>
              </p:nvSpPr>
              <p:spPr>
                <a:xfrm>
                  <a:off x="2814480" y="3452400"/>
                  <a:ext cx="181440" cy="7380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83" h="79">
                      <a:moveTo>
                        <a:pt x="177" y="1"/>
                      </a:moveTo>
                      <a:lnTo>
                        <a:pt x="177" y="0"/>
                      </a:lnTo>
                      <a:lnTo>
                        <a:pt x="175" y="6"/>
                      </a:lnTo>
                      <a:lnTo>
                        <a:pt x="170" y="13"/>
                      </a:lnTo>
                      <a:lnTo>
                        <a:pt x="165" y="19"/>
                      </a:lnTo>
                      <a:lnTo>
                        <a:pt x="156" y="25"/>
                      </a:lnTo>
                      <a:lnTo>
                        <a:pt x="147" y="30"/>
                      </a:lnTo>
                      <a:lnTo>
                        <a:pt x="137" y="34"/>
                      </a:lnTo>
                      <a:lnTo>
                        <a:pt x="125" y="38"/>
                      </a:lnTo>
                      <a:lnTo>
                        <a:pt x="113" y="42"/>
                      </a:lnTo>
                      <a:lnTo>
                        <a:pt x="99" y="47"/>
                      </a:lnTo>
                      <a:lnTo>
                        <a:pt x="85" y="50"/>
                      </a:lnTo>
                      <a:lnTo>
                        <a:pt x="71" y="54"/>
                      </a:lnTo>
                      <a:lnTo>
                        <a:pt x="56" y="57"/>
                      </a:lnTo>
                      <a:lnTo>
                        <a:pt x="42" y="62"/>
                      </a:lnTo>
                      <a:lnTo>
                        <a:pt x="27" y="65"/>
                      </a:lnTo>
                      <a:lnTo>
                        <a:pt x="14" y="69"/>
                      </a:lnTo>
                      <a:lnTo>
                        <a:pt x="0" y="73"/>
                      </a:lnTo>
                      <a:lnTo>
                        <a:pt x="2" y="79"/>
                      </a:lnTo>
                      <a:lnTo>
                        <a:pt x="15" y="76"/>
                      </a:lnTo>
                      <a:lnTo>
                        <a:pt x="30" y="71"/>
                      </a:lnTo>
                      <a:lnTo>
                        <a:pt x="44" y="68"/>
                      </a:lnTo>
                      <a:lnTo>
                        <a:pt x="59" y="64"/>
                      </a:lnTo>
                      <a:lnTo>
                        <a:pt x="72" y="61"/>
                      </a:lnTo>
                      <a:lnTo>
                        <a:pt x="87" y="57"/>
                      </a:lnTo>
                      <a:lnTo>
                        <a:pt x="101" y="53"/>
                      </a:lnTo>
                      <a:lnTo>
                        <a:pt x="114" y="49"/>
                      </a:lnTo>
                      <a:lnTo>
                        <a:pt x="126" y="45"/>
                      </a:lnTo>
                      <a:lnTo>
                        <a:pt x="139" y="40"/>
                      </a:lnTo>
                      <a:lnTo>
                        <a:pt x="150" y="34"/>
                      </a:lnTo>
                      <a:lnTo>
                        <a:pt x="160" y="30"/>
                      </a:lnTo>
                      <a:lnTo>
                        <a:pt x="168" y="24"/>
                      </a:lnTo>
                      <a:lnTo>
                        <a:pt x="175" y="18"/>
                      </a:lnTo>
                      <a:lnTo>
                        <a:pt x="181" y="10"/>
                      </a:lnTo>
                      <a:lnTo>
                        <a:pt x="183" y="2"/>
                      </a:lnTo>
                      <a:lnTo>
                        <a:pt x="17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Freeform 205"/>
              <p:cNvSpPr/>
              <p:nvPr/>
            </p:nvSpPr>
            <p:spPr>
              <a:xfrm>
                <a:off x="2880720" y="3025440"/>
                <a:ext cx="115560" cy="4284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206"/>
              <p:cNvSpPr/>
              <p:nvPr/>
            </p:nvSpPr>
            <p:spPr>
              <a:xfrm>
                <a:off x="2745360" y="3177720"/>
                <a:ext cx="295200" cy="589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89680"/>
                  <a:gd name="textAreaBottom" fmla="*/ 590040 h 58968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07"/>
              <p:cNvSpPr/>
              <p:nvPr/>
            </p:nvSpPr>
            <p:spPr>
              <a:xfrm>
                <a:off x="2832840" y="3580560"/>
                <a:ext cx="19800" cy="12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208"/>
              <p:cNvSpPr/>
              <p:nvPr/>
            </p:nvSpPr>
            <p:spPr>
              <a:xfrm>
                <a:off x="2745360" y="3434040"/>
                <a:ext cx="99720" cy="153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209"/>
              <p:cNvSpPr/>
              <p:nvPr/>
            </p:nvSpPr>
            <p:spPr>
              <a:xfrm>
                <a:off x="2739240" y="3170160"/>
                <a:ext cx="29520" cy="267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10"/>
              <p:cNvSpPr/>
              <p:nvPr/>
            </p:nvSpPr>
            <p:spPr>
              <a:xfrm>
                <a:off x="2769120" y="3170160"/>
                <a:ext cx="63720" cy="1130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211"/>
              <p:cNvSpPr/>
              <p:nvPr/>
            </p:nvSpPr>
            <p:spPr>
              <a:xfrm>
                <a:off x="2818800" y="3278160"/>
                <a:ext cx="67680" cy="11520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12"/>
              <p:cNvSpPr/>
              <p:nvPr/>
            </p:nvSpPr>
            <p:spPr>
              <a:xfrm>
                <a:off x="2835360" y="3279960"/>
                <a:ext cx="33120" cy="644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13"/>
              <p:cNvSpPr/>
              <p:nvPr/>
            </p:nvSpPr>
            <p:spPr>
              <a:xfrm>
                <a:off x="2811240" y="3187080"/>
                <a:ext cx="33840" cy="96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14"/>
              <p:cNvSpPr/>
              <p:nvPr/>
            </p:nvSpPr>
            <p:spPr>
              <a:xfrm>
                <a:off x="2823120" y="3191040"/>
                <a:ext cx="73440" cy="1184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15"/>
              <p:cNvSpPr/>
              <p:nvPr/>
            </p:nvSpPr>
            <p:spPr>
              <a:xfrm>
                <a:off x="2885040" y="3304080"/>
                <a:ext cx="57600" cy="66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16"/>
              <p:cNvSpPr/>
              <p:nvPr/>
            </p:nvSpPr>
            <p:spPr>
              <a:xfrm>
                <a:off x="2928960" y="3365280"/>
                <a:ext cx="33840" cy="352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17"/>
              <p:cNvSpPr/>
              <p:nvPr/>
            </p:nvSpPr>
            <p:spPr>
              <a:xfrm>
                <a:off x="2956680" y="3326400"/>
                <a:ext cx="23400" cy="75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18"/>
              <p:cNvSpPr/>
              <p:nvPr/>
            </p:nvSpPr>
            <p:spPr>
              <a:xfrm>
                <a:off x="2962800" y="3274200"/>
                <a:ext cx="53640" cy="57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19"/>
              <p:cNvSpPr/>
              <p:nvPr/>
            </p:nvSpPr>
            <p:spPr>
              <a:xfrm>
                <a:off x="3004200" y="3285720"/>
                <a:ext cx="21960" cy="1314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20"/>
              <p:cNvSpPr/>
              <p:nvPr/>
            </p:nvSpPr>
            <p:spPr>
              <a:xfrm>
                <a:off x="2992680" y="3417120"/>
                <a:ext cx="25560" cy="1148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21"/>
              <p:cNvSpPr/>
              <p:nvPr/>
            </p:nvSpPr>
            <p:spPr>
              <a:xfrm>
                <a:off x="2976840" y="3530520"/>
                <a:ext cx="27360" cy="63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22"/>
              <p:cNvSpPr/>
              <p:nvPr/>
            </p:nvSpPr>
            <p:spPr>
              <a:xfrm>
                <a:off x="2976840" y="3588120"/>
                <a:ext cx="71280" cy="9072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23"/>
              <p:cNvSpPr/>
              <p:nvPr/>
            </p:nvSpPr>
            <p:spPr>
              <a:xfrm>
                <a:off x="2858760" y="3669840"/>
                <a:ext cx="185760" cy="1054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224"/>
              <p:cNvSpPr/>
              <p:nvPr/>
            </p:nvSpPr>
            <p:spPr>
              <a:xfrm>
                <a:off x="2838960" y="3701160"/>
                <a:ext cx="32040" cy="662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5"/>
              <p:cNvSpPr/>
              <p:nvPr/>
            </p:nvSpPr>
            <p:spPr>
              <a:xfrm>
                <a:off x="2527920" y="3010680"/>
                <a:ext cx="324720" cy="5418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226"/>
              <p:cNvSpPr/>
              <p:nvPr/>
            </p:nvSpPr>
            <p:spPr>
              <a:xfrm>
                <a:off x="2827080" y="3009240"/>
                <a:ext cx="29520" cy="313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227"/>
              <p:cNvSpPr/>
              <p:nvPr/>
            </p:nvSpPr>
            <p:spPr>
              <a:xfrm>
                <a:off x="2561760" y="3033000"/>
                <a:ext cx="271080" cy="1036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28"/>
              <p:cNvSpPr/>
              <p:nvPr/>
            </p:nvSpPr>
            <p:spPr>
              <a:xfrm>
                <a:off x="2561760" y="3131640"/>
                <a:ext cx="131400" cy="42804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229"/>
              <p:cNvSpPr/>
              <p:nvPr/>
            </p:nvSpPr>
            <p:spPr>
              <a:xfrm>
                <a:off x="2647440" y="3528360"/>
                <a:ext cx="43560" cy="280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30"/>
              <p:cNvSpPr/>
              <p:nvPr/>
            </p:nvSpPr>
            <p:spPr>
              <a:xfrm>
                <a:off x="2526120" y="3107160"/>
                <a:ext cx="129600" cy="424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1"/>
              <p:cNvSpPr/>
              <p:nvPr/>
            </p:nvSpPr>
            <p:spPr>
              <a:xfrm>
                <a:off x="2527920" y="3005280"/>
                <a:ext cx="336960" cy="1090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32"/>
              <p:cNvSpPr/>
              <p:nvPr/>
            </p:nvSpPr>
            <p:spPr>
              <a:xfrm>
                <a:off x="2545920" y="3552840"/>
                <a:ext cx="141480" cy="2448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33"/>
              <p:cNvSpPr/>
              <p:nvPr/>
            </p:nvSpPr>
            <p:spPr>
              <a:xfrm>
                <a:off x="2540160" y="3712320"/>
                <a:ext cx="25560" cy="100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34"/>
              <p:cNvSpPr/>
              <p:nvPr/>
            </p:nvSpPr>
            <p:spPr>
              <a:xfrm>
                <a:off x="2544120" y="3552840"/>
                <a:ext cx="147240" cy="2448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35"/>
              <p:cNvSpPr/>
              <p:nvPr/>
            </p:nvSpPr>
            <p:spPr>
              <a:xfrm>
                <a:off x="2304720" y="3187080"/>
                <a:ext cx="246600" cy="56016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36"/>
              <p:cNvSpPr/>
              <p:nvPr/>
            </p:nvSpPr>
            <p:spPr>
              <a:xfrm>
                <a:off x="2300760" y="3187080"/>
                <a:ext cx="21600" cy="200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237"/>
              <p:cNvSpPr/>
              <p:nvPr/>
            </p:nvSpPr>
            <p:spPr>
              <a:xfrm>
                <a:off x="2318400" y="3380400"/>
                <a:ext cx="73800" cy="162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238"/>
              <p:cNvSpPr/>
              <p:nvPr/>
            </p:nvSpPr>
            <p:spPr>
              <a:xfrm>
                <a:off x="2342520" y="3391200"/>
                <a:ext cx="47880" cy="536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239"/>
              <p:cNvSpPr/>
              <p:nvPr/>
            </p:nvSpPr>
            <p:spPr>
              <a:xfrm>
                <a:off x="2342520" y="3441240"/>
                <a:ext cx="211320" cy="3078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240"/>
              <p:cNvSpPr/>
              <p:nvPr/>
            </p:nvSpPr>
            <p:spPr>
              <a:xfrm>
                <a:off x="2814840" y="3244680"/>
                <a:ext cx="418320" cy="91836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918360"/>
                  <a:gd name="textAreaBottom" fmla="*/ 918720 h 91836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241"/>
              <p:cNvSpPr/>
              <p:nvPr/>
            </p:nvSpPr>
            <p:spPr>
              <a:xfrm>
                <a:off x="3098520" y="3241080"/>
                <a:ext cx="101520" cy="4356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242"/>
              <p:cNvSpPr/>
              <p:nvPr/>
            </p:nvSpPr>
            <p:spPr>
              <a:xfrm>
                <a:off x="3187800" y="3675240"/>
                <a:ext cx="53640" cy="2894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243"/>
              <p:cNvSpPr/>
              <p:nvPr/>
            </p:nvSpPr>
            <p:spPr>
              <a:xfrm>
                <a:off x="3143880" y="3957120"/>
                <a:ext cx="95760" cy="1555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244"/>
              <p:cNvSpPr/>
              <p:nvPr/>
            </p:nvSpPr>
            <p:spPr>
              <a:xfrm>
                <a:off x="3008520" y="4103640"/>
                <a:ext cx="145440" cy="66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245"/>
              <p:cNvSpPr/>
              <p:nvPr/>
            </p:nvSpPr>
            <p:spPr>
              <a:xfrm>
                <a:off x="2809080" y="3630600"/>
                <a:ext cx="207360" cy="5342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534240"/>
                  <a:gd name="textAreaBottom" fmla="*/ 534600 h 53424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246"/>
              <p:cNvSpPr/>
              <p:nvPr/>
            </p:nvSpPr>
            <p:spPr>
              <a:xfrm>
                <a:off x="2814840" y="3537720"/>
                <a:ext cx="203400" cy="10368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247"/>
              <p:cNvSpPr/>
              <p:nvPr/>
            </p:nvSpPr>
            <p:spPr>
              <a:xfrm>
                <a:off x="3006720" y="3545280"/>
                <a:ext cx="145440" cy="2930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248"/>
              <p:cNvSpPr/>
              <p:nvPr/>
            </p:nvSpPr>
            <p:spPr>
              <a:xfrm>
                <a:off x="3030480" y="3584160"/>
                <a:ext cx="119160" cy="240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49"/>
              <p:cNvSpPr/>
              <p:nvPr/>
            </p:nvSpPr>
            <p:spPr>
              <a:xfrm>
                <a:off x="3030480" y="3239280"/>
                <a:ext cx="75240" cy="3463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250"/>
              <p:cNvSpPr/>
              <p:nvPr/>
            </p:nvSpPr>
            <p:spPr>
              <a:xfrm>
                <a:off x="1620720" y="3278160"/>
                <a:ext cx="538200" cy="934920"/>
              </a:xfrm>
              <a:custGeom>
                <a:avLst/>
                <a:gdLst>
                  <a:gd name="textAreaLeft" fmla="*/ 0 w 538200"/>
                  <a:gd name="textAreaRight" fmla="*/ 538200 w 53820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251"/>
              <p:cNvSpPr/>
              <p:nvPr/>
            </p:nvSpPr>
            <p:spPr>
              <a:xfrm>
                <a:off x="1926000" y="3274200"/>
                <a:ext cx="95040" cy="510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252"/>
              <p:cNvSpPr/>
              <p:nvPr/>
            </p:nvSpPr>
            <p:spPr>
              <a:xfrm>
                <a:off x="1816200" y="3630600"/>
                <a:ext cx="121320" cy="1368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253"/>
              <p:cNvSpPr/>
              <p:nvPr/>
            </p:nvSpPr>
            <p:spPr>
              <a:xfrm>
                <a:off x="1614960" y="3630600"/>
                <a:ext cx="205200" cy="1666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54"/>
              <p:cNvSpPr/>
              <p:nvPr/>
            </p:nvSpPr>
            <p:spPr>
              <a:xfrm>
                <a:off x="1614960" y="3792240"/>
                <a:ext cx="298800" cy="41328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55"/>
              <p:cNvSpPr/>
              <p:nvPr/>
            </p:nvSpPr>
            <p:spPr>
              <a:xfrm>
                <a:off x="1908000" y="4137120"/>
                <a:ext cx="193320" cy="81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81360"/>
                  <a:gd name="textAreaBottom" fmla="*/ 81360 h 8136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56"/>
              <p:cNvSpPr/>
              <p:nvPr/>
            </p:nvSpPr>
            <p:spPr>
              <a:xfrm>
                <a:off x="2093400" y="401472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57"/>
              <p:cNvSpPr/>
              <p:nvPr/>
            </p:nvSpPr>
            <p:spPr>
              <a:xfrm>
                <a:off x="2029680" y="3289320"/>
                <a:ext cx="135360" cy="7268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726840"/>
                  <a:gd name="textAreaBottom" fmla="*/ 727200 h 72684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58"/>
              <p:cNvSpPr/>
              <p:nvPr/>
            </p:nvSpPr>
            <p:spPr>
              <a:xfrm>
                <a:off x="1535040" y="3367080"/>
                <a:ext cx="129600" cy="907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59"/>
              <p:cNvSpPr/>
              <p:nvPr/>
            </p:nvSpPr>
            <p:spPr>
              <a:xfrm>
                <a:off x="1630800" y="3389400"/>
                <a:ext cx="37800" cy="478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260"/>
              <p:cNvSpPr/>
              <p:nvPr/>
            </p:nvSpPr>
            <p:spPr>
              <a:xfrm>
                <a:off x="1563120" y="3361680"/>
                <a:ext cx="77760" cy="349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261"/>
              <p:cNvSpPr/>
              <p:nvPr/>
            </p:nvSpPr>
            <p:spPr>
              <a:xfrm>
                <a:off x="1527120" y="3361680"/>
                <a:ext cx="39600" cy="532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262"/>
              <p:cNvSpPr/>
              <p:nvPr/>
            </p:nvSpPr>
            <p:spPr>
              <a:xfrm>
                <a:off x="1537200" y="3408120"/>
                <a:ext cx="53640" cy="21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263"/>
              <p:cNvSpPr/>
              <p:nvPr/>
            </p:nvSpPr>
            <p:spPr>
              <a:xfrm>
                <a:off x="1582920" y="3418920"/>
                <a:ext cx="57600" cy="42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64"/>
              <p:cNvSpPr/>
              <p:nvPr/>
            </p:nvSpPr>
            <p:spPr>
              <a:xfrm>
                <a:off x="1634760" y="3434040"/>
                <a:ext cx="35640" cy="277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65"/>
              <p:cNvSpPr/>
              <p:nvPr/>
            </p:nvSpPr>
            <p:spPr>
              <a:xfrm>
                <a:off x="1527120" y="3430440"/>
                <a:ext cx="119160" cy="1015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66"/>
              <p:cNvSpPr/>
              <p:nvPr/>
            </p:nvSpPr>
            <p:spPr>
              <a:xfrm>
                <a:off x="1527120" y="3426480"/>
                <a:ext cx="93240" cy="277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267"/>
              <p:cNvSpPr/>
              <p:nvPr/>
            </p:nvSpPr>
            <p:spPr>
              <a:xfrm>
                <a:off x="1616760" y="3450600"/>
                <a:ext cx="33840" cy="590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268"/>
              <p:cNvSpPr/>
              <p:nvPr/>
            </p:nvSpPr>
            <p:spPr>
              <a:xfrm>
                <a:off x="1620720" y="3510000"/>
                <a:ext cx="29520" cy="241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269"/>
              <p:cNvSpPr/>
              <p:nvPr/>
            </p:nvSpPr>
            <p:spPr>
              <a:xfrm>
                <a:off x="1567080" y="3481920"/>
                <a:ext cx="53640" cy="518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270"/>
              <p:cNvSpPr/>
              <p:nvPr/>
            </p:nvSpPr>
            <p:spPr>
              <a:xfrm>
                <a:off x="1524960" y="348192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71"/>
              <p:cNvSpPr/>
              <p:nvPr/>
            </p:nvSpPr>
            <p:spPr>
              <a:xfrm>
                <a:off x="1471320" y="3480480"/>
                <a:ext cx="145440" cy="1389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72"/>
              <p:cNvSpPr/>
              <p:nvPr/>
            </p:nvSpPr>
            <p:spPr>
              <a:xfrm>
                <a:off x="1513080" y="3478320"/>
                <a:ext cx="59400" cy="90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73"/>
              <p:cNvSpPr/>
              <p:nvPr/>
            </p:nvSpPr>
            <p:spPr>
              <a:xfrm>
                <a:off x="1568880" y="3484080"/>
                <a:ext cx="50040" cy="75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74"/>
              <p:cNvSpPr/>
              <p:nvPr/>
            </p:nvSpPr>
            <p:spPr>
              <a:xfrm>
                <a:off x="1586880" y="3558240"/>
                <a:ext cx="32040" cy="295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75"/>
              <p:cNvSpPr/>
              <p:nvPr/>
            </p:nvSpPr>
            <p:spPr>
              <a:xfrm>
                <a:off x="1542960" y="3532320"/>
                <a:ext cx="49680" cy="536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76"/>
              <p:cNvSpPr/>
              <p:nvPr/>
            </p:nvSpPr>
            <p:spPr>
              <a:xfrm>
                <a:off x="1553040" y="3539880"/>
                <a:ext cx="32040" cy="514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277"/>
              <p:cNvSpPr/>
              <p:nvPr/>
            </p:nvSpPr>
            <p:spPr>
              <a:xfrm>
                <a:off x="1541160" y="3589920"/>
                <a:ext cx="43560" cy="313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278"/>
              <p:cNvSpPr/>
              <p:nvPr/>
            </p:nvSpPr>
            <p:spPr>
              <a:xfrm>
                <a:off x="1509120" y="3575160"/>
                <a:ext cx="37800" cy="44280"/>
              </a:xfrm>
              <a:custGeom>
                <a:avLst/>
                <a:gdLst>
                  <a:gd name="textAreaLeft" fmla="*/ 0 w 37800"/>
                  <a:gd name="textAreaRight" fmla="*/ 37800 w 37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279"/>
              <p:cNvSpPr/>
              <p:nvPr/>
            </p:nvSpPr>
            <p:spPr>
              <a:xfrm>
                <a:off x="1469520" y="3563640"/>
                <a:ext cx="43560" cy="165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280"/>
              <p:cNvSpPr/>
              <p:nvPr/>
            </p:nvSpPr>
            <p:spPr>
              <a:xfrm>
                <a:off x="1493280" y="3521160"/>
                <a:ext cx="81720" cy="38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281"/>
              <p:cNvSpPr/>
              <p:nvPr/>
            </p:nvSpPr>
            <p:spPr>
              <a:xfrm>
                <a:off x="1491120" y="3517560"/>
                <a:ext cx="57600" cy="23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82"/>
              <p:cNvSpPr/>
              <p:nvPr/>
            </p:nvSpPr>
            <p:spPr>
              <a:xfrm>
                <a:off x="1544760" y="3535920"/>
                <a:ext cx="32040" cy="25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83"/>
              <p:cNvSpPr/>
              <p:nvPr/>
            </p:nvSpPr>
            <p:spPr>
              <a:xfrm>
                <a:off x="1941840" y="3769920"/>
                <a:ext cx="93240" cy="105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84"/>
              <p:cNvSpPr/>
              <p:nvPr/>
            </p:nvSpPr>
            <p:spPr>
              <a:xfrm>
                <a:off x="2029680" y="3873600"/>
                <a:ext cx="15480" cy="100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87"/>
              <p:cNvSpPr/>
              <p:nvPr/>
            </p:nvSpPr>
            <p:spPr>
              <a:xfrm>
                <a:off x="1128600" y="2890080"/>
                <a:ext cx="99360" cy="9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1425600" y="2984760"/>
                <a:ext cx="311040" cy="5288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8840"/>
                  <a:gd name="textAreaBottom" fmla="*/ 528840 h 52884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1439640" y="2979360"/>
                <a:ext cx="300960" cy="5230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97"/>
              <p:cNvSpPr/>
              <p:nvPr/>
            </p:nvSpPr>
            <p:spPr>
              <a:xfrm>
                <a:off x="1421280" y="2981520"/>
                <a:ext cx="21960" cy="16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1423080" y="2994120"/>
                <a:ext cx="295200" cy="5230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99"/>
              <p:cNvSpPr/>
              <p:nvPr/>
            </p:nvSpPr>
            <p:spPr>
              <a:xfrm>
                <a:off x="1712520" y="3500640"/>
                <a:ext cx="27720" cy="15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300"/>
              <p:cNvSpPr/>
              <p:nvPr/>
            </p:nvSpPr>
            <p:spPr>
              <a:xfrm>
                <a:off x="901080" y="4129560"/>
                <a:ext cx="456480" cy="2300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58" h="246">
                    <a:moveTo>
                      <a:pt x="393" y="246"/>
                    </a:moveTo>
                    <a:lnTo>
                      <a:pt x="406" y="245"/>
                    </a:lnTo>
                    <a:lnTo>
                      <a:pt x="418" y="242"/>
                    </a:lnTo>
                    <a:lnTo>
                      <a:pt x="429" y="235"/>
                    </a:lnTo>
                    <a:lnTo>
                      <a:pt x="438" y="228"/>
                    </a:lnTo>
                    <a:lnTo>
                      <a:pt x="446" y="219"/>
                    </a:lnTo>
                    <a:lnTo>
                      <a:pt x="452" y="207"/>
                    </a:lnTo>
                    <a:lnTo>
                      <a:pt x="455" y="196"/>
                    </a:lnTo>
                    <a:lnTo>
                      <a:pt x="458" y="183"/>
                    </a:lnTo>
                    <a:lnTo>
                      <a:pt x="458" y="63"/>
                    </a:lnTo>
                    <a:lnTo>
                      <a:pt x="455" y="51"/>
                    </a:lnTo>
                    <a:lnTo>
                      <a:pt x="452" y="39"/>
                    </a:lnTo>
                    <a:lnTo>
                      <a:pt x="446" y="28"/>
                    </a:lnTo>
                    <a:lnTo>
                      <a:pt x="438" y="18"/>
                    </a:lnTo>
                    <a:lnTo>
                      <a:pt x="429" y="10"/>
                    </a:lnTo>
                    <a:lnTo>
                      <a:pt x="418" y="5"/>
                    </a:lnTo>
                    <a:lnTo>
                      <a:pt x="406" y="1"/>
                    </a:lnTo>
                    <a:lnTo>
                      <a:pt x="393" y="0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39" y="5"/>
                    </a:lnTo>
                    <a:lnTo>
                      <a:pt x="29" y="10"/>
                    </a:lnTo>
                    <a:lnTo>
                      <a:pt x="20" y="18"/>
                    </a:lnTo>
                    <a:lnTo>
                      <a:pt x="12" y="28"/>
                    </a:lnTo>
                    <a:lnTo>
                      <a:pt x="6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83"/>
                    </a:lnTo>
                    <a:lnTo>
                      <a:pt x="1" y="196"/>
                    </a:lnTo>
                    <a:lnTo>
                      <a:pt x="6" y="207"/>
                    </a:lnTo>
                    <a:lnTo>
                      <a:pt x="12" y="219"/>
                    </a:lnTo>
                    <a:lnTo>
                      <a:pt x="20" y="228"/>
                    </a:lnTo>
                    <a:lnTo>
                      <a:pt x="29" y="235"/>
                    </a:lnTo>
                    <a:lnTo>
                      <a:pt x="39" y="242"/>
                    </a:lnTo>
                    <a:lnTo>
                      <a:pt x="52" y="245"/>
                    </a:lnTo>
                    <a:lnTo>
                      <a:pt x="65" y="246"/>
                    </a:lnTo>
                    <a:lnTo>
                      <a:pt x="393" y="24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301"/>
              <p:cNvSpPr/>
              <p:nvPr/>
            </p:nvSpPr>
            <p:spPr>
              <a:xfrm>
                <a:off x="129384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0"/>
                    </a:lnTo>
                    <a:lnTo>
                      <a:pt x="24" y="55"/>
                    </a:lnTo>
                    <a:lnTo>
                      <a:pt x="13" y="59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5" y="61"/>
                    </a:lnTo>
                    <a:lnTo>
                      <a:pt x="37" y="54"/>
                    </a:lnTo>
                    <a:lnTo>
                      <a:pt x="47" y="46"/>
                    </a:lnTo>
                    <a:lnTo>
                      <a:pt x="55" y="37"/>
                    </a:lnTo>
                    <a:lnTo>
                      <a:pt x="62" y="25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135360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129384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5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304"/>
              <p:cNvSpPr/>
              <p:nvPr/>
            </p:nvSpPr>
            <p:spPr>
              <a:xfrm>
                <a:off x="964800" y="4127760"/>
                <a:ext cx="329040" cy="540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28" h="6">
                    <a:moveTo>
                      <a:pt x="0" y="6"/>
                    </a:moveTo>
                    <a:lnTo>
                      <a:pt x="0" y="6"/>
                    </a:lnTo>
                    <a:lnTo>
                      <a:pt x="328" y="6"/>
                    </a:lnTo>
                    <a:lnTo>
                      <a:pt x="328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899280" y="41277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0" y="43"/>
                    </a:lnTo>
                    <a:lnTo>
                      <a:pt x="16" y="33"/>
                    </a:lnTo>
                    <a:lnTo>
                      <a:pt x="23" y="25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40" y="6"/>
                    </a:lnTo>
                    <a:lnTo>
                      <a:pt x="29" y="12"/>
                    </a:lnTo>
                    <a:lnTo>
                      <a:pt x="19" y="20"/>
                    </a:lnTo>
                    <a:lnTo>
                      <a:pt x="11" y="30"/>
                    </a:lnTo>
                    <a:lnTo>
                      <a:pt x="4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899280" y="418896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6" y="120"/>
                    </a:move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899280" y="4300560"/>
                <a:ext cx="65520" cy="608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59"/>
                    </a:lnTo>
                    <a:lnTo>
                      <a:pt x="42" y="55"/>
                    </a:lnTo>
                    <a:lnTo>
                      <a:pt x="32" y="50"/>
                    </a:lnTo>
                    <a:lnTo>
                      <a:pt x="23" y="43"/>
                    </a:lnTo>
                    <a:lnTo>
                      <a:pt x="16" y="35"/>
                    </a:lnTo>
                    <a:lnTo>
                      <a:pt x="10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5"/>
                    </a:lnTo>
                    <a:lnTo>
                      <a:pt x="11" y="37"/>
                    </a:lnTo>
                    <a:lnTo>
                      <a:pt x="19" y="46"/>
                    </a:lnTo>
                    <a:lnTo>
                      <a:pt x="29" y="54"/>
                    </a:lnTo>
                    <a:lnTo>
                      <a:pt x="40" y="61"/>
                    </a:lnTo>
                    <a:lnTo>
                      <a:pt x="53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964800" y="4358160"/>
                <a:ext cx="329040" cy="324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28" h="5">
                    <a:moveTo>
                      <a:pt x="328" y="0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28" y="5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09"/>
              <p:cNvSpPr/>
              <p:nvPr/>
            </p:nvSpPr>
            <p:spPr>
              <a:xfrm>
                <a:off x="950760" y="4157280"/>
                <a:ext cx="360720" cy="174600"/>
              </a:xfrm>
              <a:custGeom>
                <a:avLst/>
                <a:gdLst>
                  <a:gd name="textAreaLeft" fmla="*/ 0 w 360720"/>
                  <a:gd name="textAreaRight" fmla="*/ 361080 w 360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63" h="187">
                    <a:moveTo>
                      <a:pt x="298" y="187"/>
                    </a:moveTo>
                    <a:lnTo>
                      <a:pt x="311" y="185"/>
                    </a:lnTo>
                    <a:lnTo>
                      <a:pt x="323" y="182"/>
                    </a:lnTo>
                    <a:lnTo>
                      <a:pt x="334" y="176"/>
                    </a:lnTo>
                    <a:lnTo>
                      <a:pt x="343" y="168"/>
                    </a:lnTo>
                    <a:lnTo>
                      <a:pt x="351" y="159"/>
                    </a:lnTo>
                    <a:lnTo>
                      <a:pt x="357" y="147"/>
                    </a:lnTo>
                    <a:lnTo>
                      <a:pt x="361" y="136"/>
                    </a:lnTo>
                    <a:lnTo>
                      <a:pt x="363" y="123"/>
                    </a:lnTo>
                    <a:lnTo>
                      <a:pt x="363" y="63"/>
                    </a:lnTo>
                    <a:lnTo>
                      <a:pt x="361" y="51"/>
                    </a:lnTo>
                    <a:lnTo>
                      <a:pt x="357" y="39"/>
                    </a:lnTo>
                    <a:lnTo>
                      <a:pt x="351" y="28"/>
                    </a:lnTo>
                    <a:lnTo>
                      <a:pt x="343" y="18"/>
                    </a:lnTo>
                    <a:lnTo>
                      <a:pt x="334" y="10"/>
                    </a:lnTo>
                    <a:lnTo>
                      <a:pt x="323" y="5"/>
                    </a:lnTo>
                    <a:lnTo>
                      <a:pt x="311" y="1"/>
                    </a:lnTo>
                    <a:lnTo>
                      <a:pt x="298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9" y="5"/>
                    </a:lnTo>
                    <a:lnTo>
                      <a:pt x="27" y="10"/>
                    </a:lnTo>
                    <a:lnTo>
                      <a:pt x="18" y="18"/>
                    </a:lnTo>
                    <a:lnTo>
                      <a:pt x="10" y="28"/>
                    </a:lnTo>
                    <a:lnTo>
                      <a:pt x="4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4" y="147"/>
                    </a:lnTo>
                    <a:lnTo>
                      <a:pt x="10" y="159"/>
                    </a:lnTo>
                    <a:lnTo>
                      <a:pt x="18" y="168"/>
                    </a:lnTo>
                    <a:lnTo>
                      <a:pt x="27" y="176"/>
                    </a:lnTo>
                    <a:lnTo>
                      <a:pt x="39" y="182"/>
                    </a:lnTo>
                    <a:lnTo>
                      <a:pt x="50" y="185"/>
                    </a:lnTo>
                    <a:lnTo>
                      <a:pt x="63" y="187"/>
                    </a:lnTo>
                    <a:lnTo>
                      <a:pt x="298" y="187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1247760" y="4272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1"/>
                    </a:lnTo>
                    <a:lnTo>
                      <a:pt x="24" y="57"/>
                    </a:lnTo>
                    <a:lnTo>
                      <a:pt x="13" y="60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7" y="61"/>
                    </a:lnTo>
                    <a:lnTo>
                      <a:pt x="37" y="55"/>
                    </a:lnTo>
                    <a:lnTo>
                      <a:pt x="47" y="47"/>
                    </a:lnTo>
                    <a:lnTo>
                      <a:pt x="55" y="37"/>
                    </a:lnTo>
                    <a:lnTo>
                      <a:pt x="62" y="26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1309680" y="4216680"/>
                <a:ext cx="3960" cy="55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0" y="0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1247760" y="4155480"/>
                <a:ext cx="65880" cy="60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7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1014480" y="4155480"/>
                <a:ext cx="233280" cy="54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35" h="6">
                    <a:moveTo>
                      <a:pt x="0" y="6"/>
                    </a:moveTo>
                    <a:lnTo>
                      <a:pt x="0" y="6"/>
                    </a:lnTo>
                    <a:lnTo>
                      <a:pt x="235" y="6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947160" y="4155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1" y="43"/>
                    </a:lnTo>
                    <a:lnTo>
                      <a:pt x="16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3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4" y="2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947160" y="4216680"/>
                <a:ext cx="5760" cy="558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6" y="60"/>
                    </a:move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947160" y="4272480"/>
                <a:ext cx="67320" cy="60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60"/>
                    </a:lnTo>
                    <a:lnTo>
                      <a:pt x="43" y="57"/>
                    </a:lnTo>
                    <a:lnTo>
                      <a:pt x="34" y="51"/>
                    </a:lnTo>
                    <a:lnTo>
                      <a:pt x="24" y="43"/>
                    </a:lnTo>
                    <a:lnTo>
                      <a:pt x="16" y="35"/>
                    </a:lnTo>
                    <a:lnTo>
                      <a:pt x="11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6" y="26"/>
                    </a:lnTo>
                    <a:lnTo>
                      <a:pt x="12" y="37"/>
                    </a:lnTo>
                    <a:lnTo>
                      <a:pt x="20" y="47"/>
                    </a:lnTo>
                    <a:lnTo>
                      <a:pt x="30" y="55"/>
                    </a:lnTo>
                    <a:lnTo>
                      <a:pt x="42" y="61"/>
                    </a:lnTo>
                    <a:lnTo>
                      <a:pt x="54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17"/>
              <p:cNvSpPr/>
              <p:nvPr/>
            </p:nvSpPr>
            <p:spPr>
              <a:xfrm>
                <a:off x="1014480" y="4329720"/>
                <a:ext cx="233280" cy="3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35" h="5">
                    <a:moveTo>
                      <a:pt x="235" y="0"/>
                    </a:moveTo>
                    <a:lnTo>
                      <a:pt x="23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35" y="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18"/>
              <p:cNvSpPr/>
              <p:nvPr/>
            </p:nvSpPr>
            <p:spPr>
              <a:xfrm>
                <a:off x="1116360" y="4155480"/>
                <a:ext cx="33840" cy="177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4" h="191">
                    <a:moveTo>
                      <a:pt x="17" y="191"/>
                    </a:moveTo>
                    <a:lnTo>
                      <a:pt x="20" y="191"/>
                    </a:lnTo>
                    <a:lnTo>
                      <a:pt x="24" y="190"/>
                    </a:lnTo>
                    <a:lnTo>
                      <a:pt x="26" y="189"/>
                    </a:lnTo>
                    <a:lnTo>
                      <a:pt x="30" y="186"/>
                    </a:lnTo>
                    <a:lnTo>
                      <a:pt x="32" y="184"/>
                    </a:lnTo>
                    <a:lnTo>
                      <a:pt x="33" y="180"/>
                    </a:lnTo>
                    <a:lnTo>
                      <a:pt x="34" y="177"/>
                    </a:lnTo>
                    <a:lnTo>
                      <a:pt x="34" y="175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8" y="189"/>
                    </a:lnTo>
                    <a:lnTo>
                      <a:pt x="10" y="190"/>
                    </a:lnTo>
                    <a:lnTo>
                      <a:pt x="13" y="191"/>
                    </a:lnTo>
                    <a:lnTo>
                      <a:pt x="17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19"/>
              <p:cNvSpPr/>
              <p:nvPr/>
            </p:nvSpPr>
            <p:spPr>
              <a:xfrm>
                <a:off x="1132560" y="4318920"/>
                <a:ext cx="19800" cy="165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5" y="0"/>
                    </a:moveTo>
                    <a:lnTo>
                      <a:pt x="15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20"/>
              <p:cNvSpPr/>
              <p:nvPr/>
            </p:nvSpPr>
            <p:spPr>
              <a:xfrm>
                <a:off x="1148400" y="4170240"/>
                <a:ext cx="3960" cy="148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4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4" y="15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1132560" y="4154040"/>
                <a:ext cx="19800" cy="16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6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18" y="13"/>
                    </a:lnTo>
                    <a:lnTo>
                      <a:pt x="17" y="9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23"/>
              <p:cNvSpPr/>
              <p:nvPr/>
            </p:nvSpPr>
            <p:spPr>
              <a:xfrm>
                <a:off x="1114560" y="4154040"/>
                <a:ext cx="18000" cy="16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6" y="20"/>
                    </a:moveTo>
                    <a:lnTo>
                      <a:pt x="6" y="20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24"/>
              <p:cNvSpPr/>
              <p:nvPr/>
            </p:nvSpPr>
            <p:spPr>
              <a:xfrm>
                <a:off x="1114560" y="4170240"/>
                <a:ext cx="5760" cy="148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6" y="159"/>
                    </a:moveTo>
                    <a:lnTo>
                      <a:pt x="6" y="1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25"/>
              <p:cNvSpPr/>
              <p:nvPr/>
            </p:nvSpPr>
            <p:spPr>
              <a:xfrm>
                <a:off x="1114560" y="4318920"/>
                <a:ext cx="18000" cy="165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4"/>
                    </a:moveTo>
                    <a:lnTo>
                      <a:pt x="20" y="14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26"/>
              <p:cNvSpPr/>
              <p:nvPr/>
            </p:nvSpPr>
            <p:spPr>
              <a:xfrm>
                <a:off x="1132560" y="43318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27"/>
              <p:cNvSpPr/>
              <p:nvPr/>
            </p:nvSpPr>
            <p:spPr>
              <a:xfrm>
                <a:off x="1457280" y="4324320"/>
                <a:ext cx="15948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328"/>
              <p:cNvSpPr/>
              <p:nvPr/>
            </p:nvSpPr>
            <p:spPr>
              <a:xfrm>
                <a:off x="1612800" y="4322520"/>
                <a:ext cx="6120" cy="367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3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329"/>
              <p:cNvSpPr/>
              <p:nvPr/>
            </p:nvSpPr>
            <p:spPr>
              <a:xfrm>
                <a:off x="1455480" y="4322520"/>
                <a:ext cx="161280" cy="36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1" h="6">
                    <a:moveTo>
                      <a:pt x="5" y="2"/>
                    </a:moveTo>
                    <a:lnTo>
                      <a:pt x="2" y="6"/>
                    </a:lnTo>
                    <a:lnTo>
                      <a:pt x="161" y="6"/>
                    </a:lnTo>
                    <a:lnTo>
                      <a:pt x="16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30"/>
              <p:cNvSpPr/>
              <p:nvPr/>
            </p:nvSpPr>
            <p:spPr>
              <a:xfrm>
                <a:off x="1455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1">
                    <a:moveTo>
                      <a:pt x="2" y="36"/>
                    </a:moveTo>
                    <a:lnTo>
                      <a:pt x="5" y="3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31"/>
              <p:cNvSpPr/>
              <p:nvPr/>
            </p:nvSpPr>
            <p:spPr>
              <a:xfrm>
                <a:off x="1457280" y="4358160"/>
                <a:ext cx="161640" cy="3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1" h="5">
                    <a:moveTo>
                      <a:pt x="156" y="2"/>
                    </a:moveTo>
                    <a:lnTo>
                      <a:pt x="15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9" y="5"/>
                    </a:lnTo>
                    <a:lnTo>
                      <a:pt x="161" y="2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1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32"/>
              <p:cNvSpPr/>
              <p:nvPr/>
            </p:nvSpPr>
            <p:spPr>
              <a:xfrm>
                <a:off x="1702800" y="4324320"/>
                <a:ext cx="278640" cy="3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33"/>
              <p:cNvSpPr/>
              <p:nvPr/>
            </p:nvSpPr>
            <p:spPr>
              <a:xfrm>
                <a:off x="1979640" y="4322520"/>
                <a:ext cx="3960" cy="367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2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34"/>
              <p:cNvSpPr/>
              <p:nvPr/>
            </p:nvSpPr>
            <p:spPr>
              <a:xfrm>
                <a:off x="1698480" y="4322520"/>
                <a:ext cx="282960" cy="360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84" h="6">
                    <a:moveTo>
                      <a:pt x="6" y="2"/>
                    </a:moveTo>
                    <a:lnTo>
                      <a:pt x="3" y="6"/>
                    </a:lnTo>
                    <a:lnTo>
                      <a:pt x="284" y="6"/>
                    </a:lnTo>
                    <a:lnTo>
                      <a:pt x="28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35"/>
              <p:cNvSpPr/>
              <p:nvPr/>
            </p:nvSpPr>
            <p:spPr>
              <a:xfrm>
                <a:off x="1698480" y="4324320"/>
                <a:ext cx="5760" cy="36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36"/>
              <p:cNvSpPr/>
              <p:nvPr/>
            </p:nvSpPr>
            <p:spPr>
              <a:xfrm>
                <a:off x="1702800" y="4358160"/>
                <a:ext cx="281160" cy="32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84" h="5">
                    <a:moveTo>
                      <a:pt x="279" y="2"/>
                    </a:moveTo>
                    <a:lnTo>
                      <a:pt x="28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81" y="5"/>
                    </a:lnTo>
                    <a:lnTo>
                      <a:pt x="284" y="2"/>
                    </a:lnTo>
                    <a:lnTo>
                      <a:pt x="281" y="5"/>
                    </a:lnTo>
                    <a:lnTo>
                      <a:pt x="284" y="5"/>
                    </a:lnTo>
                    <a:lnTo>
                      <a:pt x="284" y="2"/>
                    </a:lnTo>
                    <a:lnTo>
                      <a:pt x="27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37"/>
              <p:cNvSpPr/>
              <p:nvPr/>
            </p:nvSpPr>
            <p:spPr>
              <a:xfrm>
                <a:off x="2753280" y="3201840"/>
                <a:ext cx="59400" cy="174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38"/>
              <p:cNvSpPr/>
              <p:nvPr/>
            </p:nvSpPr>
            <p:spPr>
              <a:xfrm>
                <a:off x="2747160" y="3200040"/>
                <a:ext cx="37800" cy="98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39"/>
              <p:cNvSpPr/>
              <p:nvPr/>
            </p:nvSpPr>
            <p:spPr>
              <a:xfrm>
                <a:off x="2773440" y="3292920"/>
                <a:ext cx="45360" cy="8532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40"/>
              <p:cNvSpPr/>
              <p:nvPr/>
            </p:nvSpPr>
            <p:spPr>
              <a:xfrm>
                <a:off x="2745360" y="3321000"/>
                <a:ext cx="18000" cy="702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41"/>
              <p:cNvSpPr/>
              <p:nvPr/>
            </p:nvSpPr>
            <p:spPr>
              <a:xfrm>
                <a:off x="2739240" y="3318840"/>
                <a:ext cx="29520" cy="74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42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43"/>
              <p:cNvSpPr/>
              <p:nvPr/>
            </p:nvSpPr>
            <p:spPr>
              <a:xfrm>
                <a:off x="2553840" y="3914640"/>
                <a:ext cx="83520" cy="792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44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345"/>
              <p:cNvSpPr/>
              <p:nvPr/>
            </p:nvSpPr>
            <p:spPr>
              <a:xfrm>
                <a:off x="2548080" y="4101840"/>
                <a:ext cx="83520" cy="777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2" name="Object 347"/>
                <p:cNvSpPr txBox="1"/>
                <p:nvPr/>
              </p:nvSpPr>
              <p:spPr>
                <a:xfrm>
                  <a:off x="663480" y="2530080"/>
                  <a:ext cx="16268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</m:e>
                          </m:groupChr>
                        </m:e>
                        <m:li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раз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3" name="AutoShape 349"/>
          <p:cNvSpPr/>
          <p:nvPr/>
        </p:nvSpPr>
        <p:spPr>
          <a:xfrm>
            <a:off x="4495680" y="2057400"/>
            <a:ext cx="3963960" cy="3054240"/>
          </a:xfrm>
          <a:prstGeom prst="wedgeEllipseCallout">
            <a:avLst>
              <a:gd name="adj1" fmla="val -86055"/>
              <a:gd name="adj2" fmla="val -869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a with natural exponent n is the product of n factors, each of which is equal to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50"/>
              <p:cNvSpPr txBox="1"/>
              <p:nvPr/>
            </p:nvSpPr>
            <p:spPr>
              <a:xfrm>
                <a:off x="4305240" y="5068800"/>
                <a:ext cx="3735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725400" y="212760"/>
            <a:ext cx="676116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j0078625"/>
          <p:cNvPicPr/>
          <p:nvPr/>
        </p:nvPicPr>
        <p:blipFill>
          <a:blip r:embed="rId2"/>
          <a:stretch/>
        </p:blipFill>
        <p:spPr>
          <a:xfrm>
            <a:off x="1036800" y="234936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4"/>
          <p:cNvSpPr/>
          <p:nvPr/>
        </p:nvSpPr>
        <p:spPr>
          <a:xfrm>
            <a:off x="3855960" y="1994040"/>
            <a:ext cx="3276720" cy="4419360"/>
          </a:xfrm>
          <a:prstGeom prst="foldedCorner">
            <a:avLst>
              <a:gd name="adj" fmla="val 24078"/>
            </a:avLst>
          </a:prstGeom>
          <a:solidFill>
            <a:srgbClr val="5eccf3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5"/>
              <p:cNvSpPr txBox="1"/>
              <p:nvPr/>
            </p:nvSpPr>
            <p:spPr>
              <a:xfrm>
                <a:off x="4267080" y="2209680"/>
                <a:ext cx="2455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6"/>
              <p:cNvSpPr txBox="1"/>
              <p:nvPr/>
            </p:nvSpPr>
            <p:spPr>
              <a:xfrm>
                <a:off x="4249800" y="2743200"/>
                <a:ext cx="2638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7"/>
              <p:cNvSpPr txBox="1"/>
              <p:nvPr/>
            </p:nvSpPr>
            <p:spPr>
              <a:xfrm>
                <a:off x="4273560" y="3352680"/>
                <a:ext cx="2273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4282920" y="4038480"/>
                <a:ext cx="2051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9"/>
              <p:cNvSpPr txBox="1"/>
              <p:nvPr/>
            </p:nvSpPr>
            <p:spPr>
              <a:xfrm>
                <a:off x="4237200" y="4678200"/>
                <a:ext cx="21110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828720" y="255600"/>
            <a:ext cx="7821720" cy="136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5003640" y="2655720"/>
                <a:ext cx="385452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AutoShape 4"/>
          <p:cNvSpPr/>
          <p:nvPr/>
        </p:nvSpPr>
        <p:spPr>
          <a:xfrm>
            <a:off x="380880" y="2421000"/>
            <a:ext cx="4767480" cy="2209680"/>
          </a:xfrm>
          <a:prstGeom prst="rightArrowCallout">
            <a:avLst>
              <a:gd name="adj1" fmla="val 36068"/>
              <a:gd name="adj2" fmla="val 49282"/>
              <a:gd name="adj3" fmla="val 16891"/>
              <a:gd name="adj4" fmla="val 669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gree of a, not equal to zero , with zero is equal 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2" descr=""/>
          <p:cNvPicPr/>
          <p:nvPr/>
        </p:nvPicPr>
        <p:blipFill>
          <a:blip r:embed="rId2"/>
          <a:stretch/>
        </p:blipFill>
        <p:spPr>
          <a:xfrm>
            <a:off x="324000" y="195120"/>
            <a:ext cx="8289720" cy="13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7" name="Object 3"/>
              <p:cNvSpPr txBox="1"/>
              <p:nvPr/>
            </p:nvSpPr>
            <p:spPr>
              <a:xfrm>
                <a:off x="2971800" y="2057400"/>
                <a:ext cx="4419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68" name="Group 47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569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3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3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3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3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3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3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3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3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3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3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4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4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4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Object 4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4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9" name="Object 4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AutoShape 4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 and any positive integ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8"/>
              <p:cNvSpPr txBox="1"/>
              <p:nvPr/>
            </p:nvSpPr>
            <p:spPr>
              <a:xfrm>
                <a:off x="457200" y="3962520"/>
                <a:ext cx="1905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AutoShape 49"/>
          <p:cNvSpPr/>
          <p:nvPr/>
        </p:nvSpPr>
        <p:spPr>
          <a:xfrm flipH="1">
            <a:off x="5181480" y="3505320"/>
            <a:ext cx="3206880" cy="22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ing powers with the same bases of the base is left unchanged , and the figures ad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8028000" cy="151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2808360" y="2057400"/>
                <a:ext cx="4748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5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06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7" name="AutoShape 36"/>
          <p:cNvSpPr/>
          <p:nvPr/>
        </p:nvSpPr>
        <p:spPr>
          <a:xfrm>
            <a:off x="228600" y="1295280"/>
            <a:ext cx="2286000" cy="3124440"/>
          </a:xfrm>
          <a:prstGeom prst="borderCallout1">
            <a:avLst>
              <a:gd name="adj1" fmla="val 18750"/>
              <a:gd name="adj2" fmla="val -8333"/>
              <a:gd name="adj3" fmla="val 98425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 and n, such that m&g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37"/>
              <p:cNvSpPr txBox="1"/>
              <p:nvPr/>
            </p:nvSpPr>
            <p:spPr>
              <a:xfrm>
                <a:off x="380880" y="3886200"/>
                <a:ext cx="204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9" name="AutoShape 38"/>
          <p:cNvSpPr/>
          <p:nvPr/>
        </p:nvSpPr>
        <p:spPr>
          <a:xfrm flipH="1">
            <a:off x="5181480" y="3273480"/>
            <a:ext cx="3206880" cy="31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925"/>
                </a:moveTo>
                <a:lnTo>
                  <a:pt x="30026" y="925"/>
                </a:lnTo>
                <a:lnTo>
                  <a:pt x="30026" y="1812"/>
                </a:lnTo>
                <a:lnTo>
                  <a:pt x="28293" y="14721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viding powers with the same base bases are left unchanged , and the dividend is subtracted from the index index di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40"/>
              <p:cNvSpPr txBox="1"/>
              <p:nvPr/>
            </p:nvSpPr>
            <p:spPr>
              <a:xfrm>
                <a:off x="1887480" y="2692440"/>
                <a:ext cx="6606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2"/>
          <a:stretch/>
        </p:blipFill>
        <p:spPr>
          <a:xfrm>
            <a:off x="-480960" y="115920"/>
            <a:ext cx="7961400" cy="135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3124080" y="1905120"/>
                <a:ext cx="41022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43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44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4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5" name="AutoShape 36"/>
          <p:cNvSpPr/>
          <p:nvPr/>
        </p:nvSpPr>
        <p:spPr>
          <a:xfrm>
            <a:off x="228600" y="1828800"/>
            <a:ext cx="2286000" cy="266688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s a and b and any positive integer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37"/>
              <p:cNvSpPr txBox="1"/>
              <p:nvPr/>
            </p:nvSpPr>
            <p:spPr>
              <a:xfrm>
                <a:off x="528480" y="3919680"/>
                <a:ext cx="1762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7" name="AutoShape 38"/>
          <p:cNvSpPr/>
          <p:nvPr/>
        </p:nvSpPr>
        <p:spPr>
          <a:xfrm flipH="1">
            <a:off x="5181480" y="3505320"/>
            <a:ext cx="3206880" cy="258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045"/>
                </a:moveTo>
                <a:lnTo>
                  <a:pt x="30026" y="1045"/>
                </a:lnTo>
                <a:lnTo>
                  <a:pt x="30026" y="2743"/>
                </a:lnTo>
                <a:lnTo>
                  <a:pt x="28657" y="13979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power works erected in the degree of each factor and multiply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2"/>
          <a:stretch/>
        </p:blipFill>
        <p:spPr>
          <a:xfrm>
            <a:off x="0" y="12600"/>
            <a:ext cx="7991640" cy="138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3189240" y="1828800"/>
                <a:ext cx="3694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80" name="Group 4"/>
          <p:cNvGrpSpPr/>
          <p:nvPr/>
        </p:nvGrpSpPr>
        <p:grpSpPr>
          <a:xfrm>
            <a:off x="1447920" y="3657600"/>
            <a:ext cx="3355920" cy="2565000"/>
            <a:chOff x="1447920" y="3657600"/>
            <a:chExt cx="3355920" cy="2565000"/>
          </a:xfrm>
        </p:grpSpPr>
        <p:sp>
          <p:nvSpPr>
            <p:cNvPr id="681" name="Freeform 5"/>
            <p:cNvSpPr/>
            <p:nvPr/>
          </p:nvSpPr>
          <p:spPr>
            <a:xfrm>
              <a:off x="1447920" y="4538520"/>
              <a:ext cx="3149640" cy="1684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1684080"/>
                <a:gd name="textAreaBottom" fmla="*/ 1684440 h 1684080"/>
              </a:gdLst>
              <a:ahLst/>
              <a:rect l="textAreaLeft" t="textAreaTop" r="textAreaRight" b="textAreaBottom"/>
              <a:pathLst>
                <a:path w="3967" h="2121">
                  <a:moveTo>
                    <a:pt x="156" y="396"/>
                  </a:moveTo>
                  <a:lnTo>
                    <a:pt x="0" y="0"/>
                  </a:lnTo>
                  <a:lnTo>
                    <a:pt x="3958" y="6"/>
                  </a:lnTo>
                  <a:lnTo>
                    <a:pt x="3967" y="543"/>
                  </a:lnTo>
                  <a:lnTo>
                    <a:pt x="3935" y="2099"/>
                  </a:lnTo>
                  <a:lnTo>
                    <a:pt x="808" y="2121"/>
                  </a:lnTo>
                  <a:lnTo>
                    <a:pt x="156" y="396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>
              <a:off x="1511280" y="4532040"/>
              <a:ext cx="3086280" cy="1690560"/>
            </a:xfrm>
            <a:custGeom>
              <a:avLst/>
              <a:gdLst>
                <a:gd name="textAreaLeft" fmla="*/ 0 w 3086280"/>
                <a:gd name="textAreaRight" fmla="*/ 3086640 w 3086280"/>
                <a:gd name="textAreaTop" fmla="*/ 0 h 1690560"/>
                <a:gd name="textAreaBottom" fmla="*/ 1690920 h 1690560"/>
              </a:gdLst>
              <a:ahLst/>
              <a:rect l="textAreaLeft" t="textAreaTop" r="textAreaRight" b="textAreaBottom"/>
              <a:pathLst>
                <a:path w="3888" h="2130">
                  <a:moveTo>
                    <a:pt x="0" y="223"/>
                  </a:moveTo>
                  <a:lnTo>
                    <a:pt x="155" y="15"/>
                  </a:lnTo>
                  <a:lnTo>
                    <a:pt x="323" y="176"/>
                  </a:lnTo>
                  <a:lnTo>
                    <a:pt x="499" y="0"/>
                  </a:lnTo>
                  <a:lnTo>
                    <a:pt x="668" y="176"/>
                  </a:lnTo>
                  <a:lnTo>
                    <a:pt x="867" y="15"/>
                  </a:lnTo>
                  <a:lnTo>
                    <a:pt x="1044" y="198"/>
                  </a:lnTo>
                  <a:lnTo>
                    <a:pt x="1234" y="0"/>
                  </a:lnTo>
                  <a:lnTo>
                    <a:pt x="1432" y="194"/>
                  </a:lnTo>
                  <a:lnTo>
                    <a:pt x="2224" y="22"/>
                  </a:lnTo>
                  <a:lnTo>
                    <a:pt x="2514" y="228"/>
                  </a:lnTo>
                  <a:lnTo>
                    <a:pt x="3196" y="198"/>
                  </a:lnTo>
                  <a:lnTo>
                    <a:pt x="3381" y="15"/>
                  </a:lnTo>
                  <a:lnTo>
                    <a:pt x="3563" y="228"/>
                  </a:lnTo>
                  <a:lnTo>
                    <a:pt x="3712" y="31"/>
                  </a:lnTo>
                  <a:lnTo>
                    <a:pt x="3888" y="269"/>
                  </a:lnTo>
                  <a:lnTo>
                    <a:pt x="3856" y="2100"/>
                  </a:lnTo>
                  <a:lnTo>
                    <a:pt x="3611" y="1895"/>
                  </a:lnTo>
                  <a:lnTo>
                    <a:pt x="3421" y="2080"/>
                  </a:lnTo>
                  <a:lnTo>
                    <a:pt x="3187" y="1863"/>
                  </a:lnTo>
                  <a:lnTo>
                    <a:pt x="3015" y="2054"/>
                  </a:lnTo>
                  <a:lnTo>
                    <a:pt x="2803" y="1869"/>
                  </a:lnTo>
                  <a:lnTo>
                    <a:pt x="2630" y="2054"/>
                  </a:lnTo>
                  <a:lnTo>
                    <a:pt x="2456" y="1875"/>
                  </a:lnTo>
                  <a:lnTo>
                    <a:pt x="2277" y="2054"/>
                  </a:lnTo>
                  <a:lnTo>
                    <a:pt x="2082" y="1875"/>
                  </a:lnTo>
                  <a:lnTo>
                    <a:pt x="1909" y="2054"/>
                  </a:lnTo>
                  <a:lnTo>
                    <a:pt x="1701" y="1889"/>
                  </a:lnTo>
                  <a:lnTo>
                    <a:pt x="1533" y="2065"/>
                  </a:lnTo>
                  <a:lnTo>
                    <a:pt x="1332" y="1901"/>
                  </a:lnTo>
                  <a:lnTo>
                    <a:pt x="1181" y="2085"/>
                  </a:lnTo>
                  <a:lnTo>
                    <a:pt x="945" y="1906"/>
                  </a:lnTo>
                  <a:lnTo>
                    <a:pt x="737" y="2130"/>
                  </a:lnTo>
                  <a:lnTo>
                    <a:pt x="639" y="1831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7"/>
            <p:cNvSpPr/>
            <p:nvPr/>
          </p:nvSpPr>
          <p:spPr>
            <a:xfrm>
              <a:off x="2011320" y="5692680"/>
              <a:ext cx="2792520" cy="271080"/>
            </a:xfrm>
            <a:custGeom>
              <a:avLst/>
              <a:gdLst>
                <a:gd name="textAreaLeft" fmla="*/ 0 w 2792520"/>
                <a:gd name="textAreaRight" fmla="*/ 2792880 w 279252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18" h="342">
                  <a:moveTo>
                    <a:pt x="0" y="198"/>
                  </a:moveTo>
                  <a:lnTo>
                    <a:pt x="1779" y="0"/>
                  </a:lnTo>
                  <a:lnTo>
                    <a:pt x="3518" y="179"/>
                  </a:lnTo>
                  <a:lnTo>
                    <a:pt x="3495" y="266"/>
                  </a:lnTo>
                  <a:lnTo>
                    <a:pt x="1806" y="198"/>
                  </a:lnTo>
                  <a:lnTo>
                    <a:pt x="1692" y="310"/>
                  </a:lnTo>
                  <a:lnTo>
                    <a:pt x="1545" y="163"/>
                  </a:lnTo>
                  <a:lnTo>
                    <a:pt x="29" y="34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8"/>
            <p:cNvSpPr/>
            <p:nvPr/>
          </p:nvSpPr>
          <p:spPr>
            <a:xfrm>
              <a:off x="1712880" y="5022720"/>
              <a:ext cx="3090960" cy="872640"/>
            </a:xfrm>
            <a:custGeom>
              <a:avLst/>
              <a:gdLst>
                <a:gd name="textAreaLeft" fmla="*/ 0 w 3090960"/>
                <a:gd name="textAreaRight" fmla="*/ 3091320 w 309096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3893" h="1101">
                  <a:moveTo>
                    <a:pt x="182" y="0"/>
                  </a:moveTo>
                  <a:lnTo>
                    <a:pt x="0" y="44"/>
                  </a:lnTo>
                  <a:lnTo>
                    <a:pt x="8" y="142"/>
                  </a:lnTo>
                  <a:lnTo>
                    <a:pt x="448" y="1101"/>
                  </a:lnTo>
                  <a:lnTo>
                    <a:pt x="1951" y="935"/>
                  </a:lnTo>
                  <a:lnTo>
                    <a:pt x="2061" y="1046"/>
                  </a:lnTo>
                  <a:lnTo>
                    <a:pt x="2136" y="935"/>
                  </a:lnTo>
                  <a:lnTo>
                    <a:pt x="3893" y="1024"/>
                  </a:lnTo>
                  <a:lnTo>
                    <a:pt x="3583" y="56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9"/>
            <p:cNvSpPr/>
            <p:nvPr/>
          </p:nvSpPr>
          <p:spPr>
            <a:xfrm>
              <a:off x="1816200" y="4690800"/>
              <a:ext cx="2744640" cy="79812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3458" h="1006">
                  <a:moveTo>
                    <a:pt x="0" y="48"/>
                  </a:moveTo>
                  <a:lnTo>
                    <a:pt x="404" y="0"/>
                  </a:lnTo>
                  <a:lnTo>
                    <a:pt x="721" y="22"/>
                  </a:lnTo>
                  <a:lnTo>
                    <a:pt x="1118" y="95"/>
                  </a:lnTo>
                  <a:lnTo>
                    <a:pt x="2693" y="258"/>
                  </a:lnTo>
                  <a:lnTo>
                    <a:pt x="2966" y="310"/>
                  </a:lnTo>
                  <a:lnTo>
                    <a:pt x="3161" y="543"/>
                  </a:lnTo>
                  <a:lnTo>
                    <a:pt x="3458" y="845"/>
                  </a:lnTo>
                  <a:lnTo>
                    <a:pt x="453" y="10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0"/>
            <p:cNvSpPr/>
            <p:nvPr/>
          </p:nvSpPr>
          <p:spPr>
            <a:xfrm>
              <a:off x="1811520" y="4865400"/>
              <a:ext cx="406440" cy="8935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11" h="1125">
                  <a:moveTo>
                    <a:pt x="126" y="0"/>
                  </a:moveTo>
                  <a:lnTo>
                    <a:pt x="511" y="739"/>
                  </a:lnTo>
                  <a:lnTo>
                    <a:pt x="393" y="1125"/>
                  </a:lnTo>
                  <a:lnTo>
                    <a:pt x="0" y="292"/>
                  </a:lnTo>
                  <a:lnTo>
                    <a:pt x="78" y="1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1"/>
            <p:cNvSpPr/>
            <p:nvPr/>
          </p:nvSpPr>
          <p:spPr>
            <a:xfrm>
              <a:off x="3275280" y="4322520"/>
              <a:ext cx="1079280" cy="107748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1077480"/>
                <a:gd name="textAreaBottom" fmla="*/ 1077840 h 1077480"/>
              </a:gdLst>
              <a:ahLst/>
              <a:rect l="textAreaLeft" t="textAreaTop" r="textAreaRight" b="textAreaBottom"/>
              <a:pathLst>
                <a:path w="1359" h="1358">
                  <a:moveTo>
                    <a:pt x="0" y="512"/>
                  </a:moveTo>
                  <a:lnTo>
                    <a:pt x="391" y="122"/>
                  </a:lnTo>
                  <a:lnTo>
                    <a:pt x="559" y="0"/>
                  </a:lnTo>
                  <a:lnTo>
                    <a:pt x="1359" y="613"/>
                  </a:lnTo>
                  <a:lnTo>
                    <a:pt x="1047" y="637"/>
                  </a:lnTo>
                  <a:lnTo>
                    <a:pt x="543" y="828"/>
                  </a:lnTo>
                  <a:lnTo>
                    <a:pt x="248" y="1055"/>
                  </a:lnTo>
                  <a:lnTo>
                    <a:pt x="0" y="1358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94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12"/>
            <p:cNvSpPr/>
            <p:nvPr/>
          </p:nvSpPr>
          <p:spPr>
            <a:xfrm>
              <a:off x="2105280" y="5257440"/>
              <a:ext cx="2517480" cy="529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172" h="667">
                  <a:moveTo>
                    <a:pt x="118" y="213"/>
                  </a:moveTo>
                  <a:lnTo>
                    <a:pt x="552" y="46"/>
                  </a:lnTo>
                  <a:lnTo>
                    <a:pt x="943" y="34"/>
                  </a:lnTo>
                  <a:lnTo>
                    <a:pt x="1385" y="173"/>
                  </a:lnTo>
                  <a:lnTo>
                    <a:pt x="1486" y="234"/>
                  </a:lnTo>
                  <a:lnTo>
                    <a:pt x="1881" y="95"/>
                  </a:lnTo>
                  <a:lnTo>
                    <a:pt x="2459" y="0"/>
                  </a:lnTo>
                  <a:lnTo>
                    <a:pt x="2791" y="60"/>
                  </a:lnTo>
                  <a:lnTo>
                    <a:pt x="3142" y="173"/>
                  </a:lnTo>
                  <a:lnTo>
                    <a:pt x="3119" y="315"/>
                  </a:lnTo>
                  <a:lnTo>
                    <a:pt x="3130" y="525"/>
                  </a:lnTo>
                  <a:lnTo>
                    <a:pt x="3172" y="631"/>
                  </a:lnTo>
                  <a:lnTo>
                    <a:pt x="2802" y="572"/>
                  </a:lnTo>
                  <a:lnTo>
                    <a:pt x="2225" y="543"/>
                  </a:lnTo>
                  <a:lnTo>
                    <a:pt x="1559" y="560"/>
                  </a:lnTo>
                  <a:lnTo>
                    <a:pt x="1463" y="554"/>
                  </a:lnTo>
                  <a:lnTo>
                    <a:pt x="1322" y="531"/>
                  </a:lnTo>
                  <a:lnTo>
                    <a:pt x="969" y="514"/>
                  </a:lnTo>
                  <a:lnTo>
                    <a:pt x="594" y="543"/>
                  </a:lnTo>
                  <a:lnTo>
                    <a:pt x="0" y="667"/>
                  </a:lnTo>
                  <a:lnTo>
                    <a:pt x="112" y="410"/>
                  </a:lnTo>
                  <a:lnTo>
                    <a:pt x="118" y="21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2443320" y="3706560"/>
              <a:ext cx="828720" cy="16491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649160"/>
                <a:gd name="textAreaBottom" fmla="*/ 1649520 h 1649160"/>
              </a:gdLst>
              <a:ahLst/>
              <a:rect l="textAreaLeft" t="textAreaTop" r="textAreaRight" b="textAreaBottom"/>
              <a:pathLst>
                <a:path w="1043" h="2079">
                  <a:moveTo>
                    <a:pt x="316" y="1329"/>
                  </a:moveTo>
                  <a:lnTo>
                    <a:pt x="292" y="971"/>
                  </a:lnTo>
                  <a:lnTo>
                    <a:pt x="227" y="697"/>
                  </a:lnTo>
                  <a:lnTo>
                    <a:pt x="95" y="280"/>
                  </a:lnTo>
                  <a:lnTo>
                    <a:pt x="0" y="0"/>
                  </a:lnTo>
                  <a:lnTo>
                    <a:pt x="1043" y="739"/>
                  </a:lnTo>
                  <a:lnTo>
                    <a:pt x="1026" y="2079"/>
                  </a:lnTo>
                  <a:lnTo>
                    <a:pt x="875" y="1894"/>
                  </a:lnTo>
                  <a:lnTo>
                    <a:pt x="607" y="1598"/>
                  </a:lnTo>
                  <a:lnTo>
                    <a:pt x="316" y="1329"/>
                  </a:lnTo>
                  <a:close/>
                </a:path>
              </a:pathLst>
            </a:custGeom>
            <a:solidFill>
              <a:srgbClr val="a9a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14"/>
            <p:cNvSpPr/>
            <p:nvPr/>
          </p:nvSpPr>
          <p:spPr>
            <a:xfrm>
              <a:off x="1676520" y="5055840"/>
              <a:ext cx="3114720" cy="9428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926" h="1187">
                  <a:moveTo>
                    <a:pt x="50" y="0"/>
                  </a:moveTo>
                  <a:lnTo>
                    <a:pt x="506" y="1057"/>
                  </a:lnTo>
                  <a:lnTo>
                    <a:pt x="500" y="1114"/>
                  </a:lnTo>
                  <a:lnTo>
                    <a:pt x="1977" y="935"/>
                  </a:lnTo>
                  <a:lnTo>
                    <a:pt x="2114" y="1077"/>
                  </a:lnTo>
                  <a:lnTo>
                    <a:pt x="2215" y="950"/>
                  </a:lnTo>
                  <a:lnTo>
                    <a:pt x="3926" y="1045"/>
                  </a:lnTo>
                  <a:lnTo>
                    <a:pt x="3911" y="1097"/>
                  </a:lnTo>
                  <a:lnTo>
                    <a:pt x="2246" y="1010"/>
                  </a:lnTo>
                  <a:lnTo>
                    <a:pt x="2123" y="1153"/>
                  </a:lnTo>
                  <a:lnTo>
                    <a:pt x="1961" y="1002"/>
                  </a:lnTo>
                  <a:lnTo>
                    <a:pt x="448" y="1187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5"/>
            <p:cNvSpPr/>
            <p:nvPr/>
          </p:nvSpPr>
          <p:spPr>
            <a:xfrm>
              <a:off x="1779840" y="3657600"/>
              <a:ext cx="2890800" cy="21618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161800"/>
                <a:gd name="textAreaBottom" fmla="*/ 2161800 h 2161800"/>
              </a:gdLst>
              <a:ahLst/>
              <a:rect l="textAreaLeft" t="textAreaTop" r="textAreaRight" b="textAreaBottom"/>
              <a:pathLst>
                <a:path w="3643" h="2723">
                  <a:moveTo>
                    <a:pt x="1899" y="777"/>
                  </a:moveTo>
                  <a:lnTo>
                    <a:pt x="1886" y="767"/>
                  </a:lnTo>
                  <a:lnTo>
                    <a:pt x="1852" y="744"/>
                  </a:lnTo>
                  <a:lnTo>
                    <a:pt x="1800" y="703"/>
                  </a:lnTo>
                  <a:lnTo>
                    <a:pt x="1732" y="655"/>
                  </a:lnTo>
                  <a:lnTo>
                    <a:pt x="1649" y="595"/>
                  </a:lnTo>
                  <a:lnTo>
                    <a:pt x="1558" y="530"/>
                  </a:lnTo>
                  <a:lnTo>
                    <a:pt x="1460" y="459"/>
                  </a:lnTo>
                  <a:lnTo>
                    <a:pt x="1359" y="388"/>
                  </a:lnTo>
                  <a:lnTo>
                    <a:pt x="1256" y="313"/>
                  </a:lnTo>
                  <a:lnTo>
                    <a:pt x="1157" y="244"/>
                  </a:lnTo>
                  <a:lnTo>
                    <a:pt x="1061" y="177"/>
                  </a:lnTo>
                  <a:lnTo>
                    <a:pt x="978" y="121"/>
                  </a:lnTo>
                  <a:lnTo>
                    <a:pt x="902" y="69"/>
                  </a:lnTo>
                  <a:lnTo>
                    <a:pt x="842" y="33"/>
                  </a:lnTo>
                  <a:lnTo>
                    <a:pt x="800" y="7"/>
                  </a:lnTo>
                  <a:lnTo>
                    <a:pt x="780" y="0"/>
                  </a:lnTo>
                  <a:lnTo>
                    <a:pt x="783" y="9"/>
                  </a:lnTo>
                  <a:lnTo>
                    <a:pt x="794" y="35"/>
                  </a:lnTo>
                  <a:lnTo>
                    <a:pt x="811" y="75"/>
                  </a:lnTo>
                  <a:lnTo>
                    <a:pt x="835" y="131"/>
                  </a:lnTo>
                  <a:lnTo>
                    <a:pt x="861" y="201"/>
                  </a:lnTo>
                  <a:lnTo>
                    <a:pt x="892" y="281"/>
                  </a:lnTo>
                  <a:lnTo>
                    <a:pt x="923" y="371"/>
                  </a:lnTo>
                  <a:lnTo>
                    <a:pt x="957" y="471"/>
                  </a:lnTo>
                  <a:lnTo>
                    <a:pt x="989" y="575"/>
                  </a:lnTo>
                  <a:lnTo>
                    <a:pt x="1021" y="684"/>
                  </a:lnTo>
                  <a:lnTo>
                    <a:pt x="1051" y="798"/>
                  </a:lnTo>
                  <a:lnTo>
                    <a:pt x="1080" y="917"/>
                  </a:lnTo>
                  <a:lnTo>
                    <a:pt x="1100" y="1032"/>
                  </a:lnTo>
                  <a:lnTo>
                    <a:pt x="1118" y="1151"/>
                  </a:lnTo>
                  <a:lnTo>
                    <a:pt x="1129" y="1265"/>
                  </a:lnTo>
                  <a:lnTo>
                    <a:pt x="1134" y="1377"/>
                  </a:lnTo>
                  <a:lnTo>
                    <a:pt x="1125" y="1375"/>
                  </a:lnTo>
                  <a:lnTo>
                    <a:pt x="1102" y="1369"/>
                  </a:lnTo>
                  <a:lnTo>
                    <a:pt x="1066" y="1359"/>
                  </a:lnTo>
                  <a:lnTo>
                    <a:pt x="1017" y="1349"/>
                  </a:lnTo>
                  <a:lnTo>
                    <a:pt x="956" y="1336"/>
                  </a:lnTo>
                  <a:lnTo>
                    <a:pt x="888" y="1323"/>
                  </a:lnTo>
                  <a:lnTo>
                    <a:pt x="811" y="1310"/>
                  </a:lnTo>
                  <a:lnTo>
                    <a:pt x="731" y="1298"/>
                  </a:lnTo>
                  <a:lnTo>
                    <a:pt x="641" y="1288"/>
                  </a:lnTo>
                  <a:lnTo>
                    <a:pt x="550" y="1282"/>
                  </a:lnTo>
                  <a:lnTo>
                    <a:pt x="455" y="1278"/>
                  </a:lnTo>
                  <a:lnTo>
                    <a:pt x="361" y="1279"/>
                  </a:lnTo>
                  <a:lnTo>
                    <a:pt x="264" y="1284"/>
                  </a:lnTo>
                  <a:lnTo>
                    <a:pt x="171" y="1295"/>
                  </a:lnTo>
                  <a:lnTo>
                    <a:pt x="83" y="1312"/>
                  </a:lnTo>
                  <a:lnTo>
                    <a:pt x="0" y="1340"/>
                  </a:lnTo>
                  <a:lnTo>
                    <a:pt x="1" y="1341"/>
                  </a:lnTo>
                  <a:lnTo>
                    <a:pt x="8" y="1350"/>
                  </a:lnTo>
                  <a:lnTo>
                    <a:pt x="20" y="1364"/>
                  </a:lnTo>
                  <a:lnTo>
                    <a:pt x="34" y="1383"/>
                  </a:lnTo>
                  <a:lnTo>
                    <a:pt x="49" y="1403"/>
                  </a:lnTo>
                  <a:lnTo>
                    <a:pt x="66" y="1431"/>
                  </a:lnTo>
                  <a:lnTo>
                    <a:pt x="80" y="1461"/>
                  </a:lnTo>
                  <a:lnTo>
                    <a:pt x="95" y="1494"/>
                  </a:lnTo>
                  <a:lnTo>
                    <a:pt x="106" y="1529"/>
                  </a:lnTo>
                  <a:lnTo>
                    <a:pt x="114" y="1567"/>
                  </a:lnTo>
                  <a:lnTo>
                    <a:pt x="117" y="1606"/>
                  </a:lnTo>
                  <a:lnTo>
                    <a:pt x="117" y="1647"/>
                  </a:lnTo>
                  <a:lnTo>
                    <a:pt x="106" y="1688"/>
                  </a:lnTo>
                  <a:lnTo>
                    <a:pt x="91" y="1731"/>
                  </a:lnTo>
                  <a:lnTo>
                    <a:pt x="66" y="1773"/>
                  </a:lnTo>
                  <a:lnTo>
                    <a:pt x="31" y="1816"/>
                  </a:lnTo>
                  <a:lnTo>
                    <a:pt x="34" y="1824"/>
                  </a:lnTo>
                  <a:lnTo>
                    <a:pt x="47" y="1848"/>
                  </a:lnTo>
                  <a:lnTo>
                    <a:pt x="65" y="1886"/>
                  </a:lnTo>
                  <a:lnTo>
                    <a:pt x="88" y="1936"/>
                  </a:lnTo>
                  <a:lnTo>
                    <a:pt x="115" y="1997"/>
                  </a:lnTo>
                  <a:lnTo>
                    <a:pt x="148" y="2065"/>
                  </a:lnTo>
                  <a:lnTo>
                    <a:pt x="180" y="2138"/>
                  </a:lnTo>
                  <a:lnTo>
                    <a:pt x="216" y="2216"/>
                  </a:lnTo>
                  <a:lnTo>
                    <a:pt x="249" y="2294"/>
                  </a:lnTo>
                  <a:lnTo>
                    <a:pt x="283" y="2374"/>
                  </a:lnTo>
                  <a:lnTo>
                    <a:pt x="314" y="2450"/>
                  </a:lnTo>
                  <a:lnTo>
                    <a:pt x="342" y="2523"/>
                  </a:lnTo>
                  <a:lnTo>
                    <a:pt x="365" y="2586"/>
                  </a:lnTo>
                  <a:lnTo>
                    <a:pt x="384" y="2644"/>
                  </a:lnTo>
                  <a:lnTo>
                    <a:pt x="395" y="2689"/>
                  </a:lnTo>
                  <a:lnTo>
                    <a:pt x="401" y="2723"/>
                  </a:lnTo>
                  <a:lnTo>
                    <a:pt x="413" y="2719"/>
                  </a:lnTo>
                  <a:lnTo>
                    <a:pt x="444" y="2710"/>
                  </a:lnTo>
                  <a:lnTo>
                    <a:pt x="499" y="2697"/>
                  </a:lnTo>
                  <a:lnTo>
                    <a:pt x="570" y="2681"/>
                  </a:lnTo>
                  <a:lnTo>
                    <a:pt x="654" y="2661"/>
                  </a:lnTo>
                  <a:lnTo>
                    <a:pt x="751" y="2642"/>
                  </a:lnTo>
                  <a:lnTo>
                    <a:pt x="859" y="2622"/>
                  </a:lnTo>
                  <a:lnTo>
                    <a:pt x="976" y="2603"/>
                  </a:lnTo>
                  <a:lnTo>
                    <a:pt x="1095" y="2585"/>
                  </a:lnTo>
                  <a:lnTo>
                    <a:pt x="1219" y="2569"/>
                  </a:lnTo>
                  <a:lnTo>
                    <a:pt x="1340" y="2559"/>
                  </a:lnTo>
                  <a:lnTo>
                    <a:pt x="1464" y="2553"/>
                  </a:lnTo>
                  <a:lnTo>
                    <a:pt x="1581" y="2551"/>
                  </a:lnTo>
                  <a:lnTo>
                    <a:pt x="1690" y="2559"/>
                  </a:lnTo>
                  <a:lnTo>
                    <a:pt x="1791" y="2572"/>
                  </a:lnTo>
                  <a:lnTo>
                    <a:pt x="1882" y="2596"/>
                  </a:lnTo>
                  <a:lnTo>
                    <a:pt x="1971" y="2703"/>
                  </a:lnTo>
                  <a:lnTo>
                    <a:pt x="2035" y="2608"/>
                  </a:lnTo>
                  <a:lnTo>
                    <a:pt x="2049" y="2606"/>
                  </a:lnTo>
                  <a:lnTo>
                    <a:pt x="2091" y="2605"/>
                  </a:lnTo>
                  <a:lnTo>
                    <a:pt x="2159" y="2602"/>
                  </a:lnTo>
                  <a:lnTo>
                    <a:pt x="2247" y="2601"/>
                  </a:lnTo>
                  <a:lnTo>
                    <a:pt x="2351" y="2596"/>
                  </a:lnTo>
                  <a:lnTo>
                    <a:pt x="2471" y="2596"/>
                  </a:lnTo>
                  <a:lnTo>
                    <a:pt x="2598" y="2595"/>
                  </a:lnTo>
                  <a:lnTo>
                    <a:pt x="2737" y="2598"/>
                  </a:lnTo>
                  <a:lnTo>
                    <a:pt x="2874" y="2599"/>
                  </a:lnTo>
                  <a:lnTo>
                    <a:pt x="3013" y="2605"/>
                  </a:lnTo>
                  <a:lnTo>
                    <a:pt x="3149" y="2612"/>
                  </a:lnTo>
                  <a:lnTo>
                    <a:pt x="3276" y="2625"/>
                  </a:lnTo>
                  <a:lnTo>
                    <a:pt x="3393" y="2640"/>
                  </a:lnTo>
                  <a:lnTo>
                    <a:pt x="3496" y="2657"/>
                  </a:lnTo>
                  <a:lnTo>
                    <a:pt x="3579" y="2680"/>
                  </a:lnTo>
                  <a:lnTo>
                    <a:pt x="3643" y="2709"/>
                  </a:lnTo>
                  <a:lnTo>
                    <a:pt x="3640" y="2705"/>
                  </a:lnTo>
                  <a:lnTo>
                    <a:pt x="3636" y="2697"/>
                  </a:lnTo>
                  <a:lnTo>
                    <a:pt x="3627" y="2686"/>
                  </a:lnTo>
                  <a:lnTo>
                    <a:pt x="3620" y="2670"/>
                  </a:lnTo>
                  <a:lnTo>
                    <a:pt x="3610" y="2648"/>
                  </a:lnTo>
                  <a:lnTo>
                    <a:pt x="3600" y="2625"/>
                  </a:lnTo>
                  <a:lnTo>
                    <a:pt x="3590" y="2596"/>
                  </a:lnTo>
                  <a:lnTo>
                    <a:pt x="3581" y="2564"/>
                  </a:lnTo>
                  <a:lnTo>
                    <a:pt x="3571" y="2528"/>
                  </a:lnTo>
                  <a:lnTo>
                    <a:pt x="3564" y="2488"/>
                  </a:lnTo>
                  <a:lnTo>
                    <a:pt x="3558" y="2446"/>
                  </a:lnTo>
                  <a:lnTo>
                    <a:pt x="3558" y="2400"/>
                  </a:lnTo>
                  <a:lnTo>
                    <a:pt x="3558" y="2349"/>
                  </a:lnTo>
                  <a:lnTo>
                    <a:pt x="3564" y="2297"/>
                  </a:lnTo>
                  <a:lnTo>
                    <a:pt x="3574" y="2242"/>
                  </a:lnTo>
                  <a:lnTo>
                    <a:pt x="3591" y="2186"/>
                  </a:lnTo>
                  <a:lnTo>
                    <a:pt x="3584" y="2179"/>
                  </a:lnTo>
                  <a:lnTo>
                    <a:pt x="3565" y="2163"/>
                  </a:lnTo>
                  <a:lnTo>
                    <a:pt x="3538" y="2136"/>
                  </a:lnTo>
                  <a:lnTo>
                    <a:pt x="3503" y="2104"/>
                  </a:lnTo>
                  <a:lnTo>
                    <a:pt x="3458" y="2062"/>
                  </a:lnTo>
                  <a:lnTo>
                    <a:pt x="3412" y="2016"/>
                  </a:lnTo>
                  <a:lnTo>
                    <a:pt x="3360" y="1968"/>
                  </a:lnTo>
                  <a:lnTo>
                    <a:pt x="3309" y="1919"/>
                  </a:lnTo>
                  <a:lnTo>
                    <a:pt x="3256" y="1864"/>
                  </a:lnTo>
                  <a:lnTo>
                    <a:pt x="3205" y="1815"/>
                  </a:lnTo>
                  <a:lnTo>
                    <a:pt x="3158" y="1764"/>
                  </a:lnTo>
                  <a:lnTo>
                    <a:pt x="3114" y="1720"/>
                  </a:lnTo>
                  <a:lnTo>
                    <a:pt x="3078" y="1676"/>
                  </a:lnTo>
                  <a:lnTo>
                    <a:pt x="3051" y="1645"/>
                  </a:lnTo>
                  <a:lnTo>
                    <a:pt x="3030" y="1617"/>
                  </a:lnTo>
                  <a:lnTo>
                    <a:pt x="3025" y="1600"/>
                  </a:lnTo>
                  <a:lnTo>
                    <a:pt x="2668" y="1536"/>
                  </a:lnTo>
                  <a:lnTo>
                    <a:pt x="2637" y="1572"/>
                  </a:lnTo>
                  <a:lnTo>
                    <a:pt x="3002" y="1632"/>
                  </a:lnTo>
                  <a:lnTo>
                    <a:pt x="3004" y="1636"/>
                  </a:lnTo>
                  <a:lnTo>
                    <a:pt x="3015" y="1650"/>
                  </a:lnTo>
                  <a:lnTo>
                    <a:pt x="3033" y="1671"/>
                  </a:lnTo>
                  <a:lnTo>
                    <a:pt x="3059" y="1702"/>
                  </a:lnTo>
                  <a:lnTo>
                    <a:pt x="3088" y="1737"/>
                  </a:lnTo>
                  <a:lnTo>
                    <a:pt x="3121" y="1776"/>
                  </a:lnTo>
                  <a:lnTo>
                    <a:pt x="3159" y="1821"/>
                  </a:lnTo>
                  <a:lnTo>
                    <a:pt x="3199" y="1867"/>
                  </a:lnTo>
                  <a:lnTo>
                    <a:pt x="3241" y="1915"/>
                  </a:lnTo>
                  <a:lnTo>
                    <a:pt x="3285" y="1961"/>
                  </a:lnTo>
                  <a:lnTo>
                    <a:pt x="3328" y="2007"/>
                  </a:lnTo>
                  <a:lnTo>
                    <a:pt x="3373" y="2050"/>
                  </a:lnTo>
                  <a:lnTo>
                    <a:pt x="3415" y="2091"/>
                  </a:lnTo>
                  <a:lnTo>
                    <a:pt x="3454" y="2125"/>
                  </a:lnTo>
                  <a:lnTo>
                    <a:pt x="3493" y="2156"/>
                  </a:lnTo>
                  <a:lnTo>
                    <a:pt x="3526" y="2180"/>
                  </a:lnTo>
                  <a:lnTo>
                    <a:pt x="3525" y="2183"/>
                  </a:lnTo>
                  <a:lnTo>
                    <a:pt x="3523" y="2193"/>
                  </a:lnTo>
                  <a:lnTo>
                    <a:pt x="3519" y="2206"/>
                  </a:lnTo>
                  <a:lnTo>
                    <a:pt x="3516" y="2227"/>
                  </a:lnTo>
                  <a:lnTo>
                    <a:pt x="3513" y="2250"/>
                  </a:lnTo>
                  <a:lnTo>
                    <a:pt x="3510" y="2279"/>
                  </a:lnTo>
                  <a:lnTo>
                    <a:pt x="3506" y="2309"/>
                  </a:lnTo>
                  <a:lnTo>
                    <a:pt x="3504" y="2344"/>
                  </a:lnTo>
                  <a:lnTo>
                    <a:pt x="3501" y="2378"/>
                  </a:lnTo>
                  <a:lnTo>
                    <a:pt x="3501" y="2413"/>
                  </a:lnTo>
                  <a:lnTo>
                    <a:pt x="3501" y="2447"/>
                  </a:lnTo>
                  <a:lnTo>
                    <a:pt x="3506" y="2482"/>
                  </a:lnTo>
                  <a:lnTo>
                    <a:pt x="3510" y="2515"/>
                  </a:lnTo>
                  <a:lnTo>
                    <a:pt x="3517" y="2547"/>
                  </a:lnTo>
                  <a:lnTo>
                    <a:pt x="3527" y="2576"/>
                  </a:lnTo>
                  <a:lnTo>
                    <a:pt x="3543" y="2602"/>
                  </a:lnTo>
                  <a:lnTo>
                    <a:pt x="3535" y="2599"/>
                  </a:lnTo>
                  <a:lnTo>
                    <a:pt x="3510" y="2596"/>
                  </a:lnTo>
                  <a:lnTo>
                    <a:pt x="3470" y="2590"/>
                  </a:lnTo>
                  <a:lnTo>
                    <a:pt x="3418" y="2585"/>
                  </a:lnTo>
                  <a:lnTo>
                    <a:pt x="3350" y="2576"/>
                  </a:lnTo>
                  <a:lnTo>
                    <a:pt x="3270" y="2569"/>
                  </a:lnTo>
                  <a:lnTo>
                    <a:pt x="3181" y="2562"/>
                  </a:lnTo>
                  <a:lnTo>
                    <a:pt x="3081" y="2556"/>
                  </a:lnTo>
                  <a:lnTo>
                    <a:pt x="2970" y="2547"/>
                  </a:lnTo>
                  <a:lnTo>
                    <a:pt x="2851" y="2543"/>
                  </a:lnTo>
                  <a:lnTo>
                    <a:pt x="2727" y="2538"/>
                  </a:lnTo>
                  <a:lnTo>
                    <a:pt x="2597" y="2537"/>
                  </a:lnTo>
                  <a:lnTo>
                    <a:pt x="2460" y="2536"/>
                  </a:lnTo>
                  <a:lnTo>
                    <a:pt x="2321" y="2540"/>
                  </a:lnTo>
                  <a:lnTo>
                    <a:pt x="2175" y="2546"/>
                  </a:lnTo>
                  <a:lnTo>
                    <a:pt x="2031" y="2556"/>
                  </a:lnTo>
                  <a:lnTo>
                    <a:pt x="1951" y="2235"/>
                  </a:lnTo>
                  <a:lnTo>
                    <a:pt x="1873" y="2238"/>
                  </a:lnTo>
                  <a:lnTo>
                    <a:pt x="1882" y="2305"/>
                  </a:lnTo>
                  <a:lnTo>
                    <a:pt x="1853" y="2300"/>
                  </a:lnTo>
                  <a:lnTo>
                    <a:pt x="1827" y="2296"/>
                  </a:lnTo>
                  <a:lnTo>
                    <a:pt x="1798" y="2292"/>
                  </a:lnTo>
                  <a:lnTo>
                    <a:pt x="1771" y="2289"/>
                  </a:lnTo>
                  <a:lnTo>
                    <a:pt x="1743" y="2286"/>
                  </a:lnTo>
                  <a:lnTo>
                    <a:pt x="1716" y="2283"/>
                  </a:lnTo>
                  <a:lnTo>
                    <a:pt x="1688" y="2279"/>
                  </a:lnTo>
                  <a:lnTo>
                    <a:pt x="1662" y="2276"/>
                  </a:lnTo>
                  <a:lnTo>
                    <a:pt x="1633" y="2271"/>
                  </a:lnTo>
                  <a:lnTo>
                    <a:pt x="1606" y="2267"/>
                  </a:lnTo>
                  <a:lnTo>
                    <a:pt x="1579" y="2263"/>
                  </a:lnTo>
                  <a:lnTo>
                    <a:pt x="1551" y="2260"/>
                  </a:lnTo>
                  <a:lnTo>
                    <a:pt x="1522" y="2255"/>
                  </a:lnTo>
                  <a:lnTo>
                    <a:pt x="1498" y="2253"/>
                  </a:lnTo>
                  <a:lnTo>
                    <a:pt x="1469" y="2250"/>
                  </a:lnTo>
                  <a:lnTo>
                    <a:pt x="1443" y="2247"/>
                  </a:lnTo>
                  <a:lnTo>
                    <a:pt x="1879" y="2356"/>
                  </a:lnTo>
                  <a:lnTo>
                    <a:pt x="1876" y="2394"/>
                  </a:lnTo>
                  <a:lnTo>
                    <a:pt x="1407" y="2331"/>
                  </a:lnTo>
                  <a:lnTo>
                    <a:pt x="1870" y="2452"/>
                  </a:lnTo>
                  <a:lnTo>
                    <a:pt x="1870" y="2478"/>
                  </a:lnTo>
                  <a:lnTo>
                    <a:pt x="1397" y="2432"/>
                  </a:lnTo>
                  <a:lnTo>
                    <a:pt x="1862" y="2524"/>
                  </a:lnTo>
                  <a:lnTo>
                    <a:pt x="1865" y="2553"/>
                  </a:lnTo>
                  <a:lnTo>
                    <a:pt x="1857" y="2550"/>
                  </a:lnTo>
                  <a:lnTo>
                    <a:pt x="1839" y="2547"/>
                  </a:lnTo>
                  <a:lnTo>
                    <a:pt x="1807" y="2541"/>
                  </a:lnTo>
                  <a:lnTo>
                    <a:pt x="1763" y="2536"/>
                  </a:lnTo>
                  <a:lnTo>
                    <a:pt x="1707" y="2528"/>
                  </a:lnTo>
                  <a:lnTo>
                    <a:pt x="1642" y="2523"/>
                  </a:lnTo>
                  <a:lnTo>
                    <a:pt x="1566" y="2517"/>
                  </a:lnTo>
                  <a:lnTo>
                    <a:pt x="1480" y="2515"/>
                  </a:lnTo>
                  <a:lnTo>
                    <a:pt x="1382" y="2514"/>
                  </a:lnTo>
                  <a:lnTo>
                    <a:pt x="1277" y="2517"/>
                  </a:lnTo>
                  <a:lnTo>
                    <a:pt x="1162" y="2523"/>
                  </a:lnTo>
                  <a:lnTo>
                    <a:pt x="1040" y="2536"/>
                  </a:lnTo>
                  <a:lnTo>
                    <a:pt x="908" y="2553"/>
                  </a:lnTo>
                  <a:lnTo>
                    <a:pt x="770" y="2575"/>
                  </a:lnTo>
                  <a:lnTo>
                    <a:pt x="622" y="2603"/>
                  </a:lnTo>
                  <a:lnTo>
                    <a:pt x="470" y="2642"/>
                  </a:lnTo>
                  <a:lnTo>
                    <a:pt x="67" y="1841"/>
                  </a:lnTo>
                  <a:lnTo>
                    <a:pt x="67" y="1838"/>
                  </a:lnTo>
                  <a:lnTo>
                    <a:pt x="70" y="1835"/>
                  </a:lnTo>
                  <a:lnTo>
                    <a:pt x="75" y="1828"/>
                  </a:lnTo>
                  <a:lnTo>
                    <a:pt x="82" y="1819"/>
                  </a:lnTo>
                  <a:lnTo>
                    <a:pt x="89" y="1806"/>
                  </a:lnTo>
                  <a:lnTo>
                    <a:pt x="98" y="1795"/>
                  </a:lnTo>
                  <a:lnTo>
                    <a:pt x="108" y="1779"/>
                  </a:lnTo>
                  <a:lnTo>
                    <a:pt x="118" y="1763"/>
                  </a:lnTo>
                  <a:lnTo>
                    <a:pt x="127" y="1743"/>
                  </a:lnTo>
                  <a:lnTo>
                    <a:pt x="137" y="1725"/>
                  </a:lnTo>
                  <a:lnTo>
                    <a:pt x="144" y="1704"/>
                  </a:lnTo>
                  <a:lnTo>
                    <a:pt x="153" y="1682"/>
                  </a:lnTo>
                  <a:lnTo>
                    <a:pt x="157" y="1659"/>
                  </a:lnTo>
                  <a:lnTo>
                    <a:pt x="161" y="1637"/>
                  </a:lnTo>
                  <a:lnTo>
                    <a:pt x="164" y="1614"/>
                  </a:lnTo>
                  <a:lnTo>
                    <a:pt x="166" y="1591"/>
                  </a:lnTo>
                  <a:lnTo>
                    <a:pt x="167" y="1597"/>
                  </a:lnTo>
                  <a:lnTo>
                    <a:pt x="179" y="1617"/>
                  </a:lnTo>
                  <a:lnTo>
                    <a:pt x="195" y="1647"/>
                  </a:lnTo>
                  <a:lnTo>
                    <a:pt x="218" y="1688"/>
                  </a:lnTo>
                  <a:lnTo>
                    <a:pt x="244" y="1736"/>
                  </a:lnTo>
                  <a:lnTo>
                    <a:pt x="273" y="1790"/>
                  </a:lnTo>
                  <a:lnTo>
                    <a:pt x="303" y="1847"/>
                  </a:lnTo>
                  <a:lnTo>
                    <a:pt x="336" y="1910"/>
                  </a:lnTo>
                  <a:lnTo>
                    <a:pt x="368" y="1970"/>
                  </a:lnTo>
                  <a:lnTo>
                    <a:pt x="400" y="2030"/>
                  </a:lnTo>
                  <a:lnTo>
                    <a:pt x="427" y="2088"/>
                  </a:lnTo>
                  <a:lnTo>
                    <a:pt x="455" y="2141"/>
                  </a:lnTo>
                  <a:lnTo>
                    <a:pt x="476" y="2189"/>
                  </a:lnTo>
                  <a:lnTo>
                    <a:pt x="495" y="2227"/>
                  </a:lnTo>
                  <a:lnTo>
                    <a:pt x="505" y="2257"/>
                  </a:lnTo>
                  <a:lnTo>
                    <a:pt x="509" y="2276"/>
                  </a:lnTo>
                  <a:lnTo>
                    <a:pt x="560" y="2205"/>
                  </a:lnTo>
                  <a:lnTo>
                    <a:pt x="556" y="2198"/>
                  </a:lnTo>
                  <a:lnTo>
                    <a:pt x="546" y="2176"/>
                  </a:lnTo>
                  <a:lnTo>
                    <a:pt x="528" y="2141"/>
                  </a:lnTo>
                  <a:lnTo>
                    <a:pt x="507" y="2099"/>
                  </a:lnTo>
                  <a:lnTo>
                    <a:pt x="481" y="2045"/>
                  </a:lnTo>
                  <a:lnTo>
                    <a:pt x="452" y="1985"/>
                  </a:lnTo>
                  <a:lnTo>
                    <a:pt x="417" y="1920"/>
                  </a:lnTo>
                  <a:lnTo>
                    <a:pt x="384" y="1853"/>
                  </a:lnTo>
                  <a:lnTo>
                    <a:pt x="345" y="1782"/>
                  </a:lnTo>
                  <a:lnTo>
                    <a:pt x="309" y="1711"/>
                  </a:lnTo>
                  <a:lnTo>
                    <a:pt x="270" y="1642"/>
                  </a:lnTo>
                  <a:lnTo>
                    <a:pt x="234" y="1577"/>
                  </a:lnTo>
                  <a:lnTo>
                    <a:pt x="195" y="1516"/>
                  </a:lnTo>
                  <a:lnTo>
                    <a:pt x="161" y="1463"/>
                  </a:lnTo>
                  <a:lnTo>
                    <a:pt x="131" y="1416"/>
                  </a:lnTo>
                  <a:lnTo>
                    <a:pt x="104" y="1383"/>
                  </a:lnTo>
                  <a:lnTo>
                    <a:pt x="106" y="1380"/>
                  </a:lnTo>
                  <a:lnTo>
                    <a:pt x="118" y="1377"/>
                  </a:lnTo>
                  <a:lnTo>
                    <a:pt x="137" y="1370"/>
                  </a:lnTo>
                  <a:lnTo>
                    <a:pt x="164" y="1363"/>
                  </a:lnTo>
                  <a:lnTo>
                    <a:pt x="197" y="1354"/>
                  </a:lnTo>
                  <a:lnTo>
                    <a:pt x="241" y="1347"/>
                  </a:lnTo>
                  <a:lnTo>
                    <a:pt x="291" y="1340"/>
                  </a:lnTo>
                  <a:lnTo>
                    <a:pt x="352" y="1336"/>
                  </a:lnTo>
                  <a:lnTo>
                    <a:pt x="420" y="1330"/>
                  </a:lnTo>
                  <a:lnTo>
                    <a:pt x="498" y="1330"/>
                  </a:lnTo>
                  <a:lnTo>
                    <a:pt x="583" y="1331"/>
                  </a:lnTo>
                  <a:lnTo>
                    <a:pt x="679" y="1338"/>
                  </a:lnTo>
                  <a:lnTo>
                    <a:pt x="784" y="1349"/>
                  </a:lnTo>
                  <a:lnTo>
                    <a:pt x="900" y="1364"/>
                  </a:lnTo>
                  <a:lnTo>
                    <a:pt x="1024" y="1386"/>
                  </a:lnTo>
                  <a:lnTo>
                    <a:pt x="1161" y="1415"/>
                  </a:lnTo>
                  <a:lnTo>
                    <a:pt x="1167" y="1421"/>
                  </a:lnTo>
                  <a:lnTo>
                    <a:pt x="1186" y="1441"/>
                  </a:lnTo>
                  <a:lnTo>
                    <a:pt x="1217" y="1470"/>
                  </a:lnTo>
                  <a:lnTo>
                    <a:pt x="1258" y="1510"/>
                  </a:lnTo>
                  <a:lnTo>
                    <a:pt x="1305" y="1557"/>
                  </a:lnTo>
                  <a:lnTo>
                    <a:pt x="1360" y="1611"/>
                  </a:lnTo>
                  <a:lnTo>
                    <a:pt x="1417" y="1669"/>
                  </a:lnTo>
                  <a:lnTo>
                    <a:pt x="1480" y="1734"/>
                  </a:lnTo>
                  <a:lnTo>
                    <a:pt x="1541" y="1798"/>
                  </a:lnTo>
                  <a:lnTo>
                    <a:pt x="1602" y="1863"/>
                  </a:lnTo>
                  <a:lnTo>
                    <a:pt x="1659" y="1926"/>
                  </a:lnTo>
                  <a:lnTo>
                    <a:pt x="1713" y="1991"/>
                  </a:lnTo>
                  <a:lnTo>
                    <a:pt x="1759" y="2047"/>
                  </a:lnTo>
                  <a:lnTo>
                    <a:pt x="1798" y="2102"/>
                  </a:lnTo>
                  <a:lnTo>
                    <a:pt x="1828" y="2149"/>
                  </a:lnTo>
                  <a:lnTo>
                    <a:pt x="1846" y="2189"/>
                  </a:lnTo>
                  <a:lnTo>
                    <a:pt x="1846" y="2186"/>
                  </a:lnTo>
                  <a:lnTo>
                    <a:pt x="1849" y="2180"/>
                  </a:lnTo>
                  <a:lnTo>
                    <a:pt x="1853" y="2167"/>
                  </a:lnTo>
                  <a:lnTo>
                    <a:pt x="1859" y="2156"/>
                  </a:lnTo>
                  <a:lnTo>
                    <a:pt x="1863" y="2141"/>
                  </a:lnTo>
                  <a:lnTo>
                    <a:pt x="1867" y="2131"/>
                  </a:lnTo>
                  <a:lnTo>
                    <a:pt x="1870" y="2123"/>
                  </a:lnTo>
                  <a:lnTo>
                    <a:pt x="1873" y="2120"/>
                  </a:lnTo>
                  <a:lnTo>
                    <a:pt x="1869" y="2114"/>
                  </a:lnTo>
                  <a:lnTo>
                    <a:pt x="1857" y="2101"/>
                  </a:lnTo>
                  <a:lnTo>
                    <a:pt x="1840" y="2076"/>
                  </a:lnTo>
                  <a:lnTo>
                    <a:pt x="1817" y="2046"/>
                  </a:lnTo>
                  <a:lnTo>
                    <a:pt x="1785" y="2008"/>
                  </a:lnTo>
                  <a:lnTo>
                    <a:pt x="1750" y="1965"/>
                  </a:lnTo>
                  <a:lnTo>
                    <a:pt x="1709" y="1916"/>
                  </a:lnTo>
                  <a:lnTo>
                    <a:pt x="1665" y="1864"/>
                  </a:lnTo>
                  <a:lnTo>
                    <a:pt x="1613" y="1806"/>
                  </a:lnTo>
                  <a:lnTo>
                    <a:pt x="1561" y="1747"/>
                  </a:lnTo>
                  <a:lnTo>
                    <a:pt x="1505" y="1686"/>
                  </a:lnTo>
                  <a:lnTo>
                    <a:pt x="1444" y="1626"/>
                  </a:lnTo>
                  <a:lnTo>
                    <a:pt x="1381" y="1562"/>
                  </a:lnTo>
                  <a:lnTo>
                    <a:pt x="1317" y="1500"/>
                  </a:lnTo>
                  <a:lnTo>
                    <a:pt x="1251" y="1440"/>
                  </a:lnTo>
                  <a:lnTo>
                    <a:pt x="1183" y="1383"/>
                  </a:lnTo>
                  <a:lnTo>
                    <a:pt x="1181" y="1376"/>
                  </a:lnTo>
                  <a:lnTo>
                    <a:pt x="1181" y="1360"/>
                  </a:lnTo>
                  <a:lnTo>
                    <a:pt x="1180" y="1331"/>
                  </a:lnTo>
                  <a:lnTo>
                    <a:pt x="1180" y="1295"/>
                  </a:lnTo>
                  <a:lnTo>
                    <a:pt x="1175" y="1246"/>
                  </a:lnTo>
                  <a:lnTo>
                    <a:pt x="1171" y="1188"/>
                  </a:lnTo>
                  <a:lnTo>
                    <a:pt x="1164" y="1119"/>
                  </a:lnTo>
                  <a:lnTo>
                    <a:pt x="1154" y="1044"/>
                  </a:lnTo>
                  <a:lnTo>
                    <a:pt x="1136" y="957"/>
                  </a:lnTo>
                  <a:lnTo>
                    <a:pt x="1118" y="863"/>
                  </a:lnTo>
                  <a:lnTo>
                    <a:pt x="1093" y="759"/>
                  </a:lnTo>
                  <a:lnTo>
                    <a:pt x="1066" y="650"/>
                  </a:lnTo>
                  <a:lnTo>
                    <a:pt x="1030" y="530"/>
                  </a:lnTo>
                  <a:lnTo>
                    <a:pt x="989" y="403"/>
                  </a:lnTo>
                  <a:lnTo>
                    <a:pt x="940" y="268"/>
                  </a:lnTo>
                  <a:lnTo>
                    <a:pt x="887" y="128"/>
                  </a:lnTo>
                  <a:lnTo>
                    <a:pt x="1865" y="811"/>
                  </a:lnTo>
                  <a:lnTo>
                    <a:pt x="1899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6"/>
            <p:cNvSpPr/>
            <p:nvPr/>
          </p:nvSpPr>
          <p:spPr>
            <a:xfrm>
              <a:off x="2054520" y="4300200"/>
              <a:ext cx="2557440" cy="14778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3222" h="1862">
                  <a:moveTo>
                    <a:pt x="104" y="1862"/>
                  </a:moveTo>
                  <a:lnTo>
                    <a:pt x="106" y="1859"/>
                  </a:lnTo>
                  <a:lnTo>
                    <a:pt x="114" y="1849"/>
                  </a:lnTo>
                  <a:lnTo>
                    <a:pt x="119" y="1842"/>
                  </a:lnTo>
                  <a:lnTo>
                    <a:pt x="126" y="1831"/>
                  </a:lnTo>
                  <a:lnTo>
                    <a:pt x="135" y="1815"/>
                  </a:lnTo>
                  <a:lnTo>
                    <a:pt x="143" y="1796"/>
                  </a:lnTo>
                  <a:lnTo>
                    <a:pt x="149" y="1770"/>
                  </a:lnTo>
                  <a:lnTo>
                    <a:pt x="158" y="1741"/>
                  </a:lnTo>
                  <a:lnTo>
                    <a:pt x="166" y="1705"/>
                  </a:lnTo>
                  <a:lnTo>
                    <a:pt x="176" y="1664"/>
                  </a:lnTo>
                  <a:lnTo>
                    <a:pt x="185" y="1617"/>
                  </a:lnTo>
                  <a:lnTo>
                    <a:pt x="194" y="1562"/>
                  </a:lnTo>
                  <a:lnTo>
                    <a:pt x="202" y="1498"/>
                  </a:lnTo>
                  <a:lnTo>
                    <a:pt x="211" y="1429"/>
                  </a:lnTo>
                  <a:lnTo>
                    <a:pt x="218" y="1422"/>
                  </a:lnTo>
                  <a:lnTo>
                    <a:pt x="243" y="1410"/>
                  </a:lnTo>
                  <a:lnTo>
                    <a:pt x="283" y="1393"/>
                  </a:lnTo>
                  <a:lnTo>
                    <a:pt x="337" y="1374"/>
                  </a:lnTo>
                  <a:lnTo>
                    <a:pt x="402" y="1353"/>
                  </a:lnTo>
                  <a:lnTo>
                    <a:pt x="480" y="1331"/>
                  </a:lnTo>
                  <a:lnTo>
                    <a:pt x="565" y="1311"/>
                  </a:lnTo>
                  <a:lnTo>
                    <a:pt x="659" y="1298"/>
                  </a:lnTo>
                  <a:lnTo>
                    <a:pt x="760" y="1285"/>
                  </a:lnTo>
                  <a:lnTo>
                    <a:pt x="868" y="1282"/>
                  </a:lnTo>
                  <a:lnTo>
                    <a:pt x="980" y="1286"/>
                  </a:lnTo>
                  <a:lnTo>
                    <a:pt x="1095" y="1302"/>
                  </a:lnTo>
                  <a:lnTo>
                    <a:pt x="1211" y="1325"/>
                  </a:lnTo>
                  <a:lnTo>
                    <a:pt x="1328" y="1366"/>
                  </a:lnTo>
                  <a:lnTo>
                    <a:pt x="1445" y="1419"/>
                  </a:lnTo>
                  <a:lnTo>
                    <a:pt x="1562" y="1490"/>
                  </a:lnTo>
                  <a:lnTo>
                    <a:pt x="1571" y="1484"/>
                  </a:lnTo>
                  <a:lnTo>
                    <a:pt x="1597" y="1471"/>
                  </a:lnTo>
                  <a:lnTo>
                    <a:pt x="1640" y="1448"/>
                  </a:lnTo>
                  <a:lnTo>
                    <a:pt x="1699" y="1422"/>
                  </a:lnTo>
                  <a:lnTo>
                    <a:pt x="1771" y="1390"/>
                  </a:lnTo>
                  <a:lnTo>
                    <a:pt x="1860" y="1361"/>
                  </a:lnTo>
                  <a:lnTo>
                    <a:pt x="1956" y="1331"/>
                  </a:lnTo>
                  <a:lnTo>
                    <a:pt x="2068" y="1303"/>
                  </a:lnTo>
                  <a:lnTo>
                    <a:pt x="2185" y="1280"/>
                  </a:lnTo>
                  <a:lnTo>
                    <a:pt x="2313" y="1264"/>
                  </a:lnTo>
                  <a:lnTo>
                    <a:pt x="2448" y="1256"/>
                  </a:lnTo>
                  <a:lnTo>
                    <a:pt x="2588" y="1260"/>
                  </a:lnTo>
                  <a:lnTo>
                    <a:pt x="2734" y="1275"/>
                  </a:lnTo>
                  <a:lnTo>
                    <a:pt x="2884" y="1303"/>
                  </a:lnTo>
                  <a:lnTo>
                    <a:pt x="3037" y="1351"/>
                  </a:lnTo>
                  <a:lnTo>
                    <a:pt x="3192" y="1418"/>
                  </a:lnTo>
                  <a:lnTo>
                    <a:pt x="3186" y="1444"/>
                  </a:lnTo>
                  <a:lnTo>
                    <a:pt x="2656" y="1397"/>
                  </a:lnTo>
                  <a:lnTo>
                    <a:pt x="3171" y="1496"/>
                  </a:lnTo>
                  <a:lnTo>
                    <a:pt x="3171" y="1522"/>
                  </a:lnTo>
                  <a:lnTo>
                    <a:pt x="2670" y="1498"/>
                  </a:lnTo>
                  <a:lnTo>
                    <a:pt x="3171" y="1575"/>
                  </a:lnTo>
                  <a:lnTo>
                    <a:pt x="3164" y="1620"/>
                  </a:lnTo>
                  <a:lnTo>
                    <a:pt x="2708" y="1594"/>
                  </a:lnTo>
                  <a:lnTo>
                    <a:pt x="3167" y="1669"/>
                  </a:lnTo>
                  <a:lnTo>
                    <a:pt x="3171" y="1703"/>
                  </a:lnTo>
                  <a:lnTo>
                    <a:pt x="2745" y="1666"/>
                  </a:lnTo>
                  <a:lnTo>
                    <a:pt x="3192" y="1755"/>
                  </a:lnTo>
                  <a:lnTo>
                    <a:pt x="3219" y="1754"/>
                  </a:lnTo>
                  <a:lnTo>
                    <a:pt x="3197" y="1620"/>
                  </a:lnTo>
                  <a:lnTo>
                    <a:pt x="3213" y="1429"/>
                  </a:lnTo>
                  <a:lnTo>
                    <a:pt x="3222" y="1371"/>
                  </a:lnTo>
                  <a:lnTo>
                    <a:pt x="3213" y="1366"/>
                  </a:lnTo>
                  <a:lnTo>
                    <a:pt x="3189" y="1353"/>
                  </a:lnTo>
                  <a:lnTo>
                    <a:pt x="3150" y="1332"/>
                  </a:lnTo>
                  <a:lnTo>
                    <a:pt x="3096" y="1309"/>
                  </a:lnTo>
                  <a:lnTo>
                    <a:pt x="3028" y="1283"/>
                  </a:lnTo>
                  <a:lnTo>
                    <a:pt x="2949" y="1256"/>
                  </a:lnTo>
                  <a:lnTo>
                    <a:pt x="2856" y="1230"/>
                  </a:lnTo>
                  <a:lnTo>
                    <a:pt x="2754" y="1210"/>
                  </a:lnTo>
                  <a:lnTo>
                    <a:pt x="2638" y="1194"/>
                  </a:lnTo>
                  <a:lnTo>
                    <a:pt x="2513" y="1185"/>
                  </a:lnTo>
                  <a:lnTo>
                    <a:pt x="2378" y="1185"/>
                  </a:lnTo>
                  <a:lnTo>
                    <a:pt x="2237" y="1197"/>
                  </a:lnTo>
                  <a:lnTo>
                    <a:pt x="2083" y="1220"/>
                  </a:lnTo>
                  <a:lnTo>
                    <a:pt x="1925" y="1262"/>
                  </a:lnTo>
                  <a:lnTo>
                    <a:pt x="1758" y="1318"/>
                  </a:lnTo>
                  <a:lnTo>
                    <a:pt x="1589" y="1396"/>
                  </a:lnTo>
                  <a:lnTo>
                    <a:pt x="1592" y="1389"/>
                  </a:lnTo>
                  <a:lnTo>
                    <a:pt x="1605" y="1366"/>
                  </a:lnTo>
                  <a:lnTo>
                    <a:pt x="1627" y="1328"/>
                  </a:lnTo>
                  <a:lnTo>
                    <a:pt x="1659" y="1285"/>
                  </a:lnTo>
                  <a:lnTo>
                    <a:pt x="1699" y="1228"/>
                  </a:lnTo>
                  <a:lnTo>
                    <a:pt x="1751" y="1169"/>
                  </a:lnTo>
                  <a:lnTo>
                    <a:pt x="1816" y="1104"/>
                  </a:lnTo>
                  <a:lnTo>
                    <a:pt x="1893" y="1038"/>
                  </a:lnTo>
                  <a:lnTo>
                    <a:pt x="1979" y="970"/>
                  </a:lnTo>
                  <a:lnTo>
                    <a:pt x="2082" y="908"/>
                  </a:lnTo>
                  <a:lnTo>
                    <a:pt x="2196" y="847"/>
                  </a:lnTo>
                  <a:lnTo>
                    <a:pt x="2326" y="795"/>
                  </a:lnTo>
                  <a:lnTo>
                    <a:pt x="2469" y="750"/>
                  </a:lnTo>
                  <a:lnTo>
                    <a:pt x="2628" y="717"/>
                  </a:lnTo>
                  <a:lnTo>
                    <a:pt x="2803" y="696"/>
                  </a:lnTo>
                  <a:lnTo>
                    <a:pt x="2996" y="690"/>
                  </a:lnTo>
                  <a:lnTo>
                    <a:pt x="2098" y="0"/>
                  </a:lnTo>
                  <a:lnTo>
                    <a:pt x="2094" y="1"/>
                  </a:lnTo>
                  <a:lnTo>
                    <a:pt x="2082" y="10"/>
                  </a:lnTo>
                  <a:lnTo>
                    <a:pt x="2065" y="24"/>
                  </a:lnTo>
                  <a:lnTo>
                    <a:pt x="2043" y="41"/>
                  </a:lnTo>
                  <a:lnTo>
                    <a:pt x="2013" y="65"/>
                  </a:lnTo>
                  <a:lnTo>
                    <a:pt x="1981" y="93"/>
                  </a:lnTo>
                  <a:lnTo>
                    <a:pt x="1942" y="125"/>
                  </a:lnTo>
                  <a:lnTo>
                    <a:pt x="1903" y="161"/>
                  </a:lnTo>
                  <a:lnTo>
                    <a:pt x="1857" y="200"/>
                  </a:lnTo>
                  <a:lnTo>
                    <a:pt x="1812" y="242"/>
                  </a:lnTo>
                  <a:lnTo>
                    <a:pt x="1763" y="287"/>
                  </a:lnTo>
                  <a:lnTo>
                    <a:pt x="1715" y="335"/>
                  </a:lnTo>
                  <a:lnTo>
                    <a:pt x="1664" y="384"/>
                  </a:lnTo>
                  <a:lnTo>
                    <a:pt x="1615" y="434"/>
                  </a:lnTo>
                  <a:lnTo>
                    <a:pt x="1566" y="486"/>
                  </a:lnTo>
                  <a:lnTo>
                    <a:pt x="1519" y="542"/>
                  </a:lnTo>
                  <a:lnTo>
                    <a:pt x="1539" y="594"/>
                  </a:lnTo>
                  <a:lnTo>
                    <a:pt x="1542" y="589"/>
                  </a:lnTo>
                  <a:lnTo>
                    <a:pt x="1553" y="577"/>
                  </a:lnTo>
                  <a:lnTo>
                    <a:pt x="1571" y="555"/>
                  </a:lnTo>
                  <a:lnTo>
                    <a:pt x="1594" y="528"/>
                  </a:lnTo>
                  <a:lnTo>
                    <a:pt x="1623" y="495"/>
                  </a:lnTo>
                  <a:lnTo>
                    <a:pt x="1656" y="459"/>
                  </a:lnTo>
                  <a:lnTo>
                    <a:pt x="1692" y="418"/>
                  </a:lnTo>
                  <a:lnTo>
                    <a:pt x="1734" y="378"/>
                  </a:lnTo>
                  <a:lnTo>
                    <a:pt x="1774" y="332"/>
                  </a:lnTo>
                  <a:lnTo>
                    <a:pt x="1819" y="288"/>
                  </a:lnTo>
                  <a:lnTo>
                    <a:pt x="1862" y="245"/>
                  </a:lnTo>
                  <a:lnTo>
                    <a:pt x="1909" y="205"/>
                  </a:lnTo>
                  <a:lnTo>
                    <a:pt x="1951" y="164"/>
                  </a:lnTo>
                  <a:lnTo>
                    <a:pt x="1994" y="128"/>
                  </a:lnTo>
                  <a:lnTo>
                    <a:pt x="2034" y="99"/>
                  </a:lnTo>
                  <a:lnTo>
                    <a:pt x="2073" y="75"/>
                  </a:lnTo>
                  <a:lnTo>
                    <a:pt x="2836" y="623"/>
                  </a:lnTo>
                  <a:lnTo>
                    <a:pt x="2829" y="620"/>
                  </a:lnTo>
                  <a:lnTo>
                    <a:pt x="2806" y="619"/>
                  </a:lnTo>
                  <a:lnTo>
                    <a:pt x="2768" y="616"/>
                  </a:lnTo>
                  <a:lnTo>
                    <a:pt x="2721" y="618"/>
                  </a:lnTo>
                  <a:lnTo>
                    <a:pt x="2658" y="620"/>
                  </a:lnTo>
                  <a:lnTo>
                    <a:pt x="2588" y="629"/>
                  </a:lnTo>
                  <a:lnTo>
                    <a:pt x="2507" y="644"/>
                  </a:lnTo>
                  <a:lnTo>
                    <a:pt x="2420" y="667"/>
                  </a:lnTo>
                  <a:lnTo>
                    <a:pt x="2325" y="697"/>
                  </a:lnTo>
                  <a:lnTo>
                    <a:pt x="2224" y="742"/>
                  </a:lnTo>
                  <a:lnTo>
                    <a:pt x="2118" y="795"/>
                  </a:lnTo>
                  <a:lnTo>
                    <a:pt x="2008" y="864"/>
                  </a:lnTo>
                  <a:lnTo>
                    <a:pt x="1896" y="947"/>
                  </a:lnTo>
                  <a:lnTo>
                    <a:pt x="1782" y="1048"/>
                  </a:lnTo>
                  <a:lnTo>
                    <a:pt x="1667" y="1165"/>
                  </a:lnTo>
                  <a:lnTo>
                    <a:pt x="1556" y="1303"/>
                  </a:lnTo>
                  <a:lnTo>
                    <a:pt x="1510" y="1374"/>
                  </a:lnTo>
                  <a:lnTo>
                    <a:pt x="1503" y="1370"/>
                  </a:lnTo>
                  <a:lnTo>
                    <a:pt x="1484" y="1358"/>
                  </a:lnTo>
                  <a:lnTo>
                    <a:pt x="1451" y="1342"/>
                  </a:lnTo>
                  <a:lnTo>
                    <a:pt x="1409" y="1322"/>
                  </a:lnTo>
                  <a:lnTo>
                    <a:pt x="1352" y="1299"/>
                  </a:lnTo>
                  <a:lnTo>
                    <a:pt x="1289" y="1279"/>
                  </a:lnTo>
                  <a:lnTo>
                    <a:pt x="1214" y="1257"/>
                  </a:lnTo>
                  <a:lnTo>
                    <a:pt x="1131" y="1240"/>
                  </a:lnTo>
                  <a:lnTo>
                    <a:pt x="1038" y="1224"/>
                  </a:lnTo>
                  <a:lnTo>
                    <a:pt x="935" y="1217"/>
                  </a:lnTo>
                  <a:lnTo>
                    <a:pt x="825" y="1215"/>
                  </a:lnTo>
                  <a:lnTo>
                    <a:pt x="711" y="1224"/>
                  </a:lnTo>
                  <a:lnTo>
                    <a:pt x="585" y="1243"/>
                  </a:lnTo>
                  <a:lnTo>
                    <a:pt x="458" y="1275"/>
                  </a:lnTo>
                  <a:lnTo>
                    <a:pt x="322" y="1318"/>
                  </a:lnTo>
                  <a:lnTo>
                    <a:pt x="185" y="1380"/>
                  </a:lnTo>
                  <a:lnTo>
                    <a:pt x="163" y="1452"/>
                  </a:lnTo>
                  <a:lnTo>
                    <a:pt x="162" y="1455"/>
                  </a:lnTo>
                  <a:lnTo>
                    <a:pt x="162" y="1464"/>
                  </a:lnTo>
                  <a:lnTo>
                    <a:pt x="161" y="1475"/>
                  </a:lnTo>
                  <a:lnTo>
                    <a:pt x="161" y="1490"/>
                  </a:lnTo>
                  <a:lnTo>
                    <a:pt x="158" y="1503"/>
                  </a:lnTo>
                  <a:lnTo>
                    <a:pt x="156" y="1517"/>
                  </a:lnTo>
                  <a:lnTo>
                    <a:pt x="153" y="1527"/>
                  </a:lnTo>
                  <a:lnTo>
                    <a:pt x="153" y="1533"/>
                  </a:lnTo>
                  <a:lnTo>
                    <a:pt x="49" y="1368"/>
                  </a:lnTo>
                  <a:lnTo>
                    <a:pt x="119" y="1605"/>
                  </a:lnTo>
                  <a:lnTo>
                    <a:pt x="0" y="1444"/>
                  </a:lnTo>
                  <a:lnTo>
                    <a:pt x="104" y="1698"/>
                  </a:lnTo>
                  <a:lnTo>
                    <a:pt x="104" y="1699"/>
                  </a:lnTo>
                  <a:lnTo>
                    <a:pt x="104" y="1705"/>
                  </a:lnTo>
                  <a:lnTo>
                    <a:pt x="103" y="1712"/>
                  </a:lnTo>
                  <a:lnTo>
                    <a:pt x="103" y="1725"/>
                  </a:lnTo>
                  <a:lnTo>
                    <a:pt x="98" y="1738"/>
                  </a:lnTo>
                  <a:lnTo>
                    <a:pt x="90" y="1753"/>
                  </a:lnTo>
                  <a:lnTo>
                    <a:pt x="84" y="1761"/>
                  </a:lnTo>
                  <a:lnTo>
                    <a:pt x="77" y="1770"/>
                  </a:lnTo>
                  <a:lnTo>
                    <a:pt x="68" y="1780"/>
                  </a:lnTo>
                  <a:lnTo>
                    <a:pt x="61" y="1790"/>
                  </a:lnTo>
                  <a:lnTo>
                    <a:pt x="59" y="1794"/>
                  </a:lnTo>
                  <a:lnTo>
                    <a:pt x="64" y="1805"/>
                  </a:lnTo>
                  <a:lnTo>
                    <a:pt x="70" y="1816"/>
                  </a:lnTo>
                  <a:lnTo>
                    <a:pt x="80" y="1829"/>
                  </a:lnTo>
                  <a:lnTo>
                    <a:pt x="87" y="1839"/>
                  </a:lnTo>
                  <a:lnTo>
                    <a:pt x="96" y="1851"/>
                  </a:lnTo>
                  <a:lnTo>
                    <a:pt x="101" y="1858"/>
                  </a:lnTo>
                  <a:lnTo>
                    <a:pt x="104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7"/>
            <p:cNvSpPr/>
            <p:nvPr/>
          </p:nvSpPr>
          <p:spPr>
            <a:xfrm>
              <a:off x="3240360" y="4279680"/>
              <a:ext cx="63360" cy="112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20320"/>
                <a:gd name="textAreaBottom" fmla="*/ 1120680 h 1120320"/>
              </a:gdLst>
              <a:ahLst/>
              <a:rect l="textAreaLeft" t="textAreaTop" r="textAreaRight" b="textAreaBottom"/>
              <a:pathLst>
                <a:path w="81" h="1412">
                  <a:moveTo>
                    <a:pt x="56" y="0"/>
                  </a:moveTo>
                  <a:lnTo>
                    <a:pt x="81" y="1403"/>
                  </a:lnTo>
                  <a:lnTo>
                    <a:pt x="0" y="1412"/>
                  </a:lnTo>
                  <a:lnTo>
                    <a:pt x="13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8"/>
            <p:cNvSpPr/>
            <p:nvPr/>
          </p:nvSpPr>
          <p:spPr>
            <a:xfrm>
              <a:off x="2621160" y="396684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2" h="499">
                  <a:moveTo>
                    <a:pt x="114" y="499"/>
                  </a:moveTo>
                  <a:lnTo>
                    <a:pt x="0" y="0"/>
                  </a:lnTo>
                  <a:lnTo>
                    <a:pt x="76" y="49"/>
                  </a:lnTo>
                  <a:lnTo>
                    <a:pt x="152" y="436"/>
                  </a:lnTo>
                  <a:lnTo>
                    <a:pt x="114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9"/>
            <p:cNvSpPr/>
            <p:nvPr/>
          </p:nvSpPr>
          <p:spPr>
            <a:xfrm>
              <a:off x="2743200" y="4028760"/>
              <a:ext cx="65160" cy="33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1" h="427">
                  <a:moveTo>
                    <a:pt x="50" y="427"/>
                  </a:moveTo>
                  <a:lnTo>
                    <a:pt x="0" y="0"/>
                  </a:lnTo>
                  <a:lnTo>
                    <a:pt x="50" y="40"/>
                  </a:lnTo>
                  <a:lnTo>
                    <a:pt x="81" y="380"/>
                  </a:lnTo>
                  <a:lnTo>
                    <a:pt x="50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0"/>
            <p:cNvSpPr/>
            <p:nvPr/>
          </p:nvSpPr>
          <p:spPr>
            <a:xfrm>
              <a:off x="2849760" y="4095720"/>
              <a:ext cx="33120" cy="312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4" h="395">
                  <a:moveTo>
                    <a:pt x="6" y="0"/>
                  </a:moveTo>
                  <a:lnTo>
                    <a:pt x="44" y="96"/>
                  </a:lnTo>
                  <a:lnTo>
                    <a:pt x="41" y="395"/>
                  </a:lnTo>
                  <a:lnTo>
                    <a:pt x="0" y="35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1"/>
            <p:cNvSpPr/>
            <p:nvPr/>
          </p:nvSpPr>
          <p:spPr>
            <a:xfrm>
              <a:off x="2887920" y="4466880"/>
              <a:ext cx="85680" cy="340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8" h="431">
                  <a:moveTo>
                    <a:pt x="28" y="431"/>
                  </a:moveTo>
                  <a:lnTo>
                    <a:pt x="0" y="192"/>
                  </a:lnTo>
                  <a:lnTo>
                    <a:pt x="57" y="112"/>
                  </a:lnTo>
                  <a:lnTo>
                    <a:pt x="72" y="0"/>
                  </a:lnTo>
                  <a:lnTo>
                    <a:pt x="102" y="22"/>
                  </a:lnTo>
                  <a:lnTo>
                    <a:pt x="108" y="113"/>
                  </a:lnTo>
                  <a:lnTo>
                    <a:pt x="37" y="203"/>
                  </a:lnTo>
                  <a:lnTo>
                    <a:pt x="72" y="413"/>
                  </a:lnTo>
                  <a:lnTo>
                    <a:pt x="28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2"/>
            <p:cNvSpPr/>
            <p:nvPr/>
          </p:nvSpPr>
          <p:spPr>
            <a:xfrm>
              <a:off x="2970360" y="4522680"/>
              <a:ext cx="85680" cy="361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8" h="456">
                  <a:moveTo>
                    <a:pt x="22" y="456"/>
                  </a:moveTo>
                  <a:lnTo>
                    <a:pt x="62" y="332"/>
                  </a:lnTo>
                  <a:lnTo>
                    <a:pt x="0" y="156"/>
                  </a:lnTo>
                  <a:lnTo>
                    <a:pt x="100" y="0"/>
                  </a:lnTo>
                  <a:lnTo>
                    <a:pt x="108" y="66"/>
                  </a:lnTo>
                  <a:lnTo>
                    <a:pt x="54" y="156"/>
                  </a:lnTo>
                  <a:lnTo>
                    <a:pt x="106" y="349"/>
                  </a:lnTo>
                  <a:lnTo>
                    <a:pt x="22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3"/>
            <p:cNvSpPr/>
            <p:nvPr/>
          </p:nvSpPr>
          <p:spPr>
            <a:xfrm>
              <a:off x="3051360" y="4579560"/>
              <a:ext cx="104760" cy="44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33" h="566">
                  <a:moveTo>
                    <a:pt x="46" y="456"/>
                  </a:moveTo>
                  <a:lnTo>
                    <a:pt x="86" y="319"/>
                  </a:lnTo>
                  <a:lnTo>
                    <a:pt x="0" y="130"/>
                  </a:lnTo>
                  <a:lnTo>
                    <a:pt x="92" y="0"/>
                  </a:lnTo>
                  <a:lnTo>
                    <a:pt x="63" y="110"/>
                  </a:lnTo>
                  <a:lnTo>
                    <a:pt x="133" y="309"/>
                  </a:lnTo>
                  <a:lnTo>
                    <a:pt x="101" y="417"/>
                  </a:lnTo>
                  <a:lnTo>
                    <a:pt x="130" y="468"/>
                  </a:lnTo>
                  <a:lnTo>
                    <a:pt x="124" y="566"/>
                  </a:lnTo>
                  <a:lnTo>
                    <a:pt x="46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4"/>
            <p:cNvSpPr/>
            <p:nvPr/>
          </p:nvSpPr>
          <p:spPr>
            <a:xfrm>
              <a:off x="2959200" y="4257360"/>
              <a:ext cx="185760" cy="2808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34" h="354">
                  <a:moveTo>
                    <a:pt x="107" y="191"/>
                  </a:moveTo>
                  <a:lnTo>
                    <a:pt x="35" y="182"/>
                  </a:lnTo>
                  <a:lnTo>
                    <a:pt x="0" y="123"/>
                  </a:lnTo>
                  <a:lnTo>
                    <a:pt x="55" y="0"/>
                  </a:lnTo>
                  <a:lnTo>
                    <a:pt x="153" y="114"/>
                  </a:lnTo>
                  <a:lnTo>
                    <a:pt x="214" y="30"/>
                  </a:lnTo>
                  <a:lnTo>
                    <a:pt x="199" y="123"/>
                  </a:lnTo>
                  <a:lnTo>
                    <a:pt x="234" y="175"/>
                  </a:lnTo>
                  <a:lnTo>
                    <a:pt x="228" y="233"/>
                  </a:lnTo>
                  <a:lnTo>
                    <a:pt x="197" y="235"/>
                  </a:lnTo>
                  <a:lnTo>
                    <a:pt x="191" y="354"/>
                  </a:lnTo>
                  <a:lnTo>
                    <a:pt x="113" y="261"/>
                  </a:lnTo>
                  <a:lnTo>
                    <a:pt x="10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5"/>
            <p:cNvSpPr/>
            <p:nvPr/>
          </p:nvSpPr>
          <p:spPr>
            <a:xfrm>
              <a:off x="2754360" y="4501800"/>
              <a:ext cx="87480" cy="1933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12" h="244">
                  <a:moveTo>
                    <a:pt x="106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6" y="3"/>
                  </a:lnTo>
                  <a:lnTo>
                    <a:pt x="74" y="7"/>
                  </a:lnTo>
                  <a:lnTo>
                    <a:pt x="60" y="11"/>
                  </a:lnTo>
                  <a:lnTo>
                    <a:pt x="45" y="20"/>
                  </a:lnTo>
                  <a:lnTo>
                    <a:pt x="32" y="29"/>
                  </a:lnTo>
                  <a:lnTo>
                    <a:pt x="21" y="42"/>
                  </a:lnTo>
                  <a:lnTo>
                    <a:pt x="11" y="53"/>
                  </a:lnTo>
                  <a:lnTo>
                    <a:pt x="3" y="70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2" y="140"/>
                  </a:lnTo>
                  <a:lnTo>
                    <a:pt x="29" y="170"/>
                  </a:lnTo>
                  <a:lnTo>
                    <a:pt x="51" y="205"/>
                  </a:lnTo>
                  <a:lnTo>
                    <a:pt x="86" y="244"/>
                  </a:lnTo>
                  <a:lnTo>
                    <a:pt x="102" y="157"/>
                  </a:lnTo>
                  <a:lnTo>
                    <a:pt x="96" y="151"/>
                  </a:lnTo>
                  <a:lnTo>
                    <a:pt x="83" y="143"/>
                  </a:lnTo>
                  <a:lnTo>
                    <a:pt x="74" y="134"/>
                  </a:lnTo>
                  <a:lnTo>
                    <a:pt x="67" y="127"/>
                  </a:lnTo>
                  <a:lnTo>
                    <a:pt x="58" y="118"/>
                  </a:lnTo>
                  <a:lnTo>
                    <a:pt x="54" y="109"/>
                  </a:lnTo>
                  <a:lnTo>
                    <a:pt x="48" y="99"/>
                  </a:lnTo>
                  <a:lnTo>
                    <a:pt x="47" y="89"/>
                  </a:lnTo>
                  <a:lnTo>
                    <a:pt x="47" y="81"/>
                  </a:lnTo>
                  <a:lnTo>
                    <a:pt x="51" y="72"/>
                  </a:lnTo>
                  <a:lnTo>
                    <a:pt x="58" y="63"/>
                  </a:lnTo>
                  <a:lnTo>
                    <a:pt x="71" y="57"/>
                  </a:lnTo>
                  <a:lnTo>
                    <a:pt x="89" y="53"/>
                  </a:lnTo>
                  <a:lnTo>
                    <a:pt x="112" y="5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26"/>
            <p:cNvSpPr/>
            <p:nvPr/>
          </p:nvSpPr>
          <p:spPr>
            <a:xfrm>
              <a:off x="2813040" y="4503600"/>
              <a:ext cx="61920" cy="191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0" h="241">
                  <a:moveTo>
                    <a:pt x="32" y="0"/>
                  </a:moveTo>
                  <a:lnTo>
                    <a:pt x="36" y="5"/>
                  </a:lnTo>
                  <a:lnTo>
                    <a:pt x="41" y="13"/>
                  </a:lnTo>
                  <a:lnTo>
                    <a:pt x="48" y="23"/>
                  </a:lnTo>
                  <a:lnTo>
                    <a:pt x="55" y="34"/>
                  </a:lnTo>
                  <a:lnTo>
                    <a:pt x="62" y="49"/>
                  </a:lnTo>
                  <a:lnTo>
                    <a:pt x="68" y="65"/>
                  </a:lnTo>
                  <a:lnTo>
                    <a:pt x="75" y="83"/>
                  </a:lnTo>
                  <a:lnTo>
                    <a:pt x="78" y="101"/>
                  </a:lnTo>
                  <a:lnTo>
                    <a:pt x="80" y="121"/>
                  </a:lnTo>
                  <a:lnTo>
                    <a:pt x="78" y="141"/>
                  </a:lnTo>
                  <a:lnTo>
                    <a:pt x="74" y="161"/>
                  </a:lnTo>
                  <a:lnTo>
                    <a:pt x="65" y="182"/>
                  </a:lnTo>
                  <a:lnTo>
                    <a:pt x="52" y="202"/>
                  </a:lnTo>
                  <a:lnTo>
                    <a:pt x="35" y="222"/>
                  </a:lnTo>
                  <a:lnTo>
                    <a:pt x="12" y="241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12" y="148"/>
                  </a:lnTo>
                  <a:lnTo>
                    <a:pt x="22" y="137"/>
                  </a:lnTo>
                  <a:lnTo>
                    <a:pt x="32" y="125"/>
                  </a:lnTo>
                  <a:lnTo>
                    <a:pt x="36" y="117"/>
                  </a:lnTo>
                  <a:lnTo>
                    <a:pt x="38" y="108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6" y="76"/>
                  </a:lnTo>
                  <a:lnTo>
                    <a:pt x="32" y="65"/>
                  </a:lnTo>
                  <a:lnTo>
                    <a:pt x="25" y="53"/>
                  </a:lnTo>
                  <a:lnTo>
                    <a:pt x="15" y="4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7"/>
            <p:cNvSpPr/>
            <p:nvPr/>
          </p:nvSpPr>
          <p:spPr>
            <a:xfrm>
              <a:off x="3510000" y="5074920"/>
              <a:ext cx="169920" cy="7128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2" h="89">
                  <a:moveTo>
                    <a:pt x="81" y="26"/>
                  </a:moveTo>
                  <a:lnTo>
                    <a:pt x="212" y="0"/>
                  </a:lnTo>
                  <a:lnTo>
                    <a:pt x="0" y="89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3473640" y="5117760"/>
              <a:ext cx="230040" cy="101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1" h="129">
                  <a:moveTo>
                    <a:pt x="0" y="98"/>
                  </a:moveTo>
                  <a:lnTo>
                    <a:pt x="286" y="0"/>
                  </a:lnTo>
                  <a:lnTo>
                    <a:pt x="291" y="22"/>
                  </a:lnTo>
                  <a:lnTo>
                    <a:pt x="29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3481560" y="5184720"/>
              <a:ext cx="231840" cy="113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0" h="145">
                  <a:moveTo>
                    <a:pt x="0" y="113"/>
                  </a:moveTo>
                  <a:lnTo>
                    <a:pt x="290" y="0"/>
                  </a:lnTo>
                  <a:lnTo>
                    <a:pt x="290" y="32"/>
                  </a:lnTo>
                  <a:lnTo>
                    <a:pt x="17" y="145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818160" y="4983120"/>
              <a:ext cx="315720" cy="31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99" h="41">
                  <a:moveTo>
                    <a:pt x="0" y="41"/>
                  </a:moveTo>
                  <a:lnTo>
                    <a:pt x="35" y="0"/>
                  </a:lnTo>
                  <a:lnTo>
                    <a:pt x="399" y="6"/>
                  </a:lnTo>
                  <a:lnTo>
                    <a:pt x="344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770280" y="5033880"/>
              <a:ext cx="479520" cy="979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04" h="124">
                  <a:moveTo>
                    <a:pt x="0" y="52"/>
                  </a:moveTo>
                  <a:lnTo>
                    <a:pt x="148" y="78"/>
                  </a:lnTo>
                  <a:lnTo>
                    <a:pt x="250" y="0"/>
                  </a:lnTo>
                  <a:lnTo>
                    <a:pt x="411" y="57"/>
                  </a:lnTo>
                  <a:lnTo>
                    <a:pt x="474" y="16"/>
                  </a:lnTo>
                  <a:lnTo>
                    <a:pt x="604" y="83"/>
                  </a:lnTo>
                  <a:lnTo>
                    <a:pt x="547" y="101"/>
                  </a:lnTo>
                  <a:lnTo>
                    <a:pt x="471" y="66"/>
                  </a:lnTo>
                  <a:lnTo>
                    <a:pt x="388" y="114"/>
                  </a:lnTo>
                  <a:lnTo>
                    <a:pt x="250" y="40"/>
                  </a:lnTo>
                  <a:lnTo>
                    <a:pt x="151" y="12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3757680" y="5119560"/>
              <a:ext cx="561960" cy="900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709" h="114">
                  <a:moveTo>
                    <a:pt x="0" y="71"/>
                  </a:moveTo>
                  <a:lnTo>
                    <a:pt x="30" y="27"/>
                  </a:lnTo>
                  <a:lnTo>
                    <a:pt x="151" y="71"/>
                  </a:lnTo>
                  <a:lnTo>
                    <a:pt x="281" y="0"/>
                  </a:lnTo>
                  <a:lnTo>
                    <a:pt x="414" y="59"/>
                  </a:lnTo>
                  <a:lnTo>
                    <a:pt x="524" y="3"/>
                  </a:lnTo>
                  <a:lnTo>
                    <a:pt x="709" y="108"/>
                  </a:lnTo>
                  <a:lnTo>
                    <a:pt x="523" y="42"/>
                  </a:lnTo>
                  <a:lnTo>
                    <a:pt x="394" y="103"/>
                  </a:lnTo>
                  <a:lnTo>
                    <a:pt x="287" y="39"/>
                  </a:lnTo>
                  <a:lnTo>
                    <a:pt x="143" y="11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9" name="Object 33"/>
                <p:cNvSpPr txBox="1"/>
                <p:nvPr/>
              </p:nvSpPr>
              <p:spPr>
                <a:xfrm>
                  <a:off x="1981440" y="4805280"/>
                  <a:ext cx="685800" cy="16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" name="Object 34"/>
                <p:cNvSpPr txBox="1"/>
                <p:nvPr/>
              </p:nvSpPr>
              <p:spPr>
                <a:xfrm>
                  <a:off x="2057400" y="4957560"/>
                  <a:ext cx="838440" cy="1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÷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1" name="Object 35"/>
                <p:cNvSpPr txBox="1"/>
                <p:nvPr/>
              </p:nvSpPr>
              <p:spPr>
                <a:xfrm>
                  <a:off x="3353040" y="4652640"/>
                  <a:ext cx="7380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2" name="AutoShape 36"/>
          <p:cNvSpPr/>
          <p:nvPr/>
        </p:nvSpPr>
        <p:spPr>
          <a:xfrm>
            <a:off x="158760" y="1687680"/>
            <a:ext cx="2286000" cy="3209760"/>
          </a:xfrm>
          <a:prstGeom prst="borderCallout1">
            <a:avLst>
              <a:gd name="adj1" fmla="val 18750"/>
              <a:gd name="adj2" fmla="val -8333"/>
              <a:gd name="adj3" fmla="val 95296"/>
              <a:gd name="adj4" fmla="val 112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number and a random natural numbers m and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7"/>
              <p:cNvSpPr txBox="1"/>
              <p:nvPr/>
            </p:nvSpPr>
            <p:spPr>
              <a:xfrm>
                <a:off x="512640" y="4387680"/>
                <a:ext cx="159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4" name="AutoShape 38"/>
          <p:cNvSpPr/>
          <p:nvPr/>
        </p:nvSpPr>
        <p:spPr>
          <a:xfrm flipH="1">
            <a:off x="5181480" y="3505320"/>
            <a:ext cx="320688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13" y="1199"/>
                </a:moveTo>
                <a:lnTo>
                  <a:pt x="30026" y="1199"/>
                </a:lnTo>
                <a:lnTo>
                  <a:pt x="30026" y="3149"/>
                </a:lnTo>
                <a:lnTo>
                  <a:pt x="28657" y="16066"/>
                </a:lnTo>
              </a:path>
            </a:pathLst>
          </a:custGeom>
          <a:solidFill>
            <a:srgbClr val="4e67c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nstruction of the degree of the power base is left unchanged , and the figures are multi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карбек</dc:creator>
  <dc:description/>
  <dc:language>en-US</dc:language>
  <cp:lastModifiedBy>vip</cp:lastModifiedBy>
  <dcterms:modified xsi:type="dcterms:W3CDTF">2016-02-25T09:10:43Z</dcterms:modified>
  <cp:revision>44</cp:revision>
  <dc:subject/>
  <dc:title>PowerPoint Presentation</dc:title>
</cp:coreProperties>
</file>