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8.wmf" ContentType="image/x-wmf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085C-3B2F-4A82-8F89-54D6877668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9069-D795-495B-8CFA-02E84E4FA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B9EF-AE21-415E-9903-6587679D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7E3A-F5D5-47F5-8842-E413CB020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2634-2A06-4B86-9771-C050CCEE6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CD76-3384-4AFE-AFF2-549392AC9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1E96-9F40-4D59-8A5D-E37EE9B7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405B-618A-486D-BA3F-167933D3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BEA9-2477-45BA-B889-27D26CCC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B3FE-51EE-484D-A574-8156088F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6969-F2B7-49E7-80DA-E1954A65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6AB0-E4DB-4D63-9293-1535B1CB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7EA6-26E8-470D-A6BE-08704387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D4D5-D258-427D-805B-32B8AD51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AC69-B507-4741-B2EB-60D11A0D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7D5A-41CE-4FCA-8765-E07F3606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514F-4FCC-4E1D-BA04-8B4ACF423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4CDF-8A53-4417-8CE5-5F0ED22FF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8CA10-E8CE-473C-9B4B-15B024241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A3CE5-0EA8-4012-9646-E87FB2C8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80159-C75B-4481-ADA3-02ACE820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B05DB-B319-4305-8580-EB92BD71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FAFF7-4B50-4B53-A443-BC8769C1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D0CE-6987-4A14-847B-96629690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FABDF-A34A-4AFC-ADFE-8A8244CE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6645E-5683-412F-9FA3-486271A5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E0B90-259E-463C-A403-98F3EE28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00AB5-B59F-4386-9BB6-D0CED1F7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B3FD8-3252-466C-AD67-198C325A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A31FB-AB87-4DD2-80BA-0EA15DB19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31AB9-00C3-446E-9960-C49B6588D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6DA7F-1013-488E-B28B-EB76025C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2F5AE-D071-40F9-8B89-A74FD816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C9BB8-E340-43D9-BF3E-69F56E71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6581-2BAE-4012-B909-1F115161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C4965-BF90-4186-8167-717E815F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C9590-5817-4F94-9C5C-1C55366D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DD6B5-34B9-4F57-AEFD-898D2A04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F2C80-2CFB-484C-8B5E-F8711DB1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AF3A0-6380-4334-A58A-BCDD24CE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1B9D5-BE66-4117-B103-D054280D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02B22-5864-4D79-931E-552949A4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CE7B2-9BD6-41A6-9350-0BE51E1A7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B54B3-C850-4376-8FD9-F15A97CFD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FE08-25E7-4458-BCFE-EC93CB08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C249-E072-4EB6-87AB-A217285D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188A-3BEF-4849-A583-DBF37B33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044D-4A26-4AEA-B701-7CA0B426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374A-8A57-4972-BA1A-1EB4687A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6E1C-8046-40B6-8999-28195369B940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E069-DD63-47B0-9EAC-CD13D3888E87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C263-DB44-499C-A34A-A383DABCC126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F3B7-47C6-44B4-81E3-CD9EC733FFFE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604360" cy="278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fceff"/>
                </a:solidFill>
                <a:latin typeface="Times New Roman"/>
                <a:ea typeface="Times New Roman"/>
              </a:rPr>
              <a:t>Счет в пределах 100</a:t>
            </a:r>
            <a:br>
              <a:rPr sz="4000"/>
            </a:br>
            <a:r>
              <a:rPr b="1" i="1" lang="ru-RU" sz="4000" spc="-1" strike="noStrike">
                <a:solidFill>
                  <a:srgbClr val="4fceff"/>
                </a:solidFill>
                <a:latin typeface="Constantia"/>
              </a:rPr>
              <a:t> </a:t>
            </a:r>
            <a:r>
              <a:rPr b="1" i="1" lang="ru-RU" sz="4000" spc="-1" strike="noStrike">
                <a:solidFill>
                  <a:srgbClr val="4fceff"/>
                </a:solidFill>
                <a:latin typeface="Times New Roman"/>
                <a:ea typeface="Times New Roman"/>
              </a:rPr>
              <a:t>2 КЛАСС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6840" y="2786040"/>
            <a:ext cx="74674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85200" indent="-35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85200" indent="-35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85200" indent="-35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85200" indent="-35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К «Начальная инновационная школа»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5200" indent="-35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85200" indent="-35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85200" indent="-35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85200" indent="-35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85200" indent="-35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85200" indent="-35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6" descr="http://s52.radikal.ru/i137/1407/20/ef0efcde356d.png"/>
          <p:cNvPicPr/>
          <p:nvPr/>
        </p:nvPicPr>
        <p:blipFill>
          <a:blip r:embed="rId1"/>
          <a:stretch/>
        </p:blipFill>
        <p:spPr>
          <a:xfrm>
            <a:off x="6184800" y="2708280"/>
            <a:ext cx="2305080" cy="368316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оугольник 5"/>
          <p:cNvSpPr/>
          <p:nvPr/>
        </p:nvSpPr>
        <p:spPr>
          <a:xfrm>
            <a:off x="826920" y="5013360"/>
            <a:ext cx="5292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омарева Светлана Викто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 МАОУ СОШ №1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Перм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-168480"/>
            <a:ext cx="746748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4fceff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692360" y="692280"/>
            <a:ext cx="691200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89520" indent="-3556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1" lang="ru-RU" sz="4800" spc="-1" strike="noStrike">
                <a:solidFill>
                  <a:srgbClr val="94f7dc"/>
                </a:solidFill>
                <a:latin typeface="Constantia"/>
              </a:rPr>
              <a:t>Устный счёт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389520" indent="-3556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16 + 30             28 + 40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389520" indent="-3556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36 – 6             68 – 8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389520" indent="-3556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36 – 30           68 –1 0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389520" indent="-3556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36 – 36           68 – 40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389520" indent="-355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ff3ca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3200" spc="-1" strike="noStrike">
                <a:solidFill>
                  <a:srgbClr val="5ff3ca"/>
                </a:solidFill>
                <a:latin typeface="Times New Roman"/>
                <a:ea typeface="Times New Roman"/>
              </a:rPr>
              <a:t>Найдите в каждом столбике «лишний» пример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6" descr="http://www.pics-zone.ru/img.php?url=http://img-fotki.yandex.ru/get/5908/kur-valentina.11d/0_8d9b6_624399f1_XL"/>
          <p:cNvPicPr/>
          <p:nvPr/>
        </p:nvPicPr>
        <p:blipFill>
          <a:blip r:embed="rId1"/>
          <a:stretch/>
        </p:blipFill>
        <p:spPr>
          <a:xfrm>
            <a:off x="395280" y="2986200"/>
            <a:ext cx="2089080" cy="33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1"/>
          <p:cNvSpPr/>
          <p:nvPr/>
        </p:nvSpPr>
        <p:spPr>
          <a:xfrm>
            <a:off x="676080" y="928800"/>
            <a:ext cx="560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ff3ca"/>
                </a:solidFill>
                <a:latin typeface="Constantia"/>
              </a:rPr>
              <a:t>Решите задач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708120" y="1989000"/>
            <a:ext cx="5212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ыло – 24 м матер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дали -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талось – 17 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http://cs620520.vk.me/v620520651/18e6b/F3Uhux00IDE.jpg"/>
          <p:cNvPicPr/>
          <p:nvPr/>
        </p:nvPicPr>
        <p:blipFill>
          <a:blip r:embed="rId1"/>
          <a:stretch/>
        </p:blipFill>
        <p:spPr>
          <a:xfrm>
            <a:off x="7020000" y="1844640"/>
            <a:ext cx="19429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1"/>
          <p:cNvSpPr/>
          <p:nvPr/>
        </p:nvSpPr>
        <p:spPr>
          <a:xfrm>
            <a:off x="1000080" y="10000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http://im5-tub-ru.yandex.net/i?id=132070653-36-72"/>
          <p:cNvPicPr/>
          <p:nvPr/>
        </p:nvPicPr>
        <p:blipFill>
          <a:blip r:embed="rId1"/>
          <a:stretch/>
        </p:blipFill>
        <p:spPr>
          <a:xfrm>
            <a:off x="571680" y="928800"/>
            <a:ext cx="1347480" cy="17143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http://im3-tub-ru.yandex.net/i?id=93204014-01-72"/>
          <p:cNvPicPr/>
          <p:nvPr/>
        </p:nvPicPr>
        <p:blipFill>
          <a:blip r:embed="rId2"/>
          <a:stretch/>
        </p:blipFill>
        <p:spPr>
          <a:xfrm>
            <a:off x="642960" y="3857760"/>
            <a:ext cx="1285920" cy="1928520"/>
          </a:xfrm>
          <a:prstGeom prst="rect">
            <a:avLst/>
          </a:prstGeom>
          <a:ln w="0">
            <a:noFill/>
          </a:ln>
        </p:spPr>
      </p:pic>
      <p:sp>
        <p:nvSpPr>
          <p:cNvPr id="215" name="TextBox 4"/>
          <p:cNvSpPr/>
          <p:nvPr/>
        </p:nvSpPr>
        <p:spPr>
          <a:xfrm>
            <a:off x="500040" y="264312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н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5"/>
          <p:cNvSpPr/>
          <p:nvPr/>
        </p:nvSpPr>
        <p:spPr>
          <a:xfrm>
            <a:off x="785880" y="5715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6"/>
          <p:cNvSpPr/>
          <p:nvPr/>
        </p:nvSpPr>
        <p:spPr>
          <a:xfrm>
            <a:off x="2156040" y="1643040"/>
            <a:ext cx="243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- 20 кг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7"/>
          <p:cNvSpPr/>
          <p:nvPr/>
        </p:nvSpPr>
        <p:spPr>
          <a:xfrm>
            <a:off x="2324880" y="4714920"/>
            <a:ext cx="732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ru-RU" sz="5400" spc="-1" strike="noStrike">
                <a:solidFill>
                  <a:srgbClr val="7e9632"/>
                </a:solidFill>
                <a:latin typeface="Constantia"/>
              </a:rPr>
              <a:t>?</a:t>
            </a: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, на 35 кг больш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5"/>
          <p:cNvSpPr/>
          <p:nvPr/>
        </p:nvSpPr>
        <p:spPr>
          <a:xfrm>
            <a:off x="2940840" y="1071720"/>
            <a:ext cx="185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 6 кг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2939040" y="3357720"/>
            <a:ext cx="16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 9 к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3124800" y="5572080"/>
            <a:ext cx="188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ru-RU" sz="4800" spc="-1" strike="noStrike">
                <a:solidFill>
                  <a:srgbClr val="06686d"/>
                </a:solidFill>
                <a:latin typeface="Constantia"/>
              </a:rPr>
              <a:t> ? 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к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авая фигурная скобка 9"/>
          <p:cNvSpPr/>
          <p:nvPr/>
        </p:nvSpPr>
        <p:spPr>
          <a:xfrm>
            <a:off x="5072040" y="1214280"/>
            <a:ext cx="798480" cy="5072400"/>
          </a:xfrm>
          <a:custGeom>
            <a:avLst/>
            <a:gdLst>
              <a:gd name="textAreaLeft" fmla="*/ 0 w 798480"/>
              <a:gd name="textAreaRight" fmla="*/ 288360 w 798480"/>
              <a:gd name="textAreaTop" fmla="*/ 20520 h 5072400"/>
              <a:gd name="textAreaBottom" fmla="*/ 5051880 h 507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2"/>
                  <a:pt x="10800" y="283"/>
                </a:cubicBezTo>
                <a:lnTo>
                  <a:pt x="10800" y="10517"/>
                </a:lnTo>
                <a:cubicBezTo>
                  <a:pt x="10800" y="10659"/>
                  <a:pt x="16200" y="10800"/>
                  <a:pt x="21600" y="10800"/>
                </a:cubicBezTo>
                <a:cubicBezTo>
                  <a:pt x="16200" y="10800"/>
                  <a:pt x="10800" y="10942"/>
                  <a:pt x="10800" y="11083"/>
                </a:cubicBezTo>
                <a:lnTo>
                  <a:pt x="10800" y="21317"/>
                </a:lnTo>
                <a:cubicBezTo>
                  <a:pt x="10800" y="2145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2"/>
          <p:cNvSpPr/>
          <p:nvPr/>
        </p:nvSpPr>
        <p:spPr>
          <a:xfrm>
            <a:off x="6000840" y="3286080"/>
            <a:ext cx="232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  24 к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1" descr="http://radugastock.com/view?id=11690&amp;h=38b4097c428452153242ee27422d51363a1c48d76a072864"/>
          <p:cNvPicPr/>
          <p:nvPr/>
        </p:nvPicPr>
        <p:blipFill>
          <a:blip r:embed="rId1"/>
          <a:stretch/>
        </p:blipFill>
        <p:spPr>
          <a:xfrm>
            <a:off x="250920" y="549360"/>
            <a:ext cx="2746440" cy="2016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1" descr="http://radugastock.com/view?id=11690&amp;h=38b4097c428452153242ee27422d51363a1c48d76a072864"/>
          <p:cNvPicPr/>
          <p:nvPr/>
        </p:nvPicPr>
        <p:blipFill>
          <a:blip r:embed="rId2"/>
          <a:stretch/>
        </p:blipFill>
        <p:spPr>
          <a:xfrm>
            <a:off x="250920" y="2421000"/>
            <a:ext cx="2746440" cy="2016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1" descr="http://radugastock.com/view?id=11690&amp;h=38b4097c428452153242ee27422d51363a1c48d76a072864"/>
          <p:cNvPicPr/>
          <p:nvPr/>
        </p:nvPicPr>
        <p:blipFill>
          <a:blip r:embed="rId3"/>
          <a:stretch/>
        </p:blipFill>
        <p:spPr>
          <a:xfrm>
            <a:off x="468360" y="4581360"/>
            <a:ext cx="27464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-86040"/>
            <a:ext cx="9001080" cy="77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4fceff"/>
              </a:solidFill>
              <a:latin typeface="Calibri"/>
            </a:endParaRPr>
          </a:p>
        </p:txBody>
      </p:sp>
      <p:pic>
        <p:nvPicPr>
          <p:cNvPr id="228" name="Picture 2" descr="http://im2-tub-ru.yandex.net/i?id=337123473-23-72"/>
          <p:cNvPicPr/>
          <p:nvPr/>
        </p:nvPicPr>
        <p:blipFill>
          <a:blip r:embed="rId1"/>
          <a:stretch/>
        </p:blipFill>
        <p:spPr>
          <a:xfrm>
            <a:off x="468360" y="765000"/>
            <a:ext cx="1913040" cy="1428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http://im2-tub-ru.yandex.net/i?id=337123473-23-72"/>
          <p:cNvPicPr/>
          <p:nvPr/>
        </p:nvPicPr>
        <p:blipFill>
          <a:blip r:embed="rId2"/>
          <a:stretch/>
        </p:blipFill>
        <p:spPr>
          <a:xfrm>
            <a:off x="468360" y="2708280"/>
            <a:ext cx="1928880" cy="1440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http://im2-tub-ru.yandex.net/i?id=337123473-23-72"/>
          <p:cNvPicPr/>
          <p:nvPr/>
        </p:nvPicPr>
        <p:blipFill>
          <a:blip r:embed="rId3"/>
          <a:stretch/>
        </p:blipFill>
        <p:spPr>
          <a:xfrm>
            <a:off x="395280" y="4724280"/>
            <a:ext cx="1928880" cy="14400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5"/>
          <p:cNvSpPr/>
          <p:nvPr/>
        </p:nvSpPr>
        <p:spPr>
          <a:xfrm>
            <a:off x="3995640" y="907920"/>
            <a:ext cx="28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 горош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авая фигурная скобка 7"/>
          <p:cNvSpPr/>
          <p:nvPr/>
        </p:nvSpPr>
        <p:spPr>
          <a:xfrm>
            <a:off x="2843280" y="836640"/>
            <a:ext cx="1227240" cy="5357880"/>
          </a:xfrm>
          <a:custGeom>
            <a:avLst/>
            <a:gdLst>
              <a:gd name="textAreaLeft" fmla="*/ 0 w 1227240"/>
              <a:gd name="textAreaRight" fmla="*/ 443160 w 1227240"/>
              <a:gd name="textAreaTop" fmla="*/ 31680 h 5357880"/>
              <a:gd name="textAreaBottom" fmla="*/ 5326200 h 5357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6"/>
                  <a:pt x="10800" y="412"/>
                </a:cubicBezTo>
                <a:lnTo>
                  <a:pt x="10800" y="10388"/>
                </a:lnTo>
                <a:cubicBezTo>
                  <a:pt x="10800" y="10594"/>
                  <a:pt x="16200" y="10800"/>
                  <a:pt x="21600" y="10800"/>
                </a:cubicBezTo>
                <a:cubicBezTo>
                  <a:pt x="16200" y="10800"/>
                  <a:pt x="10800" y="11006"/>
                  <a:pt x="10800" y="11212"/>
                </a:cubicBezTo>
                <a:lnTo>
                  <a:pt x="10800" y="21188"/>
                </a:lnTo>
                <a:cubicBezTo>
                  <a:pt x="10800" y="2139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8"/>
          <p:cNvSpPr/>
          <p:nvPr/>
        </p:nvSpPr>
        <p:spPr>
          <a:xfrm>
            <a:off x="3851280" y="3573360"/>
            <a:ext cx="392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ru-RU" sz="4800" spc="-1" strike="noStrike">
                <a:solidFill>
                  <a:srgbClr val="06686d"/>
                </a:solidFill>
                <a:latin typeface="Constantia"/>
              </a:rPr>
              <a:t>?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 горош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0" descr="http://img-fotki.yandex.ru/get/4519/28257045.682/0_72b7e_b5aab3bf_L.jpg"/>
          <p:cNvPicPr/>
          <p:nvPr/>
        </p:nvPicPr>
        <p:blipFill>
          <a:blip r:embed="rId4"/>
          <a:stretch/>
        </p:blipFill>
        <p:spPr>
          <a:xfrm>
            <a:off x="6861240" y="3141720"/>
            <a:ext cx="228276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36360" y="701640"/>
            <a:ext cx="8736120" cy="1150920"/>
          </a:xfrm>
          <a:prstGeom prst="rect">
            <a:avLst/>
          </a:prstGeom>
          <a:ln w="0">
            <a:noFill/>
          </a:ln>
        </p:spPr>
      </p:pic>
      <p:sp>
        <p:nvSpPr>
          <p:cNvPr id="236" name="TextBox 3"/>
          <p:cNvSpPr/>
          <p:nvPr/>
        </p:nvSpPr>
        <p:spPr>
          <a:xfrm>
            <a:off x="0" y="1714680"/>
            <a:ext cx="10236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ыло -?,10 рублей и  50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стратила – 15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сталось - ?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http://www.pics-zone.ru/img.php?url=http://allelets.ru/wp-content/uploads/2012/08/prazdnik_2_sent.jpg"/>
          <p:cNvPicPr/>
          <p:nvPr/>
        </p:nvPicPr>
        <p:blipFill>
          <a:blip r:embed="rId2"/>
          <a:stretch/>
        </p:blipFill>
        <p:spPr>
          <a:xfrm>
            <a:off x="5219640" y="3914640"/>
            <a:ext cx="39243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244440" y="122400"/>
            <a:ext cx="8319960" cy="9381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2"/>
          <p:cNvSpPr/>
          <p:nvPr/>
        </p:nvSpPr>
        <p:spPr>
          <a:xfrm>
            <a:off x="179280" y="855720"/>
            <a:ext cx="6230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ǀ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пособ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+ 50 = 60(р.)– бы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 – 15 = 45 (р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ǁ - способ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– 15 = 35(р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 + 10 = 45(р.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http://img-fotki.yandex.ru/get/15503/16969765.261/0_985e1_a3bc3688_orig.png"/>
          <p:cNvPicPr/>
          <p:nvPr/>
        </p:nvPicPr>
        <p:blipFill>
          <a:blip r:embed="rId2"/>
          <a:stretch/>
        </p:blipFill>
        <p:spPr>
          <a:xfrm>
            <a:off x="6983280" y="1484280"/>
            <a:ext cx="21607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457200" y="704880"/>
            <a:ext cx="82296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Arial"/>
              </a:rPr>
              <a:t>Звонок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457200" y="1700280"/>
            <a:ext cx="8229600" cy="46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Вот опять звенит зво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Всем спасибо за уро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Мы старались все поня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Быстро, правильно счит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6732720" y="4581360"/>
            <a:ext cx="2411280" cy="1872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07:29:01Z</dcterms:created>
  <dc:creator>Дима</dc:creator>
  <dc:description/>
  <dc:language>en-US</dc:language>
  <cp:lastModifiedBy>Домашний</cp:lastModifiedBy>
  <dcterms:modified xsi:type="dcterms:W3CDTF">2015-07-08T16:40:00Z</dcterms:modified>
  <cp:revision>12</cp:revision>
  <dc:subject/>
  <dc:title>ПРЕЗЕНТАЦИЯ ПО МАТЕМАТИКЕ                     2 КЛАСС</dc:title>
</cp:coreProperties>
</file>