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8.wmf" ContentType="image/x-wmf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5249-4664-4D1D-BAE6-D55CF84095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8C71-3064-49C9-88D4-575029925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43C5-E1BD-40CC-8B24-070D7B75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31B2-0B49-45E5-B04C-6DC1906C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9990-2803-4415-B392-1444EE48A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16EF-C059-4AB5-9620-9F3C09EA8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B3E4-3EB9-400C-AC8B-2230F9EA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99B7-8B89-41FD-9DB6-22B65D46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31A8-19C1-4C94-92A7-6482BFE2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59EA-7AF9-4780-8D69-C2542B6F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D39E-86DF-4B33-B12B-096422FE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3D22-EE68-4CCB-8181-6E2199A9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67C3-6946-454E-B089-EAA6CB54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591F-AB5D-4921-BEAF-18EA80D1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8422-56D5-4664-AC22-80D364CA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E01D-8E2C-46AF-8741-C91A7E3C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E2AC-E68D-40AD-B663-B174DCC4F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959E-4003-40E0-AEB7-3B8AA9110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60818-E564-426D-8F6A-3E3BD352F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64A6D-5B40-4421-BEFF-B03CE8D9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78165-195F-4A98-A53E-F55494A5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D76E7-CB90-4ACE-AAB4-B6A14EE7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0DF2C-2EC5-4FDA-9181-0A33F231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73D1-1679-40C5-A07D-A849108C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A0A70-5A73-4666-ACBA-3C2DD47D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C90CA-C525-4438-BF74-86189714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98273-2163-4785-A603-B19D1EBB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A4E8A-90DE-44DE-ABC0-282086A5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8444D-AA03-4BD0-B808-E5C363BE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1B6EE-2DAC-413F-9D2F-0DE1074C7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C992B-7B84-4424-8F02-062BE69A5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BC5BE-7C44-4B3F-B9AF-D2EE5E2AE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03FEB-E949-4C91-9049-38318341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D9559-448A-460B-9651-C6B5A732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DA55-6D70-4800-BDB7-C4B7EDBA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5C32C-FEFD-45CA-8BAF-7F69F1E9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63913-1316-4202-9D9F-4775EEC1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DC11D-4F91-43EF-A368-02A05D4E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5FF61-DDA1-4580-B259-2F88A5AF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614FB-0DAF-43FF-9B8B-C9F7824D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8EF09-D53B-4983-9ED8-F9A0BACF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A76B9-A0BE-4913-A4BE-BD4807AF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E3A3E-5079-4B28-8119-4CDD02CA6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196AD-229D-47EE-8C0C-DC695885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BFCA-81CA-4989-A976-2ECE861B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9CF4-B10F-45D7-AFBA-0D1F1256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6A9F-827B-48E1-AE1B-69E2E459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8934-49F4-4B55-9D32-A1495057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49BF-F6EA-4346-87C4-83436E88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3D63-E31A-44FB-94F3-FB74F87BCE93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B785-DDA7-4FAB-8CAA-1FE94CC51D79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50FF-83DC-46C0-A8A1-4B660A2DE97C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8FFE-5AA6-44AA-B4FC-32B4AE398FA2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604360" cy="278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fceff"/>
                </a:solidFill>
                <a:latin typeface="Times New Roman"/>
                <a:ea typeface="Times New Roman"/>
              </a:rPr>
              <a:t>Счет в пределах 100</a:t>
            </a:r>
            <a:br>
              <a:rPr sz="4000"/>
            </a:br>
            <a:r>
              <a:rPr b="1" i="1" lang="ru-RU" sz="4000" spc="-1" strike="noStrike">
                <a:solidFill>
                  <a:srgbClr val="4fceff"/>
                </a:solidFill>
                <a:latin typeface="Constantia"/>
              </a:rPr>
              <a:t> </a:t>
            </a:r>
            <a:r>
              <a:rPr b="1" i="1" lang="ru-RU" sz="4000" spc="-1" strike="noStrike">
                <a:solidFill>
                  <a:srgbClr val="4fceff"/>
                </a:solidFill>
                <a:latin typeface="Times New Roman"/>
                <a:ea typeface="Times New Roman"/>
              </a:rPr>
              <a:t>2 КЛАСС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6840" y="2786040"/>
            <a:ext cx="74674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85200" indent="-35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85200" indent="-35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85200" indent="-35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85200" indent="-35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К «Начальная инновационная школа»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5200" indent="-35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85200" indent="-35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85200" indent="-35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85200" indent="-35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85200" indent="-35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85200" indent="-35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6" descr="http://s52.radikal.ru/i137/1407/20/ef0efcde356d.png"/>
          <p:cNvPicPr/>
          <p:nvPr/>
        </p:nvPicPr>
        <p:blipFill>
          <a:blip r:embed="rId1"/>
          <a:stretch/>
        </p:blipFill>
        <p:spPr>
          <a:xfrm>
            <a:off x="6184800" y="2708280"/>
            <a:ext cx="2305080" cy="368316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оугольник 5"/>
          <p:cNvSpPr/>
          <p:nvPr/>
        </p:nvSpPr>
        <p:spPr>
          <a:xfrm>
            <a:off x="826920" y="5013360"/>
            <a:ext cx="5292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омарева Светлана Викто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 МАОУ СОШ №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Перм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-168480"/>
            <a:ext cx="746748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4fceff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692360" y="692280"/>
            <a:ext cx="691200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89520" indent="-3556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1" lang="ru-RU" sz="4800" spc="-1" strike="noStrike">
                <a:solidFill>
                  <a:srgbClr val="94f7dc"/>
                </a:solidFill>
                <a:latin typeface="Constantia"/>
              </a:rPr>
              <a:t>Устный счёт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389520" indent="-3556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16 + 30             28 + 40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389520" indent="-3556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36 – 6             68 – 8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389520" indent="-3556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36 – 30           68 –1 0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389520" indent="-3556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36 – 36           68 – 40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389520" indent="-355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ff3ca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3200" spc="-1" strike="noStrike">
                <a:solidFill>
                  <a:srgbClr val="5ff3ca"/>
                </a:solidFill>
                <a:latin typeface="Times New Roman"/>
                <a:ea typeface="Times New Roman"/>
              </a:rPr>
              <a:t>Найдите в каждом столбике «лишний» пример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6" descr="http://www.pics-zone.ru/img.php?url=http://img-fotki.yandex.ru/get/5908/kur-valentina.11d/0_8d9b6_624399f1_XL"/>
          <p:cNvPicPr/>
          <p:nvPr/>
        </p:nvPicPr>
        <p:blipFill>
          <a:blip r:embed="rId1"/>
          <a:stretch/>
        </p:blipFill>
        <p:spPr>
          <a:xfrm>
            <a:off x="395280" y="2986200"/>
            <a:ext cx="2089080" cy="33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1"/>
          <p:cNvSpPr/>
          <p:nvPr/>
        </p:nvSpPr>
        <p:spPr>
          <a:xfrm>
            <a:off x="676080" y="928800"/>
            <a:ext cx="560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ff3ca"/>
                </a:solidFill>
                <a:latin typeface="Constantia"/>
              </a:rPr>
              <a:t>Решите задач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708120" y="1989000"/>
            <a:ext cx="5212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ыло – 24 м матер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дали -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талось – 17 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http://cs620520.vk.me/v620520651/18e6b/F3Uhux00IDE.jpg"/>
          <p:cNvPicPr/>
          <p:nvPr/>
        </p:nvPicPr>
        <p:blipFill>
          <a:blip r:embed="rId1"/>
          <a:stretch/>
        </p:blipFill>
        <p:spPr>
          <a:xfrm>
            <a:off x="7020000" y="1844640"/>
            <a:ext cx="19429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1"/>
          <p:cNvSpPr/>
          <p:nvPr/>
        </p:nvSpPr>
        <p:spPr>
          <a:xfrm>
            <a:off x="1000080" y="10000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http://im5-tub-ru.yandex.net/i?id=132070653-36-72"/>
          <p:cNvPicPr/>
          <p:nvPr/>
        </p:nvPicPr>
        <p:blipFill>
          <a:blip r:embed="rId1"/>
          <a:stretch/>
        </p:blipFill>
        <p:spPr>
          <a:xfrm>
            <a:off x="571680" y="928800"/>
            <a:ext cx="1347480" cy="17143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http://im3-tub-ru.yandex.net/i?id=93204014-01-72"/>
          <p:cNvPicPr/>
          <p:nvPr/>
        </p:nvPicPr>
        <p:blipFill>
          <a:blip r:embed="rId2"/>
          <a:stretch/>
        </p:blipFill>
        <p:spPr>
          <a:xfrm>
            <a:off x="642960" y="3857760"/>
            <a:ext cx="1285920" cy="1928520"/>
          </a:xfrm>
          <a:prstGeom prst="rect">
            <a:avLst/>
          </a:prstGeom>
          <a:ln w="0">
            <a:noFill/>
          </a:ln>
        </p:spPr>
      </p:pic>
      <p:sp>
        <p:nvSpPr>
          <p:cNvPr id="215" name="TextBox 4"/>
          <p:cNvSpPr/>
          <p:nvPr/>
        </p:nvSpPr>
        <p:spPr>
          <a:xfrm>
            <a:off x="500040" y="264312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н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5"/>
          <p:cNvSpPr/>
          <p:nvPr/>
        </p:nvSpPr>
        <p:spPr>
          <a:xfrm>
            <a:off x="785880" y="5715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6"/>
          <p:cNvSpPr/>
          <p:nvPr/>
        </p:nvSpPr>
        <p:spPr>
          <a:xfrm>
            <a:off x="2156040" y="1643040"/>
            <a:ext cx="243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- 20 кг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7"/>
          <p:cNvSpPr/>
          <p:nvPr/>
        </p:nvSpPr>
        <p:spPr>
          <a:xfrm>
            <a:off x="2324880" y="4714920"/>
            <a:ext cx="732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ru-RU" sz="5400" spc="-1" strike="noStrike">
                <a:solidFill>
                  <a:srgbClr val="7e9632"/>
                </a:solidFill>
                <a:latin typeface="Constantia"/>
              </a:rPr>
              <a:t>?</a:t>
            </a: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, на 35 кг больш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5"/>
          <p:cNvSpPr/>
          <p:nvPr/>
        </p:nvSpPr>
        <p:spPr>
          <a:xfrm>
            <a:off x="2940840" y="1071720"/>
            <a:ext cx="185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 6 кг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2939040" y="3357720"/>
            <a:ext cx="16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 9 к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3124800" y="5572080"/>
            <a:ext cx="188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ru-RU" sz="4800" spc="-1" strike="noStrike">
                <a:solidFill>
                  <a:srgbClr val="06686d"/>
                </a:solidFill>
                <a:latin typeface="Constantia"/>
              </a:rPr>
              <a:t> ? 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к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авая фигурная скобка 9"/>
          <p:cNvSpPr/>
          <p:nvPr/>
        </p:nvSpPr>
        <p:spPr>
          <a:xfrm>
            <a:off x="5072040" y="1214280"/>
            <a:ext cx="798480" cy="5072400"/>
          </a:xfrm>
          <a:custGeom>
            <a:avLst/>
            <a:gdLst>
              <a:gd name="textAreaLeft" fmla="*/ 0 w 798480"/>
              <a:gd name="textAreaRight" fmla="*/ 288360 w 798480"/>
              <a:gd name="textAreaTop" fmla="*/ 20520 h 5072400"/>
              <a:gd name="textAreaBottom" fmla="*/ 5051880 h 507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2"/>
                  <a:pt x="10800" y="283"/>
                </a:cubicBezTo>
                <a:lnTo>
                  <a:pt x="10800" y="10517"/>
                </a:lnTo>
                <a:cubicBezTo>
                  <a:pt x="10800" y="10659"/>
                  <a:pt x="16200" y="10800"/>
                  <a:pt x="21600" y="10800"/>
                </a:cubicBezTo>
                <a:cubicBezTo>
                  <a:pt x="16200" y="10800"/>
                  <a:pt x="10800" y="10942"/>
                  <a:pt x="10800" y="11083"/>
                </a:cubicBezTo>
                <a:lnTo>
                  <a:pt x="10800" y="21317"/>
                </a:lnTo>
                <a:cubicBezTo>
                  <a:pt x="10800" y="2145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2"/>
          <p:cNvSpPr/>
          <p:nvPr/>
        </p:nvSpPr>
        <p:spPr>
          <a:xfrm>
            <a:off x="6000840" y="3286080"/>
            <a:ext cx="232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  24 к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1" descr="http://radugastock.com/view?id=11690&amp;h=38b4097c428452153242ee27422d51363a1c48d76a072864"/>
          <p:cNvPicPr/>
          <p:nvPr/>
        </p:nvPicPr>
        <p:blipFill>
          <a:blip r:embed="rId1"/>
          <a:stretch/>
        </p:blipFill>
        <p:spPr>
          <a:xfrm>
            <a:off x="250920" y="549360"/>
            <a:ext cx="2746440" cy="2016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1" descr="http://radugastock.com/view?id=11690&amp;h=38b4097c428452153242ee27422d51363a1c48d76a072864"/>
          <p:cNvPicPr/>
          <p:nvPr/>
        </p:nvPicPr>
        <p:blipFill>
          <a:blip r:embed="rId2"/>
          <a:stretch/>
        </p:blipFill>
        <p:spPr>
          <a:xfrm>
            <a:off x="250920" y="2421000"/>
            <a:ext cx="2746440" cy="2016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1" descr="http://radugastock.com/view?id=11690&amp;h=38b4097c428452153242ee27422d51363a1c48d76a072864"/>
          <p:cNvPicPr/>
          <p:nvPr/>
        </p:nvPicPr>
        <p:blipFill>
          <a:blip r:embed="rId3"/>
          <a:stretch/>
        </p:blipFill>
        <p:spPr>
          <a:xfrm>
            <a:off x="468360" y="4581360"/>
            <a:ext cx="27464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-86040"/>
            <a:ext cx="9001080" cy="77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4fceff"/>
              </a:solidFill>
              <a:latin typeface="Calibri"/>
            </a:endParaRPr>
          </a:p>
        </p:txBody>
      </p:sp>
      <p:pic>
        <p:nvPicPr>
          <p:cNvPr id="228" name="Picture 2" descr="http://im2-tub-ru.yandex.net/i?id=337123473-23-72"/>
          <p:cNvPicPr/>
          <p:nvPr/>
        </p:nvPicPr>
        <p:blipFill>
          <a:blip r:embed="rId1"/>
          <a:stretch/>
        </p:blipFill>
        <p:spPr>
          <a:xfrm>
            <a:off x="468360" y="765000"/>
            <a:ext cx="1913040" cy="1428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http://im2-tub-ru.yandex.net/i?id=337123473-23-72"/>
          <p:cNvPicPr/>
          <p:nvPr/>
        </p:nvPicPr>
        <p:blipFill>
          <a:blip r:embed="rId2"/>
          <a:stretch/>
        </p:blipFill>
        <p:spPr>
          <a:xfrm>
            <a:off x="468360" y="2708280"/>
            <a:ext cx="1928880" cy="1440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http://im2-tub-ru.yandex.net/i?id=337123473-23-72"/>
          <p:cNvPicPr/>
          <p:nvPr/>
        </p:nvPicPr>
        <p:blipFill>
          <a:blip r:embed="rId3"/>
          <a:stretch/>
        </p:blipFill>
        <p:spPr>
          <a:xfrm>
            <a:off x="395280" y="4724280"/>
            <a:ext cx="1928880" cy="14400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5"/>
          <p:cNvSpPr/>
          <p:nvPr/>
        </p:nvSpPr>
        <p:spPr>
          <a:xfrm>
            <a:off x="3995640" y="907920"/>
            <a:ext cx="28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 горош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авая фигурная скобка 7"/>
          <p:cNvSpPr/>
          <p:nvPr/>
        </p:nvSpPr>
        <p:spPr>
          <a:xfrm>
            <a:off x="2843280" y="836640"/>
            <a:ext cx="1227240" cy="5357880"/>
          </a:xfrm>
          <a:custGeom>
            <a:avLst/>
            <a:gdLst>
              <a:gd name="textAreaLeft" fmla="*/ 0 w 1227240"/>
              <a:gd name="textAreaRight" fmla="*/ 443160 w 1227240"/>
              <a:gd name="textAreaTop" fmla="*/ 31680 h 5357880"/>
              <a:gd name="textAreaBottom" fmla="*/ 5326200 h 5357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6"/>
                  <a:pt x="10800" y="412"/>
                </a:cubicBezTo>
                <a:lnTo>
                  <a:pt x="10800" y="10388"/>
                </a:lnTo>
                <a:cubicBezTo>
                  <a:pt x="10800" y="10594"/>
                  <a:pt x="16200" y="10800"/>
                  <a:pt x="21600" y="10800"/>
                </a:cubicBezTo>
                <a:cubicBezTo>
                  <a:pt x="16200" y="10800"/>
                  <a:pt x="10800" y="11006"/>
                  <a:pt x="10800" y="11212"/>
                </a:cubicBezTo>
                <a:lnTo>
                  <a:pt x="10800" y="21188"/>
                </a:lnTo>
                <a:cubicBezTo>
                  <a:pt x="10800" y="2139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8"/>
          <p:cNvSpPr/>
          <p:nvPr/>
        </p:nvSpPr>
        <p:spPr>
          <a:xfrm>
            <a:off x="3851280" y="3573360"/>
            <a:ext cx="392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ru-RU" sz="4800" spc="-1" strike="noStrike">
                <a:solidFill>
                  <a:srgbClr val="06686d"/>
                </a:solidFill>
                <a:latin typeface="Constantia"/>
              </a:rPr>
              <a:t>?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 горош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0" descr="http://img-fotki.yandex.ru/get/4519/28257045.682/0_72b7e_b5aab3bf_L.jpg"/>
          <p:cNvPicPr/>
          <p:nvPr/>
        </p:nvPicPr>
        <p:blipFill>
          <a:blip r:embed="rId4"/>
          <a:stretch/>
        </p:blipFill>
        <p:spPr>
          <a:xfrm>
            <a:off x="6861240" y="3141720"/>
            <a:ext cx="228276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36360" y="701640"/>
            <a:ext cx="8736120" cy="1150920"/>
          </a:xfrm>
          <a:prstGeom prst="rect">
            <a:avLst/>
          </a:prstGeom>
          <a:ln w="0">
            <a:noFill/>
          </a:ln>
        </p:spPr>
      </p:pic>
      <p:sp>
        <p:nvSpPr>
          <p:cNvPr id="236" name="TextBox 3"/>
          <p:cNvSpPr/>
          <p:nvPr/>
        </p:nvSpPr>
        <p:spPr>
          <a:xfrm>
            <a:off x="0" y="1714680"/>
            <a:ext cx="10236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ыло -?,10 рублей и  50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стратила – 15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сталось - ?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http://www.pics-zone.ru/img.php?url=http://allelets.ru/wp-content/uploads/2012/08/prazdnik_2_sent.jpg"/>
          <p:cNvPicPr/>
          <p:nvPr/>
        </p:nvPicPr>
        <p:blipFill>
          <a:blip r:embed="rId2"/>
          <a:stretch/>
        </p:blipFill>
        <p:spPr>
          <a:xfrm>
            <a:off x="5219640" y="3914640"/>
            <a:ext cx="39243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244440" y="122400"/>
            <a:ext cx="8319960" cy="9381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2"/>
          <p:cNvSpPr/>
          <p:nvPr/>
        </p:nvSpPr>
        <p:spPr>
          <a:xfrm>
            <a:off x="179280" y="855720"/>
            <a:ext cx="6230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ǀ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пособ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+ 50 = 60(р.)– бы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 – 15 = 45 (р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ǁ - способ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– 15 = 35(р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 + 10 = 45(р.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http://img-fotki.yandex.ru/get/15503/16969765.261/0_985e1_a3bc3688_orig.png"/>
          <p:cNvPicPr/>
          <p:nvPr/>
        </p:nvPicPr>
        <p:blipFill>
          <a:blip r:embed="rId2"/>
          <a:stretch/>
        </p:blipFill>
        <p:spPr>
          <a:xfrm>
            <a:off x="6983280" y="1484280"/>
            <a:ext cx="21607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457200" y="704880"/>
            <a:ext cx="82296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Arial"/>
              </a:rPr>
              <a:t>Звонок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457200" y="1700280"/>
            <a:ext cx="8229600" cy="46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Вот опять звенит зво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Всем спасибо за уро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Мы старались все поня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Быстро, правильно счит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6732720" y="4581360"/>
            <a:ext cx="2411280" cy="1872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07:29:01Z</dcterms:created>
  <dc:creator>Дима</dc:creator>
  <dc:description/>
  <dc:language>en-US</dc:language>
  <cp:lastModifiedBy>Домашний</cp:lastModifiedBy>
  <dcterms:modified xsi:type="dcterms:W3CDTF">2015-07-08T16:40:00Z</dcterms:modified>
  <cp:revision>12</cp:revision>
  <dc:subject/>
  <dc:title>ПРЕЗЕНТАЦИЯ ПО МАТЕМАТИКЕ                     2 КЛАСС</dc:title>
</cp:coreProperties>
</file>