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1694-EE9E-4512-962A-4BC5C92C8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3CB-86A6-429C-8B89-0097F0AE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0A6-6C1C-4647-9AA5-83A4DA4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61C-3034-45D5-B08A-70F4E29E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C5C-1713-4F88-BE66-BC1854DB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9750-4EEB-49EA-92C9-85A2A5A0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A675-90DF-4713-8E72-10CE02F3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C4EE-4732-4C5A-9D34-89DC6919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D26A-2AC6-4760-8425-BCE498ED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F0EE-DD0A-433F-B3FB-D36C5469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A63-1E4E-4D31-851A-977CD4D8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72DF-459B-47C4-81B6-32722B9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A74-DC9D-4BB8-A4C5-67F972A3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D37-2CA9-4B65-A951-AF93A113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43A5-F736-4FC6-9604-8300E34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67F5-E5A0-4D1D-A89B-8881558A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F299-64A9-4CA0-8757-9C7ED4C7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67A6-2FAB-4698-9DFA-E104BC67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5E6E-5DC1-4954-9EA1-7B699185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947A-26E7-41E4-82A2-40402BE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BE09-5C8C-4F94-ADC8-BA407CBE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2356-1AA7-48EC-945C-8C48012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4D31-2EBC-438A-820B-0518FA7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3FF-9DE2-431A-A826-729F8E5E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E266-01A6-4B9F-887C-C70EA4A4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0BB1-473A-4037-9283-9D080E33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4F4D-F719-452D-A78A-39835FA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313B-CFC8-457A-9207-9A588A5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750D-ECDE-43A1-B17C-EB7776F4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8FAD-198C-4669-AEC2-553AE5E1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4589-EACD-41CD-8221-BC788B66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A0CA-0032-4521-86D9-D064DE8F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5C6CE-1359-4B87-9FB7-AA9804D1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6BE9-A7B3-49D8-895A-AFDB4C1A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F1F-6E92-4ECE-83F5-187D0E0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7652-2711-497E-9084-DEDD3DA4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9A11-9F96-4922-BF1C-C8A4C34F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F19A-A07E-42E5-A860-6A61D3AC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55DE-F2DA-43AD-A1D1-F317FB1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B8ED-DE6D-4035-9089-DB3B7F5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83EA-CFF9-43A3-B3CC-6AC6BF6F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6ECBA-42B1-4BB1-A46E-427F3433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6208D-0A58-4F46-84FB-79DDDA87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EA76-38D8-4821-8869-BE308B38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3EB-183A-4605-AA56-087A6F30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0EE-871F-490C-BD2F-A331BE2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3A5-A22C-4F52-B0BB-53A1D6C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3F0-EB98-487F-A2BD-BAC32FC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705-1F98-4A2D-8489-161117FB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DDF-5074-4ED3-8161-E44F7573129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6685-5EC5-44CA-93B1-CF3AB8128B7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330-01B0-4BB2-B866-D717D792F9D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E53E-50AC-4075-B0D4-B540E1212F1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fceff"/>
                </a:solidFill>
                <a:latin typeface="Times New Roman"/>
                <a:ea typeface="Times New Roman"/>
              </a:rPr>
              <a:t>Счет в пределах 100</a:t>
            </a:r>
            <a:br>
              <a:rPr sz="4000"/>
            </a:br>
            <a:r>
              <a:rPr b="1" i="1" lang="ru-RU" sz="40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1" i="1" lang="ru-RU" sz="4000" spc="-1" strike="noStrike">
                <a:solidFill>
                  <a:srgbClr val="4fceff"/>
                </a:solidFill>
                <a:latin typeface="Times New Roman"/>
                <a:ea typeface="Times New Roman"/>
              </a:rPr>
              <a:t>2 КЛАСС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278604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Начальная инновационная школа»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6" descr="http://s52.radikal.ru/i137/1407/20/ef0efcde356d.png"/>
          <p:cNvPicPr/>
          <p:nvPr/>
        </p:nvPicPr>
        <p:blipFill>
          <a:blip r:embed="rId1"/>
          <a:stretch/>
        </p:blipFill>
        <p:spPr>
          <a:xfrm>
            <a:off x="6184800" y="2708280"/>
            <a:ext cx="2305080" cy="36831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5"/>
          <p:cNvSpPr/>
          <p:nvPr/>
        </p:nvSpPr>
        <p:spPr>
          <a:xfrm>
            <a:off x="826920" y="5013360"/>
            <a:ext cx="5292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марева Светлана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АОУ СОШ №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ерм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-168480"/>
            <a:ext cx="746748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ce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692360" y="692280"/>
            <a:ext cx="6912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4800" spc="-1" strike="noStrike">
                <a:solidFill>
                  <a:srgbClr val="94f7dc"/>
                </a:solidFill>
                <a:latin typeface="Constantia"/>
              </a:rPr>
              <a:t>Устный счёт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16 + 30             28 + 4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6             68 – 8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30           68 –1 0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36           68 – 4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Найдите в каждом столбике «лишний» приме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6" descr="http://www.pics-zone.ru/img.php?url=http://img-fotki.yandex.ru/get/5908/kur-valentina.11d/0_8d9b6_624399f1_XL"/>
          <p:cNvPicPr/>
          <p:nvPr/>
        </p:nvPicPr>
        <p:blipFill>
          <a:blip r:embed="rId1"/>
          <a:stretch/>
        </p:blipFill>
        <p:spPr>
          <a:xfrm>
            <a:off x="395280" y="2986200"/>
            <a:ext cx="20890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76080" y="928800"/>
            <a:ext cx="560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f3ca"/>
                </a:solidFill>
                <a:latin typeface="Constantia"/>
              </a:rPr>
              <a:t>Решите 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08120" y="1989000"/>
            <a:ext cx="521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ыло – 24 м мате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али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лось – 17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://cs620520.vk.me/v620520651/18e6b/F3Uhux00IDE.jpg"/>
          <p:cNvPicPr/>
          <p:nvPr/>
        </p:nvPicPr>
        <p:blipFill>
          <a:blip r:embed="rId1"/>
          <a:stretch/>
        </p:blipFill>
        <p:spPr>
          <a:xfrm>
            <a:off x="7020000" y="1844640"/>
            <a:ext cx="1942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000080" y="100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im5-tub-ru.yandex.net/i?id=132070653-36-72"/>
          <p:cNvPicPr/>
          <p:nvPr/>
        </p:nvPicPr>
        <p:blipFill>
          <a:blip r:embed="rId1"/>
          <a:stretch/>
        </p:blipFill>
        <p:spPr>
          <a:xfrm>
            <a:off x="571680" y="928800"/>
            <a:ext cx="13474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im3-tub-ru.yandex.net/i?id=93204014-01-72"/>
          <p:cNvPicPr/>
          <p:nvPr/>
        </p:nvPicPr>
        <p:blipFill>
          <a:blip r:embed="rId2"/>
          <a:stretch/>
        </p:blipFill>
        <p:spPr>
          <a:xfrm>
            <a:off x="642960" y="3857760"/>
            <a:ext cx="1285920" cy="19285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500040" y="26431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н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7858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2156040" y="1643040"/>
            <a:ext cx="24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 20 к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2324880" y="4714920"/>
            <a:ext cx="732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5400" spc="-1" strike="noStrike">
                <a:solidFill>
                  <a:srgbClr val="7e9632"/>
                </a:solidFill>
                <a:latin typeface="Constantia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, на 35 кг больш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2940840" y="1071720"/>
            <a:ext cx="18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6 к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2939040" y="335772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9 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3124800" y="5572080"/>
            <a:ext cx="188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4800" spc="-1" strike="noStrike">
                <a:solidFill>
                  <a:srgbClr val="06686d"/>
                </a:solidFill>
                <a:latin typeface="Constantia"/>
              </a:rPr>
              <a:t> ?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авая фигурная скобка 9"/>
          <p:cNvSpPr/>
          <p:nvPr/>
        </p:nvSpPr>
        <p:spPr>
          <a:xfrm>
            <a:off x="5072040" y="1214280"/>
            <a:ext cx="798480" cy="5072400"/>
          </a:xfrm>
          <a:custGeom>
            <a:avLst/>
            <a:gdLst>
              <a:gd name="textAreaLeft" fmla="*/ 0 w 798480"/>
              <a:gd name="textAreaRight" fmla="*/ 288360 w 798480"/>
              <a:gd name="textAreaTop" fmla="*/ 20520 h 5072400"/>
              <a:gd name="textAreaBottom" fmla="*/ 5051880 h 50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6000840" y="32860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 24 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http://radugastock.com/view?id=11690&amp;h=38b4097c428452153242ee27422d51363a1c48d76a072864"/>
          <p:cNvPicPr/>
          <p:nvPr/>
        </p:nvPicPr>
        <p:blipFill>
          <a:blip r:embed="rId1"/>
          <a:stretch/>
        </p:blipFill>
        <p:spPr>
          <a:xfrm>
            <a:off x="250920" y="549360"/>
            <a:ext cx="2746440" cy="201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http://radugastock.com/view?id=11690&amp;h=38b4097c428452153242ee27422d51363a1c48d76a072864"/>
          <p:cNvPicPr/>
          <p:nvPr/>
        </p:nvPicPr>
        <p:blipFill>
          <a:blip r:embed="rId2"/>
          <a:stretch/>
        </p:blipFill>
        <p:spPr>
          <a:xfrm>
            <a:off x="250920" y="2421000"/>
            <a:ext cx="2746440" cy="201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ttp://radugastock.com/view?id=11690&amp;h=38b4097c428452153242ee27422d51363a1c48d76a072864"/>
          <p:cNvPicPr/>
          <p:nvPr/>
        </p:nvPicPr>
        <p:blipFill>
          <a:blip r:embed="rId3"/>
          <a:stretch/>
        </p:blipFill>
        <p:spPr>
          <a:xfrm>
            <a:off x="468360" y="4581360"/>
            <a:ext cx="2746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86040"/>
            <a:ext cx="9001080" cy="77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ceff"/>
              </a:solidFill>
              <a:latin typeface="Calibri"/>
            </a:endParaRPr>
          </a:p>
        </p:txBody>
      </p:sp>
      <p:pic>
        <p:nvPicPr>
          <p:cNvPr id="228" name="Picture 2" descr="http://im2-tub-ru.yandex.net/i?id=337123473-23-72"/>
          <p:cNvPicPr/>
          <p:nvPr/>
        </p:nvPicPr>
        <p:blipFill>
          <a:blip r:embed="rId1"/>
          <a:stretch/>
        </p:blipFill>
        <p:spPr>
          <a:xfrm>
            <a:off x="468360" y="765000"/>
            <a:ext cx="191304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im2-tub-ru.yandex.net/i?id=337123473-23-72"/>
          <p:cNvPicPr/>
          <p:nvPr/>
        </p:nvPicPr>
        <p:blipFill>
          <a:blip r:embed="rId2"/>
          <a:stretch/>
        </p:blipFill>
        <p:spPr>
          <a:xfrm>
            <a:off x="468360" y="270828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im2-tub-ru.yandex.net/i?id=337123473-23-72"/>
          <p:cNvPicPr/>
          <p:nvPr/>
        </p:nvPicPr>
        <p:blipFill>
          <a:blip r:embed="rId3"/>
          <a:stretch/>
        </p:blipFill>
        <p:spPr>
          <a:xfrm>
            <a:off x="395280" y="4724280"/>
            <a:ext cx="1928880" cy="1440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3995640" y="90792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горо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авая фигурная скобка 7"/>
          <p:cNvSpPr/>
          <p:nvPr/>
        </p:nvSpPr>
        <p:spPr>
          <a:xfrm>
            <a:off x="2843280" y="836640"/>
            <a:ext cx="1227240" cy="5357880"/>
          </a:xfrm>
          <a:custGeom>
            <a:avLst/>
            <a:gdLst>
              <a:gd name="textAreaLeft" fmla="*/ 0 w 1227240"/>
              <a:gd name="textAreaRight" fmla="*/ 443160 w 1227240"/>
              <a:gd name="textAreaTop" fmla="*/ 31680 h 5357880"/>
              <a:gd name="textAreaBottom" fmla="*/ 532620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16200" y="10800"/>
                  <a:pt x="21600" y="10800"/>
                </a:cubicBezTo>
                <a:cubicBezTo>
                  <a:pt x="162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851280" y="3573360"/>
            <a:ext cx="39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4800" spc="-1" strike="noStrike">
                <a:solidFill>
                  <a:srgbClr val="06686d"/>
                </a:solidFill>
                <a:latin typeface="Constantia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горош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http://img-fotki.yandex.ru/get/4519/28257045.682/0_72b7e_b5aab3bf_L.jpg"/>
          <p:cNvPicPr/>
          <p:nvPr/>
        </p:nvPicPr>
        <p:blipFill>
          <a:blip r:embed="rId4"/>
          <a:stretch/>
        </p:blipFill>
        <p:spPr>
          <a:xfrm>
            <a:off x="6861240" y="3141720"/>
            <a:ext cx="22827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73612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0" y="1714680"/>
            <a:ext cx="1023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ыло -?,10 рублей и  5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тратила – 15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талось - ?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http://www.pics-zone.ru/img.php?url=http://allelets.ru/wp-content/uploads/2012/08/prazdnik_2_sent.jpg"/>
          <p:cNvPicPr/>
          <p:nvPr/>
        </p:nvPicPr>
        <p:blipFill>
          <a:blip r:embed="rId2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319960" cy="938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9280" y="855720"/>
            <a:ext cx="623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+ 50 = 60(р.)– бы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– 15 = 45 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ǁ -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– 15 = 35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+ 10 = 45(р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http://img-fotki.yandex.ru/get/15503/16969765.261/0_985e1_a3bc3688_orig.png"/>
          <p:cNvPicPr/>
          <p:nvPr/>
        </p:nvPicPr>
        <p:blipFill>
          <a:blip r:embed="rId2"/>
          <a:stretch/>
        </p:blipFill>
        <p:spPr>
          <a:xfrm>
            <a:off x="6983280" y="1484280"/>
            <a:ext cx="21607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Arial"/>
              </a:rPr>
              <a:t>Звонок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457200" y="1700280"/>
            <a:ext cx="82296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т опять звенит зво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сем спасибо за ур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ы старались все по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ыстро, правильно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6732720" y="4581360"/>
            <a:ext cx="2411280" cy="18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29:01Z</dcterms:created>
  <dc:creator>Дима</dc:creator>
  <dc:description/>
  <dc:language>en-US</dc:language>
  <cp:lastModifiedBy>Домашний</cp:lastModifiedBy>
  <dcterms:modified xsi:type="dcterms:W3CDTF">2015-07-08T16:40:00Z</dcterms:modified>
  <cp:revision>12</cp:revision>
  <dc:subject/>
  <dc:title>ПРЕЗЕНТАЦИЯ ПО МАТЕМАТИКЕ                     2 КЛАСС</dc:title>
</cp:coreProperties>
</file>