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gif" ContentType="image/gi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EB5-663F-4F82-A8EB-A78683C7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DAE-82A1-4DEA-8EB8-20D14AD5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EF6-9623-495F-A9CB-2B892235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9B9-9546-4C50-9D38-659121AD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8E68-4C49-4677-AA2B-B59625BF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7050-DC45-466A-9E9B-4A12C417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8AA9-4037-40D7-8E94-F40E8226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58E0-466A-4F54-BF25-B17EB76B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76D5-8BC4-4B04-8698-AA899AA6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9409-29C2-4213-B585-0280ABB9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28B0-8B9F-4104-B827-45398BDA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7E9-E564-4998-BAB8-12F1D5F9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982E-865D-418B-B5EB-794E31D6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3B4D-97FD-4DA1-8CCC-4A7DAD05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EB78-4642-4B24-A2DD-9B3876BC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78B2-D802-46DC-932F-EE553A90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F497-7574-435F-B6C5-096C2628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0D6-247C-452C-81E7-B56C2A94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FCF-DFAA-4698-8BBF-3EC4F790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C26-F4B9-4737-89BC-5BA8603E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3C1C-3BB4-4ED5-ACEB-0E7A8DA7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1FF-02AB-46FD-A475-2133ADEF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793-96B3-48A1-80AD-7CA0E235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56F-70DC-4558-B142-61AE4881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9BD5-5690-4A9C-A83A-B3220155D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2F28-B097-4DF9-A365-1B371A9265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99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24000" y="260280"/>
            <a:ext cx="849600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РОЛЬ ВЗРОСЛОГО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ПРИ ПРЕОДОЛЕНИИ ПСИХОЛОГО-ПЕДАГОГИЧЕСКИХ ТРУДНОСТЕЙ 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В ПРОЦЕССЕ ОБУЧЕНИЯ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493560" y="4581360"/>
            <a:ext cx="3641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Bookman Old Style"/>
              </a:rPr>
              <a:t>Состав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Bookman Old Style"/>
              </a:rPr>
              <a:t>Смоленова А.М</a:t>
            </a:r>
            <a:r>
              <a:rPr b="0" lang="ru-RU" sz="1800" spc="-1" strike="noStrike">
                <a:solidFill>
                  <a:srgbClr val="ff99cc"/>
                </a:solidFill>
                <a:latin typeface="Bookman Old Style"/>
              </a:rPr>
              <a:t>., психол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Bookman Old Style"/>
              </a:rPr>
              <a:t>МБДОУ ЦРР «Детский сад» №3</a:t>
            </a:r>
            <a:r>
              <a:rPr b="0" lang="ru-RU" sz="18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2" descr="j0301252"/>
          <p:cNvPicPr/>
          <p:nvPr/>
        </p:nvPicPr>
        <p:blipFill>
          <a:blip r:embed="rId1"/>
          <a:stretch/>
        </p:blipFill>
        <p:spPr>
          <a:xfrm>
            <a:off x="4932360" y="3141720"/>
            <a:ext cx="3960720" cy="316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50000">
              <a:srgbClr val="9966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395280" y="189000"/>
            <a:ext cx="83725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71a0"/>
                </a:solidFill>
                <a:latin typeface="Bookman Old Style"/>
              </a:rPr>
              <a:t>Направления комплексной работы</a:t>
            </a:r>
            <a:endParaRPr b="1" lang="en-US" sz="3200" spc="1" strike="noStrike">
              <a:ln w="19080">
                <a:solidFill>
                  <a:srgbClr val="660033"/>
                </a:solidFill>
                <a:miter/>
              </a:ln>
              <a:solidFill>
                <a:srgbClr val="ff71a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71a0"/>
                </a:solidFill>
                <a:latin typeface="Bookman Old Style"/>
              </a:rPr>
              <a:t> </a:t>
            </a:r>
            <a:r>
              <a:rPr b="1" lang="en-US" sz="32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71a0"/>
                </a:solidFill>
                <a:latin typeface="Bookman Old Style"/>
              </a:rPr>
              <a:t>педагогической системы</a:t>
            </a:r>
            <a:endParaRPr b="1" lang="en-US" sz="3200" spc="1" strike="noStrike">
              <a:ln w="19080">
                <a:solidFill>
                  <a:srgbClr val="660033"/>
                </a:solidFill>
                <a:miter/>
              </a:ln>
              <a:solidFill>
                <a:srgbClr val="ff71a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71a0"/>
                </a:solidFill>
                <a:latin typeface="Bookman Old Style"/>
              </a:rPr>
              <a:t> </a:t>
            </a:r>
            <a:r>
              <a:rPr b="1" lang="en-US" sz="32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71a0"/>
                </a:solidFill>
                <a:latin typeface="Bookman Old Style"/>
              </a:rPr>
              <a:t>коорекционно-развивающего обучения</a:t>
            </a:r>
            <a:endParaRPr b="1" lang="en-US" sz="3200" spc="1" strike="noStrike">
              <a:ln w="19080">
                <a:solidFill>
                  <a:srgbClr val="660033"/>
                </a:solidFill>
                <a:miter/>
              </a:ln>
              <a:solidFill>
                <a:srgbClr val="ff71a0"/>
              </a:solidFill>
              <a:latin typeface="Bookman Old Style"/>
              <a:ea typeface="Bookman Old Style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79280" y="1989000"/>
            <a:ext cx="3529080" cy="4680000"/>
          </a:xfrm>
          <a:prstGeom prst="wedgeRoundRectCallout">
            <a:avLst>
              <a:gd name="adj1" fmla="val 56115"/>
              <a:gd name="adj2" fmla="val -64041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3924360" y="1989000"/>
            <a:ext cx="5040360" cy="4680000"/>
          </a:xfrm>
          <a:prstGeom prst="wedgeRoundRectCallout">
            <a:avLst>
              <a:gd name="adj1" fmla="val -35324"/>
              <a:gd name="adj2" fmla="val -62583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2133720"/>
            <a:ext cx="36720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Обеспечение взаимодейсв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дошкольных и школьных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ОУ общего и специального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типов и параллельных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консультативно-диагностических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служб на основе комплексного подхода к решению задач предупреждения и преодоления трудностей в обучении у детей у детей дошкольного и школьного возрас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851280" y="1989000"/>
            <a:ext cx="51134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Построение модели общего 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индивидуализированного коррекционно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развивающего пед. процесса для детей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с трудностями в обучении на основе принципа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единства диагностики и коррекции развития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обеспечение ранней коррекции неблагоприятных вариантов развития у детей в коррекционно-развивающих группах дошкольных учреждений комбинированного и компенсирующего типа с целью предупреждения трудностей в обучении и школьной дезадаптаци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8f57"/>
            </a:gs>
            <a:gs pos="50000">
              <a:srgbClr val="c06000"/>
            </a:gs>
            <a:gs pos="100000">
              <a:srgbClr val="ff8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179280" y="1700280"/>
            <a:ext cx="2880000" cy="2233440"/>
          </a:xfrm>
          <a:prstGeom prst="ellipse">
            <a:avLst/>
          </a:prstGeom>
          <a:solidFill>
            <a:srgbClr val="ffcc00"/>
          </a:solidFill>
          <a:ln w="44280">
            <a:solidFill>
              <a:srgbClr val="a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неадекватные притяз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на лидерст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3"/>
          <p:cNvSpPr/>
          <p:nvPr/>
        </p:nvSpPr>
        <p:spPr>
          <a:xfrm>
            <a:off x="6443640" y="1628640"/>
            <a:ext cx="2521080" cy="2232000"/>
          </a:xfrm>
          <a:prstGeom prst="ellipse">
            <a:avLst/>
          </a:prstGeom>
          <a:solidFill>
            <a:srgbClr val="ffcc00"/>
          </a:solidFill>
          <a:ln w="4428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Неуправляем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грубость, лжив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агрессивность и пр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5003640" y="4149720"/>
            <a:ext cx="3745080" cy="2232000"/>
          </a:xfrm>
          <a:prstGeom prst="flowChartAlternateProcess">
            <a:avLst/>
          </a:prstGeom>
          <a:solidFill>
            <a:srgbClr val="ffcc00"/>
          </a:solidFill>
          <a:ln w="44280">
            <a:solidFill>
              <a:srgbClr val="a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68360" y="189000"/>
            <a:ext cx="4465800" cy="1584360"/>
          </a:xfrm>
          <a:prstGeom prst="flowChartAlternateProcess">
            <a:avLst/>
          </a:prstGeom>
          <a:solidFill>
            <a:srgbClr val="ffcc00"/>
          </a:solidFill>
          <a:ln w="4428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2843280" y="260280"/>
            <a:ext cx="324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роблемы, связанные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 </a:t>
            </a: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с умственным развитием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484360" y="765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Неуспеваемость, плохая память, нарушение внимания, трудности в понимании материала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WordArt 9"/>
          <p:cNvSpPr txBox="1"/>
          <p:nvPr/>
        </p:nvSpPr>
        <p:spPr>
          <a:xfrm>
            <a:off x="6877080" y="1989000"/>
            <a:ext cx="1511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оведенческие</a:t>
            </a:r>
            <a:endParaRPr b="0" lang="en-US" sz="28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роблемы</a:t>
            </a:r>
            <a:endParaRPr b="0" lang="en-US" sz="28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5148360" y="4292640"/>
            <a:ext cx="345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Эмоциональные и личностные</a:t>
            </a:r>
            <a:endParaRPr b="0" lang="en-US" sz="24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 </a:t>
            </a:r>
            <a:r>
              <a:rPr b="0" lang="en-US" sz="24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роблемы</a:t>
            </a:r>
            <a:endParaRPr b="0" lang="en-US" sz="24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5003640" y="4797360"/>
            <a:ext cx="369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Сниженное настроение, повышенная возбудимость, частая смена настроения, страхи, раздражительность, тревожность и т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684360" y="1989000"/>
            <a:ext cx="18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роблемы общения</a:t>
            </a:r>
            <a:endParaRPr b="0" lang="en-US" sz="20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pic>
        <p:nvPicPr>
          <p:cNvPr id="100" name="Picture 14" descr="BD04924_2"/>
          <p:cNvPicPr/>
          <p:nvPr/>
        </p:nvPicPr>
        <p:blipFill>
          <a:blip r:embed="rId1"/>
          <a:stretch/>
        </p:blipFill>
        <p:spPr>
          <a:xfrm>
            <a:off x="0" y="260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7"/>
          <p:cNvSpPr txBox="1"/>
          <p:nvPr/>
        </p:nvSpPr>
        <p:spPr>
          <a:xfrm>
            <a:off x="3132000" y="1844640"/>
            <a:ext cx="3168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a50021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Классификация </a:t>
            </a:r>
            <a:endParaRPr b="1" lang="en-US" sz="1800" spc="1" strike="noStrike">
              <a:ln w="15840">
                <a:solidFill>
                  <a:srgbClr val="a50021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a50021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психологических проблем,</a:t>
            </a:r>
            <a:endParaRPr b="1" lang="en-US" sz="1800" spc="1" strike="noStrike">
              <a:ln w="15840">
                <a:solidFill>
                  <a:srgbClr val="a50021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a50021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возникающих у детей</a:t>
            </a:r>
            <a:endParaRPr b="1" lang="en-US" sz="1800" spc="1" strike="noStrike">
              <a:ln w="15840">
                <a:solidFill>
                  <a:srgbClr val="a50021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0" y="227664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Замкнут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539640" y="4149720"/>
            <a:ext cx="3745080" cy="2232000"/>
          </a:xfrm>
          <a:prstGeom prst="flowChartAlternateProcess">
            <a:avLst/>
          </a:prstGeom>
          <a:solidFill>
            <a:srgbClr val="ffcc00"/>
          </a:solidFill>
          <a:ln w="44280">
            <a:solidFill>
              <a:srgbClr val="a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23"/>
          <p:cNvSpPr txBox="1"/>
          <p:nvPr/>
        </p:nvSpPr>
        <p:spPr>
          <a:xfrm>
            <a:off x="684360" y="4221000"/>
            <a:ext cx="338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Неврологические проблемы</a:t>
            </a:r>
            <a:endParaRPr b="0" lang="en-US" sz="24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684360" y="4869000"/>
            <a:ext cx="35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Тики, навязчивые движе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повышенная утомляем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нарушение сна, головные боли и т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39640" y="306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бидчивость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15"/>
          <p:cNvSpPr/>
          <p:nvPr/>
        </p:nvSpPr>
        <p:spPr>
          <a:xfrm>
            <a:off x="4716360" y="1413000"/>
            <a:ext cx="4176720" cy="5184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179280" y="1413000"/>
            <a:ext cx="4033800" cy="51829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-4357800" y="5877000"/>
            <a:ext cx="1768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13"/>
          <p:cNvSpPr txBox="1"/>
          <p:nvPr/>
        </p:nvSpPr>
        <p:spPr>
          <a:xfrm>
            <a:off x="1116000" y="476280"/>
            <a:ext cx="70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ФОРМИРОВАНИЕ     ЛИЧНОСТИ     РЕБЕНКА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0066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11" name="WordArt 16"/>
          <p:cNvSpPr txBox="1"/>
          <p:nvPr/>
        </p:nvSpPr>
        <p:spPr>
          <a:xfrm>
            <a:off x="395280" y="1557360"/>
            <a:ext cx="367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c004e"/>
                  </a:solidFill>
                  <a:miter/>
                </a:ln>
                <a:solidFill>
                  <a:srgbClr val="bc0000"/>
                </a:solidFill>
                <a:latin typeface="Century"/>
              </a:rPr>
              <a:t>основные причины </a:t>
            </a:r>
            <a:endParaRPr b="1" lang="en-US" sz="2400" spc="1" strike="noStrike">
              <a:ln w="9360">
                <a:solidFill>
                  <a:srgbClr val="9c004e"/>
                </a:solidFill>
                <a:miter/>
              </a:ln>
              <a:solidFill>
                <a:srgbClr val="bc0000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c004e"/>
                  </a:solidFill>
                  <a:miter/>
                </a:ln>
                <a:solidFill>
                  <a:srgbClr val="bc0000"/>
                </a:solidFill>
                <a:latin typeface="Century"/>
              </a:rPr>
              <a:t>несформированности детской психики</a:t>
            </a:r>
            <a:endParaRPr b="1" lang="en-US" sz="2400" spc="1" strike="noStrike">
              <a:ln w="9360">
                <a:solidFill>
                  <a:srgbClr val="9c004e"/>
                </a:solidFill>
                <a:miter/>
              </a:ln>
              <a:solidFill>
                <a:srgbClr val="bc0000"/>
              </a:solidFill>
              <a:latin typeface="Century"/>
              <a:ea typeface="Century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179280" y="2349360"/>
            <a:ext cx="3961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Неблагоприятные условия жизни, негативное влияние окружающей среды: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ложные семейные взаимоотношения, плохие бытовые условия, вредные экологические воздействия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Специфика созревания мозга ребенка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еравномерное развитие отдельных областей мозга, отклонения в их рабо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Отсутствие взаимодействия между психическими процесс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WordArt 21"/>
          <p:cNvSpPr txBox="1"/>
          <p:nvPr/>
        </p:nvSpPr>
        <p:spPr>
          <a:xfrm>
            <a:off x="4932360" y="1628640"/>
            <a:ext cx="3695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bc0000"/>
                </a:solidFill>
                <a:latin typeface="Century"/>
              </a:rPr>
              <a:t>последствия, отражающиеся </a:t>
            </a:r>
            <a:endParaRPr b="1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bc0000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bc0000"/>
                </a:solidFill>
                <a:latin typeface="Century"/>
              </a:rPr>
              <a:t>в обучении и личности</a:t>
            </a:r>
            <a:endParaRPr b="1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bc0000"/>
              </a:solidFill>
              <a:latin typeface="Century"/>
              <a:ea typeface="Century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4716360" y="2349360"/>
            <a:ext cx="410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едостаточная или несвое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формированность отдельных функциона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истем психики ребен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дагогическая запущен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Задержка психического разви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нижение самооцен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мирение ребенка с неуспехом, неспособность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ассивность, равнодушие к обучающе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9" descr="J0336887"/>
          <p:cNvPicPr/>
          <p:nvPr/>
        </p:nvPicPr>
        <p:blipFill>
          <a:blip r:embed="rId1"/>
          <a:stretch/>
        </p:blipFill>
        <p:spPr>
          <a:xfrm flipH="1">
            <a:off x="3780000" y="3933720"/>
            <a:ext cx="156024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0"/>
          <p:cNvSpPr/>
          <p:nvPr/>
        </p:nvSpPr>
        <p:spPr>
          <a:xfrm>
            <a:off x="395280" y="476280"/>
            <a:ext cx="84247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man Old Style"/>
              </a:rPr>
              <a:t>Психологическая функция никогда не нарушается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man Old Style"/>
              </a:rPr>
              <a:t>полностью и всегда остаются сохранными многие составляющие детской психик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man Old Style"/>
              </a:rPr>
              <a:t>Пострадавшие составляющие психической функции можно компенсировать за счет полноценно работающих звеньев внутри этой функции и других здоровых психических процессов. Благодаря развитию сохраненной психической функции произойдет компенсация более слабой функции и ребенку будет легче справиться с обучающими и развивающими заданиями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man Old Style"/>
              </a:rPr>
              <a:t>Реализация потенциальных возможностей развития психики ребенка зависит от общего благополучия, внимания окружающих взрослых к его развитию и от организации педагогически целесообразного воздействия, учитывающего особенности и дефицитарность развития тех или иных функций, умений, навыков. Своевременное выявление и квалификация тех или иных неблагоприятных вариантов развития необходимо в целях профилактики и коррекции трудностей в обучении и воспитании детей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0099cc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7"/>
          <p:cNvSpPr/>
          <p:nvPr/>
        </p:nvSpPr>
        <p:spPr>
          <a:xfrm rot="16200000">
            <a:off x="-432360" y="1808280"/>
            <a:ext cx="5761080" cy="3959280"/>
          </a:xfrm>
          <a:custGeom>
            <a:avLst/>
            <a:gdLst>
              <a:gd name="textAreaLeft" fmla="*/ 0 w 5761080"/>
              <a:gd name="textAreaRight" fmla="*/ 5761080 w 5761080"/>
              <a:gd name="textAreaTop" fmla="*/ 0 h 3959280"/>
              <a:gd name="textAreaBottom" fmla="*/ 3959640 h 395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43" y="0"/>
                </a:lnTo>
                <a:lnTo>
                  <a:pt x="21600" y="10800"/>
                </a:lnTo>
                <a:lnTo>
                  <a:pt x="189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9ff8d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 rot="16200000">
            <a:off x="3923280" y="1771920"/>
            <a:ext cx="5761080" cy="4032000"/>
          </a:xfrm>
          <a:custGeom>
            <a:avLst/>
            <a:gdLst>
              <a:gd name="textAreaLeft" fmla="*/ 0 w 5761080"/>
              <a:gd name="textAreaRight" fmla="*/ 5761080 w 5761080"/>
              <a:gd name="textAreaTop" fmla="*/ 0 h 4032000"/>
              <a:gd name="textAreaBottom" fmla="*/ 40323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43" y="0"/>
                </a:lnTo>
                <a:lnTo>
                  <a:pt x="21600" y="10800"/>
                </a:lnTo>
                <a:lnTo>
                  <a:pt x="189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9ff8d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1332000" y="1557360"/>
            <a:ext cx="23619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АГНОСТИЧЕСКОЕ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5003640" y="1628640"/>
            <a:ext cx="3672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РЕКЦИОННО-РАЗВИВАЮЩЕЕ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14"/>
          <p:cNvSpPr txBox="1"/>
          <p:nvPr/>
        </p:nvSpPr>
        <p:spPr>
          <a:xfrm>
            <a:off x="395280" y="115920"/>
            <a:ext cx="85694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Направления работы для предупреждения трудностей обучения</a:t>
            </a:r>
            <a:endParaRPr b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2" name="Text Box 51"/>
          <p:cNvSpPr/>
          <p:nvPr/>
        </p:nvSpPr>
        <p:spPr>
          <a:xfrm>
            <a:off x="468360" y="2060640"/>
            <a:ext cx="3887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Обеспечивается комплексным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динамическим наблюдением за ребенком специалистами консилиума образовательного учреждения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Итогом изучения ребенка специалистами являются рекомендации: установление четких целей коррекционной работы, путей и сроков ее достижения, выработка адекватного состоянию ребенка подхода со стороны взрослых, выделение сильных сторон ребенка, на которые можно опереться в коррекционной работе, анализ хода развития ребенка и результаты педагогической работы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4716360" y="2133720"/>
            <a:ext cx="4103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Предполагает комплекс мер, воздействующих на личность в целом, нормализацию и совершенствование ведущего вида деятельности, коррекцию индивидуальных недостатков развития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Обеспечивает детям овладение первоначальными знаниями и умениями; развитие психических и познавательных процессов до более высокого уровня, чем у детей не охваченных таковой работой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Реализуется взаимодействием в работе педагога-дефектолога, воспитателей, логопеда, психолога и других специалистов образовательного учреждения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Object 56"/>
          <p:cNvGraphicFramePr/>
          <p:nvPr/>
        </p:nvGraphicFramePr>
        <p:xfrm>
          <a:off x="3924360" y="4653000"/>
          <a:ext cx="122220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4653000"/>
                    <a:ext cx="12222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buket_v_gorshke"/>
          <p:cNvPicPr/>
          <p:nvPr/>
        </p:nvPicPr>
        <p:blipFill>
          <a:blip r:embed="rId1"/>
          <a:stretch/>
        </p:blipFill>
        <p:spPr>
          <a:xfrm>
            <a:off x="2843280" y="1628640"/>
            <a:ext cx="3174840" cy="3556080"/>
          </a:xfrm>
          <a:prstGeom prst="rect">
            <a:avLst/>
          </a:prstGeom>
          <a:ln w="0">
            <a:noFill/>
          </a:ln>
        </p:spPr>
      </p:pic>
      <p:sp>
        <p:nvSpPr>
          <p:cNvPr id="127" name="WordArt 5"/>
          <p:cNvSpPr txBox="1"/>
          <p:nvPr/>
        </p:nvSpPr>
        <p:spPr>
          <a:xfrm>
            <a:off x="755640" y="692280"/>
            <a:ext cx="806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УСПЕШНОГО ВЗАИМОПОНИМАНИЯ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  <p:sp>
        <p:nvSpPr>
          <p:cNvPr id="128" name="WordArt 6"/>
          <p:cNvSpPr txBox="1"/>
          <p:nvPr/>
        </p:nvSpPr>
        <p:spPr>
          <a:xfrm>
            <a:off x="2556000" y="5373720"/>
            <a:ext cx="417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Bookman Old Style"/>
              </a:rPr>
              <a:t>УДАЧИ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3:36:03Z</dcterms:created>
  <dc:creator>Психолог</dc:creator>
  <dc:description/>
  <dc:language>en-US</dc:language>
  <cp:lastModifiedBy>SinTeZ</cp:lastModifiedBy>
  <dcterms:modified xsi:type="dcterms:W3CDTF">2012-05-18T17:26:30Z</dcterms:modified>
  <cp:revision>53</cp:revision>
  <dc:subject/>
  <dc:title>Слайд 1</dc:title>
</cp:coreProperties>
</file>