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2FF-C523-4ED7-B884-F10A7F57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CD3-E0EF-4701-AFA3-254F34B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45B-E09A-472E-9BC9-87A2B0FB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E10-B4E0-467F-8F86-CE4F2524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D1A-AA53-4F05-B45F-A76E6320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DA35-0255-4405-AA26-CDD24F6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39C0-8617-4A24-96FE-4B1D0CCF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720A-8586-434F-816C-D08B9BF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3D0-2FA5-4BB2-84E1-ECB9323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0479-E4F7-437F-BF72-75DA024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227B-AE77-4580-8CDF-EE5BC88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B87-B09C-4BA8-93F8-93B10389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F435-3CBA-4128-BB28-94BE627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29F2-7393-4F45-AA94-E85AFF9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117-0E27-4A41-B896-2E5D21A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F98-62F5-436E-AD69-7E336515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72A-083F-42A9-AF76-5088CDA3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6CD-8BE4-4483-896E-CC573B09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2EA-E720-45EE-B7D0-EFBB37CB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B5F-5155-4C43-AFD2-DA5DBF0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0DA-A8F2-4FA1-A30F-8278075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48E-B3C3-4C56-AC96-AA5B6FF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9CB-64CF-4F6C-9F2F-D073EF1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7D4-29F0-4D3F-B08D-138AEAD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33E-ACFF-4E5D-80E0-93E21E6CB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91F-E8B0-4B43-925A-451BF7AF9D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24000" y="260280"/>
            <a:ext cx="8496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РОЛЬ ВЗРОСЛОГО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РИ ПРЕОДОЛЕНИИ ПСИХОЛОГО-ПЕДАГОГИЧЕСКИХ ТРУДНОСТЕЙ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 ПРОЦЕССЕ ОБУЧЕНИЯ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93560" y="4581360"/>
            <a:ext cx="364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Соста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Bookman Old Style"/>
              </a:rPr>
              <a:t>Смоленова А.М</a:t>
            </a: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., психол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Bookman Old Style"/>
              </a:rPr>
              <a:t>МБДОУ ЦРР «Детский сад» №3</a:t>
            </a:r>
            <a:r>
              <a:rPr b="0" lang="ru-RU" sz="18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2" descr="j0301252"/>
          <p:cNvPicPr/>
          <p:nvPr/>
        </p:nvPicPr>
        <p:blipFill>
          <a:blip r:embed="rId1"/>
          <a:stretch/>
        </p:blipFill>
        <p:spPr>
          <a:xfrm>
            <a:off x="4932360" y="314172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9966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5280" y="189000"/>
            <a:ext cx="8372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Направления комплексной работ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педагогической системы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 </a:t>
            </a:r>
            <a:r>
              <a:rPr b="1" lang="en-US" sz="32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71a0"/>
                </a:solidFill>
                <a:latin typeface="Bookman Old Style"/>
              </a:rPr>
              <a:t>коорекционно-развивающего обучения</a:t>
            </a:r>
            <a:endParaRPr b="1" lang="en-US" sz="3200" spc="1" strike="noStrike">
              <a:ln w="19080">
                <a:solidFill>
                  <a:srgbClr val="660033"/>
                </a:solidFill>
                <a:miter/>
              </a:ln>
              <a:solidFill>
                <a:srgbClr val="ff71a0"/>
              </a:solidFill>
              <a:latin typeface="Bookman Old Style"/>
              <a:ea typeface="Bookman Old Style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9280" y="1989000"/>
            <a:ext cx="3529080" cy="4680000"/>
          </a:xfrm>
          <a:prstGeom prst="wedgeRoundRectCallout">
            <a:avLst>
              <a:gd name="adj1" fmla="val 56115"/>
              <a:gd name="adj2" fmla="val -64041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989000"/>
            <a:ext cx="5040360" cy="4680000"/>
          </a:xfrm>
          <a:prstGeom prst="wedgeRoundRectCallout">
            <a:avLst>
              <a:gd name="adj1" fmla="val -35324"/>
              <a:gd name="adj2" fmla="val -62583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2133720"/>
            <a:ext cx="3672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взаимодейсв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дошкольных и школьны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У общего и специального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типов и параллельны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консультативно-диагностических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лужб на основе комплексного подхода к решению задач предупреждения и преодоления трудностей в обучении у детей у детей дошкольного и школьного возрас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851280" y="1989000"/>
            <a:ext cx="51134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роение модели общего 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индивидуализированного коррекционно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развивающего пед. процесса для детей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с трудностями в обучении на основе принцип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единства диагностики и коррекции развития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обеспечение ранней коррекции неблагоприятных вариантов развития у детей в коррекционно-развивающих группах дошкольных учреждений комбинированного и компенсирующего типа с целью предупреждения трудностей в обучении и школьной дезадаптац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8f57"/>
            </a:gs>
            <a:gs pos="50000">
              <a:srgbClr val="c06000"/>
            </a:gs>
            <a:gs pos="100000">
              <a:srgbClr val="ff8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179280" y="1700280"/>
            <a:ext cx="2880000" cy="223344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адекватные притя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 лидер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"/>
          <p:cNvSpPr/>
          <p:nvPr/>
        </p:nvSpPr>
        <p:spPr>
          <a:xfrm>
            <a:off x="6443640" y="1628640"/>
            <a:ext cx="2521080" cy="2232000"/>
          </a:xfrm>
          <a:prstGeom prst="ellipse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прав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грубость, лжи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агрессивность и пр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003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68360" y="189000"/>
            <a:ext cx="4465800" cy="158436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2843280" y="26028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, связанные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с умственным развитием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4360" y="765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еуспеваемость, плохая память, нарушение внимания, трудности в понимании материала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6877080" y="1989000"/>
            <a:ext cx="151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оведенческие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5148360" y="4292640"/>
            <a:ext cx="345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Эмоциональные и личностные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 </a:t>
            </a: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003640" y="4797360"/>
            <a:ext cx="369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Сниженное настроение, повышенная возбудимость, частая смена настроения, страхи, раздражительность, тревожность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684360" y="1989000"/>
            <a:ext cx="18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блемы общения</a:t>
            </a:r>
            <a:endParaRPr b="0" lang="en-US" sz="20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pic>
        <p:nvPicPr>
          <p:cNvPr id="100" name="Picture 14" descr="BD04924_2"/>
          <p:cNvPicPr/>
          <p:nvPr/>
        </p:nvPicPr>
        <p:blipFill>
          <a:blip r:embed="rId1"/>
          <a:stretch/>
        </p:blipFill>
        <p:spPr>
          <a:xfrm>
            <a:off x="0" y="260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7"/>
          <p:cNvSpPr txBox="1"/>
          <p:nvPr/>
        </p:nvSpPr>
        <p:spPr>
          <a:xfrm>
            <a:off x="3132000" y="1844640"/>
            <a:ext cx="316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Классификация 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психологических проблем,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возникающих у детей</a:t>
            </a:r>
            <a:endParaRPr b="1" lang="en-US" sz="1800" spc="1" strike="noStrike">
              <a:ln w="15840">
                <a:solidFill>
                  <a:srgbClr val="a50021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0" y="227664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Замкнут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539640" y="4149720"/>
            <a:ext cx="3745080" cy="2232000"/>
          </a:xfrm>
          <a:prstGeom prst="flowChartAlternateProcess">
            <a:avLst/>
          </a:prstGeom>
          <a:solidFill>
            <a:srgbClr val="ffcc00"/>
          </a:solidFill>
          <a:ln w="4428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23"/>
          <p:cNvSpPr txBox="1"/>
          <p:nvPr/>
        </p:nvSpPr>
        <p:spPr>
          <a:xfrm>
            <a:off x="684360" y="4221000"/>
            <a:ext cx="338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Неврологические проблемы</a:t>
            </a:r>
            <a:endParaRPr b="0" lang="en-US" sz="2400" spc="1" strike="noStrike">
              <a:ln w="9360">
                <a:solidFill>
                  <a:srgbClr val="990099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684360" y="4869000"/>
            <a:ext cx="35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Тики, навязчивые дви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повышенная утомляем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"/>
              </a:rPr>
              <a:t>нарушение сна, головные боли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9640" y="306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дчивость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5"/>
          <p:cNvSpPr/>
          <p:nvPr/>
        </p:nvSpPr>
        <p:spPr>
          <a:xfrm>
            <a:off x="4716360" y="1413000"/>
            <a:ext cx="4176720" cy="5184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179280" y="1413000"/>
            <a:ext cx="4033800" cy="51829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-4357800" y="5877000"/>
            <a:ext cx="1768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1116000" y="47628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ФОРМИРОВАНИЕ     ЛИЧНОСТИ     РЕБЕНК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11" name="WordArt 16"/>
          <p:cNvSpPr txBox="1"/>
          <p:nvPr/>
        </p:nvSpPr>
        <p:spPr>
          <a:xfrm>
            <a:off x="395280" y="155736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основные причины 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c004e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несформированности детской психики</a:t>
            </a:r>
            <a:endParaRPr b="1" lang="en-US" sz="2400" spc="1" strike="noStrike">
              <a:ln w="9360">
                <a:solidFill>
                  <a:srgbClr val="9c004e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79280" y="2349360"/>
            <a:ext cx="39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еблагоприятные условия жизни, негативное влияние окружающей среды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ложные семейные взаимоотношения, плохие бытовые условия, вредные экологические воздействия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Специфика созревания мозга ребенк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равномерное развитие отдельных областей мозга, отклонения в их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Отсутствие взаимодействия между психическими процес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4932360" y="162864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последствия, отражающиеся 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bc0000"/>
                </a:solidFill>
                <a:latin typeface="Century"/>
              </a:rPr>
              <a:t>в обучении и личности</a:t>
            </a:r>
            <a:endParaRPr b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bc0000"/>
              </a:solidFill>
              <a:latin typeface="Century"/>
              <a:ea typeface="Century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716360" y="2349360"/>
            <a:ext cx="410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едостаточная или несвое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формированность отдельных функцио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 психик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дагогическая запущ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адержка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нижение самооцен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мирение ребенка с неуспехом, неспособность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ассивность, равнодушие к обучаю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9" descr="J0336887"/>
          <p:cNvPicPr/>
          <p:nvPr/>
        </p:nvPicPr>
        <p:blipFill>
          <a:blip r:embed="rId1"/>
          <a:stretch/>
        </p:blipFill>
        <p:spPr>
          <a:xfrm flipH="1">
            <a:off x="3780000" y="3933720"/>
            <a:ext cx="15602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0"/>
          <p:cNvSpPr/>
          <p:nvPr/>
        </p:nvSpPr>
        <p:spPr>
          <a:xfrm>
            <a:off x="395280" y="476280"/>
            <a:ext cx="84247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сихологическая функция никогда не нарушаетс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лностью и всегда остаются сохранными многие составляющие детской психик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Пострадавшие составляющие психической функции можно компенсировать за счет полноценно работающих звеньев внутри этой функции и других здоровых психических процессов. Благодаря развитию сохраненной психической функции произойдет компенсация более слабой функции и ребенку будет легче справиться с обучающими и развивающими заданиям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man Old Style"/>
              </a:rPr>
              <a:t>Реализация потенциальных возможностей развития психики ребенка зависит от общего благополучия, внимания окружающих взрослых к его развитию и от организации педагогически целесообразного воздействия, учитывающего особенности и дефицитарность развития тех или иных функций, умений, навыков. Своевременное выявление и квалификация тех или иных неблагоприятных вариантов развития необходимо в целях профилактики и коррекции трудностей в обучении и воспитании де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99cc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7"/>
          <p:cNvSpPr/>
          <p:nvPr/>
        </p:nvSpPr>
        <p:spPr>
          <a:xfrm rot="16200000">
            <a:off x="-432360" y="1808280"/>
            <a:ext cx="5761080" cy="395928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 rot="16200000">
            <a:off x="3923280" y="1771920"/>
            <a:ext cx="5761080" cy="4032000"/>
          </a:xfrm>
          <a:custGeom>
            <a:avLst/>
            <a:gdLst>
              <a:gd name="textAreaLeft" fmla="*/ 0 w 5761080"/>
              <a:gd name="textAreaRight" fmla="*/ 5761080 w 5761080"/>
              <a:gd name="textAreaTop" fmla="*/ 0 h 4032000"/>
              <a:gd name="textAreaBottom" fmla="*/ 40323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3" y="0"/>
                </a:lnTo>
                <a:lnTo>
                  <a:pt x="21600" y="10800"/>
                </a:lnTo>
                <a:lnTo>
                  <a:pt x="189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ff8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1332000" y="1557360"/>
            <a:ext cx="23619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АГНОСТИЧЕСКО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5003640" y="1628640"/>
            <a:ext cx="3672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РЕКЦИОННО-РАЗВИВАЮЩЕЕ</a:t>
            </a:r>
            <a:endParaRPr b="0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395280" y="115920"/>
            <a:ext cx="8569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Направления работы для предупреждения трудностей обучения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468360" y="2060640"/>
            <a:ext cx="3887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ся комплексны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динамическим наблюдением за ребенком специалистами консилиума образовательного учреждени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Итогом изучения ребенка специалистами являются рекомендации: установление четких целей коррекционной работы, путей и сроков ее достижения, выработка адекватного состоянию ребенка подхода со стороны взрослых, выделение сильных сторон ребенка, на которые можно опереться в коррекционной работе, анализ хода развития ребенка и результаты педагогической работы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716360" y="2133720"/>
            <a:ext cx="4103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Предполагает комплекс мер, воздействующих на личность в целом, нормализацию и совершенствование ведущего вида деятельности, коррекцию индивидуальных недостатков развит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Обеспечивает детям овладение первоначальными знаниями и умениями; развитие психических и познавательных процессов до более высокого уровня, чем у детей не охваченных таковой работо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Arial"/>
              </a:rPr>
              <a:t>Реализуется взаимодействием в работе педагога-дефектолога, воспитателей, логопеда, психолога и других специалистов образовательного учрежд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56"/>
          <p:cNvGraphicFramePr/>
          <p:nvPr/>
        </p:nvGraphicFramePr>
        <p:xfrm>
          <a:off x="3924360" y="4653000"/>
          <a:ext cx="12222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653000"/>
                    <a:ext cx="12222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uket_v_gorshke"/>
          <p:cNvPicPr/>
          <p:nvPr/>
        </p:nvPicPr>
        <p:blipFill>
          <a:blip r:embed="rId1"/>
          <a:stretch/>
        </p:blipFill>
        <p:spPr>
          <a:xfrm>
            <a:off x="2843280" y="1628640"/>
            <a:ext cx="317484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755640" y="692280"/>
            <a:ext cx="80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УСПЕШНОГО ВЗАИМОПОНИМАНИЯ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2556000" y="5373720"/>
            <a:ext cx="417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Bookman Old Style"/>
              </a:rPr>
              <a:t>УДАЧИ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3:36:03Z</dcterms:created>
  <dc:creator>Психолог</dc:creator>
  <dc:description/>
  <dc:language>en-US</dc:language>
  <cp:lastModifiedBy>SinTeZ</cp:lastModifiedBy>
  <dcterms:modified xsi:type="dcterms:W3CDTF">2012-05-18T17:26:30Z</dcterms:modified>
  <cp:revision>53</cp:revision>
  <dc:subject/>
  <dc:title>Слайд 1</dc:title>
</cp:coreProperties>
</file>