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B1D-644A-47E8-928E-DEFD7EB0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1CE-FA64-434C-A41A-B33D333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71A-A309-4125-8D99-D9736846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D2C-27CA-4024-BEBC-2D6354AF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ACF6-219C-4F3F-ADE7-D6F1C6FA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21AF-D11B-426D-8E9D-87C0056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286-C004-406D-9A6B-01D25B4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5C4-EF5B-48B5-A29F-4A9E43D6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D213-1365-43E8-B0A5-CE06AED5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D8C8-268F-44E0-A169-D971AF7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5C86-9B12-4AFC-A76D-A6B5B30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D03-B9CE-41CC-A52D-E6A045CE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C13-347C-4B0E-BF25-9B96649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19A-2DA3-4B85-8C8E-C3FDD8C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31F9-0740-428F-98EE-1B4D668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23A5-E43C-47CC-B91A-F1AE0602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8C53-DCD2-4672-8260-49BE291B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3C7-AFED-48F5-BBE9-CD1CDC4C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E07-C4E2-4FE1-8495-556404C6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BE5-0FA0-4EA0-9414-5E159CB4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4A6-6F34-413C-A0F1-CA396EDE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1C8-0D62-4569-8CBF-E5EA7C4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AE0-3DEF-4F21-89A0-55EFEE08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C03-52F6-4B5C-9543-04BFAEB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B08C-92BD-460C-AFFF-E9D733CE6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7609-0B62-47C1-9592-A965F7F2E4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24000" y="260280"/>
            <a:ext cx="8496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РОЛЬ ВЗРОСЛОГО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РИ ПРЕОДОЛЕНИИ ПСИХОЛОГО-ПЕДАГОГИЧЕСКИХ ТРУДНОСТЕЙ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 ПРОЦЕССЕ ОБУЧЕНИЯ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93560" y="4581360"/>
            <a:ext cx="364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Соста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Bookman Old Style"/>
              </a:rPr>
              <a:t>Смоленова А.М</a:t>
            </a: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., психол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МБДОУ ЦРР «Детский сад» №3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2" descr="j0301252"/>
          <p:cNvPicPr/>
          <p:nvPr/>
        </p:nvPicPr>
        <p:blipFill>
          <a:blip r:embed="rId1"/>
          <a:stretch/>
        </p:blipFill>
        <p:spPr>
          <a:xfrm>
            <a:off x="4932360" y="3141720"/>
            <a:ext cx="396072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9966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5280" y="189000"/>
            <a:ext cx="8372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Направления комплексной работы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педагогической системы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коорекционно-развивающего обучения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9280" y="1989000"/>
            <a:ext cx="3529080" cy="4680000"/>
          </a:xfrm>
          <a:prstGeom prst="wedgeRoundRectCallout">
            <a:avLst>
              <a:gd name="adj1" fmla="val 56115"/>
              <a:gd name="adj2" fmla="val -64041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24360" y="1989000"/>
            <a:ext cx="5040360" cy="4680000"/>
          </a:xfrm>
          <a:prstGeom prst="wedgeRoundRectCallout">
            <a:avLst>
              <a:gd name="adj1" fmla="val -35324"/>
              <a:gd name="adj2" fmla="val -62583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2133720"/>
            <a:ext cx="3672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беспечение взаимодейсв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дошкольных и школьны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У общего и специального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типов и параллельны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консультативно-диагностически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служб на основе комплексного подхода к решению задач предупреждения и преодоления трудностей в обучении у детей у детей дошкольного и школьного возрас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851280" y="1989000"/>
            <a:ext cx="51134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роение модели общего 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индивидуализированного коррекционно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развивающего пед. процесса для детей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с трудностями в обучении на основе принцип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единства диагностики и коррекции развития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беспечение ранней коррекции неблагоприятных вариантов развития у детей в коррекционно-развивающих группах дошкольных учреждений комбинированного и компенсирующего типа с целью предупреждения трудностей в обучении и школьной дезадаптац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8f57"/>
            </a:gs>
            <a:gs pos="50000">
              <a:srgbClr val="c06000"/>
            </a:gs>
            <a:gs pos="100000">
              <a:srgbClr val="ff8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179280" y="1700280"/>
            <a:ext cx="2880000" cy="2233440"/>
          </a:xfrm>
          <a:prstGeom prst="ellipse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адекватные притя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а лидер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3"/>
          <p:cNvSpPr/>
          <p:nvPr/>
        </p:nvSpPr>
        <p:spPr>
          <a:xfrm>
            <a:off x="6443640" y="1628640"/>
            <a:ext cx="2521080" cy="2232000"/>
          </a:xfrm>
          <a:prstGeom prst="ellipse">
            <a:avLst/>
          </a:prstGeom>
          <a:solidFill>
            <a:srgbClr val="ffcc00"/>
          </a:solidFill>
          <a:ln w="4428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управляем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грубость, лжи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агрессивность и пр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003640" y="4149720"/>
            <a:ext cx="3745080" cy="223200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68360" y="189000"/>
            <a:ext cx="4465800" cy="158436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2843280" y="26028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, связанные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 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с умственным развитием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4360" y="765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успеваемость, плохая память, нарушение внимания, трудности в понимании материала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6877080" y="1989000"/>
            <a:ext cx="151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оведенческие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5148360" y="4292640"/>
            <a:ext cx="34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Эмоциональные и личностные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 </a:t>
            </a: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003640" y="4797360"/>
            <a:ext cx="369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Сниженное настроение, повышенная возбудимость, частая смена настроения, страхи, раздражительность, тревожность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684360" y="1989000"/>
            <a:ext cx="18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 общения</a:t>
            </a:r>
            <a:endParaRPr b="0" lang="en-US" sz="20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pic>
        <p:nvPicPr>
          <p:cNvPr id="100" name="Picture 14" descr="BD04924_2"/>
          <p:cNvPicPr/>
          <p:nvPr/>
        </p:nvPicPr>
        <p:blipFill>
          <a:blip r:embed="rId1"/>
          <a:stretch/>
        </p:blipFill>
        <p:spPr>
          <a:xfrm>
            <a:off x="0" y="260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7"/>
          <p:cNvSpPr txBox="1"/>
          <p:nvPr/>
        </p:nvSpPr>
        <p:spPr>
          <a:xfrm>
            <a:off x="3132000" y="1844640"/>
            <a:ext cx="316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Классификация 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сихологических проблем,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озникающих у детей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0" y="227664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Замкнут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539640" y="4149720"/>
            <a:ext cx="3745080" cy="223200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23"/>
          <p:cNvSpPr txBox="1"/>
          <p:nvPr/>
        </p:nvSpPr>
        <p:spPr>
          <a:xfrm>
            <a:off x="684360" y="4221000"/>
            <a:ext cx="338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Неврологические проблемы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684360" y="4869000"/>
            <a:ext cx="35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Тики, навязчивые дви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повышенная утомляем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арушение сна, головные боли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9640" y="306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дчивость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5"/>
          <p:cNvSpPr/>
          <p:nvPr/>
        </p:nvSpPr>
        <p:spPr>
          <a:xfrm>
            <a:off x="4716360" y="1413000"/>
            <a:ext cx="4176720" cy="5184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179280" y="1413000"/>
            <a:ext cx="4033800" cy="51829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-4357800" y="5877000"/>
            <a:ext cx="1768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1116000" y="47628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ФОРМИРОВАНИЕ     ЛИЧНОСТИ     РЕБЕНКА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11" name="WordArt 16"/>
          <p:cNvSpPr txBox="1"/>
          <p:nvPr/>
        </p:nvSpPr>
        <p:spPr>
          <a:xfrm>
            <a:off x="395280" y="155736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c004e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основные причины </a:t>
            </a:r>
            <a:endParaRPr b="1" lang="en-US" sz="2400" spc="1" strike="noStrike">
              <a:ln w="9360">
                <a:solidFill>
                  <a:srgbClr val="9c004e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c004e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несформированности детской психики</a:t>
            </a:r>
            <a:endParaRPr b="1" lang="en-US" sz="2400" spc="1" strike="noStrike">
              <a:ln w="9360">
                <a:solidFill>
                  <a:srgbClr val="9c004e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79280" y="2349360"/>
            <a:ext cx="39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еблагоприятные условия жизни, негативное влияние окружающей среды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ложные семейные взаимоотношения, плохие бытовые условия, вредные экологические воздействия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Специфика созревания мозга ребенк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равномерное развитие отдельных областей мозга, отклонения в их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Отсутствие взаимодействия между психическими процес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21"/>
          <p:cNvSpPr txBox="1"/>
          <p:nvPr/>
        </p:nvSpPr>
        <p:spPr>
          <a:xfrm>
            <a:off x="4932360" y="162864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последствия, отражающиеся 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в обучении и личности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716360" y="2349360"/>
            <a:ext cx="410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достаточная или несвое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формированность отдельных функцион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 психик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дагогическая запущ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адержка психическо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нижение самооцен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мирение ребенка с неуспехом, неспособность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ассивность, равнодушие к обучаю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9" descr="J0336887"/>
          <p:cNvPicPr/>
          <p:nvPr/>
        </p:nvPicPr>
        <p:blipFill>
          <a:blip r:embed="rId1"/>
          <a:stretch/>
        </p:blipFill>
        <p:spPr>
          <a:xfrm flipH="1">
            <a:off x="3780000" y="3933720"/>
            <a:ext cx="15602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0"/>
          <p:cNvSpPr/>
          <p:nvPr/>
        </p:nvSpPr>
        <p:spPr>
          <a:xfrm>
            <a:off x="395280" y="476280"/>
            <a:ext cx="84247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сихологическая функция никогда не нарушаетс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олностью и всегда остаются сохранными многие составляющие детской психи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острадавшие составляющие психической функции можно компенсировать за счет полноценно работающих звеньев внутри этой функции и других здоровых психических процессов. Благодаря развитию сохраненной психической функции произойдет компенсация более слабой функции и ребенку будет легче справиться с обучающими и развивающими заданиям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Реализация потенциальных возможностей развития психики ребенка зависит от общего благополучия, внимания окружающих взрослых к его развитию и от организации педагогически целесообразного воздействия, учитывающего особенности и дефицитарность развития тех или иных функций, умений, навыков. Своевременное выявление и квалификация тех или иных неблагоприятных вариантов развития необходимо в целях профилактики и коррекции трудностей в обучении и воспитании дет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99cc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7"/>
          <p:cNvSpPr/>
          <p:nvPr/>
        </p:nvSpPr>
        <p:spPr>
          <a:xfrm rot="16200000">
            <a:off x="-432360" y="1808280"/>
            <a:ext cx="5761080" cy="395928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ff8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 rot="16200000">
            <a:off x="3923280" y="1771920"/>
            <a:ext cx="5761080" cy="403200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4032000"/>
              <a:gd name="textAreaBottom" fmla="*/ 40323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ff8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1332000" y="1557360"/>
            <a:ext cx="23619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АГНОСТИЧЕСКОЕ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5003640" y="1628640"/>
            <a:ext cx="3672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РЕКЦИОННО-РАЗВИВАЮЩЕЕ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14"/>
          <p:cNvSpPr txBox="1"/>
          <p:nvPr/>
        </p:nvSpPr>
        <p:spPr>
          <a:xfrm>
            <a:off x="395280" y="115920"/>
            <a:ext cx="85694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Направления работы для предупреждения трудностей обучения</a:t>
            </a:r>
            <a:endParaRPr b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468360" y="2060640"/>
            <a:ext cx="3887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Обеспечивается комплексны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динамическим наблюдением за ребенком специалистами консилиума образовательного учреждения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Итогом изучения ребенка специалистами являются рекомендации: установление четких целей коррекционной работы, путей и сроков ее достижения, выработка адекватного состоянию ребенка подхода со стороны взрослых, выделение сильных сторон ребенка, на которые можно опереться в коррекционной работе, анализ хода развития ребенка и результаты педагогической работы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716360" y="2133720"/>
            <a:ext cx="4103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Предполагает комплекс мер, воздействующих на личность в целом, нормализацию и совершенствование ведущего вида деятельности, коррекцию индивидуальных недостатков развит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Обеспечивает детям овладение первоначальными знаниями и умениями; развитие психических и познавательных процессов до более высокого уровня, чем у детей не охваченных таковой работо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Реализуется взаимодействием в работе педагога-дефектолога, воспитателей, логопеда, психолога и других специалистов образовательного учрежд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56"/>
          <p:cNvGraphicFramePr/>
          <p:nvPr/>
        </p:nvGraphicFramePr>
        <p:xfrm>
          <a:off x="3924360" y="4653000"/>
          <a:ext cx="12222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653000"/>
                    <a:ext cx="12222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uket_v_gorshke"/>
          <p:cNvPicPr/>
          <p:nvPr/>
        </p:nvPicPr>
        <p:blipFill>
          <a:blip r:embed="rId1"/>
          <a:stretch/>
        </p:blipFill>
        <p:spPr>
          <a:xfrm>
            <a:off x="2843280" y="1628640"/>
            <a:ext cx="3174840" cy="35560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755640" y="692280"/>
            <a:ext cx="80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УСПЕШНОГО ВЗАИМОПОНИМАНИЯ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2556000" y="5373720"/>
            <a:ext cx="417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Bookman Old Style"/>
              </a:rPr>
              <a:t>УДАЧИ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3:36:03Z</dcterms:created>
  <dc:creator>Психолог</dc:creator>
  <dc:description/>
  <dc:language>en-US</dc:language>
  <cp:lastModifiedBy>SinTeZ</cp:lastModifiedBy>
  <dcterms:modified xsi:type="dcterms:W3CDTF">2012-05-18T17:26:30Z</dcterms:modified>
  <cp:revision>53</cp:revision>
  <dc:subject/>
  <dc:title>Слайд 1</dc:title>
</cp:coreProperties>
</file>