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A094-0D30-4D99-8DE3-3F0E69131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0A1F-D196-48AC-9639-D50560463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BBDE-EEFD-4276-B22B-19271B23A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06C0-6E40-4C53-88C7-01A6C1E81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95CEC-5997-40DC-97F1-2B8388622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B49BF-2430-4E7F-A466-203D84208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7E001-0BFB-4DE0-BD7B-18E078781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DB164-4B2E-4169-BC34-A62530DBC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712E9-E29B-45C4-98A1-53F2EC631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3D94B-BA1B-455C-9AA1-BBE864153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ADE4B-D0FA-4CD9-92BF-7641DE439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A32E-A002-4BDE-8CAE-1B95010D7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E62CC-CAC8-41B8-A63F-B6711F2D8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36F2C-D5F8-4914-BA3E-8B0FF3176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B4C07-EBE6-40CA-8FE1-DB648D54B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5319A-FE8C-4157-94E4-BA2214CF1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EA7B9-05D3-4BBF-86BE-F1DA18822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133D-BB44-4B73-92A8-FC6E2FCD5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F58B-37E8-4866-A241-0BF83C196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05A3-2C61-4075-B1E7-F7BC8CA51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4FD0-64D1-4E55-8E63-9C16E5952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6E15-C4D5-4936-A015-3BB9C020B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7BEA-CF96-4D01-B421-953EFCCC1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EA5D-37CA-4A0A-90E2-59B111B5C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589BE-AAFF-43A5-AAB1-E8200A6CC0B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A0B74-85C8-4CA4-99BE-2B706A556F2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23640" y="1341000"/>
            <a:ext cx="845820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Роль педагогической оценки </a:t>
            </a:r>
            <a:br>
              <a:rPr sz="4000"/>
            </a:b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в воспитании ребен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5148360" y="3933720"/>
            <a:ext cx="38304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тарший воспитатель МДОУ ЦРР – д/с №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оптева В.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c0039"/>
                </a:solidFill>
                <a:latin typeface="Arial"/>
              </a:rPr>
              <a:t>Организация проведения диагностического обследования детей и механизм обработки полученных данных.</a:t>
            </a:r>
            <a:endParaRPr b="0" lang="en-US" sz="2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 этап. Подготовительны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подготовка диагностических карт, стимульного материала, определение   механизма проведения обследования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 этап. Проведение непосредственно диагности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 индивидуальные занятия, дидактические  игры  и т.п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 этап. Обработка полученных данны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Количественный уровень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усвоения программного материала по каждому конкретному заданию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Количество детей, получивших 3 балла + количество детей, получивших 2 балла * 100% / общее количество детей групп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Качественный уровень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усвоения программного материала по каждому конкретному заданию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Количество детей, получивших 3 балла *100% / общее количество детей групп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Рассчитывается общий результат усвоения программы по группе, средний балл в процента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 этап. Выводы и рекомендации.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 этап. Мониторин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Дошкольное детство – это период активного освоения окружающего мира, первоначального фактического формирования личности, развития личностных механизмов повед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Эффективность педагогического воздействия на ребенка в этот период зависит от оптимального выбора методов и средств воспитательной работы, которых сегодня очень мало. Тем не менее в каждом  из них обязательно присутствует  общий компонент – ОЦЕН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6372360" y="4365720"/>
            <a:ext cx="2130120" cy="213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c0039"/>
                </a:solidFill>
                <a:latin typeface="Arial"/>
              </a:rPr>
              <a:t>Виды вербальных оценок</a:t>
            </a:r>
            <a:endParaRPr b="0" lang="en-US" sz="2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рямая оценк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«Молодец, ты приложил все старание при выполнении работы, и она получилась замечательной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освенная оцен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«Настоящие мужчины не плачут, а молча огорчаютс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Опосредованная оценк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«Наша Машенька всегда старается поступать, как добрая сказочная фе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редвосхищающая оцен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«Я верю, у тебя все получиться, если ты будешь внимательным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Отсутствие оцен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c0039"/>
                </a:solidFill>
                <a:latin typeface="Arial"/>
              </a:rPr>
              <a:t>Функции педагогической оценки</a:t>
            </a:r>
            <a:endParaRPr b="0" lang="en-US" sz="2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риентирующая функ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тимулирующая функци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c0039"/>
                </a:solidFill>
                <a:latin typeface="Arial"/>
              </a:rPr>
              <a:t>Оценка развития и актуального состояния ребенка. </a:t>
            </a:r>
            <a:br>
              <a:rPr sz="2400"/>
            </a:br>
            <a:r>
              <a:rPr b="1" lang="en-US" sz="2400" spc="-1" strike="noStrike">
                <a:solidFill>
                  <a:srgbClr val="8c0039"/>
                </a:solidFill>
                <a:latin typeface="Arial"/>
              </a:rPr>
              <a:t>Общие принципы и ограничения.</a:t>
            </a:r>
            <a:endParaRPr b="0" lang="en-US" sz="2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437920" y="1628280"/>
            <a:ext cx="670572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едагогическая оценка нацелена на помощь ребенку в обучении и развити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Цель – оказать ребенку помощь и поддержку в стремлении узнать новое. Конфиденциальность информа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едагогическая оценка исходит из собственной личности ребен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Каждый ребенок имеет право на свой собственный  путь развит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едагогическая оценка отличается от психологической диагностик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едагогическая оценка более свободна и основана на понимании поведения ребенка, а не на его тестирован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едагогическая оценка осуществляется в привычной для ребенка обстановк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аблюдение за ребенком во время занятий, игры, прогулки, режимных момент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едагогическая оценка  развития ребенка складывается из множества частных оцено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Чтобы оценить общий уровень развития ребенка, необходимо иметь информацию о различных аспектах(сферах) его  развития: социальном, эмоциональном, коммуникативном, личностном, интеллектуальном и т.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c0039"/>
                </a:solidFill>
                <a:latin typeface="Arial"/>
              </a:rPr>
              <a:t>Как проводить педагогическую оценку развития и актуального  состояния детей</a:t>
            </a:r>
            <a:endParaRPr b="0" lang="en-US" sz="2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бор информ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гистрация полученных дан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нтерпретация полученных результа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c0039"/>
                </a:solidFill>
                <a:latin typeface="Arial"/>
              </a:rPr>
              <a:t>Сбор информации</a:t>
            </a:r>
            <a:endParaRPr b="0" lang="en-US" sz="2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етоды сбора информ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систематическое структурированное наблюдени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получение от детей ответ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сохранение продуктов детской деятель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беседы с родителями и обследование условий жизни ребенка в семь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сточники информ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ребенок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группа дет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родители, педагоги - специалисты и другие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зрослы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c0039"/>
                </a:solidFill>
                <a:latin typeface="Arial"/>
              </a:rPr>
              <a:t>Регистрация полученных данных</a:t>
            </a:r>
            <a:endParaRPr b="0" lang="en-US" sz="2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егистрация своих наблюдений и полученных данн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бор удобного способа регистрации информ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обходимо соблюдать баланс между регистрируемой и нерегистрируемой информаци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обходимо быть объективными при регистрации своих наблюд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c0039"/>
                </a:solidFill>
                <a:latin typeface="Arial"/>
              </a:rPr>
              <a:t>Интерпретация полученных данных</a:t>
            </a:r>
            <a:endParaRPr b="0" lang="en-US" sz="2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поставлять результаты, полученные различными методами в разных видах деятельности и относящиеся к различным сферам личности ребен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инимать во внимание только закономер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верять разные гипотез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9T06:18:36Z</dcterms:created>
  <dc:creator>user</dc:creator>
  <dc:description/>
  <dc:language>en-US</dc:language>
  <cp:lastModifiedBy>user</cp:lastModifiedBy>
  <dcterms:modified xsi:type="dcterms:W3CDTF">2010-03-29T08:22:41Z</dcterms:modified>
  <cp:revision>2</cp:revision>
  <dc:subject/>
  <dc:title>Роль педагогической оценки  в воспитании ребенка</dc:title>
</cp:coreProperties>
</file>