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1E7-6E58-47FE-A4C5-733CF4CA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A49-A5FD-4506-9A73-805CB0BF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B98-7FAD-4B05-9EF6-EBF42421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574-165E-4969-9E81-D817E9CD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FA41-FF71-4FD6-8546-0ABDD42C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047B-8CE5-4493-BF4D-1A9D8975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F260-628C-46AB-ACFF-FDC1C904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11AC-A712-4B54-A83E-1680CB13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7507-FE37-4A6D-A92C-690B4729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8B20-17C4-489F-B46E-9975DF19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21B4-ACDC-44AD-962E-1ED73CAA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A1B-7D59-454E-8EA1-B17C35E5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87CE-75A6-4EC6-89EB-4B411D04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DA95-6204-4707-83CB-6A4D016D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B7CC-FFA8-42AC-AE15-C1DCF5FF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D2E0-BABA-495D-A7B1-02E32E2E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ED49-23B2-4A45-AFAD-659F716E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54B9-072C-4150-A254-1DB7AFF5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D1B-60CA-4A39-987B-9A155FBA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95BC-A6D8-41A0-B472-5AEFE5BD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731-3BBA-4855-828E-13C64536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CD7-5130-41F9-977E-79776D80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B74-BD81-479C-BB97-994F88AB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5A1-EDA4-4C63-9B39-5E4AE021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AC2C-340D-47F8-B0FD-72ED270933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6471-3F0A-4272-B749-200A94B21C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845820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оль педагогической оценки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 воспитании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48360" y="3933720"/>
            <a:ext cx="38304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рший воспитатель МДОУ ЦРР – д/с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птева В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Организация проведения диагностического обследования детей и механизм обработки полученных данных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этап. Подготовитель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подготовка диагностических карт, стимульного материала, определение   механизма проведения обслед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этап. Проведение непосредственно диагнос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индивидуальные занятия, дидактические  игры  и т.п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этап. Обработка полученных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Количественный уров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усвоения программного материала по каждому конкретному задани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ичество детей, получивших 3 балла + количество детей, получивших 2 балла * 100% / общее количество детей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Качественный уров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усвоения программного материала по каждому конкретному задани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ичество детей, получивших 3 балла *100% / общее количество детей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читывается общий результат усвоения программы по группе, средний балл в процен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этап. Выводы и рекомендации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этап. Мониторин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Дошкольное детство – это период активного освоения окружающего мира, первоначального фактического формирования личности, развития личностных механизмов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Эффективность педагогического воздействия на ребенка в этот период зависит от оптимального выбора методов и средств воспитательной работы, которых сегодня очень мало. Тем не менее в каждом  из них обязательно присутствует  общий компонент – ОЦ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72360" y="4365720"/>
            <a:ext cx="2130120" cy="21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Виды вербальных оценок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ая оцен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Молодец, ты приложил все старание при выполнении работы, и она получилась замечательн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свенная оц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Настоящие мужчины не плачут, а молча огорчаю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посредованная оцен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Наша Машенька всегда старается поступать, как добрая сказочная фе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восхищающая оц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 верю, у тебя все получиться, если ты будешь вниматель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сутствие оц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Функции педагогической оценки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иентирующая фу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мулирующая функ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Оценка развития и актуального состояния ребенка. </a:t>
            </a:r>
            <a:br>
              <a:rPr sz="2400"/>
            </a:b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Общие принципы и ограничения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7920" y="1628280"/>
            <a:ext cx="67057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нацелена на помощь ребенку в обучении и развит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ь – оказать ребенку помощь и поддержку в стремлении узнать новое. Конфиденциальность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исходит из собственной личности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ждый ребенок имеет право на свой собственный  путь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отличается от психологической диагност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более свободна и основана на понимании поведения ребенка, а не на его тестиро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осуществляется в привычной для ребенка обстанов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блюдение за ребенком во время занятий, игры, прогулки, режимных мо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дагогическая оценка  развития ребенка складывается из множества частных оц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тобы оценить общий уровень развития ребенка, необходимо иметь информацию о различных аспектах(сферах) его  развития: социальном, эмоциональном, коммуникативном, личностном, интеллектуальном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Как проводить педагогическую оценку развития и актуального  состояния детей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гистрация получен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претация получен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Сбор информации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оды сбора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истематическое структурированное наблюд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лучение от детей отв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охранение продуктов детск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еседы с родителями и обследование условий жизни ребенка в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точники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ебен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группа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одители, педагоги - специалисты и други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ос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Регистрация полученных данных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истрация своих наблюдений и полученных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 удобного способа регистрации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бходимо соблюдать баланс между регистрируемой и нерегистрируемой информ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бходимо быть объективными при регистрации своих наблю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Интерпретация полученных данных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поставлять результаты, полученные различными методами в разных видах деятельности и относящиеся к различным сферам личност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имать во внимание только закономе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ять разные гипоте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6:18:36Z</dcterms:created>
  <dc:creator>user</dc:creator>
  <dc:description/>
  <dc:language>en-US</dc:language>
  <cp:lastModifiedBy>user</cp:lastModifiedBy>
  <dcterms:modified xsi:type="dcterms:W3CDTF">2010-03-29T08:22:41Z</dcterms:modified>
  <cp:revision>2</cp:revision>
  <dc:subject/>
  <dc:title>Роль педагогической оценки  в воспитании ребенка</dc:title>
</cp:coreProperties>
</file>