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FC7-A478-49CF-AEEB-F8E37EE5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CFD-8653-409E-9BD1-730D4B80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56C-4A00-487D-BD21-9412CE7C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ACC-F8F1-4ADA-94FF-76870425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92AE-A2C9-4DC7-87BE-43893FE2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9479-CE30-4813-9242-6CEBD0D9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1B1B-B65C-4818-ADA6-3AECA74A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F3DA-010D-4FB5-8F5C-98F6D836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3605-DE1D-4FF6-B921-46DE4125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523-8775-4C75-A06D-A532C347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7DAF-B0E2-40AC-8428-B8772B5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DC1-DDB9-4902-B544-65EDBC2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6946-4368-4C77-8EAC-5F0A89B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7FC5-B3C9-4705-8795-940FD3F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2F8F-A3AE-4BDD-8EC9-E8A8C8BD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FCB3-75A4-4798-87AB-33B10123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1D16-D1A9-46E8-91FC-07DC3D4F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DAE-5A71-420A-8A5B-0C4709A9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027-7CB3-4C8C-BAE9-7C9B3CC4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2DD-0580-4A04-9DC8-7093671D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3C0-CF16-479C-A359-12EA37C8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A7F-DC76-49C4-ACA7-E506DF60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7A0-2756-4B1B-BF65-E249F97D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737-7712-4635-A7A7-0D8E3B3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9974-96C7-41AE-B75F-ED49184A63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110A-EE60-44F5-9CD5-8123A5FCDF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45820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оль педагогической оценки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воспитании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48360" y="3933720"/>
            <a:ext cx="38304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рший воспитатель МДОУ ЦРР – д/с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птева В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рганизация проведения диагностического обследования детей и механизм обработки полученных данных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этап. Подготовите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подготовка диагностических карт, стимульного материала, определение   механизма проведения обслед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этап. Проведение непосредственно диагнос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индивидуальные занятия, дидактические  игры  и т.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этап. Обработка полученных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оличественны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своения программного материала по каждому конкретному зад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ичество детей, получивших 3 балла + количество детей, получивших 2 балла * 100% / общее количество дете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ачественны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своения программного материала по каждому конкретному зад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ичество детей, получивших 3 балла *100% / общее количество дете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читывается общий результат усвоения программы по группе, средний балл в проц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этап. Выводы и рекомендации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этап. Монито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ошкольное детство – это период активного освоения окружающего мира, первоначального фактического формирования личности, развития личностных механизмов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ффективность педагогического воздействия на ребенка в этот период зависит от оптимального выбора методов и средств воспитательной работы, которых сегодня очень мало. Тем не менее в каждом  из них обязательно присутствует  общий компонент – 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213012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Виды вербальных оценок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ая оце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Молодец, ты приложил все старание при выполнении работы, и она получилась замечатель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свенная оц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стоящие мужчины не плачут, а молча огорчаю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посредованная оце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ша Машенька всегда старается поступать, как добрая сказочная фе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восхищающая оц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 верю, у тебя все получиться, если ты будешь вниматель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сутствие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Функции педагогической оценки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ентирующ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мулирующая функ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ценка развития и актуального состояния ребенка. </a:t>
            </a:r>
            <a:br>
              <a:rPr sz="2400"/>
            </a:b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бщие принципы и ограничения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7920" y="1628280"/>
            <a:ext cx="6705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нацелена на помощь ребенку в обучении и развит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 – оказать ребенку помощь и поддержку в стремлении узнать новое. Конфиденциальность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исходит из собственной личност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ый ребенок имеет право на свой собственный  путь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отличается от психологической диагност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более свободна и основана на понимании поведения ребенка, а не на его тестиро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осуществляется в привычной для ребенка обстанов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блюдение за ребенком во время занятий, игры, прогулки, режимных мо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 развития ребенка складывается из множества частных оц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оценить общий уровень развития ребенка, необходимо иметь информацию о различных аспектах(сферах) его  развития: социальном, эмоциональном, коммуникативном, личностном, интеллектуальном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Как проводить педагогическую оценку развития и актуального  состояния детей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истрация получен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претация получен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Сбор информации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ы сбора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истематическое структурированное наблю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лучение от детей отв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хранение продуктов детск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седы с родителями и обследование условий жизни ребенка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ебен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руппа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дители, педагоги - специалисты и други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Регистрация полученных данных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страция своих наблюдений и получен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 удобного способа регистраци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соблюдать баланс между регистрируемой и нерегистрируемой информ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быть объективными при регистрации своих наблю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Интерпретация полученных данных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поставлять результаты, полученные различными методами в разных видах деятельности и относящиеся к различным сферам лич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имать во внимание только законом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ять разные гипот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6:18:36Z</dcterms:created>
  <dc:creator>user</dc:creator>
  <dc:description/>
  <dc:language>en-US</dc:language>
  <cp:lastModifiedBy>user</cp:lastModifiedBy>
  <dcterms:modified xsi:type="dcterms:W3CDTF">2010-03-29T08:22:41Z</dcterms:modified>
  <cp:revision>2</cp:revision>
  <dc:subject/>
  <dc:title>Роль педагогической оценки  в воспитании ребенка</dc:title>
</cp:coreProperties>
</file>