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020-97D5-4DB2-AA02-A1310345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61D-FE4B-4C3F-9FDB-CA4C2CD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C75-B0F5-497B-8B71-6423722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E08-4A5A-4EE5-AFDE-9DB1D56C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F18E-B794-4D17-931D-5C09BABE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A93D-05E2-4188-AF69-A4CE88E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DCE-F4E1-4138-885C-913158CB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8D5-7437-46C0-AE4E-839788BC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AA80-C4D7-43CD-8C0F-8D42B8A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AAC-A7F2-4F5F-B226-55544BB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CB3D-D080-4739-898C-2D0F2B37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84D-5768-4FA8-A199-2012FB5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D45E-8FED-4449-ABC2-7EF0B48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F16-5B5E-4919-BD19-050C2E9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2FC1-9F06-4C98-8FD8-E92D48D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EF40-4DB6-428C-BA8E-DD3ADA1C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D6A3-CFD6-44F5-9122-99CB945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EB2-C3CA-4E9B-B6F4-944687CC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515-8D35-4EF0-9636-F99D879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3E4-863F-410E-82D9-B254AC7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073-F776-42A9-9547-31EC5C0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076-F9C7-40A6-A2A1-1D77724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894-797A-4DDC-991E-1B2794B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ECA-7CED-42E8-B039-89EE2DA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971-37C7-4994-B2A0-FDC151E0D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299-8296-4B68-93CD-A60D855742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7600" y="380520"/>
            <a:ext cx="5486400" cy="3581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оформлению документ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х работников ДО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риал подготовлен творческой группой по реализации ФГТ ООП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отоколы педагогических совет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иагностические материал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чёт поступления и выдачи методической литературы и пособий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воспитател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ель посещаемо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тренний фильтр детей (в группах раннего возраст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едения о детях и их родител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дети"/>
          <p:cNvPicPr/>
          <p:nvPr/>
        </p:nvPicPr>
        <p:blipFill>
          <a:blip r:embed="rId1"/>
          <a:stretch/>
        </p:blipFill>
        <p:spPr>
          <a:xfrm>
            <a:off x="5410080" y="4114800"/>
            <a:ext cx="1935360" cy="2590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невник групп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и:_______________   ________________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Список детей (в виде таблиц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нтропометрические данные (на начало и конец 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ркировка меб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обенности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Система закаливания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Модель и режим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Схема посадки детей за стол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Деление детей на подгруп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Режим дня на холодный и тёплый период времени г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.Планирование воспитательно-образовательной рабо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лендарь событий группы (на год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образовательной деятельности на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работы на ------ меся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ы утренней гимнас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аимодействие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здники и развле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непосредственно образовательной деятельности (сетка Н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 реализации те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итогового мероприятия (события, праздника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а итогового мероприятия (праздник, выставка, коллаж, акция и 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 проведения итогового    меропри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72"/>
          <p:cNvSpPr/>
          <p:nvPr/>
        </p:nvSpPr>
        <p:spPr>
          <a:xfrm>
            <a:off x="3119400" y="27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7380360"/>
        </p:xfrm>
        <a:graphic>
          <a:graphicData uri="http://schemas.openxmlformats.org/drawingml/2006/table">
            <a:tbl>
              <a:tblPr/>
              <a:tblGrid>
                <a:gridCol w="606600"/>
                <a:gridCol w="1415880"/>
                <a:gridCol w="1238400"/>
                <a:gridCol w="928440"/>
                <a:gridCol w="1444680"/>
                <a:gridCol w="995400"/>
                <a:gridCol w="1120680"/>
                <a:gridCol w="1393920"/>
              </a:tblGrid>
              <a:tr h="314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нь не-де-л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а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ланиру-емые результа-ты развития интегра-тивных кач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держание совместной деятельности взрослого и детей (организованной образовательной деятельности)  с учёто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интеграции образовательных областей и разны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рга-низация разви-ваю-щей среды, мате-риаль-но-техни-ческое осна-щение проек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заимо-дей-ствие с родите-лями, соци-альны-ми парт-нё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имеча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епосредствен-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бразова-тельная деятель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режимных мо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руппо-вая, подгруп-п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нди-ви-ду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итуатив.беседы,дни рожден.,особые события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Диагностические таблицы уровня развития интегративных качеств дошкольников и освоения ООП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маг"/>
          <p:cNvPicPr/>
          <p:nvPr/>
        </p:nvPicPr>
        <p:blipFill>
          <a:blip r:embed="rId1"/>
          <a:stretch/>
        </p:blipFill>
        <p:spPr>
          <a:xfrm>
            <a:off x="2819520" y="2057400"/>
            <a:ext cx="4343400" cy="43434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речень педагогической документации делится на два блока: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щая педагогическая документац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ументация педагог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дагогическая документа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разовательная программ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одовой 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таршего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пециали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книги"/>
          <p:cNvPicPr/>
          <p:nvPr/>
        </p:nvPicPr>
        <p:blipFill>
          <a:blip r:embed="rId1"/>
          <a:stretch/>
        </p:blipFill>
        <p:spPr>
          <a:xfrm>
            <a:off x="4648320" y="4270320"/>
            <a:ext cx="2882880" cy="2378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старшего воспита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ведения о педагогических кадр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рожд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лж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ние (полностью прописывается образовательное учреждение, год окончани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ециальность по дипл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лификационная категор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присвоения (число, месяц, год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ий адре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2.Документация по аттестации и повышению квалификац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 и график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нк профессиональных потребностей или заявки на курсовую подготовк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чёт о курсовой подготов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ётные карточки педагог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3.План работы старшего воспитат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личные формы работы с педагогами, самообразование, аттестация и повышение квалификации педагог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родителями, школой и другими организац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ащение методического кабин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бщение и внедрение передового опы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молодыми специалистами, наставн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осуществлением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новационная и экспериментальная     деятельность учрежд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4.Документы по видам контроля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циклограмма контрольно-диагнос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итогам контро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формляются результаты контроля: выводы, решения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одятся заседания педагогических и методических советов, производственные совещания, рабочие совещания с педагогическим состав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деланные замечания и предложения фиксируются в документации согласно номенклатуре дел данного образовательного учреждения.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5.Тетрадь регистрации форм метод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й необходимо указыва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у проведения методического мероприя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вание и темати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И.О. ответственного и Ф.И.О. участников данного меро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8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