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534-6BFD-42A8-BB93-3C3CDF63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30E-2C92-4951-9BB3-2195BEEA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A65-A5C9-4403-BE76-0D6F9DC2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DB0-0929-48C7-B2B4-F1AD276F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BCE4-6F14-4E5F-AFDB-C349A0B7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0B14-CEA1-4623-8D27-A630C126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B601-FB73-4E2B-87E3-A793551B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E785-7F21-4146-BAAF-22DCB6B0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8775-31A5-429B-8FCF-F8B66469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5BAB-09AD-4489-8655-CCDD640D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3688-E684-4532-9F2D-2F0D410F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695-897A-4C10-B10B-DC764433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B65B-607F-4298-999C-7BF07017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D0D3-3D9A-4843-BBDF-011F31C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276E-4DA9-4719-82B2-1C035D19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94FF-F8FC-4669-9C59-5D50B4B3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9419-26B7-43EB-B6E7-271B4218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443-21D8-49DC-AAC7-46B37857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E87-93DC-4023-9AA6-6D0B662E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841-C925-4E88-9FC8-814845B3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768-3240-4866-9C11-F32FA5B1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63E-AC4B-4B08-A7C8-2BA81464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D07-782A-4848-B3CF-EB5A7134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A48-5744-46E7-A438-747432E1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92A2-3CC8-40DC-9A71-6A064F4C4C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974C-D573-49E3-A912-48188EFBF3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7600" y="380520"/>
            <a:ext cx="5486400" cy="3581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екомендаци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 оформлению документаци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едагогических работников ДО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343400"/>
            <a:ext cx="6032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териал подготовлен творческой группой по реализации ФГТ ООП ДО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ротоколы педагогических совето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Диагностические материалы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Учёт поступления и выдачи методической литературы и пособий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воспитател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абель посещаемос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тренний фильтр детей (в группах раннего возраста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ведения о детях и их родител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дети"/>
          <p:cNvPicPr/>
          <p:nvPr/>
        </p:nvPicPr>
        <p:blipFill>
          <a:blip r:embed="rId1"/>
          <a:stretch/>
        </p:blipFill>
        <p:spPr>
          <a:xfrm>
            <a:off x="5410080" y="4114800"/>
            <a:ext cx="1935360" cy="25909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невник групп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итатели:_______________   __________________________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Список детей (в виде таблицы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И ребё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нтропометрические данные (на начало и конец год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аркировка меб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руппа здоров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собенности здоров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Система закаливания дет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.Модель и режим двигательной актив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.Схема посадки детей за стол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.Деление детей на подгрупп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.Режим дня на холодный и тёплый период времени г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.Планирование воспитательно-образовательной рабо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алендарь событий группы (на год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образовательной деятельности на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лан работы на ------ меся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мплексы утренней гимнаст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заимодействие с семьями воспитанни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аздники и развле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лан непосредственно образовательной деятельности (сетка НОД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психолого-педагогической работы на месяц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психолого-педагогической работы на месяц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ок реализации тем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вание итогового мероприятия (события, праздника и т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орма итогового мероприятия (праздник, выставка, коллаж, акция и  т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та проведения итогового    мероприят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72"/>
          <p:cNvSpPr/>
          <p:nvPr/>
        </p:nvSpPr>
        <p:spPr>
          <a:xfrm>
            <a:off x="3119400" y="2751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0"/>
          <a:ext cx="9144000" cy="7380360"/>
        </p:xfrm>
        <a:graphic>
          <a:graphicData uri="http://schemas.openxmlformats.org/drawingml/2006/table">
            <a:tbl>
              <a:tblPr/>
              <a:tblGrid>
                <a:gridCol w="606600"/>
                <a:gridCol w="1415880"/>
                <a:gridCol w="1238400"/>
                <a:gridCol w="928440"/>
                <a:gridCol w="1444680"/>
                <a:gridCol w="995400"/>
                <a:gridCol w="1120680"/>
                <a:gridCol w="1393920"/>
              </a:tblGrid>
              <a:tr h="314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ень не-де-ли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а-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ланиру-емые результа-ты развития интегра-тивных кач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одержание совместной деятельности взрослого и детей (организованной образовательной деятельности)  с учётом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интеграции образовательных областей и разных видов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рга-низация разви-ваю-щей среды, мате-риаль-но-техни-ческое осна-щение проек-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заимо-дей-ствие с родите-лями, соци-альны-ми парт-нё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имеча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епосредствен-но образователь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бразова-тельная деятель-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 режимных момен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руппо-вая, подгруп-п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нди-ви-ду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итуатив.беседы,дни рожден.,особые события и 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.Диагностические таблицы уровня развития интегративных качеств дошкольников и освоения ООП ДО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Желаем успеха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маг"/>
          <p:cNvPicPr/>
          <p:nvPr/>
        </p:nvPicPr>
        <p:blipFill>
          <a:blip r:embed="rId1"/>
          <a:stretch/>
        </p:blipFill>
        <p:spPr>
          <a:xfrm>
            <a:off x="2819520" y="2057400"/>
            <a:ext cx="4343400" cy="434340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еречень педагогической документации делится на два блока: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щая педагогическая документац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окументация педагог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едагогическая документа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ограмма разви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бразовательная программ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одовой пл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педагогов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старшего воспита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воспита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специали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книги"/>
          <p:cNvPicPr/>
          <p:nvPr/>
        </p:nvPicPr>
        <p:blipFill>
          <a:blip r:embed="rId1"/>
          <a:stretch/>
        </p:blipFill>
        <p:spPr>
          <a:xfrm>
            <a:off x="4648320" y="4270320"/>
            <a:ext cx="2882880" cy="23781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68706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старшего воспитател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ведения о педагогических кадра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И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та рожде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лж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разование (полностью прописывается образовательное учреждение, год окончания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пециальность по дипл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валификационная категор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та присвоения (число, месяц, год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град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машний адре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2.Документация по аттестации и повышению квалификаци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лан и график повышения квалиф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нк профессиональных потребностей или заявки на курсовую подготовк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чёт о курсовой подготов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чётные карточки педагого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3.План работы старшего воспитател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личные формы работы с педагогами, самообразование, аттестация и повышение квалификации педагог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заимодействие с родителями, школой и другими организация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ащение методического кабине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общение и внедрение передового опы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та с молодыми специалистами, наставничеств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троль за осуществлением воспитательно-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новационная и экспериментальная     деятельность учрежде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4.Документы по видам контроля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циклограмма контрольно-диагнос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по итогам контрол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формляются результаты контроля: выводы, решения, рекоменд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одятся заседания педагогических и методических советов, производственные совещания, рабочие совещания с педагогическим состав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деланные замечания и предложения фиксируются в документации согласно номенклатуре дел данного образовательного учреждения.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5.Тетрадь регистрации форм методической работ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ней необходимо указыват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ту проведения методического мероприя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название и тематик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.И.О. ответственного и Ф.И.О. участников данного мероприят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6T18:43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