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B72-8DBB-4600-AB6F-B67809C8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63F-2CFE-4D84-B5B9-1DDDC7E5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E51-4D28-4EA2-ABDF-340FF5C9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B0E-D544-429D-9AB5-6D6291F4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4C8-02F8-49BB-859D-D9989EFF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FE2-9DC8-4553-84B8-DCBC0B5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4E6-49BB-4399-9971-F1A653D0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EC8-EA00-471B-9434-1BDD2530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95E-1904-4653-80F2-02A1D5ED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D21-A40E-486D-9B32-72A17C07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58A-5530-4143-9975-8EC18D65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6BA-B9DA-4EE3-9E1F-55CBBCE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8837-6BED-43E7-83EE-3C894F2E29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30d7c"/>
                </a:solidFill>
                <a:latin typeface="Times New Roman"/>
              </a:rPr>
              <a:t>Региональный экзамен</a:t>
            </a:r>
            <a:br>
              <a:rPr sz="4800"/>
            </a:br>
            <a:r>
              <a:rPr b="1" i="1" lang="ru-RU" sz="4800" spc="-1" strike="noStrike">
                <a:solidFill>
                  <a:srgbClr val="a30d7c"/>
                </a:solidFill>
                <a:latin typeface="Times New Roman"/>
              </a:rPr>
              <a:t>по математике в 7 класс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57300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МОБУ» Новочеркасская СОШ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Булдакова Л.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Упростите выражение  (2 – с)</a:t>
            </a:r>
            <a:r>
              <a:rPr b="1" i="1" lang="ru-RU" sz="4000" spc="-1" strike="noStrike" baseline="30000">
                <a:solidFill>
                  <a:srgbClr val="7030a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 – с(с + 4), найдите его значение при с = 0,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В ответ запишите полученное чис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789000" y="5143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30d7c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856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Упростите  выраже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) 24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2) 18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3) 6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4) 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"/>
              <p:cNvSpPr txBox="1"/>
              <p:nvPr/>
            </p:nvSpPr>
            <p:spPr>
              <a:xfrm>
                <a:off x="5357880" y="1214280"/>
                <a:ext cx="217008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Rectangle 3"/>
          <p:cNvSpPr/>
          <p:nvPr/>
        </p:nvSpPr>
        <p:spPr>
          <a:xfrm>
            <a:off x="4443480" y="767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574880" y="607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е уравнение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0,2(7 – 2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p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) = 2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,3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 – 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0,3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p – 6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)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507840" y="5572080"/>
            <a:ext cx="14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=-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30d7c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a30d7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Пирожное дороже булочки на 18 руб. Сколько стоит пирожное и сколько стоит булочка, если за 5 пирожных заплатили столько же, сколько за 11 булочек? Буквой у обозначена цена булочки. Какое из ниже приведенных уравнений составлено вер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a30d7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1) 11(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18) =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 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      2) 5(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18) =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 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     3)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–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= 18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4)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=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145400" y="607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становите соответствие между графиками функций и формулами, которые их задают.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РАФ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)у = 2х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2) у = – 2х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3) у = х + 2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4) у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14" descr="Описание: http://sdamgia.ru/docs/DE0E276E497AB3784C3FC4CC20248DC0/questions/G13.R.5.01/xs3qvrsrcA64B5D52DFFBBFE84B8789C782653A82_1_1349957117.png"/>
          <p:cNvPicPr/>
          <p:nvPr/>
        </p:nvPicPr>
        <p:blipFill>
          <a:blip r:embed="rId1"/>
          <a:stretch/>
        </p:blipFill>
        <p:spPr>
          <a:xfrm>
            <a:off x="781200" y="1566720"/>
            <a:ext cx="2565360" cy="265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" descr="Описание: http://sdamgia.ru/docs/DE0E276E497AB3784C3FC4CC20248DC0/questions/G13.R.5.01/xs3qvrsrcCDF4313B8EA58BE54AD4F7FA9C139C09_1_1349957094.png"/>
          <p:cNvPicPr/>
          <p:nvPr/>
        </p:nvPicPr>
        <p:blipFill>
          <a:blip r:embed="rId2"/>
          <a:stretch/>
        </p:blipFill>
        <p:spPr>
          <a:xfrm>
            <a:off x="3638520" y="1852560"/>
            <a:ext cx="2030400" cy="2365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Описание: http://sdamgia.ru/docs/DE0E276E497AB3784C3FC4CC20248DC0/questions/G13.R.5.01/xs3qvrsrc7A4B33DDF5A1A7E44E8350735951F063_1_1349957078.png"/>
          <p:cNvPicPr/>
          <p:nvPr/>
        </p:nvPicPr>
        <p:blipFill>
          <a:blip r:embed="rId3"/>
          <a:stretch/>
        </p:blipFill>
        <p:spPr>
          <a:xfrm>
            <a:off x="6211800" y="1779480"/>
            <a:ext cx="2511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кажите номер верного утвержде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1)Вертикальные углы 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2)Любая биссектриса равнобедренного треугольника является его медиан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3)Внутренние односторонние углы, образованные двумя параллельными прямыми и секущей, 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789000" y="5786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30d7c"/>
                </a:solidFill>
                <a:latin typeface="Times New Roman"/>
              </a:rPr>
              <a:t>2ча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Решить систему уравнений с двумя неизвестным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"/>
              <p:cNvSpPr txBox="1"/>
              <p:nvPr/>
            </p:nvSpPr>
            <p:spPr>
              <a:xfrm>
                <a:off x="2071800" y="2857680"/>
                <a:ext cx="5143320" cy="22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Rectangle 3"/>
          <p:cNvSpPr/>
          <p:nvPr/>
        </p:nvSpPr>
        <p:spPr>
          <a:xfrm>
            <a:off x="4462560" y="1157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Решить задач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Дима и Саша выполняют одинаковый тест. Дима отвечает за час на 12 вопросов теста, а Саша – на 22. Они одновременно начали отвечать на вопросы теста, и Дима закончил свой тест позже Саши на 75 минут. Сколько вопросов содержит тес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Отрезок АК – биссектриса треугольника АВС. На стороне АВ отметили точку М такую, что АМ = МК. Докажите, что МК || А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170028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драя с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Инстру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На выполнение экзаменационной работы отводится 90 минут. Работа состоит из двух частей. Первая часть содержит 9 заданий базового уровня сложности, вторая часть – 3 задания повышенного уровня слож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Решения всех задач экзаменационной работы (первой и второй частей) и ответы к ним записываются на отдельных листа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042920" y="765000"/>
            <a:ext cx="705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дарю автора шабл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627280" y="544500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400" y="500040"/>
            <a:ext cx="78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Формулировки заданий не переписываются, рисунки не перечерчиваются. После решения задачи записывается ответ. При его записи учитывается следующе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ях с выбором ответа указывается номер верного от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ях с кратким ответом указывается число (целое число или десятичная дробь), получившееся в результате реш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и на соотнесение указывается последовательность цифр из таблицы ответов без использования букв, пробелов и других символов (неправильно: А-2, Б-1, В-3; правильно: 21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642960" y="1143000"/>
            <a:ext cx="77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се необходимые вычисления, преобразования производятся в черновике. Черновики не проверяются и не учитываются при выставлении отмет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ьный ответ в зависимости от сложности каждого задания оценивается одним или несколькими баллами. Баллы, полученные вами за все выполненные задания, суммируются. Постарайтесь выполнить как можно больше заданий и набрать как можно больше бал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359000"/>
            <a:ext cx="85820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18676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Найти значение выраж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464000" y="-1303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425120" y="145800"/>
            <a:ext cx="293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143080" y="3500280"/>
                <a:ext cx="46674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6"/>
          <p:cNvSpPr/>
          <p:nvPr/>
        </p:nvSpPr>
        <p:spPr>
          <a:xfrm>
            <a:off x="4449600" y="29088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1928880" y="1428840"/>
                <a:ext cx="485784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Rectangle 9"/>
          <p:cNvSpPr/>
          <p:nvPr/>
        </p:nvSpPr>
        <p:spPr>
          <a:xfrm>
            <a:off x="4447080" y="29088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2357280" y="5214960"/>
            <a:ext cx="714600" cy="1168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4643280" y="5500800"/>
            <a:ext cx="7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а диаграмме показана среднемесячная температура воздуха в Симферополе за каждый месяц 1988 года. По горизонтали указываются месяцы, по вертикали – температура в градусах Цельсия. Определите по диаграмме, сколько было месяцев, когда среднемесячная температура превышала 20 градусов Цельс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Ответ: ____________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Содержимое 6" descr="Описание: http://reshuege.ru/get_file?id=87"/>
          <p:cNvPicPr/>
          <p:nvPr/>
        </p:nvPicPr>
        <p:blipFill>
          <a:blip r:embed="rId1"/>
          <a:stretch/>
        </p:blipFill>
        <p:spPr>
          <a:xfrm>
            <a:off x="1139760" y="493560"/>
            <a:ext cx="7510680" cy="4658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376080" y="60008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 меся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Тетрадь стоит 40 рублей. Какую сумму  заплатит покупатель за 30 тетрадей  после понижения цены на 1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) 18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2) 108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3) 120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4) 11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000" y="6000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Любовь</cp:lastModifiedBy>
  <dcterms:modified xsi:type="dcterms:W3CDTF">2016-01-22T19:34:29Z</dcterms:modified>
  <cp:revision>40</cp:revision>
  <dc:subject/>
  <dc:title>Слайд 1</dc:title>
</cp:coreProperties>
</file>