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6E5-53F1-4427-B3C1-FF79C8A8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EA1-D2F5-467D-8302-3EBED543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624-94D3-4352-9A87-AC0B8BA4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15C-6FFD-41B8-869C-21989856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93B-B38C-4533-9892-B541BF6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26E-06F7-4EB3-919B-C2D7260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2D6-E908-4255-8B38-DCCC373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F3E-7384-44B2-B38F-6F406D7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904-58A8-4289-B484-8C44C73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C7B-D2FD-4F23-B815-BEE6B1C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1C6-2613-47AA-9E81-E3D019F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5DA-30FC-47C9-898F-9C24ECA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BD43-8175-4E68-9ED6-AE50C0E0EE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Региональный экзамен</a:t>
            </a:r>
            <a:br>
              <a:rPr sz="4800"/>
            </a:b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по математике в 7 класс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МОБУ» Новочеркасская СОШ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Упростите выражение  (2 – с)</a:t>
            </a:r>
            <a:r>
              <a:rPr b="1" i="1" lang="ru-RU" sz="4000" spc="-1" strike="noStrike" baseline="30000">
                <a:solidFill>
                  <a:srgbClr val="7030a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– с(с + 4), найдите его значение при с = 0,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В ответ запишите получ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789000" y="5143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30d7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856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Упростите  выраже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) 24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2) 18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3) 6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) 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5357880" y="1214280"/>
                <a:ext cx="217008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Rectangle 3"/>
          <p:cNvSpPr/>
          <p:nvPr/>
        </p:nvSpPr>
        <p:spPr>
          <a:xfrm>
            <a:off x="4443480" y="767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574880" y="607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0,2(7 –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 =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 – 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0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 – 6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507840" y="5572080"/>
            <a:ext cx="14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=-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Пирожное дороже булочки на 18 руб. Сколько стоит пирожное и сколько стоит булочка, если за 5 пирожных заплатили столько же, сколько за 11 булочек? Буквой у обозначена цена булочки. Какое из ниже приведенных уравнений составлено вер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30d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1) 11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 2) 5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3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–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4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5400" y="607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становите соответствие между графиками функций и формулами, которые их задают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РАФ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)у = 2х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2) у = – 2х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3) у = х + 2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4) у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4" descr="Описание: http://sdamgia.ru/docs/DE0E276E497AB3784C3FC4CC20248DC0/questions/G13.R.5.01/xs3qvrsrcA64B5D52DFFBBFE84B8789C782653A82_1_1349957117.png"/>
          <p:cNvPicPr/>
          <p:nvPr/>
        </p:nvPicPr>
        <p:blipFill>
          <a:blip r:embed="rId1"/>
          <a:stretch/>
        </p:blipFill>
        <p:spPr>
          <a:xfrm>
            <a:off x="781200" y="1566720"/>
            <a:ext cx="2565360" cy="265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Описание: http://sdamgia.ru/docs/DE0E276E497AB3784C3FC4CC20248DC0/questions/G13.R.5.01/xs3qvrsrcCDF4313B8EA58BE54AD4F7FA9C139C09_1_1349957094.png"/>
          <p:cNvPicPr/>
          <p:nvPr/>
        </p:nvPicPr>
        <p:blipFill>
          <a:blip r:embed="rId2"/>
          <a:stretch/>
        </p:blipFill>
        <p:spPr>
          <a:xfrm>
            <a:off x="3638520" y="1852560"/>
            <a:ext cx="203040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Описание: http://sdamgia.ru/docs/DE0E276E497AB3784C3FC4CC20248DC0/questions/G13.R.5.01/xs3qvrsrc7A4B33DDF5A1A7E44E8350735951F063_1_1349957078.png"/>
          <p:cNvPicPr/>
          <p:nvPr/>
        </p:nvPicPr>
        <p:blipFill>
          <a:blip r:embed="rId3"/>
          <a:stretch/>
        </p:blipFill>
        <p:spPr>
          <a:xfrm>
            <a:off x="6211800" y="1779480"/>
            <a:ext cx="2511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кажите номер верного утвержде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1)Вертикальные углы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2)Любая биссектриса равнобедренного треугольника является его медиа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3)Внутренние односторонние углы, образованные двумя параллельными прямыми и секущей,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789000" y="578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30d7c"/>
                </a:solidFill>
                <a:latin typeface="Times New Roman"/>
              </a:rPr>
              <a:t>2ча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ешить систему уравнений с двумя неизвестным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"/>
              <p:cNvSpPr txBox="1"/>
              <p:nvPr/>
            </p:nvSpPr>
            <p:spPr>
              <a:xfrm>
                <a:off x="2071800" y="2857680"/>
                <a:ext cx="5143320" cy="22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Rectangle 3"/>
          <p:cNvSpPr/>
          <p:nvPr/>
        </p:nvSpPr>
        <p:spPr>
          <a:xfrm>
            <a:off x="4462560" y="1157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Решить задач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Дима и Саша выполняют одинаковый тест. Дима отвечает за час на 12 вопросов теста, а Саша – на 22. Они одновременно начали отвечать на вопросы теста, и Дима закончил свой тест позже Саши на 75 минут. Сколько вопросов содержит те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Отрезок АК – биссектриса треугольника АВС. На стороне АВ отметили точку М такую, что АМ = МК. Докажите, что МК || 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170028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4292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дарю автора шабл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627280" y="5445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400" y="500040"/>
            <a:ext cx="78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кратким ответом указывается число (целое число или десятичная дробь)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642960" y="114300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ьный ответ в зависимости от сложности каждого задания оценивается одним или несколькими баллами. Баллы, полученные вами за все выполненные задания, суммируются. Постарайтесь выполнить как можно больше заданий и набрать как можно больше бал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59000"/>
            <a:ext cx="85820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18676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64000" y="-1303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425120" y="145800"/>
            <a:ext cx="29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143080" y="3500280"/>
                <a:ext cx="4667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4449600" y="29088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1928880" y="1428840"/>
                <a:ext cx="485784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Rectangle 9"/>
          <p:cNvSpPr/>
          <p:nvPr/>
        </p:nvSpPr>
        <p:spPr>
          <a:xfrm>
            <a:off x="4447080" y="2908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357280" y="5214960"/>
            <a:ext cx="714600" cy="1168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4643280" y="550080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– температура в градусах Цельсия. Определите по диаграмме, сколько было месяцев, когда среднемесячная температура превышала 20 градусов Цельс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Ответ: ____________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Содержимое 6" descr="Описание: http://reshuege.ru/get_file?id=87"/>
          <p:cNvPicPr/>
          <p:nvPr/>
        </p:nvPicPr>
        <p:blipFill>
          <a:blip r:embed="rId1"/>
          <a:stretch/>
        </p:blipFill>
        <p:spPr>
          <a:xfrm>
            <a:off x="1139760" y="493560"/>
            <a:ext cx="7510680" cy="4658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376080" y="60008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 меся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Тетрадь стоит 40 рублей. Какую сумму  заплатит покупатель за 30 тетрадей  после понижения цены на 1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) 1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2) 10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3) 120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4) 11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000" y="6000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2T19:34:29Z</dcterms:modified>
  <cp:revision>40</cp:revision>
  <dc:subject/>
  <dc:title>Слайд 1</dc:title>
</cp:coreProperties>
</file>