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70A5-B94D-4F85-925A-262AE5D61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25F1-1231-47EA-AE49-6F925FBA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3FD1-53CF-4386-AE1B-982E058A1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983B-9392-4F1C-B694-518FE664F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12BE-4B4C-488B-AAE5-58BA8FC6A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B8B5-1646-459C-BA30-E20FF156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625FF-12B5-4FAB-B960-2CA3A8F9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DABF-C00E-4716-9D50-FFE67153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67FC-D072-4C15-A0F7-BA62C7EA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36E5E-5D31-4A18-970F-11503C56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1A0D5-4993-4CC5-9CC5-C5A3E2A3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EA84-CE03-4C3A-94F0-545ECCED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3C6F-FFF7-4BF1-9893-783A1196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0B51-C9BF-457A-B569-E98DB371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E0D6-4F74-43D9-8AFA-5B3B9C8B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3BC2-3047-43B7-A270-7B9A998BD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D7C8B-CDDB-4748-AA24-30AAEBB89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888D-36FD-4A10-97C1-DD07ADC8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D0E5-1164-45A9-9C3C-78F3E990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1AA7-2D28-43A7-9E3E-0EF045DE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7474-0690-403D-A3C6-C470B752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07D5-B9D2-4400-95AC-143670BB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C83F-76C3-48FB-9D74-EC9F77E9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AC27-36E0-4967-9627-B0652935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40D6-B7A4-43C6-B34A-3195861579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1CE3-6E3A-4DCC-9E57-BAE902F7E4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2349360"/>
            <a:ext cx="7704000" cy="2880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99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«Развитие личности ребенк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в процессе приобщения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к культурно-историческому наследию казачества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«Домашняя утварь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4319640" cy="3335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2"/>
          <a:stretch/>
        </p:blipFill>
        <p:spPr>
          <a:xfrm>
            <a:off x="4500720" y="3141720"/>
            <a:ext cx="439236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иблиографический, справочный материал, фольклорные сборники, альбомы, игрушк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390920" cy="3276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2"/>
          <a:stretch/>
        </p:blipFill>
        <p:spPr>
          <a:xfrm>
            <a:off x="4427640" y="3206880"/>
            <a:ext cx="448776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060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Другие формы работы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69608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спользование фольклорных произведений различных жанров (УНТ, музыкальный, детский игровой фольклор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посредственная образовательная деятельность: «Знакомство с казачьим бытом», «Как над яром, над ярочком, над крутеньким бережочком», «Мне посчастливилось родиться на Руси» и др.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разовательная деятельность в ходе режимных моментов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екты «Семейные реликвии», «Народный костюм», «На реке, на Волге»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800" y="1483920"/>
            <a:ext cx="769608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фольклорные праздники и развлечения «Доброму гостю и без зову рады», «Казачья ярмарка», «Покрова», «Рождество» «Масленица»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 обрядовые праздники (земледельческий календарь): «Осенины»,  «Зимушка-зима»; «День Земли», «Лето красное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4127400" cy="2705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4211640" y="1700280"/>
            <a:ext cx="4203720" cy="2917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"/>
          <p:cNvPicPr/>
          <p:nvPr/>
        </p:nvPicPr>
        <p:blipFill>
          <a:blip r:embed="rId3"/>
          <a:stretch/>
        </p:blipFill>
        <p:spPr>
          <a:xfrm>
            <a:off x="539640" y="3645000"/>
            <a:ext cx="389916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3995640" y="3357720"/>
            <a:ext cx="4462560" cy="31273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444492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692280"/>
            <a:ext cx="68706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Формы взаимодействия с семьей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69608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онсультации, беседы, рекомендаци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актикумы, родительские вечера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вместные праздники и развлечения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ставки детских и совместных работ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ематические выставки литературных произведений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едоставление наглядного материала во временное домашнее пользование (иллюстрации с изображением казачьего быта, тематические альбомы из «Казачьего куреня», казачьи сказки, аудио и видеокассеты с выступлением казачьих коллективов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ставка «Музей семейных реликвий»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Итоговый этап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71640" y="1196640"/>
            <a:ext cx="7696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езультативнос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звит познавательный интерес к народным ценностям у детей и родителей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сокий уровень знаний о народных традициях: казачьем быте, основных праздниках, поговорках, пословицах, закличках, припевках – дети могут применять в повседневной жизни (играх, на прогулках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ети восприимчивы к созерцанию окружающей природы, ее приметам, изменениям (смена времен года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огут быть активными участниками народных игр, инсценировок, развлечений, праздников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ктивизация словар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Ценностное отношение к родной стране, воспитание основ гражданственности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0" name="Object 5"/>
          <p:cNvGraphicFramePr/>
          <p:nvPr/>
        </p:nvGraphicFramePr>
        <p:xfrm>
          <a:off x="1547640" y="1989000"/>
          <a:ext cx="6985080" cy="39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989000"/>
                    <a:ext cx="6985080" cy="39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5800" y="764640"/>
            <a:ext cx="76960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060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Актуальност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В «Национальной доктрине образования РФ» говорится «система образования призвана обеспечить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историческую преемственность поколений, сохранение, распространение и развитие национальной культуры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воспитание патриотов России, граждан правового, демократического, социального государства, уважающих права и свободы личности, обладающих высокой нравственностью…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687060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Задач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здать условия, способствующие формированию у детей интереса к духовной и материальной культуре казаков Волги и Дон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работать комплексно-тематическое планирование по нравственно-патриотическому воспитанию на основе культурно-исторического наследия казачеств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спитание у детей нравственных и этических начал, чувства патриотизма и любви к родному краю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едагогические средств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79912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Формы проведения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игры, образовательные ситуации на игровой основе, непосредственно образовательная деятельность, беседы, экскурсии, праздники, развлеч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Формы организации –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рупповая, подгрупповая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ндивидуальна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етоды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наглядный, игровой, словесны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иемы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игры (дидактические, подвижные, сюжетно-ролевые, театрализованные, словесные, музыкальные), чтение произведений УНТ (сказки, песенки, заклички, потешки, пословицы, поговорки, загадки), рассказ воспитателя, беседы, прослушивание и исполнение песен, танце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Этапы работ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83664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дготовительны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зучение специальной методической, справочной и художественной литературы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дбор фольклорных произведений, в том числе песенный музыкальный фольклор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иагностика воспитания гражданских чувств старших дошкольников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нкетирование родителей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работка комплексно-тематического планирования «Возрождение народных традиций на Руси»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здание предметно-пространственной среды: мини-музей «Казачий курень», уголок краеведения в группе, атрибуты к сюжетно-ролевой игре «Казачья семья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Основной этап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798660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инципы работы с детьм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спользование разнообразных форм организации детской деятельности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чет познавательных и возрастных возможностей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спользование принципа сезонности – народного календаря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беспечение условий для реализации полученных знаний в различных формах деятельности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бъединение усилий ДОУ и семьи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заимодействие с другими социальными институтам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Работ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в «Казачьем курене»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рассказы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беседы о жизни и быте казаков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игры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«экскурсии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Экспозици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«Среда проживания казаков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6" descr=""/>
          <p:cNvPicPr/>
          <p:nvPr/>
        </p:nvPicPr>
        <p:blipFill>
          <a:blip r:embed="rId1"/>
          <a:stretch/>
        </p:blipFill>
        <p:spPr>
          <a:xfrm>
            <a:off x="2986200" y="1268280"/>
            <a:ext cx="3916080" cy="52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«Убранство, одежда, предметы быта казачьей семьи»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4572000" y="549360"/>
            <a:ext cx="4141800" cy="2879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2"/>
          <a:stretch/>
        </p:blipFill>
        <p:spPr>
          <a:xfrm>
            <a:off x="324000" y="1989000"/>
            <a:ext cx="4000320" cy="2882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3"/>
          <a:stretch/>
        </p:blipFill>
        <p:spPr>
          <a:xfrm>
            <a:off x="4427640" y="3600360"/>
            <a:ext cx="41050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10:57:21Z</dcterms:created>
  <dc:creator>HOME</dc:creator>
  <dc:description/>
  <dc:language>en-US</dc:language>
  <cp:lastModifiedBy>кто-то</cp:lastModifiedBy>
  <dcterms:modified xsi:type="dcterms:W3CDTF">2012-11-29T16:13:06Z</dcterms:modified>
  <cp:revision>3</cp:revision>
  <dc:subject/>
  <dc:title>Развитие личности ребенка  в процессе приобщения  к культурно-историческому наследию казачества</dc:title>
</cp:coreProperties>
</file>