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CE4-14AD-46AF-8A4F-447C9154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FFC-A566-4DA9-82FB-C960F320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787-72DE-4B2C-80A2-C0324E17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45B-CA26-4BD3-9D37-2DC6D42F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6481-984D-4063-A1FA-DD2DBE72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3658-6E2F-4BF7-A6A9-1E36CE35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04BD-0616-4259-AB1B-3D66D127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B3A8-6E31-455E-B040-DDDF995F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BC6E-8476-40DE-B5BE-4965B54F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EB09-4EE7-43D7-A0AC-7828ACF1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47F9-0E6C-4EB4-AE5E-7853AC0F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968-6C62-4634-A733-29981D95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44B0-23F6-4392-AD58-DCE54FFA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88A6-B66A-4FFD-9E42-ADF794F7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5BF9-C760-4B5A-A20F-8CEC6B05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4389-2AAD-436D-8C5E-2606DD2C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9DB4-D7B1-4210-AE68-E18B38D2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53F-F45D-4EF1-B0FE-651F7AE7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833-6C14-4882-A5BD-3556EB8C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59D-FD07-4FA1-9107-83F52CAC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182-457C-4328-A208-E97720BD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D35-7C03-498B-BCE8-E736F4D1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C9F-40A5-40D9-8772-5911799A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9C4-787D-4823-863A-B907B608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5AD8-A2B5-455C-AF72-8CDA2BE68E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55AE-F1C8-4100-A49A-7AA53D6343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04000" cy="2880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«Развитие личности ребенк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процессе приобще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 культурно-историческому наследию казачества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Домашняя утварь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319640" cy="3335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3923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иблиографический, справочный материал, фольклорные сборники, альбомы, игруш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390920" cy="32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4427640" y="3206880"/>
            <a:ext cx="44877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ругие формы работ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ование фольклорных произведений различных жанров (УНТ, музыкальный, детский игровой фольклор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осредственная образовательная деятельность: «Знакомство с казачьим бытом», «Как над яром, над ярочком, над крутеньким бережочком», «Мне посчастливилось родиться на Руси» и др.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разовательная деятельность в ходе режимных момент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екты «Семейные реликвии», «Народный костюм», «На реке, на Волге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льклорные праздники и развлечения «Доброму гостю и без зову рады», «Казачья ярмарка», «Покрова», «Рождество» «Масленица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обрядовые праздники (земледельческий календарь): «Осенины»,  «Зимушка-зима»; «День Земли», «Лето красно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127400" cy="2705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203720" cy="2917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899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995640" y="3357720"/>
            <a:ext cx="4462560" cy="3127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4449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6870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Формы взаимодействия с семье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сультации, беседы, рекоменд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ктикумы, родительские вечера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вместные праздники и развлеч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ставки детских и совместных работ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матические выставки литературных произведени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оставление наглядного материала во временное домашнее пользование (иллюстрации с изображением казачьего быта, тематические альбомы из «Казачьего куреня», казачьи сказки, аудио и видеокассеты с выступлением казачьих коллективов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ставка «Музей семейных реликвий»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тоговый эта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езультатив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т познавательный интерес к народным ценностям у детей и родителе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сокий уровень знаний о народных традициях: казачьем быте, основных праздниках, поговорках, пословицах, закличках, припевках – дети могут применять в повседневной жизни (играх, на прогулках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и восприимчивы к созерцанию окружающей природы, ее приметам, изменениям (смена времен год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гут быть активными участниками народных игр, инсценировок, развлечений, праздник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ктивизация словар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Ценностное отношение к родной стране, воспитание основ гражданственност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1547640" y="1989000"/>
          <a:ext cx="698508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89000"/>
                    <a:ext cx="698508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Актуаль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 «Национальной доктрине образования РФ» говорится «система образования призвана обеспечить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историческую преемственность поколений, сохранение, распространение и развитие национальной культуры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оспитание патриотов России, граждан правового, демократического, социального государства, уважающих права и свободы личности, обладающих высокой нравственностью…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68706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дач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формированию у детей интереса к духовной и материальной культуре казаков Волги и До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работать комплексно-тематическое планирование по нравственно-патриотическому воспитанию на основе культурно-исторического наследия казаче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питание у детей нравственных и этических начал, чувства патриотизма и любви к родному кра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едагогические сред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991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рмы проведе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игры, образовательные ситуации на игровой основе, непосредственно образовательная деятельность, беседы, экскурсии, праздники, развлеч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рмы организации 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рупповая, подгруппова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дивидуальн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тод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наглядный, игровой, словес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ем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игры (дидактические, подвижные, сюжетно-ролевые, театрализованные, словесные, музыкальные), чтение произведений УНТ (сказки, песенки, заклички, потешки, пословицы, поговорки, загадки), рассказ воспитателя, беседы, прослушивание и исполнение песен, танце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Этапы рабо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готовитель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учение специальной методической, справочной и художественной литератур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бор фольклорных произведений, в том числе песенный музыкальный фолькло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иагностика воспитания гражданских чувств старших дошкольник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кетирование родител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работка комплексно-тематического планирования «Возрождение народных традиций на Руси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здание предметно-пространственной среды: мини-музей «Казачий курень», уголок краеведения в группе, атрибуты к сюжетно-ролевой игре «Казачья семья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новной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79866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нципы работы с деть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ние разнообразных форм организации детской деятельност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ет познавательных и возрастных возможностей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ние принципа сезонности – народного календар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еспечение условий для реализации полученных знаний в различных формах деятельност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ъединение усилий ДОУ и семь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заимодействие с другими социальными институт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Работ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«Казачьем курене»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рассказы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беседы о жизни и быте казаков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игр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«экскурси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кспози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«Среда проживания казаков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2986200" y="1268280"/>
            <a:ext cx="391608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Убранство, одежда, предметы быта казачьей семьи»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141800" cy="287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000320" cy="2882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4427640" y="3600360"/>
            <a:ext cx="4105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0:57:21Z</dcterms:created>
  <dc:creator>HOME</dc:creator>
  <dc:description/>
  <dc:language>en-US</dc:language>
  <cp:lastModifiedBy>кто-то</cp:lastModifiedBy>
  <dcterms:modified xsi:type="dcterms:W3CDTF">2012-11-29T16:13:06Z</dcterms:modified>
  <cp:revision>3</cp:revision>
  <dc:subject/>
  <dc:title>Развитие личности ребенка  в процессе приобщения  к культурно-историческому наследию казачества</dc:title>
</cp:coreProperties>
</file>