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EC9-158A-4B79-AF35-9314C05E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1A3-B5A1-4E0A-A75A-FAC8E24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798-2137-4D46-AC52-F726AF03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BAF-CDA3-4998-A9BE-C93FFAE8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7182-A72F-4EA8-AB96-F02501C2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EC9A-B756-4BE7-ADF1-221E857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4603-E09A-40E0-AA2E-21C6A73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E041-9218-46F4-A89B-324255CC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404-7F88-4F76-9B71-E7756E7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A746-BF38-4847-96F7-32AA53B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E25C-592B-41B8-A7AF-FFFEFB8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1D9-1A49-4B3F-98CC-E3D529AF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8E44-BC27-4823-BECC-B0FA5C1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03EE-AB5C-437E-BF5C-607FD2AE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3BC3-0BE2-461D-ADA7-AA0C1F1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26AB-200A-4D74-ADE0-596E1532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6FCF-ADC6-4DC3-8002-75FD388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420-29E6-4CDC-8AAD-5985F0A3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DCB-229F-4AB1-816C-0C4C759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76A-3D8F-4520-A228-B55BDF3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58F-231D-47E8-9401-DA4E2F68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0F5-215D-4B57-AE12-6E8CAF30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0FF-AE0D-4E29-BFB7-EBAEAC45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3B5-1756-49EC-84A9-23EBE37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BB9-3089-40E9-BE99-C36410893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BA1E-2F59-431C-BFCB-818A111033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04000" cy="288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Развитие личности ребен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процессе приобщ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 культурно-историческому наследию казачеств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Домашняя утварь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319640" cy="33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92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иблиографический, справочный материал, фольклорные сборники, альбомы, игруш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39092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427640" y="3206880"/>
            <a:ext cx="44877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ругие формы рабо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фольклорных произведений различных жанров (УНТ, музыкальный, детский игровой фолькло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осредственная образовательная деятельность: «Знакомство с казачьим бытом», «Как над яром, над ярочком, над крутеньким бережочком», «Мне посчастливилось родиться на Руси» и др.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разовательная деятельность в ходе режимных мо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ы «Семейные реликвии», «Народный костюм», «На реке, на Волге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льклорные праздники и развлечения «Доброму гостю и без зову рады», «Казачья ярмарка», «Покрова», «Рождество» «Масленица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обрядовые праздники (земледельческий календарь): «Осенины»,  «Зимушка-зима»; «День Земли», «Лето красно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127400" cy="270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203720" cy="291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99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995640" y="3357720"/>
            <a:ext cx="4462560" cy="3127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Формы взаимодействия с семь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сультации, беседы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ктикумы, родительские вечер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вместные праздники и развлеч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тавки детских и совместных работ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матические выставки литературных произведе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оставление наглядного материала во временное домашнее пользование (иллюстрации с изображением казачьего быта, тематические альбомы из «Казачьего куреня», казачьи сказки, аудио и видеокассеты с выступлением казачьих коллективов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тавка «Музей семейных реликвий»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тоговы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зультатив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т познавательный интерес к народным ценностям у детей и родителе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сокий уровень знаний о народных традициях: казачьем быте, основных праздниках, поговорках, пословицах, закличках, припевках – дети могут применять в повседневной жизни (играх, на прогулках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и восприимчивы к созерцанию окружающей природы, ее приметам, изменениям (смена времен год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гут быть активными участниками народных игр, инсценировок, развлечений, праздник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тивизация словар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Ценностное отношение к родной стране, воспитание основ гражданственност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1547640" y="1989000"/>
          <a:ext cx="698508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698508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«Национальной доктрине образования РФ» говорится «система образования призвана обеспечить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сторическую преемственность поколений, сохранение, распространение и развитие национальной культуры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оспитание патриотов России, граждан правового, демократического, социального государства, уважающих права и свободы личности, обладающих высокой нравственностью…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8706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формированию у детей интереса к духовной и материальной культуре казаков Волги и До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ать комплексно-тематическое планирование по нравственно-патриотическому воспитанию на основе культурно-исторического наследия казаче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ние у детей нравственных и этических начал, чувства патриотизма и любви к родному кра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дагогические сред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991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гры, образовательные ситуации на игровой основе, непосредственно образовательная деятельность, беседы, экскурсии, праздники, развле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организации 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упповая, подгруппова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видуальн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наглядный, игровой, словес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ем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гры (дидактические, подвижные, сюжетно-ролевые, театрализованные, словесные, музыкальные), чтение произведений УНТ (сказки, песенки, заклички, потешки, пословицы, поговорки, загадки), рассказ воспитателя, беседы, прослушивание и исполнение песен, танце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тапы рабо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готовите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ение специальной методической, справочной и художественной литератур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бор фольклорных произведений, в том числе песенный музыкальный фолькло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агностика воспитания гражданских чувств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кетирование родител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ка комплексно-тематического планирования «Возрождение народных традиций на Руси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ние предметно-пространственной среды: мини-музей «Казачий курень», уголок краеведения в группе, атрибуты к сюжетно-ролевой игре «Казачья семья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о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ципы работы с деть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 разнообразных форм организации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т познавательных и возрастных возможносте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 принципа сезонности – народного календар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еспечение условий для реализации полученных знаний в различных формах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ъединение усилий ДОУ и семь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аимодействие с другими социальными институт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абот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«Казачьем курене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рассказ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беседы о жизни и быте казаков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иг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«экскурси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кспози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«Среда проживания казаков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986200" y="1268280"/>
            <a:ext cx="39160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Убранство, одежда, предметы быта казачьей семьи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141800" cy="287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000320" cy="288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4427640" y="3600360"/>
            <a:ext cx="410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0:57:21Z</dcterms:created>
  <dc:creator>HOME</dc:creator>
  <dc:description/>
  <dc:language>en-US</dc:language>
  <cp:lastModifiedBy>кто-то</cp:lastModifiedBy>
  <dcterms:modified xsi:type="dcterms:W3CDTF">2012-11-29T16:13:06Z</dcterms:modified>
  <cp:revision>3</cp:revision>
  <dc:subject/>
  <dc:title>Развитие личности ребенка  в процессе приобщения  к культурно-историческому наследию казачества</dc:title>
</cp:coreProperties>
</file>