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498-73A5-4D81-9685-5B269F2B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5DC-0FFB-4B0A-BA61-DD4C9089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594-2F91-41C7-8956-8461B017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843-885D-43B3-8FF7-5D09A5F1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525-A14C-4F8B-A412-E94B334B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F42-2FDF-435A-BAD0-33AAFB07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1FB-A6E3-488E-A655-F4B339AD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2CA-0B17-41A8-A4A1-DBB4AB90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138-0B03-446F-A317-95F3F9EF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28B-BCE2-400D-BFA1-7D4D861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6DF-2365-411E-B970-0D74F6AA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AE5-0191-4C7A-853E-820C1A5C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5DFD-1724-4C60-8AFD-B20F4FFFE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ДЛЯ КОНКУРСА «Опытно – экспериментальная деятельность в детском са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74484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Дошкольное отделение №15 МБОУ «С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Городской округ Прохла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2708280"/>
            <a:ext cx="799308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Times New Roman"/>
              </a:rPr>
              <a:t>Развитие исследовательск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Times New Roman"/>
              </a:rPr>
              <a:t>способностей де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Вся работа в нашем дошкольном отделении систематизирована по следующим раздел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4248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вотны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тительны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л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живая прир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м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в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бесные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67200" cy="230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43280" y="4137120"/>
            <a:ext cx="381636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Особый акцент стоит сделать на личности педагога, свойствах, качествах его характер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зрослый проявляет неподдельный интерес, увлеченность, энтузиазм, то и дети следуют его примеру. В ходе экспериментальной деятельности необходимо задействовать максимальное количество анализаторов (не только увидеть и услышать, но и ощупать, попробовать. если это возможно на вкус, понюхать). Речь педагога должна быть яркой, эмоциональной, насыщенной эпитетами, сравнениями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Использование нагляд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ходе работы воспитатель должна давать четкие словесные инструкции. Можно составить схему проведения эксперимента, использовать карточки – иллюстрации, которые дети должны раскладывать в нужной последова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делай цветные льди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331640" y="4868640"/>
            <a:ext cx="5943600" cy="1257480"/>
            <a:chOff x="1331640" y="4868640"/>
            <a:chExt cx="5943600" cy="1257480"/>
          </a:xfrm>
        </p:grpSpPr>
        <p:sp>
          <p:nvSpPr>
            <p:cNvPr id="81" name=""/>
            <p:cNvSpPr/>
            <p:nvPr/>
          </p:nvSpPr>
          <p:spPr>
            <a:xfrm rot="10800000">
              <a:off x="1331640" y="4868640"/>
              <a:ext cx="571320" cy="102852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7440" y="5326200"/>
              <a:ext cx="571320" cy="342360"/>
            </a:xfrm>
            <a:prstGeom prst="rightArrow">
              <a:avLst>
                <a:gd name="adj1" fmla="val 50000"/>
                <a:gd name="adj2" fmla="val 4171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5120" y="4869000"/>
              <a:ext cx="799920" cy="1257120"/>
            </a:xfrm>
            <a:prstGeom prst="bevel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75200" y="5326200"/>
              <a:ext cx="571320" cy="342360"/>
            </a:xfrm>
            <a:prstGeom prst="rightArrow">
              <a:avLst>
                <a:gd name="adj1" fmla="val 50000"/>
                <a:gd name="adj2" fmla="val 4171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5320" y="5211720"/>
              <a:ext cx="342720" cy="34236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03240" y="5211720"/>
              <a:ext cx="457200" cy="68544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46320" y="4869000"/>
              <a:ext cx="456840" cy="68544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9040" y="5326200"/>
              <a:ext cx="457200" cy="68544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89520" y="5326200"/>
              <a:ext cx="571320" cy="342360"/>
            </a:xfrm>
            <a:prstGeom prst="rightArrow">
              <a:avLst>
                <a:gd name="adj1" fmla="val 50000"/>
                <a:gd name="adj2" fmla="val 4171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03920" y="5668920"/>
              <a:ext cx="342720" cy="342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2520" y="5211720"/>
              <a:ext cx="342720" cy="34236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В дошкольном возрасте преобладает наглядно – действенное и наглядно образное мышление, а не словесно – логическое, поэтому для детей гораздо полезнее увидеть реальность, чем услышать словесный расск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 этом хорошо сказал К.А.Тимирязев: «Люди, научившиеся…наблюдениям и опытам, приобретают способность сами ставить вопросы и получать на них фактические ответы, оказываясь на более высоком умственном и нравственном уровне в сравнении с теми, кто такой школы не проше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Для эффективного и полноценного проведения опытно – экспериментальной работы необходимо организовать соответствующую пространственно – предметную среду. В нашем дошкольном отделении собрано достаточное количество материалов, оборудования для эксперимент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измерительные прибор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термометр, весы с гирями, компас, линейка, увеличительное стекло, магнит, часы, песочные часы, глоб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предметы бы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цветные стекла, резинки, зеркало, ножницы, фонарик,бусинки, пуговицы, шнурки, нитки, гайки, шурупы, пробки, пластиковые бутылки, полиэтиленовые пакеты, упаковки от «киндер – сюрпризов», губки, шумовые короб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природные материал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камни разных размеров, ракушки, песок, глина,семена фасоли, гороха, орех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емк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колбы, стаканы, воронка, сито, лей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инструмен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пипетка, пинцет, шприц(без иголки), лопатки, палочки, трубочки, мерные лож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450864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780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Дети, особенно в возрасте 4-5 лет, часто задают вопросы: «А почему?», «А зачем?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шем дошкольном отделении воспитатель не спешит давать готовые ответы, старается подвести ребенка к тому, чтобы он сам опытным путем пришел к умозаключению. Любой опыт сопровождается у детей  проговариванием и выдвижением множества гипотез – догадок, попытками предугадать ожидаемые результаты. Это положительно сказывается на развитии речи, умении выстраивать сложные предложения, делать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76360" y="2349000"/>
            <a:ext cx="3311640" cy="302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356000" y="1700280"/>
            <a:ext cx="439272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Опытно – экспериментальная деятельность в нашем детском саду проход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 специально организованных занятия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познавательного цик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С какой стороны в растение проникает воздух», «Выращивание «хлебной плесени», «Воздух имеет вес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а занятиях по физкультуре, музыкальном, ИЗО, РЭМ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«Что шуршит, что гремит», «Разноцветные стекла»(рассматривание картин через разноцветные стекла), «Что дальше»( метание предметов разного веса), «Взвешивание предметов одинаковых по объему, но разных по материалу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39272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86800" y="-5395320"/>
            <a:ext cx="842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ходе совместной деятельности вне занят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о время дежур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«Уголке природы» («Установление способности растений к поиску света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о время дежурства по столов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 Вода впитывается в ткань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о время гигиенических процеду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Что отражается в зеркале» пытаться увидеть, что находится за спиной, справа, на потолк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а прогу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« Попрыгунчики» привязывание к длинной веревке различных предметов», «Солнечные зайчики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амостоятельная деятельность дома, с родителя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Изготовление мыльных пузырей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03640" y="692280"/>
            <a:ext cx="3683160" cy="2762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32360" y="3573360"/>
            <a:ext cx="369900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пытная деятельность начинается уже с младше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6720" y="1197000"/>
            <a:ext cx="361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второй младшей группы воспитатель включает эксперимент в повседневную деятельность. Например, во время мытья рук, педагог получает много – много пены и спрашивает малышей, кто может сделать столько же. Дети путем проб и ошибок достигают поставленной ц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4020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Педагоги  работают по программе «Детство», используют предложенные в ней опыты и игры – экспериментирова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ходе планомерной, систематической работы педагоги нашего ДО стараются научить дошкольников в ходе экспериментальной деятельности управлять своими органами чувств, анализировать полученные с их помощью сведения, выполнять заданные действия, использовать инструменты, проговаривать свои действия и формулировать выводы, объяснять результаты сво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537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ля вооружения педагогов необходимыми педагогическими техниками и технологиями, в целях повышения профессиональной компетентности воспитателей ДО в вопросах организации детского экспериментирования во всех возрастных группах провод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консультаци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Интерес к природе родного края как средство экологического воспитания дошкольников» - Костромская В.Л., «Ознакомление дошкольников с природой родного края» - Карнаухова Н.Г., «Экспериментирование – это интересно» - Чуракова Г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ткрытые занят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Путешествие капельки» - Карнаухова Н.Г., «Что нам расскажет дерево?» - Костромская В.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ыступления с опытом 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Зеленый огород» - Костромская В.Л., «Любопытный кролик» - Карнаухова Н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зучение литературы и опыта других образовательных учрежд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392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Для популяризации детского экспериментирования проводится работа с родителями детского с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ндовая информация родител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сультации с родителями («Игры с водой», «Круговорот воды в природ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дительские собр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кетирование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лечение родителей к пополнению развивающе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машние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44956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9:18:31Z</dcterms:created>
  <dc:creator>МОУ</dc:creator>
  <dc:description/>
  <dc:language>en-US</dc:language>
  <cp:lastModifiedBy>777</cp:lastModifiedBy>
  <dcterms:modified xsi:type="dcterms:W3CDTF">2012-07-28T13:09:27Z</dcterms:modified>
  <cp:revision>9</cp:revision>
  <dc:subject/>
  <dc:title>ДЛЯ КОНКУРСА «Опытно – экспериментальная деятельность в детском саду</dc:title>
</cp:coreProperties>
</file>