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EF6-E0BC-4DA7-A86A-C89E796E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E4E-8BBD-4A0D-BC91-5553B13C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2CD-AAD0-4EE4-A713-B7C2B2D2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556-9303-4C6C-A456-755D6064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217-6B12-4521-970A-42FBF52E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0FE-7C8B-49DE-9931-B8C43BAB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1B3-5F06-409A-BACB-8681563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351-8426-4DC8-96E7-F33319C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F60-0600-4DF6-9A7F-4379395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D6E-F2F3-4389-9D68-DD58840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E3B-76A7-4D7E-A4EE-9AA52CD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C51-3DC2-4A88-A608-18EB1A2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840-0D9A-4F82-BABA-09D1998D9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ДЛЯ КОНКУРСА «Опытно – экспериментальная деятельность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7448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Дошкольное отделение №15 МБОУ «С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Городской округ Прохла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708280"/>
            <a:ext cx="79930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Развитие исследователь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способностей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я работа в нашем дошкольном отделении систематизирована по следующим разде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248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т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титель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живая при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м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бесн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6720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4137120"/>
            <a:ext cx="381636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собый акцент стоит сделать на личности педагога, свойствах, качествах его характе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зрослый проявляет неподдельный интерес, увлеченность, энтузиазм, то и дети следуют его примеру. В ходе экспериментальной деятельности необходимо задействовать максимальное количество анализаторов (не только увидеть и услышать, но и ощупать, попробовать. если это возможно на вкус, понюхать). Речь педагога должна быть яркой, эмоциональной, насыщенной эпитетами, сравнениям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Использование нагля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работы воспитатель должна давать четкие словесные инструкции. Можно составить схему проведения эксперимента, использовать карточки – иллюстрации, которые дети должны раскладывать в нужной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делай цветные льд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31640" y="4868640"/>
            <a:ext cx="5943600" cy="1257480"/>
            <a:chOff x="1331640" y="4868640"/>
            <a:chExt cx="5943600" cy="1257480"/>
          </a:xfrm>
        </p:grpSpPr>
        <p:sp>
          <p:nvSpPr>
            <p:cNvPr id="81" name=""/>
            <p:cNvSpPr/>
            <p:nvPr/>
          </p:nvSpPr>
          <p:spPr>
            <a:xfrm rot="10800000">
              <a:off x="1331640" y="4868640"/>
              <a:ext cx="571320" cy="10285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744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5120" y="4869000"/>
              <a:ext cx="799920" cy="12571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7520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53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3240" y="521172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6320" y="4869000"/>
              <a:ext cx="456840" cy="68544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9040" y="532620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8952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3920" y="5668920"/>
              <a:ext cx="342720" cy="342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25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 дошкольном возрасте преобладает наглядно – действенное и наглядно образное мышление, а не словесно – логическое, поэтому для детей гораздо полезнее увидеть реальность, чем услышать словесны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 этом хорошо сказал К.А.Тимирязев: «Люди, научившиеся…наблюдениям и опытам, приобретают способность сами ставить вопросы и получать на них фактические ответы, оказываясь на более высоком умственном и нравственном уровне в сравнении с теми, кто такой школы не проше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ля эффективного и полноценного проведения опытно – экспериментальной работы необходимо организовать соответствующую пространственно – предметную среду. В нашем дошкольном отделении собрано достаточное количество материалов, оборудования для эксперимент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змерительные прибо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термометр, весы с гирями, компас, линейка, увеличительное стекло, магнит, часы, песочные часы, глоб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едметы бы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ные стекла, резинки, зеркало, ножницы, фонарик,бусинки, пуговицы, шнурки, нитки, гайки, шурупы, пробки, пластиковые бутылки, полиэтиленовые пакеты, упаковки от «киндер – сюрпризов», губки, шумовые короб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иродные материа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амни разных размеров, ракушки, песок, глина,семена фасоли, гороха, оре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емк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олбы, стаканы, воронка, сито, л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нструмен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ипетка, пинцет, шприц(без иголки), лопатки, палочки, трубочки, мерные л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45086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80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ти, особенно в возрасте 4-5 лет, часто задают вопросы: «А почему?», «А зачем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м дошкольном отделении воспитатель не спешит давать готовые ответы, старается подвести ребенка к тому, чтобы он сам опытным путем пришел к умозаключению. Любой опыт сопровождается у детей  проговариванием и выдвижением множества гипотез – догадок, попытками предугадать ожидаемые результаты. Это положительно сказывается на развитии речи, умении выстраивать сложные предложения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76360" y="2349000"/>
            <a:ext cx="331164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392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Опытно – экспериментальная деятельность в нашем детском саду прохо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специально организованных занят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знавательного цик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С какой стороны в растение проникает воздух», «Выращивание «хлебной плесени», «Воздух имеет вес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занятиях по физкультуре, музыкальном, ИЗО, РЭМ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«Что шуршит, что гремит», «Разноцветные стекла»(рассматривание картин через разноцветные стекла), «Что дальше»( метание предметов разного веса), «Взвешивание предметов одинаковых по объему, но разных по материал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39272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539532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оде совместной деятельности вне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«Уголке природы» («Установление способности растений к поиску света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 по столо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 Вода впитывается в ткань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гигиенических процед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Что отражается в зеркале» пытаться увидеть, что находится за спиной, справа, на потол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 Попрыгунчики» привязывание к длинной веревке различных предметов», «Солнечные зайчики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амостоятельная деятельность дома,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Изготовление мыльных пузырей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6990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пытная деятельность начинается уже с младше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36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второй младшей группы воспитатель включает эксперимент в повседневную деятельность. Например, во время мытья рук, педагог получает много – много пены и спрашивает малышей, кто может сделать столько же. Дети путем проб и ошибок достигают поставленной ц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едагоги  работают по программе «Детство», используют предложенные в ней опыты и игры – экспериментир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планомерной, систематической работы педагоги нашего ДО стараются научить дошкольников в ходе экспериментальной деятельности управлять своими органами чувств, анализировать полученные с их помощью сведения, выполнять заданные действия, использовать инструменты, проговаривать свои действия и формулировать выводы, объяснять результаты сво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37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ля вооружения педагогов необходимыми педагогическими техниками и технологиями, в целях повышения профессиональной компетентности воспитателей ДО в вопросах организации детского экспериментирования во всех возрастных группах провод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онсульт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нтерес к природе родного края как средство экологического воспитания дошкольников» - Костромская В.Л., «Ознакомление дошкольников с природой родного края» - Карнаухова Н.Г., «Экспериментирование – это интересно» - Чуракова Г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ткрытые заня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утешествие капельки» - Карнаухова Н.Г., «Что нам расскажет дерево?» - Костромская В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ступления с опытом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еленый огород» - Костромская В.Л., «Любопытный кролик» - Карнаухова Н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зучение литературы и опыта других образовательных учрежд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9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ля популяризации детского экспериментирования проводится работа с родителями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ндовая информация родител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и с родителями («Игры с водой», «Круговорот воды в природ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чение родителей к пополнению развив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ашни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95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9:18:31Z</dcterms:created>
  <dc:creator>МОУ</dc:creator>
  <dc:description/>
  <dc:language>en-US</dc:language>
  <cp:lastModifiedBy>777</cp:lastModifiedBy>
  <dcterms:modified xsi:type="dcterms:W3CDTF">2012-07-28T13:09:27Z</dcterms:modified>
  <cp:revision>9</cp:revision>
  <dc:subject/>
  <dc:title>ДЛЯ КОНКУРСА «Опытно – экспериментальная деятельность в детском саду</dc:title>
</cp:coreProperties>
</file>