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010-A66F-4B50-9740-208664FB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9E3-3BEC-4611-8D36-9BAFD270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E1E-8A6C-448D-AD4B-275EC03E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CFB-4272-4708-B2D0-E048956A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14CB-75E5-47B0-A70B-0439F4E6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69C5-64AB-4D63-BD8B-7E154CE0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F272-E42B-41C6-A354-0AD8C82B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E4E9-E345-4E9A-AFAC-CA94FCA1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701D-E34C-436D-861F-BCA967E9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715B-C34A-4514-80D8-5A61CB6B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2138-AC85-43E4-96B9-DFB6C22B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C67-4216-42F0-9BFF-0DDE68FB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CE4C-418C-4900-AB8E-978F2BCF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B994-1316-48A8-B1D0-5B6B385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F25E-447C-4844-9F21-C9233496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5AFE-A045-46E9-BDC2-4E6E6426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E16A-55FA-453F-999F-B01ADD79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DEAD-3C7A-4989-A45E-836D7E82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85CA-6D07-4B32-87A8-39C654D7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C4AC-EF88-4520-BC92-F80698A8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BA8E-C9BB-4E7A-8F08-045679C8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D38C-9AEC-40CF-B9C6-9D81FD79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C78-EEC1-4AF3-980E-CBD1A61C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48A4-AC5D-43A3-A930-6B16E764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A9C6-7A01-4AF3-8537-9773F7B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E685-4361-49B4-95F5-C3D48AF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9F48-3EAC-4DB9-A4DB-A56391EE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6FBF-3A95-4596-A037-EA4CB0AC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8DF8-8DD8-40AE-AF8D-C3526785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CEB1-1402-4E22-BB47-70399FF2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EB314-FF0B-4108-9987-5C60B344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8BF30-4098-4172-A301-E71FE5A2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82DB6-7045-4A3B-8EDB-51FB7ADE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680-199E-4889-9D18-85567959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F5992-80F0-412A-B1CD-4CBFAD6C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818D1-D808-4CD5-A8F2-11313454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56ED8-BF8C-4B12-AFE6-92E0899B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FD712-91E1-4C06-98C7-3959E66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C1462-B62E-4CDE-BFE0-E49DED2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6D0CE-0F88-4729-9731-E84C4D25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AA48CD-5684-4BDA-AE5A-72AD06FE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54658-8908-496D-BE2A-9B5215D8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BC76E-3419-4EFD-8789-6844D312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B08-F8E5-42F9-A939-B6E79CE1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A35-B153-4572-B265-8CBEB0AD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FCC-4F3D-4CE8-813E-7FBCA219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ACF-0EA6-43AC-9A36-9FCE4077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EBD-6F4B-43DA-9E7D-5735FB2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6BAF-4C1B-41C4-835D-A28FDF172D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15A5-6B5D-4C9B-99EF-F8ADD224A1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8015-D869-42FD-B5BF-57F7E7152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13D3-53B0-499C-9F64-33F2F859C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Тема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Развитие интереса к познанию окружающего мира у детей с НОД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915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элементар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тественн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учных представлений о человеке, животн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растительном мире; для формирования экологическо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ультуры д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у детей представление о единстве окружающего мира и самого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познавательный интерес и любознательность в процессе наблюдений за реальными природными объектами, рассматривания картинок, игре с муляжами овощей, фруктов, ягод, гриб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ормировать навыки мыслительных действий, анализа, синтеза, классификации и т. д., в процессе познания природной картины мира, способствующих развитию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ывать любовь к природе и стремление защищать е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ть самостоятельность в разрешении проблем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чить объяснять увиденное и фиксировать результаты доступными метод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8120" y="306000"/>
            <a:ext cx="7513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Сводный отчет о результатах</a:t>
            </a:r>
            <a:br>
              <a:rPr sz="2900"/>
            </a:b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диагностики на начало 2011-2012 учебного год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1981080"/>
          <a:ext cx="7543800" cy="3891240"/>
        </p:xfrm>
        <a:graphic>
          <a:graphicData uri="http://schemas.openxmlformats.org/drawingml/2006/table">
            <a:tbl>
              <a:tblPr/>
              <a:tblGrid>
                <a:gridCol w="1886040"/>
                <a:gridCol w="1555920"/>
                <a:gridCol w="3036600"/>
                <a:gridCol w="10652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Динамика развития детей за первое полугодие 2011-2012 учебного год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4360" y="2133720"/>
          <a:ext cx="8229600" cy="4459320"/>
        </p:xfrm>
        <a:graphic>
          <a:graphicData uri="http://schemas.openxmlformats.org/drawingml/2006/table">
            <a:tbl>
              <a:tblPr/>
              <a:tblGrid>
                <a:gridCol w="1811160"/>
                <a:gridCol w="1727280"/>
                <a:gridCol w="3384720"/>
                <a:gridCol w="13064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динамики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о полож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Методы развития познавательного интереса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многообразных форм организации обучения, включающих разные специфические детски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развивающей предметной среды, функционально моделирующей содержание дет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ирование игровых проблемно-практических ситуаций, активизирующих мышление, воображени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окое использование игровых приемов, игрушек, создание эмоционально значимых для детей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Содержание коррекционно- развивающей работы по ознакомлению с окружающим миром строится на следующих программах:</a:t>
            </a: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кжанова Е.А., Стребелева Е.А.. Программа дошкольных образовательных учреждений компенсирующего вида для детей  с нарушением интеллекта «Коррекционно- развивающее обучение и воспитание».- М.: Просвещение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пицына Л.М., Мамайчук И.И., Психология детей с нарушениями функций опорно- двигательного аппарата. – М.: Владос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 воспитания и обучения дошкольников  с интеллектуальной недостаточностью./БаряеваЛ.Б., Гаврилушкина О.П., Зарин А.П.- СПб.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врова Г.Н.. Программа коррекционно- развивающего курса по социально- личностному развитию детей дошкольного возраста «Возьми меня за руку».- Челябинск: Цицеро, 2009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6:31:56Z</dcterms:created>
  <dc:creator>Customer</dc:creator>
  <dc:description/>
  <dc:language>en-US</dc:language>
  <cp:lastModifiedBy>Customer</cp:lastModifiedBy>
  <dcterms:modified xsi:type="dcterms:W3CDTF">2012-03-12T17:05:59Z</dcterms:modified>
  <cp:revision>10</cp:revision>
  <dc:subject/>
  <dc:title>Тема:Развитие интереса к познанию окружающего мира у детей с НОДА</dc:title>
</cp:coreProperties>
</file>