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34C6-9038-49F7-AFA4-5810BF262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97BF-B18A-4618-B777-2BEC88E95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64B4-4547-4FF5-8176-A5CA1FD48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2774-2F86-4A6D-8805-BF5BE391E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034FC-8789-4184-BA5A-68D80CDBD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B082D-9839-45CE-B9A3-D4DD9F022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CCCA3-0826-49FF-8EAE-FFAEDB780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87A4D-7DF0-407D-8C7E-29BDCCCC5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1F3BC-A8A2-4864-9DAF-7B4385330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B8C2F-A4C0-4259-BCF2-09780E871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4BF87-A294-4125-8E1B-492D387E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1F01-2425-4AE8-8A4A-0926C3642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B4C1C-8416-4425-9678-2CD90AC4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15077-0159-48E5-8F1B-BAFF25079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31419-92F1-45C2-ABEE-6A0449EAE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E45A5-CAEC-48E4-90CE-D6FF6BAC1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76137-E39C-478F-92E1-5900E16B9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485FA-87D2-41E6-9684-B6EE3FB6F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2FBBA-EC18-4B11-9F76-A8FB1C82C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370C0-F454-4CEE-9916-1DDDC993E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86E7B-D493-46A0-8269-136B49BE9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014AB-B033-4D7F-93F6-AAD20459B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9B6A-A3C1-45EB-91C0-EFB2162E8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74BD9-06FF-4BF6-B20D-8338FB4F7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2765A-58C3-482D-B77D-6FACD560B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3C2B2-535E-4965-8EDA-BE09CB57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A17A1-864F-4B02-9907-587107EEE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17499-65FA-4229-BFA4-EC476B75F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30614-C1EB-4B6A-A6ED-0F630D187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DC70F-8F3C-4D1A-9E32-4FA8D0C81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419FA6-2514-48A8-A616-D24D04AC4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465D45-07C5-4995-9CB0-98A80C9D7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1EF21F-BAAD-4F33-AE8C-4A2C928E6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04F8-E4B0-4817-9692-1D631127D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9809E4-5D69-49BC-B389-DB847738C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30689F-5042-4C51-A5F5-EBAC03D0D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AC50F7-99AB-43F0-9995-64BC17A8B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37339D-7B7B-4FE8-B302-E9B79BC7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C44EE9-94D2-42DA-9712-C3BB84E5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62A210-EC89-4F7C-B2A2-E3BA834D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540618-FAF2-4E98-95EF-6AC44F6CF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C232BA-6483-4BA4-9795-A78EEA0BD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587803-C274-4891-A8CC-75070BC11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BE9C-977C-4BB2-BB5F-C08A3A9BE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297E-5942-4392-9A92-5537C8106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8D2F-D65C-4AE3-983B-F0917C4EA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062D-AA2A-4EAA-9045-EC3DE11F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614A-06E3-4CBB-8889-FC0C3A4D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2CDD3-506A-41E4-AFE5-56D3B910ADF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3A13B-6FDB-4E4F-B076-05A3DB1FAC0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34BF9-DFDE-454B-9B30-CE8CFF82C5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1DB9B-4B3C-48B8-98E8-367251750A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4360" y="37162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Times New Roman"/>
              </a:rPr>
              <a:t>Тема:</a:t>
            </a:r>
            <a:br>
              <a:rPr sz="4000"/>
            </a:br>
            <a:br>
              <a:rPr sz="4000"/>
            </a:br>
            <a:r>
              <a:rPr b="0" lang="en-US" sz="4800" spc="-1" strike="noStrike">
                <a:solidFill>
                  <a:srgbClr val="ffcc00"/>
                </a:solidFill>
                <a:latin typeface="Times New Roman"/>
              </a:rPr>
              <a:t>Развитие интереса к познанию окружающего мира у детей с НОДА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95280" y="0"/>
            <a:ext cx="829152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Цель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оздание условий для развития элементарн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естественно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учных представлений о человеке, животном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 растительном мире; для формирования экологической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культуры дете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Задачи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азвивать у детей представление о единстве окружающего мира и самого себ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азвивать познавательный интерес и любознательность в процессе наблюдений за реальными природными объектами, рассматривания картинок, игре с муляжами овощей, фруктов, ягод, гриб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Формировать навыки мыслительных действий, анализа, синтеза, классификации и т. д., в процессе познания природной картины мира, способствующих развитию реч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оспитывать любовь к природе и стремление защищать е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азвивать самостоятельность в разрешении проблемных ситуац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Учить объяснять увиденное и фиксировать результаты доступными методам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8120" y="306000"/>
            <a:ext cx="751356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30033"/>
                </a:solidFill>
                <a:latin typeface="Times New Roman"/>
              </a:rPr>
              <a:t>Сводный отчет о результатах</a:t>
            </a:r>
            <a:br>
              <a:rPr sz="2900"/>
            </a:br>
            <a:r>
              <a:rPr b="1" lang="en-US" sz="2900" spc="-1" strike="noStrike">
                <a:solidFill>
                  <a:srgbClr val="330033"/>
                </a:solidFill>
                <a:latin typeface="Times New Roman"/>
              </a:rPr>
              <a:t>диагностики на начало 2011-2012 учебного года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066680" y="1981080"/>
          <a:ext cx="7543800" cy="3891240"/>
        </p:xfrm>
        <a:graphic>
          <a:graphicData uri="http://schemas.openxmlformats.org/drawingml/2006/table">
            <a:tbl>
              <a:tblPr/>
              <a:tblGrid>
                <a:gridCol w="1886040"/>
                <a:gridCol w="1555920"/>
                <a:gridCol w="3036600"/>
                <a:gridCol w="1065240"/>
              </a:tblGrid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овень развит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упп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рша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готовитель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уровен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уровен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уровен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 дет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0033"/>
                </a:solidFill>
                <a:latin typeface="Times New Roman"/>
              </a:rPr>
              <a:t>Динамика развития детей за первое полугодие 2011-2012 учебного года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684360" y="2133720"/>
          <a:ext cx="8229600" cy="4459320"/>
        </p:xfrm>
        <a:graphic>
          <a:graphicData uri="http://schemas.openxmlformats.org/drawingml/2006/table">
            <a:tbl>
              <a:tblPr/>
              <a:tblGrid>
                <a:gridCol w="1811160"/>
                <a:gridCol w="1727280"/>
                <a:gridCol w="3384720"/>
                <a:gridCol w="1306440"/>
              </a:tblGrid>
              <a:tr h="398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овень динамики развит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упп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рш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готовитель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значитель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носительно положите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ожите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 дет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0033"/>
                </a:solidFill>
                <a:latin typeface="Times New Roman"/>
              </a:rPr>
              <a:t>Методы развития познавательного интереса.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пользование многообразных форм организации обучения, включающих разные специфические детские виды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здание развивающей предметной среды, функционально моделирующей содержание детск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делирование игровых проблемно-практических ситуаций, активизирующих мышление, воображение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Широкое использование игровых приемов, игрушек, создание эмоционально значимых для детей ситуа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Содержание коррекционно- развивающей работы по ознакомлению с окружающим миром строится на следующих программах:</a:t>
            </a:r>
            <a:br>
              <a:rPr sz="2000"/>
            </a:b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кжанова Е.А., Стребелева Е.А.. Программа дошкольных образовательных учреждений компенсирующего вида для детей  с нарушением интеллекта «Коррекционно- развивающее обучение и воспитание».- М.: Просвещение, 200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Шипицына Л.М., Мамайчук И.И., Психология детей с нарушениями функций опорно- двигательного аппарата. – М.: Владос, 200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грамма воспитания и обучения дошкольников  с интеллектуальной недостаточностью./БаряеваЛ.Б., Гаврилушкина О.П., Зарин А.П.- СПб., 2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аврова Г.Н.. Программа коррекционно- развивающего курса по социально- личностному развитию детей дошкольного возраста «Возьми меня за руку».- Челябинск: Цицеро, 2009 и друг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1T16:31:56Z</dcterms:created>
  <dc:creator>Customer</dc:creator>
  <dc:description/>
  <dc:language>en-US</dc:language>
  <cp:lastModifiedBy>Customer</cp:lastModifiedBy>
  <dcterms:modified xsi:type="dcterms:W3CDTF">2012-03-12T17:05:59Z</dcterms:modified>
  <cp:revision>10</cp:revision>
  <dc:subject/>
  <dc:title>Тема:Развитие интереса к познанию окружающего мира у детей с НОДА</dc:title>
</cp:coreProperties>
</file>