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EFD-764E-4405-996C-B2C7E46D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342-3F49-4A6E-82EA-1B84799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DE3-7B04-4E78-8B1C-D87BBE8C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494-36DA-455A-93BC-082D3AD5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F31A-D389-4528-A589-33CB87B5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E751-6790-4E08-BB4B-6CF2AC6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139B-1306-4520-9EB2-4887D32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A0A-F0F7-4325-A37E-ABC62ED8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2C32-F96A-4CCF-B5D9-958F68F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2793-872C-4627-BF01-C3E5C4B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F08-C43E-46C4-8799-C44D532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ADB-7F23-4F84-B1DC-B15FC221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3E8-8585-496F-96B9-A48CE943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A57A-C910-4DA9-8578-418EBDA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07A2-7BF2-498F-8173-58368E91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9C6-0B0A-4A1B-B892-7911EDEF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C2B-AE28-46A0-AD87-34C6E4FA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8BE2-32E9-43F8-8865-2FF28BBE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1F1A-95AD-45E4-8284-04FF7A01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E21F-0954-489E-B393-CBC1B336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D4F3-F370-45E9-B548-A8401CD2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4CD6-0183-46D8-8642-F166D954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82E-2D86-41A5-A94D-D095EF8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A919-6286-4074-84F3-8D1EB89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F8B9-67B8-44CC-9644-709948B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C500-F4E0-44D2-857A-A5CA0D7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4D1D-3CD8-4613-A10C-3DC37E7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0D9F-6C26-4724-A0B7-CE311011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339E-6040-4A0F-A64A-C716795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4799-502C-405F-A9FE-E432DBCE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043F4-9D25-4399-8949-093256DD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0F85F-6E5E-444F-A046-777FE3E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842D3-5A80-419E-AD95-E89FA42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6E5-8669-470F-8EF5-95CC67D3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B8C20-ABC8-429E-9AE8-B66EF5D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FC11F-A095-477F-8D4C-064DB9D9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5F352-84AA-4EAD-99E7-B8D053E0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A9ACB-E095-4995-9811-77ABDCF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D8673-7A6C-4014-B980-9A09FF2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D3752-492F-4A91-BFD6-3609CB0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8ECAB-247E-40F7-B52C-CE773D00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7B9D7-EE07-4D92-A1C8-C6A95F8E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DA9CD-F103-4528-9E90-5A0DC5E2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7E8-1C81-49D3-9265-8791A26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CCE-2B79-4268-9EFA-E0487B47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80F-C8E7-482E-9ECD-669381E5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A61-D36D-42C0-8719-1F9AB6F9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F14-BCF2-49F2-827B-CAF0499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D5D-C534-4820-8349-48E6C5F5D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37C7-AFB8-4F4C-BED8-6BAEF4525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0A0-5596-4B25-8ED2-5971E067A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321-B940-4CCE-8C5D-8AB92958A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Тема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Развитие интереса к познанию окружающего мира у детей с НО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элементар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тествен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учных представлений о человеке, животн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растительном мире; для формирования экологическо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льтуры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у детей представление о единстве окружающего мира и самого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познавательный интерес и любознательность в процессе наблюдений за реальными природными объектами, рассматривания картинок, игре с муляжами овощей, фруктов, ягод, гриб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рмировать навыки мыслительных действий, анализа, синтеза, классификации и т. д., в процессе познания природной картины мира, способствующих развитию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ывать любовь к природе и стремление защищать е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самостоятельность в разрешении проблем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ить объяснять увиденное и фиксировать результаты доступными метод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8120" y="306000"/>
            <a:ext cx="7513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Сводный отчет о результатах</a:t>
            </a: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диагностики на начало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1981080"/>
          <a:ext cx="7543800" cy="3891240"/>
        </p:xfrm>
        <a:graphic>
          <a:graphicData uri="http://schemas.openxmlformats.org/drawingml/2006/table">
            <a:tbl>
              <a:tblPr/>
              <a:tblGrid>
                <a:gridCol w="1886040"/>
                <a:gridCol w="1555920"/>
                <a:gridCol w="3036600"/>
                <a:gridCol w="10652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Динамика развития детей за первое полугодие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2133720"/>
          <a:ext cx="8229600" cy="4459320"/>
        </p:xfrm>
        <a:graphic>
          <a:graphicData uri="http://schemas.openxmlformats.org/drawingml/2006/table">
            <a:tbl>
              <a:tblPr/>
              <a:tblGrid>
                <a:gridCol w="1811160"/>
                <a:gridCol w="1727280"/>
                <a:gridCol w="3384720"/>
                <a:gridCol w="1306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динамики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Методы развития познавательного интереса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ногообразных форм организации обучения, включающих разные специфические детски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развивающей предметной среды, функционально моделирующей содержание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рование игровых проблемно-практических ситуаций, активизирующих мышление, воображе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ое использование игровых приемов, игрушек, создание эмоционально значимых для детей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Содержание коррекционно- развивающей работы по ознакомлению с окружающим миром строится на следующих программах: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жанова Е.А., Стребелева Е.А.. Программа дошкольных образовательных учреждений компенсирующего вида для детей  с нарушением интеллекта «Коррекционно- развивающее обучение и воспитание».- М.: Просвещение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пицына Л.М., Мамайчук И.И., Психология детей с нарушениями функций опорно- двигательного аппарата. – М.: Владос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воспитания и обучения дошкольников  с интеллектуальной недостаточностью./БаряеваЛ.Б., Гаврилушкина О.П., Зарин А.П.- СПб.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ова Г.Н.. Программа коррекционно- развивающего курса по социально- личностному развитию детей дошкольного возраста «Возьми меня за руку».- Челябинск: Цицеро, 2009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6:31:56Z</dcterms:created>
  <dc:creator>Customer</dc:creator>
  <dc:description/>
  <dc:language>en-US</dc:language>
  <cp:lastModifiedBy>Customer</cp:lastModifiedBy>
  <dcterms:modified xsi:type="dcterms:W3CDTF">2012-03-12T17:05:59Z</dcterms:modified>
  <cp:revision>10</cp:revision>
  <dc:subject/>
  <dc:title>Тема:Развитие интереса к познанию окружающего мира у детей с НОДА</dc:title>
</cp:coreProperties>
</file>