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2.png" ContentType="image/png"/>
  <Override PartName="/ppt/media/image34.jpeg" ContentType="image/jpeg"/>
  <Override PartName="/ppt/media/image2.jpeg" ContentType="image/jpeg"/>
  <Override PartName="/ppt/media/image36.jpeg" ContentType="image/jpeg"/>
  <Override PartName="/ppt/media/image20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6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CC1-E66D-4640-99FB-E9E770481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лож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AA64-25F3-42E8-BFC2-2D592BEE25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F49-69BD-4695-9BC1-B0C872C1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8F3-0786-48AC-8219-594523F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078-BEA8-4C99-94FD-38293789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7B8-3D36-4E4B-91EC-307E10B8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187-D1DF-43E5-A25D-C7E0D2A0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128A-85EF-4BAD-9517-C644D48B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A06-0CE8-4FB0-988C-2B527954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421B-46AA-491F-9BD7-53713E8D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FFF5-D4F7-4984-9E40-B5A0A260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57DB-678B-413B-AC69-72DE8CCB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BBC6-BFB7-4C67-BB52-545A4A1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A00-85DF-457E-8625-806813CD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BD7D-87E1-44F4-AE8C-7804E3B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F00-4F97-45DE-A744-D5924DBC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7B53-CE76-43F5-B4AA-11ED1546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16A7-BB60-41CA-95D4-51E84B47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3984-F6E9-4494-BC78-D6A3E634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226D-8B09-4A78-A454-568A07B3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7DC0-269B-4E7E-B71B-7DE51A54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D681-D5DD-4FE2-8AB0-4FB417ED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92AF-D8C9-445F-B45F-10AA69E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2148-E8B6-4902-A47B-EA9578AA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E8B-23CB-4785-9CC8-4E11776D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28D3-07CC-4ACE-9A2E-2462622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CEAF-8202-4F62-9458-A5D3FE8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20AF-F2DF-40E6-B8C0-FCFB1988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53F8-72C2-4202-B4AB-17402EA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45AE-682A-494E-B2A1-12202D0B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7CDB-105B-4C1C-821A-597D94D2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68FD-D01C-4956-BBC0-C108941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96A31-3671-451A-8979-AF9B735A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5A196-24D2-467A-93B8-80635B45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6670E-9FFE-4DBD-AEF9-71D5A304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A1E-9493-4D7E-B009-0642E446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E663D-EABA-42D1-B34A-A7B72FA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993E8-0A84-4717-818F-7162A3D0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F0781-B6CB-41D2-9547-B5BA63CE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CD761-C05B-4EB4-B8E6-03546D8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44F7C1-229E-4A78-988D-20750A0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3FC39-AD51-4C7F-9AEA-0D48B53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E01EF-A39C-470F-888B-6AB407AE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90915-6663-417F-9CF2-482BB70D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E593C-A085-4F04-A81B-3AC60AD6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F0954-80A2-4D6E-8525-9271473A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1C4-C003-4294-8947-C11EB8FF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D5C6E-1135-4005-AC49-B3BE0864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AA34C-4091-47D6-A701-9B130EBE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2CB1F-ECCD-4F00-9C35-46919E3E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97608-05BE-4F7A-837E-E3044FAC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45C2A-A1D5-4101-94FC-3270393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C5E71-F2B9-4D3F-81C5-19218DE2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445DF-B5B9-490E-9A34-98FF4EE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0ED7A-A315-493C-B277-D09793A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3D0D7-60B4-470D-9B01-D0B1AC24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77D2D-AC64-4CC1-B587-3E1042E0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C9B-A433-49A8-8850-3A91C7DF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0518D-E3D0-42A3-AD5F-DAB3B119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6F0-3F10-4517-BFC8-516E953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698-E2C1-4EF5-AC62-95506C7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170-37EB-4B09-9390-3DC774B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0E3-4FED-4208-97B0-4C61CFA94E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84EA-23FE-4AAB-B6D4-FD9B09362A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CB79-AC2F-4DCF-AF9D-829104384A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83C3-EF6E-44F2-A688-B4F530ACED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697-6145-4D3A-891E-3F09968AA6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30astr-mdou116.caduk.ru/DswMedia/reestrdokumentov-neobxodimyixdlyapredstavleniyarebenkavtpmpk.docx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lang="en-US" sz="1800" spc="-1" strike="noStrike">
                <a:solidFill>
                  <a:srgbClr val="575f6d"/>
                </a:solidFill>
                <a:latin typeface="Times New Roman"/>
              </a:rPr>
              <a:t>«ДЕТСКИЙ САД КОМБИНИРОВАННОГО ВИДА №29» «АЛЕНУШКА»</a:t>
            </a:r>
            <a:br>
              <a:rPr sz="18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БОТА ПСИХОЛОГО – МЕДИКО – ПЕДАГОГИЧЕСКОГО КОНСИЛИУМА В СИСТЕМЕ ДОШКОЛЬНОГО ОБРАЗОВА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0" y="5660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Times New Roman"/>
              </a:rPr>
              <a:t>г. Сухой Ло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c3e42"/>
                </a:solidFill>
                <a:latin typeface="Century Schoolbook"/>
              </a:rPr>
              <a:t>                 </a:t>
            </a: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иды  ПМПк в МДОУ: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000" y="5373720"/>
            <a:ext cx="74674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Заседания проводятся в присутствии родителей (законных представителей) или при наличии письменного договора о сопровожден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4" name="Текст 1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12144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Документы, регламентирующие деятельность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 ПМПконсилиума ДОУ </a:t>
            </a:r>
            <a:br>
              <a:rPr sz="20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(нормативно - правовые)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7829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нструктивное письмо Министерства образования РФ (приказ №27/901 – 6 от 27.03.2000 г.) «О психолого – медико – педагогическом консилиуме 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онвенция ООН о правах ребен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от 10.07.1992 №3266-1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Федеральный закон об основных гарантиях прав ребенка в РФ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став МДОУ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иповое положение о дошкольном образовательном учреждени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оговор между ДОУ и родителями (законными представителями) воспитанник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ечень документов ПМПк 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(рабочая документация)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каз руководителя ДОУ о создании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ожение о ПМПк ДО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глашение  с родителями воспитанников (договор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регистрации заседан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записи детей на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регистрации заключений и рекомендаций специалистов и коллегиального заключения и рекомендац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урнал сведений о динамике развития воспитанни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кет документов, необходимых для представления ребенка в ОТПМПК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рта учета динамики развития ребенк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дивидуальная программа сопровождения воспитанников с ОВЗ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рта развития воспитанника (представления специалистов, коллегиальное заключение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рафик плановых заседаний ПМП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жегодный отчет о работе ПМПк за учебный го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00" name="Organization Chart 8"/>
          <p:cNvGrpSpPr/>
          <p:nvPr/>
        </p:nvGrpSpPr>
        <p:grpSpPr>
          <a:xfrm>
            <a:off x="447840" y="549360"/>
            <a:ext cx="8155800" cy="5849280"/>
            <a:chOff x="447840" y="549360"/>
            <a:chExt cx="8155800" cy="5849280"/>
          </a:xfrm>
        </p:grpSpPr>
        <p:cxnSp>
          <p:nvCxnSpPr>
            <p:cNvPr id="301" name="_s1028"/>
            <p:cNvCxnSpPr>
              <a:stCxn id="302" idx="0"/>
              <a:endCxn id="303" idx="2"/>
            </p:cNvCxnSpPr>
            <p:nvPr/>
          </p:nvCxnSpPr>
          <p:spPr>
            <a:xfrm flipV="1" rot="16200000">
              <a:off x="5526000" y="1887120"/>
              <a:ext cx="1170360" cy="317268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1029"/>
            <p:cNvCxnSpPr>
              <a:stCxn id="305" idx="0"/>
              <a:endCxn id="303" idx="2"/>
            </p:cNvCxnSpPr>
            <p:nvPr/>
          </p:nvCxnSpPr>
          <p:spPr>
            <a:xfrm flipV="1" rot="16200000">
              <a:off x="4468680" y="2944440"/>
              <a:ext cx="1170360" cy="105804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1030"/>
            <p:cNvCxnSpPr>
              <a:stCxn id="307" idx="0"/>
              <a:endCxn id="303" idx="2"/>
            </p:cNvCxnSpPr>
            <p:nvPr/>
          </p:nvCxnSpPr>
          <p:spPr>
            <a:xfrm flipH="1" flipV="1" rot="5400000">
              <a:off x="3412080" y="2944800"/>
              <a:ext cx="1170360" cy="105768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1031"/>
            <p:cNvCxnSpPr>
              <a:stCxn id="309" idx="0"/>
              <a:endCxn id="303" idx="2"/>
            </p:cNvCxnSpPr>
            <p:nvPr/>
          </p:nvCxnSpPr>
          <p:spPr>
            <a:xfrm flipH="1" flipV="1" rot="5400000">
              <a:off x="2354760" y="1887480"/>
              <a:ext cx="1170360" cy="3172320"/>
            </a:xfrm>
            <a:prstGeom prst="bentConnector3">
              <a:avLst>
                <a:gd name="adj1" fmla="val 148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3" name="_s1032"/>
            <p:cNvSpPr/>
            <p:nvPr/>
          </p:nvSpPr>
          <p:spPr>
            <a:xfrm>
              <a:off x="3619440" y="54936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слов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тегор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ников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провождаем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пециалистам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нсили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3"/>
            <p:cNvSpPr/>
            <p:nvPr/>
          </p:nvSpPr>
          <p:spPr>
            <a:xfrm>
              <a:off x="44784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е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едпосылок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 возникновени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е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 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 данный мом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1034"/>
            <p:cNvSpPr/>
            <p:nvPr/>
          </p:nvSpPr>
          <p:spPr>
            <a:xfrm>
              <a:off x="256212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ети, имеющ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осыл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 возникновению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облем в развит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(медицински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оциальны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сихолог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едагогические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факторы риска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35"/>
            <p:cNvSpPr/>
            <p:nvPr/>
          </p:nvSpPr>
          <p:spPr>
            <a:xfrm>
              <a:off x="467676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собенности 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 в данны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ом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1036"/>
            <p:cNvSpPr/>
            <p:nvPr/>
          </p:nvSpPr>
          <p:spPr>
            <a:xfrm>
              <a:off x="6791400" y="4059000"/>
              <a:ext cx="1812240" cy="2339640"/>
            </a:xfrm>
            <a:custGeom>
              <a:avLst/>
              <a:gdLst>
                <a:gd name="textAreaLeft" fmla="*/ 88200 w 1812240"/>
                <a:gd name="textAreaRight" fmla="*/ 1724040 w 1812240"/>
                <a:gd name="textAreaTop" fmla="*/ 88200 h 2339640"/>
                <a:gd name="textAreaBottom" fmla="*/ 2251440 h 2339640"/>
              </a:gdLst>
              <a:ahLst/>
              <a:rect l="textAreaLeft" t="textAreaTop" r="textAreaRight" b="textAreaBottom"/>
              <a:pathLst>
                <a:path w="21600" h="27885">
                  <a:moveTo>
                    <a:pt x="3600" y="0"/>
                  </a:moveTo>
                  <a:arcTo wR="3600" hR="3600" stAng="16200000" swAng="-5400000"/>
                  <a:lnTo>
                    <a:pt x="0" y="24285"/>
                  </a:lnTo>
                  <a:arcTo wR="3600" hR="3600" stAng="10800000" swAng="-5400000"/>
                  <a:lnTo>
                    <a:pt x="18000" y="27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0e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ти, имеющ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тклонения в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развит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3" descr=""/>
          <p:cNvPicPr/>
          <p:nvPr/>
        </p:nvPicPr>
        <p:blipFill>
          <a:blip r:embed="rId1"/>
          <a:stretch/>
        </p:blipFill>
        <p:spPr>
          <a:xfrm>
            <a:off x="317520" y="404640"/>
            <a:ext cx="8826480" cy="706680"/>
          </a:xfrm>
          <a:prstGeom prst="rect">
            <a:avLst/>
          </a:prstGeom>
          <a:ln w="0">
            <a:noFill/>
          </a:ln>
        </p:spPr>
      </p:pic>
      <p:grpSp>
        <p:nvGrpSpPr>
          <p:cNvPr id="311" name="Прямоугольник 7"/>
          <p:cNvGrpSpPr/>
          <p:nvPr/>
        </p:nvGrpSpPr>
        <p:grpSpPr>
          <a:xfrm>
            <a:off x="1258920" y="1125360"/>
            <a:ext cx="5913360" cy="487440"/>
            <a:chOff x="1258920" y="1125360"/>
            <a:chExt cx="5913360" cy="487440"/>
          </a:xfrm>
        </p:grpSpPr>
        <p:pic>
          <p:nvPicPr>
            <p:cNvPr id="312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258920" y="1125360"/>
              <a:ext cx="591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89160" y="1158840"/>
              <a:ext cx="5857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nstantia"/>
                </a:rPr>
                <a:t>Запись на обследование ребёнка на консилиу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Блок-схема: процесс 13"/>
          <p:cNvGrpSpPr/>
          <p:nvPr/>
        </p:nvGrpSpPr>
        <p:grpSpPr>
          <a:xfrm>
            <a:off x="1258920" y="1773360"/>
            <a:ext cx="3627360" cy="768240"/>
            <a:chOff x="1258920" y="1773360"/>
            <a:chExt cx="3627360" cy="768240"/>
          </a:xfrm>
        </p:grpSpPr>
        <p:pic>
          <p:nvPicPr>
            <p:cNvPr id="315" name="Блок-схема: процесс 13" descr=""/>
            <p:cNvPicPr/>
            <p:nvPr/>
          </p:nvPicPr>
          <p:blipFill>
            <a:blip r:embed="rId3"/>
            <a:stretch/>
          </p:blipFill>
          <p:spPr>
            <a:xfrm>
              <a:off x="1258920" y="1773360"/>
              <a:ext cx="3627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289160" y="180360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Индивидуальное обследование ребёнка всеми специалистами консили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Блок-схема: процесс 14"/>
          <p:cNvGrpSpPr/>
          <p:nvPr/>
        </p:nvGrpSpPr>
        <p:grpSpPr>
          <a:xfrm>
            <a:off x="1258920" y="2708280"/>
            <a:ext cx="3627360" cy="773280"/>
            <a:chOff x="1258920" y="2708280"/>
            <a:chExt cx="3627360" cy="773280"/>
          </a:xfrm>
        </p:grpSpPr>
        <p:pic>
          <p:nvPicPr>
            <p:cNvPr id="318" name="Блок-схема: процесс 14" descr=""/>
            <p:cNvPicPr/>
            <p:nvPr/>
          </p:nvPicPr>
          <p:blipFill>
            <a:blip r:embed="rId4"/>
            <a:stretch/>
          </p:blipFill>
          <p:spPr>
            <a:xfrm>
              <a:off x="1258920" y="2708280"/>
              <a:ext cx="36273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289160" y="274032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Коллегиальное обсуж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Блок-схема: процесс 15"/>
          <p:cNvGrpSpPr/>
          <p:nvPr/>
        </p:nvGrpSpPr>
        <p:grpSpPr>
          <a:xfrm>
            <a:off x="5292720" y="2637000"/>
            <a:ext cx="3559320" cy="772920"/>
            <a:chOff x="5292720" y="2637000"/>
            <a:chExt cx="3559320" cy="772920"/>
          </a:xfrm>
        </p:grpSpPr>
        <p:pic>
          <p:nvPicPr>
            <p:cNvPr id="321" name="Блок-схема: процесс 15" descr=""/>
            <p:cNvPicPr/>
            <p:nvPr/>
          </p:nvPicPr>
          <p:blipFill>
            <a:blip r:embed="rId5"/>
            <a:stretch/>
          </p:blipFill>
          <p:spPr>
            <a:xfrm>
              <a:off x="5292720" y="2637000"/>
              <a:ext cx="35593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324760" y="2668680"/>
              <a:ext cx="350028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Направление ребёнка на ОТПМП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г. Сухой Ло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Блок-схема: процесс 16"/>
          <p:cNvGrpSpPr/>
          <p:nvPr/>
        </p:nvGrpSpPr>
        <p:grpSpPr>
          <a:xfrm>
            <a:off x="1547640" y="3716280"/>
            <a:ext cx="5913360" cy="701640"/>
            <a:chOff x="1547640" y="3716280"/>
            <a:chExt cx="5913360" cy="701640"/>
          </a:xfrm>
        </p:grpSpPr>
        <p:pic>
          <p:nvPicPr>
            <p:cNvPr id="324" name="Блок-схема: процесс 16" descr=""/>
            <p:cNvPicPr/>
            <p:nvPr/>
          </p:nvPicPr>
          <p:blipFill>
            <a:blip r:embed="rId6"/>
            <a:stretch/>
          </p:blipFill>
          <p:spPr>
            <a:xfrm>
              <a:off x="1547640" y="3716280"/>
              <a:ext cx="5913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79320" y="3747960"/>
              <a:ext cx="5857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Согласование деятельности специалистов по коррекционно-развивающей рабо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Блок-схема: процесс 17"/>
          <p:cNvGrpSpPr/>
          <p:nvPr/>
        </p:nvGrpSpPr>
        <p:grpSpPr>
          <a:xfrm>
            <a:off x="2468520" y="4681440"/>
            <a:ext cx="3487680" cy="774720"/>
            <a:chOff x="2468520" y="4681440"/>
            <a:chExt cx="3487680" cy="774720"/>
          </a:xfrm>
        </p:grpSpPr>
        <p:pic>
          <p:nvPicPr>
            <p:cNvPr id="327" name="Блок-схема: процесс 17" descr=""/>
            <p:cNvPicPr/>
            <p:nvPr/>
          </p:nvPicPr>
          <p:blipFill>
            <a:blip r:embed="rId7"/>
            <a:stretch/>
          </p:blipFill>
          <p:spPr>
            <a:xfrm>
              <a:off x="2468520" y="4681440"/>
              <a:ext cx="34876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500200" y="4714920"/>
              <a:ext cx="3429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Реализация рекомендаций консили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Блок-схема: процесс 18"/>
          <p:cNvGrpSpPr/>
          <p:nvPr/>
        </p:nvGrpSpPr>
        <p:grpSpPr>
          <a:xfrm>
            <a:off x="2484360" y="5734080"/>
            <a:ext cx="3487680" cy="766800"/>
            <a:chOff x="2484360" y="5734080"/>
            <a:chExt cx="3487680" cy="766800"/>
          </a:xfrm>
        </p:grpSpPr>
        <p:pic>
          <p:nvPicPr>
            <p:cNvPr id="330" name="Блок-схема: процесс 18" descr=""/>
            <p:cNvPicPr/>
            <p:nvPr/>
          </p:nvPicPr>
          <p:blipFill>
            <a:blip r:embed="rId8"/>
            <a:stretch/>
          </p:blipFill>
          <p:spPr>
            <a:xfrm>
              <a:off x="2484360" y="5734080"/>
              <a:ext cx="34876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516040" y="5764320"/>
              <a:ext cx="3429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Оценка эффективности коррекционно-развивающей 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Блок-схема: процесс 19"/>
          <p:cNvGrpSpPr/>
          <p:nvPr/>
        </p:nvGrpSpPr>
        <p:grpSpPr>
          <a:xfrm>
            <a:off x="328680" y="4681440"/>
            <a:ext cx="1695240" cy="1128960"/>
            <a:chOff x="328680" y="4681440"/>
            <a:chExt cx="1695240" cy="1128960"/>
          </a:xfrm>
        </p:grpSpPr>
        <p:pic>
          <p:nvPicPr>
            <p:cNvPr id="333" name="Блок-схема: процесс 19" descr=""/>
            <p:cNvPicPr/>
            <p:nvPr/>
          </p:nvPicPr>
          <p:blipFill>
            <a:blip r:embed="rId9"/>
            <a:stretch/>
          </p:blipFill>
          <p:spPr>
            <a:xfrm>
              <a:off x="328680" y="4681440"/>
              <a:ext cx="169524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 rot="16200000">
              <a:off x="642960" y="4429080"/>
              <a:ext cx="10713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nstantia"/>
                </a:rPr>
                <a:t>Индивидуальная коррекционная 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Блок-схема: процесс 20" descr=""/>
          <p:cNvPicPr/>
          <p:nvPr/>
        </p:nvPicPr>
        <p:blipFill>
          <a:blip r:embed="rId10"/>
          <a:stretch/>
        </p:blipFill>
        <p:spPr>
          <a:xfrm>
            <a:off x="6516720" y="4653000"/>
            <a:ext cx="1657440" cy="112860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ая со стрелкой 22" descr=""/>
          <p:cNvPicPr/>
          <p:nvPr/>
        </p:nvPicPr>
        <p:blipFill>
          <a:blip r:embed="rId11"/>
          <a:stretch/>
        </p:blipFill>
        <p:spPr>
          <a:xfrm>
            <a:off x="3492360" y="1557360"/>
            <a:ext cx="200160" cy="3301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ая со стрелкой 24" descr=""/>
          <p:cNvPicPr/>
          <p:nvPr/>
        </p:nvPicPr>
        <p:blipFill>
          <a:blip r:embed="rId12"/>
          <a:stretch/>
        </p:blipFill>
        <p:spPr>
          <a:xfrm>
            <a:off x="3564000" y="2492280"/>
            <a:ext cx="199800" cy="3286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ая со стрелкой 25" descr=""/>
          <p:cNvPicPr/>
          <p:nvPr/>
        </p:nvPicPr>
        <p:blipFill>
          <a:blip r:embed="rId13"/>
          <a:stretch/>
        </p:blipFill>
        <p:spPr>
          <a:xfrm>
            <a:off x="3564000" y="3429000"/>
            <a:ext cx="199800" cy="4316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ая со стрелкой 27" descr=""/>
          <p:cNvPicPr/>
          <p:nvPr/>
        </p:nvPicPr>
        <p:blipFill>
          <a:blip r:embed="rId14"/>
          <a:stretch/>
        </p:blipFill>
        <p:spPr>
          <a:xfrm>
            <a:off x="4108320" y="4413240"/>
            <a:ext cx="201600" cy="39672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ая со стрелкой 32" descr=""/>
          <p:cNvPicPr/>
          <p:nvPr/>
        </p:nvPicPr>
        <p:blipFill>
          <a:blip r:embed="rId15"/>
          <a:stretch/>
        </p:blipFill>
        <p:spPr>
          <a:xfrm>
            <a:off x="4140360" y="5445000"/>
            <a:ext cx="201600" cy="4320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 стрелкой 37" descr=""/>
          <p:cNvPicPr/>
          <p:nvPr/>
        </p:nvPicPr>
        <p:blipFill>
          <a:blip r:embed="rId16"/>
          <a:stretch/>
        </p:blipFill>
        <p:spPr>
          <a:xfrm>
            <a:off x="4859280" y="2997360"/>
            <a:ext cx="504720" cy="21564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 стрелкой 40" descr=""/>
          <p:cNvPicPr/>
          <p:nvPr/>
        </p:nvPicPr>
        <p:blipFill>
          <a:blip r:embed="rId17"/>
          <a:stretch/>
        </p:blipFill>
        <p:spPr>
          <a:xfrm>
            <a:off x="1895400" y="4968720"/>
            <a:ext cx="615960" cy="20016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 стрелкой 43" descr=""/>
          <p:cNvPicPr/>
          <p:nvPr/>
        </p:nvPicPr>
        <p:blipFill>
          <a:blip r:embed="rId18"/>
          <a:stretch/>
        </p:blipFill>
        <p:spPr>
          <a:xfrm>
            <a:off x="5913360" y="4968720"/>
            <a:ext cx="755640" cy="20016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 стрелкой 40" descr=""/>
          <p:cNvPicPr/>
          <p:nvPr/>
        </p:nvPicPr>
        <p:blipFill>
          <a:blip r:embed="rId19"/>
          <a:stretch/>
        </p:blipFill>
        <p:spPr>
          <a:xfrm>
            <a:off x="1908000" y="4941720"/>
            <a:ext cx="615960" cy="2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Направления деятельности специалистов ПМПк: </a:t>
            </a:r>
            <a:r>
              <a:rPr b="1" i="1" lang="ru-RU" sz="2300" spc="-1" strike="noStrike">
                <a:solidFill>
                  <a:srgbClr val="575f6d"/>
                </a:solidFill>
                <a:latin typeface="Century Schoolbook"/>
              </a:rPr>
              <a:t>консультативное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46" name="Picture 9" descr="IMG_0551"/>
          <p:cNvPicPr/>
          <p:nvPr/>
        </p:nvPicPr>
        <p:blipFill>
          <a:blip r:embed="rId1"/>
          <a:stretch/>
        </p:blipFill>
        <p:spPr>
          <a:xfrm>
            <a:off x="250920" y="1038240"/>
            <a:ext cx="3960720" cy="2968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12122012026"/>
          <p:cNvPicPr/>
          <p:nvPr/>
        </p:nvPicPr>
        <p:blipFill>
          <a:blip r:embed="rId2"/>
          <a:stretch/>
        </p:blipFill>
        <p:spPr>
          <a:xfrm>
            <a:off x="4284720" y="1060560"/>
            <a:ext cx="4608360" cy="289224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6" descr="P1210147.JPG"/>
          <p:cNvPicPr/>
          <p:nvPr/>
        </p:nvPicPr>
        <p:blipFill>
          <a:blip r:embed="rId3"/>
          <a:stretch/>
        </p:blipFill>
        <p:spPr>
          <a:xfrm>
            <a:off x="2214720" y="3857760"/>
            <a:ext cx="42703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Диагностическое направление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0" name="Picture 9" descr="IMG_2351"/>
          <p:cNvPicPr/>
          <p:nvPr/>
        </p:nvPicPr>
        <p:blipFill>
          <a:blip r:embed="rId1"/>
          <a:stretch/>
        </p:blipFill>
        <p:spPr>
          <a:xfrm>
            <a:off x="214200" y="1011240"/>
            <a:ext cx="3997440" cy="2957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P1210146"/>
          <p:cNvPicPr/>
          <p:nvPr/>
        </p:nvPicPr>
        <p:blipFill>
          <a:blip r:embed="rId2"/>
          <a:stretch/>
        </p:blipFill>
        <p:spPr>
          <a:xfrm>
            <a:off x="4356000" y="1062000"/>
            <a:ext cx="4537080" cy="291780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6" descr="skf1F9.bmp"/>
          <p:cNvPicPr/>
          <p:nvPr/>
        </p:nvPicPr>
        <p:blipFill>
          <a:blip r:embed="rId3"/>
          <a:stretch/>
        </p:blipFill>
        <p:spPr>
          <a:xfrm>
            <a:off x="357120" y="3714840"/>
            <a:ext cx="3571920" cy="29052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9" descr="IMG_3009.JPG"/>
          <p:cNvPicPr/>
          <p:nvPr/>
        </p:nvPicPr>
        <p:blipFill>
          <a:blip r:embed="rId4"/>
          <a:stretch/>
        </p:blipFill>
        <p:spPr>
          <a:xfrm>
            <a:off x="4214880" y="3786120"/>
            <a:ext cx="364320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ОРРЕКЦИОННО – РАЗВИВАЮЩЕЕ НАПРАВЛЕНИ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Содержимое 6" descr="P130312_16.52.jpg"/>
          <p:cNvPicPr/>
          <p:nvPr/>
        </p:nvPicPr>
        <p:blipFill>
          <a:blip r:embed="rId1"/>
          <a:stretch/>
        </p:blipFill>
        <p:spPr>
          <a:xfrm>
            <a:off x="198360" y="947880"/>
            <a:ext cx="4016520" cy="301284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10" descr="P1260173.JPG"/>
          <p:cNvPicPr/>
          <p:nvPr/>
        </p:nvPicPr>
        <p:blipFill>
          <a:blip r:embed="rId2"/>
          <a:stretch/>
        </p:blipFill>
        <p:spPr>
          <a:xfrm>
            <a:off x="642960" y="3571920"/>
            <a:ext cx="4429080" cy="311292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15" descr="P1260178.JPG"/>
          <p:cNvPicPr/>
          <p:nvPr/>
        </p:nvPicPr>
        <p:blipFill>
          <a:blip r:embed="rId3"/>
          <a:stretch/>
        </p:blipFill>
        <p:spPr>
          <a:xfrm>
            <a:off x="4714920" y="785880"/>
            <a:ext cx="2576520" cy="343512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7" descr="P230412_10.35.jpg"/>
          <p:cNvPicPr/>
          <p:nvPr/>
        </p:nvPicPr>
        <p:blipFill>
          <a:blip r:embed="rId4"/>
          <a:stretch/>
        </p:blipFill>
        <p:spPr>
          <a:xfrm>
            <a:off x="5929200" y="3429000"/>
            <a:ext cx="2917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СВЕТИТЕЛЬСКОЕ НАПРАВЛЕНИЕ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Содержимое 7" descr="Фото0095.jpg"/>
          <p:cNvPicPr/>
          <p:nvPr/>
        </p:nvPicPr>
        <p:blipFill>
          <a:blip r:embed="rId1"/>
          <a:stretch/>
        </p:blipFill>
        <p:spPr>
          <a:xfrm>
            <a:off x="6000840" y="571680"/>
            <a:ext cx="2714400" cy="3576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IMG_0554"/>
          <p:cNvPicPr/>
          <p:nvPr/>
        </p:nvPicPr>
        <p:blipFill>
          <a:blip r:embed="rId2"/>
          <a:stretch/>
        </p:blipFill>
        <p:spPr>
          <a:xfrm>
            <a:off x="163440" y="714240"/>
            <a:ext cx="4194360" cy="3143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2771640" y="3068640"/>
            <a:ext cx="352764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4297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ОЩНЫМ ПОТЕНЦИАЛОМ ДЛЯ ПОДДЕРЖКИ ИНСТИТУТА СЕМЬИ ОБЛАДАЕТ СИСТЕМА ДОШКОЛЬНОГО ОБРАЗОВАНИЯ, ПРИЗНАННАЯ СЕГОДНЯ ОДНИМ ИЗ КРУПНЕЙШИХ ЦЕНТРОВ РАЗВИТИЯ ОБРАЗОВАНИЯ В СТРАНЕ. ОДНОЙ ИЗ ФОРМ РАБОТЫ ДОШКОЛЬНОГО ОБРАЗОВАТЕЛЬНОГО УЧРЕЖДЕНИЯ ЯВЛЯЕТСЯ СОЦИАЛЬНО-ПСИХОЛОГИЧЕСКАЯ СЛУЖБА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4" descr="IMG_1207-3.JPG"/>
          <p:cNvPicPr/>
          <p:nvPr/>
        </p:nvPicPr>
        <p:blipFill>
          <a:blip r:embed="rId1"/>
          <a:stretch/>
        </p:blipFill>
        <p:spPr>
          <a:xfrm>
            <a:off x="468360" y="1700280"/>
            <a:ext cx="33573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270320" y="1844280"/>
            <a:ext cx="3657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оциально – психологическая служба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МДОУ «ДСКВ №29»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О.А. Печерица,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учитель – логопед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Т.В. Комягин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педагог – психолог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М.А. Аксентье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остав ПМПконсилиума МДОУ №29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284720" y="980640"/>
            <a:ext cx="3657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ебедева Людмила Алексее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ведующий МДОУ, руководитель ПМП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ксентьева Мария Андрее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дагог – психолог, председатель ПМП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8" name="Picture 8" descr="zaveduyushaayalebedevala"/>
          <p:cNvPicPr/>
          <p:nvPr/>
        </p:nvPicPr>
        <p:blipFill>
          <a:blip r:embed="rId1"/>
          <a:stretch/>
        </p:blipFill>
        <p:spPr>
          <a:xfrm>
            <a:off x="1476360" y="907920"/>
            <a:ext cx="1917720" cy="288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Изображение5"/>
          <p:cNvPicPr/>
          <p:nvPr/>
        </p:nvPicPr>
        <p:blipFill>
          <a:blip r:embed="rId2"/>
          <a:stretch/>
        </p:blipFill>
        <p:spPr>
          <a:xfrm>
            <a:off x="1476360" y="4005360"/>
            <a:ext cx="1916280" cy="25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708360" y="1600200"/>
            <a:ext cx="496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бегать, но я могу смотре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умею разговаривать, но я могу слуша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строить, н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огу задействовать воображени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ни говорят, что я не могу многог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о я могу подняться в горы 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Если ты поможешь мн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Тара Никольсо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Текст 1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6092640"/>
            <a:ext cx="74674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Материал подготовила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педагог – психолог ДОУ «ДСКВ №29» Аксентьева М.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Текст 1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66960"/>
            <a:ext cx="746748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84720" y="549000"/>
            <a:ext cx="36576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Комягина Татьяна Вячеславовна –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учитель – логопед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вита Людмила Илларион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учитель – логопед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8" descr="IMG_1136"/>
          <p:cNvPicPr/>
          <p:nvPr/>
        </p:nvPicPr>
        <p:blipFill>
          <a:blip r:embed="rId1"/>
          <a:stretch/>
        </p:blipFill>
        <p:spPr>
          <a:xfrm>
            <a:off x="1476360" y="47628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фото"/>
          <p:cNvPicPr/>
          <p:nvPr/>
        </p:nvPicPr>
        <p:blipFill>
          <a:blip r:embed="rId2"/>
          <a:stretch/>
        </p:blipFill>
        <p:spPr>
          <a:xfrm>
            <a:off x="1403280" y="3716280"/>
            <a:ext cx="208116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903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67080" y="765000"/>
            <a:ext cx="365760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Черныш Наталья Михайл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тарший воспита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Печерица Ольга Александро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социальный педагог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6" name="Picture 8" descr="starshaiyvospitatel-chernyishnm"/>
          <p:cNvPicPr/>
          <p:nvPr/>
        </p:nvPicPr>
        <p:blipFill>
          <a:blip r:embed="rId1"/>
          <a:stretch/>
        </p:blipFill>
        <p:spPr>
          <a:xfrm>
            <a:off x="1476360" y="765000"/>
            <a:ext cx="1859040" cy="2792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IMG_1205"/>
          <p:cNvPicPr/>
          <p:nvPr/>
        </p:nvPicPr>
        <p:blipFill>
          <a:blip r:embed="rId2"/>
          <a:stretch/>
        </p:blipFill>
        <p:spPr>
          <a:xfrm>
            <a:off x="1476360" y="3716280"/>
            <a:ext cx="1862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-399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67080" y="620280"/>
            <a:ext cx="3657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рушкина Ирина Геннадьевна –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узыкальный руководи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кова Надежда Ива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узыкальный руководитель, член консили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0" name="Picture 8" descr="МУЗ"/>
          <p:cNvPicPr/>
          <p:nvPr/>
        </p:nvPicPr>
        <p:blipFill>
          <a:blip r:embed="rId1"/>
          <a:stretch/>
        </p:blipFill>
        <p:spPr>
          <a:xfrm>
            <a:off x="1353960" y="692280"/>
            <a:ext cx="1909800" cy="2865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о"/>
          <p:cNvPicPr/>
          <p:nvPr/>
        </p:nvPicPr>
        <p:blipFill>
          <a:blip r:embed="rId2"/>
          <a:stretch/>
        </p:blipFill>
        <p:spPr>
          <a:xfrm>
            <a:off x="1341360" y="3716280"/>
            <a:ext cx="193824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515772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d19"/>
                </a:solidFill>
                <a:latin typeface="Times New Roman"/>
              </a:rPr>
              <a:t>Состав консилиума может варьироваться в зависимости от цели и задач консилиума, проблем ребёнк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40360" y="475920"/>
            <a:ext cx="3657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авина Людмила Алексеевн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таршая медсестра, член консилиум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(по согласованию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устроева Лариса Владимировна –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фельдшер, член консилиум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(по согласованию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4" name="Picture 7" descr="СТАРШАЯ МЕДСЕСТРА"/>
          <p:cNvPicPr/>
          <p:nvPr/>
        </p:nvPicPr>
        <p:blipFill>
          <a:blip r:embed="rId1"/>
          <a:stretch/>
        </p:blipFill>
        <p:spPr>
          <a:xfrm>
            <a:off x="611280" y="476280"/>
            <a:ext cx="29289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4674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Деятельность ПМПконсилиума ДОУ направле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7467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а решение задач, связанных со своевременным выявлением детей с проблемами в развитии, организацией психолого – медико – социального сопровождения их образования, исходя из индивидуальных особенностей развития каждого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Из положения ПМПконсилиума МДОУ №29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07552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ью ПМПк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является обеспечение диагностико – коррекционного психолого – медико – социально - педагогического сопровождения воспитанников с отклонениями в развитии и (или) состоянии декомпенсации для получения ими качественного образования, исходя из реальных возможностей ДОУ и в соответствии с возрастными и индивидуальными особенностями и возможностями, состоянием соматического и нервно – психического здоровья воспитанни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9" name="Picture 7" descr="P1210141"/>
          <p:cNvPicPr/>
          <p:nvPr/>
        </p:nvPicPr>
        <p:blipFill>
          <a:blip r:embed="rId1"/>
          <a:stretch/>
        </p:blipFill>
        <p:spPr>
          <a:xfrm>
            <a:off x="2268360" y="3429000"/>
            <a:ext cx="446436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Задачи ПМПконсилиума</a:t>
            </a:r>
            <a:r>
              <a:rPr b="0" lang="ru-RU" sz="23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21844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воевременное выявление проблем в развитии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явление актуальных и резервных возможностей детей с ОВЗ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нализ и организация исполнения рекомендаций психолого – медико – педагогических комиссий, бюро медико – социальной экспертизы, отдельных специалистов, обследовавш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ение характера, продолжительности и эффективности оказываемой помощи в рамках имеющихся в МДОУ возможнос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дготовка и ведение документации, отражающей актуальное развитие воспитанника, динамику его состоя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нсультирование родителей (законных представителей), педагогических, медицинских и социальных работников, представляющих интересы ребен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астие в просветительской деятельности, направленной на повышение психолого – педагогической, медико – социальной и правовой культуры педагогов, родителей (законных представителей),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23:30Z</dcterms:created>
  <dc:creator>Admin</dc:creator>
  <dc:description/>
  <dc:language>en-US</dc:language>
  <cp:lastModifiedBy>user</cp:lastModifiedBy>
  <dcterms:modified xsi:type="dcterms:W3CDTF">2013-01-26T11:40:56Z</dcterms:modified>
  <cp:revision>185</cp:revision>
  <dc:subject/>
  <dc:title>Слайд 1</dc:title>
</cp:coreProperties>
</file>