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33.jpeg" ContentType="image/jpe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4.png" ContentType="image/png"/>
  <Override PartName="/ppt/media/image10.jpeg" ContentType="image/jpeg"/>
  <Override PartName="/ppt/media/image1.jpeg" ContentType="image/jpeg"/>
  <Override PartName="/ppt/media/image35.jpeg" ContentType="image/jpeg"/>
  <Override PartName="/ppt/media/image41.jpeg" ContentType="image/jpeg"/>
  <Override PartName="/ppt/media/image45.jpeg" ContentType="image/jpeg"/>
  <Override PartName="/ppt/media/image30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12.png" ContentType="image/png"/>
  <Override PartName="/ppt/media/image34.jpeg" ContentType="image/jpeg"/>
  <Override PartName="/ppt/media/image2.jpeg" ContentType="image/jpeg"/>
  <Override PartName="/ppt/media/image36.jpeg" ContentType="image/jpeg"/>
  <Override PartName="/ppt/media/image20.png" ContentType="image/png"/>
  <Override PartName="/ppt/media/image40.jpeg" ContentType="image/jpeg"/>
  <Override PartName="/ppt/media/image44.jpeg" ContentType="image/jpeg"/>
  <Override PartName="/ppt/media/image43.jpeg" ContentType="image/jpeg"/>
  <Override PartName="/ppt/media/image39.jpeg" ContentType="image/jpeg"/>
  <Override PartName="/ppt/media/image8.jpeg" ContentType="image/jpeg"/>
  <Override PartName="/ppt/media/image7.jpeg" ContentType="image/jpeg"/>
  <Override PartName="/ppt/media/image38.jpeg" ContentType="image/jpeg"/>
  <Override PartName="/ppt/media/image28.png" ContentType="image/png"/>
  <Override PartName="/ppt/media/image46.jpeg" ContentType="image/jpeg"/>
  <Override PartName="/ppt/media/image9.jpeg" ContentType="image/jpeg"/>
  <Override PartName="/ppt/media/image11.png" ContentType="image/png"/>
  <Override PartName="/ppt/media/image13.png" ContentType="image/png"/>
  <Override PartName="/ppt/media/image3.jpeg" ContentType="image/jpeg"/>
  <Override PartName="/ppt/media/image3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25.png" ContentType="image/png"/>
  <Override PartName="/ppt/media/image4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dt" idx="16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ftr" idx="17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 type="sldNum" idx="18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8529C-2928-4940-A64E-F7071C9C0FE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слож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203DE-5715-4043-B90C-3FB0B5C9FD7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3645-A0E0-48B3-8651-BDAA665AB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DEF3-090C-4D09-B1BE-A0E916F5D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346E-A6BF-4C63-9DEC-7FDBE7152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B3CE-E10E-466D-937D-297D8305E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DC103-CBD5-4B67-A82A-19A01B778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2A020-5797-4874-845B-059A7F245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33DE4-EB0F-43E4-9DA2-FED73D17C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E100F-C27C-449A-BEBA-78F728592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9E797-B4E7-44F5-92B9-8CF5CFB64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FD771-35C0-4534-B9AF-DFEE315B3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97172-3D39-4823-AC16-A6137685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77DC-B666-4F29-9674-ECEDE4843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F888E-F435-43FA-B851-B575C103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B620F-3863-4B1B-B487-C38483A2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3B36C-EA97-48E6-AE3D-12CA3FB52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FEBF1-663C-4427-A8E2-BB03F29F2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46D62-F187-4FF5-A6AE-D1E90B783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E33DF-7942-4820-BAA7-67FBB4100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CF651-619D-4D36-9B65-3796F522F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24FB1-C3E7-4C15-8B41-B2D454E78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FA5B6-7E9A-44F5-B051-C25029D1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37357-56A6-4884-8655-1F842EC9A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DB70-0C47-4A71-A5E4-BEC5817DD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BB6F9-1603-46A1-96E6-DB7AD3A97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1A5D4-5159-4202-BF12-438FC6D0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64640-571E-4061-BD8E-A57BB815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F29D9-A80E-4245-870D-078225AE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0E887-E89D-43B6-A431-CE3039A92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B2DC0-AFC6-41AD-BA27-0BECF2AC3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0AC96-5961-492D-B2FC-A018B9C96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77607A-078E-44DB-A89A-24D2A1E37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920678-A20A-4ABC-9BBD-A511EC691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4125C4-1BA6-4E9F-98EE-22F989684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96B1-8C1A-4EEA-B02E-8A819BB09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9F521F-C83D-47C5-9B51-50DCB4FF4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DB3CB8-C045-4AF5-BF81-9A63E573B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04E16A-6712-454E-B572-9AC416747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AEDF6E-3A75-4D58-9E3D-E1346709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B1C57E-FAD2-42D1-B5D2-B955CE06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ACFA61-7961-426E-B6B9-C5F2C260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797432-2D09-4893-90E1-FDDFD8F3A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FE42EA-936E-466C-96E3-25988E1A3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4530E9-167D-4CE8-A5CA-90F052C92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A46B36-459B-4059-B603-3FAB3D900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7A64-0243-45A3-9978-7465539B3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5FFE84-73AE-4A95-9858-7D6AC3FC3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2A14F3-03AA-4286-B5E8-B7CD9DA30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64B449-2FB7-4A70-A603-25C3CF164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64947E-23BC-4EDE-A3F3-DC65B2CB0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53722D-F6A7-4097-8CAD-F220EAABC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40A663-3BE9-493B-80A9-5086B716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D36F71-A362-4F9B-B3FF-85F6777A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22A80B-1853-4158-BB3C-7B54F0D2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F34F51-72F2-486A-AEBC-31746DB63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B3A0C7-6F1D-4114-9760-B3ABEF683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C60A-1E7C-420E-862A-C46C57B39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D911CD-B645-41F6-B483-049F39F10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0409-B15C-4F5F-9028-17319152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CC7C-7FF8-4BA2-89B3-2B99E2A9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4A86-D881-4DF2-8963-1BC57234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222BE-7DDC-4F42-A445-F722D28E43D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B1F59-4B39-4534-9908-0442D48B832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43F81-62AE-4001-89A6-33A24A59D47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1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C37AB-7C92-4EEA-83F1-00F3E5E91BB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1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D2925-C241-4CDB-A75C-2EBA9841D42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30astr-mdou116.caduk.ru/DswMedia/reestrdokumentov-neobxodimyixdlyapredstavleniyarebenkavtpmpk.docx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5.png"/><Relationship Id="rId15" Type="http://schemas.openxmlformats.org/officeDocument/2006/relationships/image" Target="../media/image26.png"/><Relationship Id="rId16" Type="http://schemas.openxmlformats.org/officeDocument/2006/relationships/image" Target="../media/image27.png"/><Relationship Id="rId17" Type="http://schemas.openxmlformats.org/officeDocument/2006/relationships/image" Target="../media/image28.png"/><Relationship Id="rId18" Type="http://schemas.openxmlformats.org/officeDocument/2006/relationships/image" Target="../media/image29.png"/><Relationship Id="rId19" Type="http://schemas.openxmlformats.org/officeDocument/2006/relationships/image" Target="../media/image28.pn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Times New Roman"/>
              </a:rPr>
              <a:t>МУНИЦИПАЛЬНОЕ ДОШКОЛЬНОЕ ОБРАЗОВАТЕЛЬНОЕ УЧРЕЖДЕНИЕ</a:t>
            </a:r>
            <a:br>
              <a:rPr sz="1800"/>
            </a:br>
            <a:r>
              <a:rPr b="1" lang="en-US" sz="1800" spc="-1" strike="noStrike">
                <a:solidFill>
                  <a:srgbClr val="575f6d"/>
                </a:solidFill>
                <a:latin typeface="Times New Roman"/>
              </a:rPr>
              <a:t>«ДЕТСКИЙ САД КОМБИНИРОВАННОГО ВИДА №29» «АЛЕНУШКА»</a:t>
            </a:r>
            <a:br>
              <a:rPr sz="1800"/>
            </a:br>
            <a:br>
              <a:rPr sz="4000"/>
            </a:b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АБОТА ПСИХОЛОГО – МЕДИКО – ПЕДАГОГИЧЕСКОГО КОНСИЛИУМА В СИСТЕМЕ ДОШКОЛЬНОГО ОБРАЗОВАНИ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0" y="566064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5f6d"/>
                </a:solidFill>
                <a:latin typeface="Times New Roman"/>
              </a:rPr>
              <a:t>г. Сухой Лог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3c3e42"/>
                </a:solidFill>
                <a:latin typeface="Century Schoolbook"/>
              </a:rPr>
              <a:t>                 </a:t>
            </a:r>
            <a:endParaRPr b="0" lang="en-US" sz="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Виды  ПМПк в МДОУ: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68000" y="5373720"/>
            <a:ext cx="746748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entury Schoolbook"/>
              </a:rPr>
              <a:t>Заседания проводятся в присутствии родителей (законных представителей) или при наличии письменного договора о сопровождении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94" name="Текст 12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6121440" cy="376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829640" cy="108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Документы, регламентирующие деятельность</a:t>
            </a:r>
            <a:br>
              <a:rPr sz="2000"/>
            </a:b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 ПМПконсилиума ДОУ </a:t>
            </a:r>
            <a:br>
              <a:rPr sz="2000"/>
            </a:br>
            <a:r>
              <a:rPr b="0" lang="ru-RU" sz="1800" spc="-1" strike="noStrike">
                <a:solidFill>
                  <a:srgbClr val="575f6d"/>
                </a:solidFill>
                <a:latin typeface="Century Schoolbook"/>
              </a:rPr>
              <a:t>(нормативно - правовые)</a:t>
            </a:r>
            <a:r>
              <a:rPr b="1" lang="ru-RU" sz="2000" spc="-1" strike="noStrike">
                <a:solidFill>
                  <a:srgbClr val="575f6d"/>
                </a:solidFill>
                <a:latin typeface="Century Schoolbook"/>
              </a:rPr>
              <a:t>: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6840" y="1571400"/>
            <a:ext cx="7829640" cy="49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Инструктивное письмо Министерства образования РФ (приказ №27/901 – 6 от 27.03.2000 г.) «О психолого – медико – педагогическом консилиуме образовательных учреждений»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Конвенция ООН о правах ребенка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Закон РФ «Об образовании» от 10.07.1992 №3266-1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Федеральный закон об основных гарантиях прав ребенка в РФ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Семейный кодекс РФ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Устав МДОУ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Типовое положение о дошкольном образовательном учреждении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Договор между ДОУ и родителями (законными представителями) воспитанников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Перечень документов ПМПк </a:t>
            </a:r>
            <a:br>
              <a:rPr sz="1800"/>
            </a:br>
            <a:r>
              <a:rPr b="0" lang="ru-RU" sz="1800" spc="-1" strike="noStrike">
                <a:solidFill>
                  <a:srgbClr val="575f6d"/>
                </a:solidFill>
                <a:latin typeface="Century Schoolbook"/>
              </a:rPr>
              <a:t>(рабочая документация)</a:t>
            </a: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6840" y="907560"/>
            <a:ext cx="8147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риказ руководителя ДОУ о создании ПМПк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оложение о ПМПк ДОУ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Соглашение  с родителями воспитанников (договор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Журнал регистрации заседаний ПМПк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Журнал записи детей на ПМПк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Журнал регистрации заключений и рекомендаций специалистов и коллегиального заключения и рекомендаций ПМПк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Журнал сведений о динамике развития воспитанников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акет документов, необходимых для представления ребенка в ОТПМПК </a:t>
            </a:r>
            <a:r>
              <a:rPr b="0" lang="ru-RU" sz="18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Карта учета динамики развития ребенка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Индивидуальная программа сопровождения воспитанников с ОВЗ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Карта развития воспитанника (представления специалистов, коллегиальное заключение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График плановых заседаний ПМПк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Ежегодный отчет о работе ПМПк за учебный год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7467480" cy="23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grpSp>
        <p:nvGrpSpPr>
          <p:cNvPr id="300" name="Organization Chart 8"/>
          <p:cNvGrpSpPr/>
          <p:nvPr/>
        </p:nvGrpSpPr>
        <p:grpSpPr>
          <a:xfrm>
            <a:off x="447840" y="549360"/>
            <a:ext cx="8155800" cy="5849280"/>
            <a:chOff x="447840" y="549360"/>
            <a:chExt cx="8155800" cy="5849280"/>
          </a:xfrm>
        </p:grpSpPr>
        <p:cxnSp>
          <p:nvCxnSpPr>
            <p:cNvPr id="301" name="_s1028"/>
            <p:cNvCxnSpPr>
              <a:stCxn id="302" idx="0"/>
              <a:endCxn id="303" idx="2"/>
            </p:cNvCxnSpPr>
            <p:nvPr/>
          </p:nvCxnSpPr>
          <p:spPr>
            <a:xfrm flipV="1" rot="16200000">
              <a:off x="5526000" y="1887120"/>
              <a:ext cx="1170360" cy="3172680"/>
            </a:xfrm>
            <a:prstGeom prst="bentConnector3">
              <a:avLst>
                <a:gd name="adj1" fmla="val 148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4" name="_s1029"/>
            <p:cNvCxnSpPr>
              <a:stCxn id="305" idx="0"/>
              <a:endCxn id="303" idx="2"/>
            </p:cNvCxnSpPr>
            <p:nvPr/>
          </p:nvCxnSpPr>
          <p:spPr>
            <a:xfrm flipV="1" rot="16200000">
              <a:off x="4468680" y="2944440"/>
              <a:ext cx="1170360" cy="1058040"/>
            </a:xfrm>
            <a:prstGeom prst="bentConnector3">
              <a:avLst>
                <a:gd name="adj1" fmla="val 148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6" name="_s1030"/>
            <p:cNvCxnSpPr>
              <a:stCxn id="307" idx="0"/>
              <a:endCxn id="303" idx="2"/>
            </p:cNvCxnSpPr>
            <p:nvPr/>
          </p:nvCxnSpPr>
          <p:spPr>
            <a:xfrm flipH="1" flipV="1" rot="5400000">
              <a:off x="3412080" y="2944800"/>
              <a:ext cx="1170360" cy="1057680"/>
            </a:xfrm>
            <a:prstGeom prst="bentConnector3">
              <a:avLst>
                <a:gd name="adj1" fmla="val 148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8" name="_s1031"/>
            <p:cNvCxnSpPr>
              <a:stCxn id="309" idx="0"/>
              <a:endCxn id="303" idx="2"/>
            </p:cNvCxnSpPr>
            <p:nvPr/>
          </p:nvCxnSpPr>
          <p:spPr>
            <a:xfrm flipH="1" flipV="1" rot="5400000">
              <a:off x="2354760" y="1887480"/>
              <a:ext cx="1170360" cy="3172320"/>
            </a:xfrm>
            <a:prstGeom prst="bentConnector3">
              <a:avLst>
                <a:gd name="adj1" fmla="val 148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03" name="_s1032"/>
            <p:cNvSpPr/>
            <p:nvPr/>
          </p:nvSpPr>
          <p:spPr>
            <a:xfrm>
              <a:off x="3619440" y="549360"/>
              <a:ext cx="1812240" cy="2339640"/>
            </a:xfrm>
            <a:custGeom>
              <a:avLst/>
              <a:gdLst>
                <a:gd name="textAreaLeft" fmla="*/ 88200 w 1812240"/>
                <a:gd name="textAreaRight" fmla="*/ 1724040 w 1812240"/>
                <a:gd name="textAreaTop" fmla="*/ 88200 h 2339640"/>
                <a:gd name="textAreaBottom" fmla="*/ 2251440 h 2339640"/>
              </a:gdLst>
              <a:ahLst/>
              <a:rect l="textAreaLeft" t="textAreaTop" r="textAreaRight" b="textAreaBottom"/>
              <a:pathLst>
                <a:path w="21600" h="27885">
                  <a:moveTo>
                    <a:pt x="3600" y="0"/>
                  </a:moveTo>
                  <a:arcTo wR="3600" hR="3600" stAng="16200000" swAng="-5400000"/>
                  <a:lnTo>
                    <a:pt x="0" y="24285"/>
                  </a:lnTo>
                  <a:arcTo wR="3600" hR="3600" stAng="10800000" swAng="-5400000"/>
                  <a:lnTo>
                    <a:pt x="18000" y="278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0e6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Условны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категор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воспитанников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сопровождаем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специалистами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консилиум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_s1033"/>
            <p:cNvSpPr/>
            <p:nvPr/>
          </p:nvSpPr>
          <p:spPr>
            <a:xfrm>
              <a:off x="447840" y="4059000"/>
              <a:ext cx="1812240" cy="2339640"/>
            </a:xfrm>
            <a:custGeom>
              <a:avLst/>
              <a:gdLst>
                <a:gd name="textAreaLeft" fmla="*/ 88200 w 1812240"/>
                <a:gd name="textAreaRight" fmla="*/ 1724040 w 1812240"/>
                <a:gd name="textAreaTop" fmla="*/ 88200 h 2339640"/>
                <a:gd name="textAreaBottom" fmla="*/ 2251440 h 2339640"/>
              </a:gdLst>
              <a:ahLst/>
              <a:rect l="textAreaLeft" t="textAreaTop" r="textAreaRight" b="textAreaBottom"/>
              <a:pathLst>
                <a:path w="21600" h="27885">
                  <a:moveTo>
                    <a:pt x="3600" y="0"/>
                  </a:moveTo>
                  <a:arcTo wR="3600" hR="3600" stAng="16200000" swAng="-5400000"/>
                  <a:lnTo>
                    <a:pt x="0" y="24285"/>
                  </a:lnTo>
                  <a:arcTo wR="3600" hR="3600" stAng="10800000" swAng="-5400000"/>
                  <a:lnTo>
                    <a:pt x="18000" y="278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0e6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Дети,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не имеющие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предпосылок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к возникновению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проблем и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не имеющие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проблем в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развитии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в данный момент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_s1034"/>
            <p:cNvSpPr/>
            <p:nvPr/>
          </p:nvSpPr>
          <p:spPr>
            <a:xfrm>
              <a:off x="2562120" y="4059000"/>
              <a:ext cx="1812240" cy="2339640"/>
            </a:xfrm>
            <a:custGeom>
              <a:avLst/>
              <a:gdLst>
                <a:gd name="textAreaLeft" fmla="*/ 88200 w 1812240"/>
                <a:gd name="textAreaRight" fmla="*/ 1724040 w 1812240"/>
                <a:gd name="textAreaTop" fmla="*/ 88200 h 2339640"/>
                <a:gd name="textAreaBottom" fmla="*/ 2251440 h 2339640"/>
              </a:gdLst>
              <a:ahLst/>
              <a:rect l="textAreaLeft" t="textAreaTop" r="textAreaRight" b="textAreaBottom"/>
              <a:pathLst>
                <a:path w="21600" h="27885">
                  <a:moveTo>
                    <a:pt x="3600" y="0"/>
                  </a:moveTo>
                  <a:arcTo wR="3600" hR="3600" stAng="16200000" swAng="-5400000"/>
                  <a:lnTo>
                    <a:pt x="0" y="24285"/>
                  </a:lnTo>
                  <a:arcTo wR="3600" hR="3600" stAng="10800000" swAng="-5400000"/>
                  <a:lnTo>
                    <a:pt x="18000" y="278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0e6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Дети, имеющи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предпосылк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к возникновению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проблем в развитии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(медицинские,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социальные,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психолого-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педагогические,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факторы риска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_s1035"/>
            <p:cNvSpPr/>
            <p:nvPr/>
          </p:nvSpPr>
          <p:spPr>
            <a:xfrm>
              <a:off x="4676760" y="4059000"/>
              <a:ext cx="1812240" cy="2339640"/>
            </a:xfrm>
            <a:custGeom>
              <a:avLst/>
              <a:gdLst>
                <a:gd name="textAreaLeft" fmla="*/ 88200 w 1812240"/>
                <a:gd name="textAreaRight" fmla="*/ 1724040 w 1812240"/>
                <a:gd name="textAreaTop" fmla="*/ 88200 h 2339640"/>
                <a:gd name="textAreaBottom" fmla="*/ 2251440 h 2339640"/>
              </a:gdLst>
              <a:ahLst/>
              <a:rect l="textAreaLeft" t="textAreaTop" r="textAreaRight" b="textAreaBottom"/>
              <a:pathLst>
                <a:path w="21600" h="27885">
                  <a:moveTo>
                    <a:pt x="3600" y="0"/>
                  </a:moveTo>
                  <a:arcTo wR="3600" hR="3600" stAng="16200000" swAng="-5400000"/>
                  <a:lnTo>
                    <a:pt x="0" y="24285"/>
                  </a:lnTo>
                  <a:arcTo wR="3600" hR="3600" stAng="10800000" swAng="-5400000"/>
                  <a:lnTo>
                    <a:pt x="18000" y="278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0e6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Дети, имеющие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особенности в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развитии в данный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момент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_s1036"/>
            <p:cNvSpPr/>
            <p:nvPr/>
          </p:nvSpPr>
          <p:spPr>
            <a:xfrm>
              <a:off x="6791400" y="4059000"/>
              <a:ext cx="1812240" cy="2339640"/>
            </a:xfrm>
            <a:custGeom>
              <a:avLst/>
              <a:gdLst>
                <a:gd name="textAreaLeft" fmla="*/ 88200 w 1812240"/>
                <a:gd name="textAreaRight" fmla="*/ 1724040 w 1812240"/>
                <a:gd name="textAreaTop" fmla="*/ 88200 h 2339640"/>
                <a:gd name="textAreaBottom" fmla="*/ 2251440 h 2339640"/>
              </a:gdLst>
              <a:ahLst/>
              <a:rect l="textAreaLeft" t="textAreaTop" r="textAreaRight" b="textAreaBottom"/>
              <a:pathLst>
                <a:path w="21600" h="27885">
                  <a:moveTo>
                    <a:pt x="3600" y="0"/>
                  </a:moveTo>
                  <a:arcTo wR="3600" hR="3600" stAng="16200000" swAng="-5400000"/>
                  <a:lnTo>
                    <a:pt x="0" y="24285"/>
                  </a:lnTo>
                  <a:arcTo wR="3600" hR="3600" stAng="10800000" swAng="-5400000"/>
                  <a:lnTo>
                    <a:pt x="18000" y="278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0e6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Дети, имеющие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отклонения в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развити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Заголовок 3" descr=""/>
          <p:cNvPicPr/>
          <p:nvPr/>
        </p:nvPicPr>
        <p:blipFill>
          <a:blip r:embed="rId1"/>
          <a:stretch/>
        </p:blipFill>
        <p:spPr>
          <a:xfrm>
            <a:off x="317520" y="404640"/>
            <a:ext cx="8826480" cy="706680"/>
          </a:xfrm>
          <a:prstGeom prst="rect">
            <a:avLst/>
          </a:prstGeom>
          <a:ln w="0">
            <a:noFill/>
          </a:ln>
        </p:spPr>
      </p:pic>
      <p:grpSp>
        <p:nvGrpSpPr>
          <p:cNvPr id="311" name="Прямоугольник 7"/>
          <p:cNvGrpSpPr/>
          <p:nvPr/>
        </p:nvGrpSpPr>
        <p:grpSpPr>
          <a:xfrm>
            <a:off x="1258920" y="1125360"/>
            <a:ext cx="5913360" cy="487440"/>
            <a:chOff x="1258920" y="1125360"/>
            <a:chExt cx="5913360" cy="487440"/>
          </a:xfrm>
        </p:grpSpPr>
        <p:pic>
          <p:nvPicPr>
            <p:cNvPr id="312" name="Прямоугольник 7" descr=""/>
            <p:cNvPicPr/>
            <p:nvPr/>
          </p:nvPicPr>
          <p:blipFill>
            <a:blip r:embed="rId2"/>
            <a:stretch/>
          </p:blipFill>
          <p:spPr>
            <a:xfrm>
              <a:off x="1258920" y="1125360"/>
              <a:ext cx="591336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1289160" y="1158840"/>
              <a:ext cx="58579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nstantia"/>
                </a:rPr>
                <a:t>Запись на обследование ребёнка на консилиум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Блок-схема: процесс 13"/>
          <p:cNvGrpSpPr/>
          <p:nvPr/>
        </p:nvGrpSpPr>
        <p:grpSpPr>
          <a:xfrm>
            <a:off x="1258920" y="1773360"/>
            <a:ext cx="3627360" cy="768240"/>
            <a:chOff x="1258920" y="1773360"/>
            <a:chExt cx="3627360" cy="768240"/>
          </a:xfrm>
        </p:grpSpPr>
        <p:pic>
          <p:nvPicPr>
            <p:cNvPr id="315" name="Блок-схема: процесс 13" descr=""/>
            <p:cNvPicPr/>
            <p:nvPr/>
          </p:nvPicPr>
          <p:blipFill>
            <a:blip r:embed="rId3"/>
            <a:stretch/>
          </p:blipFill>
          <p:spPr>
            <a:xfrm>
              <a:off x="1258920" y="1773360"/>
              <a:ext cx="362736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1289160" y="1803600"/>
              <a:ext cx="357192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nstantia"/>
                </a:rPr>
                <a:t>Индивидуальное обследование ребёнка всеми специалистами консилиум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Блок-схема: процесс 14"/>
          <p:cNvGrpSpPr/>
          <p:nvPr/>
        </p:nvGrpSpPr>
        <p:grpSpPr>
          <a:xfrm>
            <a:off x="1258920" y="2708280"/>
            <a:ext cx="3627360" cy="773280"/>
            <a:chOff x="1258920" y="2708280"/>
            <a:chExt cx="3627360" cy="773280"/>
          </a:xfrm>
        </p:grpSpPr>
        <p:pic>
          <p:nvPicPr>
            <p:cNvPr id="318" name="Блок-схема: процесс 14" descr=""/>
            <p:cNvPicPr/>
            <p:nvPr/>
          </p:nvPicPr>
          <p:blipFill>
            <a:blip r:embed="rId4"/>
            <a:stretch/>
          </p:blipFill>
          <p:spPr>
            <a:xfrm>
              <a:off x="1258920" y="2708280"/>
              <a:ext cx="362736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1289160" y="2740320"/>
              <a:ext cx="357192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nstantia"/>
                </a:rPr>
                <a:t>Коллегиальное обсужд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Блок-схема: процесс 15"/>
          <p:cNvGrpSpPr/>
          <p:nvPr/>
        </p:nvGrpSpPr>
        <p:grpSpPr>
          <a:xfrm>
            <a:off x="5292720" y="2637000"/>
            <a:ext cx="3559320" cy="772920"/>
            <a:chOff x="5292720" y="2637000"/>
            <a:chExt cx="3559320" cy="772920"/>
          </a:xfrm>
        </p:grpSpPr>
        <p:pic>
          <p:nvPicPr>
            <p:cNvPr id="321" name="Блок-схема: процесс 15" descr=""/>
            <p:cNvPicPr/>
            <p:nvPr/>
          </p:nvPicPr>
          <p:blipFill>
            <a:blip r:embed="rId5"/>
            <a:stretch/>
          </p:blipFill>
          <p:spPr>
            <a:xfrm>
              <a:off x="5292720" y="2637000"/>
              <a:ext cx="3559320" cy="77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5324760" y="2668680"/>
              <a:ext cx="3500280" cy="71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nstantia"/>
                </a:rPr>
                <a:t>Направление ребёнка на ОТПМПК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nstantia"/>
                </a:rPr>
                <a:t>г. Сухой Ло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Блок-схема: процесс 16"/>
          <p:cNvGrpSpPr/>
          <p:nvPr/>
        </p:nvGrpSpPr>
        <p:grpSpPr>
          <a:xfrm>
            <a:off x="1547640" y="3716280"/>
            <a:ext cx="5913360" cy="701640"/>
            <a:chOff x="1547640" y="3716280"/>
            <a:chExt cx="5913360" cy="701640"/>
          </a:xfrm>
        </p:grpSpPr>
        <p:pic>
          <p:nvPicPr>
            <p:cNvPr id="324" name="Блок-схема: процесс 16" descr=""/>
            <p:cNvPicPr/>
            <p:nvPr/>
          </p:nvPicPr>
          <p:blipFill>
            <a:blip r:embed="rId6"/>
            <a:stretch/>
          </p:blipFill>
          <p:spPr>
            <a:xfrm>
              <a:off x="1547640" y="3716280"/>
              <a:ext cx="591336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1579320" y="3747960"/>
              <a:ext cx="58579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nstantia"/>
                </a:rPr>
                <a:t>Согласование деятельности специалистов по коррекционно-развивающей работ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Блок-схема: процесс 17"/>
          <p:cNvGrpSpPr/>
          <p:nvPr/>
        </p:nvGrpSpPr>
        <p:grpSpPr>
          <a:xfrm>
            <a:off x="2468520" y="4681440"/>
            <a:ext cx="3487680" cy="774720"/>
            <a:chOff x="2468520" y="4681440"/>
            <a:chExt cx="3487680" cy="774720"/>
          </a:xfrm>
        </p:grpSpPr>
        <p:pic>
          <p:nvPicPr>
            <p:cNvPr id="327" name="Блок-схема: процесс 17" descr=""/>
            <p:cNvPicPr/>
            <p:nvPr/>
          </p:nvPicPr>
          <p:blipFill>
            <a:blip r:embed="rId7"/>
            <a:stretch/>
          </p:blipFill>
          <p:spPr>
            <a:xfrm>
              <a:off x="2468520" y="4681440"/>
              <a:ext cx="348768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2500200" y="4714920"/>
              <a:ext cx="342900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nstantia"/>
                </a:rPr>
                <a:t>Реализация рекомендаций консилиум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Блок-схема: процесс 18"/>
          <p:cNvGrpSpPr/>
          <p:nvPr/>
        </p:nvGrpSpPr>
        <p:grpSpPr>
          <a:xfrm>
            <a:off x="2484360" y="5734080"/>
            <a:ext cx="3487680" cy="766800"/>
            <a:chOff x="2484360" y="5734080"/>
            <a:chExt cx="3487680" cy="766800"/>
          </a:xfrm>
        </p:grpSpPr>
        <p:pic>
          <p:nvPicPr>
            <p:cNvPr id="330" name="Блок-схема: процесс 18" descr=""/>
            <p:cNvPicPr/>
            <p:nvPr/>
          </p:nvPicPr>
          <p:blipFill>
            <a:blip r:embed="rId8"/>
            <a:stretch/>
          </p:blipFill>
          <p:spPr>
            <a:xfrm>
              <a:off x="2484360" y="5734080"/>
              <a:ext cx="348768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2516040" y="5764320"/>
              <a:ext cx="342900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nstantia"/>
                </a:rPr>
                <a:t>Оценка эффективности коррекционно-развивающей работ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Блок-схема: процесс 19"/>
          <p:cNvGrpSpPr/>
          <p:nvPr/>
        </p:nvGrpSpPr>
        <p:grpSpPr>
          <a:xfrm>
            <a:off x="328680" y="4681440"/>
            <a:ext cx="1695240" cy="1128960"/>
            <a:chOff x="328680" y="4681440"/>
            <a:chExt cx="1695240" cy="1128960"/>
          </a:xfrm>
        </p:grpSpPr>
        <p:pic>
          <p:nvPicPr>
            <p:cNvPr id="333" name="Блок-схема: процесс 19" descr=""/>
            <p:cNvPicPr/>
            <p:nvPr/>
          </p:nvPicPr>
          <p:blipFill>
            <a:blip r:embed="rId9"/>
            <a:stretch/>
          </p:blipFill>
          <p:spPr>
            <a:xfrm>
              <a:off x="328680" y="4681440"/>
              <a:ext cx="1695240" cy="112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 rot="16200000">
              <a:off x="642960" y="4429080"/>
              <a:ext cx="107136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nstantia"/>
                </a:rPr>
                <a:t>Индивидуальная коррекционная рабо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5" name="Блок-схема: процесс 20" descr=""/>
          <p:cNvPicPr/>
          <p:nvPr/>
        </p:nvPicPr>
        <p:blipFill>
          <a:blip r:embed="rId10"/>
          <a:stretch/>
        </p:blipFill>
        <p:spPr>
          <a:xfrm>
            <a:off x="6516720" y="4653000"/>
            <a:ext cx="1657440" cy="1128600"/>
          </a:xfrm>
          <a:prstGeom prst="rect">
            <a:avLst/>
          </a:prstGeom>
          <a:ln w="0">
            <a:noFill/>
          </a:ln>
        </p:spPr>
      </p:pic>
      <p:pic>
        <p:nvPicPr>
          <p:cNvPr id="336" name="Прямая со стрелкой 22" descr=""/>
          <p:cNvPicPr/>
          <p:nvPr/>
        </p:nvPicPr>
        <p:blipFill>
          <a:blip r:embed="rId11"/>
          <a:stretch/>
        </p:blipFill>
        <p:spPr>
          <a:xfrm>
            <a:off x="3492360" y="1557360"/>
            <a:ext cx="200160" cy="330120"/>
          </a:xfrm>
          <a:prstGeom prst="rect">
            <a:avLst/>
          </a:prstGeom>
          <a:ln w="0">
            <a:noFill/>
          </a:ln>
        </p:spPr>
      </p:pic>
      <p:pic>
        <p:nvPicPr>
          <p:cNvPr id="337" name="Прямая со стрелкой 24" descr=""/>
          <p:cNvPicPr/>
          <p:nvPr/>
        </p:nvPicPr>
        <p:blipFill>
          <a:blip r:embed="rId12"/>
          <a:stretch/>
        </p:blipFill>
        <p:spPr>
          <a:xfrm>
            <a:off x="3564000" y="2492280"/>
            <a:ext cx="199800" cy="328680"/>
          </a:xfrm>
          <a:prstGeom prst="rect">
            <a:avLst/>
          </a:prstGeom>
          <a:ln w="0">
            <a:noFill/>
          </a:ln>
        </p:spPr>
      </p:pic>
      <p:pic>
        <p:nvPicPr>
          <p:cNvPr id="338" name="Прямая со стрелкой 25" descr=""/>
          <p:cNvPicPr/>
          <p:nvPr/>
        </p:nvPicPr>
        <p:blipFill>
          <a:blip r:embed="rId13"/>
          <a:stretch/>
        </p:blipFill>
        <p:spPr>
          <a:xfrm>
            <a:off x="3564000" y="3429000"/>
            <a:ext cx="199800" cy="431640"/>
          </a:xfrm>
          <a:prstGeom prst="rect">
            <a:avLst/>
          </a:prstGeom>
          <a:ln w="0">
            <a:noFill/>
          </a:ln>
        </p:spPr>
      </p:pic>
      <p:pic>
        <p:nvPicPr>
          <p:cNvPr id="339" name="Прямая со стрелкой 27" descr=""/>
          <p:cNvPicPr/>
          <p:nvPr/>
        </p:nvPicPr>
        <p:blipFill>
          <a:blip r:embed="rId14"/>
          <a:stretch/>
        </p:blipFill>
        <p:spPr>
          <a:xfrm>
            <a:off x="4108320" y="4413240"/>
            <a:ext cx="201600" cy="396720"/>
          </a:xfrm>
          <a:prstGeom prst="rect">
            <a:avLst/>
          </a:prstGeom>
          <a:ln w="0">
            <a:noFill/>
          </a:ln>
        </p:spPr>
      </p:pic>
      <p:pic>
        <p:nvPicPr>
          <p:cNvPr id="340" name="Прямая со стрелкой 32" descr=""/>
          <p:cNvPicPr/>
          <p:nvPr/>
        </p:nvPicPr>
        <p:blipFill>
          <a:blip r:embed="rId15"/>
          <a:stretch/>
        </p:blipFill>
        <p:spPr>
          <a:xfrm>
            <a:off x="4140360" y="5445000"/>
            <a:ext cx="201600" cy="432000"/>
          </a:xfrm>
          <a:prstGeom prst="rect">
            <a:avLst/>
          </a:prstGeom>
          <a:ln w="0">
            <a:noFill/>
          </a:ln>
        </p:spPr>
      </p:pic>
      <p:pic>
        <p:nvPicPr>
          <p:cNvPr id="341" name="Прямая со стрелкой 37" descr=""/>
          <p:cNvPicPr/>
          <p:nvPr/>
        </p:nvPicPr>
        <p:blipFill>
          <a:blip r:embed="rId16"/>
          <a:stretch/>
        </p:blipFill>
        <p:spPr>
          <a:xfrm>
            <a:off x="4859280" y="2997360"/>
            <a:ext cx="504720" cy="215640"/>
          </a:xfrm>
          <a:prstGeom prst="rect">
            <a:avLst/>
          </a:prstGeom>
          <a:ln w="0">
            <a:noFill/>
          </a:ln>
        </p:spPr>
      </p:pic>
      <p:pic>
        <p:nvPicPr>
          <p:cNvPr id="342" name="Прямая со стрелкой 40" descr=""/>
          <p:cNvPicPr/>
          <p:nvPr/>
        </p:nvPicPr>
        <p:blipFill>
          <a:blip r:embed="rId17"/>
          <a:stretch/>
        </p:blipFill>
        <p:spPr>
          <a:xfrm>
            <a:off x="1895400" y="4968720"/>
            <a:ext cx="615960" cy="200160"/>
          </a:xfrm>
          <a:prstGeom prst="rect">
            <a:avLst/>
          </a:prstGeom>
          <a:ln w="0">
            <a:noFill/>
          </a:ln>
        </p:spPr>
      </p:pic>
      <p:pic>
        <p:nvPicPr>
          <p:cNvPr id="343" name="Прямая со стрелкой 43" descr=""/>
          <p:cNvPicPr/>
          <p:nvPr/>
        </p:nvPicPr>
        <p:blipFill>
          <a:blip r:embed="rId18"/>
          <a:stretch/>
        </p:blipFill>
        <p:spPr>
          <a:xfrm>
            <a:off x="5913360" y="4968720"/>
            <a:ext cx="755640" cy="200160"/>
          </a:xfrm>
          <a:prstGeom prst="rect">
            <a:avLst/>
          </a:prstGeom>
          <a:ln w="0">
            <a:noFill/>
          </a:ln>
        </p:spPr>
      </p:pic>
      <p:pic>
        <p:nvPicPr>
          <p:cNvPr id="344" name="Прямая со стрелкой 40" descr=""/>
          <p:cNvPicPr/>
          <p:nvPr/>
        </p:nvPicPr>
        <p:blipFill>
          <a:blip r:embed="rId19"/>
          <a:stretch/>
        </p:blipFill>
        <p:spPr>
          <a:xfrm>
            <a:off x="1908000" y="4941720"/>
            <a:ext cx="615960" cy="2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500"/>
                            </p:stCondLst>
                            <p:childTnLst>
                              <p:par>
                                <p:cTn id="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000"/>
                            </p:stCondLst>
                            <p:childTnLst>
                              <p:par>
                                <p:cTn id="5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500"/>
                            </p:stCondLst>
                            <p:childTnLst>
                              <p:par>
                                <p:cTn id="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0"/>
                            </p:stCondLst>
                            <p:childTnLst>
                              <p:par>
                                <p:cTn id="6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500"/>
                            </p:stCondLst>
                            <p:childTnLst>
                              <p:par>
                                <p:cTn id="10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67480" cy="73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575f6d"/>
                </a:solidFill>
                <a:latin typeface="Century Schoolbook"/>
              </a:rPr>
              <a:t>Направления деятельности специалистов ПМПк: </a:t>
            </a:r>
            <a:r>
              <a:rPr b="1" i="1" lang="ru-RU" sz="2300" spc="-1" strike="noStrike">
                <a:solidFill>
                  <a:srgbClr val="575f6d"/>
                </a:solidFill>
                <a:latin typeface="Century Schoolbook"/>
              </a:rPr>
              <a:t>консультативное</a:t>
            </a:r>
            <a:endParaRPr b="0" lang="en-US" sz="23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46" name="Picture 9" descr="IMG_0551"/>
          <p:cNvPicPr/>
          <p:nvPr/>
        </p:nvPicPr>
        <p:blipFill>
          <a:blip r:embed="rId1"/>
          <a:stretch/>
        </p:blipFill>
        <p:spPr>
          <a:xfrm>
            <a:off x="250920" y="1038240"/>
            <a:ext cx="3960720" cy="29685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0" descr="12122012026"/>
          <p:cNvPicPr/>
          <p:nvPr/>
        </p:nvPicPr>
        <p:blipFill>
          <a:blip r:embed="rId2"/>
          <a:stretch/>
        </p:blipFill>
        <p:spPr>
          <a:xfrm>
            <a:off x="4284720" y="1060560"/>
            <a:ext cx="4608360" cy="2892240"/>
          </a:xfrm>
          <a:prstGeom prst="rect">
            <a:avLst/>
          </a:prstGeom>
          <a:ln w="0">
            <a:noFill/>
          </a:ln>
        </p:spPr>
      </p:pic>
      <p:pic>
        <p:nvPicPr>
          <p:cNvPr id="348" name="Содержимое 6" descr="P1210147.JPG"/>
          <p:cNvPicPr/>
          <p:nvPr/>
        </p:nvPicPr>
        <p:blipFill>
          <a:blip r:embed="rId3"/>
          <a:stretch/>
        </p:blipFill>
        <p:spPr>
          <a:xfrm>
            <a:off x="2214720" y="3857760"/>
            <a:ext cx="4270320" cy="27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49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75f6d"/>
                </a:solidFill>
                <a:latin typeface="Century Schoolbook"/>
              </a:rPr>
              <a:t>Диагностическое направление</a:t>
            </a:r>
            <a:endParaRPr b="0" lang="en-US" sz="2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0" name="Picture 9" descr="IMG_2351"/>
          <p:cNvPicPr/>
          <p:nvPr/>
        </p:nvPicPr>
        <p:blipFill>
          <a:blip r:embed="rId1"/>
          <a:stretch/>
        </p:blipFill>
        <p:spPr>
          <a:xfrm>
            <a:off x="214200" y="1011240"/>
            <a:ext cx="3997440" cy="295740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0" descr="P1210146"/>
          <p:cNvPicPr/>
          <p:nvPr/>
        </p:nvPicPr>
        <p:blipFill>
          <a:blip r:embed="rId2"/>
          <a:stretch/>
        </p:blipFill>
        <p:spPr>
          <a:xfrm>
            <a:off x="4356000" y="1062000"/>
            <a:ext cx="4537080" cy="2917800"/>
          </a:xfrm>
          <a:prstGeom prst="rect">
            <a:avLst/>
          </a:prstGeom>
          <a:ln w="0">
            <a:noFill/>
          </a:ln>
        </p:spPr>
      </p:pic>
      <p:pic>
        <p:nvPicPr>
          <p:cNvPr id="352" name="Содержимое 6" descr="skf1F9.bmp"/>
          <p:cNvPicPr/>
          <p:nvPr/>
        </p:nvPicPr>
        <p:blipFill>
          <a:blip r:embed="rId3"/>
          <a:stretch/>
        </p:blipFill>
        <p:spPr>
          <a:xfrm>
            <a:off x="357120" y="3714840"/>
            <a:ext cx="3571920" cy="2905200"/>
          </a:xfrm>
          <a:prstGeom prst="rect">
            <a:avLst/>
          </a:prstGeom>
          <a:ln w="0">
            <a:noFill/>
          </a:ln>
        </p:spPr>
      </p:pic>
      <p:pic>
        <p:nvPicPr>
          <p:cNvPr id="353" name="Содержимое 9" descr="IMG_3009.JPG"/>
          <p:cNvPicPr/>
          <p:nvPr/>
        </p:nvPicPr>
        <p:blipFill>
          <a:blip r:embed="rId4"/>
          <a:stretch/>
        </p:blipFill>
        <p:spPr>
          <a:xfrm>
            <a:off x="4214880" y="3786120"/>
            <a:ext cx="3643200" cy="284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КОРРЕКЦИОННО – РАЗВИВАЮЩЕЕ НАПРАВЛЕНИЕ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5" name="Содержимое 6" descr="P130312_16.52.jpg"/>
          <p:cNvPicPr/>
          <p:nvPr/>
        </p:nvPicPr>
        <p:blipFill>
          <a:blip r:embed="rId1"/>
          <a:stretch/>
        </p:blipFill>
        <p:spPr>
          <a:xfrm>
            <a:off x="198360" y="947880"/>
            <a:ext cx="4016520" cy="3012840"/>
          </a:xfrm>
          <a:prstGeom prst="rect">
            <a:avLst/>
          </a:prstGeom>
          <a:ln w="0">
            <a:noFill/>
          </a:ln>
        </p:spPr>
      </p:pic>
      <p:pic>
        <p:nvPicPr>
          <p:cNvPr id="356" name="Содержимое 10" descr="P1260173.JPG"/>
          <p:cNvPicPr/>
          <p:nvPr/>
        </p:nvPicPr>
        <p:blipFill>
          <a:blip r:embed="rId2"/>
          <a:stretch/>
        </p:blipFill>
        <p:spPr>
          <a:xfrm>
            <a:off x="642960" y="3571920"/>
            <a:ext cx="4429080" cy="3112920"/>
          </a:xfrm>
          <a:prstGeom prst="rect">
            <a:avLst/>
          </a:prstGeom>
          <a:ln w="0">
            <a:noFill/>
          </a:ln>
        </p:spPr>
      </p:pic>
      <p:pic>
        <p:nvPicPr>
          <p:cNvPr id="357" name="Содержимое 15" descr="P1260178.JPG"/>
          <p:cNvPicPr/>
          <p:nvPr/>
        </p:nvPicPr>
        <p:blipFill>
          <a:blip r:embed="rId3"/>
          <a:stretch/>
        </p:blipFill>
        <p:spPr>
          <a:xfrm>
            <a:off x="4714920" y="785880"/>
            <a:ext cx="2576520" cy="3435120"/>
          </a:xfrm>
          <a:prstGeom prst="rect">
            <a:avLst/>
          </a:prstGeom>
          <a:ln w="0">
            <a:noFill/>
          </a:ln>
        </p:spPr>
      </p:pic>
      <p:pic>
        <p:nvPicPr>
          <p:cNvPr id="358" name="Содержимое 7" descr="P230412_10.35.jpg"/>
          <p:cNvPicPr/>
          <p:nvPr/>
        </p:nvPicPr>
        <p:blipFill>
          <a:blip r:embed="rId4"/>
          <a:stretch/>
        </p:blipFill>
        <p:spPr>
          <a:xfrm>
            <a:off x="5929200" y="3429000"/>
            <a:ext cx="291780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4674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ПРОСВЕТИТЕЛЬСКОЕ НАПРАВЛЕНИЕ 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0" name="Содержимое 7" descr="Фото0095.jpg"/>
          <p:cNvPicPr/>
          <p:nvPr/>
        </p:nvPicPr>
        <p:blipFill>
          <a:blip r:embed="rId1"/>
          <a:stretch/>
        </p:blipFill>
        <p:spPr>
          <a:xfrm>
            <a:off x="6000840" y="571680"/>
            <a:ext cx="2714400" cy="35766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1" descr="IMG_0554"/>
          <p:cNvPicPr/>
          <p:nvPr/>
        </p:nvPicPr>
        <p:blipFill>
          <a:blip r:embed="rId2"/>
          <a:stretch/>
        </p:blipFill>
        <p:spPr>
          <a:xfrm>
            <a:off x="163440" y="714240"/>
            <a:ext cx="4194360" cy="314352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2771640" y="3068640"/>
            <a:ext cx="3527640" cy="350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42976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МОЩНЫМ ПОТЕНЦИАЛОМ ДЛЯ ПОДДЕРЖКИ ИНСТИТУТА СЕМЬИ ОБЛАДАЕТ СИСТЕМА ДОШКОЛЬНОГО ОБРАЗОВАНИЯ, ПРИЗНАННАЯ СЕГОДНЯ ОДНИМ ИЗ КРУПНЕЙШИХ ЦЕНТРОВ РАЗВИТИЯ ОБРАЗОВАНИЯ В СТРАНЕ. ОДНОЙ ИЗ ФОРМ РАБОТЫ ДОШКОЛЬНОГО ОБРАЗОВАТЕЛЬНОГО УЧРЕЖДЕНИЯ ЯВЛЯЕТСЯ СОЦИАЛЬНО-ПСИХОЛОГИЧЕСКАЯ СЛУЖБА</a:t>
            </a:r>
            <a:endParaRPr b="0" lang="en-US" sz="1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4" name="Содержимое 4" descr="IMG_1207-3.JPG"/>
          <p:cNvPicPr/>
          <p:nvPr/>
        </p:nvPicPr>
        <p:blipFill>
          <a:blip r:embed="rId1"/>
          <a:stretch/>
        </p:blipFill>
        <p:spPr>
          <a:xfrm>
            <a:off x="468360" y="1700280"/>
            <a:ext cx="3357360" cy="478620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 txBox="1"/>
          <p:nvPr/>
        </p:nvSpPr>
        <p:spPr>
          <a:xfrm>
            <a:off x="4270320" y="1844280"/>
            <a:ext cx="36576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Социально – психологическая служба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МДОУ «ДСКВ №29» -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социальный педагог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entury Schoolbook"/>
              </a:rPr>
              <a:t>О.А. Печерица,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учитель – логопед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entury Schoolbook"/>
              </a:rPr>
              <a:t>Т.В. Комягина,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педагог – психолог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entury Schoolbook"/>
              </a:rPr>
              <a:t>М.А. Аксентьева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60280"/>
            <a:ext cx="746748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Состав ПМПконсилиума МДОУ №29: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284720" y="980640"/>
            <a:ext cx="3657600" cy="55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Лебедева Людмила Алексеевна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заведующий МДОУ, руководитель ПМПк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Аксентьева Мария Андреевна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едагог – психолог, председатель ПМПк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68" name="Picture 8" descr="zaveduyushaayalebedevala"/>
          <p:cNvPicPr/>
          <p:nvPr/>
        </p:nvPicPr>
        <p:blipFill>
          <a:blip r:embed="rId1"/>
          <a:stretch/>
        </p:blipFill>
        <p:spPr>
          <a:xfrm>
            <a:off x="1476360" y="907920"/>
            <a:ext cx="1917720" cy="28814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9" descr="Изображение5"/>
          <p:cNvPicPr/>
          <p:nvPr/>
        </p:nvPicPr>
        <p:blipFill>
          <a:blip r:embed="rId2"/>
          <a:stretch/>
        </p:blipFill>
        <p:spPr>
          <a:xfrm>
            <a:off x="1476360" y="4005360"/>
            <a:ext cx="1916280" cy="25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3708360" y="1600200"/>
            <a:ext cx="49672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Они говорят, что я не могу бегать, но я могу смотреть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Они говорят, что я не умею разговаривать, но я могу слушать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Они говорят, что я не могу строить, но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я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могу задействовать воображение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Они говорят, что я не могу многого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Но я могу подняться в горы …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Если ты поможешь мне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entury Schoolbook"/>
              </a:rPr>
              <a:t>Тара Никольсон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7" name="Текст 12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4032000" cy="30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Times New Roman"/>
              </a:rPr>
              <a:t>Спасибо за внимание!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6092640"/>
            <a:ext cx="74674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Материал подготовила: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педагог – психолог ДОУ «ДСКВ №29» Аксентьева М.А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0" name="Текст 12" descr=""/>
          <p:cNvPicPr/>
          <p:nvPr/>
        </p:nvPicPr>
        <p:blipFill>
          <a:blip r:embed="rId1"/>
          <a:stretch/>
        </p:blipFill>
        <p:spPr>
          <a:xfrm>
            <a:off x="1116000" y="1125360"/>
            <a:ext cx="6264360" cy="44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000" y="66960"/>
            <a:ext cx="746748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284720" y="549000"/>
            <a:ext cx="3657600" cy="59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Комягина Татьяна Вячеславовна –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учитель – логопед, член консилиум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Свита Людмила Илларионовна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– учитель – логопед, член консилиум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72" name="Picture 8" descr="IMG_1136"/>
          <p:cNvPicPr/>
          <p:nvPr/>
        </p:nvPicPr>
        <p:blipFill>
          <a:blip r:embed="rId1"/>
          <a:stretch/>
        </p:blipFill>
        <p:spPr>
          <a:xfrm>
            <a:off x="1476360" y="476280"/>
            <a:ext cx="2006640" cy="30099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9" descr="фото"/>
          <p:cNvPicPr/>
          <p:nvPr/>
        </p:nvPicPr>
        <p:blipFill>
          <a:blip r:embed="rId2"/>
          <a:stretch/>
        </p:blipFill>
        <p:spPr>
          <a:xfrm>
            <a:off x="1403280" y="3716280"/>
            <a:ext cx="2081160" cy="279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000" y="90360"/>
            <a:ext cx="746748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267080" y="765000"/>
            <a:ext cx="3657600" cy="570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Черныш Наталья Михайловна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старший воспитатель, член консилиум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Печерица Ольга Александровна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– социальный педагог, член консилиум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76" name="Picture 8" descr="starshaiyvospitatel-chernyishnm"/>
          <p:cNvPicPr/>
          <p:nvPr/>
        </p:nvPicPr>
        <p:blipFill>
          <a:blip r:embed="rId1"/>
          <a:stretch/>
        </p:blipFill>
        <p:spPr>
          <a:xfrm>
            <a:off x="1476360" y="765000"/>
            <a:ext cx="1859040" cy="27925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9" descr="IMG_1205"/>
          <p:cNvPicPr/>
          <p:nvPr/>
        </p:nvPicPr>
        <p:blipFill>
          <a:blip r:embed="rId2"/>
          <a:stretch/>
        </p:blipFill>
        <p:spPr>
          <a:xfrm>
            <a:off x="1476360" y="3716280"/>
            <a:ext cx="1862280" cy="279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-39960"/>
            <a:ext cx="746748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267080" y="620280"/>
            <a:ext cx="365760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тарушкина Ирина Геннадьевна –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музыкальный руководитель, член консилиум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Быкова Надежда Ивановна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–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музыкальный руководитель, член консилиум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80" name="Picture 8" descr="МУЗ"/>
          <p:cNvPicPr/>
          <p:nvPr/>
        </p:nvPicPr>
        <p:blipFill>
          <a:blip r:embed="rId1"/>
          <a:stretch/>
        </p:blipFill>
        <p:spPr>
          <a:xfrm>
            <a:off x="1353960" y="692280"/>
            <a:ext cx="1909800" cy="28652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9" descr="о"/>
          <p:cNvPicPr/>
          <p:nvPr/>
        </p:nvPicPr>
        <p:blipFill>
          <a:blip r:embed="rId2"/>
          <a:stretch/>
        </p:blipFill>
        <p:spPr>
          <a:xfrm>
            <a:off x="1341360" y="3716280"/>
            <a:ext cx="1938240" cy="27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50920" y="5157720"/>
            <a:ext cx="8424720" cy="14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6d19"/>
                </a:solidFill>
                <a:latin typeface="Times New Roman"/>
              </a:rPr>
              <a:t>Состав консилиума может варьироваться в зависимости от цели и задач консилиума, проблем ребёнка</a:t>
            </a:r>
            <a:br>
              <a:rPr sz="24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140360" y="475920"/>
            <a:ext cx="3657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Савина Людмила Алексеевна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старшая медсестра, член консилиума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entury Schoolbook"/>
              </a:rPr>
              <a:t>(по согласованию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Неустроева Лариса Владимировна –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фельдшер, член консилиума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entury Schoolbook"/>
              </a:rPr>
              <a:t>(по согласованию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84" name="Picture 7" descr="СТАРШАЯ МЕДСЕСТРА"/>
          <p:cNvPicPr/>
          <p:nvPr/>
        </p:nvPicPr>
        <p:blipFill>
          <a:blip r:embed="rId1"/>
          <a:stretch/>
        </p:blipFill>
        <p:spPr>
          <a:xfrm>
            <a:off x="611280" y="476280"/>
            <a:ext cx="292896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4000" y="836640"/>
            <a:ext cx="746748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Деятельность ПМПконсилиума ДОУ направлен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4000" y="2276280"/>
            <a:ext cx="74674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на решение задач, связанных со своевременным выявлением детей с проблемами в развитии, организацией психолого – медико – социального сопровождения их образования, исходя из индивидуальных особенностей развития каждого ребенк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41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575f6d"/>
                </a:solidFill>
                <a:latin typeface="Century Schoolbook"/>
              </a:rPr>
              <a:t>Из положения ПМПконсилиума МДОУ №29: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07552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Целью ПМПк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является обеспечение диагностико – коррекционного психолого – медико – социально - педагогического сопровождения воспитанников с отклонениями в развитии и (или) состоянии декомпенсации для получения ими качественного образования, исходя из реальных возможностей ДОУ и в соответствии с возрастными и индивидуальными особенностями и возможностями, состоянием соматического и нервно – психического здоровья воспитанников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89" name="Picture 7" descr="P1210141"/>
          <p:cNvPicPr/>
          <p:nvPr/>
        </p:nvPicPr>
        <p:blipFill>
          <a:blip r:embed="rId1"/>
          <a:stretch/>
        </p:blipFill>
        <p:spPr>
          <a:xfrm>
            <a:off x="2268360" y="3429000"/>
            <a:ext cx="4464360" cy="310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41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75f6d"/>
                </a:solidFill>
                <a:latin typeface="Century Schoolbook"/>
              </a:rPr>
              <a:t>Задачи ПМПконсилиума</a:t>
            </a:r>
            <a:r>
              <a:rPr b="0" lang="ru-RU" sz="2300" spc="-1" strike="noStrike">
                <a:solidFill>
                  <a:srgbClr val="575f6d"/>
                </a:solidFill>
                <a:latin typeface="Century Schoolbook"/>
              </a:rPr>
              <a:t>:</a:t>
            </a:r>
            <a:endParaRPr b="0" lang="en-US" sz="23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692280"/>
            <a:ext cx="8218440" cy="57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Своевременное выявление проблем в развитии детей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ыявление актуальных и резервных возможностей детей с ОВЗ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Анализ и организация исполнения рекомендаций психолого – медико – педагогических комиссий, бюро медико – социальной экспертизы, отдельных специалистов, обследовавших детей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Определение характера, продолжительности и эффективности оказываемой помощи в рамках имеющихся в МДОУ возможностей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одготовка и ведение документации, отражающей актуальное развитие воспитанника, динамику его состояния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Консультирование родителей (законных представителей), педагогических, медицинских и социальных работников, представляющих интересы ребенка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Участие в просветительской деятельности, направленной на повышение психолого – педагогической, медико – социальной и правовой культуры педагогов, родителей (законных представителей), детей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14:23:30Z</dcterms:created>
  <dc:creator>Admin</dc:creator>
  <dc:description/>
  <dc:language>en-US</dc:language>
  <cp:lastModifiedBy>user</cp:lastModifiedBy>
  <dcterms:modified xsi:type="dcterms:W3CDTF">2013-01-26T11:40:56Z</dcterms:modified>
  <cp:revision>185</cp:revision>
  <dc:subject/>
  <dc:title>Слайд 1</dc:title>
</cp:coreProperties>
</file>