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2.png" ContentType="image/png"/>
  <Override PartName="/ppt/media/image34.jpeg" ContentType="image/jpeg"/>
  <Override PartName="/ppt/media/image2.jpeg" ContentType="image/jpeg"/>
  <Override PartName="/ppt/media/image36.jpeg" ContentType="image/jpeg"/>
  <Override PartName="/ppt/media/image20.png" ContentType="image/png"/>
  <Override PartName="/ppt/media/image40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46.jpeg" ContentType="image/jpeg"/>
  <Override PartName="/ppt/media/image9.jpeg" ContentType="image/jpeg"/>
  <Override PartName="/ppt/media/image11.png" ContentType="image/png"/>
  <Override PartName="/ppt/media/image13.png" ContentType="image/png"/>
  <Override PartName="/ppt/media/image3.jpeg" ContentType="image/jpeg"/>
  <Override PartName="/ppt/media/image3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B30D-6EF9-4DCF-B123-C2F491F080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слож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BCF2-FB6A-405D-8F4F-3232E8613F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B29-778F-4EC6-91D5-82964462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4AD-E3C1-4937-94E7-129B4F0C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780-F86E-4A5B-8DDE-A78EFDAD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8BE-0932-4AB8-88F9-262307DD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7BCB-CEEC-451C-BEF0-47C008E2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C990-83E2-4BDE-8D9A-C40A35E3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C1B8-BC83-4E91-AA71-50CB2BF2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484B-71BA-4081-B1BC-649558A8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85A3-CF99-48C0-911F-73DBAED2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FB76-3C11-4AFB-B5B8-6E48D70A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3F1F-A9B2-449F-845C-2F9AF1DA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21F-8CE2-49AC-B81D-0B2DE96A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25CD-7F6D-48EA-A061-97137EDD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0C71-063A-4424-A9C2-BCB40E78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41D9-13FC-479C-AB6E-4C44D795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24FA-A430-487A-8BCA-52316E6E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1085-3B6C-4DFC-9B81-785990E6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62DF0-DD85-408B-B196-1B27D108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0AA8E-C50F-4DAC-AC02-9E0E3E24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F503D-8AB7-4D91-9023-4E2DF8E9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4CD82-1E72-4695-B98C-40AC988F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B952A-E774-4AF4-995D-86B68EF1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DA6-E3A5-4424-BE02-67B8CE04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5469-71C7-4307-9AA8-AAA04DC2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B112C-9062-44F9-AAE7-2DFC82B0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B386D-0A06-456F-85CE-9510090F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A55E3-DF39-4082-A416-646A2615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091F4-B8BC-41C0-8F57-BBA26CF6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D7832-0BC9-400F-B76A-6EDA76CD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878F9-D637-4BC9-9A05-7126EA6D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57764-6AE5-4764-B245-11129CE6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7600BE-D7E1-4E08-9970-572F4602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3ED93-5FBC-4430-AE51-979C95E5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23EA-0D57-4532-8095-C2DC9F92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74326-0110-4AE3-B47B-8FC08FBC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22BBA3-6738-45A6-A162-8E8B5C26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2B2E6F-706A-4144-9543-DBD75909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3E68B-9794-4B68-9021-A4EA9D6D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8F6A4-4803-42C4-BEBC-75251C73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1D8A8F-E843-4B1C-9277-D0D86F8C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A82AA-BE48-4530-B0B0-41E7CBB7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9EE48A-94A0-4555-B056-4FC08DDF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6CACB-478C-4EF6-A7D6-AE367B7C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E2E50-8E33-4D7C-B6FA-A78CC53B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BBD-14D3-4159-845B-A3429B9A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790C3-5065-4A9F-97B3-8CDE0A66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1CF71-709F-4CC8-9DA4-B08FE9D4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CFD1E-D38B-4D53-9CE9-0085A70C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8534C-FFC6-44CF-9681-6148DDA0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19F002-0055-450B-ACAF-10ED617C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E2DFE-BFBC-4C7E-BB83-910E43E8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FFA26D-A8AB-41EC-B3C6-AB6C673B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26637-9DB9-4499-BE56-E22D19A8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ADD7B2-EA7B-4C64-B4F5-AB6BF2CF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ADB2D-0384-4922-9429-8779AF49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E2D-4992-4796-B0F3-E57E3E19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6EF7E-A856-4A4E-A287-A0BDAD4A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1E0-FA79-4838-94F5-07086C28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083-5446-403B-A75E-20347725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04A-C0C6-4971-BC3E-193F7ACF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29B3-96FD-4AC8-B960-9EF14D6A59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A69E-78EC-4443-AF38-88C9E1B831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8803-BAA3-45D8-9DD7-BAFD116D09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B313-8F5D-498E-AC78-57CC45A84A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B673-7EBE-46C8-9ECD-804C3A12C8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30astr-mdou116.caduk.ru/DswMedia/reestrdokumentov-neobxodimyixdlyapredstavleniyarebenkavtpmpk.docx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28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Times New Roman"/>
              </a:rPr>
              <a:t>МУНИЦИПАЛЬНОЕ ДОШКОЛЬНОЕ ОБРАЗОВАТЕЛЬНОЕ УЧРЕЖДЕНИЕ</a:t>
            </a:r>
            <a:br>
              <a:rPr sz="1800"/>
            </a:br>
            <a:r>
              <a:rPr b="1" lang="en-US" sz="1800" spc="-1" strike="noStrike">
                <a:solidFill>
                  <a:srgbClr val="575f6d"/>
                </a:solidFill>
                <a:latin typeface="Times New Roman"/>
              </a:rPr>
              <a:t>«ДЕТСКИЙ САД КОМБИНИРОВАННОГО ВИДА №29» «АЛЕНУШКА»</a:t>
            </a:r>
            <a:br>
              <a:rPr sz="1800"/>
            </a:b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БОТА ПСИХОЛОГО – МЕДИКО – ПЕДАГОГИЧЕСКОГО КОНСИЛИУМА В СИСТЕМЕ ДОШКОЛЬНОГО ОБРАЗОВАНИ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0" y="5660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Times New Roman"/>
              </a:rPr>
              <a:t>г. Сухой Лог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c3e42"/>
                </a:solidFill>
                <a:latin typeface="Century Schoolbook"/>
              </a:rPr>
              <a:t>                 </a:t>
            </a: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иды  ПМПк в МДОУ: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000" y="5373720"/>
            <a:ext cx="74674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Заседания проводятся в присутствии родителей (законных представителей) или при наличии письменного договора о сопровожден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4" name="Текст 12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121440" cy="37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Документы, регламентирующие деятельность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 ПМПконсилиума ДОУ </a:t>
            </a:r>
            <a:br>
              <a:rPr sz="20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(нормативно - правовые)</a:t>
            </a: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7829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нструктивное письмо Министерства образования РФ (приказ №27/901 – 6 от 27.03.2000 г.) «О психолого – медико – педагогическом консилиуме 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онвенция ООН о правах ребенк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Закон РФ «Об образовании» от 10.07.1992 №3266-1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Федеральный закон об основных гарантиях прав ребенка в РФ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емейный кодекс РФ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став МДОУ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Типовое положение о дошкольном образовательном учреждени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Договор между ДОУ и родителями (законными представителями) воспитанник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еречень документов ПМПк 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(рабочая документация)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каз руководителя ДОУ о создании ПМП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ложение о ПМПк ДОУ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глашение  с родителями воспитанников (договор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урнал регистрации заседаний ПМП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урнал записи детей на ПМП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урнал регистрации заключений и рекомендаций специалистов и коллегиального заключения и рекомендаций ПМП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урнал сведений о динамике развития воспитанник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акет документов, необходимых для представления ребенка в ОТПМПК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рта учета динамики развития ребенк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ндивидуальная программа сопровождения воспитанников с ОВЗ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рта развития воспитанника (представления специалистов, коллегиальное заключение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рафик плановых заседаний ПМП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жегодный отчет о работе ПМПк за учебный год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300" name="Organization Chart 8"/>
          <p:cNvGrpSpPr/>
          <p:nvPr/>
        </p:nvGrpSpPr>
        <p:grpSpPr>
          <a:xfrm>
            <a:off x="447840" y="549360"/>
            <a:ext cx="8155800" cy="5849280"/>
            <a:chOff x="447840" y="549360"/>
            <a:chExt cx="8155800" cy="5849280"/>
          </a:xfrm>
        </p:grpSpPr>
        <p:cxnSp>
          <p:nvCxnSpPr>
            <p:cNvPr id="301" name="_s1028"/>
            <p:cNvCxnSpPr>
              <a:stCxn id="302" idx="0"/>
              <a:endCxn id="303" idx="2"/>
            </p:cNvCxnSpPr>
            <p:nvPr/>
          </p:nvCxnSpPr>
          <p:spPr>
            <a:xfrm flipV="1" rot="16200000">
              <a:off x="5526000" y="1887120"/>
              <a:ext cx="1170360" cy="3172680"/>
            </a:xfrm>
            <a:prstGeom prst="bentConnector3">
              <a:avLst>
                <a:gd name="adj1" fmla="val 148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4" name="_s1029"/>
            <p:cNvCxnSpPr>
              <a:stCxn id="305" idx="0"/>
              <a:endCxn id="303" idx="2"/>
            </p:cNvCxnSpPr>
            <p:nvPr/>
          </p:nvCxnSpPr>
          <p:spPr>
            <a:xfrm flipV="1" rot="16200000">
              <a:off x="4468680" y="2944440"/>
              <a:ext cx="1170360" cy="1058040"/>
            </a:xfrm>
            <a:prstGeom prst="bentConnector3">
              <a:avLst>
                <a:gd name="adj1" fmla="val 148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6" name="_s1030"/>
            <p:cNvCxnSpPr>
              <a:stCxn id="307" idx="0"/>
              <a:endCxn id="303" idx="2"/>
            </p:cNvCxnSpPr>
            <p:nvPr/>
          </p:nvCxnSpPr>
          <p:spPr>
            <a:xfrm flipH="1" flipV="1" rot="5400000">
              <a:off x="3412080" y="2944800"/>
              <a:ext cx="1170360" cy="1057680"/>
            </a:xfrm>
            <a:prstGeom prst="bentConnector3">
              <a:avLst>
                <a:gd name="adj1" fmla="val 148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8" name="_s1031"/>
            <p:cNvCxnSpPr>
              <a:stCxn id="309" idx="0"/>
              <a:endCxn id="303" idx="2"/>
            </p:cNvCxnSpPr>
            <p:nvPr/>
          </p:nvCxnSpPr>
          <p:spPr>
            <a:xfrm flipH="1" flipV="1" rot="5400000">
              <a:off x="2354760" y="1887480"/>
              <a:ext cx="1170360" cy="3172320"/>
            </a:xfrm>
            <a:prstGeom prst="bentConnector3">
              <a:avLst>
                <a:gd name="adj1" fmla="val 148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03" name="_s1032"/>
            <p:cNvSpPr/>
            <p:nvPr/>
          </p:nvSpPr>
          <p:spPr>
            <a:xfrm>
              <a:off x="3619440" y="549360"/>
              <a:ext cx="1812240" cy="2339640"/>
            </a:xfrm>
            <a:custGeom>
              <a:avLst/>
              <a:gdLst>
                <a:gd name="textAreaLeft" fmla="*/ 88200 w 1812240"/>
                <a:gd name="textAreaRight" fmla="*/ 1724040 w 1812240"/>
                <a:gd name="textAreaTop" fmla="*/ 88200 h 2339640"/>
                <a:gd name="textAreaBottom" fmla="*/ 2251440 h 2339640"/>
              </a:gdLst>
              <a:ahLst/>
              <a:rect l="textAreaLeft" t="textAreaTop" r="textAreaRight" b="textAreaBottom"/>
              <a:pathLst>
                <a:path w="21600" h="27885">
                  <a:moveTo>
                    <a:pt x="3600" y="0"/>
                  </a:moveTo>
                  <a:arcTo wR="3600" hR="3600" stAng="16200000" swAng="-5400000"/>
                  <a:lnTo>
                    <a:pt x="0" y="24285"/>
                  </a:lnTo>
                  <a:arcTo wR="3600" hR="3600" stAng="10800000" swAng="-5400000"/>
                  <a:lnTo>
                    <a:pt x="18000" y="278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0e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слов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тегор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спитанников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провождаем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пециалистам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нсилиу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1033"/>
            <p:cNvSpPr/>
            <p:nvPr/>
          </p:nvSpPr>
          <p:spPr>
            <a:xfrm>
              <a:off x="447840" y="4059000"/>
              <a:ext cx="1812240" cy="2339640"/>
            </a:xfrm>
            <a:custGeom>
              <a:avLst/>
              <a:gdLst>
                <a:gd name="textAreaLeft" fmla="*/ 88200 w 1812240"/>
                <a:gd name="textAreaRight" fmla="*/ 1724040 w 1812240"/>
                <a:gd name="textAreaTop" fmla="*/ 88200 h 2339640"/>
                <a:gd name="textAreaBottom" fmla="*/ 2251440 h 2339640"/>
              </a:gdLst>
              <a:ahLst/>
              <a:rect l="textAreaLeft" t="textAreaTop" r="textAreaRight" b="textAreaBottom"/>
              <a:pathLst>
                <a:path w="21600" h="27885">
                  <a:moveTo>
                    <a:pt x="3600" y="0"/>
                  </a:moveTo>
                  <a:arcTo wR="3600" hR="3600" stAng="16200000" swAng="-5400000"/>
                  <a:lnTo>
                    <a:pt x="0" y="24285"/>
                  </a:lnTo>
                  <a:arcTo wR="3600" hR="3600" stAng="10800000" swAng="-5400000"/>
                  <a:lnTo>
                    <a:pt x="18000" y="278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0e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Дети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е имеющ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едпосылок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 возникновению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облем 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е имеющ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облем 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развити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в данный момен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_s1034"/>
            <p:cNvSpPr/>
            <p:nvPr/>
          </p:nvSpPr>
          <p:spPr>
            <a:xfrm>
              <a:off x="2562120" y="4059000"/>
              <a:ext cx="1812240" cy="2339640"/>
            </a:xfrm>
            <a:custGeom>
              <a:avLst/>
              <a:gdLst>
                <a:gd name="textAreaLeft" fmla="*/ 88200 w 1812240"/>
                <a:gd name="textAreaRight" fmla="*/ 1724040 w 1812240"/>
                <a:gd name="textAreaTop" fmla="*/ 88200 h 2339640"/>
                <a:gd name="textAreaBottom" fmla="*/ 2251440 h 2339640"/>
              </a:gdLst>
              <a:ahLst/>
              <a:rect l="textAreaLeft" t="textAreaTop" r="textAreaRight" b="textAreaBottom"/>
              <a:pathLst>
                <a:path w="21600" h="27885">
                  <a:moveTo>
                    <a:pt x="3600" y="0"/>
                  </a:moveTo>
                  <a:arcTo wR="3600" hR="3600" stAng="16200000" swAng="-5400000"/>
                  <a:lnTo>
                    <a:pt x="0" y="24285"/>
                  </a:lnTo>
                  <a:arcTo wR="3600" hR="3600" stAng="10800000" swAng="-5400000"/>
                  <a:lnTo>
                    <a:pt x="18000" y="278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0e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ети, имеющ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редпосыл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 возникновению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роблем в развити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(медицинские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оциальные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сихолого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едагогические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факторы риска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1035"/>
            <p:cNvSpPr/>
            <p:nvPr/>
          </p:nvSpPr>
          <p:spPr>
            <a:xfrm>
              <a:off x="4676760" y="4059000"/>
              <a:ext cx="1812240" cy="2339640"/>
            </a:xfrm>
            <a:custGeom>
              <a:avLst/>
              <a:gdLst>
                <a:gd name="textAreaLeft" fmla="*/ 88200 w 1812240"/>
                <a:gd name="textAreaRight" fmla="*/ 1724040 w 1812240"/>
                <a:gd name="textAreaTop" fmla="*/ 88200 h 2339640"/>
                <a:gd name="textAreaBottom" fmla="*/ 2251440 h 2339640"/>
              </a:gdLst>
              <a:ahLst/>
              <a:rect l="textAreaLeft" t="textAreaTop" r="textAreaRight" b="textAreaBottom"/>
              <a:pathLst>
                <a:path w="21600" h="27885">
                  <a:moveTo>
                    <a:pt x="3600" y="0"/>
                  </a:moveTo>
                  <a:arcTo wR="3600" hR="3600" stAng="16200000" swAng="-5400000"/>
                  <a:lnTo>
                    <a:pt x="0" y="24285"/>
                  </a:lnTo>
                  <a:arcTo wR="3600" hR="3600" stAng="10800000" swAng="-5400000"/>
                  <a:lnTo>
                    <a:pt x="18000" y="278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0e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Дети, имеющ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особенности 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развитии в данны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момен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_s1036"/>
            <p:cNvSpPr/>
            <p:nvPr/>
          </p:nvSpPr>
          <p:spPr>
            <a:xfrm>
              <a:off x="6791400" y="4059000"/>
              <a:ext cx="1812240" cy="2339640"/>
            </a:xfrm>
            <a:custGeom>
              <a:avLst/>
              <a:gdLst>
                <a:gd name="textAreaLeft" fmla="*/ 88200 w 1812240"/>
                <a:gd name="textAreaRight" fmla="*/ 1724040 w 1812240"/>
                <a:gd name="textAreaTop" fmla="*/ 88200 h 2339640"/>
                <a:gd name="textAreaBottom" fmla="*/ 2251440 h 2339640"/>
              </a:gdLst>
              <a:ahLst/>
              <a:rect l="textAreaLeft" t="textAreaTop" r="textAreaRight" b="textAreaBottom"/>
              <a:pathLst>
                <a:path w="21600" h="27885">
                  <a:moveTo>
                    <a:pt x="3600" y="0"/>
                  </a:moveTo>
                  <a:arcTo wR="3600" hR="3600" stAng="16200000" swAng="-5400000"/>
                  <a:lnTo>
                    <a:pt x="0" y="24285"/>
                  </a:lnTo>
                  <a:arcTo wR="3600" hR="3600" stAng="10800000" swAng="-5400000"/>
                  <a:lnTo>
                    <a:pt x="18000" y="278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0e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Дети, имеющ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отклонения в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развит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3" descr=""/>
          <p:cNvPicPr/>
          <p:nvPr/>
        </p:nvPicPr>
        <p:blipFill>
          <a:blip r:embed="rId1"/>
          <a:stretch/>
        </p:blipFill>
        <p:spPr>
          <a:xfrm>
            <a:off x="317520" y="404640"/>
            <a:ext cx="8826480" cy="706680"/>
          </a:xfrm>
          <a:prstGeom prst="rect">
            <a:avLst/>
          </a:prstGeom>
          <a:ln w="0">
            <a:noFill/>
          </a:ln>
        </p:spPr>
      </p:pic>
      <p:grpSp>
        <p:nvGrpSpPr>
          <p:cNvPr id="311" name="Прямоугольник 7"/>
          <p:cNvGrpSpPr/>
          <p:nvPr/>
        </p:nvGrpSpPr>
        <p:grpSpPr>
          <a:xfrm>
            <a:off x="1258920" y="1125360"/>
            <a:ext cx="5913360" cy="487440"/>
            <a:chOff x="1258920" y="1125360"/>
            <a:chExt cx="5913360" cy="487440"/>
          </a:xfrm>
        </p:grpSpPr>
        <p:pic>
          <p:nvPicPr>
            <p:cNvPr id="312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1258920" y="1125360"/>
              <a:ext cx="59133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289160" y="1158840"/>
              <a:ext cx="5857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nstantia"/>
                </a:rPr>
                <a:t>Запись на обследование ребёнка на консилиу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Блок-схема: процесс 13"/>
          <p:cNvGrpSpPr/>
          <p:nvPr/>
        </p:nvGrpSpPr>
        <p:grpSpPr>
          <a:xfrm>
            <a:off x="1258920" y="1773360"/>
            <a:ext cx="3627360" cy="768240"/>
            <a:chOff x="1258920" y="1773360"/>
            <a:chExt cx="3627360" cy="768240"/>
          </a:xfrm>
        </p:grpSpPr>
        <p:pic>
          <p:nvPicPr>
            <p:cNvPr id="315" name="Блок-схема: процесс 13" descr=""/>
            <p:cNvPicPr/>
            <p:nvPr/>
          </p:nvPicPr>
          <p:blipFill>
            <a:blip r:embed="rId3"/>
            <a:stretch/>
          </p:blipFill>
          <p:spPr>
            <a:xfrm>
              <a:off x="1258920" y="1773360"/>
              <a:ext cx="36273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289160" y="1803600"/>
              <a:ext cx="35719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Индивидуальное обследование ребёнка всеми специалистами консилиу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Блок-схема: процесс 14"/>
          <p:cNvGrpSpPr/>
          <p:nvPr/>
        </p:nvGrpSpPr>
        <p:grpSpPr>
          <a:xfrm>
            <a:off x="1258920" y="2708280"/>
            <a:ext cx="3627360" cy="773280"/>
            <a:chOff x="1258920" y="2708280"/>
            <a:chExt cx="3627360" cy="773280"/>
          </a:xfrm>
        </p:grpSpPr>
        <p:pic>
          <p:nvPicPr>
            <p:cNvPr id="318" name="Блок-схема: процесс 14" descr=""/>
            <p:cNvPicPr/>
            <p:nvPr/>
          </p:nvPicPr>
          <p:blipFill>
            <a:blip r:embed="rId4"/>
            <a:stretch/>
          </p:blipFill>
          <p:spPr>
            <a:xfrm>
              <a:off x="1258920" y="2708280"/>
              <a:ext cx="36273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1289160" y="2740320"/>
              <a:ext cx="35719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Коллегиальное обсуж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Блок-схема: процесс 15"/>
          <p:cNvGrpSpPr/>
          <p:nvPr/>
        </p:nvGrpSpPr>
        <p:grpSpPr>
          <a:xfrm>
            <a:off x="5292720" y="2637000"/>
            <a:ext cx="3559320" cy="772920"/>
            <a:chOff x="5292720" y="2637000"/>
            <a:chExt cx="3559320" cy="772920"/>
          </a:xfrm>
        </p:grpSpPr>
        <p:pic>
          <p:nvPicPr>
            <p:cNvPr id="321" name="Блок-схема: процесс 15" descr=""/>
            <p:cNvPicPr/>
            <p:nvPr/>
          </p:nvPicPr>
          <p:blipFill>
            <a:blip r:embed="rId5"/>
            <a:stretch/>
          </p:blipFill>
          <p:spPr>
            <a:xfrm>
              <a:off x="5292720" y="2637000"/>
              <a:ext cx="35593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324760" y="2668680"/>
              <a:ext cx="350028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Направление ребёнка на ОТПМПК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г. Сухой Ло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Блок-схема: процесс 16"/>
          <p:cNvGrpSpPr/>
          <p:nvPr/>
        </p:nvGrpSpPr>
        <p:grpSpPr>
          <a:xfrm>
            <a:off x="1547640" y="3716280"/>
            <a:ext cx="5913360" cy="701640"/>
            <a:chOff x="1547640" y="3716280"/>
            <a:chExt cx="5913360" cy="701640"/>
          </a:xfrm>
        </p:grpSpPr>
        <p:pic>
          <p:nvPicPr>
            <p:cNvPr id="324" name="Блок-схема: процесс 16" descr=""/>
            <p:cNvPicPr/>
            <p:nvPr/>
          </p:nvPicPr>
          <p:blipFill>
            <a:blip r:embed="rId6"/>
            <a:stretch/>
          </p:blipFill>
          <p:spPr>
            <a:xfrm>
              <a:off x="1547640" y="3716280"/>
              <a:ext cx="59133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579320" y="3747960"/>
              <a:ext cx="5857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Согласование деятельности специалистов по коррекционно-развивающей работ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Блок-схема: процесс 17"/>
          <p:cNvGrpSpPr/>
          <p:nvPr/>
        </p:nvGrpSpPr>
        <p:grpSpPr>
          <a:xfrm>
            <a:off x="2468520" y="4681440"/>
            <a:ext cx="3487680" cy="774720"/>
            <a:chOff x="2468520" y="4681440"/>
            <a:chExt cx="3487680" cy="774720"/>
          </a:xfrm>
        </p:grpSpPr>
        <p:pic>
          <p:nvPicPr>
            <p:cNvPr id="327" name="Блок-схема: процесс 17" descr=""/>
            <p:cNvPicPr/>
            <p:nvPr/>
          </p:nvPicPr>
          <p:blipFill>
            <a:blip r:embed="rId7"/>
            <a:stretch/>
          </p:blipFill>
          <p:spPr>
            <a:xfrm>
              <a:off x="2468520" y="4681440"/>
              <a:ext cx="34876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500200" y="4714920"/>
              <a:ext cx="34290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Реализация рекомендаций консилиу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Блок-схема: процесс 18"/>
          <p:cNvGrpSpPr/>
          <p:nvPr/>
        </p:nvGrpSpPr>
        <p:grpSpPr>
          <a:xfrm>
            <a:off x="2484360" y="5734080"/>
            <a:ext cx="3487680" cy="766800"/>
            <a:chOff x="2484360" y="5734080"/>
            <a:chExt cx="3487680" cy="766800"/>
          </a:xfrm>
        </p:grpSpPr>
        <p:pic>
          <p:nvPicPr>
            <p:cNvPr id="330" name="Блок-схема: процесс 18" descr=""/>
            <p:cNvPicPr/>
            <p:nvPr/>
          </p:nvPicPr>
          <p:blipFill>
            <a:blip r:embed="rId8"/>
            <a:stretch/>
          </p:blipFill>
          <p:spPr>
            <a:xfrm>
              <a:off x="2484360" y="5734080"/>
              <a:ext cx="348768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516040" y="5764320"/>
              <a:ext cx="34290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Оценка эффективности коррекционно-развивающей 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Блок-схема: процесс 19"/>
          <p:cNvGrpSpPr/>
          <p:nvPr/>
        </p:nvGrpSpPr>
        <p:grpSpPr>
          <a:xfrm>
            <a:off x="328680" y="4681440"/>
            <a:ext cx="1695240" cy="1128960"/>
            <a:chOff x="328680" y="4681440"/>
            <a:chExt cx="1695240" cy="1128960"/>
          </a:xfrm>
        </p:grpSpPr>
        <p:pic>
          <p:nvPicPr>
            <p:cNvPr id="333" name="Блок-схема: процесс 19" descr=""/>
            <p:cNvPicPr/>
            <p:nvPr/>
          </p:nvPicPr>
          <p:blipFill>
            <a:blip r:embed="rId9"/>
            <a:stretch/>
          </p:blipFill>
          <p:spPr>
            <a:xfrm>
              <a:off x="328680" y="4681440"/>
              <a:ext cx="1695240" cy="11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 rot="16200000">
              <a:off x="642960" y="4429080"/>
              <a:ext cx="10713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Индивидуальная коррекционная раб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Блок-схема: процесс 20" descr=""/>
          <p:cNvPicPr/>
          <p:nvPr/>
        </p:nvPicPr>
        <p:blipFill>
          <a:blip r:embed="rId10"/>
          <a:stretch/>
        </p:blipFill>
        <p:spPr>
          <a:xfrm>
            <a:off x="6516720" y="4653000"/>
            <a:ext cx="1657440" cy="112860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ая со стрелкой 22" descr=""/>
          <p:cNvPicPr/>
          <p:nvPr/>
        </p:nvPicPr>
        <p:blipFill>
          <a:blip r:embed="rId11"/>
          <a:stretch/>
        </p:blipFill>
        <p:spPr>
          <a:xfrm>
            <a:off x="3492360" y="1557360"/>
            <a:ext cx="200160" cy="33012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ая со стрелкой 24" descr=""/>
          <p:cNvPicPr/>
          <p:nvPr/>
        </p:nvPicPr>
        <p:blipFill>
          <a:blip r:embed="rId12"/>
          <a:stretch/>
        </p:blipFill>
        <p:spPr>
          <a:xfrm>
            <a:off x="3564000" y="2492280"/>
            <a:ext cx="199800" cy="32868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ая со стрелкой 25" descr=""/>
          <p:cNvPicPr/>
          <p:nvPr/>
        </p:nvPicPr>
        <p:blipFill>
          <a:blip r:embed="rId13"/>
          <a:stretch/>
        </p:blipFill>
        <p:spPr>
          <a:xfrm>
            <a:off x="3564000" y="3429000"/>
            <a:ext cx="199800" cy="43164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ая со стрелкой 27" descr=""/>
          <p:cNvPicPr/>
          <p:nvPr/>
        </p:nvPicPr>
        <p:blipFill>
          <a:blip r:embed="rId14"/>
          <a:stretch/>
        </p:blipFill>
        <p:spPr>
          <a:xfrm>
            <a:off x="4108320" y="4413240"/>
            <a:ext cx="201600" cy="39672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ая со стрелкой 32" descr=""/>
          <p:cNvPicPr/>
          <p:nvPr/>
        </p:nvPicPr>
        <p:blipFill>
          <a:blip r:embed="rId15"/>
          <a:stretch/>
        </p:blipFill>
        <p:spPr>
          <a:xfrm>
            <a:off x="4140360" y="5445000"/>
            <a:ext cx="201600" cy="43200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ая со стрелкой 37" descr=""/>
          <p:cNvPicPr/>
          <p:nvPr/>
        </p:nvPicPr>
        <p:blipFill>
          <a:blip r:embed="rId16"/>
          <a:stretch/>
        </p:blipFill>
        <p:spPr>
          <a:xfrm>
            <a:off x="4859280" y="2997360"/>
            <a:ext cx="504720" cy="21564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ая со стрелкой 40" descr=""/>
          <p:cNvPicPr/>
          <p:nvPr/>
        </p:nvPicPr>
        <p:blipFill>
          <a:blip r:embed="rId17"/>
          <a:stretch/>
        </p:blipFill>
        <p:spPr>
          <a:xfrm>
            <a:off x="1895400" y="4968720"/>
            <a:ext cx="615960" cy="20016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ая со стрелкой 43" descr=""/>
          <p:cNvPicPr/>
          <p:nvPr/>
        </p:nvPicPr>
        <p:blipFill>
          <a:blip r:embed="rId18"/>
          <a:stretch/>
        </p:blipFill>
        <p:spPr>
          <a:xfrm>
            <a:off x="5913360" y="4968720"/>
            <a:ext cx="755640" cy="20016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ая со стрелкой 40" descr=""/>
          <p:cNvPicPr/>
          <p:nvPr/>
        </p:nvPicPr>
        <p:blipFill>
          <a:blip r:embed="rId19"/>
          <a:stretch/>
        </p:blipFill>
        <p:spPr>
          <a:xfrm>
            <a:off x="1908000" y="4941720"/>
            <a:ext cx="615960" cy="2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75f6d"/>
                </a:solidFill>
                <a:latin typeface="Century Schoolbook"/>
              </a:rPr>
              <a:t>Направления деятельности специалистов ПМПк: </a:t>
            </a:r>
            <a:r>
              <a:rPr b="1" i="1" lang="ru-RU" sz="2300" spc="-1" strike="noStrike">
                <a:solidFill>
                  <a:srgbClr val="575f6d"/>
                </a:solidFill>
                <a:latin typeface="Century Schoolbook"/>
              </a:rPr>
              <a:t>консультативное</a:t>
            </a: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46" name="Picture 9" descr="IMG_0551"/>
          <p:cNvPicPr/>
          <p:nvPr/>
        </p:nvPicPr>
        <p:blipFill>
          <a:blip r:embed="rId1"/>
          <a:stretch/>
        </p:blipFill>
        <p:spPr>
          <a:xfrm>
            <a:off x="250920" y="1038240"/>
            <a:ext cx="3960720" cy="2968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12122012026"/>
          <p:cNvPicPr/>
          <p:nvPr/>
        </p:nvPicPr>
        <p:blipFill>
          <a:blip r:embed="rId2"/>
          <a:stretch/>
        </p:blipFill>
        <p:spPr>
          <a:xfrm>
            <a:off x="4284720" y="1060560"/>
            <a:ext cx="4608360" cy="2892240"/>
          </a:xfrm>
          <a:prstGeom prst="rect">
            <a:avLst/>
          </a:prstGeom>
          <a:ln w="0">
            <a:noFill/>
          </a:ln>
        </p:spPr>
      </p:pic>
      <p:pic>
        <p:nvPicPr>
          <p:cNvPr id="348" name="Содержимое 6" descr="P1210147.JPG"/>
          <p:cNvPicPr/>
          <p:nvPr/>
        </p:nvPicPr>
        <p:blipFill>
          <a:blip r:embed="rId3"/>
          <a:stretch/>
        </p:blipFill>
        <p:spPr>
          <a:xfrm>
            <a:off x="2214720" y="3857760"/>
            <a:ext cx="427032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75f6d"/>
                </a:solidFill>
                <a:latin typeface="Century Schoolbook"/>
              </a:rPr>
              <a:t>Диагностическое направление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0" name="Picture 9" descr="IMG_2351"/>
          <p:cNvPicPr/>
          <p:nvPr/>
        </p:nvPicPr>
        <p:blipFill>
          <a:blip r:embed="rId1"/>
          <a:stretch/>
        </p:blipFill>
        <p:spPr>
          <a:xfrm>
            <a:off x="214200" y="1011240"/>
            <a:ext cx="3997440" cy="29574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P1210146"/>
          <p:cNvPicPr/>
          <p:nvPr/>
        </p:nvPicPr>
        <p:blipFill>
          <a:blip r:embed="rId2"/>
          <a:stretch/>
        </p:blipFill>
        <p:spPr>
          <a:xfrm>
            <a:off x="4356000" y="1062000"/>
            <a:ext cx="4537080" cy="2917800"/>
          </a:xfrm>
          <a:prstGeom prst="rect">
            <a:avLst/>
          </a:prstGeom>
          <a:ln w="0">
            <a:noFill/>
          </a:ln>
        </p:spPr>
      </p:pic>
      <p:pic>
        <p:nvPicPr>
          <p:cNvPr id="352" name="Содержимое 6" descr="skf1F9.bmp"/>
          <p:cNvPicPr/>
          <p:nvPr/>
        </p:nvPicPr>
        <p:blipFill>
          <a:blip r:embed="rId3"/>
          <a:stretch/>
        </p:blipFill>
        <p:spPr>
          <a:xfrm>
            <a:off x="357120" y="3714840"/>
            <a:ext cx="3571920" cy="2905200"/>
          </a:xfrm>
          <a:prstGeom prst="rect">
            <a:avLst/>
          </a:prstGeom>
          <a:ln w="0">
            <a:noFill/>
          </a:ln>
        </p:spPr>
      </p:pic>
      <p:pic>
        <p:nvPicPr>
          <p:cNvPr id="353" name="Содержимое 9" descr="IMG_3009.JPG"/>
          <p:cNvPicPr/>
          <p:nvPr/>
        </p:nvPicPr>
        <p:blipFill>
          <a:blip r:embed="rId4"/>
          <a:stretch/>
        </p:blipFill>
        <p:spPr>
          <a:xfrm>
            <a:off x="4214880" y="3786120"/>
            <a:ext cx="364320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КОРРЕКЦИОННО – РАЗВИВАЮЩЕЕ НАПРАВЛЕНИЕ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Содержимое 6" descr="P130312_16.52.jpg"/>
          <p:cNvPicPr/>
          <p:nvPr/>
        </p:nvPicPr>
        <p:blipFill>
          <a:blip r:embed="rId1"/>
          <a:stretch/>
        </p:blipFill>
        <p:spPr>
          <a:xfrm>
            <a:off x="198360" y="947880"/>
            <a:ext cx="4016520" cy="301284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10" descr="P1260173.JPG"/>
          <p:cNvPicPr/>
          <p:nvPr/>
        </p:nvPicPr>
        <p:blipFill>
          <a:blip r:embed="rId2"/>
          <a:stretch/>
        </p:blipFill>
        <p:spPr>
          <a:xfrm>
            <a:off x="642960" y="3571920"/>
            <a:ext cx="4429080" cy="3112920"/>
          </a:xfrm>
          <a:prstGeom prst="rect">
            <a:avLst/>
          </a:prstGeom>
          <a:ln w="0">
            <a:noFill/>
          </a:ln>
        </p:spPr>
      </p:pic>
      <p:pic>
        <p:nvPicPr>
          <p:cNvPr id="357" name="Содержимое 15" descr="P1260178.JPG"/>
          <p:cNvPicPr/>
          <p:nvPr/>
        </p:nvPicPr>
        <p:blipFill>
          <a:blip r:embed="rId3"/>
          <a:stretch/>
        </p:blipFill>
        <p:spPr>
          <a:xfrm>
            <a:off x="4714920" y="785880"/>
            <a:ext cx="2576520" cy="3435120"/>
          </a:xfrm>
          <a:prstGeom prst="rect">
            <a:avLst/>
          </a:prstGeom>
          <a:ln w="0">
            <a:noFill/>
          </a:ln>
        </p:spPr>
      </p:pic>
      <p:pic>
        <p:nvPicPr>
          <p:cNvPr id="358" name="Содержимое 7" descr="P230412_10.35.jpg"/>
          <p:cNvPicPr/>
          <p:nvPr/>
        </p:nvPicPr>
        <p:blipFill>
          <a:blip r:embed="rId4"/>
          <a:stretch/>
        </p:blipFill>
        <p:spPr>
          <a:xfrm>
            <a:off x="5929200" y="3429000"/>
            <a:ext cx="2917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РОСВЕТИТЕЛЬСКОЕ НАПРАВЛЕНИЕ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Содержимое 7" descr="Фото0095.jpg"/>
          <p:cNvPicPr/>
          <p:nvPr/>
        </p:nvPicPr>
        <p:blipFill>
          <a:blip r:embed="rId1"/>
          <a:stretch/>
        </p:blipFill>
        <p:spPr>
          <a:xfrm>
            <a:off x="6000840" y="571680"/>
            <a:ext cx="2714400" cy="3576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IMG_0554"/>
          <p:cNvPicPr/>
          <p:nvPr/>
        </p:nvPicPr>
        <p:blipFill>
          <a:blip r:embed="rId2"/>
          <a:stretch/>
        </p:blipFill>
        <p:spPr>
          <a:xfrm>
            <a:off x="163440" y="714240"/>
            <a:ext cx="4194360" cy="31435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2771640" y="3068640"/>
            <a:ext cx="352764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42976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ОЩНЫМ ПОТЕНЦИАЛОМ ДЛЯ ПОДДЕРЖКИ ИНСТИТУТА СЕМЬИ ОБЛАДАЕТ СИСТЕМА ДОШКОЛЬНОГО ОБРАЗОВАНИЯ, ПРИЗНАННАЯ СЕГОДНЯ ОДНИМ ИЗ КРУПНЕЙШИХ ЦЕНТРОВ РАЗВИТИЯ ОБРАЗОВАНИЯ В СТРАНЕ. ОДНОЙ ИЗ ФОРМ РАБОТЫ ДОШКОЛЬНОГО ОБРАЗОВАТЕЛЬНОГО УЧРЕЖДЕНИЯ ЯВЛЯЕТСЯ СОЦИАЛЬНО-ПСИХОЛОГИЧЕСКАЯ СЛУЖБА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Содержимое 4" descr="IMG_1207-3.JPG"/>
          <p:cNvPicPr/>
          <p:nvPr/>
        </p:nvPicPr>
        <p:blipFill>
          <a:blip r:embed="rId1"/>
          <a:stretch/>
        </p:blipFill>
        <p:spPr>
          <a:xfrm>
            <a:off x="468360" y="1700280"/>
            <a:ext cx="3357360" cy="47862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270320" y="1844280"/>
            <a:ext cx="3657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Социально – психологическая служба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МДОУ «ДСКВ №29» -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социальный педагог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О.А. Печерица,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учитель – логопед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Т.В. Комягина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педагог – психолог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М.А. Аксентьев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74674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остав ПМПконсилиума МДОУ №29: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284720" y="980640"/>
            <a:ext cx="3657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Лебедева Людмила Алексеевн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ведующий МДОУ, руководитель ПМПк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Аксентьева Мария Андреевн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дагог – психолог, председатель ПМПк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8" name="Picture 8" descr="zaveduyushaayalebedevala"/>
          <p:cNvPicPr/>
          <p:nvPr/>
        </p:nvPicPr>
        <p:blipFill>
          <a:blip r:embed="rId1"/>
          <a:stretch/>
        </p:blipFill>
        <p:spPr>
          <a:xfrm>
            <a:off x="1476360" y="907920"/>
            <a:ext cx="1917720" cy="2881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Изображение5"/>
          <p:cNvPicPr/>
          <p:nvPr/>
        </p:nvPicPr>
        <p:blipFill>
          <a:blip r:embed="rId2"/>
          <a:stretch/>
        </p:blipFill>
        <p:spPr>
          <a:xfrm>
            <a:off x="1476360" y="4005360"/>
            <a:ext cx="1916280" cy="25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708360" y="1600200"/>
            <a:ext cx="4967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Они говорят, что я не могу бегать, но я могу смотреть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Они говорят, что я не умею разговаривать, но я могу слушать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Они говорят, что я не могу строить, н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огу задействовать воображени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Они говорят, что я не могу многого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Но я могу подняться в горы 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Если ты поможешь мне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Тара Никольсон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Текст 12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Times New Roman"/>
              </a:rPr>
              <a:t>Спасибо за внимание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6092640"/>
            <a:ext cx="74674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Материал подготовила: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педагог – психолог ДОУ «ДСКВ №29» Аксентьева М.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Текст 12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264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66960"/>
            <a:ext cx="746748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84720" y="549000"/>
            <a:ext cx="365760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Комягина Татьяна Вячеславовна –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учитель – логопед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Свита Людмила Илларионовн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– учитель – логопед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2" name="Picture 8" descr="IMG_1136"/>
          <p:cNvPicPr/>
          <p:nvPr/>
        </p:nvPicPr>
        <p:blipFill>
          <a:blip r:embed="rId1"/>
          <a:stretch/>
        </p:blipFill>
        <p:spPr>
          <a:xfrm>
            <a:off x="1476360" y="476280"/>
            <a:ext cx="2006640" cy="300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фото"/>
          <p:cNvPicPr/>
          <p:nvPr/>
        </p:nvPicPr>
        <p:blipFill>
          <a:blip r:embed="rId2"/>
          <a:stretch/>
        </p:blipFill>
        <p:spPr>
          <a:xfrm>
            <a:off x="1403280" y="3716280"/>
            <a:ext cx="2081160" cy="27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9036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67080" y="765000"/>
            <a:ext cx="365760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Черныш Наталья Михайловн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старший воспитатель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Печерица Ольга Александровн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– социальный педагог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6" name="Picture 8" descr="starshaiyvospitatel-chernyishnm"/>
          <p:cNvPicPr/>
          <p:nvPr/>
        </p:nvPicPr>
        <p:blipFill>
          <a:blip r:embed="rId1"/>
          <a:stretch/>
        </p:blipFill>
        <p:spPr>
          <a:xfrm>
            <a:off x="1476360" y="765000"/>
            <a:ext cx="1859040" cy="2792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IMG_1205"/>
          <p:cNvPicPr/>
          <p:nvPr/>
        </p:nvPicPr>
        <p:blipFill>
          <a:blip r:embed="rId2"/>
          <a:stretch/>
        </p:blipFill>
        <p:spPr>
          <a:xfrm>
            <a:off x="1476360" y="3716280"/>
            <a:ext cx="18622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-3996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67080" y="620280"/>
            <a:ext cx="3657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рушкина Ирина Геннадьевна –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музыкальный руководитель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Быкова Надежда Ивановн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узыкальный руководитель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0" name="Picture 8" descr="МУЗ"/>
          <p:cNvPicPr/>
          <p:nvPr/>
        </p:nvPicPr>
        <p:blipFill>
          <a:blip r:embed="rId1"/>
          <a:stretch/>
        </p:blipFill>
        <p:spPr>
          <a:xfrm>
            <a:off x="1353960" y="692280"/>
            <a:ext cx="1909800" cy="2865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о"/>
          <p:cNvPicPr/>
          <p:nvPr/>
        </p:nvPicPr>
        <p:blipFill>
          <a:blip r:embed="rId2"/>
          <a:stretch/>
        </p:blipFill>
        <p:spPr>
          <a:xfrm>
            <a:off x="1341360" y="3716280"/>
            <a:ext cx="193824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920" y="5157720"/>
            <a:ext cx="842472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d19"/>
                </a:solidFill>
                <a:latin typeface="Times New Roman"/>
              </a:rPr>
              <a:t>Состав консилиума может варьироваться в зависимости от цели и задач консилиума, проблем ребёнка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140360" y="475920"/>
            <a:ext cx="3657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Савина Людмила Алексеевн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старшая медсестра, член консилиум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(по согласованию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Неустроева Лариса Владимировна –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фельдшер, член консилиум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(по согласованию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4" name="Picture 7" descr="СТАРШАЯ МЕДСЕСТРА"/>
          <p:cNvPicPr/>
          <p:nvPr/>
        </p:nvPicPr>
        <p:blipFill>
          <a:blip r:embed="rId1"/>
          <a:stretch/>
        </p:blipFill>
        <p:spPr>
          <a:xfrm>
            <a:off x="611280" y="476280"/>
            <a:ext cx="29289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74674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Деятельность ПМПконсилиума ДОУ направле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7467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на решение задач, связанных со своевременным выявлением детей с проблемами в развитии, организацией психолого – медико – социального сопровождения их образования, исходя из индивидуальных особенностей развития каждого ребен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Из положения ПМПконсилиума МДОУ №29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07552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Целью ПМПк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является обеспечение диагностико – коррекционного психолого – медико – социально - педагогического сопровождения воспитанников с отклонениями в развитии и (или) состоянии декомпенсации для получения ими качественного образования, исходя из реальных возможностей ДОУ и в соответствии с возрастными и индивидуальными особенностями и возможностями, состоянием соматического и нервно – психического здоровья воспитанник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9" name="Picture 7" descr="P1210141"/>
          <p:cNvPicPr/>
          <p:nvPr/>
        </p:nvPicPr>
        <p:blipFill>
          <a:blip r:embed="rId1"/>
          <a:stretch/>
        </p:blipFill>
        <p:spPr>
          <a:xfrm>
            <a:off x="2268360" y="3429000"/>
            <a:ext cx="446436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Задачи ПМПконсилиума</a:t>
            </a:r>
            <a:r>
              <a:rPr b="0" lang="ru-RU" sz="2300" spc="-1" strike="noStrike">
                <a:solidFill>
                  <a:srgbClr val="575f6d"/>
                </a:solidFill>
                <a:latin typeface="Century Schoolbook"/>
              </a:rPr>
              <a:t>:</a:t>
            </a: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821844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воевременное выявление проблем в развитии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ыявление актуальных и резервных возможностей детей с ОВЗ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нализ и организация исполнения рекомендаций психолого – медико – педагогических комиссий, бюро медико – социальной экспертизы, отдельных специалистов, обследовавших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пределение характера, продолжительности и эффективности оказываемой помощи в рамках имеющихся в МДОУ возможнос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дготовка и ведение документации, отражающей актуальное развитие воспитанника, динамику его состоя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онсультирование родителей (законных представителей), педагогических, медицинских и социальных работников, представляющих интересы ребенк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астие в просветительской деятельности, направленной на повышение психолого – педагогической, медико – социальной и правовой культуры педагогов, родителей (законных представителей),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4:23:30Z</dcterms:created>
  <dc:creator>Admin</dc:creator>
  <dc:description/>
  <dc:language>en-US</dc:language>
  <cp:lastModifiedBy>user</cp:lastModifiedBy>
  <dcterms:modified xsi:type="dcterms:W3CDTF">2013-01-26T11:40:56Z</dcterms:modified>
  <cp:revision>185</cp:revision>
  <dc:subject/>
  <dc:title>Слайд 1</dc:title>
</cp:coreProperties>
</file>