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F65-6F41-438D-939E-EF2EE527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B95-FB8B-4EF0-9DA5-C143DAA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99B-052E-420D-84A9-DB6BD5DD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000-906F-47E9-BC94-2098F83B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F69-D4EF-47B8-8ED6-845E38C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BC1-81CD-4418-800E-FCE2FFD6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B0C-7BFB-40D3-8487-0F20364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DD9-D534-4FB1-BBEE-6BB475F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2D3-2818-4C39-9148-987E6B10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A0B-FE02-4F5D-92D5-89007CE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06B-6E03-44F3-947D-C4CB5B9D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52A-494D-466D-BB01-EEBF291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313-B46D-450B-AEA2-F8404AA65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png"/><Relationship Id="rId5" Type="http://schemas.openxmlformats.org/officeDocument/2006/relationships/slide" Target="slide5.xml"/><Relationship Id="rId6" Type="http://schemas.openxmlformats.org/officeDocument/2006/relationships/image" Target="../media/image11.png"/><Relationship Id="rId7" Type="http://schemas.openxmlformats.org/officeDocument/2006/relationships/slide" Target="slide7.xml"/><Relationship Id="rId8" Type="http://schemas.openxmlformats.org/officeDocument/2006/relationships/image" Target="../media/image12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1"/>
          <p:cNvSpPr/>
          <p:nvPr/>
        </p:nvSpPr>
        <p:spPr>
          <a:xfrm>
            <a:off x="1428840" y="1428840"/>
            <a:ext cx="6715080" cy="2643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428920" y="157176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страну «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714680" y="4143240"/>
            <a:ext cx="628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ормирование элементарных математических представлений у детей подготовительной к школе группы в сюжетно-игровой ф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http://im0-tub-ru.yandex.net/i?id=e74b451f357a5be0374a4ad186daec44-53-144&amp;n=21"/>
          <p:cNvPicPr/>
          <p:nvPr/>
        </p:nvPicPr>
        <p:blipFill>
          <a:blip r:embed="rId1"/>
          <a:stretch/>
        </p:blipFill>
        <p:spPr>
          <a:xfrm>
            <a:off x="108000" y="830160"/>
            <a:ext cx="885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Fairy-Tale Wallpapers &quot; Обои для рабочего стола, скачать картинки на рабочий стол, обои на рабочий стол бесплатно, бесплатные ка"/>
          <p:cNvPicPr/>
          <p:nvPr/>
        </p:nvPicPr>
        <p:blipFill>
          <a:blip r:embed="rId1"/>
          <a:stretch/>
        </p:blipFill>
        <p:spPr>
          <a:xfrm>
            <a:off x="-233280" y="195120"/>
            <a:ext cx="9377280" cy="6662880"/>
          </a:xfrm>
          <a:prstGeom prst="rect">
            <a:avLst/>
          </a:prstGeom>
          <a:ln w="0">
            <a:noFill/>
          </a:ln>
        </p:spPr>
      </p:pic>
      <p:pic>
        <p:nvPicPr>
          <p:cNvPr id="109" name="Звуки Природы - Звуки Чистой Природы. Шум Воды И Пение Птиц [с сайта www.ololo.fm]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3347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http://im3-tub-ru.yandex.net/i?id=570059ec5393eec956b6e210cf449238-87-144&amp;n=21"/>
          <p:cNvPicPr/>
          <p:nvPr/>
        </p:nvPicPr>
        <p:blipFill>
          <a:blip r:embed="rId1"/>
          <a:stretch/>
        </p:blipFill>
        <p:spPr>
          <a:xfrm>
            <a:off x="1547640" y="1413000"/>
            <a:ext cx="6518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ртинки дети занимаются физкультурой"/>
          <p:cNvPicPr/>
          <p:nvPr/>
        </p:nvPicPr>
        <p:blipFill>
          <a:blip r:embed="rId1"/>
          <a:stretch/>
        </p:blipFill>
        <p:spPr>
          <a:xfrm>
            <a:off x="-68400" y="773280"/>
            <a:ext cx="92124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im3-tub-ru.yandex.net/i?id=66c98fb9b2b2a4310f9dfe3be6829f91-14-144&amp;n=21"/>
          <p:cNvPicPr/>
          <p:nvPr/>
        </p:nvPicPr>
        <p:blipFill>
          <a:blip r:embed="rId1"/>
          <a:stretch/>
        </p:blipFill>
        <p:spPr>
          <a:xfrm>
            <a:off x="50760" y="692280"/>
            <a:ext cx="9093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Геометрические фигуры картинки для детей - Всё о фигуре здесь"/>
          <p:cNvPicPr/>
          <p:nvPr/>
        </p:nvPicPr>
        <p:blipFill>
          <a:blip r:embed="rId1"/>
          <a:stretch/>
        </p:blipFill>
        <p:spPr>
          <a:xfrm>
            <a:off x="0" y="0"/>
            <a:ext cx="98391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http://im3-tub-ru.yandex.net/i?id=dcf0b1268b58519e985abb4db53d82a5-139-144&amp;n=21"/>
          <p:cNvPicPr/>
          <p:nvPr/>
        </p:nvPicPr>
        <p:blipFill>
          <a:blip r:embed="rId1"/>
          <a:stretch/>
        </p:blipFill>
        <p:spPr>
          <a:xfrm>
            <a:off x="611280" y="681120"/>
            <a:ext cx="8281800" cy="5700600"/>
          </a:xfrm>
          <a:prstGeom prst="rect">
            <a:avLst/>
          </a:prstGeom>
          <a:ln w="0">
            <a:noFill/>
          </a:ln>
        </p:spPr>
      </p:pic>
      <p:pic>
        <p:nvPicPr>
          <p:cNvPr id="115" name="Zvuk-samoleta-The-New-Life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808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Детские картинки и сказочные иллюстрации(много) santa3"/>
          <p:cNvPicPr/>
          <p:nvPr/>
        </p:nvPicPr>
        <p:blipFill>
          <a:blip r:embed="rId1"/>
          <a:stretch/>
        </p:blipFill>
        <p:spPr>
          <a:xfrm>
            <a:off x="0" y="476280"/>
            <a:ext cx="90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im2-tub-ru.yandex.net/i?id=9759a9724b51651ea880fd2328cf55b1-55-144&amp;n=21"/>
          <p:cNvPicPr/>
          <p:nvPr/>
        </p:nvPicPr>
        <p:blipFill>
          <a:blip r:embed="rId1"/>
          <a:stretch/>
        </p:blipFill>
        <p:spPr>
          <a:xfrm>
            <a:off x="6183360" y="765000"/>
            <a:ext cx="27986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1-tub-ru.yandex.net/i?id=d79a8dc4f793f0c6945d168ddff5c622-23-144&amp;n=21"/>
          <p:cNvPicPr/>
          <p:nvPr/>
        </p:nvPicPr>
        <p:blipFill>
          <a:blip r:embed="rId2"/>
          <a:stretch/>
        </p:blipFill>
        <p:spPr>
          <a:xfrm>
            <a:off x="6262560" y="3716280"/>
            <a:ext cx="2357640" cy="250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ca271dd437e7f6df6b92d0e03337fab0-119-144&amp;n=21"/>
          <p:cNvPicPr/>
          <p:nvPr/>
        </p:nvPicPr>
        <p:blipFill>
          <a:blip r:embed="rId3"/>
          <a:stretch/>
        </p:blipFill>
        <p:spPr>
          <a:xfrm>
            <a:off x="409680" y="4087800"/>
            <a:ext cx="27669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Что такое геометрическая фигура не имеющая размеров - Всё о фигуре здесь"/>
          <p:cNvPicPr/>
          <p:nvPr/>
        </p:nvPicPr>
        <p:blipFill>
          <a:blip r:embed="rId4"/>
          <a:stretch/>
        </p:blipFill>
        <p:spPr>
          <a:xfrm>
            <a:off x="2843280" y="1376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аскраска - Домик. Бесплатно скачать раскраску Домик"/>
          <p:cNvPicPr/>
          <p:nvPr/>
        </p:nvPicPr>
        <p:blipFill>
          <a:blip r:embed="rId5"/>
          <a:stretch/>
        </p:blipFill>
        <p:spPr>
          <a:xfrm>
            <a:off x="392040" y="330120"/>
            <a:ext cx="24512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://im0-tub-ru.yandex.net/i?id=b5006282c9f49b89f8fff270ea359551-135-144&amp;n=21"/>
          <p:cNvPicPr/>
          <p:nvPr/>
        </p:nvPicPr>
        <p:blipFill>
          <a:blip r:embed="rId1"/>
          <a:stretch/>
        </p:blipFill>
        <p:spPr>
          <a:xfrm>
            <a:off x="250920" y="1382760"/>
            <a:ext cx="3951360" cy="2252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http://im3-tub-ru.yandex.net/i?id=dcf0b1268b58519e985abb4db53d82a5-139-144&amp;n=21"/>
          <p:cNvPicPr/>
          <p:nvPr/>
        </p:nvPicPr>
        <p:blipFill>
          <a:blip r:embed="rId2"/>
          <a:stretch/>
        </p:blipFill>
        <p:spPr>
          <a:xfrm>
            <a:off x="5292720" y="1322280"/>
            <a:ext cx="312588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im1-tub-ru.yandex.net/i?id=df6ef622db28862cabf0c0bbfa7cf79a-131-144&amp;n=21"/>
          <p:cNvPicPr/>
          <p:nvPr/>
        </p:nvPicPr>
        <p:blipFill>
          <a:blip r:embed="rId3"/>
          <a:stretch/>
        </p:blipFill>
        <p:spPr>
          <a:xfrm>
            <a:off x="250920" y="4103640"/>
            <a:ext cx="395136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http://im1-tub-ru.yandex.net/i?id=f489005b1cd448b3be8eaf0bd6b63bc3-60-144&amp;n=21"/>
          <p:cNvPicPr/>
          <p:nvPr/>
        </p:nvPicPr>
        <p:blipFill>
          <a:blip r:embed="rId4"/>
          <a:stretch/>
        </p:blipFill>
        <p:spPr>
          <a:xfrm>
            <a:off x="4643280" y="3635280"/>
            <a:ext cx="39909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48891449_cifruy.gif"/>
          <p:cNvPicPr/>
          <p:nvPr/>
        </p:nvPicPr>
        <p:blipFill>
          <a:blip r:embed="rId1"/>
          <a:srcRect l="18934" t="0" r="62139" b="52507"/>
          <a:stretch/>
        </p:blipFill>
        <p:spPr>
          <a:xfrm rot="447600">
            <a:off x="3311640" y="3706560"/>
            <a:ext cx="107136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48891449_cifruy.gif"/>
          <p:cNvPicPr/>
          <p:nvPr/>
        </p:nvPicPr>
        <p:blipFill>
          <a:blip r:embed="rId2"/>
          <a:srcRect l="83018" t="-4989" r="-477" b="50013"/>
          <a:stretch/>
        </p:blipFill>
        <p:spPr>
          <a:xfrm rot="995400">
            <a:off x="4562280" y="2814480"/>
            <a:ext cx="930240" cy="1571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48891449_cifruy.gif"/>
          <p:cNvPicPr/>
          <p:nvPr/>
        </p:nvPicPr>
        <p:blipFill>
          <a:blip r:embed="rId3"/>
          <a:srcRect l="0" t="52507" r="81073" b="-2494"/>
          <a:stretch/>
        </p:blipFill>
        <p:spPr>
          <a:xfrm rot="21305400">
            <a:off x="4352760" y="4686120"/>
            <a:ext cx="1068480" cy="1589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48891449_cifruy.gif"/>
          <p:cNvPicPr/>
          <p:nvPr/>
        </p:nvPicPr>
        <p:blipFill>
          <a:blip r:embed="rId4"/>
          <a:srcRect l="23301" t="50013" r="59225" b="-2494"/>
          <a:stretch/>
        </p:blipFill>
        <p:spPr>
          <a:xfrm rot="20958000">
            <a:off x="5924160" y="3152520"/>
            <a:ext cx="102384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48891449_cifruy.gif"/>
          <p:cNvPicPr/>
          <p:nvPr/>
        </p:nvPicPr>
        <p:blipFill>
          <a:blip r:embed="rId5"/>
          <a:srcRect l="45149" t="52507" r="35924" b="-2482"/>
          <a:stretch/>
        </p:blipFill>
        <p:spPr>
          <a:xfrm>
            <a:off x="6143760" y="485784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48891449_cifruy.gif"/>
          <p:cNvPicPr/>
          <p:nvPr/>
        </p:nvPicPr>
        <p:blipFill>
          <a:blip r:embed="rId6"/>
          <a:srcRect l="62630" t="50013" r="14076" b="0"/>
          <a:stretch/>
        </p:blipFill>
        <p:spPr>
          <a:xfrm rot="1385400">
            <a:off x="7478280" y="4473720"/>
            <a:ext cx="1284480" cy="1709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48891449_cifruy.gif"/>
          <p:cNvPicPr/>
          <p:nvPr/>
        </p:nvPicPr>
        <p:blipFill>
          <a:blip r:embed="rId7"/>
          <a:srcRect l="85931" t="52507" r="-477" b="0"/>
          <a:stretch/>
        </p:blipFill>
        <p:spPr>
          <a:xfrm rot="1129200">
            <a:off x="7557840" y="2695680"/>
            <a:ext cx="1020600" cy="15476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2" descr=""/>
          <p:cNvPicPr/>
          <p:nvPr/>
        </p:nvPicPr>
        <p:blipFill>
          <a:blip r:embed="rId8"/>
          <a:stretch/>
        </p:blipFill>
        <p:spPr>
          <a:xfrm>
            <a:off x="36360" y="1054080"/>
            <a:ext cx="8998200" cy="1712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3" descr="b1accebf05a5.jpg"/>
          <p:cNvPicPr/>
          <p:nvPr/>
        </p:nvPicPr>
        <p:blipFill>
          <a:blip r:embed="rId9"/>
          <a:srcRect l="0" t="378" r="80471" b="58050"/>
          <a:stretch/>
        </p:blipFill>
        <p:spPr>
          <a:xfrm rot="21024000">
            <a:off x="498600" y="3610080"/>
            <a:ext cx="1473120" cy="1827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4" descr="48891449_cifruy.gif"/>
          <p:cNvPicPr/>
          <p:nvPr/>
        </p:nvPicPr>
        <p:blipFill>
          <a:blip r:embed="rId10"/>
          <a:srcRect l="36408" t="0" r="37377" b="52507"/>
          <a:stretch/>
        </p:blipFill>
        <p:spPr>
          <a:xfrm>
            <a:off x="2143080" y="2857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48891449_cifruy.gif"/>
          <p:cNvPicPr/>
          <p:nvPr/>
        </p:nvPicPr>
        <p:blipFill>
          <a:blip r:embed="rId11"/>
          <a:srcRect l="62630" t="-4989" r="18450" b="52507"/>
          <a:stretch/>
        </p:blipFill>
        <p:spPr>
          <a:xfrm rot="21091800">
            <a:off x="2247840" y="4568760"/>
            <a:ext cx="1046160" cy="15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286160" y="6021360"/>
            <a:ext cx="45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Терентьева Светлан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c18839a12d0e2e4b6698d64f2e3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19aeda51190c9fcc3a24dedaf0392373.jpg"/>
          <p:cNvPicPr/>
          <p:nvPr/>
        </p:nvPicPr>
        <p:blipFill>
          <a:blip r:embed="rId2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200" y="5357880"/>
            <a:ext cx="2143080" cy="1071360"/>
          </a:xfrm>
          <a:prstGeom prst="rect">
            <a:avLst/>
          </a:prstGeom>
          <a:solidFill>
            <a:srgbClr val="10253f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Трапеция 4" descr=""/>
          <p:cNvPicPr/>
          <p:nvPr/>
        </p:nvPicPr>
        <p:blipFill>
          <a:blip r:embed="rId1"/>
          <a:stretch/>
        </p:blipFill>
        <p:spPr>
          <a:xfrm>
            <a:off x="7218360" y="4389480"/>
            <a:ext cx="1773360" cy="1262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428760" y="2928960"/>
            <a:ext cx="1428480" cy="1285920"/>
          </a:xfrm>
          <a:prstGeom prst="rect">
            <a:avLst/>
          </a:prstGeom>
          <a:solidFill>
            <a:srgbClr val="34ec4a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Равнобедренный треугольник 6"/>
          <p:cNvSpPr/>
          <p:nvPr/>
        </p:nvSpPr>
        <p:spPr>
          <a:xfrm>
            <a:off x="3143160" y="1143000"/>
            <a:ext cx="1714680" cy="1500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6037200" y="1839960"/>
            <a:ext cx="221292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6430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рта страны «МАТЕМА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endCxn id="50" idx="3"/>
          </p:cNvCxnSpPr>
          <p:nvPr/>
        </p:nvCxnSpPr>
        <p:spPr>
          <a:xfrm flipH="1" flipV="1">
            <a:off x="2356560" y="5893560"/>
            <a:ext cx="5287320" cy="12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V="1">
            <a:off x="2356920" y="5071680"/>
            <a:ext cx="50014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 flipV="1">
            <a:off x="1856880" y="3785760"/>
            <a:ext cx="55015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>
            <a:endCxn id="53" idx="3"/>
          </p:cNvCxnSpPr>
          <p:nvPr/>
        </p:nvCxnSpPr>
        <p:spPr>
          <a:xfrm flipV="1">
            <a:off x="1857240" y="2642400"/>
            <a:ext cx="2144160" cy="107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/>
          <p:nvPr/>
        </p:nvCxnSpPr>
        <p:spPr>
          <a:xfrm>
            <a:off x="4005360" y="2480760"/>
            <a:ext cx="2048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1" name="Управляющая кнопка: далее 15"/>
          <p:cNvGrpSpPr/>
          <p:nvPr/>
        </p:nvGrpSpPr>
        <p:grpSpPr>
          <a:xfrm>
            <a:off x="225360" y="6035760"/>
            <a:ext cx="755640" cy="395280"/>
            <a:chOff x="225360" y="6035760"/>
            <a:chExt cx="755640" cy="395280"/>
          </a:xfrm>
        </p:grpSpPr>
        <p:pic>
          <p:nvPicPr>
            <p:cNvPr id="62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225360" y="6035760"/>
              <a:ext cx="755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7"/>
            <p:cNvSpPr/>
            <p:nvPr/>
          </p:nvSpPr>
          <p:spPr>
            <a:xfrm>
              <a:off x="285840" y="60721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Управляющая кнопка: далее 16"/>
          <p:cNvGrpSpPr/>
          <p:nvPr/>
        </p:nvGrpSpPr>
        <p:grpSpPr>
          <a:xfrm>
            <a:off x="8083440" y="5175360"/>
            <a:ext cx="755640" cy="396720"/>
            <a:chOff x="8083440" y="5175360"/>
            <a:chExt cx="755640" cy="396720"/>
          </a:xfrm>
        </p:grpSpPr>
        <p:pic>
          <p:nvPicPr>
            <p:cNvPr id="65" name="Управляющая кнопка: далее 1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83440" y="517536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8143920" y="521496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Управляющая кнопка: далее 18"/>
          <p:cNvGrpSpPr/>
          <p:nvPr/>
        </p:nvGrpSpPr>
        <p:grpSpPr>
          <a:xfrm>
            <a:off x="438120" y="3822840"/>
            <a:ext cx="615960" cy="395280"/>
            <a:chOff x="438120" y="3822840"/>
            <a:chExt cx="615960" cy="395280"/>
          </a:xfrm>
        </p:grpSpPr>
        <p:pic>
          <p:nvPicPr>
            <p:cNvPr id="68" name="Управляющая кнопка: далее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38120" y="3822840"/>
              <a:ext cx="6159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3"/>
            <p:cNvSpPr/>
            <p:nvPr/>
          </p:nvSpPr>
          <p:spPr>
            <a:xfrm>
              <a:off x="500040" y="3857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Управляющая кнопка: далее 20"/>
          <p:cNvGrpSpPr/>
          <p:nvPr/>
        </p:nvGrpSpPr>
        <p:grpSpPr>
          <a:xfrm>
            <a:off x="3297240" y="2249640"/>
            <a:ext cx="689040" cy="396720"/>
            <a:chOff x="3297240" y="2249640"/>
            <a:chExt cx="689040" cy="396720"/>
          </a:xfrm>
        </p:grpSpPr>
        <p:pic>
          <p:nvPicPr>
            <p:cNvPr id="71" name="Управляющая кнопка: далее 2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297240" y="224964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6"/>
            <p:cNvSpPr/>
            <p:nvPr/>
          </p:nvSpPr>
          <p:spPr>
            <a:xfrm>
              <a:off x="3357720" y="2286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Рисунок 1" descr="http://im0-tub-ru.yandex.net/i?id=b5006282c9f49b89f8fff270ea359551-135-144&amp;n=21"/>
          <p:cNvPicPr/>
          <p:nvPr/>
        </p:nvPicPr>
        <p:blipFill>
          <a:blip r:embed="rId9"/>
          <a:stretch/>
        </p:blipFill>
        <p:spPr>
          <a:xfrm>
            <a:off x="6572160" y="5651640"/>
            <a:ext cx="1752840" cy="99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ПАРОВОЗИК ИЗ РОМАШКОВА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6272280"/>
          </a:xfrm>
          <a:prstGeom prst="rect">
            <a:avLst/>
          </a:prstGeom>
          <a:ln w="0">
            <a:noFill/>
          </a:ln>
        </p:spPr>
      </p:pic>
      <p:pic>
        <p:nvPicPr>
          <p:cNvPr id="75" name="mf_Parovozik_iz_Romashkovo_-_Pesenka_Parovozika_muzofon.com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7594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478620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йди соседей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00680" y="1214280"/>
          <a:ext cx="1357200" cy="524196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571840" y="1285920"/>
          <a:ext cx="1404720" cy="5143320"/>
        </p:xfrm>
        <a:graphic>
          <a:graphicData uri="http://schemas.openxmlformats.org/drawingml/2006/table">
            <a:tbl>
              <a:tblPr/>
              <a:tblGrid>
                <a:gridCol w="140472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214960" y="1285920"/>
          <a:ext cx="1405080" cy="5143320"/>
        </p:xfrm>
        <a:graphic>
          <a:graphicData uri="http://schemas.openxmlformats.org/drawingml/2006/table">
            <a:tbl>
              <a:tblPr/>
              <a:tblGrid>
                <a:gridCol w="140508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20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420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14200" y="400068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1420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57224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572240" y="392904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57224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57224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Управляющая кнопка: назад 14"/>
          <p:cNvGrpSpPr/>
          <p:nvPr/>
        </p:nvGrpSpPr>
        <p:grpSpPr>
          <a:xfrm>
            <a:off x="298440" y="676440"/>
            <a:ext cx="828720" cy="469800"/>
            <a:chOff x="298440" y="676440"/>
            <a:chExt cx="828720" cy="469800"/>
          </a:xfrm>
        </p:grpSpPr>
        <p:pic>
          <p:nvPicPr>
            <p:cNvPr id="89" name="Управляющая кнопка: назад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82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5"/>
            <p:cNvSpPr/>
            <p:nvPr/>
          </p:nvSpPr>
          <p:spPr>
            <a:xfrm>
              <a:off x="357120" y="71424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028E-008 L 0.26459 0.5629 E">
                                      <p:cBhvr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037 L -0.26458 0.5629 E"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0611E-006 L 0.25208 0.17831 E">
                                      <p:cBhvr>
                                        <p:cTn id="5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208 L -0.2566 0.17623 E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6531E-006 L 0.25192 -0.20976 E">
                                      <p:cBhvr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8 L -0.2566 -0.21022 E">
                                      <p:cBhvr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1157 L 0.24879 -0.58649 E">
                                      <p:cBhvr>
                                        <p:cTn id="7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67253E-006 L -0.26458 -0.5969 E"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00" name="Управляющая кнопка: назад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9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alibri"/>
              </a:rPr>
              <a:t>6    9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700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А 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924360" y="3716280"/>
            <a:ext cx="55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Наш детский сад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4320"/>
          </a:xfrm>
          <a:prstGeom prst="rect">
            <a:avLst/>
          </a:prstGeom>
          <a:ln w="0">
            <a:noFill/>
          </a:ln>
        </p:spPr>
      </p:pic>
      <p:pic>
        <p:nvPicPr>
          <p:cNvPr id="106" name="zvuki-prirodi-Muzika-les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2272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RePack by Diakov</cp:lastModifiedBy>
  <dcterms:modified xsi:type="dcterms:W3CDTF">2014-12-08T06:05:56Z</dcterms:modified>
  <cp:revision>59</cp:revision>
  <dc:subject/>
  <dc:title>Слайд 1</dc:title>
</cp:coreProperties>
</file>