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3.jpeg" ContentType="image/jpeg"/>
  <Override PartName="/ppt/media/image31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F47-6FC2-4159-845D-4CF7B264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6D9A-A422-4EE6-A982-570F4122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9EC0-3AF9-4A55-B8FA-45EC97C5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285F-A684-4119-ADC1-C8C35984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12B2-0B62-4151-B9BB-FF57CAEC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2FE8-7673-433F-AB79-47254AFF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B7B6-27B7-43A9-9E75-015C57C5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3C8C-C981-4C7E-B363-5373DA4E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EF24-60AA-42B6-BEDC-77FBA27F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1B23-5C2A-42AC-AE90-0C49A174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7F2A-ABC7-43AD-84B3-F688FEF7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B9FD-EC69-4D89-9061-839B477F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3E09-FE86-4438-B058-3F4DA594F1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4.xml"/><Relationship Id="rId4" Type="http://schemas.openxmlformats.org/officeDocument/2006/relationships/image" Target="../media/image10.png"/><Relationship Id="rId5" Type="http://schemas.openxmlformats.org/officeDocument/2006/relationships/slide" Target="slide5.xml"/><Relationship Id="rId6" Type="http://schemas.openxmlformats.org/officeDocument/2006/relationships/image" Target="../media/image11.png"/><Relationship Id="rId7" Type="http://schemas.openxmlformats.org/officeDocument/2006/relationships/slide" Target="slide7.xml"/><Relationship Id="rId8" Type="http://schemas.openxmlformats.org/officeDocument/2006/relationships/image" Target="../media/image12.pn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Овал 1"/>
          <p:cNvSpPr/>
          <p:nvPr/>
        </p:nvSpPr>
        <p:spPr>
          <a:xfrm>
            <a:off x="1428840" y="1428840"/>
            <a:ext cx="6715080" cy="2643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2428920" y="1571760"/>
            <a:ext cx="4786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утешеств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 страну «Математи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714680" y="4143240"/>
            <a:ext cx="6286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Формирование элементарных математических представлений у детей подготовительной к школе группы в сюжетно-игровой фор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http://im0-tub-ru.yandex.net/i?id=e74b451f357a5be0374a4ad186daec44-53-144&amp;n=21"/>
          <p:cNvPicPr/>
          <p:nvPr/>
        </p:nvPicPr>
        <p:blipFill>
          <a:blip r:embed="rId1"/>
          <a:stretch/>
        </p:blipFill>
        <p:spPr>
          <a:xfrm>
            <a:off x="108000" y="830160"/>
            <a:ext cx="88567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Fairy-Tale Wallpapers &quot; Обои для рабочего стола, скачать картинки на рабочий стол, обои на рабочий стол бесплатно, бесплатные ка"/>
          <p:cNvPicPr/>
          <p:nvPr/>
        </p:nvPicPr>
        <p:blipFill>
          <a:blip r:embed="rId1"/>
          <a:stretch/>
        </p:blipFill>
        <p:spPr>
          <a:xfrm>
            <a:off x="-233280" y="195120"/>
            <a:ext cx="9377280" cy="6662880"/>
          </a:xfrm>
          <a:prstGeom prst="rect">
            <a:avLst/>
          </a:prstGeom>
          <a:ln w="0">
            <a:noFill/>
          </a:ln>
        </p:spPr>
      </p:pic>
      <p:pic>
        <p:nvPicPr>
          <p:cNvPr id="109" name="Звуки Природы - Звуки Чистой Природы. Шум Воды И Пение Птиц [с сайта www.ololo.fm]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233472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4" descr="http://im3-tub-ru.yandex.net/i?id=570059ec5393eec956b6e210cf449238-87-144&amp;n=21"/>
          <p:cNvPicPr/>
          <p:nvPr/>
        </p:nvPicPr>
        <p:blipFill>
          <a:blip r:embed="rId1"/>
          <a:stretch/>
        </p:blipFill>
        <p:spPr>
          <a:xfrm>
            <a:off x="1547640" y="1413000"/>
            <a:ext cx="65185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Картинки дети занимаются физкультурой"/>
          <p:cNvPicPr/>
          <p:nvPr/>
        </p:nvPicPr>
        <p:blipFill>
          <a:blip r:embed="rId1"/>
          <a:stretch/>
        </p:blipFill>
        <p:spPr>
          <a:xfrm>
            <a:off x="-68400" y="773280"/>
            <a:ext cx="921240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http://im3-tub-ru.yandex.net/i?id=66c98fb9b2b2a4310f9dfe3be6829f91-14-144&amp;n=21"/>
          <p:cNvPicPr/>
          <p:nvPr/>
        </p:nvPicPr>
        <p:blipFill>
          <a:blip r:embed="rId1"/>
          <a:stretch/>
        </p:blipFill>
        <p:spPr>
          <a:xfrm>
            <a:off x="50760" y="692280"/>
            <a:ext cx="90932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Геометрические фигуры картинки для детей - Всё о фигуре здесь"/>
          <p:cNvPicPr/>
          <p:nvPr/>
        </p:nvPicPr>
        <p:blipFill>
          <a:blip r:embed="rId1"/>
          <a:stretch/>
        </p:blipFill>
        <p:spPr>
          <a:xfrm>
            <a:off x="0" y="0"/>
            <a:ext cx="983916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http://im3-tub-ru.yandex.net/i?id=dcf0b1268b58519e985abb4db53d82a5-139-144&amp;n=21"/>
          <p:cNvPicPr/>
          <p:nvPr/>
        </p:nvPicPr>
        <p:blipFill>
          <a:blip r:embed="rId1"/>
          <a:stretch/>
        </p:blipFill>
        <p:spPr>
          <a:xfrm>
            <a:off x="611280" y="681120"/>
            <a:ext cx="8281800" cy="5700600"/>
          </a:xfrm>
          <a:prstGeom prst="rect">
            <a:avLst/>
          </a:prstGeom>
          <a:ln w="0">
            <a:noFill/>
          </a:ln>
        </p:spPr>
      </p:pic>
      <p:pic>
        <p:nvPicPr>
          <p:cNvPr id="115" name="Zvuk-samoleta-The-New-Life(muzofon.com)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808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2" descr="Детские картинки и сказочные иллюстрации(много) santa3"/>
          <p:cNvPicPr/>
          <p:nvPr/>
        </p:nvPicPr>
        <p:blipFill>
          <a:blip r:embed="rId1"/>
          <a:stretch/>
        </p:blipFill>
        <p:spPr>
          <a:xfrm>
            <a:off x="0" y="476280"/>
            <a:ext cx="9036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1" descr="c18839a12d0e2e4b6698d64f2e3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" descr="19aeda51190c9fcc3a24dedaf0392373.jpg"/>
          <p:cNvPicPr/>
          <p:nvPr/>
        </p:nvPicPr>
        <p:blipFill>
          <a:blip r:embed="rId2"/>
          <a:stretch/>
        </p:blipFill>
        <p:spPr>
          <a:xfrm>
            <a:off x="4992840" y="-6480"/>
            <a:ext cx="2298600" cy="2657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http://im2-tub-ru.yandex.net/i?id=9759a9724b51651ea880fd2328cf55b1-55-144&amp;n=21"/>
          <p:cNvPicPr/>
          <p:nvPr/>
        </p:nvPicPr>
        <p:blipFill>
          <a:blip r:embed="rId1"/>
          <a:stretch/>
        </p:blipFill>
        <p:spPr>
          <a:xfrm>
            <a:off x="6183360" y="765000"/>
            <a:ext cx="2798640" cy="15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im1-tub-ru.yandex.net/i?id=d79a8dc4f793f0c6945d168ddff5c622-23-144&amp;n=21"/>
          <p:cNvPicPr/>
          <p:nvPr/>
        </p:nvPicPr>
        <p:blipFill>
          <a:blip r:embed="rId2"/>
          <a:stretch/>
        </p:blipFill>
        <p:spPr>
          <a:xfrm>
            <a:off x="6262560" y="3716280"/>
            <a:ext cx="2357640" cy="2508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ttp://im0-tub-ru.yandex.net/i?id=ca271dd437e7f6df6b92d0e03337fab0-119-144&amp;n=21"/>
          <p:cNvPicPr/>
          <p:nvPr/>
        </p:nvPicPr>
        <p:blipFill>
          <a:blip r:embed="rId3"/>
          <a:stretch/>
        </p:blipFill>
        <p:spPr>
          <a:xfrm>
            <a:off x="409680" y="4087800"/>
            <a:ext cx="2766960" cy="223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Что такое геометрическая фигура не имеющая размеров - Всё о фигуре здесь"/>
          <p:cNvPicPr/>
          <p:nvPr/>
        </p:nvPicPr>
        <p:blipFill>
          <a:blip r:embed="rId4"/>
          <a:stretch/>
        </p:blipFill>
        <p:spPr>
          <a:xfrm>
            <a:off x="2843280" y="137628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Раскраска - Домик. Бесплатно скачать раскраску Домик"/>
          <p:cNvPicPr/>
          <p:nvPr/>
        </p:nvPicPr>
        <p:blipFill>
          <a:blip r:embed="rId5"/>
          <a:stretch/>
        </p:blipFill>
        <p:spPr>
          <a:xfrm>
            <a:off x="392040" y="330120"/>
            <a:ext cx="24512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http://im0-tub-ru.yandex.net/i?id=b5006282c9f49b89f8fff270ea359551-135-144&amp;n=21"/>
          <p:cNvPicPr/>
          <p:nvPr/>
        </p:nvPicPr>
        <p:blipFill>
          <a:blip r:embed="rId1"/>
          <a:stretch/>
        </p:blipFill>
        <p:spPr>
          <a:xfrm>
            <a:off x="250920" y="1382760"/>
            <a:ext cx="3951360" cy="22525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http://im3-tub-ru.yandex.net/i?id=dcf0b1268b58519e985abb4db53d82a5-139-144&amp;n=21"/>
          <p:cNvPicPr/>
          <p:nvPr/>
        </p:nvPicPr>
        <p:blipFill>
          <a:blip r:embed="rId2"/>
          <a:stretch/>
        </p:blipFill>
        <p:spPr>
          <a:xfrm>
            <a:off x="5292720" y="1322280"/>
            <a:ext cx="3125880" cy="2394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" descr="http://im1-tub-ru.yandex.net/i?id=df6ef622db28862cabf0c0bbfa7cf79a-131-144&amp;n=21"/>
          <p:cNvPicPr/>
          <p:nvPr/>
        </p:nvPicPr>
        <p:blipFill>
          <a:blip r:embed="rId3"/>
          <a:stretch/>
        </p:blipFill>
        <p:spPr>
          <a:xfrm>
            <a:off x="250920" y="4103640"/>
            <a:ext cx="3951360" cy="24382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http://im1-tub-ru.yandex.net/i?id=f489005b1cd448b3be8eaf0bd6b63bc3-60-144&amp;n=21"/>
          <p:cNvPicPr/>
          <p:nvPr/>
        </p:nvPicPr>
        <p:blipFill>
          <a:blip r:embed="rId4"/>
          <a:stretch/>
        </p:blipFill>
        <p:spPr>
          <a:xfrm>
            <a:off x="4643280" y="3635280"/>
            <a:ext cx="399096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2" descr="48891449_cifruy.gif"/>
          <p:cNvPicPr/>
          <p:nvPr/>
        </p:nvPicPr>
        <p:blipFill>
          <a:blip r:embed="rId1"/>
          <a:srcRect l="18934" t="0" r="62139" b="52507"/>
          <a:stretch/>
        </p:blipFill>
        <p:spPr>
          <a:xfrm rot="447600">
            <a:off x="3311640" y="3706560"/>
            <a:ext cx="1071360" cy="1565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5" descr="48891449_cifruy.gif"/>
          <p:cNvPicPr/>
          <p:nvPr/>
        </p:nvPicPr>
        <p:blipFill>
          <a:blip r:embed="rId2"/>
          <a:srcRect l="83018" t="-4989" r="-477" b="50013"/>
          <a:stretch/>
        </p:blipFill>
        <p:spPr>
          <a:xfrm rot="995400">
            <a:off x="4562280" y="2814480"/>
            <a:ext cx="930240" cy="15717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6" descr="48891449_cifruy.gif"/>
          <p:cNvPicPr/>
          <p:nvPr/>
        </p:nvPicPr>
        <p:blipFill>
          <a:blip r:embed="rId3"/>
          <a:srcRect l="0" t="52507" r="81073" b="-2494"/>
          <a:stretch/>
        </p:blipFill>
        <p:spPr>
          <a:xfrm rot="21305400">
            <a:off x="4352760" y="4686120"/>
            <a:ext cx="1068480" cy="15890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48891449_cifruy.gif"/>
          <p:cNvPicPr/>
          <p:nvPr/>
        </p:nvPicPr>
        <p:blipFill>
          <a:blip r:embed="rId4"/>
          <a:srcRect l="23301" t="50013" r="59225" b="-2494"/>
          <a:stretch/>
        </p:blipFill>
        <p:spPr>
          <a:xfrm rot="20958000">
            <a:off x="5924160" y="3152520"/>
            <a:ext cx="1023840" cy="1584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48891449_cifruy.gif"/>
          <p:cNvPicPr/>
          <p:nvPr/>
        </p:nvPicPr>
        <p:blipFill>
          <a:blip r:embed="rId5"/>
          <a:srcRect l="45149" t="52507" r="35924" b="-2482"/>
          <a:stretch/>
        </p:blipFill>
        <p:spPr>
          <a:xfrm>
            <a:off x="6143760" y="4857840"/>
            <a:ext cx="1071360" cy="14288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9" descr="48891449_cifruy.gif"/>
          <p:cNvPicPr/>
          <p:nvPr/>
        </p:nvPicPr>
        <p:blipFill>
          <a:blip r:embed="rId6"/>
          <a:srcRect l="62630" t="50013" r="14076" b="0"/>
          <a:stretch/>
        </p:blipFill>
        <p:spPr>
          <a:xfrm rot="1385400">
            <a:off x="7478280" y="4473720"/>
            <a:ext cx="1284480" cy="1709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0" descr="48891449_cifruy.gif"/>
          <p:cNvPicPr/>
          <p:nvPr/>
        </p:nvPicPr>
        <p:blipFill>
          <a:blip r:embed="rId7"/>
          <a:srcRect l="85931" t="52507" r="-477" b="0"/>
          <a:stretch/>
        </p:blipFill>
        <p:spPr>
          <a:xfrm rot="1129200">
            <a:off x="7557840" y="2695680"/>
            <a:ext cx="1020600" cy="154764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12" descr=""/>
          <p:cNvPicPr/>
          <p:nvPr/>
        </p:nvPicPr>
        <p:blipFill>
          <a:blip r:embed="rId8"/>
          <a:stretch/>
        </p:blipFill>
        <p:spPr>
          <a:xfrm>
            <a:off x="36360" y="1054080"/>
            <a:ext cx="8998200" cy="17128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3" descr="b1accebf05a5.jpg"/>
          <p:cNvPicPr/>
          <p:nvPr/>
        </p:nvPicPr>
        <p:blipFill>
          <a:blip r:embed="rId9"/>
          <a:srcRect l="0" t="378" r="80471" b="58050"/>
          <a:stretch/>
        </p:blipFill>
        <p:spPr>
          <a:xfrm rot="21024000">
            <a:off x="498600" y="3610080"/>
            <a:ext cx="1473120" cy="18270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4" descr="48891449_cifruy.gif"/>
          <p:cNvPicPr/>
          <p:nvPr/>
        </p:nvPicPr>
        <p:blipFill>
          <a:blip r:embed="rId10"/>
          <a:srcRect l="36408" t="0" r="37377" b="52507"/>
          <a:stretch/>
        </p:blipFill>
        <p:spPr>
          <a:xfrm>
            <a:off x="2143080" y="2857680"/>
            <a:ext cx="1285920" cy="15001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5" descr="48891449_cifruy.gif"/>
          <p:cNvPicPr/>
          <p:nvPr/>
        </p:nvPicPr>
        <p:blipFill>
          <a:blip r:embed="rId11"/>
          <a:srcRect l="62630" t="-4989" r="18450" b="52507"/>
          <a:stretch/>
        </p:blipFill>
        <p:spPr>
          <a:xfrm rot="21091800">
            <a:off x="2247840" y="4568760"/>
            <a:ext cx="1046160" cy="15001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4286160" y="6021360"/>
            <a:ext cx="45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тель первой категории Терентьева Светлана Николае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c18839a12d0e2e4b6698d64f2e3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19aeda51190c9fcc3a24dedaf0392373.jpg"/>
          <p:cNvPicPr/>
          <p:nvPr/>
        </p:nvPicPr>
        <p:blipFill>
          <a:blip r:embed="rId2"/>
          <a:stretch/>
        </p:blipFill>
        <p:spPr>
          <a:xfrm>
            <a:off x="4992840" y="-6480"/>
            <a:ext cx="2298600" cy="2657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214200" y="5357880"/>
            <a:ext cx="2143080" cy="1071360"/>
          </a:xfrm>
          <a:prstGeom prst="rect">
            <a:avLst/>
          </a:prstGeom>
          <a:solidFill>
            <a:srgbClr val="10253f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Трапеция 4" descr=""/>
          <p:cNvPicPr/>
          <p:nvPr/>
        </p:nvPicPr>
        <p:blipFill>
          <a:blip r:embed="rId1"/>
          <a:stretch/>
        </p:blipFill>
        <p:spPr>
          <a:xfrm>
            <a:off x="7218360" y="4389480"/>
            <a:ext cx="1773360" cy="12621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5"/>
          <p:cNvSpPr/>
          <p:nvPr/>
        </p:nvSpPr>
        <p:spPr>
          <a:xfrm>
            <a:off x="428760" y="2928960"/>
            <a:ext cx="1428480" cy="1285920"/>
          </a:xfrm>
          <a:prstGeom prst="rect">
            <a:avLst/>
          </a:prstGeom>
          <a:solidFill>
            <a:srgbClr val="34ec4a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Равнобедренный треугольник 6"/>
          <p:cNvSpPr/>
          <p:nvPr/>
        </p:nvSpPr>
        <p:spPr>
          <a:xfrm>
            <a:off x="3143160" y="1143000"/>
            <a:ext cx="1714680" cy="1500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7"/>
          <p:cNvSpPr/>
          <p:nvPr/>
        </p:nvSpPr>
        <p:spPr>
          <a:xfrm>
            <a:off x="6037200" y="1839960"/>
            <a:ext cx="2212920" cy="1214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1643040" y="4287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арта страны «МАТЕМАТ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Прямая со стрелкой 12"/>
          <p:cNvCxnSpPr>
            <a:endCxn id="50" idx="3"/>
          </p:cNvCxnSpPr>
          <p:nvPr/>
        </p:nvCxnSpPr>
        <p:spPr>
          <a:xfrm flipH="1" flipV="1">
            <a:off x="2356560" y="5893560"/>
            <a:ext cx="5287320" cy="121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Прямая со стрелкой 17"/>
          <p:cNvCxnSpPr/>
          <p:nvPr/>
        </p:nvCxnSpPr>
        <p:spPr>
          <a:xfrm flipV="1">
            <a:off x="2356920" y="5071680"/>
            <a:ext cx="5001480" cy="714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Прямая со стрелкой 19"/>
          <p:cNvCxnSpPr/>
          <p:nvPr/>
        </p:nvCxnSpPr>
        <p:spPr>
          <a:xfrm flipH="1" flipV="1">
            <a:off x="1856880" y="3785760"/>
            <a:ext cx="5501520" cy="1215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9" name="Прямая со стрелкой 21"/>
          <p:cNvCxnSpPr>
            <a:endCxn id="53" idx="3"/>
          </p:cNvCxnSpPr>
          <p:nvPr/>
        </p:nvCxnSpPr>
        <p:spPr>
          <a:xfrm flipV="1">
            <a:off x="1857240" y="2642400"/>
            <a:ext cx="2144160" cy="1072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Прямая со стрелкой 23"/>
          <p:cNvCxnSpPr/>
          <p:nvPr/>
        </p:nvCxnSpPr>
        <p:spPr>
          <a:xfrm>
            <a:off x="4005360" y="2480760"/>
            <a:ext cx="20484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61" name="Управляющая кнопка: далее 15"/>
          <p:cNvGrpSpPr/>
          <p:nvPr/>
        </p:nvGrpSpPr>
        <p:grpSpPr>
          <a:xfrm>
            <a:off x="225360" y="6035760"/>
            <a:ext cx="755640" cy="395280"/>
            <a:chOff x="225360" y="6035760"/>
            <a:chExt cx="755640" cy="395280"/>
          </a:xfrm>
        </p:grpSpPr>
        <p:pic>
          <p:nvPicPr>
            <p:cNvPr id="62" name="Управляющая кнопка: далее 15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225360" y="6035760"/>
              <a:ext cx="75564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7"/>
            <p:cNvSpPr/>
            <p:nvPr/>
          </p:nvSpPr>
          <p:spPr>
            <a:xfrm>
              <a:off x="285840" y="6072120"/>
              <a:ext cx="642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Управляющая кнопка: далее 16"/>
          <p:cNvGrpSpPr/>
          <p:nvPr/>
        </p:nvGrpSpPr>
        <p:grpSpPr>
          <a:xfrm>
            <a:off x="8083440" y="5175360"/>
            <a:ext cx="755640" cy="396720"/>
            <a:chOff x="8083440" y="5175360"/>
            <a:chExt cx="755640" cy="396720"/>
          </a:xfrm>
        </p:grpSpPr>
        <p:pic>
          <p:nvPicPr>
            <p:cNvPr id="65" name="Управляющая кнопка: далее 1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8083440" y="5175360"/>
              <a:ext cx="7556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20"/>
            <p:cNvSpPr/>
            <p:nvPr/>
          </p:nvSpPr>
          <p:spPr>
            <a:xfrm>
              <a:off x="8143920" y="5214960"/>
              <a:ext cx="642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Управляющая кнопка: далее 18"/>
          <p:cNvGrpSpPr/>
          <p:nvPr/>
        </p:nvGrpSpPr>
        <p:grpSpPr>
          <a:xfrm>
            <a:off x="438120" y="3822840"/>
            <a:ext cx="615960" cy="395280"/>
            <a:chOff x="438120" y="3822840"/>
            <a:chExt cx="615960" cy="395280"/>
          </a:xfrm>
        </p:grpSpPr>
        <p:pic>
          <p:nvPicPr>
            <p:cNvPr id="68" name="Управляющая кнопка: далее 1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38120" y="3822840"/>
              <a:ext cx="6159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23"/>
            <p:cNvSpPr/>
            <p:nvPr/>
          </p:nvSpPr>
          <p:spPr>
            <a:xfrm>
              <a:off x="500040" y="3857760"/>
              <a:ext cx="5000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Управляющая кнопка: далее 20"/>
          <p:cNvGrpSpPr/>
          <p:nvPr/>
        </p:nvGrpSpPr>
        <p:grpSpPr>
          <a:xfrm>
            <a:off x="3297240" y="2249640"/>
            <a:ext cx="689040" cy="396720"/>
            <a:chOff x="3297240" y="2249640"/>
            <a:chExt cx="689040" cy="396720"/>
          </a:xfrm>
        </p:grpSpPr>
        <p:pic>
          <p:nvPicPr>
            <p:cNvPr id="71" name="Управляющая кнопка: далее 20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3297240" y="224964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26"/>
            <p:cNvSpPr/>
            <p:nvPr/>
          </p:nvSpPr>
          <p:spPr>
            <a:xfrm>
              <a:off x="3357720" y="2286000"/>
              <a:ext cx="5713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Рисунок 1" descr="http://im0-tub-ru.yandex.net/i?id=b5006282c9f49b89f8fff270ea359551-135-144&amp;n=21"/>
          <p:cNvPicPr/>
          <p:nvPr/>
        </p:nvPicPr>
        <p:blipFill>
          <a:blip r:embed="rId9"/>
          <a:stretch/>
        </p:blipFill>
        <p:spPr>
          <a:xfrm>
            <a:off x="6572160" y="5651640"/>
            <a:ext cx="1752840" cy="998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ПАРОВОЗИК ИЗ РОМАШКОВА"/>
          <p:cNvPicPr/>
          <p:nvPr/>
        </p:nvPicPr>
        <p:blipFill>
          <a:blip r:embed="rId1"/>
          <a:stretch/>
        </p:blipFill>
        <p:spPr>
          <a:xfrm>
            <a:off x="0" y="565200"/>
            <a:ext cx="9144000" cy="6272280"/>
          </a:xfrm>
          <a:prstGeom prst="rect">
            <a:avLst/>
          </a:prstGeom>
          <a:ln w="0">
            <a:noFill/>
          </a:ln>
        </p:spPr>
      </p:pic>
      <p:pic>
        <p:nvPicPr>
          <p:cNvPr id="75" name="mf_Parovozik_iz_Romashkovo_-_Pesenka_Parovozika_muzofon.com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7594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2"/>
          <p:cNvSpPr/>
          <p:nvPr/>
        </p:nvSpPr>
        <p:spPr>
          <a:xfrm>
            <a:off x="4786200" y="42876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Найди соседей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000680" y="1214280"/>
          <a:ext cx="1357200" cy="5241960"/>
        </p:xfrm>
        <a:graphic>
          <a:graphicData uri="http://schemas.openxmlformats.org/drawingml/2006/table">
            <a:tbl>
              <a:tblPr/>
              <a:tblGrid>
                <a:gridCol w="1357200"/>
              </a:tblGrid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17375e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17375e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17375e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17375e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2571840" y="1285920"/>
          <a:ext cx="1404720" cy="5143320"/>
        </p:xfrm>
        <a:graphic>
          <a:graphicData uri="http://schemas.openxmlformats.org/drawingml/2006/table">
            <a:tbl>
              <a:tblPr/>
              <a:tblGrid>
                <a:gridCol w="1404720"/>
              </a:tblGrid>
              <a:tr h="1285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214960" y="1285920"/>
          <a:ext cx="1405080" cy="5143320"/>
        </p:xfrm>
        <a:graphic>
          <a:graphicData uri="http://schemas.openxmlformats.org/drawingml/2006/table">
            <a:tbl>
              <a:tblPr/>
              <a:tblGrid>
                <a:gridCol w="1405080"/>
              </a:tblGrid>
              <a:tr h="1285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14200" y="1285920"/>
          <a:ext cx="1428840" cy="131112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14200" y="2643120"/>
          <a:ext cx="1428840" cy="131148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14200" y="4000680"/>
          <a:ext cx="1428840" cy="131112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14200" y="5286240"/>
          <a:ext cx="1428840" cy="131148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7572240" y="5286240"/>
          <a:ext cx="1428840" cy="131148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7572240" y="3929040"/>
          <a:ext cx="1428840" cy="131112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7572240" y="2643120"/>
          <a:ext cx="1428840" cy="131148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7572240" y="1285920"/>
          <a:ext cx="1428840" cy="131112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Управляющая кнопка: назад 14"/>
          <p:cNvGrpSpPr/>
          <p:nvPr/>
        </p:nvGrpSpPr>
        <p:grpSpPr>
          <a:xfrm>
            <a:off x="298440" y="676440"/>
            <a:ext cx="828720" cy="469800"/>
            <a:chOff x="298440" y="676440"/>
            <a:chExt cx="828720" cy="469800"/>
          </a:xfrm>
        </p:grpSpPr>
        <p:pic>
          <p:nvPicPr>
            <p:cNvPr id="89" name="Управляющая кнопка: назад 1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98440" y="676440"/>
              <a:ext cx="8287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35"/>
            <p:cNvSpPr/>
            <p:nvPr/>
          </p:nvSpPr>
          <p:spPr>
            <a:xfrm>
              <a:off x="357120" y="714240"/>
              <a:ext cx="71460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0028E-008 L 0.26459 0.5629 E">
                                      <p:cBhvr>
                                        <p:cTn id="49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-0.0037 L -0.26458 0.5629 E">
                                      <p:cBhvr>
                                        <p:cTn id="5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0611E-006 L 0.25208 0.17831 E">
                                      <p:cBhvr>
                                        <p:cTn id="59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28 -0.00208 L -0.2566 0.17623 E">
                                      <p:cBhvr>
                                        <p:cTn id="64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46531E-006 L 0.25192 -0.20976 E">
                                      <p:cBhvr>
                                        <p:cTn id="69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25069E-008 L -0.2566 -0.21022 E">
                                      <p:cBhvr>
                                        <p:cTn id="74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0.01157 L 0.24879 -0.58649 E">
                                      <p:cBhvr>
                                        <p:cTn id="7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67253E-006 L -0.26458 -0.5969 E">
                                      <p:cBhvr>
                                        <p:cTn id="8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5572080" y="50004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Что больше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786040" y="1285920"/>
          <a:ext cx="1428840" cy="524196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286240" y="1285920"/>
          <a:ext cx="1428840" cy="524196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Box 6"/>
          <p:cNvSpPr/>
          <p:nvPr/>
        </p:nvSpPr>
        <p:spPr>
          <a:xfrm>
            <a:off x="4214880" y="1357200"/>
            <a:ext cx="121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4429080" y="2500200"/>
            <a:ext cx="85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4572000" y="3857760"/>
            <a:ext cx="78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4500720" y="5072040"/>
            <a:ext cx="100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357120" y="1357200"/>
            <a:ext cx="107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Управляющая кнопка: назад 11"/>
          <p:cNvGrpSpPr/>
          <p:nvPr/>
        </p:nvGrpSpPr>
        <p:grpSpPr>
          <a:xfrm>
            <a:off x="298440" y="749160"/>
            <a:ext cx="755640" cy="463680"/>
            <a:chOff x="298440" y="749160"/>
            <a:chExt cx="755640" cy="463680"/>
          </a:xfrm>
        </p:grpSpPr>
        <p:pic>
          <p:nvPicPr>
            <p:cNvPr id="100" name="Управляющая кнопка: назад 1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98440" y="749160"/>
              <a:ext cx="7556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9"/>
            <p:cNvSpPr/>
            <p:nvPr/>
          </p:nvSpPr>
          <p:spPr>
            <a:xfrm>
              <a:off x="357120" y="785880"/>
              <a:ext cx="642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00"/>
                </a:solidFill>
                <a:latin typeface="Calibri"/>
              </a:rPr>
              <a:t>6    9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2700360" y="3716280"/>
            <a:ext cx="5543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00"/>
                </a:solidFill>
                <a:latin typeface="Arial"/>
              </a:rPr>
              <a:t>А 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3924360" y="3716280"/>
            <a:ext cx="5543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Наш детский сад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124320"/>
          </a:xfrm>
          <a:prstGeom prst="rect">
            <a:avLst/>
          </a:prstGeom>
          <a:ln w="0">
            <a:noFill/>
          </a:ln>
        </p:spPr>
      </p:pic>
      <p:pic>
        <p:nvPicPr>
          <p:cNvPr id="106" name="zvuki-prirodi-Muzika-lesa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22724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5:52:53Z</dcterms:created>
  <dc:creator>User</dc:creator>
  <dc:description/>
  <dc:language>en-US</dc:language>
  <cp:lastModifiedBy>RePack by Diakov</cp:lastModifiedBy>
  <dcterms:modified xsi:type="dcterms:W3CDTF">2014-12-08T06:05:56Z</dcterms:modified>
  <cp:revision>59</cp:revision>
  <dc:subject/>
  <dc:title>Слайд 1</dc:title>
</cp:coreProperties>
</file>