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9B9-166C-424D-B890-71CD2CD1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E84-01C1-4EC2-9C80-1C2487E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6CB-0824-4558-95CC-F435120C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066-DE1C-4175-B988-7964EBEC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981B2-108B-4A4B-B3B5-B82B320F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9F015-7293-4C9F-A81B-4F394769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65494-A383-414E-82D5-F428C04A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09DC-4D72-4FBE-A1BF-2DDAD414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604BC-2D1E-4F55-A45D-D67A3B1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BB794-9E24-474C-BE7A-191E25B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FBF9D-4AE3-4C16-B31D-8DCA1C7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4EC-FE25-4B65-9F62-2268CEA4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800BF-F9B5-47F5-9F22-3A9D8EF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E87B1-5B73-41FD-9E35-D33DEAB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A54B1-E9D5-40FD-8561-C649A5E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A2A3A-5524-47E0-A2AC-713D34FC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5FF61-49E1-4EBD-B5AB-4B5162C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F9C-FABD-49DF-AAEB-F31EC54D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1D6-07D7-41DC-A28A-B7E535C7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F74-9225-43B2-B266-D4D20030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CC2-08E3-475D-8E44-97ECF4F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2E0-47BF-4346-9E24-F68A0C1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37D-B4FD-4153-AAA3-99E7161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F37-A507-4784-B00E-2473B8E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B06B-9E0D-40C7-B516-97D66DF23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D28B-C6BC-400B-8991-C5414B3DB8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7640" y="1996920"/>
            <a:ext cx="65502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Инновационный опыт работы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на тему</a:t>
            </a:r>
            <a:br>
              <a:rPr sz="3200"/>
            </a:br>
            <a:r>
              <a:rPr b="1" i="1" lang="ru-RU" sz="3200" spc="-1" strike="noStrike">
                <a:solidFill>
                  <a:srgbClr val="66ff66"/>
                </a:solidFill>
                <a:latin typeface="Tahoma"/>
              </a:rPr>
              <a:t>«Психологические минутки», как средство успешной адаптации детей раннего возра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4029120"/>
            <a:ext cx="460872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Горошни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Екатерина Викто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иров, 2010г</a:t>
            </a:r>
            <a:r>
              <a:rPr b="0" lang="ru-RU" sz="2800" spc="-1" strike="noStrike">
                <a:solidFill>
                  <a:srgbClr val="66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s3[1]"/>
          <p:cNvPicPr/>
          <p:nvPr/>
        </p:nvPicPr>
        <p:blipFill>
          <a:blip r:embed="rId1"/>
          <a:stretch/>
        </p:blipFill>
        <p:spPr>
          <a:xfrm>
            <a:off x="0" y="476280"/>
            <a:ext cx="2340000" cy="20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10199"/>
                </a:solidFill>
                <a:uFillTx/>
                <a:latin typeface="Tahoma"/>
              </a:rPr>
              <a:t>методы повышения эмоциональной активности (проф. С.А. Смирнов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гровые и воображаемые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придумывание сказочных этюдов, рассказов, стихов, загадок т .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гры-драмот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сюрпризные мо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элементы творчества  и новиз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91960"/>
            <a:ext cx="641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Приём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Голосовая и эмоц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нальная модуля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Модуляция темпа ре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рерывание речи, использование антиципации (догад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провалы памя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Жестикуля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Риторические в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Активное ассист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P1010340"/>
          <p:cNvPicPr/>
          <p:nvPr/>
        </p:nvPicPr>
        <p:blipFill>
          <a:blip r:embed="rId1"/>
          <a:stretch/>
        </p:blipFill>
        <p:spPr>
          <a:xfrm>
            <a:off x="4932360" y="333360"/>
            <a:ext cx="3978360" cy="298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ерспективное планирование цикла игр «Психологические минутки» для детей раннего возраста в период адапт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110" name="Line 67"/>
          <p:cNvSpPr/>
          <p:nvPr/>
        </p:nvSpPr>
        <p:spPr>
          <a:xfrm>
            <a:off x="3787920" y="37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68"/>
          <p:cNvSpPr/>
          <p:nvPr/>
        </p:nvSpPr>
        <p:spPr>
          <a:xfrm>
            <a:off x="5870520" y="37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981000"/>
          <a:ext cx="7899120" cy="5850000"/>
        </p:xfrm>
        <a:graphic>
          <a:graphicData uri="http://schemas.openxmlformats.org/drawingml/2006/table">
            <a:tbl>
              <a:tblPr/>
              <a:tblGrid>
                <a:gridCol w="753120"/>
                <a:gridCol w="2337840"/>
                <a:gridCol w="2255400"/>
                <a:gridCol w="2337840"/>
                <a:gridCol w="21600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нед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проявлять эмоции при общении (мимика, возгласы, движения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улыбаться, пользоваться эмоционально-окрашенной речью при совместных играх с детьм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мочь детям раннего возраста преодолеть стрессовые состояния в адаптационный период к детскому са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Игра «Знакомство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 Утреннее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1(1 ч.), стр.105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. 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Дружно хлопни в лодошк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Князева з.№1 (1 ч.) стр. 106 игра «Выбери друг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00 «Один-много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улыбаться, пользоваться эмоционально-окрашенной речью при совместных играх с детьм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выполнять последовательно 2-3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Игра «Знакомство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 Утреннее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.С.Роньжина –стр. 63-з.№1 «Божья коров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Коскова –стр. 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Дружно хлопни в лодош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А.С.Роньжина –стр. 67 № 2 «Листопад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А.С.Роньжина –стр. 6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У медведя во бор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206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404640"/>
          <a:ext cx="8642160" cy="6120000"/>
        </p:xfrm>
        <a:graphic>
          <a:graphicData uri="http://schemas.openxmlformats.org/drawingml/2006/table"/>
        </a:graphic>
      </p:graphicFrame>
      <p:sp>
        <p:nvSpPr>
          <p:cNvPr id="115" name="Line 48"/>
          <p:cNvSpPr/>
          <p:nvPr/>
        </p:nvSpPr>
        <p:spPr>
          <a:xfrm>
            <a:off x="33321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49"/>
          <p:cNvSpPr/>
          <p:nvPr/>
        </p:nvSpPr>
        <p:spPr>
          <a:xfrm>
            <a:off x="4890960" y="356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404640"/>
          <a:ext cx="9144000" cy="5904000"/>
        </p:xfrm>
        <a:graphic>
          <a:graphicData uri="http://schemas.openxmlformats.org/drawingml/2006/table">
            <a:tbl>
              <a:tblPr/>
              <a:tblGrid>
                <a:gridCol w="863640"/>
                <a:gridCol w="2004840"/>
                <a:gridCol w="1935360"/>
                <a:gridCol w="2004840"/>
                <a:gridCol w="2335320"/>
              </a:tblGrid>
              <a:tr h="1492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эмоционально заинтересовывать детей музыкой, пением, фольклё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детей играть вместе, вдвоём со сверстни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Миронова – стр.84 «Давайте поздороваем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– «Петушок –петушок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3(ч.1) стр.109 «Как помириться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28 «Мяукаем и хрюкае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 Е. Юрченко –с.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Покатаемся на лошад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15 артикуляцион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89 «Тренировка памя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з.№4 (1ч.)  стр. 110 «Птички в доми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сопереживать, сочувствовать другому человеку, животному,игруш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ь понимать фразы «Это можно», «это нельз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вивать игровые навыки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А.С.Роньжина –стр. 80 з.№8 «Зай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А.С.Роньжина –стр. 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«Полечим миш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А.С.Роньжина «Грустный ёжи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/ и  «Собери пирамид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 П/И «Мяч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2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4920" y="476280"/>
          <a:ext cx="8497800" cy="6121440"/>
        </p:xfrm>
        <a:graphic>
          <a:graphicData uri="http://schemas.openxmlformats.org/drawingml/2006/table"/>
        </a:graphic>
      </p:graphicFrame>
      <p:sp>
        <p:nvSpPr>
          <p:cNvPr id="120" name="Line 48"/>
          <p:cNvSpPr/>
          <p:nvPr/>
        </p:nvSpPr>
        <p:spPr>
          <a:xfrm>
            <a:off x="2311560" y="295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49"/>
          <p:cNvSpPr/>
          <p:nvPr/>
        </p:nvSpPr>
        <p:spPr>
          <a:xfrm>
            <a:off x="3870360" y="295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404640"/>
          <a:ext cx="8675640" cy="6129360"/>
        </p:xfrm>
        <a:graphic>
          <a:graphicData uri="http://schemas.openxmlformats.org/drawingml/2006/table">
            <a:tbl>
              <a:tblPr/>
              <a:tblGrid>
                <a:gridCol w="849240"/>
                <a:gridCol w="1974960"/>
                <a:gridCol w="1903320"/>
                <a:gridCol w="1974960"/>
                <a:gridCol w="1973160"/>
              </a:tblGrid>
              <a:tr h="1055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спокойно выполнять знакомые действия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чить появлять тонкие эмоциональные чувства: нежность, ласку, сочувствие, жал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Создать положительный эмоциональный настрой в групп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15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п/и «Море волнуется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16 развитие речевого дых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нязева з.№4(2ч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р.110 «Пузырь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172 «Музыкальные ассоци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.173 «Бусы для комнат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оскова –стр.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«Повтори движени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1.Коскова –стр115 артикуляцион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2.Князева з.№4 (3ч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р.110 «Полечим мишку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сновные задач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проявлять специфические свойства: весёлый, активный, неугомонный, спокойный и т.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понимать слова «нужно», «надо», «подожд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Учить строить из кубиков разные формы и вел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 .Прогулки в Зимнем саду. (Мини-музей «Курочка-рябушечка», потеш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Утро доброе настало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Е. Юрченко –с.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«Покатаемся на лошад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. Д/ и «Весёлый- грустны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утки аромотерап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огулки в Зимнем саду. (Мини-музей «Вода», релаксация «Фонтанчик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. Д/ и «Построим домик для зай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. Приветствие «Друз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узыкотера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/ и  «Собери пирамидк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00"/>
          <p:cNvSpPr/>
          <p:nvPr/>
        </p:nvSpPr>
        <p:spPr>
          <a:xfrm>
            <a:off x="0" y="564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11800" y="32464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Советы педагогам и род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по адаптации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раннего возрас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правляйте ребёнка в ДОУ только здоровы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нее узнайте все моменты в режиме дня в ДОУ и введите их в домашний распорядок д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бегайте обсуждения при ребёнке волнующих вас проблем, связанных с детским сад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ируйте своё время так, чтобы в первый месяц посещения ребёнком ДОУ у вас была возможность не оставлять его на целый д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можно раньше познакомьте малыша с детьми и воспитателями группы, в которую он в скором времени придё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учайте ребёнка дома всем необходимым навыкам самообслужив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йте, играйте, рисуйте со своим малыш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йте материалы на информационных стендах. Вы найдёте много полезной информации по проблемам воспитания и развития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Мы рады сотрудничать с вам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1010339"/>
          <p:cNvPicPr/>
          <p:nvPr/>
        </p:nvPicPr>
        <p:blipFill>
          <a:blip r:embed="rId1"/>
          <a:stretch/>
        </p:blipFill>
        <p:spPr>
          <a:xfrm>
            <a:off x="3924360" y="2924280"/>
            <a:ext cx="4870440" cy="36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1010337"/>
          <p:cNvPicPr/>
          <p:nvPr/>
        </p:nvPicPr>
        <p:blipFill>
          <a:blip r:embed="rId2"/>
          <a:stretch/>
        </p:blipFill>
        <p:spPr>
          <a:xfrm>
            <a:off x="250920" y="333360"/>
            <a:ext cx="4089240" cy="3067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Вывод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43280" y="333000"/>
            <a:ext cx="59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видна тенденция к улучшению степени адаптации детей к условиям ДО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Дифференцированный подход к анализу адаптации детей раннего возраста и проведение «Психологических минуток» может помочь более точной оценке готовности ребёнка к посещению детского сада и определению способов его необходимой поддержки специалистами ДОУ и близкими, профилактике выраженных дезадаптивных проявл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бщий эмоциональный фон поведения малышей стал положительным, снизилась тревожность, дети стали проявлять активность в познавательной и игровой деятельности, свободно вступать в контакт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28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даптация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 - это приспособление организма к новой обстановке, а для ребенка детский садик несомненно является новым, еще неизвестным пространством, с новым окружением и новыми отношениям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P5080021"/>
          <p:cNvPicPr/>
          <p:nvPr/>
        </p:nvPicPr>
        <p:blipFill>
          <a:blip r:embed="rId1"/>
          <a:stretch/>
        </p:blipFill>
        <p:spPr>
          <a:xfrm>
            <a:off x="3995640" y="3159000"/>
            <a:ext cx="4746600" cy="355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85152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ff00"/>
                </a:solidFill>
                <a:uFillTx/>
                <a:latin typeface="Tahoma"/>
              </a:rPr>
              <a:t>Нелегко привыкают к детскому саду или яслям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19280" y="2421000"/>
            <a:ext cx="5267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единственные в семье де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особенно чрезмерно опекаемы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зависимые от матер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привыкшие к исключительному вниманию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неуверенные в с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Часто болеющие де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P1010345"/>
          <p:cNvPicPr/>
          <p:nvPr/>
        </p:nvPicPr>
        <p:blipFill>
          <a:blip r:embed="rId1"/>
          <a:stretch/>
        </p:blipFill>
        <p:spPr>
          <a:xfrm>
            <a:off x="250920" y="2492280"/>
            <a:ext cx="4825800" cy="362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699444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Основные принципы нашей работы по адаптации детей следующие (алгоритм постепенного вхождения малыша в детский сад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1471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1. Тщательный подбор педагогов в формируемую групп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2. Постепенное заполнение групп (прием 2—3 малышей в недел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3. Неполное пребывание ребенка в начальный период адаптации (2—3 часа, возможность пребывания с мамо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4. Гибкий режим пребывания ребенка в детском саду (свободное время прихода, дополнительные выходные д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5. Сохранение в первые  2—3 недели имеющихся у малыша привыч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6. Ежедневный контроль за состоянием здоровья, эмоциональным состоянием, аппетитом, сном ребенка в первый месяц (с этой целью на каждого ребенка заполняется так называемый «адаптационный лист»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280" y="291600"/>
            <a:ext cx="692316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одель организации адаптационн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ервый этап—прогноз адаптации.Взаимодействие с семьями детей: Беседы, индивид. консультацииАнкетирование с целью выявления умений и навыков ребёнка, облегчающих адаптационный пери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торой этап-Взаимодействие педагога-психолога с воспитателями групп раннего возраста в виде:лекций-консультаций, тренингов, бесед, минуток релакс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ретий этап-Пребывание малышей в группе.Алгоритм   постепенного  вхождения в д/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етвёртый этап-Осуществление личностно-ориентированного подхода к детям раннего возраста в адаптационный период через «Психологические минут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Мной выбрано название занятий –</a:t>
            </a:r>
            <a:br>
              <a:rPr sz="2800"/>
            </a:b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«Психологические минутки»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таковой учебной деятельности в адаптационный период нет, поэтому это были не занятия, а игры, объединенные одним сюжетом и целью. Главную роль в этой игре я брала на себя, учитывая индивидуальные особенности каждого ребёнка. Игра длится всего 15 мин., но за этот период успевали поиграть все д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были минутки радости для детей, положительного эмоционального настоя на целый день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44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Основная задача игр в этот период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формирование эмоционального контакта, доверия детей к воспитателю. Ребёнок должен увидеть в воспитателе доброго, всегда готового придти на помошь человека (как мама) и интересного партнёра в игр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3280" y="5876640"/>
            <a:ext cx="36831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Tahoma"/>
              </a:rPr>
              <a:t>Основные задачи занятий с детьм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мочь детям раннего возраста преодолеть стрессовые состояния в адаптационный период к детскому са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оздать положительный эмоциональный настрой в групп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низить импульсивность, излишнюю двигательную активность, тревогу, агресси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азвивать игровые навыки, стремление сопереживать, помогать, поддерживать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778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00"/>
                </a:solidFill>
                <a:uFillTx/>
                <a:latin typeface="Tahoma"/>
              </a:rPr>
              <a:t>Структурные компоненты «Психологических минут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риветствие, психогимна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Дыхательные упражнения, элементы самомасса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мотивация и пробуждение интер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сюрпризный мо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обряд вхождения в игру(музыкальное сопровождение, использование сквозного героя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игровые упражнения, связанные единым сюже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альчиковые игры, использование потеш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Пескотерапия, водотерапия, изотерапия, куклотерап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Tahoma"/>
              </a:rPr>
              <a:t>рефлексия: обратная связь, «связующая ни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9:29:41Z</dcterms:created>
  <dc:creator>Supergirl</dc:creator>
  <dc:description/>
  <dc:language>en-US</dc:language>
  <cp:lastModifiedBy>asb</cp:lastModifiedBy>
  <dcterms:modified xsi:type="dcterms:W3CDTF">2012-10-04T12:25:36Z</dcterms:modified>
  <cp:revision>5</cp:revision>
  <dc:subject/>
  <dc:title>Инновационный опыт работы на тему «Психологические минутки», как средство успешной адаптации детей раннего возраста.</dc:title>
</cp:coreProperties>
</file>