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774-DC28-4264-8A43-6A50BFCE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109-8E43-40EE-8880-F72C0DCF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6C3-131C-4419-BB28-B9E468E4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EF8-3981-4A76-8944-79BC0297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B6787-99DA-42C8-BBEF-C8DE5DB0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36B18-45E0-47E5-B738-F354F894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37A95-0873-4737-B17B-0B2DBE4F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D9BBA-DFDC-4E48-AF5A-6551DE3F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26B5B-77A7-4AA0-80EF-FD24067E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746C0-1F09-4BD8-9EAC-22E78A08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12EA6-87F7-4F1B-8F1E-359BC042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7DB8-D976-483A-B658-B62D66C0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8A1DA-F9BD-4E19-9730-7F4B499B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F8B2F-6A29-4183-BD79-30EA6519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5C0E7-D9CE-44AE-8F18-BA56D535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927BE-9EB0-466A-91F8-67EA51C1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39267-E7AE-4066-A543-3D8BA50C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700-8B69-4976-809D-9151E001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BEA-5B08-4ADE-812E-F3D220AE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74A-155B-4A76-9AEC-B08C5B7C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8B4-FE6A-48FE-9D4C-BC287233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BFF-FFFD-4C82-846F-97C72483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1FCA-E735-4BC2-9A0F-CD39A9AD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B2EC-8334-4CDA-AEB9-5B1DE9A1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0C63-6A0B-4C5D-B4C1-0254C70080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A8F3-4E78-4C9B-82F8-850B56226E0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7640" y="1996920"/>
            <a:ext cx="65502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Инновационный опыт работы</a:t>
            </a: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на тему</a:t>
            </a:r>
            <a:br>
              <a:rPr sz="3200"/>
            </a:br>
            <a:r>
              <a:rPr b="1" i="1" lang="ru-RU" sz="3200" spc="-1" strike="noStrike">
                <a:solidFill>
                  <a:srgbClr val="66ff66"/>
                </a:solidFill>
                <a:latin typeface="Tahoma"/>
              </a:rPr>
              <a:t>«Психологические минутки», как средство успешной адаптации детей раннего возра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26920" y="4029120"/>
            <a:ext cx="460872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Педагог-психол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Горошнико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Екатерина Викторов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Киров, 2010г</a:t>
            </a:r>
            <a:r>
              <a:rPr b="0" lang="ru-RU" sz="2800" spc="-1" strike="noStrike">
                <a:solidFill>
                  <a:srgbClr val="66ff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s3[1]"/>
          <p:cNvPicPr/>
          <p:nvPr/>
        </p:nvPicPr>
        <p:blipFill>
          <a:blip r:embed="rId1"/>
          <a:stretch/>
        </p:blipFill>
        <p:spPr>
          <a:xfrm>
            <a:off x="0" y="476280"/>
            <a:ext cx="2340000" cy="2028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10199"/>
                </a:solidFill>
                <a:uFillTx/>
                <a:latin typeface="Tahoma"/>
              </a:rPr>
              <a:t>методы повышения эмоциональной активности (проф. С.А. Смирнов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19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игровые и воображаемые ситу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придумывание сказочных этюдов, рассказов, стихов, загадок т .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игры-драмот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сюрпризные момен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элементы творчества  и новиз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0" y="291960"/>
            <a:ext cx="6418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3300"/>
                </a:solidFill>
                <a:uFillTx/>
                <a:latin typeface="Tahoma"/>
              </a:rPr>
              <a:t>Приём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19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Голосовая и эмоци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нальная модуля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Модуляция темпа реч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Прерывание речи, использование антиципации (догад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«провалы памят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Жестикуля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Риторические вопро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Активное ассистир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6" descr="P1010340"/>
          <p:cNvPicPr/>
          <p:nvPr/>
        </p:nvPicPr>
        <p:blipFill>
          <a:blip r:embed="rId1"/>
          <a:stretch/>
        </p:blipFill>
        <p:spPr>
          <a:xfrm>
            <a:off x="4932360" y="333360"/>
            <a:ext cx="3978360" cy="2984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ерспективное планирование цикла игр «Психологические минутки» для детей раннего возраста в период адапт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/>
        </a:graphic>
      </p:graphicFrame>
      <p:sp>
        <p:nvSpPr>
          <p:cNvPr id="110" name="Line 67"/>
          <p:cNvSpPr/>
          <p:nvPr/>
        </p:nvSpPr>
        <p:spPr>
          <a:xfrm>
            <a:off x="3787920" y="3763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68"/>
          <p:cNvSpPr/>
          <p:nvPr/>
        </p:nvSpPr>
        <p:spPr>
          <a:xfrm>
            <a:off x="5870520" y="3763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4000" y="981000"/>
          <a:ext cx="7899120" cy="5850000"/>
        </p:xfrm>
        <a:graphic>
          <a:graphicData uri="http://schemas.openxmlformats.org/drawingml/2006/table">
            <a:tbl>
              <a:tblPr/>
              <a:tblGrid>
                <a:gridCol w="753120"/>
                <a:gridCol w="2337840"/>
                <a:gridCol w="2255400"/>
                <a:gridCol w="2337840"/>
                <a:gridCol w="216000"/>
              </a:tblGrid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нед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нед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нед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сентя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Основные задач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ить проявлять эмоции при общении (мимика, возгласы, движения)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ить улыбаться, пользоваться эмоционально-окрашенной речью при совместных играх с детьми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помочь детям раннего возраста преодолеть стрессовые состояния в адаптационный период к детскому саду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Игра «Знакомство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 Утреннее приветствие «Утро доброе настало…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Князева з.№1(1 ч.), стр.105 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оскова –стр. 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«Дружно хлопни в лодошки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инутки аромотерап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 Князева з.№1 (1 ч.) стр. 106 игра «Выбери друг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оскова –стр100 «Один-много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новные задач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чить улыбаться, пользоваться эмоционально-окрашенной речью при совместных играх с детьми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чить выполнять последовательно 2-3 дейс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чить спокойно выполнять знакомые дейс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Игра «Знакомство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. Утреннее приветствие «Утро доброе настало…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.С.Роньжина –стр. 63-з.№1 «Божья коровк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Коскова –стр. 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«Дружно хлопни в лодошк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 А.С.Роньжина –стр. 67 № 2 «Листопад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инутки аромотерап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 Приветствие «Утро доброе настало…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А.С.Роньжина –стр. 6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«У медведя во бору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-2062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50920" y="404640"/>
          <a:ext cx="8642160" cy="6120000"/>
        </p:xfrm>
        <a:graphic>
          <a:graphicData uri="http://schemas.openxmlformats.org/drawingml/2006/table"/>
        </a:graphic>
      </p:graphicFrame>
      <p:sp>
        <p:nvSpPr>
          <p:cNvPr id="115" name="Line 48"/>
          <p:cNvSpPr/>
          <p:nvPr/>
        </p:nvSpPr>
        <p:spPr>
          <a:xfrm>
            <a:off x="3332160" y="356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49"/>
          <p:cNvSpPr/>
          <p:nvPr/>
        </p:nvSpPr>
        <p:spPr>
          <a:xfrm>
            <a:off x="4890960" y="356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404640"/>
          <a:ext cx="9144000" cy="5904000"/>
        </p:xfrm>
        <a:graphic>
          <a:graphicData uri="http://schemas.openxmlformats.org/drawingml/2006/table">
            <a:tbl>
              <a:tblPr/>
              <a:tblGrid>
                <a:gridCol w="863640"/>
                <a:gridCol w="2004840"/>
                <a:gridCol w="1935360"/>
                <a:gridCol w="2004840"/>
                <a:gridCol w="2335320"/>
              </a:tblGrid>
              <a:tr h="14925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Основные задач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ить эмоционально заинтересовывать детей музыкой, пением, фольклёр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ить спокойно выполнять знакомые дейс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ить детей играть вместе, вдвоём со сверстник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Миронова – стр.84 «Давайте поздороваемс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нязева – «Петушок –петушок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Князева з.№3(ч.1) стр.109 «Как помириться?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оскова –стр128 «Мяукаем и хрюкае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 Е. Юрченко –с. 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«Покатаемся на лошадк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оскова –стр115 артикуляционная гимнас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Коскова –стр89 «Тренировка памят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нязева з.№4 (1ч.)  стр. 110 «Птички в домик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новные задач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чить сопереживать, сочувствовать другому человеку, животному,игрушк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чить понимать фразы «Это можно», «это нельз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азвивать игровые навыки дет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.А.С.Роньжина –стр. 80 з.№8 «Зайк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инутки аромотерап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инутки аромотерап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А.С.Роньжина –стр. 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«Полечим мишку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.А.С.Роньжина «Грустный ёжик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Д/ и  «Собери пирамидку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 П/И «Мяч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2484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94920" y="476280"/>
          <a:ext cx="8497800" cy="6121440"/>
        </p:xfrm>
        <a:graphic>
          <a:graphicData uri="http://schemas.openxmlformats.org/drawingml/2006/table"/>
        </a:graphic>
      </p:graphicFrame>
      <p:sp>
        <p:nvSpPr>
          <p:cNvPr id="120" name="Line 48"/>
          <p:cNvSpPr/>
          <p:nvPr/>
        </p:nvSpPr>
        <p:spPr>
          <a:xfrm>
            <a:off x="2311560" y="2952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49"/>
          <p:cNvSpPr/>
          <p:nvPr/>
        </p:nvSpPr>
        <p:spPr>
          <a:xfrm>
            <a:off x="3870360" y="2952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404640"/>
          <a:ext cx="8675640" cy="6129360"/>
        </p:xfrm>
        <a:graphic>
          <a:graphicData uri="http://schemas.openxmlformats.org/drawingml/2006/table">
            <a:tbl>
              <a:tblPr/>
              <a:tblGrid>
                <a:gridCol w="849240"/>
                <a:gridCol w="1974960"/>
                <a:gridCol w="1903320"/>
                <a:gridCol w="1974960"/>
                <a:gridCol w="1973160"/>
              </a:tblGrid>
              <a:tr h="10555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Основные задач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ить спокойно выполнять знакомые действия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ить появлять тонкие эмоциональные чувства: нежность, ласку, сочувствие, жал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Создать положительный эмоциональный настрой в групп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Коскова –стр15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п/и «Море волнуется…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оскова –стр116 развитие речевого дыха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Князева з.№4(2ч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р.110 «Пузырьк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оскова –стр172 «Музыкальные ассоциаци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инутки аромотерап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Коскова –стр.173 «Бусы для комнат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оскова –стр.1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«Повтори движени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Коскова –стр115 артикуляционная гимнас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нязева з.№4 (3ч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р.110 «Полечим мишку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Основные задач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Учить проявлять специфические свойства: весёлый, активный, неугомонный, спокойный и т.д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Учить понимать слова «нужно», «надо», «подожд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Учить строить из кубиков разные формы и величи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Утро доброе настало…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инутки аромотерап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 .Прогулки в Зимнем саду. (Мини-музей «Курочка-рябушечка», потешк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Утро доброе настало…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.Е. Юрченко –с. 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«Покатаемся на лошадк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3. Д/ и «Весёлый- грустный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инутки аромотерап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Прогулки в Зимнем саду. (Мини-музей «Вода», релаксация «Фонтанчик»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. Д/ и «Построим домик для зайк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Д/ и  «Собери пирамидку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Rectangle 100"/>
          <p:cNvSpPr/>
          <p:nvPr/>
        </p:nvSpPr>
        <p:spPr>
          <a:xfrm>
            <a:off x="0" y="564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4411800" y="3246480"/>
            <a:ext cx="32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400"/>
            <a:ext cx="77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8218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Советы педагогам и родителя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по адаптации дет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раннего возраст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тправляйте ребёнка в ДОУ только здоровы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ранее узнайте все моменты в режиме дня в ДОУ и введите их в домашний распорядок д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збегайте обсуждения при ребёнке волнующих вас проблем, связанных с детским садо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ланируйте своё время так, чтобы в первый месяц посещения ребёнком ДОУ у вас была возможность не оставлять его на целый д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к можно раньше познакомьте малыша с детьми и воспитателями группы, в которую он в скором времени придё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учайте ребёнка дома всем необходимым навыкам самообслужива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итайте, играйте, рисуйте со своим малыш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итайте материалы на информационных стендах. Вы найдёте много полезной информации по проблемам воспитания и развития де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Мы рады сотрудничать с вами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P1010339"/>
          <p:cNvPicPr/>
          <p:nvPr/>
        </p:nvPicPr>
        <p:blipFill>
          <a:blip r:embed="rId1"/>
          <a:stretch/>
        </p:blipFill>
        <p:spPr>
          <a:xfrm>
            <a:off x="3924360" y="2924280"/>
            <a:ext cx="4870440" cy="3652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P1010337"/>
          <p:cNvPicPr/>
          <p:nvPr/>
        </p:nvPicPr>
        <p:blipFill>
          <a:blip r:embed="rId2"/>
          <a:stretch/>
        </p:blipFill>
        <p:spPr>
          <a:xfrm>
            <a:off x="250920" y="333360"/>
            <a:ext cx="4089240" cy="3067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ahoma"/>
              </a:rPr>
              <a:t>Вывод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43280" y="333000"/>
            <a:ext cx="590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видна тенденция к улучшению степени адаптации детей к условиям ДО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Дифференцированный подход к анализу адаптации детей раннего возраста и проведение «Психологических минуток» может помочь более точной оценке готовности ребёнка к посещению детского сада и определению способов его необходимой поддержки специалистами ДОУ и близкими, профилактике выраженных дезадаптивных проявл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Общий эмоциональный фон поведения малышей стал положительным, снизилась тревожность, дети стали проявлять активность в познавательной и игровой деятельности, свободно вступать в контакт со сверстниками и взрослы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91520" cy="284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Адаптация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 - это приспособление организма к новой обстановке, а для ребенка детский садик несомненно является новым, еще неизвестным пространством, с новым окружением и новыми отношениями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P5080021"/>
          <p:cNvPicPr/>
          <p:nvPr/>
        </p:nvPicPr>
        <p:blipFill>
          <a:blip r:embed="rId1"/>
          <a:stretch/>
        </p:blipFill>
        <p:spPr>
          <a:xfrm>
            <a:off x="3995640" y="3159000"/>
            <a:ext cx="4746600" cy="3559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6851520" cy="16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ff00"/>
                </a:solidFill>
                <a:uFillTx/>
                <a:latin typeface="Tahoma"/>
              </a:rPr>
              <a:t>Нелегко привыкают к детскому саду или яслям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19280" y="2421000"/>
            <a:ext cx="52671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единственные в семье де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особенно чрезмерно опекаемы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зависимые от матер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привыкшие к исключительному вниманию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неуверенные в себ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Часто болеющие де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P1010345"/>
          <p:cNvPicPr/>
          <p:nvPr/>
        </p:nvPicPr>
        <p:blipFill>
          <a:blip r:embed="rId1"/>
          <a:stretch/>
        </p:blipFill>
        <p:spPr>
          <a:xfrm>
            <a:off x="250920" y="2492280"/>
            <a:ext cx="4825800" cy="3621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6994440" cy="184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Основные принципы нашей работы по адаптации детей следующие (алгоритм постепенного вхождения малыша в детский сад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81471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1. Тщательный подбор педагогов в формируемую групп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2. Постепенное заполнение групп (прием 2—3 малышей в неделю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3. Неполное пребывание ребенка в начальный период адаптации (2—3 часа, возможность пребывания с мамой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4. Гибкий режим пребывания ребенка в детском саду (свободное время прихода, дополнительные выходные дн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5. Сохранение в первые  2—3 недели имеющихся у малыша привыч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6. Ежедневный контроль за состоянием здоровья, эмоциональным состоянием, аппетитом, сном ребенка в первый месяц (с этой целью на каждого ребенка заполняется так называемый «адаптационный лист»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63280" y="291600"/>
            <a:ext cx="692316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Модель организации адаптационного период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Первый этап—прогноз адаптации.Взаимодействие с семьями детей: Беседы, индивид. консультацииАнкетирование с целью выявления умений и навыков ребёнка, облегчающих адаптационный перио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Второй этап-Взаимодействие педагога-психолога с воспитателями групп раннего возраста в виде:лекций-консультаций, тренингов, бесед, минуток релаксац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ретий этап-Пребывание малышей в группе.Алгоритм   постепенного  вхождения в д/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Четвёртый этап-Осуществление личностно-ориентированного подхода к детям раннего возраста в адаптационный период через «Психологические минутк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11280" y="291960"/>
            <a:ext cx="6275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Мной выбрано название занятий –</a:t>
            </a:r>
            <a:br>
              <a:rPr sz="2800"/>
            </a:b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«Психологические минутки»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таковой учебной деятельности в адаптационный период нет, поэтому это были не занятия, а игры, объединенные одним сюжетом и целью. Главную роль в этой игре я брала на себя, учитывая индивидуальные особенности каждого ребёнка. Игра длится всего 15 мин., но за этот период успевали поиграть все де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были минутки радости для детей, положительного эмоционального настоя на целый день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91520" cy="443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Основная задача игр в этот период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формирование эмоционального контакта, доверия детей к воспитателю. Ребёнок должен увидеть в воспитателе доброго, всегда готового придти на помошь человека (как мама) и интересного партнёра в игре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03280" y="5876640"/>
            <a:ext cx="368316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0066"/>
                </a:solidFill>
                <a:uFillTx/>
                <a:latin typeface="Tahoma"/>
              </a:rPr>
              <a:t>Основные задачи занятий с детьм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помочь детям раннего возраста преодолеть стрессовые состояния в адаптационный период к детскому са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Создать положительный эмоциональный настрой в групп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Снизить импульсивность, излишнюю двигательную активность, тревогу, агрессию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Развивать игровые навыки, стремление сопереживать, помогать, поддерживать друг д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6778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ff00"/>
                </a:solidFill>
                <a:uFillTx/>
                <a:latin typeface="Tahoma"/>
              </a:rPr>
              <a:t>Структурные компоненты «Психологических минуток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1844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Приветствие, психогимнас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Дыхательные упражнения, элементы самомассаж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мотивация и пробуждение интере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сюрпризный мом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обряд вхождения в игру(музыкальное сопровождение, использование сквозного героя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игровые упражнения, связанные единым сюжет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пальчиковые игры, использование потеше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Пескотерапия, водотерапия, изотерапия, куклотерап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рефлексия: обратная связь, «связующая нить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09:29:41Z</dcterms:created>
  <dc:creator>Supergirl</dc:creator>
  <dc:description/>
  <dc:language>en-US</dc:language>
  <cp:lastModifiedBy>asb</cp:lastModifiedBy>
  <dcterms:modified xsi:type="dcterms:W3CDTF">2012-10-04T12:25:36Z</dcterms:modified>
  <cp:revision>5</cp:revision>
  <dc:subject/>
  <dc:title>Инновационный опыт работы на тему «Психологические минутки», как средство успешной адаптации детей раннего возраста.</dc:title>
</cp:coreProperties>
</file>