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13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128-9A5C-4664-8DDF-EA09CC9E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9BA-3815-4B9C-87C9-00CDD58D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EAE-670E-4EC6-8542-350188DC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208-BBF7-49CD-8E52-9CFB93B0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BDA-9141-4173-8615-C38948E5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E33-0253-4376-A803-82228018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FE45-CEA6-41D2-916F-3DAC79D3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691-EE18-41E8-BD3C-937F62E7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8DC-3786-489D-9146-B1C58666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AA7-0891-4530-BFA3-7126F247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BB7-DB51-4DB4-AD66-4AF008D6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D27-98FF-4832-8E4E-E2333230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9049-CD25-48B0-BFD0-5DEBFB5A93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280" y="1844280"/>
            <a:ext cx="684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«Наша работа не только, а может быть, и не столько профессия... Это судьба, наша судьба, и судьба людей, которым мы по долгу службы помогаем. Человеческий контакт с ними чаще всего уже не прекращается... Мы уже не можем не общаться, не помогать друг другу, жить друг без друга» Эти слова, сказанные одним из шведских специалистов, в полной мере отражают суть деятельности социального педагога, его место в обществе и отношение к своей нужной и гуманной профессии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9280" y="260280"/>
            <a:ext cx="1485720" cy="1371240"/>
            <a:chOff x="179280" y="260280"/>
            <a:chExt cx="1485720" cy="1371240"/>
          </a:xfrm>
        </p:grpSpPr>
        <p:grpSp>
          <p:nvGrpSpPr>
            <p:cNvPr id="43" name=""/>
            <p:cNvGrpSpPr/>
            <p:nvPr/>
          </p:nvGrpSpPr>
          <p:grpSpPr>
            <a:xfrm>
              <a:off x="179280" y="457200"/>
              <a:ext cx="1436760" cy="1088640"/>
              <a:chOff x="179280" y="457200"/>
              <a:chExt cx="1436760" cy="1088640"/>
            </a:xfrm>
          </p:grpSpPr>
          <p:sp>
            <p:nvSpPr>
              <p:cNvPr id="44" name=""/>
              <p:cNvSpPr/>
              <p:nvPr/>
            </p:nvSpPr>
            <p:spPr>
              <a:xfrm>
                <a:off x="291960" y="1439640"/>
                <a:ext cx="255960" cy="106200"/>
              </a:xfrm>
              <a:custGeom>
                <a:avLst/>
                <a:gdLst/>
                <a:ahLst/>
                <a:rect l="l" t="t" r="r" b="b"/>
                <a:pathLst>
                  <a:path w="556" h="310">
                    <a:moveTo>
                      <a:pt x="356" y="0"/>
                    </a:moveTo>
                    <a:lnTo>
                      <a:pt x="72" y="26"/>
                    </a:lnTo>
                    <a:lnTo>
                      <a:pt x="44" y="46"/>
                    </a:lnTo>
                    <a:lnTo>
                      <a:pt x="26" y="70"/>
                    </a:lnTo>
                    <a:lnTo>
                      <a:pt x="11" y="96"/>
                    </a:lnTo>
                    <a:lnTo>
                      <a:pt x="0" y="140"/>
                    </a:lnTo>
                    <a:lnTo>
                      <a:pt x="1" y="188"/>
                    </a:lnTo>
                    <a:lnTo>
                      <a:pt x="11" y="215"/>
                    </a:lnTo>
                    <a:lnTo>
                      <a:pt x="26" y="244"/>
                    </a:lnTo>
                    <a:lnTo>
                      <a:pt x="56" y="269"/>
                    </a:lnTo>
                    <a:lnTo>
                      <a:pt x="91" y="289"/>
                    </a:lnTo>
                    <a:lnTo>
                      <a:pt x="127" y="301"/>
                    </a:lnTo>
                    <a:lnTo>
                      <a:pt x="157" y="307"/>
                    </a:lnTo>
                    <a:lnTo>
                      <a:pt x="198" y="310"/>
                    </a:lnTo>
                    <a:lnTo>
                      <a:pt x="195" y="307"/>
                    </a:lnTo>
                    <a:lnTo>
                      <a:pt x="416" y="286"/>
                    </a:lnTo>
                    <a:lnTo>
                      <a:pt x="556" y="0"/>
                    </a:lnTo>
                    <a:lnTo>
                      <a:pt x="356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79280" y="457200"/>
                <a:ext cx="1436760" cy="1087560"/>
              </a:xfrm>
              <a:custGeom>
                <a:avLst/>
                <a:gdLst/>
                <a:ahLst/>
                <a:rect l="l" t="t" r="r" b="b"/>
                <a:pathLst>
                  <a:path w="3118" h="3174">
                    <a:moveTo>
                      <a:pt x="197" y="6"/>
                    </a:moveTo>
                    <a:lnTo>
                      <a:pt x="175" y="12"/>
                    </a:lnTo>
                    <a:lnTo>
                      <a:pt x="147" y="25"/>
                    </a:lnTo>
                    <a:lnTo>
                      <a:pt x="112" y="54"/>
                    </a:lnTo>
                    <a:lnTo>
                      <a:pt x="67" y="97"/>
                    </a:lnTo>
                    <a:lnTo>
                      <a:pt x="34" y="142"/>
                    </a:lnTo>
                    <a:lnTo>
                      <a:pt x="15" y="190"/>
                    </a:lnTo>
                    <a:lnTo>
                      <a:pt x="7" y="233"/>
                    </a:lnTo>
                    <a:lnTo>
                      <a:pt x="0" y="289"/>
                    </a:lnTo>
                    <a:lnTo>
                      <a:pt x="0" y="343"/>
                    </a:lnTo>
                    <a:lnTo>
                      <a:pt x="8" y="388"/>
                    </a:lnTo>
                    <a:lnTo>
                      <a:pt x="15" y="435"/>
                    </a:lnTo>
                    <a:lnTo>
                      <a:pt x="24" y="476"/>
                    </a:lnTo>
                    <a:lnTo>
                      <a:pt x="56" y="584"/>
                    </a:lnTo>
                    <a:lnTo>
                      <a:pt x="100" y="704"/>
                    </a:lnTo>
                    <a:lnTo>
                      <a:pt x="166" y="836"/>
                    </a:lnTo>
                    <a:lnTo>
                      <a:pt x="232" y="986"/>
                    </a:lnTo>
                    <a:lnTo>
                      <a:pt x="298" y="1118"/>
                    </a:lnTo>
                    <a:lnTo>
                      <a:pt x="355" y="1250"/>
                    </a:lnTo>
                    <a:lnTo>
                      <a:pt x="421" y="1408"/>
                    </a:lnTo>
                    <a:lnTo>
                      <a:pt x="478" y="1610"/>
                    </a:lnTo>
                    <a:lnTo>
                      <a:pt x="516" y="1785"/>
                    </a:lnTo>
                    <a:lnTo>
                      <a:pt x="553" y="2005"/>
                    </a:lnTo>
                    <a:lnTo>
                      <a:pt x="572" y="2242"/>
                    </a:lnTo>
                    <a:lnTo>
                      <a:pt x="601" y="2453"/>
                    </a:lnTo>
                    <a:lnTo>
                      <a:pt x="601" y="2568"/>
                    </a:lnTo>
                    <a:lnTo>
                      <a:pt x="601" y="2717"/>
                    </a:lnTo>
                    <a:lnTo>
                      <a:pt x="601" y="2814"/>
                    </a:lnTo>
                    <a:lnTo>
                      <a:pt x="593" y="2905"/>
                    </a:lnTo>
                    <a:lnTo>
                      <a:pt x="563" y="2998"/>
                    </a:lnTo>
                    <a:lnTo>
                      <a:pt x="542" y="3054"/>
                    </a:lnTo>
                    <a:lnTo>
                      <a:pt x="516" y="3104"/>
                    </a:lnTo>
                    <a:lnTo>
                      <a:pt x="489" y="3136"/>
                    </a:lnTo>
                    <a:lnTo>
                      <a:pt x="470" y="3155"/>
                    </a:lnTo>
                    <a:lnTo>
                      <a:pt x="449" y="3174"/>
                    </a:lnTo>
                    <a:lnTo>
                      <a:pt x="727" y="3146"/>
                    </a:lnTo>
                    <a:lnTo>
                      <a:pt x="1264" y="3077"/>
                    </a:lnTo>
                    <a:lnTo>
                      <a:pt x="1708" y="3025"/>
                    </a:lnTo>
                    <a:lnTo>
                      <a:pt x="2219" y="2972"/>
                    </a:lnTo>
                    <a:lnTo>
                      <a:pt x="2598" y="2954"/>
                    </a:lnTo>
                    <a:lnTo>
                      <a:pt x="2891" y="2963"/>
                    </a:lnTo>
                    <a:lnTo>
                      <a:pt x="2967" y="2963"/>
                    </a:lnTo>
                    <a:lnTo>
                      <a:pt x="3014" y="2954"/>
                    </a:lnTo>
                    <a:lnTo>
                      <a:pt x="3042" y="2911"/>
                    </a:lnTo>
                    <a:lnTo>
                      <a:pt x="3071" y="2862"/>
                    </a:lnTo>
                    <a:lnTo>
                      <a:pt x="3094" y="2791"/>
                    </a:lnTo>
                    <a:lnTo>
                      <a:pt x="3109" y="2704"/>
                    </a:lnTo>
                    <a:lnTo>
                      <a:pt x="3118" y="2621"/>
                    </a:lnTo>
                    <a:lnTo>
                      <a:pt x="3118" y="2499"/>
                    </a:lnTo>
                    <a:lnTo>
                      <a:pt x="3113" y="2404"/>
                    </a:lnTo>
                    <a:lnTo>
                      <a:pt x="3109" y="2251"/>
                    </a:lnTo>
                    <a:lnTo>
                      <a:pt x="3080" y="2084"/>
                    </a:lnTo>
                    <a:lnTo>
                      <a:pt x="3033" y="1869"/>
                    </a:lnTo>
                    <a:lnTo>
                      <a:pt x="2976" y="1671"/>
                    </a:lnTo>
                    <a:lnTo>
                      <a:pt x="2929" y="1496"/>
                    </a:lnTo>
                    <a:lnTo>
                      <a:pt x="2853" y="1302"/>
                    </a:lnTo>
                    <a:lnTo>
                      <a:pt x="2778" y="1127"/>
                    </a:lnTo>
                    <a:lnTo>
                      <a:pt x="2712" y="960"/>
                    </a:lnTo>
                    <a:lnTo>
                      <a:pt x="2608" y="722"/>
                    </a:lnTo>
                    <a:lnTo>
                      <a:pt x="2551" y="581"/>
                    </a:lnTo>
                    <a:lnTo>
                      <a:pt x="2516" y="487"/>
                    </a:lnTo>
                    <a:lnTo>
                      <a:pt x="2497" y="414"/>
                    </a:lnTo>
                    <a:lnTo>
                      <a:pt x="2490" y="346"/>
                    </a:lnTo>
                    <a:lnTo>
                      <a:pt x="2490" y="286"/>
                    </a:lnTo>
                    <a:lnTo>
                      <a:pt x="2532" y="72"/>
                    </a:lnTo>
                    <a:lnTo>
                      <a:pt x="2551" y="28"/>
                    </a:lnTo>
                    <a:lnTo>
                      <a:pt x="227" y="0"/>
                    </a:lnTo>
                    <a:lnTo>
                      <a:pt x="197" y="6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54520" y="506520"/>
                <a:ext cx="118440" cy="71280"/>
              </a:xfrm>
              <a:custGeom>
                <a:avLst/>
                <a:gdLst/>
                <a:ahLst/>
                <a:rect l="l" t="t" r="r" b="b"/>
                <a:pathLst>
                  <a:path w="257" h="208">
                    <a:moveTo>
                      <a:pt x="257" y="15"/>
                    </a:moveTo>
                    <a:lnTo>
                      <a:pt x="191" y="190"/>
                    </a:lnTo>
                    <a:lnTo>
                      <a:pt x="125" y="208"/>
                    </a:lnTo>
                    <a:lnTo>
                      <a:pt x="92" y="205"/>
                    </a:lnTo>
                    <a:lnTo>
                      <a:pt x="59" y="193"/>
                    </a:lnTo>
                    <a:lnTo>
                      <a:pt x="33" y="173"/>
                    </a:lnTo>
                    <a:lnTo>
                      <a:pt x="16" y="152"/>
                    </a:lnTo>
                    <a:lnTo>
                      <a:pt x="5" y="126"/>
                    </a:lnTo>
                    <a:lnTo>
                      <a:pt x="0" y="103"/>
                    </a:lnTo>
                    <a:lnTo>
                      <a:pt x="2" y="72"/>
                    </a:lnTo>
                    <a:lnTo>
                      <a:pt x="11" y="50"/>
                    </a:lnTo>
                    <a:lnTo>
                      <a:pt x="30" y="32"/>
                    </a:lnTo>
                    <a:lnTo>
                      <a:pt x="54" y="18"/>
                    </a:lnTo>
                    <a:lnTo>
                      <a:pt x="82" y="10"/>
                    </a:lnTo>
                    <a:lnTo>
                      <a:pt x="106" y="6"/>
                    </a:lnTo>
                    <a:lnTo>
                      <a:pt x="133" y="2"/>
                    </a:lnTo>
                    <a:lnTo>
                      <a:pt x="153" y="2"/>
                    </a:lnTo>
                    <a:lnTo>
                      <a:pt x="180" y="0"/>
                    </a:lnTo>
                    <a:lnTo>
                      <a:pt x="257" y="15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00600" y="502560"/>
                <a:ext cx="82440" cy="57960"/>
              </a:xfrm>
              <a:custGeom>
                <a:avLst/>
                <a:gdLst/>
                <a:ahLst/>
                <a:rect l="l" t="t" r="r" b="b"/>
                <a:pathLst>
                  <a:path w="179" h="170">
                    <a:moveTo>
                      <a:pt x="0" y="21"/>
                    </a:moveTo>
                    <a:lnTo>
                      <a:pt x="33" y="43"/>
                    </a:lnTo>
                    <a:lnTo>
                      <a:pt x="48" y="65"/>
                    </a:lnTo>
                    <a:lnTo>
                      <a:pt x="56" y="87"/>
                    </a:lnTo>
                    <a:lnTo>
                      <a:pt x="58" y="119"/>
                    </a:lnTo>
                    <a:lnTo>
                      <a:pt x="52" y="145"/>
                    </a:lnTo>
                    <a:lnTo>
                      <a:pt x="33" y="170"/>
                    </a:lnTo>
                    <a:lnTo>
                      <a:pt x="179" y="141"/>
                    </a:lnTo>
                    <a:lnTo>
                      <a:pt x="167" y="0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77200" y="457560"/>
                <a:ext cx="1202760" cy="120240"/>
              </a:xfrm>
              <a:custGeom>
                <a:avLst/>
                <a:gdLst/>
                <a:ahLst/>
                <a:rect l="l" t="t" r="r" b="b"/>
                <a:pathLst>
                  <a:path w="2610" h="351">
                    <a:moveTo>
                      <a:pt x="2470" y="26"/>
                    </a:moveTo>
                    <a:lnTo>
                      <a:pt x="0" y="0"/>
                    </a:lnTo>
                    <a:lnTo>
                      <a:pt x="69" y="10"/>
                    </a:lnTo>
                    <a:lnTo>
                      <a:pt x="95" y="17"/>
                    </a:lnTo>
                    <a:lnTo>
                      <a:pt x="121" y="28"/>
                    </a:lnTo>
                    <a:lnTo>
                      <a:pt x="139" y="44"/>
                    </a:lnTo>
                    <a:lnTo>
                      <a:pt x="159" y="67"/>
                    </a:lnTo>
                    <a:lnTo>
                      <a:pt x="169" y="95"/>
                    </a:lnTo>
                    <a:lnTo>
                      <a:pt x="175" y="124"/>
                    </a:lnTo>
                    <a:lnTo>
                      <a:pt x="178" y="153"/>
                    </a:lnTo>
                    <a:lnTo>
                      <a:pt x="180" y="178"/>
                    </a:lnTo>
                    <a:lnTo>
                      <a:pt x="175" y="215"/>
                    </a:lnTo>
                    <a:lnTo>
                      <a:pt x="169" y="250"/>
                    </a:lnTo>
                    <a:lnTo>
                      <a:pt x="151" y="281"/>
                    </a:lnTo>
                    <a:lnTo>
                      <a:pt x="125" y="311"/>
                    </a:lnTo>
                    <a:lnTo>
                      <a:pt x="92" y="332"/>
                    </a:lnTo>
                    <a:lnTo>
                      <a:pt x="65" y="351"/>
                    </a:lnTo>
                    <a:lnTo>
                      <a:pt x="227" y="333"/>
                    </a:lnTo>
                    <a:lnTo>
                      <a:pt x="407" y="307"/>
                    </a:lnTo>
                    <a:lnTo>
                      <a:pt x="692" y="289"/>
                    </a:lnTo>
                    <a:lnTo>
                      <a:pt x="928" y="272"/>
                    </a:lnTo>
                    <a:lnTo>
                      <a:pt x="1212" y="272"/>
                    </a:lnTo>
                    <a:lnTo>
                      <a:pt x="1523" y="281"/>
                    </a:lnTo>
                    <a:lnTo>
                      <a:pt x="1911" y="289"/>
                    </a:lnTo>
                    <a:lnTo>
                      <a:pt x="2281" y="316"/>
                    </a:lnTo>
                    <a:lnTo>
                      <a:pt x="2432" y="342"/>
                    </a:lnTo>
                    <a:lnTo>
                      <a:pt x="2475" y="348"/>
                    </a:lnTo>
                    <a:lnTo>
                      <a:pt x="2522" y="349"/>
                    </a:lnTo>
                    <a:lnTo>
                      <a:pt x="2555" y="342"/>
                    </a:lnTo>
                    <a:lnTo>
                      <a:pt x="2584" y="316"/>
                    </a:lnTo>
                    <a:lnTo>
                      <a:pt x="2599" y="284"/>
                    </a:lnTo>
                    <a:lnTo>
                      <a:pt x="2607" y="256"/>
                    </a:lnTo>
                    <a:lnTo>
                      <a:pt x="2610" y="225"/>
                    </a:lnTo>
                    <a:lnTo>
                      <a:pt x="2604" y="169"/>
                    </a:lnTo>
                    <a:lnTo>
                      <a:pt x="2592" y="134"/>
                    </a:lnTo>
                    <a:lnTo>
                      <a:pt x="2573" y="98"/>
                    </a:lnTo>
                    <a:lnTo>
                      <a:pt x="2555" y="74"/>
                    </a:lnTo>
                    <a:lnTo>
                      <a:pt x="2535" y="55"/>
                    </a:lnTo>
                    <a:lnTo>
                      <a:pt x="2505" y="36"/>
                    </a:lnTo>
                    <a:lnTo>
                      <a:pt x="2470" y="26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9" name=""/>
            <p:cNvGraphicFramePr/>
            <p:nvPr/>
          </p:nvGraphicFramePr>
          <p:xfrm>
            <a:off x="935280" y="260280"/>
            <a:ext cx="729720" cy="501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35280" y="260280"/>
                      <a:ext cx="72972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" name=""/>
            <p:cNvGraphicFramePr/>
            <p:nvPr/>
          </p:nvGraphicFramePr>
          <p:xfrm>
            <a:off x="859680" y="752760"/>
            <a:ext cx="467640" cy="503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59680" y="752760"/>
                      <a:ext cx="467640" cy="50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 txBox="1"/>
            <p:nvPr/>
          </p:nvSpPr>
          <p:spPr>
            <a:xfrm>
              <a:off x="406080" y="588600"/>
              <a:ext cx="663840" cy="29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У № 70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1238040" y="1299960"/>
              <a:ext cx="298080" cy="331560"/>
              <a:chOff x="1238040" y="1299960"/>
              <a:chExt cx="298080" cy="331560"/>
            </a:xfrm>
          </p:grpSpPr>
          <p:sp>
            <p:nvSpPr>
              <p:cNvPr id="55" name=""/>
              <p:cNvSpPr/>
              <p:nvPr/>
            </p:nvSpPr>
            <p:spPr>
              <a:xfrm>
                <a:off x="1238040" y="1386720"/>
                <a:ext cx="298080" cy="244800"/>
              </a:xfrm>
              <a:custGeom>
                <a:avLst/>
                <a:gdLst/>
                <a:ahLst/>
                <a:rect l="l" t="t" r="r" b="b"/>
                <a:pathLst>
                  <a:path w="648" h="715">
                    <a:moveTo>
                      <a:pt x="223" y="36"/>
                    </a:moveTo>
                    <a:lnTo>
                      <a:pt x="160" y="277"/>
                    </a:lnTo>
                    <a:lnTo>
                      <a:pt x="86" y="481"/>
                    </a:lnTo>
                    <a:lnTo>
                      <a:pt x="0" y="715"/>
                    </a:lnTo>
                    <a:lnTo>
                      <a:pt x="72" y="669"/>
                    </a:lnTo>
                    <a:lnTo>
                      <a:pt x="155" y="617"/>
                    </a:lnTo>
                    <a:lnTo>
                      <a:pt x="202" y="592"/>
                    </a:lnTo>
                    <a:lnTo>
                      <a:pt x="238" y="576"/>
                    </a:lnTo>
                    <a:lnTo>
                      <a:pt x="275" y="568"/>
                    </a:lnTo>
                    <a:lnTo>
                      <a:pt x="309" y="564"/>
                    </a:lnTo>
                    <a:lnTo>
                      <a:pt x="356" y="555"/>
                    </a:lnTo>
                    <a:lnTo>
                      <a:pt x="327" y="476"/>
                    </a:lnTo>
                    <a:lnTo>
                      <a:pt x="364" y="472"/>
                    </a:lnTo>
                    <a:lnTo>
                      <a:pt x="408" y="481"/>
                    </a:lnTo>
                    <a:lnTo>
                      <a:pt x="451" y="503"/>
                    </a:lnTo>
                    <a:lnTo>
                      <a:pt x="486" y="524"/>
                    </a:lnTo>
                    <a:lnTo>
                      <a:pt x="515" y="548"/>
                    </a:lnTo>
                    <a:lnTo>
                      <a:pt x="545" y="573"/>
                    </a:lnTo>
                    <a:lnTo>
                      <a:pt x="593" y="617"/>
                    </a:lnTo>
                    <a:lnTo>
                      <a:pt x="648" y="659"/>
                    </a:lnTo>
                    <a:lnTo>
                      <a:pt x="636" y="507"/>
                    </a:lnTo>
                    <a:lnTo>
                      <a:pt x="606" y="385"/>
                    </a:lnTo>
                    <a:lnTo>
                      <a:pt x="576" y="244"/>
                    </a:lnTo>
                    <a:lnTo>
                      <a:pt x="550" y="140"/>
                    </a:lnTo>
                    <a:lnTo>
                      <a:pt x="533" y="58"/>
                    </a:lnTo>
                    <a:lnTo>
                      <a:pt x="526" y="0"/>
                    </a:lnTo>
                    <a:lnTo>
                      <a:pt x="223" y="36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17960" y="1299960"/>
                <a:ext cx="180360" cy="12816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319760" y="1302840"/>
                <a:ext cx="173520" cy="124560"/>
              </a:xfrm>
              <a:custGeom>
                <a:avLst/>
                <a:gdLst/>
                <a:ahLst/>
                <a:rect l="l" t="t" r="r" b="b"/>
                <a:pathLst>
                  <a:path w="377" h="364">
                    <a:moveTo>
                      <a:pt x="186" y="0"/>
                    </a:moveTo>
                    <a:lnTo>
                      <a:pt x="172" y="67"/>
                    </a:lnTo>
                    <a:lnTo>
                      <a:pt x="133" y="8"/>
                    </a:lnTo>
                    <a:lnTo>
                      <a:pt x="142" y="73"/>
                    </a:lnTo>
                    <a:lnTo>
                      <a:pt x="94" y="24"/>
                    </a:lnTo>
                    <a:lnTo>
                      <a:pt x="113" y="89"/>
                    </a:lnTo>
                    <a:lnTo>
                      <a:pt x="61" y="50"/>
                    </a:lnTo>
                    <a:lnTo>
                      <a:pt x="91" y="111"/>
                    </a:lnTo>
                    <a:lnTo>
                      <a:pt x="27" y="87"/>
                    </a:lnTo>
                    <a:lnTo>
                      <a:pt x="72" y="137"/>
                    </a:lnTo>
                    <a:lnTo>
                      <a:pt x="6" y="130"/>
                    </a:lnTo>
                    <a:lnTo>
                      <a:pt x="69" y="163"/>
                    </a:lnTo>
                    <a:lnTo>
                      <a:pt x="0" y="180"/>
                    </a:lnTo>
                    <a:lnTo>
                      <a:pt x="69" y="196"/>
                    </a:lnTo>
                    <a:lnTo>
                      <a:pt x="6" y="225"/>
                    </a:lnTo>
                    <a:lnTo>
                      <a:pt x="74" y="226"/>
                    </a:lnTo>
                    <a:lnTo>
                      <a:pt x="25" y="273"/>
                    </a:lnTo>
                    <a:lnTo>
                      <a:pt x="89" y="253"/>
                    </a:lnTo>
                    <a:lnTo>
                      <a:pt x="54" y="309"/>
                    </a:lnTo>
                    <a:lnTo>
                      <a:pt x="113" y="276"/>
                    </a:lnTo>
                    <a:lnTo>
                      <a:pt x="94" y="339"/>
                    </a:lnTo>
                    <a:lnTo>
                      <a:pt x="136" y="294"/>
                    </a:lnTo>
                    <a:lnTo>
                      <a:pt x="134" y="358"/>
                    </a:lnTo>
                    <a:lnTo>
                      <a:pt x="165" y="298"/>
                    </a:lnTo>
                    <a:lnTo>
                      <a:pt x="186" y="364"/>
                    </a:lnTo>
                    <a:lnTo>
                      <a:pt x="202" y="301"/>
                    </a:lnTo>
                    <a:lnTo>
                      <a:pt x="222" y="361"/>
                    </a:lnTo>
                    <a:lnTo>
                      <a:pt x="234" y="295"/>
                    </a:lnTo>
                    <a:lnTo>
                      <a:pt x="269" y="346"/>
                    </a:lnTo>
                    <a:lnTo>
                      <a:pt x="260" y="280"/>
                    </a:lnTo>
                    <a:lnTo>
                      <a:pt x="308" y="318"/>
                    </a:lnTo>
                    <a:lnTo>
                      <a:pt x="284" y="257"/>
                    </a:lnTo>
                    <a:lnTo>
                      <a:pt x="345" y="279"/>
                    </a:lnTo>
                    <a:lnTo>
                      <a:pt x="304" y="231"/>
                    </a:lnTo>
                    <a:lnTo>
                      <a:pt x="369" y="230"/>
                    </a:lnTo>
                    <a:lnTo>
                      <a:pt x="311" y="203"/>
                    </a:lnTo>
                    <a:lnTo>
                      <a:pt x="377" y="180"/>
                    </a:lnTo>
                    <a:lnTo>
                      <a:pt x="309" y="164"/>
                    </a:lnTo>
                    <a:lnTo>
                      <a:pt x="372" y="139"/>
                    </a:lnTo>
                    <a:lnTo>
                      <a:pt x="302" y="135"/>
                    </a:lnTo>
                    <a:lnTo>
                      <a:pt x="358" y="98"/>
                    </a:lnTo>
                    <a:lnTo>
                      <a:pt x="291" y="108"/>
                    </a:lnTo>
                    <a:lnTo>
                      <a:pt x="331" y="59"/>
                    </a:lnTo>
                    <a:lnTo>
                      <a:pt x="270" y="87"/>
                    </a:lnTo>
                    <a:lnTo>
                      <a:pt x="293" y="33"/>
                    </a:lnTo>
                    <a:lnTo>
                      <a:pt x="243" y="73"/>
                    </a:lnTo>
                    <a:lnTo>
                      <a:pt x="252" y="11"/>
                    </a:lnTo>
                    <a:lnTo>
                      <a:pt x="211" y="63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51440" y="1320480"/>
                <a:ext cx="113040" cy="874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362240" y="1425600"/>
                <a:ext cx="26640" cy="134280"/>
              </a:xfrm>
              <a:custGeom>
                <a:avLst/>
                <a:gdLst/>
                <a:ahLst/>
                <a:rect l="l" t="t" r="r" b="b"/>
                <a:pathLst>
                  <a:path w="58" h="392">
                    <a:moveTo>
                      <a:pt x="58" y="360"/>
                    </a:moveTo>
                    <a:lnTo>
                      <a:pt x="25" y="376"/>
                    </a:lnTo>
                    <a:lnTo>
                      <a:pt x="0" y="392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 txBox="1"/>
            <p:nvPr/>
          </p:nvSpPr>
          <p:spPr>
            <a:xfrm>
              <a:off x="632880" y="1190520"/>
              <a:ext cx="226800" cy="16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375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Пб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0" t="0" r="3953" b="0"/>
          <a:stretch/>
        </p:blipFill>
        <p:spPr>
          <a:xfrm rot="20459400">
            <a:off x="2124000" y="3499920"/>
            <a:ext cx="2184480" cy="3049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 rot="1058400">
            <a:off x="4787640" y="3428640"/>
            <a:ext cx="1771560" cy="2475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мятка по постановке на воинский уч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2411280" y="1484280"/>
            <a:ext cx="4038840" cy="21081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539640" y="692280"/>
          <a:ext cx="8280360" cy="5329080"/>
        </p:xfrm>
        <a:graphic>
          <a:graphicData uri="http://schemas.openxmlformats.org/drawingml/2006/table">
            <a:tbl>
              <a:tblPr/>
              <a:tblGrid>
                <a:gridCol w="7101000"/>
                <a:gridCol w="11793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кают мысль о совершении преступл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ают поступки, не думая о последствия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упали во взаимоотношения с преступник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али самовольные уходы из детского д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ят смотреть фильмы-бо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ются равнодушными, когда смотрят передачи, фильмы о преступления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250920" y="404640"/>
          <a:ext cx="8641800" cy="5760000"/>
        </p:xfrm>
        <a:graphic>
          <a:graphicData uri="http://schemas.openxmlformats.org/drawingml/2006/table">
            <a:tbl>
              <a:tblPr/>
              <a:tblGrid>
                <a:gridCol w="7411680"/>
                <a:gridCol w="123012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ят общественный поряд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ятся быть организованными и дисциплинированны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представления о правах чело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ют ценность человеческой жизни, здоровья, свободы и достоинства люд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ативно относятся к жестокости, насил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ятся знать свои права и обяза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360" y="2491920"/>
            <a:ext cx="545616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Стремитесь делать тихое добро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Не ради похвалы или награды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В пример им выдвижения не рады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Дарите людям знания и тепло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Стремитесь делать все не напоказ,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Пусть искренни порывы Ваши будут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Сознание чье-то пусть они разбудят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И чистота исходит пусть от В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516720" y="3645000"/>
            <a:ext cx="2016000" cy="12477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977080" y="5187600"/>
            <a:ext cx="25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70@inbox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1292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68000" y="1233360"/>
            <a:ext cx="614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езентация подготовле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осная Галина Владимировна  социальный педаг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эмблема копия"/>
          <p:cNvPicPr/>
          <p:nvPr/>
        </p:nvPicPr>
        <p:blipFill>
          <a:blip r:embed="rId1"/>
          <a:stretch/>
        </p:blipFill>
        <p:spPr>
          <a:xfrm>
            <a:off x="324000" y="0"/>
            <a:ext cx="1176120" cy="1143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551640" y="3645000"/>
            <a:ext cx="2016000" cy="12477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977080" y="5187600"/>
            <a:ext cx="25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70@inbox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79280" y="112500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ОЦИАЛИЗАЦИИ ДЕТЕЙ-СИРОТ И ДЕТЕЙ, ОСТАВШИХСЯ БЕЗ ПОПЕЧЕНИЯ РОДИТЕЛ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 СИСТЕМЕ ВОСПИТАТЕЛЬНО-ОБРАЗОВАТЕЛЬНОГО ПРОЦ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 БАЗЕ ГОУ Н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ФЕССИОНАЛЬНОГО УЧИЛИЩА № 7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 2011-201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24000" y="692280"/>
            <a:ext cx="1485720" cy="1371240"/>
            <a:chOff x="324000" y="692280"/>
            <a:chExt cx="1485720" cy="1371240"/>
          </a:xfrm>
        </p:grpSpPr>
        <p:grpSp>
          <p:nvGrpSpPr>
            <p:cNvPr id="63" name=""/>
            <p:cNvGrpSpPr/>
            <p:nvPr/>
          </p:nvGrpSpPr>
          <p:grpSpPr>
            <a:xfrm>
              <a:off x="324000" y="889200"/>
              <a:ext cx="1436400" cy="1088640"/>
              <a:chOff x="324000" y="889200"/>
              <a:chExt cx="1436400" cy="1088640"/>
            </a:xfrm>
          </p:grpSpPr>
          <p:sp>
            <p:nvSpPr>
              <p:cNvPr id="64" name=""/>
              <p:cNvSpPr/>
              <p:nvPr/>
            </p:nvSpPr>
            <p:spPr>
              <a:xfrm>
                <a:off x="436680" y="1871640"/>
                <a:ext cx="255960" cy="106200"/>
              </a:xfrm>
              <a:custGeom>
                <a:avLst/>
                <a:gdLst/>
                <a:ahLst/>
                <a:rect l="l" t="t" r="r" b="b"/>
                <a:pathLst>
                  <a:path w="556" h="310">
                    <a:moveTo>
                      <a:pt x="356" y="0"/>
                    </a:moveTo>
                    <a:lnTo>
                      <a:pt x="72" y="26"/>
                    </a:lnTo>
                    <a:lnTo>
                      <a:pt x="44" y="46"/>
                    </a:lnTo>
                    <a:lnTo>
                      <a:pt x="26" y="70"/>
                    </a:lnTo>
                    <a:lnTo>
                      <a:pt x="11" y="96"/>
                    </a:lnTo>
                    <a:lnTo>
                      <a:pt x="0" y="140"/>
                    </a:lnTo>
                    <a:lnTo>
                      <a:pt x="1" y="188"/>
                    </a:lnTo>
                    <a:lnTo>
                      <a:pt x="11" y="215"/>
                    </a:lnTo>
                    <a:lnTo>
                      <a:pt x="26" y="244"/>
                    </a:lnTo>
                    <a:lnTo>
                      <a:pt x="56" y="269"/>
                    </a:lnTo>
                    <a:lnTo>
                      <a:pt x="91" y="289"/>
                    </a:lnTo>
                    <a:lnTo>
                      <a:pt x="127" y="301"/>
                    </a:lnTo>
                    <a:lnTo>
                      <a:pt x="157" y="307"/>
                    </a:lnTo>
                    <a:lnTo>
                      <a:pt x="198" y="310"/>
                    </a:lnTo>
                    <a:lnTo>
                      <a:pt x="195" y="307"/>
                    </a:lnTo>
                    <a:lnTo>
                      <a:pt x="416" y="286"/>
                    </a:lnTo>
                    <a:lnTo>
                      <a:pt x="556" y="0"/>
                    </a:lnTo>
                    <a:lnTo>
                      <a:pt x="356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24000" y="889200"/>
                <a:ext cx="1436400" cy="1087560"/>
              </a:xfrm>
              <a:custGeom>
                <a:avLst/>
                <a:gdLst/>
                <a:ahLst/>
                <a:rect l="l" t="t" r="r" b="b"/>
                <a:pathLst>
                  <a:path w="3118" h="3174">
                    <a:moveTo>
                      <a:pt x="197" y="6"/>
                    </a:moveTo>
                    <a:lnTo>
                      <a:pt x="175" y="12"/>
                    </a:lnTo>
                    <a:lnTo>
                      <a:pt x="147" y="25"/>
                    </a:lnTo>
                    <a:lnTo>
                      <a:pt x="112" y="54"/>
                    </a:lnTo>
                    <a:lnTo>
                      <a:pt x="67" y="97"/>
                    </a:lnTo>
                    <a:lnTo>
                      <a:pt x="34" y="142"/>
                    </a:lnTo>
                    <a:lnTo>
                      <a:pt x="15" y="190"/>
                    </a:lnTo>
                    <a:lnTo>
                      <a:pt x="7" y="233"/>
                    </a:lnTo>
                    <a:lnTo>
                      <a:pt x="0" y="289"/>
                    </a:lnTo>
                    <a:lnTo>
                      <a:pt x="0" y="343"/>
                    </a:lnTo>
                    <a:lnTo>
                      <a:pt x="8" y="388"/>
                    </a:lnTo>
                    <a:lnTo>
                      <a:pt x="15" y="435"/>
                    </a:lnTo>
                    <a:lnTo>
                      <a:pt x="24" y="476"/>
                    </a:lnTo>
                    <a:lnTo>
                      <a:pt x="56" y="584"/>
                    </a:lnTo>
                    <a:lnTo>
                      <a:pt x="100" y="704"/>
                    </a:lnTo>
                    <a:lnTo>
                      <a:pt x="166" y="836"/>
                    </a:lnTo>
                    <a:lnTo>
                      <a:pt x="232" y="986"/>
                    </a:lnTo>
                    <a:lnTo>
                      <a:pt x="298" y="1118"/>
                    </a:lnTo>
                    <a:lnTo>
                      <a:pt x="355" y="1250"/>
                    </a:lnTo>
                    <a:lnTo>
                      <a:pt x="421" y="1408"/>
                    </a:lnTo>
                    <a:lnTo>
                      <a:pt x="478" y="1610"/>
                    </a:lnTo>
                    <a:lnTo>
                      <a:pt x="516" y="1785"/>
                    </a:lnTo>
                    <a:lnTo>
                      <a:pt x="553" y="2005"/>
                    </a:lnTo>
                    <a:lnTo>
                      <a:pt x="572" y="2242"/>
                    </a:lnTo>
                    <a:lnTo>
                      <a:pt x="601" y="2453"/>
                    </a:lnTo>
                    <a:lnTo>
                      <a:pt x="601" y="2568"/>
                    </a:lnTo>
                    <a:lnTo>
                      <a:pt x="601" y="2717"/>
                    </a:lnTo>
                    <a:lnTo>
                      <a:pt x="601" y="2814"/>
                    </a:lnTo>
                    <a:lnTo>
                      <a:pt x="593" y="2905"/>
                    </a:lnTo>
                    <a:lnTo>
                      <a:pt x="563" y="2998"/>
                    </a:lnTo>
                    <a:lnTo>
                      <a:pt x="542" y="3054"/>
                    </a:lnTo>
                    <a:lnTo>
                      <a:pt x="516" y="3104"/>
                    </a:lnTo>
                    <a:lnTo>
                      <a:pt x="489" y="3136"/>
                    </a:lnTo>
                    <a:lnTo>
                      <a:pt x="470" y="3155"/>
                    </a:lnTo>
                    <a:lnTo>
                      <a:pt x="449" y="3174"/>
                    </a:lnTo>
                    <a:lnTo>
                      <a:pt x="727" y="3146"/>
                    </a:lnTo>
                    <a:lnTo>
                      <a:pt x="1264" y="3077"/>
                    </a:lnTo>
                    <a:lnTo>
                      <a:pt x="1708" y="3025"/>
                    </a:lnTo>
                    <a:lnTo>
                      <a:pt x="2219" y="2972"/>
                    </a:lnTo>
                    <a:lnTo>
                      <a:pt x="2598" y="2954"/>
                    </a:lnTo>
                    <a:lnTo>
                      <a:pt x="2891" y="2963"/>
                    </a:lnTo>
                    <a:lnTo>
                      <a:pt x="2967" y="2963"/>
                    </a:lnTo>
                    <a:lnTo>
                      <a:pt x="3014" y="2954"/>
                    </a:lnTo>
                    <a:lnTo>
                      <a:pt x="3042" y="2911"/>
                    </a:lnTo>
                    <a:lnTo>
                      <a:pt x="3071" y="2862"/>
                    </a:lnTo>
                    <a:lnTo>
                      <a:pt x="3094" y="2791"/>
                    </a:lnTo>
                    <a:lnTo>
                      <a:pt x="3109" y="2704"/>
                    </a:lnTo>
                    <a:lnTo>
                      <a:pt x="3118" y="2621"/>
                    </a:lnTo>
                    <a:lnTo>
                      <a:pt x="3118" y="2499"/>
                    </a:lnTo>
                    <a:lnTo>
                      <a:pt x="3113" y="2404"/>
                    </a:lnTo>
                    <a:lnTo>
                      <a:pt x="3109" y="2251"/>
                    </a:lnTo>
                    <a:lnTo>
                      <a:pt x="3080" y="2084"/>
                    </a:lnTo>
                    <a:lnTo>
                      <a:pt x="3033" y="1869"/>
                    </a:lnTo>
                    <a:lnTo>
                      <a:pt x="2976" y="1671"/>
                    </a:lnTo>
                    <a:lnTo>
                      <a:pt x="2929" y="1496"/>
                    </a:lnTo>
                    <a:lnTo>
                      <a:pt x="2853" y="1302"/>
                    </a:lnTo>
                    <a:lnTo>
                      <a:pt x="2778" y="1127"/>
                    </a:lnTo>
                    <a:lnTo>
                      <a:pt x="2712" y="960"/>
                    </a:lnTo>
                    <a:lnTo>
                      <a:pt x="2608" y="722"/>
                    </a:lnTo>
                    <a:lnTo>
                      <a:pt x="2551" y="581"/>
                    </a:lnTo>
                    <a:lnTo>
                      <a:pt x="2516" y="487"/>
                    </a:lnTo>
                    <a:lnTo>
                      <a:pt x="2497" y="414"/>
                    </a:lnTo>
                    <a:lnTo>
                      <a:pt x="2490" y="346"/>
                    </a:lnTo>
                    <a:lnTo>
                      <a:pt x="2490" y="286"/>
                    </a:lnTo>
                    <a:lnTo>
                      <a:pt x="2532" y="72"/>
                    </a:lnTo>
                    <a:lnTo>
                      <a:pt x="2551" y="28"/>
                    </a:lnTo>
                    <a:lnTo>
                      <a:pt x="227" y="0"/>
                    </a:lnTo>
                    <a:lnTo>
                      <a:pt x="197" y="6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99240" y="938520"/>
                <a:ext cx="118440" cy="71280"/>
              </a:xfrm>
              <a:custGeom>
                <a:avLst/>
                <a:gdLst/>
                <a:ahLst/>
                <a:rect l="l" t="t" r="r" b="b"/>
                <a:pathLst>
                  <a:path w="257" h="208">
                    <a:moveTo>
                      <a:pt x="257" y="15"/>
                    </a:moveTo>
                    <a:lnTo>
                      <a:pt x="191" y="190"/>
                    </a:lnTo>
                    <a:lnTo>
                      <a:pt x="125" y="208"/>
                    </a:lnTo>
                    <a:lnTo>
                      <a:pt x="92" y="205"/>
                    </a:lnTo>
                    <a:lnTo>
                      <a:pt x="59" y="193"/>
                    </a:lnTo>
                    <a:lnTo>
                      <a:pt x="33" y="173"/>
                    </a:lnTo>
                    <a:lnTo>
                      <a:pt x="16" y="152"/>
                    </a:lnTo>
                    <a:lnTo>
                      <a:pt x="5" y="126"/>
                    </a:lnTo>
                    <a:lnTo>
                      <a:pt x="0" y="103"/>
                    </a:lnTo>
                    <a:lnTo>
                      <a:pt x="2" y="72"/>
                    </a:lnTo>
                    <a:lnTo>
                      <a:pt x="11" y="50"/>
                    </a:lnTo>
                    <a:lnTo>
                      <a:pt x="30" y="32"/>
                    </a:lnTo>
                    <a:lnTo>
                      <a:pt x="54" y="18"/>
                    </a:lnTo>
                    <a:lnTo>
                      <a:pt x="82" y="10"/>
                    </a:lnTo>
                    <a:lnTo>
                      <a:pt x="106" y="6"/>
                    </a:lnTo>
                    <a:lnTo>
                      <a:pt x="133" y="2"/>
                    </a:lnTo>
                    <a:lnTo>
                      <a:pt x="153" y="2"/>
                    </a:lnTo>
                    <a:lnTo>
                      <a:pt x="180" y="0"/>
                    </a:lnTo>
                    <a:lnTo>
                      <a:pt x="257" y="15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45320" y="934560"/>
                <a:ext cx="82440" cy="57960"/>
              </a:xfrm>
              <a:custGeom>
                <a:avLst/>
                <a:gdLst/>
                <a:ahLst/>
                <a:rect l="l" t="t" r="r" b="b"/>
                <a:pathLst>
                  <a:path w="179" h="170">
                    <a:moveTo>
                      <a:pt x="0" y="21"/>
                    </a:moveTo>
                    <a:lnTo>
                      <a:pt x="33" y="43"/>
                    </a:lnTo>
                    <a:lnTo>
                      <a:pt x="48" y="65"/>
                    </a:lnTo>
                    <a:lnTo>
                      <a:pt x="56" y="87"/>
                    </a:lnTo>
                    <a:lnTo>
                      <a:pt x="58" y="119"/>
                    </a:lnTo>
                    <a:lnTo>
                      <a:pt x="52" y="145"/>
                    </a:lnTo>
                    <a:lnTo>
                      <a:pt x="33" y="170"/>
                    </a:lnTo>
                    <a:lnTo>
                      <a:pt x="179" y="141"/>
                    </a:lnTo>
                    <a:lnTo>
                      <a:pt x="167" y="0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1920" y="889560"/>
                <a:ext cx="1202400" cy="120240"/>
              </a:xfrm>
              <a:custGeom>
                <a:avLst/>
                <a:gdLst/>
                <a:ahLst/>
                <a:rect l="l" t="t" r="r" b="b"/>
                <a:pathLst>
                  <a:path w="2610" h="351">
                    <a:moveTo>
                      <a:pt x="2470" y="26"/>
                    </a:moveTo>
                    <a:lnTo>
                      <a:pt x="0" y="0"/>
                    </a:lnTo>
                    <a:lnTo>
                      <a:pt x="69" y="10"/>
                    </a:lnTo>
                    <a:lnTo>
                      <a:pt x="95" y="17"/>
                    </a:lnTo>
                    <a:lnTo>
                      <a:pt x="121" y="28"/>
                    </a:lnTo>
                    <a:lnTo>
                      <a:pt x="139" y="44"/>
                    </a:lnTo>
                    <a:lnTo>
                      <a:pt x="159" y="67"/>
                    </a:lnTo>
                    <a:lnTo>
                      <a:pt x="169" y="95"/>
                    </a:lnTo>
                    <a:lnTo>
                      <a:pt x="175" y="124"/>
                    </a:lnTo>
                    <a:lnTo>
                      <a:pt x="178" y="153"/>
                    </a:lnTo>
                    <a:lnTo>
                      <a:pt x="180" y="178"/>
                    </a:lnTo>
                    <a:lnTo>
                      <a:pt x="175" y="215"/>
                    </a:lnTo>
                    <a:lnTo>
                      <a:pt x="169" y="250"/>
                    </a:lnTo>
                    <a:lnTo>
                      <a:pt x="151" y="281"/>
                    </a:lnTo>
                    <a:lnTo>
                      <a:pt x="125" y="311"/>
                    </a:lnTo>
                    <a:lnTo>
                      <a:pt x="92" y="332"/>
                    </a:lnTo>
                    <a:lnTo>
                      <a:pt x="65" y="351"/>
                    </a:lnTo>
                    <a:lnTo>
                      <a:pt x="227" y="333"/>
                    </a:lnTo>
                    <a:lnTo>
                      <a:pt x="407" y="307"/>
                    </a:lnTo>
                    <a:lnTo>
                      <a:pt x="692" y="289"/>
                    </a:lnTo>
                    <a:lnTo>
                      <a:pt x="928" y="272"/>
                    </a:lnTo>
                    <a:lnTo>
                      <a:pt x="1212" y="272"/>
                    </a:lnTo>
                    <a:lnTo>
                      <a:pt x="1523" y="281"/>
                    </a:lnTo>
                    <a:lnTo>
                      <a:pt x="1911" y="289"/>
                    </a:lnTo>
                    <a:lnTo>
                      <a:pt x="2281" y="316"/>
                    </a:lnTo>
                    <a:lnTo>
                      <a:pt x="2432" y="342"/>
                    </a:lnTo>
                    <a:lnTo>
                      <a:pt x="2475" y="348"/>
                    </a:lnTo>
                    <a:lnTo>
                      <a:pt x="2522" y="349"/>
                    </a:lnTo>
                    <a:lnTo>
                      <a:pt x="2555" y="342"/>
                    </a:lnTo>
                    <a:lnTo>
                      <a:pt x="2584" y="316"/>
                    </a:lnTo>
                    <a:lnTo>
                      <a:pt x="2599" y="284"/>
                    </a:lnTo>
                    <a:lnTo>
                      <a:pt x="2607" y="256"/>
                    </a:lnTo>
                    <a:lnTo>
                      <a:pt x="2610" y="225"/>
                    </a:lnTo>
                    <a:lnTo>
                      <a:pt x="2604" y="169"/>
                    </a:lnTo>
                    <a:lnTo>
                      <a:pt x="2592" y="134"/>
                    </a:lnTo>
                    <a:lnTo>
                      <a:pt x="2573" y="98"/>
                    </a:lnTo>
                    <a:lnTo>
                      <a:pt x="2555" y="74"/>
                    </a:lnTo>
                    <a:lnTo>
                      <a:pt x="2535" y="55"/>
                    </a:lnTo>
                    <a:lnTo>
                      <a:pt x="2505" y="36"/>
                    </a:lnTo>
                    <a:lnTo>
                      <a:pt x="2470" y="26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69" name=""/>
            <p:cNvGraphicFramePr/>
            <p:nvPr/>
          </p:nvGraphicFramePr>
          <p:xfrm>
            <a:off x="1080000" y="692280"/>
            <a:ext cx="729720" cy="501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080000" y="692280"/>
                      <a:ext cx="72972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1004400" y="1184760"/>
            <a:ext cx="467640" cy="503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004400" y="1184760"/>
                      <a:ext cx="467640" cy="50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"/>
            <p:cNvSpPr txBox="1"/>
            <p:nvPr/>
          </p:nvSpPr>
          <p:spPr>
            <a:xfrm>
              <a:off x="550800" y="1020600"/>
              <a:ext cx="663480" cy="29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У № 70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382400" y="1731960"/>
              <a:ext cx="298080" cy="331560"/>
              <a:chOff x="1382400" y="1731960"/>
              <a:chExt cx="298080" cy="331560"/>
            </a:xfrm>
          </p:grpSpPr>
          <p:sp>
            <p:nvSpPr>
              <p:cNvPr id="75" name=""/>
              <p:cNvSpPr/>
              <p:nvPr/>
            </p:nvSpPr>
            <p:spPr>
              <a:xfrm>
                <a:off x="1382400" y="1818720"/>
                <a:ext cx="298080" cy="244800"/>
              </a:xfrm>
              <a:custGeom>
                <a:avLst/>
                <a:gdLst/>
                <a:ahLst/>
                <a:rect l="l" t="t" r="r" b="b"/>
                <a:pathLst>
                  <a:path w="648" h="715">
                    <a:moveTo>
                      <a:pt x="223" y="36"/>
                    </a:moveTo>
                    <a:lnTo>
                      <a:pt x="160" y="277"/>
                    </a:lnTo>
                    <a:lnTo>
                      <a:pt x="86" y="481"/>
                    </a:lnTo>
                    <a:lnTo>
                      <a:pt x="0" y="715"/>
                    </a:lnTo>
                    <a:lnTo>
                      <a:pt x="72" y="669"/>
                    </a:lnTo>
                    <a:lnTo>
                      <a:pt x="155" y="617"/>
                    </a:lnTo>
                    <a:lnTo>
                      <a:pt x="202" y="592"/>
                    </a:lnTo>
                    <a:lnTo>
                      <a:pt x="238" y="576"/>
                    </a:lnTo>
                    <a:lnTo>
                      <a:pt x="275" y="568"/>
                    </a:lnTo>
                    <a:lnTo>
                      <a:pt x="309" y="564"/>
                    </a:lnTo>
                    <a:lnTo>
                      <a:pt x="356" y="555"/>
                    </a:lnTo>
                    <a:lnTo>
                      <a:pt x="327" y="476"/>
                    </a:lnTo>
                    <a:lnTo>
                      <a:pt x="364" y="472"/>
                    </a:lnTo>
                    <a:lnTo>
                      <a:pt x="408" y="481"/>
                    </a:lnTo>
                    <a:lnTo>
                      <a:pt x="451" y="503"/>
                    </a:lnTo>
                    <a:lnTo>
                      <a:pt x="486" y="524"/>
                    </a:lnTo>
                    <a:lnTo>
                      <a:pt x="515" y="548"/>
                    </a:lnTo>
                    <a:lnTo>
                      <a:pt x="545" y="573"/>
                    </a:lnTo>
                    <a:lnTo>
                      <a:pt x="593" y="617"/>
                    </a:lnTo>
                    <a:lnTo>
                      <a:pt x="648" y="659"/>
                    </a:lnTo>
                    <a:lnTo>
                      <a:pt x="636" y="507"/>
                    </a:lnTo>
                    <a:lnTo>
                      <a:pt x="606" y="385"/>
                    </a:lnTo>
                    <a:lnTo>
                      <a:pt x="576" y="244"/>
                    </a:lnTo>
                    <a:lnTo>
                      <a:pt x="550" y="140"/>
                    </a:lnTo>
                    <a:lnTo>
                      <a:pt x="533" y="58"/>
                    </a:lnTo>
                    <a:lnTo>
                      <a:pt x="526" y="0"/>
                    </a:lnTo>
                    <a:lnTo>
                      <a:pt x="223" y="36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462320" y="1731960"/>
                <a:ext cx="180360" cy="12816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464120" y="1734840"/>
                <a:ext cx="173520" cy="124560"/>
              </a:xfrm>
              <a:custGeom>
                <a:avLst/>
                <a:gdLst/>
                <a:ahLst/>
                <a:rect l="l" t="t" r="r" b="b"/>
                <a:pathLst>
                  <a:path w="377" h="364">
                    <a:moveTo>
                      <a:pt x="186" y="0"/>
                    </a:moveTo>
                    <a:lnTo>
                      <a:pt x="172" y="67"/>
                    </a:lnTo>
                    <a:lnTo>
                      <a:pt x="133" y="8"/>
                    </a:lnTo>
                    <a:lnTo>
                      <a:pt x="142" y="73"/>
                    </a:lnTo>
                    <a:lnTo>
                      <a:pt x="94" y="24"/>
                    </a:lnTo>
                    <a:lnTo>
                      <a:pt x="113" y="89"/>
                    </a:lnTo>
                    <a:lnTo>
                      <a:pt x="61" y="50"/>
                    </a:lnTo>
                    <a:lnTo>
                      <a:pt x="91" y="111"/>
                    </a:lnTo>
                    <a:lnTo>
                      <a:pt x="27" y="87"/>
                    </a:lnTo>
                    <a:lnTo>
                      <a:pt x="72" y="137"/>
                    </a:lnTo>
                    <a:lnTo>
                      <a:pt x="6" y="130"/>
                    </a:lnTo>
                    <a:lnTo>
                      <a:pt x="69" y="163"/>
                    </a:lnTo>
                    <a:lnTo>
                      <a:pt x="0" y="180"/>
                    </a:lnTo>
                    <a:lnTo>
                      <a:pt x="69" y="196"/>
                    </a:lnTo>
                    <a:lnTo>
                      <a:pt x="6" y="225"/>
                    </a:lnTo>
                    <a:lnTo>
                      <a:pt x="74" y="226"/>
                    </a:lnTo>
                    <a:lnTo>
                      <a:pt x="25" y="273"/>
                    </a:lnTo>
                    <a:lnTo>
                      <a:pt x="89" y="253"/>
                    </a:lnTo>
                    <a:lnTo>
                      <a:pt x="54" y="309"/>
                    </a:lnTo>
                    <a:lnTo>
                      <a:pt x="113" y="276"/>
                    </a:lnTo>
                    <a:lnTo>
                      <a:pt x="94" y="339"/>
                    </a:lnTo>
                    <a:lnTo>
                      <a:pt x="136" y="294"/>
                    </a:lnTo>
                    <a:lnTo>
                      <a:pt x="134" y="358"/>
                    </a:lnTo>
                    <a:lnTo>
                      <a:pt x="165" y="298"/>
                    </a:lnTo>
                    <a:lnTo>
                      <a:pt x="186" y="364"/>
                    </a:lnTo>
                    <a:lnTo>
                      <a:pt x="202" y="301"/>
                    </a:lnTo>
                    <a:lnTo>
                      <a:pt x="222" y="361"/>
                    </a:lnTo>
                    <a:lnTo>
                      <a:pt x="234" y="295"/>
                    </a:lnTo>
                    <a:lnTo>
                      <a:pt x="269" y="346"/>
                    </a:lnTo>
                    <a:lnTo>
                      <a:pt x="260" y="280"/>
                    </a:lnTo>
                    <a:lnTo>
                      <a:pt x="308" y="318"/>
                    </a:lnTo>
                    <a:lnTo>
                      <a:pt x="284" y="257"/>
                    </a:lnTo>
                    <a:lnTo>
                      <a:pt x="345" y="279"/>
                    </a:lnTo>
                    <a:lnTo>
                      <a:pt x="304" y="231"/>
                    </a:lnTo>
                    <a:lnTo>
                      <a:pt x="369" y="230"/>
                    </a:lnTo>
                    <a:lnTo>
                      <a:pt x="311" y="203"/>
                    </a:lnTo>
                    <a:lnTo>
                      <a:pt x="377" y="180"/>
                    </a:lnTo>
                    <a:lnTo>
                      <a:pt x="309" y="164"/>
                    </a:lnTo>
                    <a:lnTo>
                      <a:pt x="372" y="139"/>
                    </a:lnTo>
                    <a:lnTo>
                      <a:pt x="302" y="135"/>
                    </a:lnTo>
                    <a:lnTo>
                      <a:pt x="358" y="98"/>
                    </a:lnTo>
                    <a:lnTo>
                      <a:pt x="291" y="108"/>
                    </a:lnTo>
                    <a:lnTo>
                      <a:pt x="331" y="59"/>
                    </a:lnTo>
                    <a:lnTo>
                      <a:pt x="270" y="87"/>
                    </a:lnTo>
                    <a:lnTo>
                      <a:pt x="293" y="33"/>
                    </a:lnTo>
                    <a:lnTo>
                      <a:pt x="243" y="73"/>
                    </a:lnTo>
                    <a:lnTo>
                      <a:pt x="252" y="11"/>
                    </a:lnTo>
                    <a:lnTo>
                      <a:pt x="211" y="63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95800" y="1752480"/>
                <a:ext cx="113040" cy="874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06600" y="1857600"/>
                <a:ext cx="26640" cy="134280"/>
              </a:xfrm>
              <a:custGeom>
                <a:avLst/>
                <a:gdLst/>
                <a:ahLst/>
                <a:rect l="l" t="t" r="r" b="b"/>
                <a:pathLst>
                  <a:path w="58" h="392">
                    <a:moveTo>
                      <a:pt x="58" y="360"/>
                    </a:moveTo>
                    <a:lnTo>
                      <a:pt x="25" y="376"/>
                    </a:lnTo>
                    <a:lnTo>
                      <a:pt x="0" y="392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 txBox="1"/>
            <p:nvPr/>
          </p:nvSpPr>
          <p:spPr>
            <a:xfrm>
              <a:off x="777600" y="1622520"/>
              <a:ext cx="226800" cy="16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375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Пб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79280" y="636480"/>
          <a:ext cx="8785440" cy="558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36480"/>
                    <a:ext cx="878544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8dc6ff"/>
                </a:solidFill>
                <a:uFillTx/>
                <a:latin typeface="Arial"/>
              </a:rPr>
              <a:t>Целевые показатели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4000"/>
            </a:br>
            <a:r>
              <a:rPr b="1" i="1" lang="ru-RU" sz="4000" spc="-1" strike="noStrike" u="sng">
                <a:solidFill>
                  <a:srgbClr val="00a8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55640" y="1521000"/>
            <a:ext cx="2170080" cy="4034880"/>
            <a:chOff x="755640" y="1521000"/>
            <a:chExt cx="2170080" cy="4034880"/>
          </a:xfrm>
        </p:grpSpPr>
        <p:sp>
          <p:nvSpPr>
            <p:cNvPr id="85" name=""/>
            <p:cNvSpPr/>
            <p:nvPr/>
          </p:nvSpPr>
          <p:spPr>
            <a:xfrm>
              <a:off x="755640" y="182844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9120" y="183672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400" y="390024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6400" y="185868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120" y="468612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400" y="470988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500120" y="1521000"/>
              <a:ext cx="642960" cy="642600"/>
              <a:chOff x="1500120" y="1521000"/>
              <a:chExt cx="642960" cy="642600"/>
            </a:xfrm>
          </p:grpSpPr>
          <p:sp>
            <p:nvSpPr>
              <p:cNvPr id="92" name=""/>
              <p:cNvSpPr/>
              <p:nvPr/>
            </p:nvSpPr>
            <p:spPr>
              <a:xfrm>
                <a:off x="1500120" y="152100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06600" y="152568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514520" y="15296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521000" y="153540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554840" y="155088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1640160" y="1612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1960" y="2282760"/>
              <a:ext cx="20574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348000" y="1808280"/>
            <a:ext cx="2166840" cy="4034880"/>
            <a:chOff x="3348000" y="1808280"/>
            <a:chExt cx="2166840" cy="4034880"/>
          </a:xfrm>
        </p:grpSpPr>
        <p:sp>
          <p:nvSpPr>
            <p:cNvPr id="100" name=""/>
            <p:cNvSpPr/>
            <p:nvPr/>
          </p:nvSpPr>
          <p:spPr>
            <a:xfrm>
              <a:off x="3348000" y="211572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588d3d"/>
                </a:gs>
                <a:gs pos="100000">
                  <a:srgbClr val="66af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81120" y="212400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98760" y="418752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d844"/>
                </a:gs>
                <a:gs pos="100000">
                  <a:srgbClr val="c6e8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98760" y="214596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cf1bf"/>
                </a:gs>
                <a:gs pos="100000">
                  <a:srgbClr val="99d8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92480" y="180828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98600" y="181260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06880" y="181584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13000" y="182232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47920" y="183816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32520" y="190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3960" y="2570040"/>
              <a:ext cx="20574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50880" y="497340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95520" y="499716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084720" y="1989000"/>
            <a:ext cx="2170080" cy="4035600"/>
            <a:chOff x="6084720" y="1989000"/>
            <a:chExt cx="2170080" cy="4035600"/>
          </a:xfrm>
        </p:grpSpPr>
        <p:sp>
          <p:nvSpPr>
            <p:cNvPr id="114" name=""/>
            <p:cNvSpPr/>
            <p:nvPr/>
          </p:nvSpPr>
          <p:spPr>
            <a:xfrm>
              <a:off x="6090840" y="2296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ab4e47"/>
                </a:gs>
                <a:gs pos="100000">
                  <a:srgbClr val="c162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24320" y="2305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8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41600" y="4368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b65"/>
                </a:gs>
                <a:gs pos="100000">
                  <a:srgbClr val="f1bb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41600" y="2327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d7ca"/>
                </a:gs>
                <a:gs pos="100000">
                  <a:srgbClr val="e98b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835320" y="1989000"/>
              <a:ext cx="642960" cy="642960"/>
              <a:chOff x="6835320" y="1989000"/>
              <a:chExt cx="642960" cy="64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6835320" y="1989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41800" y="1993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849720" y="1997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56200" y="2003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90040" y="2018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975720" y="208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67160" y="2751120"/>
              <a:ext cx="2057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84720" y="5154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29000" y="51782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900000" y="2487240"/>
            <a:ext cx="180036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6ff"/>
                </a:solidFill>
                <a:latin typeface="Arial Black"/>
              </a:rPr>
              <a:t>Актив-ное воздей-ствие на процесс социали зации лич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529360"/>
            <a:ext cx="201600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озд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словий для  личност-ного разви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64360" y="2565720"/>
            <a:ext cx="176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действие укрепления роли и престижа семьи у выпускни-ков детских дом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2663400">
            <a:off x="7748280" y="657360"/>
            <a:ext cx="1395360" cy="1466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эмблема копия"/>
          <p:cNvPicPr/>
          <p:nvPr/>
        </p:nvPicPr>
        <p:blipFill>
          <a:blip r:embed="rId2"/>
          <a:stretch/>
        </p:blipFill>
        <p:spPr>
          <a:xfrm>
            <a:off x="179280" y="0"/>
            <a:ext cx="13575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19280" y="549360"/>
            <a:ext cx="597708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СОЦИАЛ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773360"/>
            <a:ext cx="4464000" cy="93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Овладение ролями мужчины и женщин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(полоролевая социализац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3141720"/>
            <a:ext cx="4246560" cy="1008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Компетентное участие в социаль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и экономической жизн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(профессиональная социализац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4581360"/>
            <a:ext cx="6264360" cy="108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Создание прочной семьи (семейная социализация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законопослушание (политическая социализац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119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1197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119700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368160" y="626040"/>
            <a:ext cx="2935800" cy="3083400"/>
            <a:chOff x="3368160" y="626040"/>
            <a:chExt cx="2935800" cy="3083400"/>
          </a:xfrm>
        </p:grpSpPr>
        <p:grpSp>
          <p:nvGrpSpPr>
            <p:cNvPr id="141" name=""/>
            <p:cNvGrpSpPr/>
            <p:nvPr/>
          </p:nvGrpSpPr>
          <p:grpSpPr>
            <a:xfrm>
              <a:off x="3368160" y="626040"/>
              <a:ext cx="2935800" cy="3083400"/>
              <a:chOff x="3368160" y="626040"/>
              <a:chExt cx="2935800" cy="3083400"/>
            </a:xfrm>
          </p:grpSpPr>
          <p:sp>
            <p:nvSpPr>
              <p:cNvPr id="142" name=""/>
              <p:cNvSpPr/>
              <p:nvPr/>
            </p:nvSpPr>
            <p:spPr>
              <a:xfrm rot="18781200">
                <a:off x="2998800" y="1869120"/>
                <a:ext cx="364644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8781200">
                <a:off x="3008160" y="1867680"/>
                <a:ext cx="365760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8781200">
                <a:off x="3011760" y="194760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8781200">
                <a:off x="3011760" y="194760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rot="18852000">
              <a:off x="3727440" y="1851120"/>
              <a:ext cx="254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Социальная диагности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689280" y="1685520"/>
            <a:ext cx="3605760" cy="2417760"/>
            <a:chOff x="3689280" y="1685520"/>
            <a:chExt cx="3605760" cy="2417760"/>
          </a:xfrm>
        </p:grpSpPr>
        <p:grpSp>
          <p:nvGrpSpPr>
            <p:cNvPr id="148" name=""/>
            <p:cNvGrpSpPr/>
            <p:nvPr/>
          </p:nvGrpSpPr>
          <p:grpSpPr>
            <a:xfrm>
              <a:off x="3689280" y="1685520"/>
              <a:ext cx="3605760" cy="2417760"/>
              <a:chOff x="3689280" y="1685520"/>
              <a:chExt cx="3605760" cy="2417760"/>
            </a:xfrm>
          </p:grpSpPr>
          <p:sp>
            <p:nvSpPr>
              <p:cNvPr id="149" name=""/>
              <p:cNvSpPr/>
              <p:nvPr/>
            </p:nvSpPr>
            <p:spPr>
              <a:xfrm rot="19813200">
                <a:off x="3580920" y="2590560"/>
                <a:ext cx="379908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296f2"/>
                  </a:gs>
                  <a:gs pos="100000">
                    <a:srgbClr val="fefefe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813200">
                <a:off x="3587400" y="2596680"/>
                <a:ext cx="380988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296f2">
                      <a:alpha val="32156"/>
                    </a:srgbClr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9813200">
                <a:off x="3587760" y="263052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5f5082"/>
                  </a:gs>
                  <a:gs pos="50000">
                    <a:srgbClr val="b296f2"/>
                  </a:gs>
                  <a:gs pos="100000">
                    <a:srgbClr val="5f5082"/>
                  </a:gs>
                </a:gsLst>
                <a:lin ang="98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813200">
                <a:off x="3616200" y="265896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b296f2">
                      <a:alpha val="0"/>
                    </a:srgbClr>
                  </a:gs>
                  <a:gs pos="100000">
                    <a:srgbClr val="705e99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rot="19782000">
              <a:off x="4407120" y="2839680"/>
              <a:ext cx="177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Наблюдение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63640" y="3105000"/>
            <a:ext cx="2514600" cy="2590560"/>
            <a:chOff x="863640" y="3105000"/>
            <a:chExt cx="2514600" cy="2590560"/>
          </a:xfrm>
        </p:grpSpPr>
        <p:grpSp>
          <p:nvGrpSpPr>
            <p:cNvPr id="155" name=""/>
            <p:cNvGrpSpPr/>
            <p:nvPr/>
          </p:nvGrpSpPr>
          <p:grpSpPr>
            <a:xfrm>
              <a:off x="863640" y="3105000"/>
              <a:ext cx="2514600" cy="2590560"/>
              <a:chOff x="863640" y="3105000"/>
              <a:chExt cx="2514600" cy="2590560"/>
            </a:xfrm>
          </p:grpSpPr>
          <p:sp>
            <p:nvSpPr>
              <p:cNvPr id="156" name=""/>
              <p:cNvSpPr/>
              <p:nvPr/>
            </p:nvSpPr>
            <p:spPr>
              <a:xfrm>
                <a:off x="863640" y="3105000"/>
                <a:ext cx="2514600" cy="2590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63640" y="3105000"/>
                <a:ext cx="2514600" cy="25905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27080" y="3273120"/>
                <a:ext cx="2187360" cy="22543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15920" y="3257280"/>
                <a:ext cx="2184480" cy="22543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46240" y="3387600"/>
                <a:ext cx="1966680" cy="2025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177920" y="3420720"/>
                <a:ext cx="1904760" cy="196236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01680" y="3431880"/>
                <a:ext cx="1859040" cy="191124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22200" y="3450960"/>
                <a:ext cx="1768680" cy="178740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23720" y="3501720"/>
                <a:ext cx="1573560" cy="1451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060640" y="412560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048560" y="2892240"/>
            <a:ext cx="3641400" cy="1822320"/>
            <a:chOff x="4048560" y="2892240"/>
            <a:chExt cx="3641400" cy="1822320"/>
          </a:xfrm>
        </p:grpSpPr>
        <p:grpSp>
          <p:nvGrpSpPr>
            <p:cNvPr id="167" name=""/>
            <p:cNvGrpSpPr/>
            <p:nvPr/>
          </p:nvGrpSpPr>
          <p:grpSpPr>
            <a:xfrm>
              <a:off x="4048560" y="2892240"/>
              <a:ext cx="3641400" cy="1822320"/>
              <a:chOff x="4048560" y="2892240"/>
              <a:chExt cx="3641400" cy="1822320"/>
            </a:xfrm>
          </p:grpSpPr>
          <p:sp>
            <p:nvSpPr>
              <p:cNvPr id="168" name=""/>
              <p:cNvSpPr/>
              <p:nvPr/>
            </p:nvSpPr>
            <p:spPr>
              <a:xfrm rot="20395200">
                <a:off x="4037760" y="3500640"/>
                <a:ext cx="364644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0395200">
                <a:off x="4040280" y="3504600"/>
                <a:ext cx="365760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395200">
                <a:off x="4029840" y="356364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20395200">
                <a:off x="4029840" y="356364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 rot="20465400">
              <a:off x="4832280" y="3766320"/>
              <a:ext cx="109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Бесед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104360" y="4020840"/>
            <a:ext cx="3850560" cy="1397880"/>
            <a:chOff x="4104360" y="4020840"/>
            <a:chExt cx="3850560" cy="1397880"/>
          </a:xfrm>
        </p:grpSpPr>
        <p:grpSp>
          <p:nvGrpSpPr>
            <p:cNvPr id="174" name=""/>
            <p:cNvGrpSpPr/>
            <p:nvPr/>
          </p:nvGrpSpPr>
          <p:grpSpPr>
            <a:xfrm>
              <a:off x="4104360" y="4020840"/>
              <a:ext cx="3850560" cy="1397880"/>
              <a:chOff x="4104360" y="4020840"/>
              <a:chExt cx="3850560" cy="1397880"/>
            </a:xfrm>
          </p:grpSpPr>
          <p:sp>
            <p:nvSpPr>
              <p:cNvPr id="175" name=""/>
              <p:cNvSpPr/>
              <p:nvPr/>
            </p:nvSpPr>
            <p:spPr>
              <a:xfrm rot="20869800">
                <a:off x="4124160" y="4415040"/>
                <a:ext cx="379908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296f2"/>
                  </a:gs>
                  <a:gs pos="100000">
                    <a:srgbClr val="fefefe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20869800">
                <a:off x="4124520" y="4423680"/>
                <a:ext cx="380988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296f2">
                      <a:alpha val="32156"/>
                    </a:srgbClr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0869800">
                <a:off x="4128480" y="444564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5f5082"/>
                  </a:gs>
                  <a:gs pos="50000">
                    <a:srgbClr val="b296f2"/>
                  </a:gs>
                  <a:gs pos="100000">
                    <a:srgbClr val="5f5082"/>
                  </a:gs>
                </a:gsLst>
                <a:lin ang="98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20869800">
                <a:off x="4146840" y="448128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b296f2">
                      <a:alpha val="0"/>
                    </a:srgbClr>
                  </a:gs>
                  <a:gs pos="100000">
                    <a:srgbClr val="705e99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 rot="20838600">
              <a:off x="4902120" y="4597200"/>
              <a:ext cx="183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Консультац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957480" y="5461200"/>
            <a:ext cx="3677040" cy="642960"/>
            <a:chOff x="3957480" y="5461200"/>
            <a:chExt cx="3677040" cy="642960"/>
          </a:xfrm>
        </p:grpSpPr>
        <p:grpSp>
          <p:nvGrpSpPr>
            <p:cNvPr id="181" name=""/>
            <p:cNvGrpSpPr/>
            <p:nvPr/>
          </p:nvGrpSpPr>
          <p:grpSpPr>
            <a:xfrm>
              <a:off x="3957480" y="5461200"/>
              <a:ext cx="3677040" cy="642960"/>
              <a:chOff x="3957480" y="5461200"/>
              <a:chExt cx="3677040" cy="642960"/>
            </a:xfrm>
          </p:grpSpPr>
          <p:sp>
            <p:nvSpPr>
              <p:cNvPr id="182" name=""/>
              <p:cNvSpPr/>
              <p:nvPr/>
            </p:nvSpPr>
            <p:spPr>
              <a:xfrm rot="21564600">
                <a:off x="3977280" y="5479560"/>
                <a:ext cx="3646440" cy="574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21564600">
                <a:off x="3973680" y="5485320"/>
                <a:ext cx="365760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21564600">
                <a:off x="3960000" y="5526360"/>
                <a:ext cx="3578400" cy="52056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21564600">
                <a:off x="3960000" y="5526360"/>
                <a:ext cx="3578400" cy="52056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 rot="34800">
              <a:off x="4740120" y="5638320"/>
              <a:ext cx="269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Работа с личными делам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ормы и метод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95280" y="3824280"/>
            <a:ext cx="172908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 rot="2663400">
            <a:off x="7488000" y="1160640"/>
            <a:ext cx="1395360" cy="1466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эмблема копия"/>
          <p:cNvPicPr/>
          <p:nvPr/>
        </p:nvPicPr>
        <p:blipFill>
          <a:blip r:embed="rId3"/>
          <a:stretch/>
        </p:blipFill>
        <p:spPr>
          <a:xfrm>
            <a:off x="503280" y="0"/>
            <a:ext cx="13572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3076200" y="966600"/>
            <a:ext cx="3002040" cy="3092040"/>
            <a:chOff x="3076200" y="966600"/>
            <a:chExt cx="3002040" cy="3092040"/>
          </a:xfrm>
        </p:grpSpPr>
        <p:grpSp>
          <p:nvGrpSpPr>
            <p:cNvPr id="192" name=""/>
            <p:cNvGrpSpPr/>
            <p:nvPr/>
          </p:nvGrpSpPr>
          <p:grpSpPr>
            <a:xfrm>
              <a:off x="3076200" y="975240"/>
              <a:ext cx="2935080" cy="3083400"/>
              <a:chOff x="3076200" y="975240"/>
              <a:chExt cx="2935080" cy="3083400"/>
            </a:xfrm>
          </p:grpSpPr>
          <p:sp>
            <p:nvSpPr>
              <p:cNvPr id="193" name=""/>
              <p:cNvSpPr/>
              <p:nvPr/>
            </p:nvSpPr>
            <p:spPr>
              <a:xfrm rot="18781200">
                <a:off x="2706480" y="2217960"/>
                <a:ext cx="3646440" cy="574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8781200">
                <a:off x="2715120" y="2216880"/>
                <a:ext cx="365760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8781200">
                <a:off x="2719440" y="2296080"/>
                <a:ext cx="3578400" cy="52056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8781200">
                <a:off x="4222080" y="2293200"/>
                <a:ext cx="573120" cy="51840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 rot="18852000">
              <a:off x="3364560" y="2028960"/>
              <a:ext cx="30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Факультатив «этика семейной жизни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689280" y="1685520"/>
            <a:ext cx="3605760" cy="2417760"/>
            <a:chOff x="3689280" y="1685520"/>
            <a:chExt cx="3605760" cy="2417760"/>
          </a:xfrm>
        </p:grpSpPr>
        <p:grpSp>
          <p:nvGrpSpPr>
            <p:cNvPr id="199" name=""/>
            <p:cNvGrpSpPr/>
            <p:nvPr/>
          </p:nvGrpSpPr>
          <p:grpSpPr>
            <a:xfrm>
              <a:off x="3689280" y="1685520"/>
              <a:ext cx="3605760" cy="2417760"/>
              <a:chOff x="3689280" y="1685520"/>
              <a:chExt cx="3605760" cy="2417760"/>
            </a:xfrm>
          </p:grpSpPr>
          <p:sp>
            <p:nvSpPr>
              <p:cNvPr id="200" name=""/>
              <p:cNvSpPr/>
              <p:nvPr/>
            </p:nvSpPr>
            <p:spPr>
              <a:xfrm rot="19813200">
                <a:off x="3580920" y="2590560"/>
                <a:ext cx="379908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296f2"/>
                  </a:gs>
                  <a:gs pos="100000">
                    <a:srgbClr val="fefefe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9813200">
                <a:off x="3587400" y="2596680"/>
                <a:ext cx="380988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296f2">
                      <a:alpha val="32156"/>
                    </a:srgbClr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9813200">
                <a:off x="3587760" y="263052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5f5082"/>
                  </a:gs>
                  <a:gs pos="50000">
                    <a:srgbClr val="b296f2"/>
                  </a:gs>
                  <a:gs pos="100000">
                    <a:srgbClr val="5f5082"/>
                  </a:gs>
                </a:gsLst>
                <a:lin ang="98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9813200">
                <a:off x="3616200" y="265896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b296f2">
                      <a:alpha val="0"/>
                    </a:srgbClr>
                  </a:gs>
                  <a:gs pos="100000">
                    <a:srgbClr val="705e99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 rot="19782000">
              <a:off x="4356360" y="2683800"/>
              <a:ext cx="26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Тренинги по соц. адапт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863640" y="3105000"/>
            <a:ext cx="2514600" cy="2590560"/>
            <a:chOff x="863640" y="3105000"/>
            <a:chExt cx="2514600" cy="2590560"/>
          </a:xfrm>
        </p:grpSpPr>
        <p:grpSp>
          <p:nvGrpSpPr>
            <p:cNvPr id="206" name=""/>
            <p:cNvGrpSpPr/>
            <p:nvPr/>
          </p:nvGrpSpPr>
          <p:grpSpPr>
            <a:xfrm>
              <a:off x="863640" y="3105000"/>
              <a:ext cx="2514600" cy="2590560"/>
              <a:chOff x="863640" y="3105000"/>
              <a:chExt cx="2514600" cy="2590560"/>
            </a:xfrm>
          </p:grpSpPr>
          <p:sp>
            <p:nvSpPr>
              <p:cNvPr id="207" name=""/>
              <p:cNvSpPr/>
              <p:nvPr/>
            </p:nvSpPr>
            <p:spPr>
              <a:xfrm>
                <a:off x="863640" y="3105000"/>
                <a:ext cx="2514600" cy="2590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63640" y="3105000"/>
                <a:ext cx="2514600" cy="25905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027080" y="3273120"/>
                <a:ext cx="2187360" cy="22543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015920" y="3257280"/>
                <a:ext cx="2184480" cy="22543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146240" y="3387600"/>
                <a:ext cx="1966680" cy="2025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177920" y="3420720"/>
                <a:ext cx="1904760" cy="196236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01680" y="3431880"/>
                <a:ext cx="1859040" cy="191124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22200" y="3450960"/>
                <a:ext cx="1768680" cy="178740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23720" y="3501720"/>
                <a:ext cx="1573560" cy="1451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2060640" y="412560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055400" y="2897280"/>
            <a:ext cx="3641400" cy="1822680"/>
            <a:chOff x="4055400" y="2897280"/>
            <a:chExt cx="3641400" cy="1822680"/>
          </a:xfrm>
        </p:grpSpPr>
        <p:grpSp>
          <p:nvGrpSpPr>
            <p:cNvPr id="218" name=""/>
            <p:cNvGrpSpPr/>
            <p:nvPr/>
          </p:nvGrpSpPr>
          <p:grpSpPr>
            <a:xfrm>
              <a:off x="4055400" y="2897280"/>
              <a:ext cx="3641400" cy="1822680"/>
              <a:chOff x="4055400" y="2897280"/>
              <a:chExt cx="3641400" cy="1822680"/>
            </a:xfrm>
          </p:grpSpPr>
          <p:sp>
            <p:nvSpPr>
              <p:cNvPr id="219" name=""/>
              <p:cNvSpPr/>
              <p:nvPr/>
            </p:nvSpPr>
            <p:spPr>
              <a:xfrm rot="20395200">
                <a:off x="4044960" y="3505680"/>
                <a:ext cx="364644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0395200">
                <a:off x="4047120" y="3510000"/>
                <a:ext cx="365760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0395200">
                <a:off x="4037040" y="356904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20395200">
                <a:off x="4037040" y="356904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rot="20465400">
              <a:off x="4835880" y="3792240"/>
              <a:ext cx="140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фере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102920" y="4021560"/>
            <a:ext cx="3850560" cy="1398600"/>
            <a:chOff x="4102920" y="4021560"/>
            <a:chExt cx="3850560" cy="1398600"/>
          </a:xfrm>
        </p:grpSpPr>
        <p:grpSp>
          <p:nvGrpSpPr>
            <p:cNvPr id="225" name=""/>
            <p:cNvGrpSpPr/>
            <p:nvPr/>
          </p:nvGrpSpPr>
          <p:grpSpPr>
            <a:xfrm>
              <a:off x="4102920" y="4021560"/>
              <a:ext cx="3850560" cy="1398600"/>
              <a:chOff x="4102920" y="4021560"/>
              <a:chExt cx="3850560" cy="1398600"/>
            </a:xfrm>
          </p:grpSpPr>
          <p:sp>
            <p:nvSpPr>
              <p:cNvPr id="226" name=""/>
              <p:cNvSpPr/>
              <p:nvPr/>
            </p:nvSpPr>
            <p:spPr>
              <a:xfrm rot="20869800">
                <a:off x="4122720" y="4415760"/>
                <a:ext cx="3799080" cy="574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296f2"/>
                  </a:gs>
                  <a:gs pos="100000">
                    <a:srgbClr val="fefefe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869800">
                <a:off x="4123080" y="4424760"/>
                <a:ext cx="380988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296f2">
                      <a:alpha val="32156"/>
                    </a:srgbClr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0869800">
                <a:off x="4127400" y="4446720"/>
                <a:ext cx="3727440" cy="520560"/>
              </a:xfrm>
              <a:prstGeom prst="ellipse">
                <a:avLst/>
              </a:prstGeom>
              <a:gradFill rotWithShape="0">
                <a:gsLst>
                  <a:gs pos="0">
                    <a:srgbClr val="5f5082"/>
                  </a:gs>
                  <a:gs pos="50000">
                    <a:srgbClr val="b296f2"/>
                  </a:gs>
                  <a:gs pos="100000">
                    <a:srgbClr val="5f5082"/>
                  </a:gs>
                </a:gsLst>
                <a:lin ang="98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0869800">
                <a:off x="4145760" y="4482360"/>
                <a:ext cx="3727440" cy="520560"/>
              </a:xfrm>
              <a:prstGeom prst="ellipse">
                <a:avLst/>
              </a:prstGeom>
              <a:gradFill rotWithShape="0">
                <a:gsLst>
                  <a:gs pos="0">
                    <a:srgbClr val="b296f2">
                      <a:alpha val="0"/>
                    </a:srgbClr>
                  </a:gs>
                  <a:gs pos="100000">
                    <a:srgbClr val="705e99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 rot="20838600">
              <a:off x="4897440" y="4577400"/>
              <a:ext cx="199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Классные час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742200" y="5497920"/>
            <a:ext cx="3791160" cy="642960"/>
            <a:chOff x="3742200" y="5497920"/>
            <a:chExt cx="3791160" cy="642960"/>
          </a:xfrm>
        </p:grpSpPr>
        <p:grpSp>
          <p:nvGrpSpPr>
            <p:cNvPr id="232" name=""/>
            <p:cNvGrpSpPr/>
            <p:nvPr/>
          </p:nvGrpSpPr>
          <p:grpSpPr>
            <a:xfrm>
              <a:off x="3742200" y="5497920"/>
              <a:ext cx="3677040" cy="642960"/>
              <a:chOff x="3742200" y="5497920"/>
              <a:chExt cx="3677040" cy="642960"/>
            </a:xfrm>
          </p:grpSpPr>
          <p:sp>
            <p:nvSpPr>
              <p:cNvPr id="233" name=""/>
              <p:cNvSpPr/>
              <p:nvPr/>
            </p:nvSpPr>
            <p:spPr>
              <a:xfrm rot="21564600">
                <a:off x="3762360" y="5516280"/>
                <a:ext cx="364608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1564600">
                <a:off x="3758760" y="5521680"/>
                <a:ext cx="365724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1564600">
                <a:off x="3744720" y="5562720"/>
                <a:ext cx="3578040" cy="5209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1564600">
                <a:off x="3744720" y="5562720"/>
                <a:ext cx="3578040" cy="5209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rot="34800">
              <a:off x="4517640" y="5718600"/>
              <a:ext cx="301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ррекционно-развивающие зан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меро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95280" y="3824280"/>
            <a:ext cx="1729080" cy="1143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 rot="2663400">
            <a:off x="7488000" y="1160640"/>
            <a:ext cx="1395360" cy="1466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эмблема копия"/>
          <p:cNvPicPr/>
          <p:nvPr/>
        </p:nvPicPr>
        <p:blipFill>
          <a:blip r:embed="rId3"/>
          <a:stretch/>
        </p:blipFill>
        <p:spPr>
          <a:xfrm>
            <a:off x="503280" y="0"/>
            <a:ext cx="13572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403280" y="260280"/>
            <a:ext cx="6193080" cy="793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РАБ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2565360"/>
            <a:ext cx="324000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ХРАНА ЗДОРОВЬ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24000" y="1413000"/>
            <a:ext cx="468000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ЗАЩИТА ЖИЛИЩНЫХ ПРА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И РЕШЕНИЕ ЖИЛИЩНЫХ ПРОБЛ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3716280"/>
            <a:ext cx="324000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ОРИЕНТАЦИ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4941720"/>
            <a:ext cx="324000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РЕКЦИОН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НОСТИЧЕ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32360" y="2565360"/>
            <a:ext cx="338472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ЗАЩИТНО-ОХРАННАЯ</a:t>
            </a: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3645000"/>
            <a:ext cx="3384720" cy="93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4869000"/>
            <a:ext cx="33829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АТИВ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692280"/>
            <a:ext cx="0" cy="46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29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537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2764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820000" y="62064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8316720" y="292428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316720" y="407664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316720" y="5229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35280" y="6021360"/>
            <a:ext cx="53290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ОВАЯ И СОЦИАЛЬНАЯ АДАПТ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537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6381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820000" y="522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164000" y="6237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6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596000" y="62064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324000" y="727200"/>
          <a:ext cx="8569080" cy="54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727200"/>
                    <a:ext cx="8569080" cy="54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0-14T15:26:04Z</dcterms:modified>
  <cp:revision>35</cp:revision>
  <dc:subject/>
  <dc:title>PowerPoint Presentation</dc:title>
</cp:coreProperties>
</file>