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20F-064E-4A2E-B8B8-FDDF838E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A15-3DD2-46AD-B3ED-199C7AB0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290-7054-4CB9-9C08-FADB37C3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F96-0E1B-491C-BA02-0ACF9894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EE3F-192D-4241-8E8E-C752034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7BEF-CAA4-447D-8CE6-BE7EA5A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36AF-03C8-41C3-A192-98DA38F6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1707-69E2-4400-A413-4AF1226A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9D8-B6E9-4C74-A20D-2E7E68E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F955-51A4-42F5-AACA-7FAFC9A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CB5-E668-466B-92AD-5181FFF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FA6-E5FB-4691-A859-B99C927C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9DA5-4AD3-45D5-8081-19C6A9C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B483-B6C5-41C5-B205-4551F30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9DA6-72E3-4D18-9AF6-B42B4C9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855-CA5C-4914-9F79-87C63C63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9DD0-01FF-4AFE-BFA2-7A2286B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9C4-E69D-4F2E-B6B9-08568FD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6E6-8333-478F-BC29-F5F49817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834-5B9F-4A58-A67A-EDE13D0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0B0-9357-4020-9614-A4A942A2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D4D-9C86-40BC-81DB-B2293CB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221-CB6F-4828-A7CF-BAA067C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371-23DD-4256-8E80-41FF723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E965-4ACB-47D8-8845-671491B46B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C9B7-8698-4AF8-8EB4-2EB0C44B4A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632800" cy="4657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35000"/>
          <a:ext cx="8229600" cy="3400560"/>
        </p:xfrm>
        <a:graphic>
          <a:graphicData uri="http://schemas.openxmlformats.org/drawingml/2006/table">
            <a:tbl>
              <a:tblPr/>
              <a:tblGrid>
                <a:gridCol w="2185920"/>
                <a:gridCol w="3071880"/>
                <a:gridCol w="2971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Помогает в решение задач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Помогает спланировать деятельнос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Организует деятельнос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Объединение детей в рабочие групп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Распределение амплу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2214720"/>
          <a:ext cx="8229600" cy="3292200"/>
        </p:xfrm>
        <a:graphic>
          <a:graphicData uri="http://schemas.openxmlformats.org/drawingml/2006/table">
            <a:tbl>
              <a:tblPr/>
              <a:tblGrid>
                <a:gridCol w="2143080"/>
                <a:gridCol w="3143160"/>
                <a:gridCol w="2943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Практическая помощь (по необходимост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Направляет и контролирует осуществление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Формирование специфических знаний, умений, 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935000"/>
          <a:ext cx="8229600" cy="3292560"/>
        </p:xfrm>
        <a:graphic>
          <a:graphicData uri="http://schemas.openxmlformats.org/drawingml/2006/table">
            <a:tbl>
              <a:tblPr/>
              <a:tblGrid>
                <a:gridCol w="2043000"/>
                <a:gridCol w="2928960"/>
                <a:gridCol w="325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V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Подготовка к презент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зентац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Продукт деятельности готовят к презент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Представляют (зрителям или экспертам) продукт деят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имерный план работы воспитателя по подготовке проекта.</a:t>
            </a:r>
            <a:br>
              <a:rPr sz="3600"/>
            </a:b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основе изученных проблем детей поставить цель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зработка плана движения к цели (воспитатель, методист обсуждает план с родителями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лечение специалистов к осуществлению соответствующих разделов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ставление плана-схемы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бор, накопление матери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ключение в план-схему проекта занятий, игр и других видов детской деятель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омашние задания и задания для самостоятельного выполн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зентация проекта, открытое занят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8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469080"/>
            <a:ext cx="822960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Блок-схема: процесс 16"/>
          <p:cNvSpPr/>
          <p:nvPr/>
        </p:nvSpPr>
        <p:spPr>
          <a:xfrm>
            <a:off x="428760" y="3357720"/>
            <a:ext cx="192852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Ц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Блок-схема: процесс 17"/>
          <p:cNvSpPr/>
          <p:nvPr/>
        </p:nvSpPr>
        <p:spPr>
          <a:xfrm>
            <a:off x="6786720" y="3429000"/>
            <a:ext cx="192852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ехнолог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Блок-схема: процесс 18"/>
          <p:cNvSpPr/>
          <p:nvPr/>
        </p:nvSpPr>
        <p:spPr>
          <a:xfrm>
            <a:off x="5214960" y="4714920"/>
            <a:ext cx="192888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т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Блок-схема: процесс 19"/>
          <p:cNvSpPr/>
          <p:nvPr/>
        </p:nvSpPr>
        <p:spPr>
          <a:xfrm>
            <a:off x="2143080" y="4714920"/>
            <a:ext cx="192888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ческое д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Блок-схема: процесс 20"/>
          <p:cNvSpPr/>
          <p:nvPr/>
        </p:nvSpPr>
        <p:spPr>
          <a:xfrm>
            <a:off x="2643120" y="1571760"/>
            <a:ext cx="3929040" cy="10000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оек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Прямая со стрелкой 24"/>
          <p:cNvCxnSpPr>
            <a:endCxn id="99" idx="0"/>
          </p:cNvCxnSpPr>
          <p:nvPr/>
        </p:nvCxnSpPr>
        <p:spPr>
          <a:xfrm flipH="1">
            <a:off x="1391400" y="2570760"/>
            <a:ext cx="12517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5" name="Прямая со стрелкой 26"/>
          <p:cNvCxnSpPr/>
          <p:nvPr/>
        </p:nvCxnSpPr>
        <p:spPr>
          <a:xfrm flipH="1">
            <a:off x="3214440" y="2571840"/>
            <a:ext cx="429120" cy="2071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6" name="Прямая со стрелкой 28"/>
          <p:cNvCxnSpPr/>
          <p:nvPr/>
        </p:nvCxnSpPr>
        <p:spPr>
          <a:xfrm>
            <a:off x="5357880" y="2571480"/>
            <a:ext cx="929520" cy="2143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7" name="Прямая со стрелкой 30"/>
          <p:cNvCxnSpPr/>
          <p:nvPr/>
        </p:nvCxnSpPr>
        <p:spPr>
          <a:xfrm>
            <a:off x="6571800" y="2571480"/>
            <a:ext cx="150084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Целью проектного метода в дошкольных образовательных учреждениях является развитие свободной творческой личности ребёнка, которое определяется задачами развития и задачами исследовательской деятельности дете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dbf5f9"/>
                </a:solidFill>
                <a:latin typeface="Calibri"/>
              </a:rPr>
              <a:t>Задачи развития.</a:t>
            </a: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беспечение психологического благополучия и здоровья детей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познавательных способностей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творческого воображ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творческого мышл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коммуникативных навык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Задачи исследовательской деятельност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Младший дошкольный возраст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хождение детей в проблемную игровую ситуацию (ведшая роль педагога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ктивизация желания искать пути разрешения проблемной ситуации (вместе с педагогом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Старший дошкольный возраст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рмирование предпосылок поисковой деятельности, интеллектуальной инициативы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Calibri"/>
              </a:rPr>
              <a:t>В практике современных дошкольных учреждений используются следующие виды проектов:</a:t>
            </a:r>
            <a:br>
              <a:rPr sz="28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исследовательско-творческие проекты: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экспериментируют, а затем результаты оформляют в виде газет, драматизации, детского дизайн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ролево-игровые  проекты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с элементами творческих игр, когда дети входят в образ персонажей сказки и решают по-своему поставленные проблемы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информационно-практико-ориентированные проекты: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собирают информацию и реализуют её, ориентируясь на социальные интересы (оформление и дизайн группы, витражи и др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творческие проекты в детском саду</a:t>
            </a: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оформление результата в виде детского праздника, детского дизайна, например «Театральная неделя»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f5f9"/>
                </a:solidFill>
                <a:latin typeface="Calibri"/>
              </a:rPr>
              <a:t>Основные этапы</a:t>
            </a:r>
            <a:endParaRPr b="0" lang="en-US" sz="7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Блок-схема: процесс 3"/>
          <p:cNvSpPr/>
          <p:nvPr/>
        </p:nvSpPr>
        <p:spPr>
          <a:xfrm>
            <a:off x="2143080" y="1571760"/>
            <a:ext cx="4786200" cy="8571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Целеполага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Блок-схема: процесс 4"/>
          <p:cNvSpPr/>
          <p:nvPr/>
        </p:nvSpPr>
        <p:spPr>
          <a:xfrm>
            <a:off x="2143080" y="4286160"/>
            <a:ext cx="4786200" cy="8575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Выполнение проект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Блок-схема: процесс 5"/>
          <p:cNvSpPr/>
          <p:nvPr/>
        </p:nvSpPr>
        <p:spPr>
          <a:xfrm>
            <a:off x="2143080" y="2928960"/>
            <a:ext cx="4786200" cy="8571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азработка проек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42720" y="5643360"/>
            <a:ext cx="4786200" cy="928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одведение итог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Стрелка вниз 16"/>
          <p:cNvSpPr/>
          <p:nvPr/>
        </p:nvSpPr>
        <p:spPr>
          <a:xfrm>
            <a:off x="4143240" y="1143000"/>
            <a:ext cx="4287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низ 17"/>
          <p:cNvSpPr/>
          <p:nvPr/>
        </p:nvSpPr>
        <p:spPr>
          <a:xfrm>
            <a:off x="4143240" y="24289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низ 18"/>
          <p:cNvSpPr/>
          <p:nvPr/>
        </p:nvSpPr>
        <p:spPr>
          <a:xfrm>
            <a:off x="4214880" y="37861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низ 19"/>
          <p:cNvSpPr/>
          <p:nvPr/>
        </p:nvSpPr>
        <p:spPr>
          <a:xfrm>
            <a:off x="4286160" y="514368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-49320" y="1646280"/>
            <a:ext cx="91141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935000"/>
          <a:ext cx="8229600" cy="4386600"/>
        </p:xfrm>
        <a:graphic>
          <a:graphicData uri="http://schemas.openxmlformats.org/drawingml/2006/table">
            <a:tbl>
              <a:tblPr/>
              <a:tblGrid>
                <a:gridCol w="2043000"/>
                <a:gridCol w="3286080"/>
                <a:gridCol w="2900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Формирует проблему (цель). При постановке цели определяется и продукт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Вводит в игровую (сюжетную) ситуац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Формирует задачу (нежёстко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проблем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живание в игровую ситуац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нятие задач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ополнение задач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8:19:27Z</dcterms:created>
  <dc:creator>User</dc:creator>
  <dc:description/>
  <dc:language>en-US</dc:language>
  <cp:lastModifiedBy>User</cp:lastModifiedBy>
  <dcterms:modified xsi:type="dcterms:W3CDTF">2013-04-30T04:10:22Z</dcterms:modified>
  <cp:revision>52</cp:revision>
  <dc:subject/>
  <dc:title>Слайд 1</dc:title>
</cp:coreProperties>
</file>