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6C1F-B11B-49EA-968E-C37484126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C99E-A973-447F-AF0E-B44FED992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0CCF-4501-48D0-8557-FFA57AD8A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31D4-E96B-4DC0-AAAA-969106CB6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4D3D6-F242-40EE-8861-17D8CF942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900A5-429C-4B68-A05A-C79EF5676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EA5BD-4901-4843-B234-4B8000C27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11289-6DD8-446C-9E67-5BCA92D35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5CA5F-492D-4B3F-8220-17A35015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C554D-8AB2-49B9-BBD5-8D27D4D8B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931A1-D45B-4B66-8684-7792AEC4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1E3E-691A-4B91-84E7-4810F07F5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9DB46-BA9A-4649-B752-CD88DAB5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B8103-0B0A-49D5-94CA-12F3DC65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691E4-2EDE-46A0-80D1-DBC37DF9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8D96A-6D8C-4659-A9E3-11425D0CA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8F347-082F-48DB-8062-2A5F01B83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6265-0E5E-4F21-BC80-5541B07C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12DC-979D-4934-90E9-D3E99010B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AF35-FE39-4205-93B2-37BF1D29C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D632-449D-4D0A-BA65-AE69BF1A5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74FD-F889-42CF-A086-288C8D5E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11B4-515F-4894-916D-6FE82206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718A-A901-4AE0-BE42-1D3EE24D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E61CD-2685-4438-908B-9D7AD2ECD6A0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82AC-C0F4-4F69-9313-E87E51D504E9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328680" y="920880"/>
            <a:ext cx="8632800" cy="46576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dbf5f9"/>
              </a:solidFill>
              <a:latin typeface="Calibri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57200" y="1935000"/>
          <a:ext cx="8229600" cy="3400560"/>
        </p:xfrm>
        <a:graphic>
          <a:graphicData uri="http://schemas.openxmlformats.org/drawingml/2006/table">
            <a:tbl>
              <a:tblPr/>
              <a:tblGrid>
                <a:gridCol w="2185920"/>
                <a:gridCol w="3071880"/>
                <a:gridCol w="2971800"/>
              </a:tblGrid>
              <a:tr h="74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Этапы проект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еятельность педагог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еятельность дет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265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I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этап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 Помогает в решение задачи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. Помогает спланировать деятельность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. Организует деятельность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. Объединение детей в рабочие группы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. Распределение амплуа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dbf5f9"/>
              </a:solidFill>
              <a:latin typeface="Calibri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00040" y="2214720"/>
          <a:ext cx="8229600" cy="3292200"/>
        </p:xfrm>
        <a:graphic>
          <a:graphicData uri="http://schemas.openxmlformats.org/drawingml/2006/table">
            <a:tbl>
              <a:tblPr/>
              <a:tblGrid>
                <a:gridCol w="2143080"/>
                <a:gridCol w="3143160"/>
                <a:gridCol w="29433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Этапы проект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еятельность педагог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еятельность дет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265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II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этап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. Практическая помощь (по необходимости)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. Направляет и контролирует осуществление проекта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. Формирование специфических знаний, умений, навыков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dbf5f9"/>
              </a:solidFill>
              <a:latin typeface="Calibri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57200" y="1935000"/>
          <a:ext cx="8229600" cy="3292560"/>
        </p:xfrm>
        <a:graphic>
          <a:graphicData uri="http://schemas.openxmlformats.org/drawingml/2006/table">
            <a:tbl>
              <a:tblPr/>
              <a:tblGrid>
                <a:gridCol w="2043000"/>
                <a:gridCol w="2928960"/>
                <a:gridCol w="32576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Этапы проект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еятельность педагог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еятельность дет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02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V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тап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. Подготовка к презентации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резентация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. Продукт деятельности готовят к презентации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. Представляют (зрителям или экспертам) продукт деятельности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0040" y="128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bf5f9"/>
                </a:solidFill>
                <a:latin typeface="Calibri"/>
              </a:rPr>
              <a:t>Примерный план работы воспитателя по подготовке проекта.</a:t>
            </a:r>
            <a:br>
              <a:rPr sz="3600"/>
            </a:b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На основе изученных проблем детей поставить цель проект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Разработка плана движения к цели (воспитатель, методист обсуждает план с родителями)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Привлечение специалистов к осуществлению соответствующих разделов проект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Составление плана-схемы проект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Сбор, накопление материал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Включение в план-схему проекта занятий, игр и других видов детской деятельности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Домашние задания и задания для самостоятельного выполнения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Презентация проекта, открытое занятие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8584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ru-RU" sz="6000" spc="-1" strike="noStrike">
                <a:solidFill>
                  <a:srgbClr val="ffffff"/>
                </a:solidFill>
                <a:latin typeface="Constantia"/>
              </a:rPr>
              <a:t>Спасибо 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onstantia"/>
              </a:rPr>
              <a:t>                 </a:t>
            </a:r>
            <a:r>
              <a:rPr b="0" lang="ru-RU" sz="6000" spc="-1" strike="noStrike">
                <a:solidFill>
                  <a:srgbClr val="ffffff"/>
                </a:solidFill>
                <a:latin typeface="Constantia"/>
              </a:rPr>
              <a:t>за 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onstantia"/>
              </a:rPr>
              <a:t>внимание!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0040" y="469080"/>
            <a:ext cx="822960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Блок-схема: процесс 16"/>
          <p:cNvSpPr/>
          <p:nvPr/>
        </p:nvSpPr>
        <p:spPr>
          <a:xfrm>
            <a:off x="428760" y="3357720"/>
            <a:ext cx="1928520" cy="500040"/>
          </a:xfrm>
          <a:prstGeom prst="flowChartProcess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Цел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Блок-схема: процесс 17"/>
          <p:cNvSpPr/>
          <p:nvPr/>
        </p:nvSpPr>
        <p:spPr>
          <a:xfrm>
            <a:off x="6786720" y="3429000"/>
            <a:ext cx="1928520" cy="500040"/>
          </a:xfrm>
          <a:prstGeom prst="flowChartProcess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Технолог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Блок-схема: процесс 18"/>
          <p:cNvSpPr/>
          <p:nvPr/>
        </p:nvSpPr>
        <p:spPr>
          <a:xfrm>
            <a:off x="5214960" y="4714920"/>
            <a:ext cx="1928880" cy="500040"/>
          </a:xfrm>
          <a:prstGeom prst="flowChartProcess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Метод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Блок-схема: процесс 19"/>
          <p:cNvSpPr/>
          <p:nvPr/>
        </p:nvSpPr>
        <p:spPr>
          <a:xfrm>
            <a:off x="2143080" y="4714920"/>
            <a:ext cx="1928880" cy="500040"/>
          </a:xfrm>
          <a:prstGeom prst="flowChartProcess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Творческое де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Блок-схема: процесс 20"/>
          <p:cNvSpPr/>
          <p:nvPr/>
        </p:nvSpPr>
        <p:spPr>
          <a:xfrm>
            <a:off x="2643120" y="1571760"/>
            <a:ext cx="3929040" cy="1000080"/>
          </a:xfrm>
          <a:prstGeom prst="flowChartProcess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onstantia"/>
              </a:rPr>
              <a:t>Проек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4" name="Прямая со стрелкой 24"/>
          <p:cNvCxnSpPr>
            <a:endCxn id="99" idx="0"/>
          </p:cNvCxnSpPr>
          <p:nvPr/>
        </p:nvCxnSpPr>
        <p:spPr>
          <a:xfrm flipH="1">
            <a:off x="1391400" y="2570760"/>
            <a:ext cx="1251720" cy="7866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105" name="Прямая со стрелкой 26"/>
          <p:cNvCxnSpPr/>
          <p:nvPr/>
        </p:nvCxnSpPr>
        <p:spPr>
          <a:xfrm flipH="1">
            <a:off x="3214440" y="2571840"/>
            <a:ext cx="429120" cy="20718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106" name="Прямая со стрелкой 28"/>
          <p:cNvCxnSpPr/>
          <p:nvPr/>
        </p:nvCxnSpPr>
        <p:spPr>
          <a:xfrm>
            <a:off x="5357880" y="2571480"/>
            <a:ext cx="929520" cy="21438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107" name="Прямая со стрелкой 30"/>
          <p:cNvCxnSpPr/>
          <p:nvPr/>
        </p:nvCxnSpPr>
        <p:spPr>
          <a:xfrm>
            <a:off x="6571800" y="2571480"/>
            <a:ext cx="1500840" cy="7866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57120" y="12855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Constantia"/>
              </a:rPr>
              <a:t>Целью проектного метода в дошкольных образовательных учреждениях является развитие свободной творческой личности ребёнка, которое определяется задачами развития и задачами исследовательской деятельности детей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0040" y="121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dbf5f9"/>
                </a:solidFill>
                <a:latin typeface="Calibri"/>
              </a:rPr>
              <a:t>Задачи развития.</a:t>
            </a:r>
            <a:br>
              <a:rPr sz="5000"/>
            </a:b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00040" y="14997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Обеспечение психологического благополучия и здоровья детей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Развитие познавательных способностей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Развитие творческого воображения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Развитие творческого мышления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Развитие коммуникативных навыков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dbf5f9"/>
                </a:solidFill>
                <a:latin typeface="Calibri"/>
              </a:rPr>
              <a:t>Задачи исследовательской деятельности</a:t>
            </a:r>
            <a:endParaRPr b="0" lang="en-US" sz="4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nstantia"/>
              </a:rPr>
              <a:t>Младший дошкольный возраст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хождение детей в проблемную игровую ситуацию (ведшая роль педагога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активизация желания искать пути разрешения проблемной ситуации (вместе с педагогом)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nstantia"/>
              </a:rPr>
              <a:t>Старший дошкольный возраст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формирование предпосылок поисковой деятельности, интеллектуальной инициативы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развитие умения определять возможные методы решения проблемы с помощью взрослого, а затем и самостоятельно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развитие желания пользоваться специальной терминологией, ведение конструктивной беседы в процессе совместной исследовательской деятельности.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57120" y="13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f5f9"/>
                </a:solidFill>
                <a:latin typeface="Calibri"/>
              </a:rPr>
              <a:t>В практике современных дошкольных учреждений используются следующие виды проектов:</a:t>
            </a:r>
            <a:br>
              <a:rPr sz="2800"/>
            </a:br>
            <a:endParaRPr b="0" lang="en-US" sz="2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nstantia"/>
              </a:rPr>
              <a:t>исследовательско-творческие проекты: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дети экспериментируют, а затем результаты оформляют в виде газет, драматизации, детского дизайна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nstantia"/>
              </a:rPr>
              <a:t>ролево-игровые  проекты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(с элементами творческих игр, когда дети входят в образ персонажей сказки и решают по-своему поставленные проблемы)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nstantia"/>
              </a:rPr>
              <a:t>информационно-практико-ориентированные проекты: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дети собирают информацию и реализуют её, ориентируясь на социальные интересы (оформление и дизайн группы, витражи и др.)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nstantia"/>
              </a:rPr>
              <a:t>творческие проекты в детском саду</a:t>
            </a:r>
            <a:r>
              <a:rPr b="0" lang="ru-RU" sz="2000" spc="-1" strike="noStrike">
                <a:solidFill>
                  <a:srgbClr val="ffff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(оформление результата в виде детского праздника, детского дизайна, например «Театральная неделя»)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dbf5f9"/>
                </a:solidFill>
                <a:latin typeface="Calibri"/>
              </a:rPr>
              <a:t>Основные этапы</a:t>
            </a:r>
            <a:endParaRPr b="0" lang="en-US" sz="72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8" name="Блок-схема: процесс 3"/>
          <p:cNvSpPr/>
          <p:nvPr/>
        </p:nvSpPr>
        <p:spPr>
          <a:xfrm>
            <a:off x="2143080" y="1571760"/>
            <a:ext cx="4786200" cy="857160"/>
          </a:xfrm>
          <a:prstGeom prst="flowChartProcess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Целеполагание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Блок-схема: процесс 4"/>
          <p:cNvSpPr/>
          <p:nvPr/>
        </p:nvSpPr>
        <p:spPr>
          <a:xfrm>
            <a:off x="2143080" y="4286160"/>
            <a:ext cx="4786200" cy="857520"/>
          </a:xfrm>
          <a:prstGeom prst="flowChartProcess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Выполнение проекта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Блок-схема: процесс 5"/>
          <p:cNvSpPr/>
          <p:nvPr/>
        </p:nvSpPr>
        <p:spPr>
          <a:xfrm>
            <a:off x="2143080" y="2928960"/>
            <a:ext cx="4786200" cy="857160"/>
          </a:xfrm>
          <a:prstGeom prst="flowChartProcess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Разработка проект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142720" y="5643360"/>
            <a:ext cx="4786200" cy="9284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txBody>
          <a:bodyPr anchor="ctr">
            <a:normAutofit/>
          </a:bodyPr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Подведение итогов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Стрелка вниз 16"/>
          <p:cNvSpPr/>
          <p:nvPr/>
        </p:nvSpPr>
        <p:spPr>
          <a:xfrm>
            <a:off x="4143240" y="1143000"/>
            <a:ext cx="42876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Стрелка вниз 17"/>
          <p:cNvSpPr/>
          <p:nvPr/>
        </p:nvSpPr>
        <p:spPr>
          <a:xfrm>
            <a:off x="4143240" y="2428920"/>
            <a:ext cx="428760" cy="500040"/>
          </a:xfrm>
          <a:prstGeom prst="downArrow">
            <a:avLst>
              <a:gd name="adj1" fmla="val 50000"/>
              <a:gd name="adj2" fmla="val 4998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Стрелка вниз 18"/>
          <p:cNvSpPr/>
          <p:nvPr/>
        </p:nvSpPr>
        <p:spPr>
          <a:xfrm>
            <a:off x="4214880" y="3786120"/>
            <a:ext cx="428400" cy="500040"/>
          </a:xfrm>
          <a:prstGeom prst="downArrow">
            <a:avLst>
              <a:gd name="adj1" fmla="val 50000"/>
              <a:gd name="adj2" fmla="val 5002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Стрелка вниз 19"/>
          <p:cNvSpPr/>
          <p:nvPr/>
        </p:nvSpPr>
        <p:spPr>
          <a:xfrm>
            <a:off x="4286160" y="5143680"/>
            <a:ext cx="428760" cy="500040"/>
          </a:xfrm>
          <a:prstGeom prst="downArrow">
            <a:avLst>
              <a:gd name="adj1" fmla="val 50000"/>
              <a:gd name="adj2" fmla="val 4998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Заголовок 3" descr=""/>
          <p:cNvPicPr/>
          <p:nvPr/>
        </p:nvPicPr>
        <p:blipFill>
          <a:blip r:embed="rId1"/>
          <a:stretch/>
        </p:blipFill>
        <p:spPr>
          <a:xfrm>
            <a:off x="-49320" y="1646280"/>
            <a:ext cx="911412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dbf5f9"/>
              </a:solidFill>
              <a:latin typeface="Calibri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1935000"/>
          <a:ext cx="8229600" cy="4386600"/>
        </p:xfrm>
        <a:graphic>
          <a:graphicData uri="http://schemas.openxmlformats.org/drawingml/2006/table">
            <a:tbl>
              <a:tblPr/>
              <a:tblGrid>
                <a:gridCol w="2043000"/>
                <a:gridCol w="3286080"/>
                <a:gridCol w="2900520"/>
              </a:tblGrid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Этапы проект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еятельность педагог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еятельность дет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75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этап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 Формирует проблему (цель). При постановке цели определяется и продукт проекта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 Вводит в игровую (сюжетную) ситуацию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 Формирует задачу (нежёстко)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Вхождение в проблему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Вживание в игровую ситуацию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Принятие задачи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Дополнение задач проекта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5T08:19:27Z</dcterms:created>
  <dc:creator>User</dc:creator>
  <dc:description/>
  <dc:language>en-US</dc:language>
  <cp:lastModifiedBy>User</cp:lastModifiedBy>
  <dcterms:modified xsi:type="dcterms:W3CDTF">2013-04-30T04:10:22Z</dcterms:modified>
  <cp:revision>52</cp:revision>
  <dc:subject/>
  <dc:title>Слайд 1</dc:title>
</cp:coreProperties>
</file>