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14C-F43A-4345-96EE-57FC8157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F28-E58E-4301-9DC0-1641894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1F6-7E73-4680-AC78-EAD4DF8D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754-81E7-4AAE-9FC4-C342F00D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D73-B4B3-4D47-8ED2-7F1B977E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54B1-8A33-4B91-BE7D-884EDD3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45B5-B45D-4972-AC1B-CF1E4B08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6589-E36C-418A-9DC3-F05462B7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FC1-C82B-4829-BE9D-E71FF8FB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4E17-B9AF-4FA2-9EBF-AF7EB033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737-DC57-473B-B300-9BA8B3F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D6B-8269-4740-864E-6D6DFE5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624-C58A-44C6-96F6-94948B3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D942-46C3-4D61-B838-CE479B2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10F6-A97D-47FC-84A3-05024CA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8FF-C3AB-4C34-818B-1CE28FE9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DB7-EB23-4833-9414-20239260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CA9-1B04-4336-941D-D2350AB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195-EB72-40E6-8C46-ED4900E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268-032E-462E-B7D6-26ADCE0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853-1CCB-4E49-AEB7-66FD66F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217-2B0D-487D-9B41-CEB92F7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3D6-092A-4A60-9957-4150A45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D46-9C36-451F-B5F1-EDD9F21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219-B15E-42AC-B7B8-5FC26BF224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539-848C-4173-9663-C3D82D3C02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632800" cy="4657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35000"/>
          <a:ext cx="8229600" cy="3400560"/>
        </p:xfrm>
        <a:graphic>
          <a:graphicData uri="http://schemas.openxmlformats.org/drawingml/2006/table">
            <a:tbl>
              <a:tblPr/>
              <a:tblGrid>
                <a:gridCol w="2185920"/>
                <a:gridCol w="3071880"/>
                <a:gridCol w="2971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Помогает в решен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Помогает спланировать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Организует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Объединение детей в рабочие групп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Распределение амплу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2214720"/>
          <a:ext cx="8229600" cy="3292200"/>
        </p:xfrm>
        <a:graphic>
          <a:graphicData uri="http://schemas.openxmlformats.org/drawingml/2006/table">
            <a:tbl>
              <a:tblPr/>
              <a:tblGrid>
                <a:gridCol w="2143080"/>
                <a:gridCol w="3143160"/>
                <a:gridCol w="2943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Практическая помощь (по необходимост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Направляет и контролирует осуществление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Формирование специфических знаний, умений, 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35000"/>
          <a:ext cx="8229600" cy="3292560"/>
        </p:xfrm>
        <a:graphic>
          <a:graphicData uri="http://schemas.openxmlformats.org/drawingml/2006/table">
            <a:tbl>
              <a:tblPr/>
              <a:tblGrid>
                <a:gridCol w="2043000"/>
                <a:gridCol w="2928960"/>
                <a:gridCol w="325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одготовка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зентац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Продукт деятельности готовят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редставляют (зрителям или экспертам) продукт деят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имерный план работы воспитателя по подготовке проекта.</a:t>
            </a:r>
            <a:br>
              <a:rPr sz="3600"/>
            </a:b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основе изученных проблем детей поставить цель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работка плана движения к цели (воспитатель, методист обсуждает план с родителями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лечение специалистов к осуществлению соответствующих разделов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ставление плана-схемы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бор, накопление матери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ключение в план-схему проекта занятий, игр и других видов детской деятель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омашние задания и задания для самостоятельного выполн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зентация проекта, открытое занят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8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469080"/>
            <a:ext cx="822960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Блок-схема: процесс 16"/>
          <p:cNvSpPr/>
          <p:nvPr/>
        </p:nvSpPr>
        <p:spPr>
          <a:xfrm>
            <a:off x="428760" y="335772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Ц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Блок-схема: процесс 17"/>
          <p:cNvSpPr/>
          <p:nvPr/>
        </p:nvSpPr>
        <p:spPr>
          <a:xfrm>
            <a:off x="6786720" y="342900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ехнолог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Блок-схема: процесс 18"/>
          <p:cNvSpPr/>
          <p:nvPr/>
        </p:nvSpPr>
        <p:spPr>
          <a:xfrm>
            <a:off x="521496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Блок-схема: процесс 19"/>
          <p:cNvSpPr/>
          <p:nvPr/>
        </p:nvSpPr>
        <p:spPr>
          <a:xfrm>
            <a:off x="214308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ческ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Блок-схема: процесс 20"/>
          <p:cNvSpPr/>
          <p:nvPr/>
        </p:nvSpPr>
        <p:spPr>
          <a:xfrm>
            <a:off x="2643120" y="1571760"/>
            <a:ext cx="3929040" cy="10000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оек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Прямая со стрелкой 24"/>
          <p:cNvCxnSpPr>
            <a:endCxn id="99" idx="0"/>
          </p:cNvCxnSpPr>
          <p:nvPr/>
        </p:nvCxnSpPr>
        <p:spPr>
          <a:xfrm flipH="1">
            <a:off x="1391400" y="2570760"/>
            <a:ext cx="12517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5" name="Прямая со стрелкой 26"/>
          <p:cNvCxnSpPr/>
          <p:nvPr/>
        </p:nvCxnSpPr>
        <p:spPr>
          <a:xfrm flipH="1">
            <a:off x="3214440" y="2571840"/>
            <a:ext cx="429120" cy="207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6" name="Прямая со стрелкой 28"/>
          <p:cNvCxnSpPr/>
          <p:nvPr/>
        </p:nvCxnSpPr>
        <p:spPr>
          <a:xfrm>
            <a:off x="5357880" y="2571480"/>
            <a:ext cx="929520" cy="2143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7" name="Прямая со стрелкой 30"/>
          <p:cNvCxnSpPr/>
          <p:nvPr/>
        </p:nvCxnSpPr>
        <p:spPr>
          <a:xfrm>
            <a:off x="6571800" y="2571480"/>
            <a:ext cx="150084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Целью проектного метода в дошкольных образовательных учреждениях является развитие свободной творческой личности ребёнка, которое определяется задачами развития и задачами исследовательской деятельности дете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dbf5f9"/>
                </a:solidFill>
                <a:latin typeface="Calibri"/>
              </a:rPr>
              <a:t>Задачи развития.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беспечение психологического благополучия и здоровья де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познавательных способнос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воображ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мышл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коммуникативных навык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Задачи исследовательской деятельност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лад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хождение детей в проблемную игровую ситуацию (ведшая роль педагога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ктивизация желания искать пути разрешения проблемной ситуации (вместе с педагогом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Стар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ние предпосылок поисковой деятельности, интеллектуальной инициативы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Calibri"/>
              </a:rPr>
              <a:t>В практике современных дошкольных учреждений используются следующие виды проектов:</a:t>
            </a: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сследовательско-творчески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экспериментируют, а затем результаты оформляют в виде газет, драматизации, детского дизайн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ролево-игровые  проекты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с элементами творческих игр, когда дети входят в образ персонажей сказки и решают по-своему поставленные проблемы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нформационно-практико-ориентированны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собирают информацию и реализуют её, ориентируясь на социальные интересы (оформление и дизайн группы, витражи и др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творческие проекты в детском саду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оформление результата в виде детского праздника, детского дизайна, например «Театральная неделя»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f5f9"/>
                </a:solidFill>
                <a:latin typeface="Calibri"/>
              </a:rPr>
              <a:t>Основные этапы</a:t>
            </a:r>
            <a:endParaRPr b="0" lang="en-US" sz="7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Блок-схема: процесс 3"/>
          <p:cNvSpPr/>
          <p:nvPr/>
        </p:nvSpPr>
        <p:spPr>
          <a:xfrm>
            <a:off x="2143080" y="15717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Целеполага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процесс 4"/>
          <p:cNvSpPr/>
          <p:nvPr/>
        </p:nvSpPr>
        <p:spPr>
          <a:xfrm>
            <a:off x="2143080" y="4286160"/>
            <a:ext cx="4786200" cy="8575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Выполнение проект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Блок-схема: процесс 5"/>
          <p:cNvSpPr/>
          <p:nvPr/>
        </p:nvSpPr>
        <p:spPr>
          <a:xfrm>
            <a:off x="2143080" y="29289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азработка проек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42720" y="5643360"/>
            <a:ext cx="4786200" cy="928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дведение итог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Стрелка вниз 16"/>
          <p:cNvSpPr/>
          <p:nvPr/>
        </p:nvSpPr>
        <p:spPr>
          <a:xfrm>
            <a:off x="4143240" y="114300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низ 17"/>
          <p:cNvSpPr/>
          <p:nvPr/>
        </p:nvSpPr>
        <p:spPr>
          <a:xfrm>
            <a:off x="4143240" y="24289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низ 18"/>
          <p:cNvSpPr/>
          <p:nvPr/>
        </p:nvSpPr>
        <p:spPr>
          <a:xfrm>
            <a:off x="4214880" y="37861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низ 19"/>
          <p:cNvSpPr/>
          <p:nvPr/>
        </p:nvSpPr>
        <p:spPr>
          <a:xfrm>
            <a:off x="4286160" y="514368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-49320" y="1646280"/>
            <a:ext cx="91141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35000"/>
          <a:ext cx="8229600" cy="4386600"/>
        </p:xfrm>
        <a:graphic>
          <a:graphicData uri="http://schemas.openxmlformats.org/drawingml/2006/table">
            <a:tbl>
              <a:tblPr/>
              <a:tblGrid>
                <a:gridCol w="2043000"/>
                <a:gridCol w="3286080"/>
                <a:gridCol w="2900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Формирует проблему (цель). При постановке цели определяется и продукт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Вводит в игровую (сюжетную)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Формирует задачу (нежёстко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проблем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живание в игровую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нят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ополнение задач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8:19:27Z</dcterms:created>
  <dc:creator>User</dc:creator>
  <dc:description/>
  <dc:language>en-US</dc:language>
  <cp:lastModifiedBy>User</cp:lastModifiedBy>
  <dcterms:modified xsi:type="dcterms:W3CDTF">2013-04-30T04:10:22Z</dcterms:modified>
  <cp:revision>52</cp:revision>
  <dc:subject/>
  <dc:title>Слайд 1</dc:title>
</cp:coreProperties>
</file>