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2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95A1-595D-4AC4-868D-A625E7CA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795F-FF64-4124-9358-B16C8861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72A7-D395-4AFC-A851-C25F0C055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584D-DB93-4B16-B5B5-9869DF086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A293-CEB2-4FF5-ACDC-56283AA91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0B82-E61D-4DBB-B5E5-FC29DE2A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ACD3-FC5A-4C08-8BC6-BD0A0CB1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11D2-ADC9-40FF-9457-C03917AD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9B08-46D9-4132-8DAF-2A58C589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E69D-00C8-4CE4-9170-8508A01F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943E-1AC2-458F-AF35-253EE9CB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7850-24C4-4AF8-9E9A-624A0F94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E17F-6264-446E-A6D9-1A53EE90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1CEB-AFDC-4D4D-A6B7-C06CB61E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2B4A-8358-406C-8DD7-2359218D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379A-0D1A-4D5F-A5E9-1891C5D1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97D7-4C2E-41F1-9C4C-8C24A5A06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F234-30E2-4926-A2A7-3D6674EB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3A85-8363-4202-9D7F-E7A8B54D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986B-A05E-4A88-BFEA-207488E4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C9EF-1D7E-492D-B217-66871EDF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5D52-80B7-4BE4-AF66-8027485F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0126-0352-4AEF-B348-4F6C3AC6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0BB8-AE48-483E-A778-4FEEB43F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5AFC-6CE4-47D1-BA1F-0A7BF736D42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5865-2B1A-4952-AE48-E2C1B623AE2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2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оект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«Приглашение к чтению. Е.И. Чарушин и его творчество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дготовила воспитатель                               Горячева И.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268360" y="2924280"/>
            <a:ext cx="3973680" cy="29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Работа с родителями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. Помощь  детям в изготовлении книжек малышек (оформление, поиск иллюстраций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. Пополнение книжного уголка книгами детского писателя-художника Е.И. Чарушин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. Помощь в оформлении папки-передвижки (поиск биографии писателя, рассказа о его детстве и др.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 Помощь в подготовке викторины «Загадки из леса»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5. Чтение рассказов Е,И. Чарушина дом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164360" y="260280"/>
            <a:ext cx="1428840" cy="9334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7667640" y="5229360"/>
            <a:ext cx="1123920" cy="14284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971640" y="5084640"/>
            <a:ext cx="1028520" cy="14288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4284720" y="5084640"/>
            <a:ext cx="1123920" cy="14288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7667640" y="3573360"/>
            <a:ext cx="1123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Организация среды, ориентированной на ребёнк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ля того, чтобы дети «погрузились» в тему проекта, в группе создана предметно- развивающая среда, которая способствует развитию исследовательской, поисковой , творческой и самостоятельной деятельности ребёнка и позволяющей ему найти ответы на интересующие вопрос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Особая организация развивающей среды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843280" y="1747800"/>
            <a:ext cx="3530520" cy="18921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516720" y="1773360"/>
            <a:ext cx="2260440" cy="3012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179280" y="1628640"/>
            <a:ext cx="2536920" cy="3382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3492360" y="3789360"/>
            <a:ext cx="20732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Продукты детской деятельност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505400" cy="2481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796000" y="1413000"/>
            <a:ext cx="1882800" cy="25095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2965680" cy="2224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4572000" y="4076640"/>
            <a:ext cx="3351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Наша мини-библиоте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550880" y="1719360"/>
            <a:ext cx="604224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11280" y="3079800"/>
            <a:ext cx="3522600" cy="18889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3610080" cy="48135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Развиваем речь (мелкая моторика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Физическое развитие (игра «Волк и зайцы»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49626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нижки-малышки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ботая над оформлением книжек-малышек, дети не только наклеивали героев рассказов Е.И. Чарушина, но и проявляли фантазию, воображение, творческое начало, развивали речь, память, мышление  и др. Это происходило благодаря тому, что дети самостоятельно  оформляли каждую страничку книжки, придумывали фон (рисовали траву, снег, деревья, солнце, облака и др.), а также сочиняли свои сюжеты, которые могли произойти с героями рассказов и д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093080" y="333360"/>
            <a:ext cx="142848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550880" y="1719360"/>
            <a:ext cx="6042240" cy="4411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55520" y="46080"/>
            <a:ext cx="1076400" cy="14288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7885080" y="189000"/>
            <a:ext cx="1123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резентация книжек-малышек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ти рассказывали о понравившихся  героях рассказов детского писателя Е.И. Чарушина, о том чем они запомнилис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419640" y="3068640"/>
            <a:ext cx="266364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Выбор темы проек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бор темы проекта не случаен. Дети нашей группы очень любят слушать чтение книг. Особенно различные истории про животных. Так родилась идея познакомить детей поближе с жизнью, повадками, особенностями животных и птиц. Выбор пал на творчество Евгения Ивановича Чарушина, т.к. он не только писал рассказы о животных, но и прекрасно их иллюстрирова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093080" y="5516640"/>
            <a:ext cx="1428480" cy="10382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08000" y="5229360"/>
            <a:ext cx="1047600" cy="1428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7812000" y="189000"/>
            <a:ext cx="10857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Модель трёх вопрос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341360"/>
          <a:ext cx="8229600" cy="5408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 знаю? О писателе         Е.И. Чарушине и его творчеств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хочу узнать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узнать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я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писал рассказ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ком писал рассказы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осить у мам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ша 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– рисовал рисунки к рассказа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м рисовал писатель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осить у пап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ша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рассказывал о живот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каких животных писал рассказы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тать книгу с мамо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вей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писал о птицах, книги с картинка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рисунки попали в книгу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осить у мам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я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книги можно взять в библиотек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 книги писателя в группе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мотреть в книжном уголк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ма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написал рассказ про Тюп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де взять нужную книгу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осить у мам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ёма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книги нельзя рва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делают книги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мотреть познавательную программ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к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написал рассказ о медвежата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ли писатели умеют рисовать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осить у мам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ша Ф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книги надо беречь и эту то ж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чем читать книги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ходить в библиотек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фия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писал книг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де жил писатель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нать из папки-передвиж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ип проекта: практико-ориентированн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д проекта – комплексн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должительность проекта – краткосрочн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мет исследования – произведения детского писателя-художника Е.И. Чарушина о живот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зраст детей  - 4-5 л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596360" y="5084640"/>
            <a:ext cx="1247760" cy="14288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812000" y="189000"/>
            <a:ext cx="943200" cy="14288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643280" y="333360"/>
            <a:ext cx="905040" cy="1066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1042920" y="189000"/>
            <a:ext cx="11145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0000"/>
                </a:solidFill>
                <a:uFillTx/>
                <a:latin typeface="Arial"/>
              </a:rPr>
              <a:t>Цель проекта: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Формирование у детей интереса к произведениям Е.И. Чарушина. Воспитание желания к чтению художественной литературы. Знакомство с иллюстрациями Е.И. Чарушин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0000"/>
                </a:solidFill>
                <a:uFillTx/>
                <a:latin typeface="Arial"/>
              </a:rPr>
              <a:t>Задачи проекта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1. Познакомить детей с творчеством детского писателя-художника Е.И. Чарушин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2. Содействовать развитию речи, обогащать и активизировать словарь, повышать его выразительнос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3. Развивать навыки художественного творчества дете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4. Развивать индивидуальные эмоциональные проявления во всех видах деятельност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 Осуществлять нравственное  и эстетическое развитие личности ребёнк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851280" y="4797360"/>
            <a:ext cx="1305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«Паутинка» к проекту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9640" y="1125360"/>
          <a:ext cx="8229600" cy="5515200"/>
        </p:xfrm>
        <a:graphic>
          <a:graphicData uri="http://schemas.openxmlformats.org/drawingml/2006/table">
            <a:tbl>
              <a:tblPr/>
              <a:tblGrid>
                <a:gridCol w="2232000"/>
                <a:gridCol w="1656000"/>
                <a:gridCol w="226800"/>
                <a:gridCol w="1717920"/>
                <a:gridCol w="2396880"/>
              </a:tblGrid>
              <a:tr h="16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бразовательная обла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«Физическая культур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вижные игры «Зайчик и волк», «У медведя во бору», «Лиса в курятнике» и д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бразовательная область «Здоровье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Когда заболела моя собак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Если укусила собака или поцарапала кошк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равила поведения с животн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бразовательная область «Социализация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Профессия – детский писа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Мы идём в зоопар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Кто лечит животных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бразовательная область                     «Труд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Уход за домашними животными и птиц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Кто работает на ферм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СРИ « Мы идём в  зоопарк»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бразовательная область «Коммуникация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Приглашение к чтению. Викторина «Звери и птицы» 2. Перессказ рассказа мЕ.И. Чарушина «Почему Тюпу прозвали Тюпой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писание животных по картинк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Рузучивание стихов о животных и птиц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проект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иглашение к чтению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.И. Чарушин и его творчество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бразовательная область «Чтение художественной литературы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ение рассказов Е.И. Чарушина ежедневно- «Страшный зверь», «Что за зверь», Воробей», «Волчишко», «Медведь-рыболов», «Почему Тюпу прозвали Тюпой», «Тюпа маленький» и д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бразовательная область «Безопасность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Встреча с дикими зверями в лес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1" i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орожно играем с домашними животн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равила поведения в зоопарк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бразовательная область «Музык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шание музыки «Голоса лес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бразовательная область «Художественное творчество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Аппликация к рассказу «О нашем дворе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Лепка «Заяц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ригами «Мордочка лисы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Рисование «Медведь», «Цыплёнок»и д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бразовательная область «Познание»: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ебёнок открывает мир прир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машние птицы, зимующие птицы, перелётные птицы, как звери и птицы  к зиме готовятся, кто живёт у вас дома и д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ЭМП Дидактические игры, счет до 5, на 1 больше (меньше) и др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Алгоритм тематического планирования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95280" y="1469880"/>
          <a:ext cx="8229600" cy="479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оприят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ни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Выбор темы проек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т проекта. Викторина «Загадки леса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, воспитатели, роди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Планирование проек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«Модель трёх вопросов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, воспитатели, роди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«Паутинка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, воспитатели, роди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 Календарное планир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пределение конечного продук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, воспитатели, роди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Реализация проек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оздание предметно-развивающей сре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, воспитатели, родители, специалисты  ГДБО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Организация деятельности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, воспитатели, роди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рганизация работы с родителя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, воспитатели, роди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нижки-малышки по произведениям Е.И. Чаруши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, воспитатели, роди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Презентация проек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ытие групповой мини-библиотеки. Открытое мероприятие для родителей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, воспитатели, роди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Старт проекта</a:t>
            </a:r>
            <a:br>
              <a:rPr sz="3500"/>
            </a:b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глашение к чтению. Введение в проект. Викторина «Загадки лес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ети разгадывают загадки о животных и птицах, о которых писал Е.И. Чарушин. Находят в загадках слова, которые помогают определить отгадку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124000" y="2852640"/>
            <a:ext cx="474336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Оформление уголка для родителей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908000" y="2166840"/>
            <a:ext cx="5158080" cy="2764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380360" y="5157720"/>
            <a:ext cx="1123920" cy="14288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324000" y="5445000"/>
            <a:ext cx="142848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20:22:48Z</dcterms:created>
  <dc:creator>USER</dc:creator>
  <dc:description/>
  <dc:language>en-US</dc:language>
  <cp:lastModifiedBy>USER</cp:lastModifiedBy>
  <dcterms:modified xsi:type="dcterms:W3CDTF">2012-09-04T18:41:03Z</dcterms:modified>
  <cp:revision>38</cp:revision>
  <dc:subject/>
  <dc:title>Слайд 1</dc:title>
</cp:coreProperties>
</file>