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2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6CFD-2966-4129-A7F1-3B59B205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1882-CC16-4A58-A953-6CAC1973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2ED-2074-4ADB-96B4-8574873F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AC1D-FE20-4DAE-91C6-C892177B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9B3E-E06E-498A-AD50-4DEC46A6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3DE9-C40F-430C-880A-01E31AEF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DC7C-0268-4170-8319-E569C1B7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866B-BE83-4D9E-8FDD-57C3CD7F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0B07-C7BC-4955-A66A-5BDEAF86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FF12-9866-4936-8AC6-C413D99B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842F-E28A-4184-AFD8-088CDFA6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C94E-80C0-4A08-8850-B50758CE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CBF3-5032-4A66-AB66-DDCEFF85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137D-677C-49BE-8013-25CE8E3F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EA44-A39F-4EC7-BD6E-D796ADCA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3099-D0ED-4E24-91F3-3D337272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99B3-56D8-46CF-A58A-EF4D1CC5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CAA-E19F-43D5-B215-15F797B4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EB0-2E7A-4E78-AF68-F3ADA3E7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615A-56A2-45AF-A844-115ABCE2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F304-162D-4841-A698-A7D94A67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0CDE-A4BF-4D25-AC51-AB770493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B390-FDCF-4B2D-A522-8BA53636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3283-C75E-44B3-9C5E-4875598C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3264-A53B-48A6-83CF-4DF8D8A00D8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EEA5-54C4-4D51-A1F4-B8CEA8CF8A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2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«Приглашение к чтению. Е.И. Чарушин и его творчеств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дготовила воспитатель                               Горячева И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397368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Работа с родителями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Помощь  детям в изготовлении книжек малышек (оформление, поиск иллюстраций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Пополнение книжного уголка книгами детского писателя-художника Е.И. Чарушин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Помощь в оформлении папки-передвижки (поиск биографии писателя, рассказа о его детстве и др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 Помощь в подготовке викторины «Загадки из леса»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5. Чтение рассказов Е,И. Чарушина дом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428840" cy="933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667640" y="5229360"/>
            <a:ext cx="1123920" cy="1428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971640" y="5084640"/>
            <a:ext cx="1028520" cy="1428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284720" y="5084640"/>
            <a:ext cx="1123920" cy="1428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7667640" y="3573360"/>
            <a:ext cx="1123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Организация среды, ориентированной на ребён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ля того, чтобы дети «погрузились» в тему проекта, в группе создана предметно- развивающая среда, которая способствует развитию исследовательской, поисковой , творческой и самостоятельной деятельности ребёнка и позволяющей ему найти ответы на интересующие вопро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Особая организация развивающей среды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843280" y="1747800"/>
            <a:ext cx="3530520" cy="1892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516720" y="1773360"/>
            <a:ext cx="2260440" cy="3012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79280" y="1628640"/>
            <a:ext cx="2536920" cy="3382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492360" y="3789360"/>
            <a:ext cx="20732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Продукты детской деятельност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505400" cy="2481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796000" y="1413000"/>
            <a:ext cx="1882800" cy="2509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2965680" cy="2224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4572000" y="4076640"/>
            <a:ext cx="3351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Наша мини-библиот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50880" y="1719360"/>
            <a:ext cx="604224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1280" y="3079800"/>
            <a:ext cx="3522600" cy="1888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610080" cy="48135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Развиваем речь (мелкая моторика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Физическое развитие (игра «Волк и зайцы»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49626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нижки-малышк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ботая над оформлением книжек-малышек, дети не только наклеивали героев рассказов Е.И. Чарушина, но и проявляли фантазию, воображение, творческое начало, развивали речь, память, мышление  и др. Это происходило благодаря тому, что дети самостоятельно  оформляли каждую страничку книжки, придумывали фон (рисовали траву, снег, деревья, солнце, облака и др.), а также сочиняли свои сюжеты, которые могли произойти с героями рассказов 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093080" y="333360"/>
            <a:ext cx="14284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550880" y="1719360"/>
            <a:ext cx="6042240" cy="4411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7885080" y="189000"/>
            <a:ext cx="1123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езентация книжек-малыше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ти рассказывали о понравившихся  героях рассказов детского писателя Е.И. Чарушина, о том чем они запомнилис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419640" y="3068640"/>
            <a:ext cx="266364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ыбор темы проек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бор темы проекта не случаен. Дети нашей группы очень любят слушать чтение книг. Особенно различные истории про животных. Так родилась идея познакомить детей поближе с жизнью, повадками, особенностями животных и птиц. Выбор пал на творчество Евгения Ивановича Чарушина, т.к. он не только писал рассказы о животных, но и прекрасно их иллюстрирова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093080" y="5516640"/>
            <a:ext cx="1428480" cy="1038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08000" y="5229360"/>
            <a:ext cx="1047600" cy="1428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812000" y="189000"/>
            <a:ext cx="10857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Модель трёх вопрос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341360"/>
          <a:ext cx="8229600" cy="5408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 знаю? О писателе         Е.И. Чарушине и его творчеств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хочу узнать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узнать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я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писал рассказ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ком писал рассказы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осить у мам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ша 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– рисовал рисунки к рассказа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 рисовал писатель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осить у пап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ш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рассказывал о живот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каких животных писал рассказы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тать книгу с мам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вей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писал о птицах, книги с картинк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рисунки попали в книгу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осить у мам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я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книги можно взять в библиотек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 книги писателя в группе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мотреть в книжном уголк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ма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написал рассказ про Тюп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взять нужную книгу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осить у мам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ёма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книги нельзя рва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делают книги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мотреть познавательную программ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к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написал рассказ о медвежата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ли писатели умеют рисовать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осить у мам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ша Ф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книги надо беречь и эту то ж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м читать книги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одить в библиотек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фия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писал книг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жил писатель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нать из папки-передвиж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п проекта: практико-ориентирован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 проекта – комплекс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олжительность проекта – краткосроч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мет исследования – произведения детского писателя-художника Е.И. Чарушина о живот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раст детей  - 4-5 л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596360" y="508464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943200" cy="1428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643280" y="333360"/>
            <a:ext cx="905040" cy="1066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1042920" y="189000"/>
            <a:ext cx="1114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Цель проекта: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Формирование у детей интереса к произведениям Е.И. Чарушина. Воспитание желания к чтению художественной литературы. Знакомство с иллюстрациями Е.И. Чаруш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Задачи проект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. Познакомить детей с творчеством детского писателя-художника Е.И. Чаруш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. Содействовать развитию речи, обогащать и активизировать словарь, повышать его выразительн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. Развивать навыки художественного творчества дете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4. Развивать индивидуальные эмоциональные проявления во всех видах деятель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 Осуществлять нравственное  и эстетическое развитие личности ребёнк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51280" y="4797360"/>
            <a:ext cx="1305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«Паутинка» к проекту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9640" y="1125360"/>
          <a:ext cx="8229600" cy="5515200"/>
        </p:xfrm>
        <a:graphic>
          <a:graphicData uri="http://schemas.openxmlformats.org/drawingml/2006/table">
            <a:tbl>
              <a:tblPr/>
              <a:tblGrid>
                <a:gridCol w="2232000"/>
                <a:gridCol w="1656000"/>
                <a:gridCol w="226800"/>
                <a:gridCol w="1717920"/>
                <a:gridCol w="2396880"/>
              </a:tblGrid>
              <a:tr h="16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«Физическая культур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ижные игры «Зайчик и волк», «У медведя во бору», «Лиса в курятнике»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Здоровье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Когда заболела моя собак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Если укусила собака или поцарапала кошк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равила поведения с животн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Социализация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рофессия – детский пис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Мы идём в зоопар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Кто лечит животных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                    «Труд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Уход за домашними животными и птиц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то работает на фер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РИ « Мы идём в  зоопарк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Коммуникация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риглашение к чтению. Викторина «Звери и птицы» 2. Перессказ рассказа мЕ.И. Чарушина «Почему Тюпу прозвали Тюпой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писание животных по картин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Рузучивание стихов о животных и птиц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проек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иглашение к чтению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.И. Чарушин и его творчество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Чтение художественной литературы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ение рассказов Е.И. Чарушина ежедневно- «Страшный зверь», «Что за зверь», Воробей», «Волчишко», «Медведь-рыболов», «Почему Тюпу прозвали Тюпой», «Тюпа маленький»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Безопасность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Встреча с дикими зверями в лес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орожно играем с домашними животн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равила поведения в зоопар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Музык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шание музыки «Голоса лес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Художественное творчеств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Аппликация к рассказу «О нашем дворе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Лепка «Заяц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ригами «Мордочка лисы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Рисование «Медведь», «Цыплёнок»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бразовательная область «Познание»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ебёнок открывает мир при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ашние птицы, зимующие птицы, перелётные птицы, как звери и птицы  к зиме готовятся, кто живёт у вас дома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ЭМП Дидактические игры, счет до 5, на 1 больше (меньше) и др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Алгоритм тематического планирования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95280" y="1469880"/>
          <a:ext cx="8229600" cy="479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ни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Выбор темы прое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т проекта. Викторина «Загадки лес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Планирование прое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«Модель трёх вопросов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«Паутинк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Календарное планир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пределение конечного проду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еализация прое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здание предметно-развивающей ср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, специалисты  ГДБО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рганизация деятельности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рганизация работы с родителя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ижки-малышки по произведениям Е.И. Чаруш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Презентация прое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ие групповой мини-библиотеки. Открытое мероприятие для родителе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оспитатели, роди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Старт проекта</a:t>
            </a:r>
            <a:br>
              <a:rPr sz="3500"/>
            </a:b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глашение к чтению. Введение в проект. Викторина «Загадки лес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ти разгадывают загадки о животных и птицах, о которых писал Е.И. Чарушин. Находят в загадках слова, которые помогают определить отгадку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124000" y="2852640"/>
            <a:ext cx="474336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Оформление уголка для родителе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908000" y="2166840"/>
            <a:ext cx="5158080" cy="2764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380360" y="5157720"/>
            <a:ext cx="1123920" cy="14288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24000" y="5445000"/>
            <a:ext cx="14284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20:22:48Z</dcterms:created>
  <dc:creator>USER</dc:creator>
  <dc:description/>
  <dc:language>en-US</dc:language>
  <cp:lastModifiedBy>USER</cp:lastModifiedBy>
  <dcterms:modified xsi:type="dcterms:W3CDTF">2012-09-04T18:41:03Z</dcterms:modified>
  <cp:revision>38</cp:revision>
  <dc:subject/>
  <dc:title>Слайд 1</dc:title>
</cp:coreProperties>
</file>