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3ED3-9FA9-45F5-AD83-52DCF2BD48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34E-AE1C-47C9-B783-15822AAC2A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B44C-8C48-4315-AA22-CAA2CC5F3E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51F5-4D78-4644-A548-90EF0FCC4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CF3D-4232-460C-8E0F-5FB9391FF6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BAF6-C0E8-43B5-B680-C2AF6EAF68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199B-A25E-4AD1-9107-3E264F539F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848A-C896-49EC-98EB-785F1BD59C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00B4-4FFD-41F8-9C03-966E03DB2C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6494-FAFE-44B1-B1D4-E736FB3FCE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F32D-53C1-4C37-93D8-14DD9289F8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8494-13B7-4D2A-8F9B-6E8FBB79D9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5B8F-6CFA-430A-99B2-809FCA4BA7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5214-A823-40AE-9968-5A8E3C7D98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91F2-6C18-4294-A574-B03B1B57C2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4727-CD54-4BE1-871E-26E620C570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1B26-D162-4DD9-A25E-954A2B0E27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F3C9-338C-454C-B671-858DA12C54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56F5-B074-4593-891A-18373F4176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58CA-E6CC-457D-A14B-D26787CF56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8199-E93A-46C4-B5F0-756DDA5E9F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DAE4-41CD-4C37-8B1A-036E5CC9D7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41E7-3AF5-4027-A304-0E03DBE41D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3309-F79D-4A89-B166-3A11D3A639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A50E-FBAA-4A9B-B05F-B36AFE43A3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C2C5-A311-4FF2-BF57-0259216870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21AF-63AE-47D9-81BF-BFBDD15AD2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2FBA-1A32-4025-9C21-24AA3A96F2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19C5-ECA1-4C04-B298-5EA2B3B716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136E-ABE3-4AB8-8057-611662CD8C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E92F-F582-4263-A13C-35640CD9F3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AB0-0082-4AEC-9190-2AAEA24C26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C9D1-A387-40A7-9A3C-D180306F81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87BC-C548-4A2D-B6A1-A1EDA04F01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E235-9D79-49E3-96A8-A50085A436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730-D26D-4DAF-B89F-910520C2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D7D-BAFD-44FA-9421-4696574F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10BDC-6161-499B-9C49-45A70B83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29EBB-36CB-4C8E-AC0C-357F1A7C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03F0E-77F3-4D7B-A32C-561DA36C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FCD4D-EDE9-4B25-AAC3-A2AA12D2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80508-7EFB-4575-8931-7EC43BD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217D9-5CB1-427E-8526-962E1D59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296AE-2B7E-4348-8E14-8BA516BD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BCA98-9300-4DD9-806D-CF51EDB3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9EFAF-63A9-471C-859D-C74A4608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A0CA4-C4EF-4D68-AADB-E4CFE14A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142-9A4B-48EF-9339-E58A1592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182E7-7729-492F-9B20-0F3141D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B3685-39D3-4C81-A715-BD956DA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CFB2D-EECC-42BE-B44E-36DE4F01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9E882-8A0E-4EED-AB78-D647F9F1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51F37-B590-4443-944E-A284B88A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624E9-D64E-4D6E-BE2D-D759D5D5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5BE58-4C70-4882-935C-A25D8EBE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2F188-B0C0-49D9-83CF-A3B85AF4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116E8-3BC1-4A0D-AE85-B5013407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0BF00-8D20-47D0-9D65-DA6147B3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1CB-89C8-42F6-8082-319985E5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01D44-711C-493D-9F40-8F175A4A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4554C-9CD1-4D77-B63C-C70BABB4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04552-F598-46B0-918F-F86257BF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C10A4-CFF1-4A6B-AB9B-2FA13881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62AD1-2932-4B49-AF72-3821DB94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E518F-580E-48D9-94C8-462F485D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3CEB3-80F8-4B69-8467-78E714DA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B702F-4B65-477E-AB50-900AB5B9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E0CEA-56CF-4844-9931-669EC4D5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94CB8-4C24-49BD-82B7-5B0F969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E133-25E7-4F59-B746-55C879DC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1BF4F-CDB7-4A67-A641-2A8BE03A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A5590-F565-49B9-8929-3BEFF6D9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25EF1-C566-4274-8CEE-C39CA158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C36B6-7249-4EFE-9E67-4BF629CB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D2E6B-D818-46B8-A478-CB450412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7DCE6-7C09-4E5C-A6E6-29BE30D9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BB0A0-3733-4BC2-BDF5-D10C15F8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D369E-1B2E-4388-852F-2033DF6E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B8774-552F-4C62-BC2D-DB90EC4A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3D58C-8710-47B3-936B-5ABB55C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A22D-C7BE-4492-936D-70730501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00817-8636-451C-A813-5030C8B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993AC-C26E-4FF9-92DF-C8D62102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0D4A7-0265-4518-8BA2-EBB66F37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4CCA3-DC0E-4E77-9C6A-8A0BA27D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F75BF-1297-44A1-812C-51E2AB88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05A6-FDB5-4700-9EBB-3876AF62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907F-1997-454D-8FC8-74213D81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552A-ACAE-453A-BA07-EA82A8AC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D962-BBC7-48A3-8C0B-01C6DC46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E00A-9549-432C-932E-E00137B9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DB3-9B5F-4595-9EAD-4946F824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6CB2-F34C-4436-9E7C-368D98D9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F2CD-ACA1-4D3E-88D9-43A8F92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02CF-5719-4302-B12F-BC17B3B0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0925-40C6-4FE6-BBD9-DFA28162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24F9-17E7-4347-9C9B-4795E593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700D-21C9-4C3A-AF16-1437DB0C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6483-6B61-42C8-B3B9-76BA4D92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C03C-A31F-43B5-B69F-FD5387E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865B-D2B9-4D59-961A-ED295688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4FD45-F26F-4C33-BD43-E164D4AA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F9B-7DEA-4A2F-B7B6-1966A6AC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EF27-4F08-4093-978C-4061062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69DB-27F9-4E2E-B156-DEB18CA2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A926-77C4-48E4-B151-CB483C2D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EC1F-FB4D-43C3-A93D-19C56B0D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934F-008A-4D51-8134-1E6E0A19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FF19-F9D3-4C38-B375-D8806206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5AC7-18F5-46C8-8559-50551F93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3195C-F375-4858-95B0-A008465E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D350-B4C3-4A4D-90CD-0509D736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8DBCC-5E7F-4E35-8C6D-2544DFCB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0B8-E1E1-472F-AF14-3442BD8B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7B46-80FC-4543-BA65-91034466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108A0-9301-405D-A068-90A789F9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2A0AD-48AE-4898-B5A8-0FECCA9D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AEA1F-8336-4C83-ADB3-43610FF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2040-0FFC-489E-8C6A-202E5D0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79480-16B0-428F-B231-58D5D6E4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8E95-A7FA-439E-902B-DE608325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73407-CCF0-4445-9F02-D211465A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4301-47BC-49FE-B109-8863F758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DD019-4F5D-4D94-9EFA-85D7AFCA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A16-AA06-49BA-A034-1C2C1036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1A04A-1FAF-4200-90D0-68B419D5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4F9BA-E549-407B-B0E1-935E9FC0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71085-AFC6-4EC2-8DAB-FC00F6D9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BFD0-726F-42BD-8205-F7930C7E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6C9E-2AAB-4B67-B30D-575F75C8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D131-1EB8-403C-8C59-3837CEE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C2E73-7C43-4EC8-8F72-F42CE0C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E3298-52ED-4F30-A8A9-05DCAFB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8BC3B-62F6-4604-ABF7-8B2B22C4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AD0B8-5A66-497B-9EB7-1810C22F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E84-F82D-4490-B9FF-DD1EE8B6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4F57B-5609-4479-A335-1A580BB6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BD96-2E54-45F9-B6B9-42FD7765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56FF4-B2DB-411D-962B-5E21FDCF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8991C-BBA5-4480-9543-FB45E789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76399-B57C-449C-BB37-4728F2C3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E61B2-D1D3-4559-BC50-E9ADEABD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27FE5-F1BB-421C-88BD-C6B82374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70F8-8417-4B5E-8C56-FB0C0D1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6DF3-E621-4F81-B2EA-BCB9CEC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CD8D-D00C-4192-BF9E-DDECE7D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6B5-6474-4DEE-876E-DE3DAB76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823A7-11C3-4448-A5B9-2E980953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4F53-6DB3-4460-8C22-879A31A3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000E-170B-443E-B30E-2775E06D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1BE03-23D4-4881-AC32-228C2EA7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DE90A-1632-4F32-B7A3-BCD1F859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41BFB-8DBC-44CC-B8AA-D61363FE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5C0F6-F73B-4772-9656-B4D12851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78CBE-4223-4C12-AB66-0A0F7900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FBC90-D69E-449F-BC2C-EC62AB8C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12348-68F9-4BCD-A7E4-48B394F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EF4-C554-4E55-A9D3-7A7DC6B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A193E-A74D-41BF-8394-C2BD25CC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3B53C-8AB3-4C6E-9290-1B04C14A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CD8F8-1F0B-4690-9489-2C333564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0C577-C19E-4FA4-9D40-818CE3A4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700D0-521E-4DDE-942C-8E677395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3EE16-F63C-4FB9-8C08-C1874489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724C5-CD72-44B9-A749-9C16CA60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1271C-5E8F-4CEC-92B3-38D89F90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C3022-2661-4CB2-A450-F2E0319A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0165C-560B-4D97-9C1D-F6CD8989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8C3-7C1C-4AEA-A0E9-BA88F3C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0E43F-2914-4974-9DE4-E67D3ACD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A76A9-C2E1-4569-9622-F7C9086D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4FA2F-7D5F-4813-AB5D-8CBF0016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08704-9E82-449A-9718-83190014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82289-C69F-47F2-90DB-F80B7797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87628-B71D-4EE3-8067-664C449A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295BB-815A-4789-ACE8-D246E416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6B086-0B16-408E-BB4A-56C6BF69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AD8AA-1C20-44E5-8F5B-ABB0BD45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015F4-A804-4C7B-BD08-CC451FCE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F07F-3AB7-4830-8395-F3DAB01300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790E-5D31-4542-AE53-36DE312BB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8414-B852-4421-B228-DFE4A11FE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4CC4-31A9-40E4-AC50-F2B95500E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F099-74DF-4363-A93B-D241FBD77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8794-E00D-427A-8AEE-9238EB650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D6E9-7B76-4C09-ABE3-42D727514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73AA-4E17-46C7-8387-A53B6206D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40F-094A-4B45-8693-5658962AC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805B-21DE-4B68-8E7B-C8E19E825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B67F-0C4D-45AB-81CE-5CE588A35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2BD-AF60-4002-8AFC-06DAAF5B84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01" name="WordArt 6"/>
          <p:cNvSpPr txBox="1"/>
          <p:nvPr/>
        </p:nvSpPr>
        <p:spPr>
          <a:xfrm>
            <a:off x="395280" y="620640"/>
            <a:ext cx="7993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чебно-исследовательская рабо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611280" y="40460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 Полетавкина Дарья Сергеевна, 8б класс, средняя общеобразовательная школа,с.В-Авз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4"/>
          <p:cNvSpPr/>
          <p:nvPr/>
        </p:nvSpPr>
        <p:spPr>
          <a:xfrm>
            <a:off x="250920" y="2263680"/>
            <a:ext cx="867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"/>
          <p:cNvPicPr/>
          <p:nvPr/>
        </p:nvPicPr>
        <p:blipFill>
          <a:blip r:embed="rId3"/>
          <a:stretch/>
        </p:blipFill>
        <p:spPr>
          <a:xfrm>
            <a:off x="1763640" y="1773360"/>
            <a:ext cx="6048360" cy="37432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6"/>
          <p:cNvSpPr/>
          <p:nvPr/>
        </p:nvSpPr>
        <p:spPr>
          <a:xfrm>
            <a:off x="179280" y="66168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ли уметь выполнять арифметические действия с натуральными числами современному человеку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4"/>
          <p:cNvSpPr/>
          <p:nvPr/>
        </p:nvSpPr>
        <p:spPr>
          <a:xfrm>
            <a:off x="250920" y="2263680"/>
            <a:ext cx="867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5"/>
          <p:cNvGraphicFramePr/>
          <p:nvPr/>
        </p:nvGraphicFramePr>
        <p:xfrm>
          <a:off x="1403280" y="836640"/>
          <a:ext cx="609624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8366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Рисунок 16" descr="http://do.gendocs.ru/pars_docs/tw_refs/365/364762/364762_html_m224cb319.gif"/>
          <p:cNvPicPr/>
          <p:nvPr/>
        </p:nvPicPr>
        <p:blipFill>
          <a:blip r:embed="rId5"/>
          <a:stretch/>
        </p:blipFill>
        <p:spPr>
          <a:xfrm>
            <a:off x="684360" y="1989000"/>
            <a:ext cx="7632720" cy="33847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9"/>
          <p:cNvSpPr/>
          <p:nvPr/>
        </p:nvSpPr>
        <p:spPr>
          <a:xfrm>
            <a:off x="468360" y="97308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е ли вы устные способы выполнения умножения?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250920" y="2263680"/>
            <a:ext cx="867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5"/>
          <p:cNvGraphicFramePr/>
          <p:nvPr/>
        </p:nvGraphicFramePr>
        <p:xfrm>
          <a:off x="1619280" y="765000"/>
          <a:ext cx="609588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765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8"/>
          <p:cNvSpPr/>
          <p:nvPr/>
        </p:nvSpPr>
        <p:spPr>
          <a:xfrm>
            <a:off x="179280" y="22269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опрос показал, что современные школьники не знают других способов выполнения действий, так как редко обращаются к материалу, находящемуся за пределами школьной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2628720" y="1627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"/>
          <p:cNvSpPr/>
          <p:nvPr/>
        </p:nvSpPr>
        <p:spPr>
          <a:xfrm>
            <a:off x="2701080" y="220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ножение на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438480" y="178596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2 · 11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ая прямоугольная выноска 4"/>
          <p:cNvSpPr/>
          <p:nvPr/>
        </p:nvSpPr>
        <p:spPr>
          <a:xfrm>
            <a:off x="2214720" y="1000080"/>
            <a:ext cx="1357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+2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2146320" y="1782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2718000" y="1782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2432160" y="1785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585720" y="3149640"/>
            <a:ext cx="29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3 · 11 = 4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Скругленная прямоугольная выноска 9"/>
          <p:cNvSpPr/>
          <p:nvPr/>
        </p:nvSpPr>
        <p:spPr>
          <a:xfrm>
            <a:off x="2571840" y="2357280"/>
            <a:ext cx="1357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+3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0"/>
          <p:cNvSpPr/>
          <p:nvPr/>
        </p:nvSpPr>
        <p:spPr>
          <a:xfrm>
            <a:off x="2773440" y="314316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1"/>
          <p:cNvSpPr/>
          <p:nvPr/>
        </p:nvSpPr>
        <p:spPr>
          <a:xfrm>
            <a:off x="514080" y="4649760"/>
            <a:ext cx="29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7 · 11 = 6 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2630520" y="464976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кругленная прямоугольная выноска 13"/>
          <p:cNvSpPr/>
          <p:nvPr/>
        </p:nvSpPr>
        <p:spPr>
          <a:xfrm>
            <a:off x="2357280" y="3857760"/>
            <a:ext cx="1571760" cy="785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+7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4242600" y="17146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5"/>
          <p:cNvSpPr/>
          <p:nvPr/>
        </p:nvSpPr>
        <p:spPr>
          <a:xfrm>
            <a:off x="5157000" y="2357280"/>
            <a:ext cx="267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5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4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9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8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6"/>
          <p:cNvSpPr/>
          <p:nvPr/>
        </p:nvSpPr>
        <p:spPr>
          <a:xfrm>
            <a:off x="5358240" y="171468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863120" y="2357280"/>
            <a:ext cx="9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2" descr="101"/>
          <p:cNvPicPr/>
          <p:nvPr/>
        </p:nvPicPr>
        <p:blipFill>
          <a:blip r:embed="rId2"/>
          <a:stretch/>
        </p:blipFill>
        <p:spPr>
          <a:xfrm>
            <a:off x="1857240" y="571500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101"/>
          <p:cNvPicPr/>
          <p:nvPr/>
        </p:nvPicPr>
        <p:blipFill>
          <a:blip r:embed="rId3"/>
          <a:stretch/>
        </p:blipFill>
        <p:spPr>
          <a:xfrm>
            <a:off x="2928960" y="578628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101"/>
          <p:cNvPicPr/>
          <p:nvPr/>
        </p:nvPicPr>
        <p:blipFill>
          <a:blip r:embed="rId4"/>
          <a:stretch/>
        </p:blipFill>
        <p:spPr>
          <a:xfrm>
            <a:off x="4000680" y="571500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101"/>
          <p:cNvPicPr/>
          <p:nvPr/>
        </p:nvPicPr>
        <p:blipFill>
          <a:blip r:embed="rId5"/>
          <a:stretch/>
        </p:blipFill>
        <p:spPr>
          <a:xfrm>
            <a:off x="5143680" y="571500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101"/>
          <p:cNvPicPr/>
          <p:nvPr/>
        </p:nvPicPr>
        <p:blipFill>
          <a:blip r:embed="rId6"/>
          <a:stretch/>
        </p:blipFill>
        <p:spPr>
          <a:xfrm>
            <a:off x="6500880" y="5715000"/>
            <a:ext cx="1028520" cy="82548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25"/>
          <p:cNvSpPr/>
          <p:nvPr/>
        </p:nvSpPr>
        <p:spPr>
          <a:xfrm>
            <a:off x="3564000" y="561960"/>
            <a:ext cx="52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 число, которое нужно умножить на 11, а между цифрами исходного числа вставь сумму этих цифр. Если сумма получается двузначное число, то 1 прибавляем к первой цифре исходного чис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"/>
          <p:cNvSpPr/>
          <p:nvPr/>
        </p:nvSpPr>
        <p:spPr>
          <a:xfrm>
            <a:off x="2715480" y="220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ножение на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680040" y="857160"/>
            <a:ext cx="770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4 · 25 = 24 · 100 : 4 = 2400 : 4 = 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6 · 25 = 3600 : 4 = 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А можно наоборо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4·25=24 : 4 · 100 = 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6·25=36 : 4 · 100 = 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4"/>
          <p:cNvSpPr/>
          <p:nvPr/>
        </p:nvSpPr>
        <p:spPr>
          <a:xfrm>
            <a:off x="2242440" y="354816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"/>
          <p:cNvSpPr/>
          <p:nvPr/>
        </p:nvSpPr>
        <p:spPr>
          <a:xfrm>
            <a:off x="3228120" y="4017960"/>
            <a:ext cx="267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6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4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8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8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3429360" y="348768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5935680" y="4017960"/>
            <a:ext cx="121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2" descr="101"/>
          <p:cNvPicPr/>
          <p:nvPr/>
        </p:nvPicPr>
        <p:blipFill>
          <a:blip r:embed="rId2"/>
          <a:stretch/>
        </p:blipFill>
        <p:spPr>
          <a:xfrm>
            <a:off x="7500960" y="164304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101"/>
          <p:cNvPicPr/>
          <p:nvPr/>
        </p:nvPicPr>
        <p:blipFill>
          <a:blip r:embed="rId3"/>
          <a:stretch/>
        </p:blipFill>
        <p:spPr>
          <a:xfrm>
            <a:off x="7572240" y="271476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101"/>
          <p:cNvPicPr/>
          <p:nvPr/>
        </p:nvPicPr>
        <p:blipFill>
          <a:blip r:embed="rId4"/>
          <a:stretch/>
        </p:blipFill>
        <p:spPr>
          <a:xfrm>
            <a:off x="7572240" y="378612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2" descr="101"/>
          <p:cNvPicPr/>
          <p:nvPr/>
        </p:nvPicPr>
        <p:blipFill>
          <a:blip r:embed="rId5"/>
          <a:stretch/>
        </p:blipFill>
        <p:spPr>
          <a:xfrm>
            <a:off x="7643880" y="5000760"/>
            <a:ext cx="1028520" cy="8254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4"/>
          <p:cNvSpPr/>
          <p:nvPr/>
        </p:nvSpPr>
        <p:spPr>
          <a:xfrm>
            <a:off x="179280" y="43369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умножить число на 25, нужно его умножить на 100/4, то есть умножить на 100 и разделить на 4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Box 2"/>
          <p:cNvSpPr/>
          <p:nvPr/>
        </p:nvSpPr>
        <p:spPr>
          <a:xfrm>
            <a:off x="432000" y="22068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ножение на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вухзначных чисел , оканчивающихся н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307440" y="2071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5 · 25 = 6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Скругленная прямоугольная выноска 4"/>
          <p:cNvSpPr/>
          <p:nvPr/>
        </p:nvSpPr>
        <p:spPr>
          <a:xfrm>
            <a:off x="2000160" y="1357200"/>
            <a:ext cx="135756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·3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"/>
          <p:cNvSpPr/>
          <p:nvPr/>
        </p:nvSpPr>
        <p:spPr>
          <a:xfrm>
            <a:off x="300240" y="335772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5 · 35 = 1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ая прямоугольная выноска 6"/>
          <p:cNvSpPr/>
          <p:nvPr/>
        </p:nvSpPr>
        <p:spPr>
          <a:xfrm>
            <a:off x="1928880" y="2643120"/>
            <a:ext cx="164304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·4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5214960" y="1714680"/>
            <a:ext cx="3567240" cy="3933360"/>
          </a:xfrm>
          <a:prstGeom prst="rect">
            <a:avLst/>
          </a:prstGeom>
          <a:solidFill>
            <a:srgbClr val="ffff00">
              <a:alpha val="17000"/>
            </a:srgbClr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авило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исло десятков умножа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ледующую за ним в ряду натуральных чисел цифру, а на конце у этих произведений всегда стоит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9"/>
          <p:cNvSpPr/>
          <p:nvPr/>
        </p:nvSpPr>
        <p:spPr>
          <a:xfrm>
            <a:off x="234000" y="4929120"/>
            <a:ext cx="42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5² = 65 · 65 = 4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ая прямоугольная выноска 10"/>
          <p:cNvSpPr/>
          <p:nvPr/>
        </p:nvSpPr>
        <p:spPr>
          <a:xfrm>
            <a:off x="3071880" y="4214880"/>
            <a:ext cx="178596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 ·7 =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2" descr="101"/>
          <p:cNvPicPr/>
          <p:nvPr/>
        </p:nvPicPr>
        <p:blipFill>
          <a:blip r:embed="rId2"/>
          <a:stretch/>
        </p:blipFill>
        <p:spPr>
          <a:xfrm>
            <a:off x="1857240" y="571500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2" descr="101"/>
          <p:cNvPicPr/>
          <p:nvPr/>
        </p:nvPicPr>
        <p:blipFill>
          <a:blip r:embed="rId3"/>
          <a:stretch/>
        </p:blipFill>
        <p:spPr>
          <a:xfrm>
            <a:off x="3143160" y="578628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101"/>
          <p:cNvPicPr/>
          <p:nvPr/>
        </p:nvPicPr>
        <p:blipFill>
          <a:blip r:embed="rId4"/>
          <a:stretch/>
        </p:blipFill>
        <p:spPr>
          <a:xfrm>
            <a:off x="4329000" y="578628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101"/>
          <p:cNvPicPr/>
          <p:nvPr/>
        </p:nvPicPr>
        <p:blipFill>
          <a:blip r:embed="rId5"/>
          <a:stretch/>
        </p:blipFill>
        <p:spPr>
          <a:xfrm>
            <a:off x="5686560" y="586728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101"/>
          <p:cNvPicPr/>
          <p:nvPr/>
        </p:nvPicPr>
        <p:blipFill>
          <a:blip r:embed="rId6"/>
          <a:stretch/>
        </p:blipFill>
        <p:spPr>
          <a:xfrm>
            <a:off x="7186680" y="5867280"/>
            <a:ext cx="1028520" cy="82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"/>
          <p:cNvSpPr/>
          <p:nvPr/>
        </p:nvSpPr>
        <p:spPr>
          <a:xfrm>
            <a:off x="2799360" y="1928880"/>
            <a:ext cx="267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 · 4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5 · 7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5²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5²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5435640" y="1928880"/>
            <a:ext cx="121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6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TextBox 4"/>
          <p:cNvSpPr/>
          <p:nvPr/>
        </p:nvSpPr>
        <p:spPr>
          <a:xfrm>
            <a:off x="3429000" y="8445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9"/>
          <p:cNvSpPr/>
          <p:nvPr/>
        </p:nvSpPr>
        <p:spPr>
          <a:xfrm>
            <a:off x="0" y="1062000"/>
            <a:ext cx="914400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льцевый счет при запоминании таблицы умн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пальцевого счета при получении значений табличного умножения является одним из древнейших вычислительных приемов. Следует заметить, что многие учителя не признают правомочности приемов пальцевого счета при изучении табличного сложения и табличного умножения, придерживаясь мнения, что их результаты необходимо учить наизусть. Выучить всю таблицу наизусть могут не все дети. Учителя математики знают, что и среди школьников средних и даже старших классов имеется достаточное количество детей, плохо знающих таблицу умножения.   Для детей младшего школьного возраста с преобладающим кинестезическим восприятием и кинестезической памятью прием пальцевого счета при освоении таблицы умножения может быть рекомендован как вспомогательный. Для того чтобы его эффективно использовать, следует знать результаты табличного умножения в пределах таблицы умножения числ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9"/>
          <p:cNvSpPr/>
          <p:nvPr/>
        </p:nvSpPr>
        <p:spPr>
          <a:xfrm>
            <a:off x="179280" y="1211400"/>
            <a:ext cx="8964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пример, нужно умножить 6 на 7. Зажимаем пальцы на обеих руках в кулак, а затем на каждой руке отгибаем столько пальцев, насколько каждый множитель больше, чем пять.   На двух руках отогнуто три пальца - это число десятков в искомом числе. На одной руке остались прижатыми к ладони три пальца, на другой - четыре пальца эти числа перемножаем 3 * 4 = 12 и прибавляем к числу имеющихся десятков. 30 + 12 = 42. Ответ: 6 * 7 = 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8" descr="http://www.cross-kpk.ru/ims/00108/html/мат2.jpg"/>
          <p:cNvPicPr/>
          <p:nvPr/>
        </p:nvPicPr>
        <p:blipFill>
          <a:blip r:embed="rId3"/>
          <a:stretch/>
        </p:blipFill>
        <p:spPr>
          <a:xfrm>
            <a:off x="1403280" y="4149720"/>
            <a:ext cx="2104920" cy="15843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0"/>
          <p:cNvSpPr/>
          <p:nvPr/>
        </p:nvSpPr>
        <p:spPr>
          <a:xfrm>
            <a:off x="-4412520" y="4214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9"/>
          <p:cNvSpPr/>
          <p:nvPr/>
        </p:nvSpPr>
        <p:spPr>
          <a:xfrm>
            <a:off x="179280" y="1160640"/>
            <a:ext cx="8964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Еще один пример: необходимо умножить 8 на 9.   Отгибаем на одной руке три пальца, а на другой руке - четыре пальца (на столько каждый множитель больше, чем пять).   Отогнуто 7 пальцев - это десятки в искомом числе. Перемножаем число загнутых пальцев обеих рук: 2 * 1 = 2. Прибавляем это количество к числу десятков 70 + 2 = 7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аким образом, 9 * 8 = 7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8" descr="http://www.cross-kpk.ru/ims/00108/html/мат1.jpg"/>
          <p:cNvPicPr/>
          <p:nvPr/>
        </p:nvPicPr>
        <p:blipFill>
          <a:blip r:embed="rId3"/>
          <a:stretch/>
        </p:blipFill>
        <p:spPr>
          <a:xfrm>
            <a:off x="1835280" y="4437000"/>
            <a:ext cx="203832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Box 3"/>
          <p:cNvSpPr/>
          <p:nvPr/>
        </p:nvSpPr>
        <p:spPr>
          <a:xfrm>
            <a:off x="440280" y="1285920"/>
            <a:ext cx="807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устного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Нижний колонтитул 4"/>
          <p:cNvSpPr/>
          <p:nvPr/>
        </p:nvSpPr>
        <p:spPr>
          <a:xfrm>
            <a:off x="1928880" y="5572080"/>
            <a:ext cx="6143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: Полетавкина Людмила Дмитри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БУ СОШ с.В-Авзя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2" descr="101"/>
          <p:cNvPicPr/>
          <p:nvPr/>
        </p:nvPicPr>
        <p:blipFill>
          <a:blip r:embed="rId2"/>
          <a:stretch/>
        </p:blipFill>
        <p:spPr>
          <a:xfrm>
            <a:off x="3714840" y="2357280"/>
            <a:ext cx="1643040" cy="131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2787120" y="1928880"/>
            <a:ext cx="21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6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· 8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5430600" y="1928880"/>
            <a:ext cx="6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8"/>
          <p:cNvSpPr/>
          <p:nvPr/>
        </p:nvSpPr>
        <p:spPr>
          <a:xfrm>
            <a:off x="179280" y="596880"/>
            <a:ext cx="896472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мало способов запоминания — в стихах, картинках, играх. Мы предлагаем вам еще один интересный способ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у умножения на пальц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метод подходит для заучи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авил умножения на девят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ачастую примеры с умножением на 9 даются детям труднее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всё, что вам понадобится — это десять пальцев рук. Положите ладони на стол. Мысленно дайте каждому пальцу, начиная от мизинца левой руки и заканчивая мизинцем правой, свой номер от 1 до 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9" descr="Таблица умножения на пальцах"/>
          <p:cNvPicPr/>
          <p:nvPr/>
        </p:nvPicPr>
        <p:blipFill>
          <a:blip r:embed="rId3"/>
          <a:stretch/>
        </p:blipFill>
        <p:spPr>
          <a:xfrm>
            <a:off x="1332000" y="4581360"/>
            <a:ext cx="2857320" cy="150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8"/>
          <p:cNvSpPr/>
          <p:nvPr/>
        </p:nvSpPr>
        <p:spPr>
          <a:xfrm>
            <a:off x="179280" y="867600"/>
            <a:ext cx="8964720" cy="43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нам надо умнож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 на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тобы вычислить ответ, надо найти палец под номером 3 и поднять его. А затем посмотреть, сколько пальцев осталось лежать справа и слева. Количество пальцев слева от поднятого пальца (в нашем случае их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это десятки, количество пальцев справа (у нас э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это единицы. Итого, получаем — 2 и 7, то есть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Таблица умножения на пальцах"/>
          <p:cNvPicPr/>
          <p:nvPr/>
        </p:nvPicPr>
        <p:blipFill>
          <a:blip r:embed="rId3"/>
          <a:stretch/>
        </p:blipFill>
        <p:spPr>
          <a:xfrm>
            <a:off x="1258920" y="4653000"/>
            <a:ext cx="2857320" cy="1866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"/>
          <p:cNvSpPr/>
          <p:nvPr/>
        </p:nvSpPr>
        <p:spPr>
          <a:xfrm>
            <a:off x="2787480" y="1928880"/>
            <a:ext cx="221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· 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·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9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5430600" y="1928880"/>
            <a:ext cx="6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5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JTB40nGnWek"/>
          <p:cNvPicPr/>
          <p:nvPr/>
        </p:nvPicPr>
        <p:blipFill>
          <a:blip r:embed="rId3"/>
          <a:stretch/>
        </p:blipFill>
        <p:spPr>
          <a:xfrm>
            <a:off x="1547640" y="189000"/>
            <a:ext cx="6185160" cy="7920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2"/>
          <p:cNvSpPr/>
          <p:nvPr/>
        </p:nvSpPr>
        <p:spPr>
          <a:xfrm>
            <a:off x="1598760" y="2509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этому ,вас уч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9" name=""/>
          <p:cNvGraphicFramePr/>
          <p:nvPr/>
        </p:nvGraphicFramePr>
        <p:xfrm>
          <a:off x="4481640" y="1098720"/>
          <a:ext cx="207720" cy="4663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c8141a"/>
                          </a:solidFill>
                          <a:latin typeface="Tahoma"/>
                          <a:ea typeface="Tahoma"/>
                        </a:rPr>
                        <a:t>Умножение по-япон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4481640" y="1098720"/>
          <a:ext cx="207720" cy="4663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c8141a"/>
                          </a:solidFill>
                          <a:latin typeface="Tahoma"/>
                          <a:ea typeface="Tahoma"/>
                        </a:rPr>
                        <a:t>Умножение по-япон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Rectangle 28"/>
          <p:cNvSpPr/>
          <p:nvPr/>
        </p:nvSpPr>
        <p:spPr>
          <a:xfrm>
            <a:off x="250920" y="105012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 кто знает, но японцы настоящие маньяки в умножении чис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плане они больше походят на пришельцев с другой планеты, чем на людей. Умножение "столбиком" слишком скучное и унылое занятие для их необычного типа мышления. Впитав с молоком матери иероглифическое письмо, японцы изощряются в умножении визуальными способами. Поскольку иероглиф у них обозначает сразу какое-то слово или даже фразу, то почему бы не изображать схожим образом число-ответ при умноже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9"/>
          <p:cNvSpPr/>
          <p:nvPr/>
        </p:nvSpPr>
        <p:spPr>
          <a:xfrm>
            <a:off x="826920" y="8128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6644"/>
                </a:solidFill>
                <a:uFillTx/>
                <a:latin typeface="Arial"/>
                <a:ea typeface="Times New Roman"/>
              </a:rPr>
              <a:t>Предположим надо умножить 32 на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8" descr="3458552-dd2c50a4cf7a7222.jpg"/>
          <p:cNvPicPr/>
          <p:nvPr/>
        </p:nvPicPr>
        <p:blipFill>
          <a:blip r:embed="rId3"/>
          <a:stretch/>
        </p:blipFill>
        <p:spPr>
          <a:xfrm>
            <a:off x="1619280" y="1484280"/>
            <a:ext cx="4873680" cy="319716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0"/>
          <p:cNvSpPr/>
          <p:nvPr/>
        </p:nvSpPr>
        <p:spPr>
          <a:xfrm>
            <a:off x="0" y="49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8"/>
          <p:cNvSpPr/>
          <p:nvPr/>
        </p:nvSpPr>
        <p:spPr>
          <a:xfrm>
            <a:off x="179280" y="8233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исте бумаги поочередно рисуем линии, количество которых определяется из данного при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32: 3 красные линии и чуть ниже - 2 синие. Затем 21: перпендикулярно уже нарисованным, рисуем сначала 2 зеленые, затем - 1 малиновую. ВАЖНО: линии первого числа рисуются в направлении из верхнего левого угла в нижний правый, второго числа - из нижнего левого, в верхний правый. Затем считаем количество точек пересечения в каждой из трех областей (на рисунке области обозначены в виде окружностей). Итак, в первой области ( область сотен) - 6 точек, во второй (область десятков) - 7 точек, в третьей (область единиц) - 2 точки. Следовательно ответ: 67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"/>
          <p:cNvSpPr/>
          <p:nvPr/>
        </p:nvSpPr>
        <p:spPr>
          <a:xfrm>
            <a:off x="2786760" y="1928880"/>
            <a:ext cx="267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2 · 3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7 · 5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5430240" y="1928880"/>
            <a:ext cx="9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500"/>
                            </p:stCondLst>
                            <p:childTnLst>
                              <p:par>
                                <p:cTn id="5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Безымянный"/>
          <p:cNvPicPr/>
          <p:nvPr/>
        </p:nvPicPr>
        <p:blipFill>
          <a:blip r:embed="rId3"/>
          <a:stretch/>
        </p:blipFill>
        <p:spPr>
          <a:xfrm>
            <a:off x="2124000" y="1197000"/>
            <a:ext cx="4876920" cy="3744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1"/>
          <p:cNvSpPr/>
          <p:nvPr/>
        </p:nvSpPr>
        <p:spPr>
          <a:xfrm>
            <a:off x="395280" y="3524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им еще один пример:  13 ·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1744560" y="2001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909080" y="38545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3904920" y="4667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6643080" y="4738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3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5"/>
          <p:cNvSpPr/>
          <p:nvPr/>
        </p:nvSpPr>
        <p:spPr>
          <a:xfrm>
            <a:off x="5429160" y="192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8"/>
          <p:cNvSpPr/>
          <p:nvPr/>
        </p:nvSpPr>
        <p:spPr>
          <a:xfrm>
            <a:off x="179280" y="1403640"/>
            <a:ext cx="871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, на этапе стремительного развития информатики и вычислительной техники, современные школьники не хотят утруждать себя счетом в уме. Поэтому мы сочл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ажным показать не только то, что сам процесс выполнения действия может быть интересным, но и что, хорошо усвоив приёмы быстрого счета, можно поспорить и с ЭВМ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75" name="TextBox 2"/>
          <p:cNvSpPr/>
          <p:nvPr/>
        </p:nvSpPr>
        <p:spPr>
          <a:xfrm>
            <a:off x="250920" y="26028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21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-54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Box 3"/>
          <p:cNvSpPr/>
          <p:nvPr/>
        </p:nvSpPr>
        <p:spPr>
          <a:xfrm>
            <a:off x="2044800" y="1928880"/>
            <a:ext cx="166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5429160" y="192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2535120" y="476280"/>
            <a:ext cx="24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рове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8" descr="Безымянный"/>
          <p:cNvPicPr/>
          <p:nvPr/>
        </p:nvPicPr>
        <p:blipFill>
          <a:blip r:embed="rId3"/>
          <a:stretch/>
        </p:blipFill>
        <p:spPr>
          <a:xfrm>
            <a:off x="2124000" y="2060640"/>
            <a:ext cx="4876920" cy="28810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9"/>
          <p:cNvSpPr/>
          <p:nvPr/>
        </p:nvSpPr>
        <p:spPr>
          <a:xfrm>
            <a:off x="709308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0" descr="Безымянный"/>
          <p:cNvPicPr/>
          <p:nvPr/>
        </p:nvPicPr>
        <p:blipFill>
          <a:blip r:embed="rId4"/>
          <a:stretch/>
        </p:blipFill>
        <p:spPr>
          <a:xfrm>
            <a:off x="1547640" y="1484280"/>
            <a:ext cx="6193080" cy="32400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1"/>
          <p:cNvSpPr/>
          <p:nvPr/>
        </p:nvSpPr>
        <p:spPr>
          <a:xfrm>
            <a:off x="2031840" y="1052640"/>
            <a:ext cx="11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TextBox 3"/>
          <p:cNvSpPr/>
          <p:nvPr/>
        </p:nvSpPr>
        <p:spPr>
          <a:xfrm>
            <a:off x="2044800" y="1928880"/>
            <a:ext cx="166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"/>
          <p:cNvSpPr/>
          <p:nvPr/>
        </p:nvSpPr>
        <p:spPr>
          <a:xfrm>
            <a:off x="5429160" y="192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2557440" y="1341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709308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39402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296712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1" descr="Безымянный"/>
          <p:cNvPicPr/>
          <p:nvPr/>
        </p:nvPicPr>
        <p:blipFill>
          <a:blip r:embed="rId3"/>
          <a:stretch/>
        </p:blipFill>
        <p:spPr>
          <a:xfrm>
            <a:off x="2124000" y="692280"/>
            <a:ext cx="4876920" cy="280800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3"/>
          <p:cNvSpPr/>
          <p:nvPr/>
        </p:nvSpPr>
        <p:spPr>
          <a:xfrm>
            <a:off x="1620720" y="1527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1528560" y="2700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5"/>
          <p:cNvSpPr/>
          <p:nvPr/>
        </p:nvSpPr>
        <p:spPr>
          <a:xfrm>
            <a:off x="4120920" y="3492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6"/>
          <p:cNvSpPr/>
          <p:nvPr/>
        </p:nvSpPr>
        <p:spPr>
          <a:xfrm>
            <a:off x="6659640" y="4427640"/>
            <a:ext cx="24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"/>
          <p:cNvSpPr/>
          <p:nvPr/>
        </p:nvSpPr>
        <p:spPr>
          <a:xfrm>
            <a:off x="2787480" y="1928880"/>
            <a:ext cx="270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4 · 1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3 ·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5"/>
          <p:cNvSpPr/>
          <p:nvPr/>
        </p:nvSpPr>
        <p:spPr>
          <a:xfrm>
            <a:off x="5430240" y="1928880"/>
            <a:ext cx="9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5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2774520" y="1928880"/>
            <a:ext cx="21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· 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·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9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5430600" y="1928880"/>
            <a:ext cx="6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2" descr="101"/>
          <p:cNvPicPr/>
          <p:nvPr/>
        </p:nvPicPr>
        <p:blipFill>
          <a:blip r:embed="rId1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9"/>
          <p:cNvSpPr/>
          <p:nvPr/>
        </p:nvSpPr>
        <p:spPr>
          <a:xfrm>
            <a:off x="3995640" y="1103400"/>
            <a:ext cx="273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250920" y="1634760"/>
            <a:ext cx="856908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знакомстве с научной литературой обнаружили более быстрые и надежные способы умножения. Поэтому изучение действия умножения – тема перспективна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, что с первого раза у многих не получится быстро, с ходу выполнять эти или другие подсчеты. Пусть сначала не получится использовать прием, показанный в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ные мною способы умножения не такие сложные и могут повседневно использоваться учащимися. Они познавательны и интер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знаю, что существуют еще много интересных способов вычислений.      И я соберу целую коллекцию таких  примеров рационального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WordArt 11"/>
          <p:cNvSpPr txBox="1"/>
          <p:nvPr/>
        </p:nvSpPr>
        <p:spPr>
          <a:xfrm>
            <a:off x="241128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люч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4000">
    <p:wipe dir="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"/>
          <p:cNvSpPr/>
          <p:nvPr/>
        </p:nvSpPr>
        <p:spPr>
          <a:xfrm>
            <a:off x="250920" y="1302120"/>
            <a:ext cx="867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являются алгоритмы счет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следования выступает процесс вычислен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нестандартные приемы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0" y="1827360"/>
            <a:ext cx="8832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смотреть некоторые приемы устного умножения и на конкретных примерах показать преимущества их использован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казать эти приемы другим учащим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именять эти зна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42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5"/>
          <p:cNvSpPr/>
          <p:nvPr/>
        </p:nvSpPr>
        <p:spPr>
          <a:xfrm>
            <a:off x="0" y="297288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редние века совсем немногие владели искусством умножения. Редкий аристократ мог похвастаться знанием таблицы умножения, даже если он окончил европейский университ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7"/>
          <p:cNvSpPr txBox="1"/>
          <p:nvPr/>
        </p:nvSpPr>
        <p:spPr>
          <a:xfrm>
            <a:off x="785880" y="550800"/>
            <a:ext cx="43624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1" name="WordArt 8"/>
          <p:cNvSpPr txBox="1"/>
          <p:nvPr/>
        </p:nvSpPr>
        <p:spPr>
          <a:xfrm>
            <a:off x="-6156720" y="5678280"/>
            <a:ext cx="70567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179280" y="43131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ину говорили: « Умножение – мое мученье». Значит, раньше было сложно и трудно умножать. Прост ли наш современный способ умножения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тысячелетия развития математики было придумано множество способов умножения чис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"/>
          <p:cNvSpPr/>
          <p:nvPr/>
        </p:nvSpPr>
        <p:spPr>
          <a:xfrm>
            <a:off x="250920" y="389520"/>
            <a:ext cx="8670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боте 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ьзовалась следующими метод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иско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 с использованием научной и учебной литературы, а также поиск необходимой информации в сети Интер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 выполнения вычислений с применением нестандартных алгоритмов с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енных в ходе исследования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4"/>
          <p:cNvSpPr/>
          <p:nvPr/>
        </p:nvSpPr>
        <p:spPr>
          <a:xfrm>
            <a:off x="250920" y="1120680"/>
            <a:ext cx="867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ой темы заключается в том, что использование нестандартных приемов в формировании вычислительных навыков усиливает интерес учащихся к математике и содействует развитию математических способност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179280" y="35211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отелось узнать  способы умножения, сравнить их с нашим сегодняшним действием умн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4"/>
          <p:cNvSpPr/>
          <p:nvPr/>
        </p:nvSpPr>
        <p:spPr>
          <a:xfrm>
            <a:off x="250920" y="2126880"/>
            <a:ext cx="86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5"/>
          <p:cNvSpPr txBox="1"/>
          <p:nvPr/>
        </p:nvSpPr>
        <p:spPr>
          <a:xfrm>
            <a:off x="900000" y="692280"/>
            <a:ext cx="52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зультаты анкетирования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468360" y="3107880"/>
            <a:ext cx="9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79280" y="352116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выяснить, знают ли современные школьники другие способы выполнения арифметических действий, кроме умножения столбиком и деления «уголком» и хотели бы узнать новые способы, был проведен устный опрос. Было опрошено 20 учащиеся 5-7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6T14:26:33Z</dcterms:modified>
  <cp:revision>51</cp:revision>
  <dc:subject/>
  <dc:title>pr43e</dc:title>
</cp:coreProperties>
</file>