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B10F-A830-429F-ACA2-851D47A419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D3A9-28CC-4E65-AF33-C17F298F14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05A3-32B1-4916-86AA-4921D2ACB0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9236-9E3D-4E4E-B936-5804DEB4DA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827F-5675-43A3-ACB8-768038BFD6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120D-920E-45D3-9B2B-11F7FF2730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2024-90C1-4647-875C-CF859F811D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DA1E-EE7C-4254-8F38-C79FE1E715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B685-C168-4689-8119-F7E95D6373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C4B1-FC5A-470D-BADC-A9614FFC68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428E-5700-4B13-A82A-7827A8F033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578A-94F5-4619-A54C-E2B2060B4B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D7E5-9F3A-4E8E-9017-1613A2E171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42EA-B811-41FE-9B3C-8407775471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6AD0-6C9C-43B6-87E4-BB718DF784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8531-402A-4D43-A541-19BA37325E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AEB1-F448-4479-87AB-28173E92A3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8755-E32C-4CDE-94D2-557C16B93F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C378-2BAC-459A-9D6B-2B04278EAD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68A9-BE82-4864-BB7D-C4A6E986C0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614F-B2EC-4475-9E78-B68D21CFC0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4835-4A9B-42B1-8DDC-F29FDE6881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5F91-60F4-4C77-BC4B-DCD7E894EE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0056-CDDA-41C1-AECB-C2E217134B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5385-883B-4538-AACD-0C117F95E8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76AD-5450-49C2-96CD-03006C2C3B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C3BF-77AD-4FC2-A375-3E4DF80EB5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87C0-FF7B-4AC1-A4C9-C90B9605DC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FA15-0FEB-483C-AF8B-FDEE6F3127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EDFF-3C1F-48FC-9F92-C9CAB7756E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288A-D8DA-4FC9-B4D6-EB7CD1D64B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701E-36B3-4634-90F2-862A1DF64C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9876-5984-486E-BEAC-493299944E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EAC7-80F0-45A3-9E1C-2861C67FCA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C41F-BFEA-4B9D-A854-8A4788788E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7B8-4D63-4708-9145-A1F5F912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818-507B-4BD5-8291-1DC8236E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0D8EE-040F-4ADD-8434-D88E202A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36116-7B74-4416-B593-7C70CE63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A773C-8CC2-4D49-9026-5C4EAADF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49455-27CF-4B5E-AB07-A4318DE5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4CBAB-6259-4BAE-BDD5-D329420D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EC76F-79DB-4C57-9C43-DB1AA1BC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F7815-FD66-4E55-AC91-89428DFB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A9EF0-5822-436F-9D82-FA601589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1D304-E38C-40AB-9933-7386804B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C5AD8-7F3A-44A1-9075-AD5E9CEC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057-05FC-4CD7-AAE9-0EF4582B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FC291-457B-4AE7-904A-A5B8872D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69553-8AED-4BA7-A2E4-6EB5E3B7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13F11-D89F-4D30-BA60-8BA07FFD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57DD1-604E-4F4B-B597-EB75B897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30286-38D6-461A-8579-039C94ED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B7D16-4DDE-4FAE-9B85-CC1E5346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393D3-A782-46EE-AC85-BD6AE0CE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67CE0-F6CF-4674-88BD-0AF46B4A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02427-C669-4F35-A65C-8702A41A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7E0F5-200D-493C-9F09-FBB78DE6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67B-03DC-4CF9-B6F8-21604DBE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0999F-54A3-46F0-AEF9-AC873ACC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5935D-08A4-4D36-A554-87284D85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DB173-1F45-4DBE-BF80-803063E2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14FAC-4C94-4C6B-B197-CF5CB961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1D93E-EC54-499F-ADE5-F144B204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710CC-D6DD-447A-BB4E-70285092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952C8-D15D-4A04-97CD-24A0BCAE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27A53-4261-4809-BFDD-10E63596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4A120-8411-4A46-AF13-F8CFE2A0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199C3-0844-4237-B876-8970C221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2162-9728-4E01-BCE9-729D20BF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F73BA-737D-49C4-9861-5DFAE18D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E82A4-3DF2-47AA-AC35-CBD54C72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17356-35BC-44F5-A750-04D343FA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03FDF-E126-4E9D-8B48-D6588402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7BB7E-0A0D-4237-9856-5CD9BB2E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67A2F-670E-4D91-A0EF-D4DA0EB6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6AE2E-A11D-41D2-9015-392001B0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3A56B-F1DB-40DC-9991-5DFC55A2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02CC9-1213-440E-A04D-B0402B95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C8DF4-2144-4A95-A66A-1E201078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CB9F-1040-40DE-A1B6-C21CC3EC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0A7A1-B574-4168-A3C0-EFE6D76F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78FD5-2A92-498B-8826-0BA659B5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98AD6-63F4-4C42-85DC-CF4F07D2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5984C-FB05-4219-AB42-2985B0A1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63468-C24C-40F8-AE5F-26AB0E78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277A-CD15-45D6-A76F-47DC09B4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1F1E-9369-4794-9753-7F8BB717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9914-ADF4-48FA-9991-74E1D0FE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3537-1BD2-4CBB-A532-AA307706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C893-B05E-46D8-9E60-3B6A0DD6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214-3B18-4E33-B35C-CCDEB579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4FB7-4D99-44AE-92AA-B4EFAF1D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E98A-75FA-4DA0-923B-063DFFDB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BFBC-9B06-4D87-945C-9482846A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6245-33A3-48A5-813C-EA9BDE61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584D-6954-44B9-960A-0986D0CA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290D9-B571-4106-A065-ED218021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4607C-0DE5-43BF-8C61-8E8A3AB2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DD5E1-EA4D-4E60-BA73-6DC7C3BD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39C7-727B-441D-B8DA-F5378307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EF29-9A48-4DC1-9630-94759317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68F-231F-4F11-BE90-30C5DFCE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2B35-CBE4-4D82-8F44-F22D7C3F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5FD2-2D8C-4F04-9467-87013EE4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8BCB-5C32-48AE-BE19-A95672D2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4310C-4A1A-4552-B110-7E3C400E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5F4E1-C89E-4E6A-89CB-EA87671F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E8F2-3AE5-4281-829B-AF362F3B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D6F07-5646-403A-8218-0BDADA66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5D3F0-6095-4B60-936D-6BCFDBA2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84235-1BB4-4B53-A381-A67CAE5B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8F2BE-C112-426C-BCE3-6AA3AE4E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063-6449-43F6-82F7-98BE4ED3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28EBB-C7C3-4AE2-B3EB-6B4AF7C2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752C6-A668-4C41-987B-86512471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92A72-905F-495A-95AB-4151CA0F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4AC43-4737-4C25-9BBD-37D47C32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2033F-7B05-4DDC-A18C-D62DC148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94F0D-8245-471C-A718-B46E6C2D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F91D0-95A6-44FC-9228-81C80DF6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ED208-5B0D-4FFE-BDE0-7C97D67C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F39A5-DC5B-4145-9ECA-F0D121D3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45E7C-A2B5-403A-A9E1-2F1AD861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FD54-2825-4476-9634-3D4A958A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2D5BB-6ED3-455B-B0C1-2B819292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4AA66-93B5-490A-8ACC-DD2BFE1C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28BB9-20BE-411E-BC99-1D5B16CD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9198D-1B7A-467B-8132-42FEBAFF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06B38-B263-4319-BAA1-D478A232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1CB2-3DDB-4156-90C8-BE4A69A2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BF24F-6A71-479E-AB1D-222E9758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78CE9-2B43-472E-A3D1-E565B3ED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E9561-CA45-4149-8807-ADD39FA6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AE73A-2037-4866-B499-0CF17B63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B6E-192E-478F-BAF1-FF8C4DD4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66408-02D9-493C-A18B-35B9D933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4F6CE-DD47-47B2-A3E1-31646B30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08BB6-281A-49DD-B7F7-C2126647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4B8E8-33A8-4106-A91E-1DD1949F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E4346-8668-42E9-B070-35E836E1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3BB74-E89D-4995-A609-D3248341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FE02A-4328-4708-84E1-ED4CEB24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94CDF-EBCD-4557-B3D2-906FBCA5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2A8F0-A152-4E29-ACF8-EEEB7BE9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E6F4C-3728-4CE5-AE38-BC188C68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9F6-BAAA-4FA7-9DDC-6E856317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5976A-77FA-49F6-BD2E-23F33145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C0D5A-3DEE-448F-87DF-0264C675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A91F3-316B-44DD-81DD-4B851B29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F9DB3-9ADD-404F-8997-5E451752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5C1CD-AEED-4A18-A3BE-00BEF1A1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951DE-B1E8-4803-A5C1-FA005552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1482E-D216-4FD7-B2B2-E29F1DAD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0B06C-F08A-4856-B3D4-C312DB6E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E8B18-86BE-4D4B-86E4-4B386090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875B4-D526-42DD-BDE6-F6A2922A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203-C150-4444-9991-1BD11133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BC9C2-E4C2-4E75-8B78-609C83BB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1720A-0B99-4078-8976-B4CC936E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5D18B-3DF5-4ECC-ADAB-A0EE6087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121D8-11A0-4C20-94ED-944E1557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0B764-AA54-4EF1-B4C1-B069A924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1A96F-DA0D-4A30-BB6A-0CA31298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5990A-C352-4F66-8441-18142FAC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E8B4D-66FF-4DFD-9CA1-B7C69B75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3A192-0705-4761-97CC-82CC7FFB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ACCBD-FEC2-40A1-BE5A-F2876D18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5F1-BC71-4CC0-A10B-979ADDD0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CBCC0-0C8E-4172-94C5-19BB6E17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55AB9-BB75-4634-A951-FC7FBFF8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1CD15-E94C-4491-B46C-025ABA1B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85842-F439-4473-B934-1011A4EE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DAED1-1742-4726-B337-D7793DB8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65B7E-9320-4A14-9487-F90EFAD9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912A7-6D62-4FBB-843D-4F64FF72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54F28-5975-411A-AFD2-ADC185C8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0AE3F-0DD9-4FF0-89B2-100F4265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1C0A5-FD3A-4F52-9E2D-B264A78F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151D-9A92-4CE0-BA0B-65F452999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3BD9-5072-4B97-A4DE-E20DDD600F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8A27-81B5-4C10-BC66-AAD7C36886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39A4-DD16-4A06-A311-4E294C618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D0AC-6A04-4173-AAA9-61AF86D772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D5CC-661E-4636-B13F-EC0378EE5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34F4-86D8-41EB-B7DE-41DDCEFF88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F0DD-F78E-46B4-B796-69E76806D8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903E-D04E-4A50-94C7-9DE21064EE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D72A-9008-4541-A384-45BD218C33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285B-B5D9-488E-8296-2DB31EC032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44D3-4614-4A0B-B0E6-A2040215E2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01" name="WordArt 6"/>
          <p:cNvSpPr txBox="1"/>
          <p:nvPr/>
        </p:nvSpPr>
        <p:spPr>
          <a:xfrm>
            <a:off x="395280" y="620640"/>
            <a:ext cx="7993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Учебно-исследовательская рабо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611280" y="40460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 Полетавкина Дарья Сергеевна, 8б класс, средняя общеобразовательная школа,с.В-Авз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4"/>
          <p:cNvSpPr/>
          <p:nvPr/>
        </p:nvSpPr>
        <p:spPr>
          <a:xfrm>
            <a:off x="250920" y="2263680"/>
            <a:ext cx="867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"/>
          <p:cNvPicPr/>
          <p:nvPr/>
        </p:nvPicPr>
        <p:blipFill>
          <a:blip r:embed="rId3"/>
          <a:stretch/>
        </p:blipFill>
        <p:spPr>
          <a:xfrm>
            <a:off x="1763640" y="1773360"/>
            <a:ext cx="6048360" cy="374328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6"/>
          <p:cNvSpPr/>
          <p:nvPr/>
        </p:nvSpPr>
        <p:spPr>
          <a:xfrm>
            <a:off x="179280" y="66168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ли уметь выполнять арифметические действия с натуральными числами современному человеку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4"/>
          <p:cNvSpPr/>
          <p:nvPr/>
        </p:nvSpPr>
        <p:spPr>
          <a:xfrm>
            <a:off x="250920" y="2263680"/>
            <a:ext cx="867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Object 5"/>
          <p:cNvGraphicFramePr/>
          <p:nvPr/>
        </p:nvGraphicFramePr>
        <p:xfrm>
          <a:off x="1403280" y="836640"/>
          <a:ext cx="6096240" cy="40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83664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6" name="Рисунок 16" descr="http://do.gendocs.ru/pars_docs/tw_refs/365/364762/364762_html_m224cb319.gif"/>
          <p:cNvPicPr/>
          <p:nvPr/>
        </p:nvPicPr>
        <p:blipFill>
          <a:blip r:embed="rId5"/>
          <a:stretch/>
        </p:blipFill>
        <p:spPr>
          <a:xfrm>
            <a:off x="684360" y="1989000"/>
            <a:ext cx="7632720" cy="33847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9"/>
          <p:cNvSpPr/>
          <p:nvPr/>
        </p:nvSpPr>
        <p:spPr>
          <a:xfrm>
            <a:off x="468360" y="973080"/>
            <a:ext cx="842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ете ли вы устные способы выполнения умножения?</a:t>
            </a:r>
            <a:br>
              <a:rPr sz="2400"/>
            </a:b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250920" y="2263680"/>
            <a:ext cx="867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5"/>
          <p:cNvGraphicFramePr/>
          <p:nvPr/>
        </p:nvGraphicFramePr>
        <p:xfrm>
          <a:off x="1619280" y="765000"/>
          <a:ext cx="6095880" cy="40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765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8"/>
          <p:cNvSpPr/>
          <p:nvPr/>
        </p:nvSpPr>
        <p:spPr>
          <a:xfrm>
            <a:off x="179280" y="22269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опрос показал, что современные школьники не знают других способов выполнения действий, так как редко обращаются к материалу, находящемуся за пределами школьной пр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2628720" y="1627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Box 1"/>
          <p:cNvSpPr/>
          <p:nvPr/>
        </p:nvSpPr>
        <p:spPr>
          <a:xfrm>
            <a:off x="2701080" y="22068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множение на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"/>
          <p:cNvSpPr/>
          <p:nvPr/>
        </p:nvSpPr>
        <p:spPr>
          <a:xfrm>
            <a:off x="438480" y="178596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2 · 11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Скругленная прямоугольная выноска 4"/>
          <p:cNvSpPr/>
          <p:nvPr/>
        </p:nvSpPr>
        <p:spPr>
          <a:xfrm>
            <a:off x="2214720" y="1000080"/>
            <a:ext cx="135720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+2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5"/>
          <p:cNvSpPr/>
          <p:nvPr/>
        </p:nvSpPr>
        <p:spPr>
          <a:xfrm>
            <a:off x="2146320" y="1782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2718000" y="1782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7"/>
          <p:cNvSpPr/>
          <p:nvPr/>
        </p:nvSpPr>
        <p:spPr>
          <a:xfrm>
            <a:off x="2432160" y="1785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"/>
          <p:cNvSpPr/>
          <p:nvPr/>
        </p:nvSpPr>
        <p:spPr>
          <a:xfrm>
            <a:off x="585720" y="3149640"/>
            <a:ext cx="29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3 · 11 = 4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Скругленная прямоугольная выноска 9"/>
          <p:cNvSpPr/>
          <p:nvPr/>
        </p:nvSpPr>
        <p:spPr>
          <a:xfrm>
            <a:off x="2571840" y="2357280"/>
            <a:ext cx="135720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+3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0"/>
          <p:cNvSpPr/>
          <p:nvPr/>
        </p:nvSpPr>
        <p:spPr>
          <a:xfrm>
            <a:off x="2773440" y="314316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1"/>
          <p:cNvSpPr/>
          <p:nvPr/>
        </p:nvSpPr>
        <p:spPr>
          <a:xfrm>
            <a:off x="514080" y="4649760"/>
            <a:ext cx="29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7 · 11 = 6  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2"/>
          <p:cNvSpPr/>
          <p:nvPr/>
        </p:nvSpPr>
        <p:spPr>
          <a:xfrm>
            <a:off x="2630520" y="464976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Скругленная прямоугольная выноска 13"/>
          <p:cNvSpPr/>
          <p:nvPr/>
        </p:nvSpPr>
        <p:spPr>
          <a:xfrm>
            <a:off x="2357280" y="3857760"/>
            <a:ext cx="1571760" cy="7855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+7=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4"/>
          <p:cNvSpPr/>
          <p:nvPr/>
        </p:nvSpPr>
        <p:spPr>
          <a:xfrm>
            <a:off x="4242600" y="17146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5"/>
          <p:cNvSpPr/>
          <p:nvPr/>
        </p:nvSpPr>
        <p:spPr>
          <a:xfrm>
            <a:off x="5157000" y="2357280"/>
            <a:ext cx="267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5 · 1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4 · 1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9 · 1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8 · 1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6"/>
          <p:cNvSpPr/>
          <p:nvPr/>
        </p:nvSpPr>
        <p:spPr>
          <a:xfrm>
            <a:off x="5358240" y="171468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7"/>
          <p:cNvSpPr/>
          <p:nvPr/>
        </p:nvSpPr>
        <p:spPr>
          <a:xfrm>
            <a:off x="7863120" y="2357280"/>
            <a:ext cx="9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9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12" descr="101"/>
          <p:cNvPicPr/>
          <p:nvPr/>
        </p:nvPicPr>
        <p:blipFill>
          <a:blip r:embed="rId2"/>
          <a:stretch/>
        </p:blipFill>
        <p:spPr>
          <a:xfrm>
            <a:off x="1857240" y="571500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2" descr="101"/>
          <p:cNvPicPr/>
          <p:nvPr/>
        </p:nvPicPr>
        <p:blipFill>
          <a:blip r:embed="rId3"/>
          <a:stretch/>
        </p:blipFill>
        <p:spPr>
          <a:xfrm>
            <a:off x="2928960" y="5786280"/>
            <a:ext cx="1028520" cy="825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101"/>
          <p:cNvPicPr/>
          <p:nvPr/>
        </p:nvPicPr>
        <p:blipFill>
          <a:blip r:embed="rId4"/>
          <a:stretch/>
        </p:blipFill>
        <p:spPr>
          <a:xfrm>
            <a:off x="4000680" y="5715000"/>
            <a:ext cx="1028520" cy="8254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2" descr="101"/>
          <p:cNvPicPr/>
          <p:nvPr/>
        </p:nvPicPr>
        <p:blipFill>
          <a:blip r:embed="rId5"/>
          <a:stretch/>
        </p:blipFill>
        <p:spPr>
          <a:xfrm>
            <a:off x="5143680" y="5715000"/>
            <a:ext cx="1028520" cy="8254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2" descr="101"/>
          <p:cNvPicPr/>
          <p:nvPr/>
        </p:nvPicPr>
        <p:blipFill>
          <a:blip r:embed="rId6"/>
          <a:stretch/>
        </p:blipFill>
        <p:spPr>
          <a:xfrm>
            <a:off x="6500880" y="5715000"/>
            <a:ext cx="1028520" cy="82548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25"/>
          <p:cNvSpPr/>
          <p:nvPr/>
        </p:nvSpPr>
        <p:spPr>
          <a:xfrm>
            <a:off x="3564000" y="561960"/>
            <a:ext cx="52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 число, которое нужно умножить на 11, а между цифрами исходного числа вставь сумму этих цифр. Если сумма получается двузначное число, то 1 прибавляем к первой цифре исходного чис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3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TextBox 2"/>
          <p:cNvSpPr/>
          <p:nvPr/>
        </p:nvSpPr>
        <p:spPr>
          <a:xfrm>
            <a:off x="2715480" y="22068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множение на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680040" y="857160"/>
            <a:ext cx="770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4 · 25 = 24 · 100 : 4 = 2400 : 4 = 6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6 · 25 = 3600 : 4 = 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А можно наоборо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4·25=24 : 4 · 100 = 6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6·25=36 : 4 · 100 = 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4"/>
          <p:cNvSpPr/>
          <p:nvPr/>
        </p:nvSpPr>
        <p:spPr>
          <a:xfrm>
            <a:off x="2242440" y="354816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5"/>
          <p:cNvSpPr/>
          <p:nvPr/>
        </p:nvSpPr>
        <p:spPr>
          <a:xfrm>
            <a:off x="3228120" y="4017960"/>
            <a:ext cx="267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6 · 2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4 · 2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8 · 2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8 · 2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6"/>
          <p:cNvSpPr/>
          <p:nvPr/>
        </p:nvSpPr>
        <p:spPr>
          <a:xfrm>
            <a:off x="3429360" y="348768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5935680" y="4017960"/>
            <a:ext cx="121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7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2" descr="101"/>
          <p:cNvPicPr/>
          <p:nvPr/>
        </p:nvPicPr>
        <p:blipFill>
          <a:blip r:embed="rId2"/>
          <a:stretch/>
        </p:blipFill>
        <p:spPr>
          <a:xfrm>
            <a:off x="7500960" y="1643040"/>
            <a:ext cx="1028520" cy="8254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101"/>
          <p:cNvPicPr/>
          <p:nvPr/>
        </p:nvPicPr>
        <p:blipFill>
          <a:blip r:embed="rId3"/>
          <a:stretch/>
        </p:blipFill>
        <p:spPr>
          <a:xfrm>
            <a:off x="7572240" y="271476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2" descr="101"/>
          <p:cNvPicPr/>
          <p:nvPr/>
        </p:nvPicPr>
        <p:blipFill>
          <a:blip r:embed="rId4"/>
          <a:stretch/>
        </p:blipFill>
        <p:spPr>
          <a:xfrm>
            <a:off x="7572240" y="378612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2" descr="101"/>
          <p:cNvPicPr/>
          <p:nvPr/>
        </p:nvPicPr>
        <p:blipFill>
          <a:blip r:embed="rId5"/>
          <a:stretch/>
        </p:blipFill>
        <p:spPr>
          <a:xfrm>
            <a:off x="7643880" y="5000760"/>
            <a:ext cx="1028520" cy="82548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14"/>
          <p:cNvSpPr/>
          <p:nvPr/>
        </p:nvSpPr>
        <p:spPr>
          <a:xfrm>
            <a:off x="179280" y="433692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умножить число на 25, нужно его умножить на 100/4, то есть умножить на 100 и разделить на 4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TextBox 2"/>
          <p:cNvSpPr/>
          <p:nvPr/>
        </p:nvSpPr>
        <p:spPr>
          <a:xfrm>
            <a:off x="432000" y="220680"/>
            <a:ext cx="784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множение на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вухзначных чисел , оканчивающихся на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3"/>
          <p:cNvSpPr/>
          <p:nvPr/>
        </p:nvSpPr>
        <p:spPr>
          <a:xfrm>
            <a:off x="307440" y="207180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5 · 25 = 6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Скругленная прямоугольная выноска 4"/>
          <p:cNvSpPr/>
          <p:nvPr/>
        </p:nvSpPr>
        <p:spPr>
          <a:xfrm>
            <a:off x="2000160" y="1357200"/>
            <a:ext cx="135756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·3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5"/>
          <p:cNvSpPr/>
          <p:nvPr/>
        </p:nvSpPr>
        <p:spPr>
          <a:xfrm>
            <a:off x="300240" y="3357720"/>
            <a:ext cx="30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5 · 35 = 12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Скругленная прямоугольная выноска 6"/>
          <p:cNvSpPr/>
          <p:nvPr/>
        </p:nvSpPr>
        <p:spPr>
          <a:xfrm>
            <a:off x="1928880" y="2643120"/>
            <a:ext cx="164304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·4=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8"/>
          <p:cNvSpPr/>
          <p:nvPr/>
        </p:nvSpPr>
        <p:spPr>
          <a:xfrm>
            <a:off x="5214960" y="1714680"/>
            <a:ext cx="3567240" cy="3933360"/>
          </a:xfrm>
          <a:prstGeom prst="rect">
            <a:avLst/>
          </a:prstGeom>
          <a:solidFill>
            <a:srgbClr val="ffff00">
              <a:alpha val="17000"/>
            </a:srgbClr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равило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Число десятков умножаем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ледующую за ним в ряду натуральных чисел цифру, а на конце у этих произведений всегда стоит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9"/>
          <p:cNvSpPr/>
          <p:nvPr/>
        </p:nvSpPr>
        <p:spPr>
          <a:xfrm>
            <a:off x="234000" y="4929120"/>
            <a:ext cx="42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5² = 65 · 65 = 42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кругленная прямоугольная выноска 10"/>
          <p:cNvSpPr/>
          <p:nvPr/>
        </p:nvSpPr>
        <p:spPr>
          <a:xfrm>
            <a:off x="3071880" y="4214880"/>
            <a:ext cx="178596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 ·7 = 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2" descr="101"/>
          <p:cNvPicPr/>
          <p:nvPr/>
        </p:nvPicPr>
        <p:blipFill>
          <a:blip r:embed="rId2"/>
          <a:stretch/>
        </p:blipFill>
        <p:spPr>
          <a:xfrm>
            <a:off x="1857240" y="571500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2" descr="101"/>
          <p:cNvPicPr/>
          <p:nvPr/>
        </p:nvPicPr>
        <p:blipFill>
          <a:blip r:embed="rId3"/>
          <a:stretch/>
        </p:blipFill>
        <p:spPr>
          <a:xfrm>
            <a:off x="3143160" y="578628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101"/>
          <p:cNvPicPr/>
          <p:nvPr/>
        </p:nvPicPr>
        <p:blipFill>
          <a:blip r:embed="rId4"/>
          <a:stretch/>
        </p:blipFill>
        <p:spPr>
          <a:xfrm>
            <a:off x="4329000" y="578628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2" descr="101"/>
          <p:cNvPicPr/>
          <p:nvPr/>
        </p:nvPicPr>
        <p:blipFill>
          <a:blip r:embed="rId5"/>
          <a:stretch/>
        </p:blipFill>
        <p:spPr>
          <a:xfrm>
            <a:off x="5686560" y="5867280"/>
            <a:ext cx="1028520" cy="8254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2" descr="101"/>
          <p:cNvPicPr/>
          <p:nvPr/>
        </p:nvPicPr>
        <p:blipFill>
          <a:blip r:embed="rId6"/>
          <a:stretch/>
        </p:blipFill>
        <p:spPr>
          <a:xfrm>
            <a:off x="7186680" y="5867280"/>
            <a:ext cx="1028520" cy="825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1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TextBox 2"/>
          <p:cNvSpPr/>
          <p:nvPr/>
        </p:nvSpPr>
        <p:spPr>
          <a:xfrm>
            <a:off x="1950480" y="85716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3"/>
          <p:cNvSpPr/>
          <p:nvPr/>
        </p:nvSpPr>
        <p:spPr>
          <a:xfrm>
            <a:off x="2799360" y="1928880"/>
            <a:ext cx="267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5 · 4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5 · 7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5² 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5²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5435640" y="1928880"/>
            <a:ext cx="121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6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2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TextBox 4"/>
          <p:cNvSpPr/>
          <p:nvPr/>
        </p:nvSpPr>
        <p:spPr>
          <a:xfrm>
            <a:off x="3429000" y="8445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9"/>
          <p:cNvSpPr/>
          <p:nvPr/>
        </p:nvSpPr>
        <p:spPr>
          <a:xfrm>
            <a:off x="0" y="1062000"/>
            <a:ext cx="914400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льцевый счет при запоминании таблицы умн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ем пальцевого счета при получении значений табличного умножения является одним из древнейших вычислительных приемов. Следует заметить, что многие учителя не признают правомочности приемов пальцевого счета при изучении табличного сложения и табличного умножения, придерживаясь мнения, что их результаты необходимо учить наизусть. Выучить всю таблицу наизусть могут не все дети. Учителя математики знают, что и среди школьников средних и даже старших классов имеется достаточное количество детей, плохо знающих таблицу умножения.   Для детей младшего школьного возраста с преобладающим кинестезическим восприятием и кинестезической памятью прием пальцевого счета при освоении таблицы умножения может быть рекомендован как вспомогательный. Для того чтобы его эффективно использовать, следует знать результаты табличного умножения в пределах таблицы умножения числа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9"/>
          <p:cNvSpPr/>
          <p:nvPr/>
        </p:nvSpPr>
        <p:spPr>
          <a:xfrm>
            <a:off x="179280" y="1211400"/>
            <a:ext cx="896472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пример, нужно умножить 6 на 7. Зажимаем пальцы на обеих руках в кулак, а затем на каждой руке отгибаем столько пальцев, насколько каждый множитель больше, чем пять.   На двух руках отогнуто три пальца - это число десятков в искомом числе. На одной руке остались прижатыми к ладони три пальца, на другой - четыре пальца эти числа перемножаем 3 * 4 = 12 и прибавляем к числу имеющихся десятков. 30 + 12 = 42. Ответ: 6 * 7 = 4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8" descr="http://www.cross-kpk.ru/ims/00108/html/мат2.jpg"/>
          <p:cNvPicPr/>
          <p:nvPr/>
        </p:nvPicPr>
        <p:blipFill>
          <a:blip r:embed="rId3"/>
          <a:stretch/>
        </p:blipFill>
        <p:spPr>
          <a:xfrm>
            <a:off x="1403280" y="4149720"/>
            <a:ext cx="2104920" cy="158436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0"/>
          <p:cNvSpPr/>
          <p:nvPr/>
        </p:nvSpPr>
        <p:spPr>
          <a:xfrm>
            <a:off x="-4412520" y="4214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9"/>
          <p:cNvSpPr/>
          <p:nvPr/>
        </p:nvSpPr>
        <p:spPr>
          <a:xfrm>
            <a:off x="179280" y="1160640"/>
            <a:ext cx="896472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Еще один пример: необходимо умножить 8 на 9.   Отгибаем на одной руке три пальца, а на другой руке - четыре пальца (на столько каждый множитель больше, чем пять).   Отогнуто 7 пальцев - это десятки в искомом числе. Перемножаем число загнутых пальцев обеих рук: 2 * 1 = 2. Прибавляем это количество к числу десятков 70 + 2 = 7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аким образом, 9 * 8 = 7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8" descr="http://www.cross-kpk.ru/ims/00108/html/мат1.jpg"/>
          <p:cNvPicPr/>
          <p:nvPr/>
        </p:nvPicPr>
        <p:blipFill>
          <a:blip r:embed="rId3"/>
          <a:stretch/>
        </p:blipFill>
        <p:spPr>
          <a:xfrm>
            <a:off x="1835280" y="4437000"/>
            <a:ext cx="2038320" cy="15242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Box 3"/>
          <p:cNvSpPr/>
          <p:nvPr/>
        </p:nvSpPr>
        <p:spPr>
          <a:xfrm>
            <a:off x="440280" y="1285920"/>
            <a:ext cx="807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 устного умн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Нижний колонтитул 4"/>
          <p:cNvSpPr/>
          <p:nvPr/>
        </p:nvSpPr>
        <p:spPr>
          <a:xfrm>
            <a:off x="1928880" y="5572080"/>
            <a:ext cx="6143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ь: Полетавкина Людмила Дмитри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БУ СОШ с.В-Авзя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2" descr="101"/>
          <p:cNvPicPr/>
          <p:nvPr/>
        </p:nvPicPr>
        <p:blipFill>
          <a:blip r:embed="rId2"/>
          <a:stretch/>
        </p:blipFill>
        <p:spPr>
          <a:xfrm>
            <a:off x="3714840" y="2357280"/>
            <a:ext cx="1643040" cy="1319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TextBox 2"/>
          <p:cNvSpPr/>
          <p:nvPr/>
        </p:nvSpPr>
        <p:spPr>
          <a:xfrm>
            <a:off x="1950480" y="85716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3"/>
          <p:cNvSpPr/>
          <p:nvPr/>
        </p:nvSpPr>
        <p:spPr>
          <a:xfrm>
            <a:off x="2787120" y="1928880"/>
            <a:ext cx="216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 6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 · 8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5430600" y="1928880"/>
            <a:ext cx="69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8"/>
          <p:cNvSpPr/>
          <p:nvPr/>
        </p:nvSpPr>
        <p:spPr>
          <a:xfrm>
            <a:off x="179280" y="596880"/>
            <a:ext cx="896472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немало способов запоминания — в стихах, картинках, играх. Мы предлагаем вам еще один интересный способ 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у умножения на пальц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т метод подходит для заучива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авил умножения на девят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Зачастую примеры с умножением на 9 даются детям труднее вс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к, всё, что вам понадобится — это десять пальцев рук. Положите ладони на стол. Мысленно дайте каждому пальцу, начиная от мизинца левой руки и заканчивая мизинцем правой, свой номер от 1 до 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9" descr="Таблица умножения на пальцах"/>
          <p:cNvPicPr/>
          <p:nvPr/>
        </p:nvPicPr>
        <p:blipFill>
          <a:blip r:embed="rId3"/>
          <a:stretch/>
        </p:blipFill>
        <p:spPr>
          <a:xfrm>
            <a:off x="1332000" y="4581360"/>
            <a:ext cx="2857320" cy="1503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8"/>
          <p:cNvSpPr/>
          <p:nvPr/>
        </p:nvSpPr>
        <p:spPr>
          <a:xfrm>
            <a:off x="179280" y="867600"/>
            <a:ext cx="8964720" cy="43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тим, нам надо умнож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 на 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Чтобы вычислить ответ, надо найти палец под номером 3 и поднять его. А затем посмотреть, сколько пальцев осталось лежать справа и слева. Количество пальцев слева от поднятого пальца (в нашем случае их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это десятки, количество пальцев справа (у нас э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это единицы. Итого, получаем — 2 и 7, то есть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1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9" descr="Таблица умножения на пальцах"/>
          <p:cNvPicPr/>
          <p:nvPr/>
        </p:nvPicPr>
        <p:blipFill>
          <a:blip r:embed="rId3"/>
          <a:stretch/>
        </p:blipFill>
        <p:spPr>
          <a:xfrm>
            <a:off x="1258920" y="4653000"/>
            <a:ext cx="2857320" cy="1866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8" name="TextBox 2"/>
          <p:cNvSpPr/>
          <p:nvPr/>
        </p:nvSpPr>
        <p:spPr>
          <a:xfrm>
            <a:off x="1950480" y="85716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3"/>
          <p:cNvSpPr/>
          <p:nvPr/>
        </p:nvSpPr>
        <p:spPr>
          <a:xfrm>
            <a:off x="2787480" y="1928880"/>
            <a:ext cx="221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 · 9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·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 9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5430600" y="1928880"/>
            <a:ext cx="69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5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JTB40nGnWek"/>
          <p:cNvPicPr/>
          <p:nvPr/>
        </p:nvPicPr>
        <p:blipFill>
          <a:blip r:embed="rId3"/>
          <a:stretch/>
        </p:blipFill>
        <p:spPr>
          <a:xfrm>
            <a:off x="1547640" y="189000"/>
            <a:ext cx="6185160" cy="792000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12"/>
          <p:cNvSpPr/>
          <p:nvPr/>
        </p:nvSpPr>
        <p:spPr>
          <a:xfrm>
            <a:off x="1598760" y="250920"/>
            <a:ext cx="39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этому ,вас уч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9" name=""/>
          <p:cNvGraphicFramePr/>
          <p:nvPr/>
        </p:nvGraphicFramePr>
        <p:xfrm>
          <a:off x="4481640" y="1098720"/>
          <a:ext cx="207720" cy="4663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6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c8141a"/>
                          </a:solidFill>
                          <a:latin typeface="Tahoma"/>
                          <a:ea typeface="Tahoma"/>
                        </a:rPr>
                        <a:t>Умножение по-япон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4481640" y="1098720"/>
          <a:ext cx="207720" cy="4663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6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c8141a"/>
                          </a:solidFill>
                          <a:latin typeface="Tahoma"/>
                          <a:ea typeface="Tahoma"/>
                        </a:rPr>
                        <a:t>Умножение по-япон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1" name="Rectangle 28"/>
          <p:cNvSpPr/>
          <p:nvPr/>
        </p:nvSpPr>
        <p:spPr>
          <a:xfrm>
            <a:off x="250920" y="1050120"/>
            <a:ext cx="87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о кто знает, но японцы настоящие маньяки в умножении чисе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плане они больше походят на пришельцев с другой планеты, чем на людей. Умножение "столбиком" слишком скучное и унылое занятие для их необычного типа мышления. Впитав с молоком матери иероглифическое письмо, японцы изощряются в умножении визуальными способами. Поскольку иероглиф у них обозначает сразу какое-то слово или даже фразу, то почему бы не изображать схожим образом число-ответ при умножен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9"/>
          <p:cNvSpPr/>
          <p:nvPr/>
        </p:nvSpPr>
        <p:spPr>
          <a:xfrm>
            <a:off x="826920" y="8128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6644"/>
                </a:solidFill>
                <a:uFillTx/>
                <a:latin typeface="Arial"/>
                <a:ea typeface="Times New Roman"/>
              </a:rPr>
              <a:t>Предположим надо умножить 32 на 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8" descr="3458552-dd2c50a4cf7a7222.jpg"/>
          <p:cNvPicPr/>
          <p:nvPr/>
        </p:nvPicPr>
        <p:blipFill>
          <a:blip r:embed="rId3"/>
          <a:stretch/>
        </p:blipFill>
        <p:spPr>
          <a:xfrm>
            <a:off x="1619280" y="1484280"/>
            <a:ext cx="4873680" cy="319716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10"/>
          <p:cNvSpPr/>
          <p:nvPr/>
        </p:nvSpPr>
        <p:spPr>
          <a:xfrm>
            <a:off x="0" y="492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8"/>
          <p:cNvSpPr/>
          <p:nvPr/>
        </p:nvSpPr>
        <p:spPr>
          <a:xfrm>
            <a:off x="179280" y="82332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листе бумаги поочередно рисуем линии, количество которых определяется из данного при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32: 3 красные линии и чуть ниже - 2 синие. Затем 21: перпендикулярно уже нарисованным, рисуем сначала 2 зеленые, затем - 1 малиновую. ВАЖНО: линии первого числа рисуются в направлении из верхнего левого угла в нижний правый, второго числа - из нижнего левого, в верхний правый. Затем считаем количество точек пересечения в каждой из трех областей (на рисунке области обозначены в виде окружностей). Итак, в первой области ( область сотен) - 6 точек, во второй (область десятков) - 7 точек, в третьей (область единиц) - 2 точки. Следовательно ответ: 67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TextBox 2"/>
          <p:cNvSpPr/>
          <p:nvPr/>
        </p:nvSpPr>
        <p:spPr>
          <a:xfrm>
            <a:off x="1950480" y="85716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"/>
          <p:cNvSpPr/>
          <p:nvPr/>
        </p:nvSpPr>
        <p:spPr>
          <a:xfrm>
            <a:off x="2786760" y="1928880"/>
            <a:ext cx="2678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2 · 3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7 · 5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5430240" y="1928880"/>
            <a:ext cx="9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500"/>
                            </p:stCondLst>
                            <p:childTnLst>
                              <p:par>
                                <p:cTn id="5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Безымянный"/>
          <p:cNvPicPr/>
          <p:nvPr/>
        </p:nvPicPr>
        <p:blipFill>
          <a:blip r:embed="rId3"/>
          <a:stretch/>
        </p:blipFill>
        <p:spPr>
          <a:xfrm>
            <a:off x="2124000" y="1197000"/>
            <a:ext cx="4876920" cy="3744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1"/>
          <p:cNvSpPr/>
          <p:nvPr/>
        </p:nvSpPr>
        <p:spPr>
          <a:xfrm>
            <a:off x="395280" y="3524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шим еще один пример:  13 · 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1744560" y="2001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1909080" y="38545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4"/>
          <p:cNvSpPr/>
          <p:nvPr/>
        </p:nvSpPr>
        <p:spPr>
          <a:xfrm>
            <a:off x="3904920" y="46674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5"/>
          <p:cNvSpPr/>
          <p:nvPr/>
        </p:nvSpPr>
        <p:spPr>
          <a:xfrm>
            <a:off x="6643080" y="47386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 3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TextBox 5"/>
          <p:cNvSpPr/>
          <p:nvPr/>
        </p:nvSpPr>
        <p:spPr>
          <a:xfrm>
            <a:off x="5429160" y="1928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8"/>
          <p:cNvSpPr/>
          <p:nvPr/>
        </p:nvSpPr>
        <p:spPr>
          <a:xfrm>
            <a:off x="179280" y="1403640"/>
            <a:ext cx="8713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йчас, на этапе стремительного развития информатики и вычислительной техники, современные школьники не хотят утруждать себя счетом в уме. Поэтому мы сочл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ажным показать не только то, что сам процесс выполнения действия может быть интересным, но и что, хорошо усвоив приёмы быстрого счета, можно поспорить и с ЭВМ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675" name="TextBox 2"/>
          <p:cNvSpPr/>
          <p:nvPr/>
        </p:nvSpPr>
        <p:spPr>
          <a:xfrm>
            <a:off x="250920" y="260280"/>
            <a:ext cx="84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 21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-54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TextBox 3"/>
          <p:cNvSpPr/>
          <p:nvPr/>
        </p:nvSpPr>
        <p:spPr>
          <a:xfrm>
            <a:off x="2044800" y="1928880"/>
            <a:ext cx="166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5"/>
          <p:cNvSpPr/>
          <p:nvPr/>
        </p:nvSpPr>
        <p:spPr>
          <a:xfrm>
            <a:off x="5429160" y="1928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6"/>
          <p:cNvSpPr/>
          <p:nvPr/>
        </p:nvSpPr>
        <p:spPr>
          <a:xfrm>
            <a:off x="2535120" y="476280"/>
            <a:ext cx="249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рове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7"/>
          <p:cNvSpPr/>
          <p:nvPr/>
        </p:nvSpPr>
        <p:spPr>
          <a:xfrm>
            <a:off x="267984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8" descr="Безымянный"/>
          <p:cNvPicPr/>
          <p:nvPr/>
        </p:nvPicPr>
        <p:blipFill>
          <a:blip r:embed="rId3"/>
          <a:stretch/>
        </p:blipFill>
        <p:spPr>
          <a:xfrm>
            <a:off x="2124000" y="2060640"/>
            <a:ext cx="4876920" cy="28810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9"/>
          <p:cNvSpPr/>
          <p:nvPr/>
        </p:nvSpPr>
        <p:spPr>
          <a:xfrm>
            <a:off x="709308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10" descr="Безымянный"/>
          <p:cNvPicPr/>
          <p:nvPr/>
        </p:nvPicPr>
        <p:blipFill>
          <a:blip r:embed="rId4"/>
          <a:stretch/>
        </p:blipFill>
        <p:spPr>
          <a:xfrm>
            <a:off x="1547640" y="1484280"/>
            <a:ext cx="6193080" cy="324000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11"/>
          <p:cNvSpPr/>
          <p:nvPr/>
        </p:nvSpPr>
        <p:spPr>
          <a:xfrm>
            <a:off x="2031840" y="1052640"/>
            <a:ext cx="11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2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TextBox 3"/>
          <p:cNvSpPr/>
          <p:nvPr/>
        </p:nvSpPr>
        <p:spPr>
          <a:xfrm>
            <a:off x="2044800" y="1928880"/>
            <a:ext cx="166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5"/>
          <p:cNvSpPr/>
          <p:nvPr/>
        </p:nvSpPr>
        <p:spPr>
          <a:xfrm>
            <a:off x="5429160" y="1928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6"/>
          <p:cNvSpPr/>
          <p:nvPr/>
        </p:nvSpPr>
        <p:spPr>
          <a:xfrm>
            <a:off x="2557440" y="1341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267984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709308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39402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2967120" y="287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1" descr="Безымянный"/>
          <p:cNvPicPr/>
          <p:nvPr/>
        </p:nvPicPr>
        <p:blipFill>
          <a:blip r:embed="rId3"/>
          <a:stretch/>
        </p:blipFill>
        <p:spPr>
          <a:xfrm>
            <a:off x="2124000" y="692280"/>
            <a:ext cx="4876920" cy="280800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13"/>
          <p:cNvSpPr/>
          <p:nvPr/>
        </p:nvSpPr>
        <p:spPr>
          <a:xfrm>
            <a:off x="1620720" y="1527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4"/>
          <p:cNvSpPr/>
          <p:nvPr/>
        </p:nvSpPr>
        <p:spPr>
          <a:xfrm>
            <a:off x="1528560" y="2700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5"/>
          <p:cNvSpPr/>
          <p:nvPr/>
        </p:nvSpPr>
        <p:spPr>
          <a:xfrm>
            <a:off x="4120920" y="3492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6"/>
          <p:cNvSpPr/>
          <p:nvPr/>
        </p:nvSpPr>
        <p:spPr>
          <a:xfrm>
            <a:off x="6659640" y="4427640"/>
            <a:ext cx="24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2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2" name="TextBox 2"/>
          <p:cNvSpPr/>
          <p:nvPr/>
        </p:nvSpPr>
        <p:spPr>
          <a:xfrm>
            <a:off x="1950480" y="85716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"/>
          <p:cNvSpPr/>
          <p:nvPr/>
        </p:nvSpPr>
        <p:spPr>
          <a:xfrm>
            <a:off x="2787480" y="1928880"/>
            <a:ext cx="270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4 · 12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3 ·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5"/>
          <p:cNvSpPr/>
          <p:nvPr/>
        </p:nvSpPr>
        <p:spPr>
          <a:xfrm>
            <a:off x="5430240" y="1928880"/>
            <a:ext cx="9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6500"/>
                            </p:stCondLst>
                            <p:childTnLst>
                              <p:par>
                                <p:cTn id="5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6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2774520" y="1928880"/>
            <a:ext cx="219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 · 9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·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 9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5"/>
          <p:cNvSpPr/>
          <p:nvPr/>
        </p:nvSpPr>
        <p:spPr>
          <a:xfrm>
            <a:off x="5430600" y="1928880"/>
            <a:ext cx="69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2" descr="101"/>
          <p:cNvPicPr/>
          <p:nvPr/>
        </p:nvPicPr>
        <p:blipFill>
          <a:blip r:embed="rId1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9"/>
          <p:cNvSpPr/>
          <p:nvPr/>
        </p:nvSpPr>
        <p:spPr>
          <a:xfrm>
            <a:off x="3995640" y="1103400"/>
            <a:ext cx="273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250920" y="1634760"/>
            <a:ext cx="856908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знакомстве с научной литературой обнаружили более быстрые и надежные способы умножения. Поэтому изучение действия умножения – тема перспективна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, что с первого раза у многих не получится быстро, с ходу выполнять эти или другие подсчеты. Пусть сначала не получится использовать прием, показанный в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нные мною способы умножения не такие сложные и могут повседневно использоваться учащимися. Они познавательны и интер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знаю, что существуют еще много интересных способов вычислений.      И я соберу целую коллекцию таких  примеров рационального вы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WordArt 11"/>
          <p:cNvSpPr txBox="1"/>
          <p:nvPr/>
        </p:nvSpPr>
        <p:spPr>
          <a:xfrm>
            <a:off x="241128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лючени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4000">
    <p:wipe dir="d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5"/>
          <p:cNvSpPr/>
          <p:nvPr/>
        </p:nvSpPr>
        <p:spPr>
          <a:xfrm>
            <a:off x="250920" y="1302120"/>
            <a:ext cx="867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являются алгоритмы счет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следования выступает процесс вычислени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нестандартные приемы вычис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5"/>
          <p:cNvSpPr/>
          <p:nvPr/>
        </p:nvSpPr>
        <p:spPr>
          <a:xfrm>
            <a:off x="0" y="1827360"/>
            <a:ext cx="8832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смотреть некоторые приемы устного умножения и на конкретных примерах показать преимущества их использовани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казать эти приемы другим учащим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именять эти знания на прак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742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5"/>
          <p:cNvSpPr/>
          <p:nvPr/>
        </p:nvSpPr>
        <p:spPr>
          <a:xfrm>
            <a:off x="0" y="297288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редние века совсем немногие владели искусством умножения. Редкий аристократ мог похвастаться знанием таблицы умножения, даже если он окончил европейский университ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WordArt 7"/>
          <p:cNvSpPr txBox="1"/>
          <p:nvPr/>
        </p:nvSpPr>
        <p:spPr>
          <a:xfrm>
            <a:off x="785880" y="550800"/>
            <a:ext cx="436248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ипотез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1" name="WordArt 8"/>
          <p:cNvSpPr txBox="1"/>
          <p:nvPr/>
        </p:nvSpPr>
        <p:spPr>
          <a:xfrm>
            <a:off x="-6156720" y="5678280"/>
            <a:ext cx="705672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ипотез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2" name="Text Box 10"/>
          <p:cNvSpPr/>
          <p:nvPr/>
        </p:nvSpPr>
        <p:spPr>
          <a:xfrm>
            <a:off x="179280" y="43131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арину говорили: « Умножение – мое мученье». Значит, раньше было сложно и трудно умножать. Прост ли наш современный способ умножения?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тысячелетия развития математики было придумано множество способов умножения чисе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4"/>
          <p:cNvSpPr/>
          <p:nvPr/>
        </p:nvSpPr>
        <p:spPr>
          <a:xfrm>
            <a:off x="250920" y="389520"/>
            <a:ext cx="8670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работе 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ьзовалась следующими метод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иско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од с использованием научной и учебной литературы, а также поиск необходимой информации в сети Интерн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ктиче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од выполнения вычислений с применением нестандартных алгоритмов с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али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енных в ходе исследования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4"/>
          <p:cNvSpPr/>
          <p:nvPr/>
        </p:nvSpPr>
        <p:spPr>
          <a:xfrm>
            <a:off x="250920" y="1120680"/>
            <a:ext cx="867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нной темы заключается в том, что использование нестандартных приемов в формировании вычислительных навыков усиливает интерес учащихся к математике и содействует развитию математических способносте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179280" y="35211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отелось узнать  способы умножения, сравнить их с нашим сегодняшним действием умн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4"/>
          <p:cNvSpPr/>
          <p:nvPr/>
        </p:nvSpPr>
        <p:spPr>
          <a:xfrm>
            <a:off x="250920" y="2126880"/>
            <a:ext cx="86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WordArt 5"/>
          <p:cNvSpPr txBox="1"/>
          <p:nvPr/>
        </p:nvSpPr>
        <p:spPr>
          <a:xfrm>
            <a:off x="900000" y="692280"/>
            <a:ext cx="525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зультаты анкетирования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468360" y="3107880"/>
            <a:ext cx="9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179280" y="352116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 чтобы выяснить, знают ли современные школьники другие способы выполнения арифметических действий, кроме умножения столбиком и деления «уголком» и хотели бы узнать новые способы, был проведен устный опрос. Было опрошено 20 учащиеся 5-7 клас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1-06T14:26:33Z</dcterms:modified>
  <cp:revision>51</cp:revision>
  <dc:subject/>
  <dc:title>pr43e</dc:title>
</cp:coreProperties>
</file>