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77F4-92A6-4C8E-8E76-165A282161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A1C0-88F4-45D3-BA2D-52B8F5B145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A950-4063-4BD3-B01A-2E47A44CF2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B2D3-5C17-4E3B-975D-3E943C8C60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E46E-F1E9-4CF1-A099-82FB19E77B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CB99-0300-49BE-A9AA-F24B394580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3FA9-7933-4E50-9D93-29F9EBDCA0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8864-36CA-4514-A43D-5E8573DA5A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9C1D-BDF1-406D-A3C3-5F8C85431F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A009-873E-425B-9489-E478C25A56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0B1B-A06B-4FC7-A56D-AAC42C483D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43E7-BCB6-4DAE-92A5-15C2A958AD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64F9-E127-4F8B-AD77-24A665337D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F6E6-1042-4DB4-88CC-1CADD65A5D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4497-5D4D-4F66-8186-91DFBB7EB1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B9CC-6A44-4225-BCDC-B783A7DE19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04CC-9859-463B-B052-B154E8A183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0DDB-28AF-40CF-BD07-5830601BE4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7F1-E840-44F7-97A4-7D69B90B62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4B96-DBEA-4664-9AB1-D4EB32B3FB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DDE4-F7E8-4F51-9F6E-EA9964DBC4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8D3E-4D0E-4A8C-AF84-4620C270F9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ED30-F7A9-4028-B15E-77EAF3BBB4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E9FA-66D7-4ED3-9E32-B1A8DA3172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B274-99BE-43E8-95E6-6FCBB43B21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92E0-EADF-4970-AFEC-A34426E77E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5286-260D-4C76-A474-E23C9D149B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011-D2AB-4874-A3BE-314C262DDA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0EED-372A-4A41-BE0E-39424A6A69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247B-3F28-4B73-B0F8-D47BAECE0A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34B6-5745-400B-816F-8DD037422F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F1AF-ACC2-4687-B814-55A0273A31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2B16-C45C-42F9-8C9E-5F99E4D7C8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1A3C-898D-4899-8A9A-CE4DBF80F4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5535-CB4F-4AF4-A47A-2C744FDA2E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77A-EF7D-4547-966D-34F2C825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335-C512-43BC-9BBC-28991EF6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F9C02-40A7-44D1-880A-CDF257DA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279E6-775A-4FEA-A244-FB659922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DF440-8971-40DA-AE88-CD5AFC8E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DE888-BD0E-422E-B1B2-4474731B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6BC54-6C17-41EE-8652-76334A05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A3511-6DA2-4737-B3CF-3D7A0A76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59A58-86E1-4EDC-AD38-43BE2D05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59CF6-45BF-4E29-84B0-35743927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E486F-589E-4C81-BC1E-6E9BB305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646E8-2610-44D4-92B5-E4325F23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A62-754C-430B-A016-18CA0B2B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FEDA3-D39F-479A-B405-28AC9070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607F0-B4AA-4211-8EE2-989FA2B1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3B14A-AA94-44B3-9E99-6D3F5CA6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8F8AD-6950-4697-8244-22A15E7F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FEF4B-153C-4780-96E9-5F99BC4B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9149F-DE55-4F74-9829-783AC1D3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4E67B-8B43-4F8E-883B-6C56646C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CEB53-E537-411E-873F-4F246908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F5A43-ED8F-4CC0-B8F7-1899EED9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3BB9B-F62A-441C-9EA0-BDBBCB58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7B7-8BE6-445F-A158-591BBFE8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4C4B8-41F3-4110-99FF-C1F81386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BD39D-E2D0-42FF-8334-7652F48D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C8C3B-2A0F-4688-AAD2-6FA747CD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666D4-8562-4B4B-9A3C-F6D786D2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C2E87-88DB-4E06-BC76-545174D7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959A8-84FB-4164-A5EC-662B45EC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B4E02-5C17-4E2B-8BA5-A55EA793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75277-957D-4BC2-9BFD-6F609845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2823C-5642-4AED-A505-DB68F84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52B56-4CC0-4CC0-9AB6-EA6AF22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8E69-9595-404F-9B94-868DCBEA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7AF3F-D7E7-4CCB-B7A7-1BC0CF8B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26F40-D985-49C0-8CD2-1552ACEF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0E1CE-E816-43CE-8D1B-C3B3AD7C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0E501-0378-41FB-8EC2-7A39DEE5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09E6A-B08F-4568-AAF2-CFD8B3DE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DE6B5-811D-47BE-B505-C810FC3A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B14F5-0B1B-4EAD-9B0C-D667DA85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E9C8B-6D5E-4459-A0BA-0F6C5403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AAFB5-481D-4D73-A9DB-AE3477E5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65549-4FCC-46E5-A5B6-4584677A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E314-2191-4F54-8290-A7232D9A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0BDEB-C109-44DD-BE77-20416C23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EE41C-2E33-4BC8-BF7B-9F6D02D2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CDB8C-08EC-4406-B946-CBDD7D61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95926-1846-49AD-8874-CB83C8BA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0C002-D57F-4E0C-BD9B-43F0FBEF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5E82-91AD-47FC-9997-3881775D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2442-6E16-494C-8551-59B2A5DB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596F-CCD6-4D12-BE96-53BBE422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A9F0-7BD2-49BE-8C94-EE106FF6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4D89-C884-4E33-A5A3-854812A2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7A5-EB8E-4583-96D1-4D13129D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9ABA-6CA0-483B-A0E2-CAF9F03C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7139-B66E-4323-9927-781C42B0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C544-47B8-4B20-A122-584B0E73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68D2-7600-4231-897F-09C26D0A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58A0-C500-404A-93CD-60B829A9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C3C9-A8BF-47FC-8BAC-FC0E2A84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1D62A-AA8D-45F2-B542-9C27410E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4153-262A-45D0-BE64-466A59C3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24E3-FB3D-44BD-882E-E9886855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7CDD-EE37-491E-B970-4CA25D84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8D4-19EE-4842-A791-1DB4E0C2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19E2-54DC-4DED-9968-65A907A0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9E881-6B06-4EC3-B312-02616823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7EB0-5AEF-4042-B174-AE304AB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4F48-2B3C-462A-B17E-64A9C8D3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7DD6-35F5-496B-8971-22741535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37B8-0635-4F30-9F45-F035CFBD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D5CB-52FD-49AA-9203-54C517E1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D038A-3622-4227-815A-36A9A532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1DEDC-7590-4447-B3E8-2E3E79B7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1009-0189-41EB-99BE-A10BF0FC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435-D792-47DB-9CA5-111FD8B5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77FC1-1FCD-40EF-BB16-86239CAB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43036-3D50-45F4-9EED-E4CA8426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E55CF-4E73-43E9-9475-C84A7415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D8215-53D9-491C-B0FB-6832E507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41D20-7522-434F-9DE6-DC2CDE36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CC3C9-4E8E-455A-A3AC-28ABAAC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D6A48-E785-452F-8205-FCE80A2D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15F2D-7A2E-4BFF-9A3D-4BE319C4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5D36-BE51-421D-AC84-6A3F69EF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4089A-DA25-4227-BCFC-1758FD3C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736-B120-460D-AA6B-BD90F232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9E6C0-BF39-4F02-B2EB-4A43095B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A697F-E896-4B1C-9081-F3E62BF1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D30E2-3E13-46C8-9FD2-B8C92ACD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09117-9F8A-472D-934A-F2CA5355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C704-411D-4175-8BE5-36BDAE36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9E30-0485-4F6C-9453-1537EB68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40C0D-18B4-456B-9460-32CBFB95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D7419-257E-410E-B3D0-9E2ABE1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7ADE-F65D-420C-9F7F-80D3CA68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99796-CADC-447C-B965-DD34334A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615-7E2D-4547-BDF6-296E325C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6F2AC-AA7A-4FD4-BAF9-D2D8FED4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6BF95-9959-4922-8783-D9374FC6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1F080-9F4A-4AF2-93CB-C35272B3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D4CAA-57D7-461F-866B-FA9927F5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0A7C9-FAAD-454A-8778-C0755B0C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0123D-7FFD-40AE-963D-FD51D0A8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D4C58-31F1-423D-8BB2-ECB7B046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95003-1FDC-49F9-ABB0-EB7C2608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5FAC4-21D1-4A5A-A695-62BA0B4B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65392-C28A-4C1D-A4AE-D588FBD7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88D-1CA2-4CD3-864E-E328B478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9D950-267C-425C-ADF2-9A312E6D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EE775-D991-4A0E-BE8E-EB261797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170EE-C583-4767-9038-04E3C08B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64160-5566-4AB2-8A8D-722F64ED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0616A-8620-4EE3-8482-5F35A642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813FD-0D63-46AB-B70C-9EA96F8B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05AC-5F57-4256-B8E9-228FC4F6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A05BC-4203-46EA-AFC1-FC489792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1BBB1-41CF-4C92-8865-95B9F501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ED765-4BFC-499F-BA04-2CF7A559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1F3-BE10-4138-B6E5-B6B9AACE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C7BE9-FA09-4DCA-9BA0-1F04217D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10A79-2C6C-4EF0-8410-24C0A64B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34379-392C-4FE7-BA9A-512A1189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FEA7F-E59D-467E-838E-BF621853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D9BDD-C125-4AE8-9E27-A7B45978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ED20-417F-4AFE-9758-06069442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0FB5F-9940-4103-963B-BCA9DEDA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6E797-A76D-4190-B5F5-14C25A65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48E91-F4E8-404A-903E-5FCE3207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8F5F-AAE3-4AFE-91E1-17C6AAF1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EE2-73A9-4DC4-B031-83C17004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ABA3B-C2EB-4DF6-A4FF-D6B8576E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2E875-D841-4EAF-AFFE-FEFA4005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F3D85-04A4-4D4D-851A-F2AA268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E857E-5D0C-453F-A87B-F088E537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7BCD1-521F-417D-8199-835185BC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040CB-1416-437D-8C81-AD46E981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32939-896A-4D27-83FA-DB16F861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1ACC8-DF16-4980-B672-3EDE6F22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042C8-9F35-4A8F-9366-44738815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A3E39-994A-4CDC-8B4E-99274296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FCDF-C007-45D8-AB1D-BC07EEFDB9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CC92-8266-49FF-B3B9-900F87B881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4C6E-C740-44A8-9228-C225B194A9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3B92-E5B3-4054-877F-3018B2317C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9FAE-7F08-4B31-BE73-7CD3E70772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5D0C-3733-49D3-B208-B9502FBD0D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C74E-84E4-4231-B798-37F0AD529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D368-BC5F-4D67-A0F4-760E1C3CD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BD79-11C7-45A6-AF85-7BA76984E6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E83E-B3B5-4F04-871A-F8990A962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0ADA-0868-4E74-934C-A487786F1A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5406-2675-485E-B3A7-765B132D04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01" name="WordArt 6"/>
          <p:cNvSpPr txBox="1"/>
          <p:nvPr/>
        </p:nvSpPr>
        <p:spPr>
          <a:xfrm>
            <a:off x="395280" y="620640"/>
            <a:ext cx="7993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Учебно-исследовательская рабо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611280" y="40460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 Полетавкина Дарья Сергеевна, 8б класс, средняя общеобразовательная школа,с.В-Авз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4"/>
          <p:cNvSpPr/>
          <p:nvPr/>
        </p:nvSpPr>
        <p:spPr>
          <a:xfrm>
            <a:off x="250920" y="2263680"/>
            <a:ext cx="867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"/>
          <p:cNvPicPr/>
          <p:nvPr/>
        </p:nvPicPr>
        <p:blipFill>
          <a:blip r:embed="rId3"/>
          <a:stretch/>
        </p:blipFill>
        <p:spPr>
          <a:xfrm>
            <a:off x="1763640" y="1773360"/>
            <a:ext cx="6048360" cy="37432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6"/>
          <p:cNvSpPr/>
          <p:nvPr/>
        </p:nvSpPr>
        <p:spPr>
          <a:xfrm>
            <a:off x="179280" y="66168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ли уметь выполнять арифметические действия с натуральными числами современному человеку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4"/>
          <p:cNvSpPr/>
          <p:nvPr/>
        </p:nvSpPr>
        <p:spPr>
          <a:xfrm>
            <a:off x="250920" y="2263680"/>
            <a:ext cx="867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5"/>
          <p:cNvGraphicFramePr/>
          <p:nvPr/>
        </p:nvGraphicFramePr>
        <p:xfrm>
          <a:off x="1403280" y="836640"/>
          <a:ext cx="609624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8366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Рисунок 16" descr="http://do.gendocs.ru/pars_docs/tw_refs/365/364762/364762_html_m224cb319.gif"/>
          <p:cNvPicPr/>
          <p:nvPr/>
        </p:nvPicPr>
        <p:blipFill>
          <a:blip r:embed="rId5"/>
          <a:stretch/>
        </p:blipFill>
        <p:spPr>
          <a:xfrm>
            <a:off x="684360" y="1989000"/>
            <a:ext cx="7632720" cy="33847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9"/>
          <p:cNvSpPr/>
          <p:nvPr/>
        </p:nvSpPr>
        <p:spPr>
          <a:xfrm>
            <a:off x="468360" y="97308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е ли вы устные способы выполнения умножения?</a:t>
            </a: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250920" y="2263680"/>
            <a:ext cx="867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5"/>
          <p:cNvGraphicFramePr/>
          <p:nvPr/>
        </p:nvGraphicFramePr>
        <p:xfrm>
          <a:off x="1619280" y="765000"/>
          <a:ext cx="609588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765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8"/>
          <p:cNvSpPr/>
          <p:nvPr/>
        </p:nvSpPr>
        <p:spPr>
          <a:xfrm>
            <a:off x="179280" y="22269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опрос показал, что современные школьники не знают других способов выполнения действий, так как редко обращаются к материалу, находящемуся за пределами школьной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2628720" y="1627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"/>
          <p:cNvSpPr/>
          <p:nvPr/>
        </p:nvSpPr>
        <p:spPr>
          <a:xfrm>
            <a:off x="2701080" y="22068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множение на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"/>
          <p:cNvSpPr/>
          <p:nvPr/>
        </p:nvSpPr>
        <p:spPr>
          <a:xfrm>
            <a:off x="438480" y="178596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2 · 11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ая прямоугольная выноска 4"/>
          <p:cNvSpPr/>
          <p:nvPr/>
        </p:nvSpPr>
        <p:spPr>
          <a:xfrm>
            <a:off x="2214720" y="1000080"/>
            <a:ext cx="1357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+2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2146320" y="1782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2718000" y="1782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2432160" y="1785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585720" y="3149640"/>
            <a:ext cx="29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3 · 11 = 4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Скругленная прямоугольная выноска 9"/>
          <p:cNvSpPr/>
          <p:nvPr/>
        </p:nvSpPr>
        <p:spPr>
          <a:xfrm>
            <a:off x="2571840" y="2357280"/>
            <a:ext cx="1357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+3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0"/>
          <p:cNvSpPr/>
          <p:nvPr/>
        </p:nvSpPr>
        <p:spPr>
          <a:xfrm>
            <a:off x="2773440" y="314316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1"/>
          <p:cNvSpPr/>
          <p:nvPr/>
        </p:nvSpPr>
        <p:spPr>
          <a:xfrm>
            <a:off x="514080" y="4649760"/>
            <a:ext cx="29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7 · 11 = 6  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2630520" y="464976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кругленная прямоугольная выноска 13"/>
          <p:cNvSpPr/>
          <p:nvPr/>
        </p:nvSpPr>
        <p:spPr>
          <a:xfrm>
            <a:off x="2357280" y="3857760"/>
            <a:ext cx="1571760" cy="785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+7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4242600" y="17146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5"/>
          <p:cNvSpPr/>
          <p:nvPr/>
        </p:nvSpPr>
        <p:spPr>
          <a:xfrm>
            <a:off x="5157000" y="2357280"/>
            <a:ext cx="267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5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4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9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8 ·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6"/>
          <p:cNvSpPr/>
          <p:nvPr/>
        </p:nvSpPr>
        <p:spPr>
          <a:xfrm>
            <a:off x="5358240" y="171468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7"/>
          <p:cNvSpPr/>
          <p:nvPr/>
        </p:nvSpPr>
        <p:spPr>
          <a:xfrm>
            <a:off x="7863120" y="2357280"/>
            <a:ext cx="9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2" descr="101"/>
          <p:cNvPicPr/>
          <p:nvPr/>
        </p:nvPicPr>
        <p:blipFill>
          <a:blip r:embed="rId2"/>
          <a:stretch/>
        </p:blipFill>
        <p:spPr>
          <a:xfrm>
            <a:off x="1857240" y="571500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101"/>
          <p:cNvPicPr/>
          <p:nvPr/>
        </p:nvPicPr>
        <p:blipFill>
          <a:blip r:embed="rId3"/>
          <a:stretch/>
        </p:blipFill>
        <p:spPr>
          <a:xfrm>
            <a:off x="2928960" y="578628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101"/>
          <p:cNvPicPr/>
          <p:nvPr/>
        </p:nvPicPr>
        <p:blipFill>
          <a:blip r:embed="rId4"/>
          <a:stretch/>
        </p:blipFill>
        <p:spPr>
          <a:xfrm>
            <a:off x="4000680" y="571500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101"/>
          <p:cNvPicPr/>
          <p:nvPr/>
        </p:nvPicPr>
        <p:blipFill>
          <a:blip r:embed="rId5"/>
          <a:stretch/>
        </p:blipFill>
        <p:spPr>
          <a:xfrm>
            <a:off x="5143680" y="571500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101"/>
          <p:cNvPicPr/>
          <p:nvPr/>
        </p:nvPicPr>
        <p:blipFill>
          <a:blip r:embed="rId6"/>
          <a:stretch/>
        </p:blipFill>
        <p:spPr>
          <a:xfrm>
            <a:off x="6500880" y="5715000"/>
            <a:ext cx="1028520" cy="82548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25"/>
          <p:cNvSpPr/>
          <p:nvPr/>
        </p:nvSpPr>
        <p:spPr>
          <a:xfrm>
            <a:off x="3564000" y="561960"/>
            <a:ext cx="52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 число, которое нужно умножить на 11, а между цифрами исходного числа вставь сумму этих цифр. Если сумма получается двузначное число, то 1 прибавляем к первой цифре исходного чис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3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"/>
          <p:cNvSpPr/>
          <p:nvPr/>
        </p:nvSpPr>
        <p:spPr>
          <a:xfrm>
            <a:off x="2715480" y="22068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множение на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680040" y="857160"/>
            <a:ext cx="770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4 · 25 = 24 · 100 : 4 = 2400 : 4 = 6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6 · 25 = 3600 : 4 = 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А можно наоборо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4·25=24 : 4 · 100 = 6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6·25=36 : 4 · 100 = 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4"/>
          <p:cNvSpPr/>
          <p:nvPr/>
        </p:nvSpPr>
        <p:spPr>
          <a:xfrm>
            <a:off x="2242440" y="354816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"/>
          <p:cNvSpPr/>
          <p:nvPr/>
        </p:nvSpPr>
        <p:spPr>
          <a:xfrm>
            <a:off x="3228120" y="4017960"/>
            <a:ext cx="267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6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4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8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8 · 2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6"/>
          <p:cNvSpPr/>
          <p:nvPr/>
        </p:nvSpPr>
        <p:spPr>
          <a:xfrm>
            <a:off x="3429360" y="348768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5935680" y="4017960"/>
            <a:ext cx="121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2" descr="101"/>
          <p:cNvPicPr/>
          <p:nvPr/>
        </p:nvPicPr>
        <p:blipFill>
          <a:blip r:embed="rId2"/>
          <a:stretch/>
        </p:blipFill>
        <p:spPr>
          <a:xfrm>
            <a:off x="7500960" y="164304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101"/>
          <p:cNvPicPr/>
          <p:nvPr/>
        </p:nvPicPr>
        <p:blipFill>
          <a:blip r:embed="rId3"/>
          <a:stretch/>
        </p:blipFill>
        <p:spPr>
          <a:xfrm>
            <a:off x="7572240" y="271476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101"/>
          <p:cNvPicPr/>
          <p:nvPr/>
        </p:nvPicPr>
        <p:blipFill>
          <a:blip r:embed="rId4"/>
          <a:stretch/>
        </p:blipFill>
        <p:spPr>
          <a:xfrm>
            <a:off x="7572240" y="378612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2" descr="101"/>
          <p:cNvPicPr/>
          <p:nvPr/>
        </p:nvPicPr>
        <p:blipFill>
          <a:blip r:embed="rId5"/>
          <a:stretch/>
        </p:blipFill>
        <p:spPr>
          <a:xfrm>
            <a:off x="7643880" y="5000760"/>
            <a:ext cx="1028520" cy="8254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4"/>
          <p:cNvSpPr/>
          <p:nvPr/>
        </p:nvSpPr>
        <p:spPr>
          <a:xfrm>
            <a:off x="179280" y="43369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умножить число на 25, нужно его умножить на 100/4, то есть умножить на 100 и разделить на 4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Box 2"/>
          <p:cNvSpPr/>
          <p:nvPr/>
        </p:nvSpPr>
        <p:spPr>
          <a:xfrm>
            <a:off x="432000" y="220680"/>
            <a:ext cx="78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множение на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вухзначных чисел , оканчивающихся н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3"/>
          <p:cNvSpPr/>
          <p:nvPr/>
        </p:nvSpPr>
        <p:spPr>
          <a:xfrm>
            <a:off x="307440" y="207180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5 · 25 = 6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Скругленная прямоугольная выноска 4"/>
          <p:cNvSpPr/>
          <p:nvPr/>
        </p:nvSpPr>
        <p:spPr>
          <a:xfrm>
            <a:off x="2000160" y="1357200"/>
            <a:ext cx="135756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·3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"/>
          <p:cNvSpPr/>
          <p:nvPr/>
        </p:nvSpPr>
        <p:spPr>
          <a:xfrm>
            <a:off x="300240" y="3357720"/>
            <a:ext cx="30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5 · 35 = 1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Скругленная прямоугольная выноска 6"/>
          <p:cNvSpPr/>
          <p:nvPr/>
        </p:nvSpPr>
        <p:spPr>
          <a:xfrm>
            <a:off x="1928880" y="2643120"/>
            <a:ext cx="164304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·4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"/>
          <p:cNvSpPr/>
          <p:nvPr/>
        </p:nvSpPr>
        <p:spPr>
          <a:xfrm>
            <a:off x="5214960" y="1714680"/>
            <a:ext cx="3567240" cy="3933360"/>
          </a:xfrm>
          <a:prstGeom prst="rect">
            <a:avLst/>
          </a:prstGeom>
          <a:solidFill>
            <a:srgbClr val="ffff00">
              <a:alpha val="17000"/>
            </a:srgbClr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авило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исло десятков умножа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ледующую за ним в ряду натуральных чисел цифру, а на конце у этих произведений всегда стоит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9"/>
          <p:cNvSpPr/>
          <p:nvPr/>
        </p:nvSpPr>
        <p:spPr>
          <a:xfrm>
            <a:off x="234000" y="4929120"/>
            <a:ext cx="42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5² = 65 · 65 = 4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ая прямоугольная выноска 10"/>
          <p:cNvSpPr/>
          <p:nvPr/>
        </p:nvSpPr>
        <p:spPr>
          <a:xfrm>
            <a:off x="3071880" y="4214880"/>
            <a:ext cx="178596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>
              <a:alpha val="27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 ·7 =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2" descr="101"/>
          <p:cNvPicPr/>
          <p:nvPr/>
        </p:nvPicPr>
        <p:blipFill>
          <a:blip r:embed="rId2"/>
          <a:stretch/>
        </p:blipFill>
        <p:spPr>
          <a:xfrm>
            <a:off x="1857240" y="571500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2" descr="101"/>
          <p:cNvPicPr/>
          <p:nvPr/>
        </p:nvPicPr>
        <p:blipFill>
          <a:blip r:embed="rId3"/>
          <a:stretch/>
        </p:blipFill>
        <p:spPr>
          <a:xfrm>
            <a:off x="3143160" y="578628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101"/>
          <p:cNvPicPr/>
          <p:nvPr/>
        </p:nvPicPr>
        <p:blipFill>
          <a:blip r:embed="rId4"/>
          <a:stretch/>
        </p:blipFill>
        <p:spPr>
          <a:xfrm>
            <a:off x="4329000" y="5786280"/>
            <a:ext cx="1028880" cy="8254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2" descr="101"/>
          <p:cNvPicPr/>
          <p:nvPr/>
        </p:nvPicPr>
        <p:blipFill>
          <a:blip r:embed="rId5"/>
          <a:stretch/>
        </p:blipFill>
        <p:spPr>
          <a:xfrm>
            <a:off x="5686560" y="5867280"/>
            <a:ext cx="1028520" cy="825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2" descr="101"/>
          <p:cNvPicPr/>
          <p:nvPr/>
        </p:nvPicPr>
        <p:blipFill>
          <a:blip r:embed="rId6"/>
          <a:stretch/>
        </p:blipFill>
        <p:spPr>
          <a:xfrm>
            <a:off x="7186680" y="5867280"/>
            <a:ext cx="1028520" cy="825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"/>
          <p:cNvSpPr/>
          <p:nvPr/>
        </p:nvSpPr>
        <p:spPr>
          <a:xfrm>
            <a:off x="2799360" y="1928880"/>
            <a:ext cx="267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5 · 4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5 · 7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5² 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5²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5435640" y="1928880"/>
            <a:ext cx="121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6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TextBox 4"/>
          <p:cNvSpPr/>
          <p:nvPr/>
        </p:nvSpPr>
        <p:spPr>
          <a:xfrm>
            <a:off x="3429000" y="8445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9"/>
          <p:cNvSpPr/>
          <p:nvPr/>
        </p:nvSpPr>
        <p:spPr>
          <a:xfrm>
            <a:off x="0" y="1062000"/>
            <a:ext cx="914400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льцевый счет при запоминании таблицы умн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 пальцевого счета при получении значений табличного умножения является одним из древнейших вычислительных приемов. Следует заметить, что многие учителя не признают правомочности приемов пальцевого счета при изучении табличного сложения и табличного умножения, придерживаясь мнения, что их результаты необходимо учить наизусть. Выучить всю таблицу наизусть могут не все дети. Учителя математики знают, что и среди школьников средних и даже старших классов имеется достаточное количество детей, плохо знающих таблицу умножения.   Для детей младшего школьного возраста с преобладающим кинестезическим восприятием и кинестезической памятью прием пальцевого счета при освоении таблицы умножения может быть рекомендован как вспомогательный. Для того чтобы его эффективно использовать, следует знать результаты табличного умножения в пределах таблицы умножения числ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9"/>
          <p:cNvSpPr/>
          <p:nvPr/>
        </p:nvSpPr>
        <p:spPr>
          <a:xfrm>
            <a:off x="179280" y="1211400"/>
            <a:ext cx="8964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пример, нужно умножить 6 на 7. Зажимаем пальцы на обеих руках в кулак, а затем на каждой руке отгибаем столько пальцев, насколько каждый множитель больше, чем пять.   На двух руках отогнуто три пальца - это число десятков в искомом числе. На одной руке остались прижатыми к ладони три пальца, на другой - четыре пальца эти числа перемножаем 3 * 4 = 12 и прибавляем к числу имеющихся десятков. 30 + 12 = 42. Ответ: 6 * 7 = 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8" descr="http://www.cross-kpk.ru/ims/00108/html/мат2.jpg"/>
          <p:cNvPicPr/>
          <p:nvPr/>
        </p:nvPicPr>
        <p:blipFill>
          <a:blip r:embed="rId3"/>
          <a:stretch/>
        </p:blipFill>
        <p:spPr>
          <a:xfrm>
            <a:off x="1403280" y="4149720"/>
            <a:ext cx="2104920" cy="158436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0"/>
          <p:cNvSpPr/>
          <p:nvPr/>
        </p:nvSpPr>
        <p:spPr>
          <a:xfrm>
            <a:off x="-4412520" y="4214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9"/>
          <p:cNvSpPr/>
          <p:nvPr/>
        </p:nvSpPr>
        <p:spPr>
          <a:xfrm>
            <a:off x="179280" y="1160640"/>
            <a:ext cx="8964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Еще один пример: необходимо умножить 8 на 9.   Отгибаем на одной руке три пальца, а на другой руке - четыре пальца (на столько каждый множитель больше, чем пять).   Отогнуто 7 пальцев - это десятки в искомом числе. Перемножаем число загнутых пальцев обеих рук: 2 * 1 = 2. Прибавляем это количество к числу десятков 70 + 2 = 7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аким образом, 9 * 8 = 7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8" descr="http://www.cross-kpk.ru/ims/00108/html/мат1.jpg"/>
          <p:cNvPicPr/>
          <p:nvPr/>
        </p:nvPicPr>
        <p:blipFill>
          <a:blip r:embed="rId3"/>
          <a:stretch/>
        </p:blipFill>
        <p:spPr>
          <a:xfrm>
            <a:off x="1835280" y="4437000"/>
            <a:ext cx="203832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Box 3"/>
          <p:cNvSpPr/>
          <p:nvPr/>
        </p:nvSpPr>
        <p:spPr>
          <a:xfrm>
            <a:off x="440280" y="1285920"/>
            <a:ext cx="807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 устного у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Нижний колонтитул 4"/>
          <p:cNvSpPr/>
          <p:nvPr/>
        </p:nvSpPr>
        <p:spPr>
          <a:xfrm>
            <a:off x="1928880" y="5572080"/>
            <a:ext cx="6143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: Полетавкина Людмила Дмитри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БУ СОШ с.В-Авзя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2" descr="101"/>
          <p:cNvPicPr/>
          <p:nvPr/>
        </p:nvPicPr>
        <p:blipFill>
          <a:blip r:embed="rId2"/>
          <a:stretch/>
        </p:blipFill>
        <p:spPr>
          <a:xfrm>
            <a:off x="3714840" y="2357280"/>
            <a:ext cx="1643040" cy="131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2787120" y="1928880"/>
            <a:ext cx="21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6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· 8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5430600" y="1928880"/>
            <a:ext cx="69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8"/>
          <p:cNvSpPr/>
          <p:nvPr/>
        </p:nvSpPr>
        <p:spPr>
          <a:xfrm>
            <a:off x="179280" y="596880"/>
            <a:ext cx="896472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немало способов запоминания — в стихах, картинках, играх. Мы предлагаем вам еще один интересный способ 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у умножения на пальц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т метод подходит для заучи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авил умножения на девят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ачастую примеры с умножением на 9 даются детям труднее вс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 всё, что вам понадобится — это десять пальцев рук. Положите ладони на стол. Мысленно дайте каждому пальцу, начиная от мизинца левой руки и заканчивая мизинцем правой, свой номер от 1 до 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9" descr="Таблица умножения на пальцах"/>
          <p:cNvPicPr/>
          <p:nvPr/>
        </p:nvPicPr>
        <p:blipFill>
          <a:blip r:embed="rId3"/>
          <a:stretch/>
        </p:blipFill>
        <p:spPr>
          <a:xfrm>
            <a:off x="1332000" y="4581360"/>
            <a:ext cx="2857320" cy="1503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8"/>
          <p:cNvSpPr/>
          <p:nvPr/>
        </p:nvSpPr>
        <p:spPr>
          <a:xfrm>
            <a:off x="179280" y="867600"/>
            <a:ext cx="8964720" cy="43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нам надо умнож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 на 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тобы вычислить ответ, надо найти палец под номером 3 и поднять его. А затем посмотреть, сколько пальцев осталось лежать справа и слева. Количество пальцев слева от поднятого пальца (в нашем случае их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это десятки, количество пальцев справа (у нас э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это единицы. Итого, получаем — 2 и 7, то есть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Таблица умножения на пальцах"/>
          <p:cNvPicPr/>
          <p:nvPr/>
        </p:nvPicPr>
        <p:blipFill>
          <a:blip r:embed="rId3"/>
          <a:stretch/>
        </p:blipFill>
        <p:spPr>
          <a:xfrm>
            <a:off x="1258920" y="4653000"/>
            <a:ext cx="2857320" cy="1866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"/>
          <p:cNvSpPr/>
          <p:nvPr/>
        </p:nvSpPr>
        <p:spPr>
          <a:xfrm>
            <a:off x="2787480" y="1928880"/>
            <a:ext cx="221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· 9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·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9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5430600" y="1928880"/>
            <a:ext cx="6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5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JTB40nGnWek"/>
          <p:cNvPicPr/>
          <p:nvPr/>
        </p:nvPicPr>
        <p:blipFill>
          <a:blip r:embed="rId3"/>
          <a:stretch/>
        </p:blipFill>
        <p:spPr>
          <a:xfrm>
            <a:off x="1547640" y="189000"/>
            <a:ext cx="6185160" cy="79200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12"/>
          <p:cNvSpPr/>
          <p:nvPr/>
        </p:nvSpPr>
        <p:spPr>
          <a:xfrm>
            <a:off x="1598760" y="25092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этому ,вас уч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9" name=""/>
          <p:cNvGraphicFramePr/>
          <p:nvPr/>
        </p:nvGraphicFramePr>
        <p:xfrm>
          <a:off x="4481640" y="1098720"/>
          <a:ext cx="207720" cy="4663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6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c8141a"/>
                          </a:solidFill>
                          <a:latin typeface="Tahoma"/>
                          <a:ea typeface="Tahoma"/>
                        </a:rPr>
                        <a:t>Умножение по-япон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4481640" y="1098720"/>
          <a:ext cx="207720" cy="4663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6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c8141a"/>
                          </a:solidFill>
                          <a:latin typeface="Tahoma"/>
                          <a:ea typeface="Tahoma"/>
                        </a:rPr>
                        <a:t>Умножение по-япон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1" name="Rectangle 28"/>
          <p:cNvSpPr/>
          <p:nvPr/>
        </p:nvSpPr>
        <p:spPr>
          <a:xfrm>
            <a:off x="250920" y="105012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о кто знает, но японцы настоящие маньяки в умножении чис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плане они больше походят на пришельцев с другой планеты, чем на людей. Умножение "столбиком" слишком скучное и унылое занятие для их необычного типа мышления. Впитав с молоком матери иероглифическое письмо, японцы изощряются в умножении визуальными способами. Поскольку иероглиф у них обозначает сразу какое-то слово или даже фразу, то почему бы не изображать схожим образом число-ответ при умноже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9"/>
          <p:cNvSpPr/>
          <p:nvPr/>
        </p:nvSpPr>
        <p:spPr>
          <a:xfrm>
            <a:off x="826920" y="8128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6644"/>
                </a:solidFill>
                <a:uFillTx/>
                <a:latin typeface="Arial"/>
                <a:ea typeface="Times New Roman"/>
              </a:rPr>
              <a:t>Предположим надо умножить 32 на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8" descr="3458552-dd2c50a4cf7a7222.jpg"/>
          <p:cNvPicPr/>
          <p:nvPr/>
        </p:nvPicPr>
        <p:blipFill>
          <a:blip r:embed="rId3"/>
          <a:stretch/>
        </p:blipFill>
        <p:spPr>
          <a:xfrm>
            <a:off x="1619280" y="1484280"/>
            <a:ext cx="4873680" cy="319716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10"/>
          <p:cNvSpPr/>
          <p:nvPr/>
        </p:nvSpPr>
        <p:spPr>
          <a:xfrm>
            <a:off x="0" y="492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8"/>
          <p:cNvSpPr/>
          <p:nvPr/>
        </p:nvSpPr>
        <p:spPr>
          <a:xfrm>
            <a:off x="179280" y="8233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листе бумаги поочередно рисуем линии, количество которых определяется из данного при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32: 3 красные линии и чуть ниже - 2 синие. Затем 21: перпендикулярно уже нарисованным, рисуем сначала 2 зеленые, затем - 1 малиновую. ВАЖНО: линии первого числа рисуются в направлении из верхнего левого угла в нижний правый, второго числа - из нижнего левого, в верхний правый. Затем считаем количество точек пересечения в каждой из трех областей (на рисунке области обозначены в виде окружностей). Итак, в первой области ( область сотен) - 6 точек, во второй (область десятков) - 7 точек, в третьей (область единиц) - 2 точки. Следовательно ответ: 67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"/>
          <p:cNvSpPr/>
          <p:nvPr/>
        </p:nvSpPr>
        <p:spPr>
          <a:xfrm>
            <a:off x="2786760" y="1928880"/>
            <a:ext cx="267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2 · 3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7 · 5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5430240" y="1928880"/>
            <a:ext cx="9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500"/>
                            </p:stCondLst>
                            <p:childTnLst>
                              <p:par>
                                <p:cTn id="5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Безымянный"/>
          <p:cNvPicPr/>
          <p:nvPr/>
        </p:nvPicPr>
        <p:blipFill>
          <a:blip r:embed="rId3"/>
          <a:stretch/>
        </p:blipFill>
        <p:spPr>
          <a:xfrm>
            <a:off x="2124000" y="1197000"/>
            <a:ext cx="4876920" cy="3744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1"/>
          <p:cNvSpPr/>
          <p:nvPr/>
        </p:nvSpPr>
        <p:spPr>
          <a:xfrm>
            <a:off x="395280" y="3524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шим еще один пример:  13 ·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1744560" y="2001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1909080" y="38545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3904920" y="4667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6643080" y="47386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3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5"/>
          <p:cNvSpPr/>
          <p:nvPr/>
        </p:nvSpPr>
        <p:spPr>
          <a:xfrm>
            <a:off x="5429160" y="1928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8"/>
          <p:cNvSpPr/>
          <p:nvPr/>
        </p:nvSpPr>
        <p:spPr>
          <a:xfrm>
            <a:off x="179280" y="1403640"/>
            <a:ext cx="871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, на этапе стремительного развития информатики и вычислительной техники, современные школьники не хотят утруждать себя счетом в уме. Поэтому мы сочл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ажным показать не только то, что сам процесс выполнения действия может быть интересным, но и что, хорошо усвоив приёмы быстрого счета, можно поспорить и с ЭВМ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675" name="TextBox 2"/>
          <p:cNvSpPr/>
          <p:nvPr/>
        </p:nvSpPr>
        <p:spPr>
          <a:xfrm>
            <a:off x="250920" y="26028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21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-54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Box 3"/>
          <p:cNvSpPr/>
          <p:nvPr/>
        </p:nvSpPr>
        <p:spPr>
          <a:xfrm>
            <a:off x="2044800" y="1928880"/>
            <a:ext cx="166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5429160" y="1928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6"/>
          <p:cNvSpPr/>
          <p:nvPr/>
        </p:nvSpPr>
        <p:spPr>
          <a:xfrm>
            <a:off x="2535120" y="476280"/>
            <a:ext cx="24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рове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2679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8" descr="Безымянный"/>
          <p:cNvPicPr/>
          <p:nvPr/>
        </p:nvPicPr>
        <p:blipFill>
          <a:blip r:embed="rId3"/>
          <a:stretch/>
        </p:blipFill>
        <p:spPr>
          <a:xfrm>
            <a:off x="2124000" y="2060640"/>
            <a:ext cx="4876920" cy="28810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9"/>
          <p:cNvSpPr/>
          <p:nvPr/>
        </p:nvSpPr>
        <p:spPr>
          <a:xfrm>
            <a:off x="709308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0" descr="Безымянный"/>
          <p:cNvPicPr/>
          <p:nvPr/>
        </p:nvPicPr>
        <p:blipFill>
          <a:blip r:embed="rId4"/>
          <a:stretch/>
        </p:blipFill>
        <p:spPr>
          <a:xfrm>
            <a:off x="1547640" y="1484280"/>
            <a:ext cx="6193080" cy="32400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11"/>
          <p:cNvSpPr/>
          <p:nvPr/>
        </p:nvSpPr>
        <p:spPr>
          <a:xfrm>
            <a:off x="2031840" y="1052640"/>
            <a:ext cx="11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2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TextBox 3"/>
          <p:cNvSpPr/>
          <p:nvPr/>
        </p:nvSpPr>
        <p:spPr>
          <a:xfrm>
            <a:off x="2044800" y="1928880"/>
            <a:ext cx="166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5"/>
          <p:cNvSpPr/>
          <p:nvPr/>
        </p:nvSpPr>
        <p:spPr>
          <a:xfrm>
            <a:off x="5429160" y="1928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2557440" y="1341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2679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709308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39402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296712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1" descr="Безымянный"/>
          <p:cNvPicPr/>
          <p:nvPr/>
        </p:nvPicPr>
        <p:blipFill>
          <a:blip r:embed="rId3"/>
          <a:stretch/>
        </p:blipFill>
        <p:spPr>
          <a:xfrm>
            <a:off x="2124000" y="692280"/>
            <a:ext cx="4876920" cy="280800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13"/>
          <p:cNvSpPr/>
          <p:nvPr/>
        </p:nvSpPr>
        <p:spPr>
          <a:xfrm>
            <a:off x="1620720" y="1527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4"/>
          <p:cNvSpPr/>
          <p:nvPr/>
        </p:nvSpPr>
        <p:spPr>
          <a:xfrm>
            <a:off x="1528560" y="2700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5"/>
          <p:cNvSpPr/>
          <p:nvPr/>
        </p:nvSpPr>
        <p:spPr>
          <a:xfrm>
            <a:off x="4120920" y="3492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6"/>
          <p:cNvSpPr/>
          <p:nvPr/>
        </p:nvSpPr>
        <p:spPr>
          <a:xfrm>
            <a:off x="6659640" y="4427640"/>
            <a:ext cx="24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2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TextBox 2"/>
          <p:cNvSpPr/>
          <p:nvPr/>
        </p:nvSpPr>
        <p:spPr>
          <a:xfrm>
            <a:off x="1950480" y="85716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А теперь сами попробу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"/>
          <p:cNvSpPr/>
          <p:nvPr/>
        </p:nvSpPr>
        <p:spPr>
          <a:xfrm>
            <a:off x="2787480" y="1928880"/>
            <a:ext cx="270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4 · 1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3 ·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5"/>
          <p:cNvSpPr/>
          <p:nvPr/>
        </p:nvSpPr>
        <p:spPr>
          <a:xfrm>
            <a:off x="5430240" y="1928880"/>
            <a:ext cx="9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500"/>
                            </p:stCondLst>
                            <p:childTnLst>
                              <p:par>
                                <p:cTn id="5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2774520" y="1928880"/>
            <a:ext cx="21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· 9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·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9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4"/>
          <p:cNvSpPr/>
          <p:nvPr/>
        </p:nvSpPr>
        <p:spPr>
          <a:xfrm>
            <a:off x="3429360" y="8445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рове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5"/>
          <p:cNvSpPr/>
          <p:nvPr/>
        </p:nvSpPr>
        <p:spPr>
          <a:xfrm>
            <a:off x="5430600" y="1928880"/>
            <a:ext cx="6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2" descr="101"/>
          <p:cNvPicPr/>
          <p:nvPr/>
        </p:nvPicPr>
        <p:blipFill>
          <a:blip r:embed="rId1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9"/>
          <p:cNvSpPr/>
          <p:nvPr/>
        </p:nvSpPr>
        <p:spPr>
          <a:xfrm>
            <a:off x="3995640" y="1103400"/>
            <a:ext cx="273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250920" y="1634760"/>
            <a:ext cx="856908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знакомстве с научной литературой обнаружили более быстрые и надежные способы умножения. Поэтому изучение действия умножения – тема перспективна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, что с первого раза у многих не получится быстро, с ходу выполнять эти или другие подсчеты. Пусть сначала не получится использовать прием, показанный в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нные мною способы умножения не такие сложные и могут повседневно использоваться учащимися. Они познавательны и интер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знаю, что существуют еще много интересных способов вычислений.      И я соберу целую коллекцию таких  примеров рационального вы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WordArt 11"/>
          <p:cNvSpPr txBox="1"/>
          <p:nvPr/>
        </p:nvSpPr>
        <p:spPr>
          <a:xfrm>
            <a:off x="241128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лючен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4000">
    <p:wipe dir="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5"/>
          <p:cNvSpPr/>
          <p:nvPr/>
        </p:nvSpPr>
        <p:spPr>
          <a:xfrm>
            <a:off x="250920" y="1302120"/>
            <a:ext cx="867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являются алгоритмы счет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следования выступает процесс вычислени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нестандартные приемы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0" y="1827360"/>
            <a:ext cx="8832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смотреть некоторые приемы устного умножения и на конкретных примерах показать преимущества их использовани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казать эти приемы другим учащим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именять эти зна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742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5"/>
          <p:cNvSpPr/>
          <p:nvPr/>
        </p:nvSpPr>
        <p:spPr>
          <a:xfrm>
            <a:off x="0" y="297288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редние века совсем немногие владели искусством умножения. Редкий аристократ мог похвастаться знанием таблицы умножения, даже если он окончил европейский университ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WordArt 7"/>
          <p:cNvSpPr txBox="1"/>
          <p:nvPr/>
        </p:nvSpPr>
        <p:spPr>
          <a:xfrm>
            <a:off x="785880" y="550800"/>
            <a:ext cx="43624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тез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1" name="WordArt 8"/>
          <p:cNvSpPr txBox="1"/>
          <p:nvPr/>
        </p:nvSpPr>
        <p:spPr>
          <a:xfrm>
            <a:off x="-6156720" y="5678280"/>
            <a:ext cx="70567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тез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179280" y="43131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ину говорили: « Умножение – мое мученье». Значит, раньше было сложно и трудно умножать. Прост ли наш современный способ умножения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тысячелетия развития математики было придумано множество способов умножения чис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"/>
          <p:cNvSpPr/>
          <p:nvPr/>
        </p:nvSpPr>
        <p:spPr>
          <a:xfrm>
            <a:off x="250920" y="389520"/>
            <a:ext cx="8670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боте 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ьзовалась следующими метод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иско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од с использованием научной и учебной литературы, а также поиск необходимой информации в сети Интерн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од выполнения вычислений с применением нестандартных алгоритмов с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енных в ходе исследования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4"/>
          <p:cNvSpPr/>
          <p:nvPr/>
        </p:nvSpPr>
        <p:spPr>
          <a:xfrm>
            <a:off x="250920" y="1120680"/>
            <a:ext cx="867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нной темы заключается в том, что использование нестандартных приемов в формировании вычислительных навыков усиливает интерес учащихся к математике и содействует развитию математических способносте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179280" y="35211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отелось узнать  способы умножения, сравнить их с нашим сегодняшним действием умн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101"/>
          <p:cNvPicPr/>
          <p:nvPr/>
        </p:nvPicPr>
        <p:blipFill>
          <a:blip r:embed="rId2"/>
          <a:stretch/>
        </p:blipFill>
        <p:spPr>
          <a:xfrm>
            <a:off x="4357800" y="5000760"/>
            <a:ext cx="1857240" cy="14904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4"/>
          <p:cNvSpPr/>
          <p:nvPr/>
        </p:nvSpPr>
        <p:spPr>
          <a:xfrm>
            <a:off x="250920" y="2126880"/>
            <a:ext cx="86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5"/>
          <p:cNvSpPr txBox="1"/>
          <p:nvPr/>
        </p:nvSpPr>
        <p:spPr>
          <a:xfrm>
            <a:off x="900000" y="692280"/>
            <a:ext cx="525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зультаты анкетирования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468360" y="3107880"/>
            <a:ext cx="9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179280" y="352116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выяснить, знают ли современные школьники другие способы выполнения арифметических действий, кроме умножения столбиком и деления «уголком» и хотели бы узнать новые способы, был проведен устный опрос. Было опрошено 20 учащиеся 5-7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1-06T14:26:33Z</dcterms:modified>
  <cp:revision>51</cp:revision>
  <dc:subject/>
  <dc:title>pr43e</dc:title>
</cp:coreProperties>
</file>