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23F-3646-4F26-8790-C1A48F1D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606-88DF-4501-9C69-7FB40A3F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ED4-AEAF-47CD-BF4B-DA88B51B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E45-F6B6-46BA-AF1E-7F304D5D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DA8-7B18-4088-A8CA-CD47F53D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915-8BCE-4C5F-8BD1-B9D87F2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8E0-D9E2-4A88-95B7-98D4CAAE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B68-93DF-4FEF-8D6C-0ECDD87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D85-DF6D-4AE8-9C79-1B67EC6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210-1081-4506-B561-F7DB26EA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E0E-0BB3-476B-B45D-965372F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0ED-18EB-419D-8400-A80CC415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CB1-3E30-4FD1-AA8E-6FBE49BDA1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0FD-ED22-48D1-9620-FEFE1393F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редметно-развивающая сред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руппы «Радуга»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ет. сад №1687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. Моск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 приеме  у  док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6" descr="DSC_0617.JPG"/>
          <p:cNvPicPr/>
          <p:nvPr/>
        </p:nvPicPr>
        <p:blipFill>
          <a:blip r:embed="rId1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DSC_0624.JPG"/>
          <p:cNvPicPr/>
          <p:nvPr/>
        </p:nvPicPr>
        <p:blipFill>
          <a:blip r:embed="rId2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ш 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6" descr="100_039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7" descr="DSC_0647.JPG"/>
          <p:cNvPicPr/>
          <p:nvPr/>
        </p:nvPicPr>
        <p:blipFill>
          <a:blip r:embed="rId2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6" descr="DSC_0638.JPG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ок  ИЗ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100_038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DSC_0641.JPG"/>
          <p:cNvPicPr/>
          <p:nvPr/>
        </p:nvPicPr>
        <p:blipFill>
          <a:blip r:embed="rId1"/>
          <a:stretch/>
        </p:blipFill>
        <p:spPr>
          <a:xfrm>
            <a:off x="2627280" y="260280"/>
            <a:ext cx="4014720" cy="604368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ль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00_04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ожет попробовать по-другому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DSC_0650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ужно  подума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DSC_0655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ремя  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DSC_0661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юбовь  взаимна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32.jpg"/>
          <p:cNvPicPr/>
          <p:nvPr/>
        </p:nvPicPr>
        <p:blipFill>
          <a:blip r:embed="rId1"/>
          <a:stretch/>
        </p:blipFill>
        <p:spPr>
          <a:xfrm>
            <a:off x="1619280" y="1495440"/>
            <a:ext cx="5977080" cy="46782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прогул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41.jpg"/>
          <p:cNvPicPr/>
          <p:nvPr/>
        </p:nvPicPr>
        <p:blipFill>
          <a:blip r:embed="rId1"/>
          <a:stretch/>
        </p:blipFill>
        <p:spPr>
          <a:xfrm>
            <a:off x="1187280" y="155736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овая  з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100_038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100_0336.JPG"/>
          <p:cNvPicPr/>
          <p:nvPr/>
        </p:nvPicPr>
        <p:blipFill>
          <a:blip r:embed="rId1"/>
          <a:stretch/>
        </p:blipFill>
        <p:spPr>
          <a:xfrm>
            <a:off x="900000" y="692280"/>
            <a:ext cx="71884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ятного  аппетит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DSC_0580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ок  констру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00_038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DSC_0600.JPG"/>
          <p:cNvPicPr/>
          <p:nvPr/>
        </p:nvPicPr>
        <p:blipFill>
          <a:blip r:embed="rId1"/>
          <a:stretch/>
        </p:blipFill>
        <p:spPr>
          <a:xfrm>
            <a:off x="611280" y="836640"/>
            <a:ext cx="7913520" cy="5256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ш 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00_039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то  следующий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DSC_0613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06:57:35Z</dcterms:created>
  <dc:creator>Ольга</dc:creator>
  <dc:description/>
  <dc:language>en-US</dc:language>
  <cp:lastModifiedBy>Ольга</cp:lastModifiedBy>
  <dcterms:modified xsi:type="dcterms:W3CDTF">2011-10-23T08:04:53Z</dcterms:modified>
  <cp:revision>9</cp:revision>
  <dc:subject/>
  <dc:title>Предметно-развивающая среда группы «Радуга» дет. сад №1687 г. Москва</dc:title>
</cp:coreProperties>
</file>