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EAE-474C-4FF0-8F6C-EFE608F7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C35-B445-485D-93A8-DD352211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EB8-D179-4C9F-BE50-D1ECFD85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746-4DAF-4D24-9C6B-050871D3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FA6-C7E2-4DC5-8B7C-66B740BE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3A2-12F7-449F-895D-79C14A7F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4BA-DAAA-4935-A1FF-FF94439A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C65-7E0A-466E-AEC2-9CBCBAA5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D5C-6749-446A-9A7A-CAD2BB45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110-0445-4BB0-A5DA-3BB3FFDD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398-7493-47FC-BF1F-9A45539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4BA-23C4-41F5-888E-559771A1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09BC-ACFF-4E5F-91B1-E897BD12C75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F739-8319-452D-8895-7396E2941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Предметно-развивающая среда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группы «Радуга»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дет. сад №1687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г. Моск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  приеме  у  док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6" descr="DSC_0617.JPG"/>
          <p:cNvPicPr/>
          <p:nvPr/>
        </p:nvPicPr>
        <p:blipFill>
          <a:blip r:embed="rId1"/>
          <a:stretch/>
        </p:blipFill>
        <p:spPr>
          <a:xfrm>
            <a:off x="973080" y="1600200"/>
            <a:ext cx="300672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DSC_0624.JPG"/>
          <p:cNvPicPr/>
          <p:nvPr/>
        </p:nvPicPr>
        <p:blipFill>
          <a:blip r:embed="rId2"/>
          <a:stretch/>
        </p:blipFill>
        <p:spPr>
          <a:xfrm>
            <a:off x="5164200" y="1600200"/>
            <a:ext cx="30067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ш 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6" descr="100_0391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7" descr="DSC_0647.JPG"/>
          <p:cNvPicPr/>
          <p:nvPr/>
        </p:nvPicPr>
        <p:blipFill>
          <a:blip r:embed="rId2"/>
          <a:stretch/>
        </p:blipFill>
        <p:spPr>
          <a:xfrm>
            <a:off x="5164200" y="1600200"/>
            <a:ext cx="300672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6" descr="DSC_0638.JPG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голок  ИЗ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6" descr="100_038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DSC_0641.JPG"/>
          <p:cNvPicPr/>
          <p:nvPr/>
        </p:nvPicPr>
        <p:blipFill>
          <a:blip r:embed="rId1"/>
          <a:stretch/>
        </p:blipFill>
        <p:spPr>
          <a:xfrm>
            <a:off x="2627280" y="260280"/>
            <a:ext cx="4014720" cy="604368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аль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00_04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ожет попробовать по-другому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DSC_0650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ужно  подумат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DSC_0655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ремя  ска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DSC_0661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юбовь  взаимна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32.jpg"/>
          <p:cNvPicPr/>
          <p:nvPr/>
        </p:nvPicPr>
        <p:blipFill>
          <a:blip r:embed="rId1"/>
          <a:stretch/>
        </p:blipFill>
        <p:spPr>
          <a:xfrm>
            <a:off x="1619280" y="1495440"/>
            <a:ext cx="5977080" cy="46782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 прогул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4" descr="41.jpg"/>
          <p:cNvPicPr/>
          <p:nvPr/>
        </p:nvPicPr>
        <p:blipFill>
          <a:blip r:embed="rId1"/>
          <a:stretch/>
        </p:blipFill>
        <p:spPr>
          <a:xfrm>
            <a:off x="1187280" y="155736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гровая  з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100_038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100_0336.JPG"/>
          <p:cNvPicPr/>
          <p:nvPr/>
        </p:nvPicPr>
        <p:blipFill>
          <a:blip r:embed="rId1"/>
          <a:stretch/>
        </p:blipFill>
        <p:spPr>
          <a:xfrm>
            <a:off x="900000" y="692280"/>
            <a:ext cx="71884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иятного  аппетит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DSC_0580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голок  констру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100_038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DSC_0600.JPG"/>
          <p:cNvPicPr/>
          <p:nvPr/>
        </p:nvPicPr>
        <p:blipFill>
          <a:blip r:embed="rId1"/>
          <a:stretch/>
        </p:blipFill>
        <p:spPr>
          <a:xfrm>
            <a:off x="611280" y="836640"/>
            <a:ext cx="7913520" cy="5256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ш  мага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100_039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то  следующий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DSC_0613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06:57:35Z</dcterms:created>
  <dc:creator>Ольга</dc:creator>
  <dc:description/>
  <dc:language>en-US</dc:language>
  <cp:lastModifiedBy>Ольга</cp:lastModifiedBy>
  <dcterms:modified xsi:type="dcterms:W3CDTF">2011-10-23T08:04:53Z</dcterms:modified>
  <cp:revision>9</cp:revision>
  <dc:subject/>
  <dc:title>Предметно-развивающая среда группы «Радуга» дет. сад №1687 г. Москва</dc:title>
</cp:coreProperties>
</file>