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3.jpeg" ContentType="image/jpeg"/>
  <Override PartName="/ppt/media/image3.wmf" ContentType="image/x-wmf"/>
  <Override PartName="/ppt/media/image1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5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6.gif" ContentType="image/gif"/>
  <Override PartName="/ppt/media/image2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A830-6DDB-46BD-9D06-C4B942C4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6B02-3FAB-45AF-8283-1A522D5E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9CDF-AA2B-4263-8A06-FF405D5F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B85C-8F3E-4A56-BE04-0E37687E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C19C-C18D-4EC9-8227-4EB4533C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4C59-4A98-4CC2-9BBD-432A306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F630-A638-4861-9553-13BB6901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D612-F06C-47EC-AE3A-AFE26A91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9F6C-89D0-4F8D-9AC4-6853479E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5E3C-0780-460E-A3A8-FFF37B9B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7E95-947E-471D-BC1F-08EE4141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DAC4-91A1-4ECB-9AC5-07E44C78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2900-F068-497E-87B1-BA62CB6F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0ED2-CBB0-4016-897E-BB2D13C8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E25B-06BB-40D3-B27E-BE01B4CE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15C7-80E1-4C60-A8CD-AD71DD63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6137-E66B-45B3-8E81-AA963E70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8C8E-8362-4422-B2BC-A4645DEB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3C81-68B4-4275-8570-F8F75261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083F-C5F7-41AC-8974-85C4AA92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9104-C6C5-4181-8B5C-BC79603C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68C5-9AC8-49BD-9A5B-E50DC332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DD95-1F81-47B0-92A0-4C708E9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9D3C-6D5D-4216-B217-98B32531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AF81-C1AB-4BAC-A03D-618716B972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4560" y="1219320"/>
              <a:ext cx="864360" cy="4548600"/>
              <a:chOff x="111456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456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9428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0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89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8200"/>
              <a:ext cx="7314840" cy="4098960"/>
              <a:chOff x="914760" y="1438200"/>
              <a:chExt cx="731484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8200"/>
                <a:ext cx="7296840" cy="820440"/>
                <a:chOff x="914760" y="1438200"/>
                <a:chExt cx="72968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82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9640" y="17118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8600" y="19836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64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1440"/>
                <a:ext cx="7297200" cy="820440"/>
                <a:chOff x="932400" y="252144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144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7280" y="27961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4080" y="30679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440" y="334188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31680"/>
                <a:ext cx="7296840" cy="820440"/>
                <a:chOff x="914760" y="3631680"/>
                <a:chExt cx="72968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316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9640" y="390564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8600" y="41770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212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3120"/>
                <a:ext cx="7297200" cy="824040"/>
                <a:chOff x="932400" y="4713120"/>
                <a:chExt cx="7297200" cy="8240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31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7280" y="49867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4080" y="52621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440" y="553716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83840" y="1243080"/>
              <a:ext cx="864360" cy="4547520"/>
              <a:chOff x="228384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8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63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98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8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9320" y="1243080"/>
              <a:ext cx="864360" cy="4547520"/>
              <a:chOff x="346932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9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76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53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336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4800" y="1243080"/>
              <a:ext cx="864360" cy="4547520"/>
              <a:chOff x="46548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4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330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82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91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91320" y="1243080"/>
              <a:ext cx="862560" cy="4547520"/>
              <a:chOff x="5791320" y="1243080"/>
              <a:chExt cx="86256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91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81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44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50520" y="1243080"/>
              <a:ext cx="864360" cy="4547520"/>
              <a:chOff x="695052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50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88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40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4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2D34-B3A6-4608-B110-02EBA66A5E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Родительское собр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«ПООЩРЕНИЕ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ИЛИ  НАКАЗАНИЕ?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етодист, 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ГОУ РА «Центр психолого-медик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оциального сопровожд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.М. Медвед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Documents and Settings\Вадим\Мои документы\Дети и родители 11.jpeg"/>
          <p:cNvPicPr/>
          <p:nvPr/>
        </p:nvPicPr>
        <p:blipFill>
          <a:blip r:embed="rId1"/>
          <a:stretch/>
        </p:blipFill>
        <p:spPr>
          <a:xfrm>
            <a:off x="5105520" y="3429000"/>
            <a:ext cx="2666880" cy="2332080"/>
          </a:xfrm>
          <a:prstGeom prst="rect">
            <a:avLst/>
          </a:prstGeom>
          <a:ln w="9360">
            <a:solidFill>
              <a:srgbClr val="0000ff">
                <a:alpha val="72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 и наказ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овокупность средств регулирования отношений, составляющих содержание педагогической ситуации, в которой эти отношения должны быть заметно и быстро измен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ы использования наказани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ррекционного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действенно, когда оно понятно ребёнку, и он считает его справедливым. После наказания о нём не вспоминают, а с ребенком сохраняются нормальные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провинился, его можно наказать только один раз. Даже если поступков совершено сразу несколько, наказание может быть суровым, но только одно, за всё сра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я наказание, нельзя оскорблять ребенка. Наказываем не по личной неприязни, а по педагогической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казывайте, если нет полной уверенности в справедливости и полезности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превращения наказания в орудие мести. Воспитывайте убеждение, что ребенка наказывают для его же поль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не должно вредить здоровью ребенка – ни физическому, ни моральному. Если ребенок болен – воздержитесь от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бы то не было наказание, ребенок не должен его бояться. Он должен знать, что в определенных случаях оно неотвратимо. Не наказания он должен бояться не гнева, а вашего огор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.Ю. Гордин, Б. Т. Лихачев и В.Л. Ле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лан Фро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оей работе сформулировал некоторые опасности, таящиеся при наказ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Шлёпая ребенка, вы учите его бояться в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ведение ребенка будет строиться на непредсказуемой основе, а не на понимании и принятии законов мор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являя при детях худшие черты своего характера, вы показываете им плохой 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лесные наказания требуют от родителей меньше всего ума и способностей, чем любые другие воспитатель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Deti smotryt-Deti delaut-lovi.tv.wmv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5852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68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о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предложил ряд правил – за что не следует хвалить ребёнка. Вот некоторые из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ледует хвал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за то, что дано от природ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то, что достигнуто не своими усилиями, своей работ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двух раз за одно и то ж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жал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за желания  понрав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140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величив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меньш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ощрение является более правильным способом воздействия, так как оно однозначно указывает на то, какое поведение является желательным, тогда как наказание лишь определяет, какое поведение является нежелате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684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эффективным, о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о содерж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то: какое поведение является правиль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этой целью, оно долж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немедленно после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после каждого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ся вместе с положительным поощрением жел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правильно хвалить ребен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, хвалить ребенка -  необходимо!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 не знаете, за что похвалить ребенка, придумайте эт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, что здесь должно быть передано ребенку, 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ренняя ве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го возмож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сихиатр и психотерапевт В. Ле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– колыбель духовного рождения человека.  Многообразие отношений между ее членами, обнаженность и непосредственность чувств, которые они питают друг к другу, обилие различных форм проявления этих чувств, живая реакция на малейшее детали поведения ребенка – все это создает благоприятную среду для эмоционального и нравственного формирования личности.  Скудность, однообразие, монотонность эмоционального опыта в раннем детстве могут определить характер человека на всю его жи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H:\ШШККООЛЛАА\ШШШКККОООЛЛЛААА\анимации Гаряева\смайлики\cache_343148613.gif"/>
          <p:cNvPicPr/>
          <p:nvPr/>
        </p:nvPicPr>
        <p:blipFill>
          <a:blip r:embed="rId1"/>
          <a:stretch/>
        </p:blipFill>
        <p:spPr>
          <a:xfrm>
            <a:off x="7467480" y="228600"/>
            <a:ext cx="1333800" cy="1247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Documents and Settings\Вадим\Мои документы\Учащиеся.jpeg"/>
          <p:cNvPicPr/>
          <p:nvPr/>
        </p:nvPicPr>
        <p:blipFill>
          <a:blip r:embed="rId2"/>
          <a:stretch/>
        </p:blipFill>
        <p:spPr>
          <a:xfrm>
            <a:off x="3581280" y="5116680"/>
            <a:ext cx="1752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C:\Documents and Settings\Вадим\Мои документы\Дети и родители.jpeg"/>
          <p:cNvPicPr/>
          <p:nvPr/>
        </p:nvPicPr>
        <p:blipFill>
          <a:blip r:embed="rId1"/>
          <a:stretch/>
        </p:blipFill>
        <p:spPr>
          <a:xfrm>
            <a:off x="533520" y="4724280"/>
            <a:ext cx="2365200" cy="1543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:\Documents and Settings\Вадим\Мои документы\Дети и родители 6.jpeg"/>
          <p:cNvPicPr/>
          <p:nvPr/>
        </p:nvPicPr>
        <p:blipFill>
          <a:blip r:embed="rId2"/>
          <a:stretch/>
        </p:blipFill>
        <p:spPr>
          <a:xfrm>
            <a:off x="68580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Вадим\Мои документы\Дети и родители 4.jpeg"/>
          <p:cNvPicPr/>
          <p:nvPr/>
        </p:nvPicPr>
        <p:blipFill>
          <a:blip r:embed="rId3"/>
          <a:stretch/>
        </p:blipFill>
        <p:spPr>
          <a:xfrm>
            <a:off x="3048120" y="3886200"/>
            <a:ext cx="3703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609480" y="11430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C:\Documents and Settings\Вадим\Мои документы\Девочка.jpeg"/>
          <p:cNvPicPr/>
          <p:nvPr/>
        </p:nvPicPr>
        <p:blipFill>
          <a:blip r:embed="rId1"/>
          <a:stretch/>
        </p:blipFill>
        <p:spPr>
          <a:xfrm>
            <a:off x="2666880" y="4038480"/>
            <a:ext cx="385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редно, если хвалят ребенка за то, что ему дается легко, за то, что ему дано самой природой. Похвала не за труд, не за усилие, а всего лишь за наличие способности не дает ничего, что действительно было бы необходимо ребенку для его развития. А навредить она может, особенно при ее повт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двойне вредно хвалить того, кому что-то дается легко, ставя его в пример тем, кому это же дается трудно, вопреки усилиям. Ругая одного и хваля другого, навязывая его как пример первому, их противопоставляют друг другу. Сам факт несправедливой оценки усилия, вернее - замалчивание, игнорирование его, тяжело травмирует психику ребенка (и не только ребенка!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нижает побуждение к д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редно, когда хвалят слишком часто, безо всякой необходимости и неискренне. Это и обесценивает похвалу, и приучает к дешевому успеху, и способствует бездумному отношению к тому, что исходит от старших. Наблюдая за детьми, за их старшими, вы сами сможете увидеть и другие вредности необдуманной похва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ажно хвалить конкретный поступок ребенка, то, что он сделал, чего добился, а не его личность в целом. Иначе можно сформировать у него слишком большое самомнение и необъективно завышенную самооценку, ожидания. Если в дальнейшей жизни ребенок столкнется с тем, что окружающие люди ценят его не так высоко, как он сам о себе мнит, то это может привести к нев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а наказания детей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H:\ШШККООЛЛАА\ШШШКККОООЛЛЛААА\анимации Гаряева\05.gif"/>
          <p:cNvPicPr/>
          <p:nvPr/>
        </p:nvPicPr>
        <p:blipFill>
          <a:blip r:embed="rId1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Documents and Settings\Вадим\Мои документы\Ученик6.jpeg"/>
          <p:cNvPicPr/>
          <p:nvPr/>
        </p:nvPicPr>
        <p:blipFill>
          <a:blip r:embed="rId1"/>
          <a:stretch/>
        </p:blipFill>
        <p:spPr>
          <a:xfrm>
            <a:off x="7391520" y="5257800"/>
            <a:ext cx="1209600" cy="138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:\ШШККООЛЛАА\ШШШКККОООЛЛЛААА\анимации Гаряева\смайлики\6417892.gif"/>
          <p:cNvPicPr/>
          <p:nvPr/>
        </p:nvPicPr>
        <p:blipFill>
          <a:blip r:embed="rId2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Documents and Settings\Вадим\Мои документы\Ученик3.jpeg"/>
          <p:cNvPicPr/>
          <p:nvPr/>
        </p:nvPicPr>
        <p:blipFill>
          <a:blip r:embed="rId3"/>
          <a:stretch/>
        </p:blipFill>
        <p:spPr>
          <a:xfrm>
            <a:off x="3048120" y="525780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68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казание... часто оказывается весьма эффективным средством прекращения недопустим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полной неэффективности других испробованных альтернатив, наказание... может оказаться лучшим ре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каз от наказаний... снижает эффективность весьма полезных приемов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большой дефицит, который испытывают наши дети, - это дефицит ласки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– первые, кто пострадал, глубоко и трагически от дефицита времени у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я, при всех свойственных ей заботах, хлопотах, огорчениях и даже несчастьях должна приносить человеку рад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зание и поощрени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основные методы воспитания, преследуют конечную цел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лаго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:\Documents and Settings\Вадим\Мои документы\Дети и родители 9.jpeg"/>
          <p:cNvPicPr/>
          <p:nvPr/>
        </p:nvPicPr>
        <p:blipFill>
          <a:blip r:embed="rId1"/>
          <a:stretch/>
        </p:blipFill>
        <p:spPr>
          <a:xfrm>
            <a:off x="4038480" y="5181480"/>
            <a:ext cx="2286000" cy="1490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5" name="Picture 5" descr="C:\Documents and Settings\Вадим\Мои документы\Дети и родители 10.jpeg"/>
          <p:cNvPicPr/>
          <p:nvPr/>
        </p:nvPicPr>
        <p:blipFill>
          <a:blip r:embed="rId2"/>
          <a:stretch/>
        </p:blipFill>
        <p:spPr>
          <a:xfrm>
            <a:off x="7315200" y="5183280"/>
            <a:ext cx="1371600" cy="14889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6" name="Picture 6" descr="C:\Documents and Settings\Вадим\Мои документы\Дети и родители 5.jpeg"/>
          <p:cNvPicPr/>
          <p:nvPr/>
        </p:nvPicPr>
        <p:blipFill>
          <a:blip r:embed="rId3"/>
          <a:stretch/>
        </p:blipFill>
        <p:spPr>
          <a:xfrm>
            <a:off x="1600200" y="5181480"/>
            <a:ext cx="1371600" cy="1517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C:\Documents and Settings\Вадим\Мои документы\Дети и родители2.jpeg"/>
          <p:cNvPicPr/>
          <p:nvPr/>
        </p:nvPicPr>
        <p:blipFill>
          <a:blip r:embed="rId1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едупред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зможные отрицательные поступ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ажно подчеркнуть, что нак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туп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 н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H:\ШШККООЛЛАА\ШШШКККОООЛЛЛААА\анимации Гаряева\1056.gif"/>
          <p:cNvPicPr/>
          <p:nvPr/>
        </p:nvPicPr>
        <p:blipFill>
          <a:blip r:embed="rId1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Documents and Settings\Вадим\Мои документы\Ребенок.jpeg"/>
          <p:cNvPicPr/>
          <p:nvPr/>
        </p:nvPicPr>
        <p:blipFill>
          <a:blip r:embed="rId2"/>
          <a:stretch/>
        </p:blipFill>
        <p:spPr>
          <a:xfrm>
            <a:off x="7620120" y="152280"/>
            <a:ext cx="127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01_05_00"/>
          <p:cNvPicPr/>
          <p:nvPr/>
        </p:nvPicPr>
        <p:blipFill>
          <a:blip r:embed="rId1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его приемлем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C:\Documents and Settings\Вадим\Мои документы\Родители1.jpeg"/>
          <p:cNvPicPr/>
          <p:nvPr/>
        </p:nvPicPr>
        <p:blipFill>
          <a:blip r:embed="rId1"/>
          <a:stretch/>
        </p:blipFill>
        <p:spPr>
          <a:xfrm>
            <a:off x="3124080" y="44956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(ИЗ АНКЕТ РОДИТЕЛЕЙ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Физическое наказание детей следует применя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сключительных случаях,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Вадим\Мои документы\Дети и родители12.jpeg"/>
          <p:cNvPicPr/>
          <p:nvPr/>
        </p:nvPicPr>
        <p:blipFill>
          <a:blip r:embed="rId1"/>
          <a:stretch/>
        </p:blipFill>
        <p:spPr>
          <a:xfrm>
            <a:off x="6934320" y="22860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</p:spTree>
  </p:cSld>
  <p:transition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Хаим Гинотт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не устраняет недопустимое поведение, просто ребенок становится более осторожным в своем "преступлении". Он лучше заметает следы, его становится труднее застигнуть на месте. Когда ребенка наказывают, он решает быть более осторожным, а не более честным и ответственным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Ирвин А. Хайман пиш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Телесные наказания учат детей тому, что проблемы можно решить с помощью насилия. Исследования показывают, что те, кто причиняет боль, учат этому тех, кому боль причиняют, и тех, кто становится свидетелями этого процесса. Телесные наказания не учат детей внутреннему контролю, который является неотъемлемым элементом демократ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Рудольф Драйкурс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Сегодня родители и учителя больше не могут заставить детей слушаться. Реальность требует, чтобы мы применяли новые методы влияния и мотивации детей к взаимодействию. Наказания — порка, шлепки, унижение, лишение чего-либо — это устаревший и неэффективный способ закрепления дисциплины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Альберт Бандура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может устранить недопустимое поведение, но оно не является стимулом к поведению желательному и не устраняет у ребенка желания вести себя неправильн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по своей природе чрезвычайно жадны до впечатлений.  Дома должно быть интересно, семья должна давать добрую пищу воображению и чувствам.  Дети как губка, впитывают все, что происходит вокруг них. Они не умеют хитрить и приспосаблива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ловесные способы поощрения и поддержки ребенка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о! Правильно! Хорошо! Необыкновенно! Прекрасно! Совершенно!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о! Превосходно! Чуд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делаешь это очень хорошо. Ты делаешь это красиво! Ты делаешь это сегодня значительно лучше. Хорошая работа! Еще немного времени, и у тебя это получиться. С каждым днем у тебя получается лучше. Я знал (а), что ты можешь сделать это. Твоя работа принесла мне много ра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лучше всего! Еще лучше! Это лучше, чем всегда. Так держать! Ты это сможешь! Ты смелее, умнее, сильне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дравляю! Мои поздравления! Я очень горжусь тобой. Это уже успех! Это твоя победа. Сердечно рад (а) за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стоящий мастер. Я верю в тебя, у тебя будет всегда получаться не хуже, чем сейчас. Хорошо запомнил! Ты сейчас на правильном пу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ец! Умница! Ты быстро учишься. Это то, что надо! Ты пра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тебе спасибо! Ты хороший (ая)! Ты – чу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ельзя наказыва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192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чанием. Выдержать бойкот ребенку дошкольного возраста чрезвычайно трудно, для этого ему может потребоваться напряжение всех его психических 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ворить: «Я тебя больше не люблю» и т.п. Лишение любви – это самое сильное наказание, конечно, при условии, если эта любовь к ребенку со стороны взрослых действительно имеется. Это наказание опасно применять к детям дошкольного возраста, поскольку оно подрывает ту основу основ, от которой зависит жизнь маленько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и, поскольку за внешней эффективностью, кроме страха, не скрывается ничего. И утешать себя тем, что я бью ребенка для его же блага, бесполезно – вреда здесь больше: вы не только научили бояться наказания, но и преподали ребенку урок жесто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чать на ребенка, поскольку крик воспринимается ребенком дошкольного возраста как словесное бит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о, не соблюдая правила о том, что поощрений при воспитании ребенка должно быть больше, чем наказаний (акцентирование хорошего в поведении ребенка путем поощрений тем самым закрепляет ег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о по времени и спустя такое количество времени, которое несоразмерно возрасту ребенка (чем меньше ребенок, тем ближе наказание должно быть к проступ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екать и поминать былые грехи ребенка, тем самым закрепляя плохое поведение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ужно поощря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бы, оценивая соотношение поощрений и наказаний, мы были уверены в том, что поощрения в количественном отношении больше. Это необходимо для положительного фона 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инимальные вознаграждения, поскольку они оставляют место для тех ощущений радости, которые сопровождают успех и достижения ребенка. Выбирая подарок для поощрения ребенка, необходимо понимать, что подарок – это лишь символ успеха или 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школьного возраста чувствительны к словам значимых для них взрослых (особенно девочки), поэтому поощрением для них могут служить удачно подобранные фразы и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ть особо почетные поручения, когда ребенку доверяется, поручается нечто большее, чем обы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ять не только за результат, но и за попытку ребенком достигнуть результата, за старание сделать хорошо, помочь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е дорогое для нас -это наши дети!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наша задача быть терпеливее с ними ,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ывать  с минимальными психологическими травмами.</a:t>
            </a:r>
            <a:br>
              <a:rPr sz="2000"/>
            </a:br>
            <a:r>
              <a:rPr b="1" lang="ru-RU" sz="2400" spc="-1" strike="noStrike">
                <a:solidFill>
                  <a:srgbClr val="ff5d0d"/>
                </a:solidFill>
                <a:latin typeface="Arial"/>
              </a:rPr>
              <a:t> 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Documents and Settings\Вадим\Мои документы\Ученик7.jpeg"/>
          <p:cNvPicPr/>
          <p:nvPr/>
        </p:nvPicPr>
        <p:blipFill>
          <a:blip r:embed="rId1"/>
          <a:stretch/>
        </p:blipFill>
        <p:spPr>
          <a:xfrm>
            <a:off x="3048120" y="2971800"/>
            <a:ext cx="2819160" cy="3166920"/>
          </a:xfrm>
          <a:prstGeom prst="rect">
            <a:avLst/>
          </a:prstGeom>
          <a:ln w="9360">
            <a:solidFill>
              <a:srgbClr val="0000ff">
                <a:alpha val="88000"/>
              </a:srgbClr>
            </a:solidFill>
            <a:miter/>
          </a:ln>
        </p:spPr>
      </p:pic>
    </p:spTree>
  </p:cSld>
  <p:transition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ребенка дошкольного возраста складывается не только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ых аспектов взаимо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их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в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ица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иц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з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казания и поощрения являются своеобразными рычагами воспит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взгляды на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й и наказ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питании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 считают, что надо как можно чаще наказывать и как можно реже поощр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наоборот, советуют чаще использовать поощрения, наказывать же лишь изре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думают, что следует только поощрять, а наказывать не надо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сть и такие, кто убежден, что истинное воспитание — это воспитание вообще без каких бы то ни было поощрений и наказ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е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кое одобрение, похвала, выражение доверия и педагогическое воздействие, рассчитанное на стимулирование положительных эмоций воспитанни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сят любое осуждение, угрозу, порицание. Их назначение — коррекция поведения детей в определенных сложных ситуа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е имеет тройное зна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исправляет вред, причинённый дурным пове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ет тому, чтобы такие действия не повторялись, т.е. имеет отпугивающий характе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ти ненавидят уч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которых никогда не дождёшься одобрения или признания того, что хорошо сделано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убивает стремление к совершенств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0-10-31T23:02:12Z</dcterms:modified>
  <cp:revision>118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