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275A-6D0E-41E8-B232-C321D66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2327-C9A4-4305-89D9-E070064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167B-6310-498B-A698-EF9E993A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1902-F3C5-404A-87AC-67042CD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331-BE6F-4D3D-AA04-EC9A670E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81E0-FE96-40E8-AC56-A3C52D9A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CD72-AE25-4981-B1AB-05D7ECD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ADA-9194-4257-BF46-B91FFF43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8A87-429F-48DE-8520-9943217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825-9EA7-487C-BCF8-CD9EFC22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F9A8-BD76-4A30-9008-FDBC6F5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1E05-1E74-4C8F-8DEF-7C0E90C0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0C05-24EE-42FB-B11A-D96EE62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5AD-5D0A-4797-9249-C0E14B2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C3C-4640-4A8F-AFA1-69B6A57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FD8F-484D-41C0-8750-6BD1DC28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D393-1F7E-4FCB-BC4C-A1B14B04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0DCE-5237-4E17-BF7C-CDC8ACB2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42D6-A65F-424D-B446-B476BA2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E4E1-5B4B-4AD8-A065-F2A312D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E7E1-58F4-489B-85BA-95597E4F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5665-11EE-433B-B29F-083ABB7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B61B-90B1-474E-836B-82F84B3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BD1C-4D38-4474-A8D0-8C1F44E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04C-0003-401B-AA8D-C74B51FA2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4560" y="1219320"/>
              <a:ext cx="864360" cy="4548600"/>
              <a:chOff x="111456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45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42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0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89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8200"/>
              <a:ext cx="7314840" cy="4098960"/>
              <a:chOff x="914760" y="143820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8200"/>
                <a:ext cx="7296840" cy="820440"/>
                <a:chOff x="914760" y="1438200"/>
                <a:chExt cx="72968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82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118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8600" y="19836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64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1440"/>
                <a:ext cx="7297200" cy="820440"/>
                <a:chOff x="932400" y="252144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144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7280" y="2796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4080" y="30679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188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680"/>
                <a:ext cx="7296840" cy="820440"/>
                <a:chOff x="914760" y="3631680"/>
                <a:chExt cx="72968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6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56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8600" y="41770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212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3120"/>
                <a:ext cx="7297200" cy="824040"/>
                <a:chOff x="932400" y="4713120"/>
                <a:chExt cx="7297200" cy="8240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3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7280" y="49867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4080" y="5262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716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3840" y="1243080"/>
              <a:ext cx="864360" cy="4547520"/>
              <a:chOff x="228384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3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9320" y="1243080"/>
              <a:ext cx="864360" cy="4547520"/>
              <a:chOff x="346932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9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76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5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4800" y="1243080"/>
              <a:ext cx="864360" cy="4547520"/>
              <a:chOff x="46548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4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3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8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9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1320" y="1243080"/>
              <a:ext cx="862560" cy="4547520"/>
              <a:chOff x="579132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1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81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44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0520" y="1243080"/>
              <a:ext cx="864360" cy="4547520"/>
              <a:chOff x="695052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0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40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4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E1C-B538-40D4-9813-6759EEBC7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Родительское собр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«ПООЩРЕНИЕ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ИЛИ  НАКАЗАНИЕ?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етодист, 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ГОУ РА «Центр психолого-медик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циального сопровожд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.М. Медвед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 и наказ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овокупность средств регулирования отношений, составляющих содержание педагогической ситуации, в которой эти отношения должны быть заметно и быстро измен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– колыбель духовного рождения человека.  Многообразие отношений между ее членами, обнаженность и непосредственность чувств, которые они питают друг к другу, обилие различных форм проявления этих чувств, живая реакция на малейшее детали поведения ребенка – все это создает благоприятную среду для эмоционального и нравственного формирования личности.  Скудность, однообразие, монотонность эмоционального опыта в раннем детстве могут определить характер человека на всю его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дефицит, который испытывают наши дети, - это дефицит ласки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– первые, кто пострадал, глубоко и трагически от дефицита времени у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я, при всех свойственных ей заботах, хлопотах, огорчениях и даже несчастьях должна приносить человеку рад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5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6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по своей природе чрезвычайно жадны до впечатлений.  Дома должно быть интересно, семья должна давать добрую пищу воображению и чувствам.  Дети как губка, впитывают все, что происходит вокруг них. Они не умеют хитрить и приспосаблив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—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е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ое одобрение, похвала, выражение доверия и педагогическое воздействие, рассчитанное на стимулирование положительных эмоций воспитанн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ят любое осуждение, угрозу, порицание. Их назначение — коррекция поведения детей в определенных сложных ситу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0-10-31T23:02:12Z</dcterms:modified>
  <cp:revision>118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