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FDA-273C-4D17-85A0-3DFC0B0D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FDB-9961-4756-9FD9-D89E3DC7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D04-B1BB-43B7-A4D9-5B22160B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48F-B9CF-459A-B2F5-B70575E7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4ED9A-CD8E-406B-8898-E31AE50F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9BFE-584C-4024-98D9-3B1E0F29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D684-EE1E-486A-87CE-0ADEB2E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B18D7-A5E3-40B9-A05E-0AD4500E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11F4-1F02-43D0-8307-66F65CB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99AD8-6D73-4C97-980B-FC88642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CE8C-4AEC-4079-8920-158372A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779-DB18-4F4A-8826-B6E87389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F9F72-BC98-4BEF-B680-F407C39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6AB96-E732-4BF7-ADA9-B07A71E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D8FB6-E8BC-4AF2-96A7-267428B4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4C44-E388-462B-BA77-ACD57D3C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463A0-0DDB-4670-8FA7-4472BBAC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CB0-81A0-4EF4-B793-284F8B8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A0F-2F6A-4883-8011-8A264A7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ACB-4AF7-4636-8F87-6E0B43C7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716-578F-4E62-AF72-2D09555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282-9E40-4AA4-A3D6-513C041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E90-B0CF-4A6E-BCF3-93C9564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DBE-745D-45DE-9093-51BD190E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D23-CD27-4A44-B29C-D875C3173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6" name="Rectangle 8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304920" y="762120"/>
            <a:ext cx="8610480" cy="1190520"/>
            <a:chOff x="304920" y="762120"/>
            <a:chExt cx="8610480" cy="1190520"/>
          </a:xfrm>
        </p:grpSpPr>
        <p:sp>
          <p:nvSpPr>
            <p:cNvPr id="52" name="Rectangle 9"/>
            <p:cNvSpPr/>
            <p:nvPr/>
          </p:nvSpPr>
          <p:spPr>
            <a:xfrm>
              <a:off x="1066680" y="900000"/>
              <a:ext cx="381240" cy="609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685800" y="900000"/>
              <a:ext cx="380880" cy="609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" name="Group 11"/>
            <p:cNvGrpSpPr/>
            <p:nvPr/>
          </p:nvGrpSpPr>
          <p:grpSpPr>
            <a:xfrm>
              <a:off x="838080" y="1357200"/>
              <a:ext cx="761760" cy="533160"/>
              <a:chOff x="838080" y="1357200"/>
              <a:chExt cx="761760" cy="533160"/>
            </a:xfrm>
          </p:grpSpPr>
          <p:sp>
            <p:nvSpPr>
              <p:cNvPr id="55" name="Rectangle 12"/>
              <p:cNvSpPr/>
              <p:nvPr/>
            </p:nvSpPr>
            <p:spPr>
              <a:xfrm>
                <a:off x="1218600" y="1357200"/>
                <a:ext cx="381240" cy="533160"/>
              </a:xfrm>
              <a:prstGeom prst="rect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13"/>
              <p:cNvSpPr/>
              <p:nvPr/>
            </p:nvSpPr>
            <p:spPr>
              <a:xfrm>
                <a:off x="838080" y="1357200"/>
                <a:ext cx="380520" cy="53316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Rectangle 14"/>
            <p:cNvSpPr/>
            <p:nvPr/>
          </p:nvSpPr>
          <p:spPr>
            <a:xfrm>
              <a:off x="304920" y="1281240"/>
              <a:ext cx="685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685800" y="160020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1081080" y="762120"/>
              <a:ext cx="42840" cy="11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2A2-4A0F-4DBC-BC80-B3F91F9FAD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22682.jpg" TargetMode="External"/><Relationship Id="rId2" Type="http://schemas.openxmlformats.org/officeDocument/2006/relationships/hyperlink" Target="http://allday.ru/uploads/posts/2009-11/thumbs/1257341235_44.jpe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5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nigi42.ru/userfiles/image/catalog/1251869250.jpg" TargetMode="External"/><Relationship Id="rId2" Type="http://schemas.openxmlformats.org/officeDocument/2006/relationships/hyperlink" Target="http://www.ukazka.ru/img/b/uk120476.jpg" TargetMode="External"/><Relationship Id="rId3" Type="http://schemas.openxmlformats.org/officeDocument/2006/relationships/hyperlink" Target="http://www.ozon.ru/multimedia/books_covers/1001190261.jpg" TargetMode="External"/><Relationship Id="rId4" Type="http://schemas.openxmlformats.org/officeDocument/2006/relationships/hyperlink" Target="http://www.ozon.ru/multimedia/books_covers/1000039366.jpg" TargetMode="External"/><Relationship Id="rId5" Type="http://schemas.openxmlformats.org/officeDocument/2006/relationships/hyperlink" Target="http://img-2006-06.photosight.ru/23/1502737.jpg" TargetMode="External"/><Relationship Id="rId6" Type="http://schemas.openxmlformats.org/officeDocument/2006/relationships/hyperlink" Target="http://img-2006-06.photosight.ru/23/1502737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ust_of_Koltsov_in_Voronezh,_View_1,_20090628.jpg" TargetMode="External"/><Relationship Id="rId2" Type="http://schemas.openxmlformats.org/officeDocument/2006/relationships/hyperlink" Target="http://old.sgu.ru/rus_hist/img/x1-0_4_0.jpg" TargetMode="External"/><Relationship Id="rId3" Type="http://schemas.openxmlformats.org/officeDocument/2006/relationships/hyperlink" Target="http://old.sgu.ru/rus_hist/img/x1-0_4_0.jpg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militera.lib.ru/tw/bragin_vi/16.jpg" TargetMode="External"/><Relationship Id="rId4" Type="http://schemas.openxmlformats.org/officeDocument/2006/relationships/hyperlink" Target="http://militera.lib.ru/tw/bragin_vi/16.jpg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niga.ru/upload/image/1000468298.jpg" TargetMode="External"/><Relationship Id="rId2" Type="http://schemas.openxmlformats.org/officeDocument/2006/relationships/hyperlink" Target="http://www.bookin.org.ru/book/652128.jpg" TargetMode="External"/><Relationship Id="rId3" Type="http://schemas.openxmlformats.org/officeDocument/2006/relationships/hyperlink" Target="http://www.ozon.ru/multimedia/books_covers/1001056176.jpg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2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niga.ru/upload/image/1000468298.jpg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inapivovarova.ru/view_15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0fcd25f.jpg&amp;percenta=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itoday.ru/images/2009/may/8/1.jpg" TargetMode="External"/><Relationship Id="rId4" Type="http://schemas.openxmlformats.org/officeDocument/2006/relationships/hyperlink" Target="http://www.itoday.ru/images/2009/may/8/1.jpg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allday.ru/uploads/posts/2009-11/thumbs/1257341235_44.jpeg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rinapivovarova.ru/view_13.htm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23960" y="346716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9560" y="368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ная гостина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школьной библиотеки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133720" y="152280"/>
            <a:ext cx="5537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ий Департамент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ьный Административный О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Пушкинский лицей № 1500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9144000" y="5611680"/>
            <a:ext cx="24256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зентацию подготовила и оформила            педагог-библиотека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Таратина И.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05 - Утомленное солнце.mp3" descr=""/>
          <p:cNvPicPr/>
          <p:nvPr/>
        </p:nvPicPr>
        <p:blipFill>
          <a:blip r:embed="rId1"/>
          <a:stretch/>
        </p:blipFill>
        <p:spPr>
          <a:xfrm>
            <a:off x="812880" y="990720"/>
            <a:ext cx="101520" cy="101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9"/>
          <p:cNvSpPr/>
          <p:nvPr/>
        </p:nvSpPr>
        <p:spPr>
          <a:xfrm>
            <a:off x="266400" y="30146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2"/>
          <a:stretch/>
        </p:blipFill>
        <p:spPr>
          <a:xfrm>
            <a:off x="263520" y="662040"/>
            <a:ext cx="179712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17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5181480" y="1714680"/>
            <a:ext cx="336564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308240" y="5600880"/>
            <a:ext cx="217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234324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20001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79520" y="59086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1647720" y="816120"/>
            <a:ext cx="620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1509480" y="828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48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32241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53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5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1774800" y="6289560"/>
            <a:ext cx="34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5">
            <a:hlinkClick r:id="rId1"/>
          </p:cNvPr>
          <p:cNvSpPr/>
          <p:nvPr/>
        </p:nvSpPr>
        <p:spPr>
          <a:xfrm>
            <a:off x="36194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68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17906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i-main-pic" descr="Картинка 55 из 33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3640" y="4305240"/>
            <a:ext cx="2686320" cy="2252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4"/>
          <p:cNvSpPr/>
          <p:nvPr/>
        </p:nvSpPr>
        <p:spPr>
          <a:xfrm>
            <a:off x="26668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3" descr="http://vsemspas.ru/foto/albums/userpics/10002/4091.JPG"/>
          <p:cNvPicPr/>
          <p:nvPr/>
        </p:nvPicPr>
        <p:blipFill>
          <a:blip r:embed="rId4"/>
          <a:stretch/>
        </p:blipFill>
        <p:spPr>
          <a:xfrm>
            <a:off x="3211560" y="239760"/>
            <a:ext cx="5386320" cy="3487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5" descr="http://img.vmdaily.ru/tmp/art_1_foto42416.jpg"/>
          <p:cNvPicPr/>
          <p:nvPr/>
        </p:nvPicPr>
        <p:blipFill>
          <a:blip r:embed="rId5"/>
          <a:stretch/>
        </p:blipFill>
        <p:spPr>
          <a:xfrm>
            <a:off x="281160" y="639720"/>
            <a:ext cx="2073240" cy="161604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172 из 3396"/>
          <p:cNvPicPr/>
          <p:nvPr/>
        </p:nvPicPr>
        <p:blipFill>
          <a:blip r:embed="rId6"/>
          <a:stretch/>
        </p:blipFill>
        <p:spPr>
          <a:xfrm>
            <a:off x="228600" y="3086280"/>
            <a:ext cx="5079960" cy="30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3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650880" y="6157800"/>
            <a:ext cx="335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36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41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-180324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48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50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56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58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70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72">
            <a:hlinkClick r:id="rId1"/>
          </p:cNvPr>
          <p:cNvSpPr/>
          <p:nvPr/>
        </p:nvSpPr>
        <p:spPr>
          <a:xfrm>
            <a:off x="33814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74">
            <a:hlinkClick r:id="rId2"/>
          </p:cNvPr>
          <p:cNvSpPr/>
          <p:nvPr/>
        </p:nvSpPr>
        <p:spPr>
          <a:xfrm>
            <a:off x="366696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76">
            <a:hlinkClick r:id="rId3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80">
            <a:hlinkClick r:id="rId4"/>
          </p:cNvPr>
          <p:cNvSpPr/>
          <p:nvPr/>
        </p:nvSpPr>
        <p:spPr>
          <a:xfrm>
            <a:off x="35434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82">
            <a:hlinkClick r:id="rId5"/>
          </p:cNvPr>
          <p:cNvSpPr/>
          <p:nvPr/>
        </p:nvSpPr>
        <p:spPr>
          <a:xfrm>
            <a:off x="203364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i-main-pic" descr="Картинка 24 из 6972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70120" y="2297160"/>
            <a:ext cx="5077080" cy="33814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5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88"/>
          <p:cNvSpPr/>
          <p:nvPr/>
        </p:nvSpPr>
        <p:spPr>
          <a:xfrm>
            <a:off x="37828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90" descr="http://www.norge.ru/file/mod_news/1007/convoy_bombing.jpg"/>
          <p:cNvPicPr/>
          <p:nvPr/>
        </p:nvPicPr>
        <p:blipFill>
          <a:blip r:embed="rId8"/>
          <a:stretch/>
        </p:blipFill>
        <p:spPr>
          <a:xfrm>
            <a:off x="2119320" y="1549440"/>
            <a:ext cx="6684840" cy="5003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1"/>
          <p:cNvSpPr/>
          <p:nvPr/>
        </p:nvSpPr>
        <p:spPr>
          <a:xfrm>
            <a:off x="253800" y="30146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92" descr="Отечественная война и Великая Победа! (150 фото)"/>
          <p:cNvPicPr/>
          <p:nvPr/>
        </p:nvPicPr>
        <p:blipFill>
          <a:blip r:embed="rId9"/>
          <a:stretch/>
        </p:blipFill>
        <p:spPr>
          <a:xfrm>
            <a:off x="2117880" y="1525680"/>
            <a:ext cx="6777000" cy="5089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3" descr="1000480086[1]"/>
          <p:cNvPicPr/>
          <p:nvPr/>
        </p:nvPicPr>
        <p:blipFill>
          <a:blip r:embed="rId10"/>
          <a:stretch/>
        </p:blipFill>
        <p:spPr>
          <a:xfrm>
            <a:off x="304920" y="344520"/>
            <a:ext cx="168588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35002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4573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315756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803240" y="1585800"/>
            <a:ext cx="38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222200" y="874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7">
            <a:hlinkClick r:id="rId1"/>
          </p:cNvPr>
          <p:cNvSpPr/>
          <p:nvPr/>
        </p:nvSpPr>
        <p:spPr>
          <a:xfrm>
            <a:off x="380988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672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1555920" y="1166760"/>
            <a:ext cx="2901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 на память…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1.12.200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36">
            <a:hlinkClick r:id="rId2"/>
          </p:cNvPr>
          <p:cNvSpPr/>
          <p:nvPr/>
        </p:nvSpPr>
        <p:spPr>
          <a:xfrm>
            <a:off x="20336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i-main-pic" descr="Картинка 62 из 697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4840" y="200160"/>
            <a:ext cx="6167520" cy="4235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7" descr="Отечественная война и Великая Победа! (150 фото)"/>
          <p:cNvPicPr/>
          <p:nvPr/>
        </p:nvPicPr>
        <p:blipFill>
          <a:blip r:embed="rId5"/>
          <a:stretch/>
        </p:blipFill>
        <p:spPr>
          <a:xfrm>
            <a:off x="3552840" y="2655720"/>
            <a:ext cx="5373720" cy="4035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8"/>
          <p:cNvSpPr/>
          <p:nvPr/>
        </p:nvSpPr>
        <p:spPr>
          <a:xfrm>
            <a:off x="1057320" y="519264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39" descr="3520"/>
          <p:cNvPicPr/>
          <p:nvPr/>
        </p:nvPicPr>
        <p:blipFill>
          <a:blip r:embed="rId6"/>
          <a:stretch/>
        </p:blipFill>
        <p:spPr>
          <a:xfrm>
            <a:off x="2998800" y="2870280"/>
            <a:ext cx="5992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17680" y="6162840"/>
            <a:ext cx="278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351600" y="254304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04 - Тельняшечка.mp3" descr=""/>
          <p:cNvPicPr/>
          <p:nvPr/>
        </p:nvPicPr>
        <p:blipFill>
          <a:blip r:embed="rId2"/>
          <a:stretch/>
        </p:blipFill>
        <p:spPr>
          <a:xfrm>
            <a:off x="495360" y="29592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24">
            <a:hlinkClick r:id="rId3"/>
          </p:cNvPr>
          <p:cNvSpPr/>
          <p:nvPr/>
        </p:nvSpPr>
        <p:spPr>
          <a:xfrm>
            <a:off x="24620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i-main-pic" descr="Картинка 145 из 33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9000" y="177840"/>
            <a:ext cx="4219560" cy="3809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1241881388_12"/>
          <p:cNvPicPr/>
          <p:nvPr/>
        </p:nvPicPr>
        <p:blipFill>
          <a:blip r:embed="rId6"/>
          <a:stretch/>
        </p:blipFill>
        <p:spPr>
          <a:xfrm>
            <a:off x="2228760" y="2227320"/>
            <a:ext cx="6743880" cy="44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50880" y="6157800"/>
            <a:ext cx="335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3">
            <a:hlinkClick r:id="rId1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Rectangle 25">
            <a:hlinkClick r:id="rId2"/>
          </p:cNvPr>
          <p:cNvSpPr/>
          <p:nvPr/>
        </p:nvSpPr>
        <p:spPr>
          <a:xfrm>
            <a:off x="33480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7">
            <a:hlinkClick r:id="rId3"/>
          </p:cNvPr>
          <p:cNvSpPr/>
          <p:nvPr/>
        </p:nvSpPr>
        <p:spPr>
          <a:xfrm>
            <a:off x="3619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30" descr="Отечественная война и Великая Победа! (150 фото)"/>
          <p:cNvPicPr/>
          <p:nvPr/>
        </p:nvPicPr>
        <p:blipFill>
          <a:blip r:embed="rId4"/>
          <a:stretch/>
        </p:blipFill>
        <p:spPr>
          <a:xfrm>
            <a:off x="3489480" y="249084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2" descr="http://vsemspas.ru/foto/albums/userpics/10002/4091.JPG"/>
          <p:cNvPicPr/>
          <p:nvPr/>
        </p:nvPicPr>
        <p:blipFill>
          <a:blip r:embed="rId5"/>
          <a:stretch/>
        </p:blipFill>
        <p:spPr>
          <a:xfrm>
            <a:off x="291960" y="430200"/>
            <a:ext cx="4673880" cy="3025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3"/>
          <p:cNvSpPr/>
          <p:nvPr/>
        </p:nvSpPr>
        <p:spPr>
          <a:xfrm>
            <a:off x="698400" y="457668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i-main-pic" descr="Картинка 284 из 3396"/>
          <p:cNvPicPr/>
          <p:nvPr/>
        </p:nvPicPr>
        <p:blipFill>
          <a:blip r:embed="rId6"/>
          <a:stretch/>
        </p:blipFill>
        <p:spPr>
          <a:xfrm>
            <a:off x="281160" y="3936960"/>
            <a:ext cx="28573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77624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19248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0621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309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186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786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387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195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666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8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7958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385272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8577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8">
            <a:hlinkClick r:id="rId1"/>
          </p:cNvPr>
          <p:cNvSpPr/>
          <p:nvPr/>
        </p:nvSpPr>
        <p:spPr>
          <a:xfrm>
            <a:off x="3619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33480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3619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95264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20336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20718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i-main-pic" descr="Картинка 90 из 69727"/>
          <p:cNvPicPr/>
          <p:nvPr/>
        </p:nvPicPr>
        <p:blipFill>
          <a:blip r:embed="rId2"/>
          <a:stretch/>
        </p:blipFill>
        <p:spPr>
          <a:xfrm>
            <a:off x="3925800" y="3359160"/>
            <a:ext cx="5000760" cy="3333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9" descr="Podlodki_2"/>
          <p:cNvPicPr/>
          <p:nvPr/>
        </p:nvPicPr>
        <p:blipFill>
          <a:blip r:embed="rId3"/>
          <a:stretch/>
        </p:blipFill>
        <p:spPr>
          <a:xfrm>
            <a:off x="347760" y="2473200"/>
            <a:ext cx="5349600" cy="34862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1"/>
          <p:cNvSpPr/>
          <p:nvPr/>
        </p:nvSpPr>
        <p:spPr>
          <a:xfrm>
            <a:off x="27860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30" descr="Отечественная война и Великая Победа! (150 фото)"/>
          <p:cNvPicPr/>
          <p:nvPr/>
        </p:nvPicPr>
        <p:blipFill>
          <a:blip r:embed="rId4"/>
          <a:stretch/>
        </p:blipFill>
        <p:spPr>
          <a:xfrm>
            <a:off x="5153040" y="465120"/>
            <a:ext cx="3571920" cy="2371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2" descr="Отечественная война и Великая Победа! (150 фото)"/>
          <p:cNvPicPr/>
          <p:nvPr/>
        </p:nvPicPr>
        <p:blipFill>
          <a:blip r:embed="rId5"/>
          <a:stretch/>
        </p:blipFill>
        <p:spPr>
          <a:xfrm>
            <a:off x="284040" y="490680"/>
            <a:ext cx="3571920" cy="23716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3"/>
          <p:cNvSpPr/>
          <p:nvPr/>
        </p:nvSpPr>
        <p:spPr>
          <a:xfrm>
            <a:off x="634680" y="612612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4913640" y="566748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21" descr="40082[1]"/>
          <p:cNvPicPr/>
          <p:nvPr/>
        </p:nvPicPr>
        <p:blipFill>
          <a:blip r:embed="rId1"/>
          <a:stretch/>
        </p:blipFill>
        <p:spPr>
          <a:xfrm>
            <a:off x="293760" y="723960"/>
            <a:ext cx="1655640" cy="2608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2" descr="1000480086[1]"/>
          <p:cNvPicPr/>
          <p:nvPr/>
        </p:nvPicPr>
        <p:blipFill>
          <a:blip r:embed="rId2"/>
          <a:stretch/>
        </p:blipFill>
        <p:spPr>
          <a:xfrm>
            <a:off x="2082960" y="1042920"/>
            <a:ext cx="3479760" cy="5599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4" descr="x1-0_2_2"/>
          <p:cNvPicPr/>
          <p:nvPr/>
        </p:nvPicPr>
        <p:blipFill>
          <a:blip r:embed="rId3"/>
          <a:stretch/>
        </p:blipFill>
        <p:spPr>
          <a:xfrm>
            <a:off x="1486080" y="2085840"/>
            <a:ext cx="7315200" cy="4146840"/>
          </a:xfrm>
          <a:prstGeom prst="rect">
            <a:avLst/>
          </a:prstGeom>
          <a:ln w="0">
            <a:noFill/>
          </a:ln>
        </p:spPr>
      </p:pic>
      <p:pic>
        <p:nvPicPr>
          <p:cNvPr id="392" name="i-main-pic" descr="Картинка 62 из 69727"/>
          <p:cNvPicPr/>
          <p:nvPr/>
        </p:nvPicPr>
        <p:blipFill>
          <a:blip r:embed="rId4"/>
          <a:stretch/>
        </p:blipFill>
        <p:spPr>
          <a:xfrm>
            <a:off x="0" y="-906480"/>
            <a:ext cx="12534840" cy="84027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7"/>
          <p:cNvSpPr/>
          <p:nvPr/>
        </p:nvSpPr>
        <p:spPr>
          <a:xfrm>
            <a:off x="1384200" y="3746520"/>
            <a:ext cx="65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Морская душа  - это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высокое самолюбие люде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стремящихся везд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быть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первыми и  лучши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7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8975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27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68680" y="266400"/>
            <a:ext cx="5270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разны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о мы вместе и цель у нас одна … и в этом наша сил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i-main-pic" descr="Картинка 389 из 3473"/>
          <p:cNvPicPr/>
          <p:nvPr/>
        </p:nvPicPr>
        <p:blipFill>
          <a:blip r:embed="rId1"/>
          <a:stretch/>
        </p:blipFill>
        <p:spPr>
          <a:xfrm>
            <a:off x="2108160" y="2146320"/>
            <a:ext cx="6719760" cy="3860640"/>
          </a:xfrm>
          <a:prstGeom prst="rect">
            <a:avLst/>
          </a:prstGeom>
          <a:ln w="0">
            <a:noFill/>
          </a:ln>
        </p:spPr>
      </p:pic>
      <p:pic>
        <p:nvPicPr>
          <p:cNvPr id="396" name="i-main-pic" descr="Картинка 316 из 3396"/>
          <p:cNvPicPr/>
          <p:nvPr/>
        </p:nvPicPr>
        <p:blipFill>
          <a:blip r:embed="rId2"/>
          <a:stretch/>
        </p:blipFill>
        <p:spPr>
          <a:xfrm>
            <a:off x="2097000" y="2087640"/>
            <a:ext cx="6715080" cy="4554360"/>
          </a:xfrm>
          <a:prstGeom prst="rect">
            <a:avLst/>
          </a:prstGeom>
          <a:ln w="0">
            <a:noFill/>
          </a:ln>
        </p:spPr>
      </p:pic>
      <p:pic>
        <p:nvPicPr>
          <p:cNvPr id="397" name="i-main-pic" descr="Картинка 439 из 3396"/>
          <p:cNvPicPr/>
          <p:nvPr/>
        </p:nvPicPr>
        <p:blipFill>
          <a:blip r:embed="rId3"/>
          <a:stretch/>
        </p:blipFill>
        <p:spPr>
          <a:xfrm>
            <a:off x="266760" y="736560"/>
            <a:ext cx="3179880" cy="21020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0"/>
          <p:cNvSpPr/>
          <p:nvPr/>
        </p:nvSpPr>
        <p:spPr>
          <a:xfrm>
            <a:off x="330120" y="319248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25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457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8576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633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2400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800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205272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314316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3386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34146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5"/>
          <p:cNvSpPr/>
          <p:nvPr/>
        </p:nvSpPr>
        <p:spPr>
          <a:xfrm>
            <a:off x="1604880" y="-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4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6"/>
          <p:cNvSpPr/>
          <p:nvPr/>
        </p:nvSpPr>
        <p:spPr>
          <a:xfrm>
            <a:off x="38577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1152360" y="6249960"/>
            <a:ext cx="47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707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89"/>
          <p:cNvSpPr/>
          <p:nvPr/>
        </p:nvSpPr>
        <p:spPr>
          <a:xfrm>
            <a:off x="4438800" y="388800"/>
            <a:ext cx="4108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 Сергеевич Соболев (1898—1971) — русский советский писател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4175280" y="268920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рой Социалистического Тру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1968 год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ауреат Сталинской прем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1943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граждён тремя орденами Ле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четырьмя другими орденами и медал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115 лет со дня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95" descr="2315_18[1]"/>
          <p:cNvPicPr/>
          <p:nvPr/>
        </p:nvPicPr>
        <p:blipFill>
          <a:blip r:embed="rId1"/>
          <a:stretch/>
        </p:blipFill>
        <p:spPr>
          <a:xfrm>
            <a:off x="216000" y="291960"/>
            <a:ext cx="4127400" cy="593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023840" y="2486160"/>
            <a:ext cx="506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3905280" y="4363920"/>
            <a:ext cx="149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60488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841320" y="5688000"/>
            <a:ext cx="234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33764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339552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39067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7"/>
          <p:cNvSpPr/>
          <p:nvPr/>
        </p:nvSpPr>
        <p:spPr>
          <a:xfrm>
            <a:off x="5311800" y="412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8196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38098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177840" y="660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698400" y="536256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18 — 1931 годах служил в Красном Фло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 1931 года — оргсекретарь Ленинградск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Балтийског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отде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итературного отделени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расной Армии и Ф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и секретарь журнала «Залп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7">
            <a:hlinkClick r:id="rId1"/>
          </p:cNvPr>
          <p:cNvSpPr/>
          <p:nvPr/>
        </p:nvSpPr>
        <p:spPr>
          <a:xfrm>
            <a:off x="32860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6696000" y="118908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10 — 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ах учил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Петроградск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етском корпус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рское училищ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6" descr="ddd29cc9670e[1]"/>
          <p:cNvPicPr/>
          <p:nvPr/>
        </p:nvPicPr>
        <p:blipFill>
          <a:blip r:embed="rId2"/>
          <a:stretch/>
        </p:blipFill>
        <p:spPr>
          <a:xfrm>
            <a:off x="304920" y="304920"/>
            <a:ext cx="634356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25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5454720" y="2052720"/>
            <a:ext cx="149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02240" y="0"/>
            <a:ext cx="334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 Сергеевич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участвов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советско-финляндской вой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1939 — 1940 г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i-main-pic" descr="Картинка 1 из 9"/>
          <p:cNvPicPr/>
          <p:nvPr/>
        </p:nvPicPr>
        <p:blipFill>
          <a:blip r:embed="rId1"/>
          <a:stretch/>
        </p:blipFill>
        <p:spPr>
          <a:xfrm>
            <a:off x="304920" y="330120"/>
            <a:ext cx="4991040" cy="5602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4"/>
          <p:cNvSpPr/>
          <p:nvPr/>
        </p:nvSpPr>
        <p:spPr>
          <a:xfrm>
            <a:off x="5489640" y="1806480"/>
            <a:ext cx="334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го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еликой Отечественной вой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работал корреспондент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азет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«Правда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овинформбюро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авного полит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упра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оенно-Морского Фл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В 1957 — 1970 годах —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дседатель правлени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оюза писателей РСФ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2101680" y="1670040"/>
            <a:ext cx="654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выступил в печати в 1926 году с очерком «Ленин в Ревеле». Впоследствии главное место в творчестве Леонида Соболева заняла морская тематика, которой посвящены рассказы 1930-х годов, роман «Капитальный ремонт» (19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, новые главы добавлены в 1962 году), сборник фронтовых очерков и рассказов «Морская душа» (1942 год, Сталинская премия 1943 года), повесть «Зелёный луч» (19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год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5116680" y="282600"/>
            <a:ext cx="3954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омим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вор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Леонида Сергеевича Соболе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30" descr="%D0%9B%D0%B5%D0%BE%D0%BD%D0%B8%D0%B4_%D0%A1%D0%B5%D1%80%D0%B3%D0%B5%D0%B5%D0%B2%D0%B8%D1%87_%D0%A1%D0%BE%D0%B1%D0%BE%D0%BB%D0%B5%D0%B2"/>
          <p:cNvPicPr/>
          <p:nvPr/>
        </p:nvPicPr>
        <p:blipFill>
          <a:blip r:embed="rId1"/>
          <a:stretch/>
        </p:blipFill>
        <p:spPr>
          <a:xfrm>
            <a:off x="298440" y="466560"/>
            <a:ext cx="1803240" cy="2405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1"/>
          <p:cNvSpPr/>
          <p:nvPr/>
        </p:nvSpPr>
        <p:spPr>
          <a:xfrm>
            <a:off x="863280" y="645624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2019240" y="4476600"/>
            <a:ext cx="654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 марте 1943 года Сталинскую премию второй степени (50 000 рублей) передал на строи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боевого катера «Морская душа»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Им были написаны литературно-критические и публицистические книги «На главном курсе» (1969 год), «Ветер времени» (1970 год) и другие, киносцена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6840" y="2452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967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24324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2241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208240" y="43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600280" y="600120"/>
            <a:ext cx="34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ИЖНАЯ ВЫСТА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91456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200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2004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297180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6" descr="%D0%9B%D0%B5%D0%BE%D0%BD%D0%B8%D0%B4_%D0%A1%D0%B5%D1%80%D0%B3%D0%B5%D0%B5%D0%B2%D0%B8%D1%87_%D0%A1%D0%BE%D0%B1%D0%BE%D0%BB%D0%B5%D0%B2"/>
          <p:cNvPicPr/>
          <p:nvPr/>
        </p:nvPicPr>
        <p:blipFill>
          <a:blip r:embed="rId1"/>
          <a:stretch/>
        </p:blipFill>
        <p:spPr>
          <a:xfrm>
            <a:off x="271440" y="4064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i-main-pic" descr="Картинка 9 из 9"/>
          <p:cNvPicPr/>
          <p:nvPr/>
        </p:nvPicPr>
        <p:blipFill>
          <a:blip r:embed="rId2"/>
          <a:stretch/>
        </p:blipFill>
        <p:spPr>
          <a:xfrm>
            <a:off x="1778040" y="2247840"/>
            <a:ext cx="1784160" cy="283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i?id=142415036&amp;tov=8"/>
          <p:cNvPicPr/>
          <p:nvPr/>
        </p:nvPicPr>
        <p:blipFill>
          <a:blip r:embed="rId3"/>
          <a:stretch/>
        </p:blipFill>
        <p:spPr>
          <a:xfrm>
            <a:off x="1765440" y="2197080"/>
            <a:ext cx="2178000" cy="2911320"/>
          </a:xfrm>
          <a:prstGeom prst="rect">
            <a:avLst/>
          </a:prstGeom>
          <a:ln w="0">
            <a:noFill/>
          </a:ln>
        </p:spPr>
      </p:pic>
      <p:pic>
        <p:nvPicPr>
          <p:cNvPr id="183" name="i-main-pic" descr="Картинка 5 из 9"/>
          <p:cNvPicPr/>
          <p:nvPr/>
        </p:nvPicPr>
        <p:blipFill>
          <a:blip r:embed="rId4"/>
          <a:stretch/>
        </p:blipFill>
        <p:spPr>
          <a:xfrm>
            <a:off x="1752480" y="1816200"/>
            <a:ext cx="2273400" cy="3682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61944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3004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4038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40575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4" descr="AP4UOGICAUQKDV2CAMVW4TSCATZ5IOGCAHTMQR6CAESSQEBCA0NGP1MCANCWMYBCA98PNM7CAYXYD10CAYYQBK2CAXL7X0ZCAF1OCV7CAH0ORUNCAKXWHJ4CAYN78KPCATX1WUOCA8ES91NCA1FPKFSCAC37TWT"/>
          <p:cNvPicPr/>
          <p:nvPr/>
        </p:nvPicPr>
        <p:blipFill>
          <a:blip r:embed="rId5"/>
          <a:stretch/>
        </p:blipFill>
        <p:spPr>
          <a:xfrm>
            <a:off x="2889360" y="2154240"/>
            <a:ext cx="2485800" cy="407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1000691115[1]"/>
          <p:cNvPicPr/>
          <p:nvPr/>
        </p:nvPicPr>
        <p:blipFill>
          <a:blip r:embed="rId6"/>
          <a:stretch/>
        </p:blipFill>
        <p:spPr>
          <a:xfrm>
            <a:off x="3467160" y="2647800"/>
            <a:ext cx="2576520" cy="37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1000277464[1]"/>
          <p:cNvPicPr/>
          <p:nvPr/>
        </p:nvPicPr>
        <p:blipFill>
          <a:blip r:embed="rId7"/>
          <a:stretch/>
        </p:blipFill>
        <p:spPr>
          <a:xfrm>
            <a:off x="5813280" y="1173240"/>
            <a:ext cx="3102120" cy="47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25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125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125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625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1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17680" y="6162840"/>
            <a:ext cx="278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351600" y="254304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1" descr="%D0%9B%D0%B5%D0%BE%D0%BD%D0%B8%D0%B4_%D0%A1%D0%B5%D1%80%D0%B3%D0%B5%D0%B5%D0%B2%D0%B8%D1%87_%D0%A1%D0%BE%D0%B1%D0%BE%D0%BB%D0%B5%D0%B2"/>
          <p:cNvPicPr/>
          <p:nvPr/>
        </p:nvPicPr>
        <p:blipFill>
          <a:blip r:embed="rId2"/>
          <a:stretch/>
        </p:blipFill>
        <p:spPr>
          <a:xfrm>
            <a:off x="297000" y="40644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426708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5719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505480" y="2538360"/>
            <a:ext cx="343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рск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душ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- это нелицемерная боевая дружба, готовность поддержать в бою товарища, спасти раненого, грудью защитить командира и комиссар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2921400" y="414360"/>
            <a:ext cx="541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борник фронтовых очерков и рассказ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о службе и войне на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04 - Тельняшечка.mp3" descr=""/>
          <p:cNvPicPr/>
          <p:nvPr/>
        </p:nvPicPr>
        <p:blipFill>
          <a:blip r:embed="rId3"/>
          <a:stretch/>
        </p:blipFill>
        <p:spPr>
          <a:xfrm>
            <a:off x="495360" y="295920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06" name="i-main-pic" descr="Картинка 6 из 9"/>
          <p:cNvPicPr/>
          <p:nvPr/>
        </p:nvPicPr>
        <p:blipFill>
          <a:blip r:embed="rId4"/>
          <a:stretch/>
        </p:blipFill>
        <p:spPr>
          <a:xfrm>
            <a:off x="1841400" y="1522440"/>
            <a:ext cx="2328840" cy="3668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1000480086[1]"/>
          <p:cNvPicPr/>
          <p:nvPr/>
        </p:nvPicPr>
        <p:blipFill>
          <a:blip r:embed="rId5"/>
          <a:stretch/>
        </p:blipFill>
        <p:spPr>
          <a:xfrm>
            <a:off x="2311560" y="1947960"/>
            <a:ext cx="2260440" cy="36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bs1103[1]"/>
          <p:cNvPicPr/>
          <p:nvPr/>
        </p:nvPicPr>
        <p:blipFill>
          <a:blip r:embed="rId6"/>
          <a:stretch/>
        </p:blipFill>
        <p:spPr>
          <a:xfrm>
            <a:off x="2746440" y="2300400"/>
            <a:ext cx="2457360" cy="3744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40082[1]"/>
          <p:cNvPicPr/>
          <p:nvPr/>
        </p:nvPicPr>
        <p:blipFill>
          <a:blip r:embed="rId7"/>
          <a:stretch/>
        </p:blipFill>
        <p:spPr>
          <a:xfrm>
            <a:off x="1855800" y="1168560"/>
            <a:ext cx="3370320" cy="53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5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517680" y="6162840"/>
            <a:ext cx="278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289160" y="1882800"/>
            <a:ext cx="7677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5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6859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6">
            <a:hlinkClick r:id="rId1"/>
          </p:cNvPr>
          <p:cNvSpPr/>
          <p:nvPr/>
        </p:nvSpPr>
        <p:spPr>
          <a:xfrm>
            <a:off x="2033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612880" y="917640"/>
            <a:ext cx="201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346480" y="853920"/>
            <a:ext cx="12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562040" y="107964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03480" y="3635280"/>
            <a:ext cx="499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87920" y="1959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361944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8" descr="http://www.morkniga.ru/catalog/2538.jpg"/>
          <p:cNvPicPr/>
          <p:nvPr/>
        </p:nvPicPr>
        <p:blipFill>
          <a:blip r:embed="rId2"/>
          <a:stretch/>
        </p:blipFill>
        <p:spPr>
          <a:xfrm>
            <a:off x="1054080" y="2411280"/>
            <a:ext cx="1905120" cy="2695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2">
            <a:hlinkClick r:id="rId3"/>
          </p:cNvPr>
          <p:cNvSpPr/>
          <p:nvPr/>
        </p:nvSpPr>
        <p:spPr>
          <a:xfrm>
            <a:off x="266688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i-main-pic" descr="Картинка 195 из 33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87800" y="2232000"/>
            <a:ext cx="4878360" cy="446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d0b1d0b5d181d0bad0bed0b7d18bd180d0bad0b0"/>
          <p:cNvPicPr/>
          <p:nvPr/>
        </p:nvPicPr>
        <p:blipFill>
          <a:blip r:embed="rId6"/>
          <a:stretch/>
        </p:blipFill>
        <p:spPr>
          <a:xfrm>
            <a:off x="5175360" y="177840"/>
            <a:ext cx="3759120" cy="2573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6">
            <a:hlinkClick r:id="rId7"/>
          </p:cNvPr>
          <p:cNvSpPr/>
          <p:nvPr/>
        </p:nvSpPr>
        <p:spPr>
          <a:xfrm>
            <a:off x="23004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27" descr="04_6_1"/>
          <p:cNvPicPr/>
          <p:nvPr/>
        </p:nvPicPr>
        <p:blipFill>
          <a:blip r:embed="rId8"/>
          <a:stretch/>
        </p:blipFill>
        <p:spPr>
          <a:xfrm>
            <a:off x="272880" y="501480"/>
            <a:ext cx="1551240" cy="21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324000" y="3976560"/>
            <a:ext cx="506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60488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09600" y="2347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217188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5434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209556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16048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32">
            <a:hlinkClick r:id="rId1"/>
          </p:cNvPr>
          <p:cNvSpPr/>
          <p:nvPr/>
        </p:nvSpPr>
        <p:spPr>
          <a:xfrm>
            <a:off x="290520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38" descr="395662124"/>
          <p:cNvPicPr/>
          <p:nvPr/>
        </p:nvPicPr>
        <p:blipFill>
          <a:blip r:embed="rId2"/>
          <a:stretch/>
        </p:blipFill>
        <p:spPr>
          <a:xfrm>
            <a:off x="3051000" y="3678120"/>
            <a:ext cx="5886720" cy="2982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0" descr="1-web"/>
          <p:cNvPicPr/>
          <p:nvPr/>
        </p:nvPicPr>
        <p:blipFill>
          <a:blip r:embed="rId3"/>
          <a:stretch/>
        </p:blipFill>
        <p:spPr>
          <a:xfrm>
            <a:off x="3720960" y="27792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2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41" descr="http://img.vmdaily.ru/tmp/art_1_foto42416.jpg"/>
          <p:cNvPicPr/>
          <p:nvPr/>
        </p:nvPicPr>
        <p:blipFill>
          <a:blip r:embed="rId4"/>
          <a:stretch/>
        </p:blipFill>
        <p:spPr>
          <a:xfrm>
            <a:off x="293760" y="3192480"/>
            <a:ext cx="2333520" cy="181908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309 из 3396"/>
          <p:cNvPicPr/>
          <p:nvPr/>
        </p:nvPicPr>
        <p:blipFill>
          <a:blip r:embed="rId5"/>
          <a:stretch/>
        </p:blipFill>
        <p:spPr>
          <a:xfrm>
            <a:off x="274680" y="304920"/>
            <a:ext cx="315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9:09:14Z</dcterms:created>
  <dc:creator>HBBT</dc:creator>
  <dc:description/>
  <dc:language>en-US</dc:language>
  <cp:lastModifiedBy>402</cp:lastModifiedBy>
  <dcterms:modified xsi:type="dcterms:W3CDTF">2015-02-18T10:51:22Z</dcterms:modified>
  <cp:revision>218</cp:revision>
  <dc:subject/>
  <dc:title>Презентация PowerPoint</dc:title>
</cp:coreProperties>
</file>