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7018-F6C5-4AD1-9C9D-D25B51AC8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8754-53D1-405B-A8E7-D5BB82B0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603B-909F-477F-B6F4-3B9EC7CAD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59A9-D37A-4C69-B788-90C43EBBD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0E152-F5B3-4A1F-9DD2-FE9A36E30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6B42C-DA6C-4576-8188-3ECBCA07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0E0B5-8BF2-4503-B748-7B64759D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95E4E-AECF-4508-BB91-09E30E9B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7702D-4ECB-4CF0-8B35-BE7BAAE6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8244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FB783-B666-4060-AD32-FC38D812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61342-4739-463A-A578-5D626C61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6C57-CCFE-4478-A4CC-B90E220E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AC2210-E517-4A3E-9D2D-298C1338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E3781-8028-4AD3-B6B3-E410753A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0864E-0B1D-4C90-A5E3-284DD456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E7175-BB6C-4423-B23B-880DBCA3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B2324-B0B3-4461-A3E9-48759C45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C403-3CD0-4964-9D27-C58A625F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8462-83C7-4889-A9AA-50E56DE2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2FB7-A70B-45B7-91EB-474BF6C4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8244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519A-7854-4265-BF0C-755C0388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2985-8481-4F70-91AD-52A4830C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6D1B-FBD4-4472-8DE3-9D79AD41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0B0A-88A3-4753-99EA-A0C963CC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3cccc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50B8F9-DAE1-4DD0-AE92-6FDF70A11296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3cccc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5120" cy="851040"/>
            <a:chOff x="-1440" y="6033960"/>
            <a:chExt cx="7845120" cy="85104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3680" cy="85104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800" cy="851040"/>
              <a:chOff x="3944880" y="6033960"/>
              <a:chExt cx="3898800" cy="85104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800" y="6045120"/>
                <a:ext cx="1577880" cy="83988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8000" y="6033960"/>
                <a:ext cx="29556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8520" y="61945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1516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5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880" cy="84960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816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268ECB7-4BA0-462A-B61F-7D8086E5E9BD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32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3300"/>
                </a:solidFill>
                <a:latin typeface="Times New Roman"/>
              </a:rPr>
              <a:t>«</a:t>
            </a: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ОСОБЕННОСТИ СУБЪЕКТИВНЫХ ЛИЧНОСТНО-СМЫСЛОВЫХ ОТНОШЕНИЙ У ПОДРОСТКОВ С ДЕВИАНТНЫМ ПОВЕДЕНИЕМ».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58920" y="3429000"/>
            <a:ext cx="6400800" cy="27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23ff2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3ff23"/>
                </a:solidFill>
                <a:latin typeface="Times New Roman"/>
              </a:rPr>
              <a:t>Николаева Марина Владимировна</a:t>
            </a:r>
            <a:r>
              <a:rPr b="1" lang="ru-RU" sz="1800" spc="-1" strike="noStrike">
                <a:solidFill>
                  <a:srgbClr val="23ff23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Times New Roman"/>
              </a:rPr>
              <a:t>выступление на МЕТОДОБЪЕДИНЕ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92360" y="-136800"/>
            <a:ext cx="59752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3e3ff"/>
                </a:solidFill>
                <a:latin typeface="Times New Roman"/>
              </a:rPr>
              <a:t>Выводы</a:t>
            </a:r>
            <a:r>
              <a:rPr b="0" i="1" lang="ru-RU" sz="4400" spc="-1" strike="noStrike">
                <a:solidFill>
                  <a:srgbClr val="e3e3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128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Сравнительный анализ особенностей тревожности изучаемых групп выявил, что  подростки с девиантным поведением характеризуются  как самоуверенные, небоязливые, нечувствительные к замечаниям, беззаботные, не склонные к самоупрекам. У подростков с девиантным поведением уровень школьной тревожности достоверно выше, чем уровень самооценочной и общей тревожности. Высокий уровень школьной тревожности связан с тем, что данная группа подростков находится в условиях школы закрытого типа, и вся жизнь подростка проходит в стенах школы. Отмечается  общий негативный эмоциональный фон отношений со взрослыми в школе, неблагоприятный психический фон переживания тревоги в ситуациях проверки знаний, достижений, переживание ситуаций, сопряженных с необходимостью самораскрытия и демонстрации своих возможност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Сравнительный анализ результатов исследования самооценки и уровня притязаний у подростков с девиантным поведением и подростков контрольной группы выявил, что подростки с девиантным поведением характеризуются нереалистическим, некритическим отношением к собственным возможностям, личностной незрелостью, неумением правильно оценивать результаты своей деятельности, сравнивать себя с другими. Обнаружено большое расхождение между «Я»-реальным и «Я»-идеальным у подростков с девиантным поведением. Такая самооценка указывает на существенные искажения в формировании личностно-смысловых отношений данных подростков, что проявляется в нечувствительности к своим ошибкам, неудачам, замечаниям и оценкам окружающих. Данные подростки склонны к неадекватно завышенной самооценке, преувеличению собственной значимости, в намерениях полны грандиозных планов, берутся за множество идей сразу, не прорабатывая ни одну из них до конц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3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3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Выводы</a:t>
            </a:r>
            <a:r>
              <a:rPr b="0" lang="ru-RU" sz="2400" spc="-1" strike="noStrike">
                <a:solidFill>
                  <a:srgbClr val="e3e3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5800" indent="-59580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Исследование уровня одиночества в изучаемых группах выявило, что подростки с девиантным поведением не склонны испытывать чувство одиночества. Это связано как с особенностями личности подростков, так и с субъективными личностно-смысловыми отношениями данных подростков. Для них характерны тяга к общению, стремление быть на виду, отсутствие особой разборчивости в контактах, при этом могут подражать авторитетной лидирующей личности. У подростков отмечается бесцеремонность поведения, снисходительное отношение к своим промахам и недостаткам, легко возникающие эмоциональные всплески с быстрой отходчивостью, непостоянство в привязанностях, легкость в принятии решений,  при этом достаточно быстро происходит пресыщение однообразие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5800" indent="-59580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Сравнительный анализ особенностей агрессивных проявлений у подростков и подростков контрольной группы показал, что подростки с девиантным поведением характеризуются более высоким уровнем агрессии, которая проявляется в форме использования физической силы, выражения негативных чувств (угрозы, ругань, проклятья), оппозиционного поведения, направленного против авторитета или руководства, либо на друго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лиц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Выводы: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89680" indent="-5896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Исследование особенности внутрисемейных отношений, что подростки с девиантным поведением оценивают отношения в своих семьях как менее благополучные. Подростки с девиантным поведением склонны переоценивать и идеализировать внутрисемейные взаимоотношения. Подростки-сироты, воспитывающиеся опекунами, придумывают фантастические истории о своих родителях, замещая отсутствие семейных взаимоотношений вымышленными событи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9680" indent="-5896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Анализ корреляционных связей  показал, что при благоприятных взаимоотношениях в семье у подростков с девиантным поведением показатели общей тревожности и самооценочной тревожности, а также проявление открытой агрессии и враждебности соответствуют низкому уровн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Times New Roman"/>
              </a:rPr>
              <a:t>Цель:</a:t>
            </a:r>
            <a:r>
              <a:rPr b="1" lang="ru-RU" sz="4000" spc="-1" strike="noStrike">
                <a:solidFill>
                  <a:srgbClr val="e3e3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Демонстрация</a:t>
            </a:r>
            <a:r>
              <a:rPr b="0" lang="ru-RU" sz="4000" spc="-1" strike="noStrike">
                <a:solidFill>
                  <a:srgbClr val="003300"/>
                </a:solidFill>
                <a:latin typeface="Times New Roman"/>
              </a:rPr>
              <a:t> субъективных личностно-смысловых отношений подростков с девиантным поведением.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 fill="hold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68360" y="1268640"/>
            <a:ext cx="8172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Times New Roman"/>
              </a:rPr>
              <a:t>Объект исследования.</a:t>
            </a:r>
            <a:r>
              <a:rPr b="0" lang="ru-RU" sz="4000" spc="-1" strike="noStrike">
                <a:solidFill>
                  <a:srgbClr val="003300"/>
                </a:solidFill>
                <a:latin typeface="Times New Roman"/>
              </a:rPr>
              <a:t> Подростки в возрасте от 11 до 18 лет с девиантным поведение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Times New Roman"/>
              </a:rPr>
              <a:t>Предмет исследования</a:t>
            </a:r>
            <a:r>
              <a:rPr b="1" lang="ru-RU" sz="4000" spc="-1" strike="noStrike">
                <a:solidFill>
                  <a:srgbClr val="e3e3ff"/>
                </a:solidFill>
                <a:latin typeface="Times New Roman"/>
              </a:rPr>
              <a:t>.</a:t>
            </a:r>
            <a:r>
              <a:rPr b="1" lang="ru-RU" sz="4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3300"/>
                </a:solidFill>
                <a:latin typeface="Times New Roman"/>
              </a:rPr>
              <a:t>Субъективные личностно-смысловые отношения подростков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77920"/>
            <a:ext cx="8229600" cy="65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Times New Roman"/>
              </a:rPr>
              <a:t>За</a:t>
            </a:r>
            <a:r>
              <a:rPr b="0" lang="ru-RU" sz="4000" spc="-1" strike="noStrike">
                <a:solidFill>
                  <a:srgbClr val="e3e3ff"/>
                </a:solidFill>
                <a:latin typeface="Times New Roman"/>
              </a:rPr>
              <a:t>да</a:t>
            </a:r>
            <a:r>
              <a:rPr b="1" lang="ru-RU" sz="4000" spc="-1" strike="noStrike">
                <a:solidFill>
                  <a:srgbClr val="e3e3ff"/>
                </a:solidFill>
                <a:latin typeface="Times New Roman"/>
              </a:rPr>
              <a:t>чи:</a:t>
            </a: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1. Исследовать уровень тревожности у подростков с девиантным поведением. 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2. Исследовать уровень одиночества и его влияние на субъективные личностно-смысловые отношения у подростков с девиантным поведением.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3. Исследовать уровень самооценки и уровня притязаний у подростков с девиантным поведением.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4. Исследовать особенности агрессивного поведения у подростков с девиантным поведением.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 5. Исследовать особенности внутрисемейных отношений в контрольной и экспериментальной группах.</a:t>
            </a: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3000" fill="hold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627280" y="76500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e3e3ff"/>
                </a:solidFill>
                <a:latin typeface="Times New Roman"/>
              </a:rPr>
              <a:t>Методики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Шкала личной тревожности А.М. Прихожан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Шкала одиночества Д. Рассел, Л. Пепло, М. Фергюсон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Опросник диагностики состояния агрессии А. Басс, А. Дар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Опросник социализации для школьников «Моя семья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Исследование самооценки по методике Дембо-Рубенштей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 fill="hold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Показатели уровня тревожности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 в изучаемых группах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8334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8360" y="1725480"/>
            <a:ext cx="8280360" cy="4500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45320" y="4717800"/>
            <a:ext cx="465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Рис. 1. Показатели тревожности в изучаемых групп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920" y="228240"/>
            <a:ext cx="74901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Исследование уровня  самооценки и уровня притязаний у подростков с девиантным поведением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544760" y="1838160"/>
          <a:ext cx="5900760" cy="5040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4760" y="1838160"/>
                    <a:ext cx="59007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826920" y="1844640"/>
            <a:ext cx="7704360" cy="43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900000" y="2013120"/>
            <a:ext cx="7775640" cy="41511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24000" y="63972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казатели агрессив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 изучаемых групп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Схема корреляционных связей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92360" y="4005360"/>
            <a:ext cx="1270080" cy="1152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35280" y="1628640"/>
            <a:ext cx="1257480" cy="1168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77080" y="1557360"/>
            <a:ext cx="1258920" cy="1198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700280"/>
            <a:ext cx="1224000" cy="1150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627280" y="2634840"/>
            <a:ext cx="1312920" cy="14432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64000" y="4005360"/>
            <a:ext cx="1224000" cy="11635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92360" y="2205000"/>
            <a:ext cx="1984320" cy="18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7480" y="2133720"/>
            <a:ext cx="2020680" cy="1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4641480" y="2706840"/>
            <a:ext cx="939960" cy="14443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2574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32360" y="4941360"/>
            <a:ext cx="38498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Times New Roman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Агрессивность общ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Times New Roman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Уровень взаимоотношений в семь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Times New Roman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Тревожность самооценочн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Times New Roman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Тревожность общ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Times New Roman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раждеб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79640" y="191628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- 0,4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8360" y="350028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- 0,4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16360" y="364500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- 0,4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0200" y="1842840"/>
            <a:ext cx="68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- 0,36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2:05:11Z</dcterms:created>
  <dc:creator>татьяна</dc:creator>
  <dc:description/>
  <dc:language>en-US</dc:language>
  <cp:lastModifiedBy>Владелец</cp:lastModifiedBy>
  <dcterms:modified xsi:type="dcterms:W3CDTF">2009-05-25T20:54:12Z</dcterms:modified>
  <cp:revision>12</cp:revision>
  <dc:subject/>
  <dc:title>ОСОБЕННОСТИ МЕЖЛИЧНОСТНОГО ОБЩЕНИЯ ПОДРОСТКОВ С ЛЕГКОЙ СТЕПЕНЬЮ УМСТВЕННОЙ ОТСТАЛОСТИ</dc:title>
</cp:coreProperties>
</file>