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DCE-31E7-45B1-8384-1704E463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C75-6740-4E04-842B-DC8E4EDA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602-6FD2-41D2-B592-DA281395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7C5-260E-42D3-8EB3-8E8B2451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50EA8-B987-4C2C-A3B1-CD6F1D3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C7D9A-4083-44B5-B686-2F0AE31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9BEC9-2A7C-49DA-B208-12B3708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8A4F2-023D-4111-B689-D65F677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6923E-BEFA-4EE7-A73B-BC32162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E33E-F02E-4D62-9D50-E48AAC68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C51A6-52A8-4161-B00A-86F994E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3E7-C22B-486A-82EC-7879102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72A2-AD3B-4BA2-B4E0-E850F68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FBC0-3EFB-4FAC-8223-8A8D56D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34E8-00F7-44BC-8B98-824D8CA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5A940-7BD9-4F9C-B798-DCC9DD5C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E41E-DE45-43BC-A624-7C2D837E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9C2-C19C-4B2C-94A2-B5346CA0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CA7-ABFB-452F-8516-355CB46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C8E-B4F7-43CF-88F1-48F5124A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C2E-DB65-4600-BD9E-822192EB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F2-0D1D-4EEB-A5BB-B902394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E30-2F76-4813-8748-0E18967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85A-868E-42C3-B768-DDE70EF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DDF1C-7DB1-4E5C-B6D4-C3F35A886A4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5120" cy="851040"/>
            <a:chOff x="-1440" y="6033960"/>
            <a:chExt cx="784512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800" cy="851040"/>
              <a:chOff x="3944880" y="6033960"/>
              <a:chExt cx="389880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788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556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96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BC322F-B571-4CB0-957F-52CA5E503A0E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СОБЕННОСТИ СУБЪЕКТИВНЫХ ЛИЧНОСТНО-СМЫСЛОВЫХ ОТНОШЕНИЙ У ПОДРОСТКОВ С ДЕВИАНТНЫМ ПОВЕДЕНИЕМ»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429000"/>
            <a:ext cx="64008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23ff2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Times New Roman"/>
              </a:rPr>
              <a:t>Николаева Марина Владимировна</a:t>
            </a:r>
            <a:r>
              <a:rPr b="1" lang="ru-RU" sz="1800" spc="-1" strike="noStrike">
                <a:solidFill>
                  <a:srgbClr val="23ff2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выступление на МЕТОДОБЪЕДИ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360" y="-136800"/>
            <a:ext cx="59752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i="1" lang="ru-RU" sz="4400" spc="-1" strike="noStrike">
                <a:solidFill>
                  <a:srgbClr val="e3e3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тревожности изучаемых групп выявил, что  подростки с девиантным поведением характеризуются  как самоуверенные, небоязливые, нечувствительные к замечаниям, беззаботные, не склонные к самоупрекам. У подростков с девиантным поведением уровень школьной тревожности достоверно выше, чем уровень самооценочной и общей тревожности. Высокий уровень школьной тревожности связан с тем, что данная группа подростков находится в условиях школы закрытого типа, и вся жизнь подростка проходит в стенах школы. Отмечается  общий негативный эмоциональный фон отношений со взрослыми в школе, неблагоприятный психический фон переживания тревоги в ситуациях проверки знаний, достижений, переживание ситуаций, сопряженных с необходимостью самораскрытия и демонстрации своих возмож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авнительный анализ результатов исследования самооценки и уровня притязаний у подростков с девиантным поведением и подростков контрольной группы выявил, что подростки с девиантным поведением характеризуются нереалистическим, некритическим отношением к собственным возможностям, личностной незрелостью, неумением правильно оценивать результаты своей деятельности, сравнивать себя с другими. Обнаружено большое расхождение между «Я»-реальным и «Я»-идеальным у подростков с девиантным поведением. Такая самооценка указывает на существенные искажения в формировании личностно-смысловых отношений данных подростков, что проявляется в нечувствительности к своим ошибкам, неудачам, замечаниям и оценкам окружающих. Данные подростки склонны к неадекватно завышенной самооценке, преувеличению собственной значимости, в намерениях полны грандиозных планов, берутся за множество идей сразу, не прорабатывая ни одну из них до ко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Исследование уровня одиночества в изучаемых группах выявило, что подростки с девиантным поведением не склонны испытывать чувство одиночества. Это связано как с особенностями личности подростков, так и с субъективными личностно-смысловыми отношениями данных подростков. Для них характерны тяга к общению, стремление быть на виду, отсутствие особой разборчивости в контактах, при этом могут подражать авторитетной лидирующей личности. У подростков отмечается бесцеремонность поведения, снисходительное отношение к своим промахам и недостаткам, легко возникающие эмоциональные всплески с быстрой отходчивостью, непостоянство в привязанностях, легкость в принятии решений,  при этом достаточно быстро происходит пресыщение однообраз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5800" indent="-59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равнительный анализ особенностей агрессивных проявлений у подростков и подростков контрольной группы показал, что подростки с девиантным поведением характеризуются более высоким уровнем агрессии, которая проявляется в форме использования физической силы, выражения негативных чувств (угрозы, ругань, проклятья), оппозиционного поведения, направленного против авторитета или руководства, либо на друго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лиц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Выводы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Исследование особенности внутрисемейных отношений, что подростки с девиантным поведением оценивают отношения в своих семьях как менее благополучные. Подростки с девиантным поведением склонны переоценивать и идеализировать внутрисемейные взаимоотношения. Подростки-сироты, воспитывающиеся опекунами, придумывают фантастические истории о своих родителях, замещая отсутствие семейных взаимоотношений вымышленными 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9680" indent="-5896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Анализ корреляционных связей  показал, что при благоприятных взаимоотношениях в семье у подростков с девиантным поведением показатели общей тревожности и самооценочной тревожности, а также проявление открытой агрессии и враждебности соответствуют низкому уровн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</a:rPr>
              <a:t>Цель: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емонстрация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субъективных личностно-смысловых отношений подростков с девиантным поведением.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268640"/>
            <a:ext cx="81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Объект исследования.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 Подростки в возрасте от 11 до 18 лет с девиантным поведе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Предмет исследования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Субъективные личностно-смысловые отношения подростков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За</a:t>
            </a: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да</a:t>
            </a:r>
            <a:r>
              <a:rPr b="1" lang="ru-RU" sz="4000" spc="-1" strike="noStrike">
                <a:solidFill>
                  <a:srgbClr val="e3e3ff"/>
                </a:solidFill>
                <a:latin typeface="Times New Roman"/>
              </a:rPr>
              <a:t>чи: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1. Исследовать уровень тревожности у подростков с девиантным поведением.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2. Исследовать уровень одиночества и его влияние на субъективные личностно-смысловые отнош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3. Исследовать уровень самооценки и уровня притязаний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4. Исследовать особенности агрессивного поведения у подростков с девиантным поведением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5. Исследовать особенности внутрисемейных отношений в контрольной и экспериментальной группах.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7280" y="76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Times New Roman"/>
              </a:rPr>
              <a:t>Методик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личной тревожности А.М. Прихож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Шкала одиночества Д. Рассел, Л. Пепло, М. Фергюс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диагностики состояния агрессии А. Басс, А. Да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просник социализации для школьников «Моя семья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самооценки по методике Дембо-Рубенштей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казатели уровня тревожности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в изучаемых группах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33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725480"/>
            <a:ext cx="8280360" cy="45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45320" y="471780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Показатели тревожности в изучаемых групп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4901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сследование уровня  самооценки и уровня притязаний у подростков с девиантным поведением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4760" y="1838160"/>
          <a:ext cx="590076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838160"/>
                    <a:ext cx="5900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26920" y="1844640"/>
            <a:ext cx="770436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00000" y="2013120"/>
            <a:ext cx="7775640" cy="415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6397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казатели агресс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изучаемых груп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Схема корреляционных связей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005360"/>
            <a:ext cx="127008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628640"/>
            <a:ext cx="1257480" cy="1168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557360"/>
            <a:ext cx="1258920" cy="1198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700280"/>
            <a:ext cx="1224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627280" y="2634840"/>
            <a:ext cx="1312920" cy="1443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05360"/>
            <a:ext cx="1224000" cy="116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05000"/>
            <a:ext cx="1984320" cy="1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7480" y="2133720"/>
            <a:ext cx="2020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641480" y="2706840"/>
            <a:ext cx="939960" cy="1444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4941360"/>
            <a:ext cx="3849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грессив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ровень взаимоотношений в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самооцено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вожность общ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раждеб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1916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3500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360" y="36450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0200" y="18428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- 0,3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05:11Z</dcterms:created>
  <dc:creator>татьяна</dc:creator>
  <dc:description/>
  <dc:language>en-US</dc:language>
  <cp:lastModifiedBy>Владелец</cp:lastModifiedBy>
  <dcterms:modified xsi:type="dcterms:W3CDTF">2009-05-25T20:54:12Z</dcterms:modified>
  <cp:revision>12</cp:revision>
  <dc:subject/>
  <dc:title>ОСОБЕННОСТИ МЕЖЛИЧНОСТНОГО ОБЩЕНИЯ ПОДРОСТКОВ С ЛЕГКОЙ СТЕПЕНЬЮ УМСТВЕННОЙ ОТСТАЛОСТИ</dc:title>
</cp:coreProperties>
</file>