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ED8-99CF-4F50-8509-2FD46C4D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41B-4A24-4288-8F86-182B46B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437-1E21-4F7E-AA93-179B44E6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EAE-3994-4423-B6B6-B2EAE20C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86BA7-D7EB-4D82-82B8-84E3D113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4938F-AD9C-452C-8D16-E3F722D1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C49E-000F-4FEC-84BA-68D0B8B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DFE4A-8BD0-4851-95B1-B44062BF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6C0DB-E5C1-44E4-82AF-D1978367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C43B2-6571-4E83-BA85-E97D731B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F7196-91DC-4800-84E8-34DDD2A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CDC-CADE-4FD6-B313-572CD34B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B64D5-9844-4DCC-8660-2D496347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AA198-9019-4540-A3F2-DFCC9EA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334C4-80DC-4949-A39B-58BFED66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10D7-6E9E-41A5-B607-82D8FE4F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9C456-AB08-40EF-9950-696EB30F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7AD-D397-489A-9867-D2F67D47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C86-07F2-4A86-ACB9-E5F82992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9B4-2A97-40E5-A73A-54129EE2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2F1-5E51-49DB-B3C0-22A88FFA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62-80A2-4139-B30F-1E358C0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918-0CFA-4A61-9A26-7F508BD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E74-F567-4140-9777-46442B0E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0F078-0BB3-4475-9817-B706BA37E10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5120" cy="851040"/>
            <a:chOff x="-1440" y="6033960"/>
            <a:chExt cx="784512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36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800" cy="851040"/>
              <a:chOff x="3944880" y="6033960"/>
              <a:chExt cx="389880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788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556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880" cy="8496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FEFE31-C679-4C1E-946B-FEA3734E6481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ОСОБЕННОСТИ СУБЪЕКТИВНЫХ ЛИЧНОСТНО-СМЫСЛОВЫХ ОТНОШЕНИЙ У ПОДРОСТКОВ С ДЕВИАНТНЫМ ПОВЕДЕНИЕМ»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429000"/>
            <a:ext cx="64008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3ff23"/>
                </a:solidFill>
                <a:latin typeface="Times New Roman"/>
              </a:rPr>
              <a:t>Николаева Марина Владимировна</a:t>
            </a:r>
            <a:r>
              <a:rPr b="1" lang="ru-RU" sz="1800" spc="-1" strike="noStrike">
                <a:solidFill>
                  <a:srgbClr val="23ff2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выступление на МЕТОДОБЪЕДИН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360" y="-136800"/>
            <a:ext cx="59752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Выводы</a:t>
            </a:r>
            <a:r>
              <a:rPr b="0" i="1" lang="ru-RU" sz="4400" spc="-1" strike="noStrike">
                <a:solidFill>
                  <a:srgbClr val="e3e3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авнительный анализ особенностей тревожности изучаемых групп выявил, что  подростки с девиантным поведением характеризуются  как самоуверенные, небоязливые, нечувствительные к замечаниям, беззаботные, не склонные к самоупрекам. У подростков с девиантным поведением уровень школьной тревожности достоверно выше, чем уровень самооценочной и общей тревожности. Высокий уровень школьной тревожности связан с тем, что данная группа подростков находится в условиях школы закрытого типа, и вся жизнь подростка проходит в стенах школы. Отмечается  общий негативный эмоциональный фон отношений со взрослыми в школе, неблагоприятный психический фон переживания тревоги в ситуациях проверки знаний, достижений, переживание ситуаций, сопряженных с необходимостью самораскрытия и демонстрации своих возмож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авнительный анализ результатов исследования самооценки и уровня притязаний у подростков с девиантным поведением и подростков контрольной группы выявил, что подростки с девиантным поведением характеризуются нереалистическим, некритическим отношением к собственным возможностям, личностной незрелостью, неумением правильно оценивать результаты своей деятельности, сравнивать себя с другими. Обнаружено большое расхождение между «Я»-реальным и «Я»-идеальным у подростков с девиантным поведением. Такая самооценка указывает на существенные искажения в формировании личностно-смысловых отношений данных подростков, что проявляется в нечувствительности к своим ошибкам, неудачам, замечаниям и оценкам окружающих. Данные подростки склонны к неадекватно завышенной самооценке, преувеличению собственной значимости, в намерениях полны грандиозных планов, берутся за множество идей сразу, не прорабатывая ни одну из них до ко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Выводы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-59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Исследование уровня одиночества в изучаемых группах выявило, что подростки с девиантным поведением не склонны испытывать чувство одиночества. Это связано как с особенностями личности подростков, так и с субъективными личностно-смысловыми отношениями данных подростков. Для них характерны тяга к общению, стремление быть на виду, отсутствие особой разборчивости в контактах, при этом могут подражать авторитетной лидирующей личности. У подростков отмечается бесцеремонность поведения, снисходительное отношение к своим промахам и недостаткам, легко возникающие эмоциональные всплески с быстрой отходчивостью, непостоянство в привязанностях, легкость в принятии решений,  при этом достаточно быстро происходит пресыщение однообраз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5800" indent="-59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равнительный анализ особенностей агрессивных проявлений у подростков и подростков контрольной группы показал, что подростки с девиантным поведением характеризуются более высоким уровнем агрессии, которая проявляется в форме использования физической силы, выражения негативных чувств (угрозы, ругань, проклятья), оппозиционного поведения, направленного против авторитета или руководства, либо на друго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лиц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Выводы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-5896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Исследование особенности внутрисемейных отношений, что подростки с девиантным поведением оценивают отношения в своих семьях как менее благополучные. Подростки с девиантным поведением склонны переоценивать и идеализировать внутрисемейные взаимоотношения. Подростки-сироты, воспитывающиеся опекунами, придумывают фантастические истории о своих родителях, замещая отсутствие семейных взаимоотношений вымышленными 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9680" indent="-5896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Анализ корреляционных связей  показал, что при благоприятных взаимоотношениях в семье у подростков с девиантным поведением показатели общей тревожности и самооценочной тревожности, а также проявление открытой агрессии и враждебности соответствуют низкому уровн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</a:rPr>
              <a:t>Цель: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емонстрация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 субъективных личностно-смысловых отношений подростков с девиантным поведением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268640"/>
            <a:ext cx="81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Объект исследования.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 Подростки в возрасте от 11 до 18 лет с девиантным поведе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Предмет исследования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Субъективные личностно-смысловые отношения подростков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За</a:t>
            </a:r>
            <a:r>
              <a:rPr b="0" lang="ru-RU" sz="4000" spc="-1" strike="noStrike">
                <a:solidFill>
                  <a:srgbClr val="e3e3ff"/>
                </a:solidFill>
                <a:latin typeface="Times New Roman"/>
              </a:rPr>
              <a:t>да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чи: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1. Исследовать уровень тревожности у подростков с девиантным поведением.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2. Исследовать уровень одиночества и его влияние на субъективные личностно-смысловые отношения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3. Исследовать уровень самооценки и уровня притязаний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4. Исследовать особенности агрессивного поведения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5. Исследовать особенности внутрисемейных отношений в контрольной и экспериментальной группах.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27280" y="76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Times New Roman"/>
              </a:rPr>
              <a:t>Методик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Шкала личной тревожности А.М. Прихож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Шкала одиночества Д. Рассел, Л. Пепло, М. Фергюс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просник диагностики состояния агрессии А. Басс, А. Дар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просник социализации для школьников «Моя семья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сследование самооценки по методике Дембо-Рубенштей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казатели уровня тревожности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в изучаемых группах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33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725480"/>
            <a:ext cx="8280360" cy="45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45320" y="471780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ис. 1. Показатели тревожности в изучаемых групп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4901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сследование уровня  самооценки и уровня притязаний у подростков с девиантным поведением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4760" y="1838160"/>
          <a:ext cx="590076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838160"/>
                    <a:ext cx="59007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826920" y="1844640"/>
            <a:ext cx="770436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00000" y="2013120"/>
            <a:ext cx="7775640" cy="415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6397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казатели агресс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изучаемых груп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Схема корреляционных связей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4005360"/>
            <a:ext cx="1270080" cy="115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628640"/>
            <a:ext cx="1257480" cy="1168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557360"/>
            <a:ext cx="1258920" cy="1198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700280"/>
            <a:ext cx="1224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627280" y="2634840"/>
            <a:ext cx="1312920" cy="1443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005360"/>
            <a:ext cx="1224000" cy="116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205000"/>
            <a:ext cx="1984320" cy="1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7480" y="2133720"/>
            <a:ext cx="2020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641480" y="2706840"/>
            <a:ext cx="939960" cy="14443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57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4941360"/>
            <a:ext cx="3849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грессивность общ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ровень взаимоотношений в сем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вожность самооцено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вожность общ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раждеб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1916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3500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360" y="36450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0200" y="184284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3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05:11Z</dcterms:created>
  <dc:creator>татьяна</dc:creator>
  <dc:description/>
  <dc:language>en-US</dc:language>
  <cp:lastModifiedBy>Владелец</cp:lastModifiedBy>
  <dcterms:modified xsi:type="dcterms:W3CDTF">2009-05-25T20:54:12Z</dcterms:modified>
  <cp:revision>12</cp:revision>
  <dc:subject/>
  <dc:title>ОСОБЕННОСТИ МЕЖЛИЧНОСТНОГО ОБЩЕНИЯ ПОДРОСТКОВ С ЛЕГКОЙ СТЕПЕНЬЮ УМСТВЕННОЙ ОТСТАЛОСТИ</dc:title>
</cp:coreProperties>
</file>