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0A77-8D19-4CFA-A693-59DA4A9F29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FDB8-808C-4AF4-A240-D7AD8F733F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1D9-E702-435C-8ED4-B111BFAA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094-4291-4E46-9304-C43FAC29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222-68D7-4C1D-ADC2-B56D0491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E760-44B1-4F48-BAEC-561B31CB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388-C36A-4321-9EEB-A3E25B66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D16-9A3A-4557-A6B4-E31A75BA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41F-DADC-4749-8974-1AD249BA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F67-A07F-4739-B64E-761343FE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5C7-77BF-4EF0-9594-46434588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CC1-286F-46F7-A0B9-87A0BB52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7AA-485E-4867-A1C7-346508F0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233-234E-4C16-89EF-E31EC608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5ED3-1488-4725-B0BF-272F0C7E5FF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257C-4784-4845-83BF-DCC33D204B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Блок-схема: альтернативный процесс 6" descr=""/>
          <p:cNvPicPr/>
          <p:nvPr/>
        </p:nvPicPr>
        <p:blipFill>
          <a:blip r:embed="rId3"/>
          <a:stretch/>
        </p:blipFill>
        <p:spPr>
          <a:xfrm>
            <a:off x="2779560" y="4925880"/>
            <a:ext cx="3949920" cy="1017720"/>
          </a:xfrm>
          <a:prstGeom prst="rect">
            <a:avLst/>
          </a:prstGeom>
          <a:ln w="0">
            <a:noFill/>
          </a:ln>
        </p:spPr>
      </p:pic>
      <p:sp>
        <p:nvSpPr>
          <p:cNvPr id="42" name="Улыбающееся лицо 7"/>
          <p:cNvSpPr/>
          <p:nvPr/>
        </p:nvSpPr>
        <p:spPr>
          <a:xfrm>
            <a:off x="3286080" y="2500200"/>
            <a:ext cx="2857680" cy="270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5840">
            <a:solidFill>
              <a:srgbClr val="ba6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hyperlink" Target="http://2.bp.blogspot.com/-2s5nW4goVtM/UHmoW2PrW4I/AAAAAAAAFII/SqDDBWblY0A/s1600/SAM_2173.JP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hyperlink" Target="http://3.bp.blogspot.com/-bxFCOEE_oOg/UHmo-gCzB1I/AAAAAAAAFIQ/_mBbjsVigaI/s1600/SAM_2203.J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C5F2-0D52-4B4B-ABA7-8187580A7EA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428400"/>
            <a:ext cx="7585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ОСОБЕННОСТИ 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СИХОЛОГИЧЕСКОГО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СОПРОВОЖДЕНИЯ ДЕТЕЙ 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С ОГРАНИЧЕННЫМИ ВОЗМОЖНОСТЯМИ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ЗДОРОВЬЯ В УСЛОВИЯХ 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ДОШКОЛЬНОГО ОБРАЗОВАТЕЛЬНОГО 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УЧРЕЖДЕНИЯ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866920" y="3500280"/>
            <a:ext cx="3025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Педагог – психолог</a:t>
            </a:r>
            <a:r>
              <a:rPr b="1" i="1" lang="en-US" sz="2000" spc="-1" strike="noStrike">
                <a:solidFill>
                  <a:srgbClr val="0b07b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b07b9"/>
                </a:solidFill>
                <a:latin typeface="Arial"/>
              </a:rPr>
              <a:t>высше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МБДО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комбинированного вида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детский сад №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«Росинка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г.Бел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Стецюк Еле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наш знак"/>
          <p:cNvPicPr/>
          <p:nvPr/>
        </p:nvPicPr>
        <p:blipFill>
          <a:blip r:embed="rId2"/>
          <a:stretch/>
        </p:blipFill>
        <p:spPr>
          <a:xfrm>
            <a:off x="979560" y="404640"/>
            <a:ext cx="504720" cy="79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1\Desktop\People_Children_Girl_in_Grass_034672_29.jpg"/>
          <p:cNvPicPr/>
          <p:nvPr/>
        </p:nvPicPr>
        <p:blipFill>
          <a:blip r:embed="rId3"/>
          <a:stretch/>
        </p:blipFill>
        <p:spPr>
          <a:xfrm>
            <a:off x="971640" y="2708280"/>
            <a:ext cx="475272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C4B-739E-41C9-9BE6-87E18B344DCC}" type="slidenum">
              <a:t>1</a:t>
            </a:fld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B8CA-7217-4A7A-8C0E-CB94A511D9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45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Консультативно просветительское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и профилактическое   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направление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71280" y="1699920"/>
            <a:ext cx="8172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абота по данному направлению обеспечивает оказание педагогам и родителям помощи в воспитании и обучении ребёнка с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.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Психолог разрабатывает рекомендации в соответствии с возрастными и индивидуально-тип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собенностями детей,</a:t>
            </a:r>
            <a:r>
              <a:rPr b="0" lang="ru-RU" sz="24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ров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мероприятия, способств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овышению профессион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омпетенции педагог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ключению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 решение коррекцио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оспитательны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schastlivyi-rebenok-invalid"/>
          <p:cNvPicPr/>
          <p:nvPr/>
        </p:nvPicPr>
        <p:blipFill>
          <a:blip r:embed="rId2"/>
          <a:stretch/>
        </p:blipFill>
        <p:spPr>
          <a:xfrm>
            <a:off x="5724360" y="306864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Users\1\Desktop\695_big.jpeg"/>
          <p:cNvPicPr/>
          <p:nvPr/>
        </p:nvPicPr>
        <p:blipFill>
          <a:blip r:embed="rId3"/>
          <a:stretch/>
        </p:blipFill>
        <p:spPr>
          <a:xfrm>
            <a:off x="1417680" y="743040"/>
            <a:ext cx="2506680" cy="95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F45-2105-4C0E-8660-21BE11470533}" type="slidenum">
              <a:t>10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B132-873F-4979-AC9E-5959C581F9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31640" y="1335240"/>
            <a:ext cx="764388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Данное направление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Georgia"/>
              </a:rPr>
              <a:t>педагога - психолога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 включает подготовку материалов к консилиумам, методическим объединениям, педагогическим советам, участие в указанных мероприятиях, а также оформление докум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71720" y="4046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Организационно – методическое напр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C:\Users\1\Desktop\ОБОИ\baner_1.jpg"/>
          <p:cNvPicPr/>
          <p:nvPr/>
        </p:nvPicPr>
        <p:blipFill>
          <a:blip r:embed="rId2"/>
          <a:stretch/>
        </p:blipFill>
        <p:spPr>
          <a:xfrm rot="20663400">
            <a:off x="1329840" y="4641480"/>
            <a:ext cx="1757520" cy="1760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1\Desktop\ОБОИ\frg.jpg"/>
          <p:cNvPicPr/>
          <p:nvPr/>
        </p:nvPicPr>
        <p:blipFill>
          <a:blip r:embed="rId3"/>
          <a:stretch/>
        </p:blipFill>
        <p:spPr>
          <a:xfrm rot="756000">
            <a:off x="6695640" y="4656240"/>
            <a:ext cx="1852560" cy="1849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Users\1\Desktop\ОБОИ\pedagogika.png"/>
          <p:cNvPicPr/>
          <p:nvPr/>
        </p:nvPicPr>
        <p:blipFill>
          <a:blip r:embed="rId4"/>
          <a:stretch/>
        </p:blipFill>
        <p:spPr>
          <a:xfrm>
            <a:off x="971640" y="395280"/>
            <a:ext cx="1079280" cy="1521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C:\Users\1\Desktop\menu-page4.png"/>
          <p:cNvPicPr/>
          <p:nvPr/>
        </p:nvPicPr>
        <p:blipFill>
          <a:blip r:embed="rId5"/>
          <a:stretch/>
        </p:blipFill>
        <p:spPr>
          <a:xfrm>
            <a:off x="3708360" y="4653000"/>
            <a:ext cx="266400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315-C8F3-4ADB-BE8E-8A00EFD6A821}" type="slidenum">
              <a:t>11</a:t>
            </a:fld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1FB7-F6E0-4372-8BC4-DA62C1C97B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6920" y="-603360"/>
            <a:ext cx="7488360" cy="70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Мир «особого» ребёнка интересен и пуглив.                                                                                                                     Мир «особого» ребёнка безобразен и красив.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Неуклюж, порою странен, добродушен и открыт.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Мир «особого» ребёнка. Иногда он нас страшит.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Почему он агрессивен? Почему он так закрыт?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Почему он так испуган? Почему не говорит?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Мир «особого» ребёнка –он закрыт от глаз чужих.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Мир «особого» ребёнка -допускает лишь своих!</a:t>
            </a:r>
            <a:br>
              <a:rPr sz="18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:\Users\1\Desktop\пе.jpg"/>
          <p:cNvPicPr/>
          <p:nvPr/>
        </p:nvPicPr>
        <p:blipFill>
          <a:blip r:embed="rId2"/>
          <a:stretch/>
        </p:blipFill>
        <p:spPr>
          <a:xfrm>
            <a:off x="4067280" y="4865760"/>
            <a:ext cx="2160360" cy="165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1\Desktop\cropped-doshkolnik2.jpg"/>
          <p:cNvPicPr/>
          <p:nvPr/>
        </p:nvPicPr>
        <p:blipFill>
          <a:blip r:embed="rId3"/>
          <a:stretch/>
        </p:blipFill>
        <p:spPr>
          <a:xfrm>
            <a:off x="1332000" y="260280"/>
            <a:ext cx="7127640" cy="2089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:\Users\1\Desktop\_MG_5557 okjc.jpg"/>
          <p:cNvPicPr/>
          <p:nvPr/>
        </p:nvPicPr>
        <p:blipFill>
          <a:blip r:embed="rId4"/>
          <a:stretch/>
        </p:blipFill>
        <p:spPr>
          <a:xfrm rot="20790600">
            <a:off x="6797520" y="4651200"/>
            <a:ext cx="2097360" cy="1940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C:\Users\1\Desktop\36a48b21f0d8d21947129d0743415182.jpg"/>
          <p:cNvPicPr/>
          <p:nvPr/>
        </p:nvPicPr>
        <p:blipFill>
          <a:blip r:embed="rId5"/>
          <a:stretch/>
        </p:blipFill>
        <p:spPr>
          <a:xfrm rot="637200">
            <a:off x="1171080" y="4722840"/>
            <a:ext cx="2151360" cy="194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54C-BAD6-4576-9441-4C28333DFF1F}" type="slidenum">
              <a:t>12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4861-5FED-42DA-948A-29362CCF48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42560" y="40428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«Каждый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ребёнок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имеет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возмож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быть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психологически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готовым 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школьному 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обучению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на  своём 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уров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соответственно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своим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личностным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особенностя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1\Desktop\Рисунок1.jpg"/>
          <p:cNvPicPr/>
          <p:nvPr/>
        </p:nvPicPr>
        <p:blipFill>
          <a:blip r:embed="rId2"/>
          <a:stretch/>
        </p:blipFill>
        <p:spPr>
          <a:xfrm>
            <a:off x="1332000" y="2421000"/>
            <a:ext cx="734364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FE51-CFEB-46C4-9ADB-4778E84FB6B2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519E-B9DC-4235-9CC4-7307B1ADF1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47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Специальные  </a:t>
            </a: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Georgi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3280" y="1125360"/>
            <a:ext cx="77770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          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Georgia"/>
              </a:rPr>
              <a:t>Федеральные государственные образовательные  стандарты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для детей с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ОВЗ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[1] рассматриваются как неотъемлемая часть федеральных государственных стандартов общего образования. Такой подход согласуется с Декларацией ООН о правах ребенка и Конститу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РФ, гарантирующей всем детям право на обязательное  и бесплатное средн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Специальный образова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стандарт должен стать баз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инструментом реал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конституционных пра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образование граждан с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ОВЗ. 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:\Users\1\Desktop\81227_html_m72b9a6c3.png"/>
          <p:cNvPicPr/>
          <p:nvPr/>
        </p:nvPicPr>
        <p:blipFill>
          <a:blip r:embed="rId2"/>
          <a:stretch/>
        </p:blipFill>
        <p:spPr>
          <a:xfrm>
            <a:off x="6084720" y="4292640"/>
            <a:ext cx="2519640" cy="208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1\Desktop\1089136.jpg"/>
          <p:cNvPicPr/>
          <p:nvPr/>
        </p:nvPicPr>
        <p:blipFill>
          <a:blip r:embed="rId3"/>
          <a:stretch/>
        </p:blipFill>
        <p:spPr>
          <a:xfrm rot="1170000">
            <a:off x="7812000" y="190440"/>
            <a:ext cx="1040040" cy="1365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Users\1\Desktop\1917114.jpg"/>
          <p:cNvPicPr/>
          <p:nvPr/>
        </p:nvPicPr>
        <p:blipFill>
          <a:blip r:embed="rId4"/>
          <a:stretch/>
        </p:blipFill>
        <p:spPr>
          <a:xfrm rot="20499000">
            <a:off x="922320" y="178920"/>
            <a:ext cx="1001880" cy="13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A70-7A42-4789-A7F7-21021CD78CBB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F76B-BE9F-45CD-8AF1-CE93CD7DF4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85016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Georgia"/>
              </a:rPr>
              <a:t>Дети с ОВЗ</a:t>
            </a:r>
            <a:r>
              <a:rPr b="0" lang="ru-RU" sz="2400" spc="-1" strike="noStrike">
                <a:solidFill>
                  <a:srgbClr val="ff0066"/>
                </a:solidFill>
                <a:latin typeface="Georgia"/>
              </a:rPr>
              <a:t> -</a:t>
            </a: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 это дети с ограниченными 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                   возможностями здоровья.</a:t>
            </a:r>
            <a:r>
              <a:rPr b="1" lang="ru-RU" sz="2400" spc="-1" strike="noStrike">
                <a:solidFill>
                  <a:srgbClr val="800080"/>
                </a:solidFill>
                <a:latin typeface="Georgia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Дети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, состояние здоровья которых препятствует освоению образовательных программ вне  специальных условий обучения и воспитания, то есть это дети-инвалиды  либо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другие дети в возрасте до 18 лет,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е признанные в установленном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порядке детьми-инвалидами,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о имеющие временные 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или постоянные отклонения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 физическом и (или)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сихическом развитии и 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уждающиеся в создании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специальных условий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бучения и 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Рисунок6"/>
          <p:cNvPicPr/>
          <p:nvPr/>
        </p:nvPicPr>
        <p:blipFill>
          <a:blip r:embed="rId2"/>
          <a:stretch/>
        </p:blipFill>
        <p:spPr>
          <a:xfrm rot="1035600">
            <a:off x="6049440" y="3065040"/>
            <a:ext cx="2735280" cy="352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542-26B6-444B-AB3F-1DF07B9AA622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E043-4ABD-4004-B606-22C422E872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8066160" cy="70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Группа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дошкольников с 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ОВЗ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не однородна,  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 в неё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 входят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дети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с разными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нарушениями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развития,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выраженность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которых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может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быть 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различна:</a:t>
            </a:r>
            <a:br>
              <a:rPr sz="24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нарушениями опорно-двигательного аппарата</a:t>
            </a:r>
            <a:r>
              <a:rPr b="1" lang="en-US" sz="2000" spc="-1" strike="noStrike">
                <a:solidFill>
                  <a:srgbClr val="0b07b9"/>
                </a:solidFill>
                <a:latin typeface="Georgia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дети с нарушениями интеллектуального развития;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нарушениями эмоционально-волевой сферы;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дети с комплексными 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     (сложными)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     нарушениями развития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нарушениями слуха;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дети с нарушениями зрения; 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тяжелыми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     нарушениями  речи</a:t>
            </a: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C:\Users\1\Desktop\92818790_3646178_imagedeti.png"/>
          <p:cNvPicPr/>
          <p:nvPr/>
        </p:nvPicPr>
        <p:blipFill>
          <a:blip r:embed="rId2"/>
          <a:stretch/>
        </p:blipFill>
        <p:spPr>
          <a:xfrm>
            <a:off x="5219640" y="3500280"/>
            <a:ext cx="3600360" cy="28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652-CD6E-4A27-9584-555D9613393F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69DB-636A-4AC5-B4B2-6463FF5158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760392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Ключевыми  направлениями работы психолога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ДОУ с детьми с ОВЗ является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диагностическая, коррекционная и развивающая работа; профилактическая и консультативная работа с педагогами и родителями, воспитывающими детей данной катег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71280" y="2997000"/>
            <a:ext cx="7529400" cy="33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Georgia"/>
              </a:rPr>
              <a:t>Содержание программы коррекционной работы определяют следующие принци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eorgia"/>
              </a:rPr>
              <a:t>соблюдение интересов ребё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1800" spc="-1" strike="noStrike">
                <a:solidFill>
                  <a:srgbClr val="008000"/>
                </a:solidFill>
                <a:latin typeface="Georgia"/>
              </a:rPr>
              <a:t>системность и доступность;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Georgia"/>
              </a:rPr>
              <a:t>непреры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eorgia"/>
              </a:rPr>
              <a:t>вариа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Georgia"/>
              </a:rPr>
              <a:t>принцип создания ситуации успе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Georgia"/>
              </a:rPr>
              <a:t>принцип психолог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Georgia"/>
              </a:rPr>
              <a:t>комфортности;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eorgia"/>
              </a:rPr>
              <a:t>гуманность и реалист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C:\Users\1\Desktop\68482414.jpg"/>
          <p:cNvPicPr/>
          <p:nvPr/>
        </p:nvPicPr>
        <p:blipFill>
          <a:blip r:embed="rId2"/>
          <a:stretch/>
        </p:blipFill>
        <p:spPr>
          <a:xfrm>
            <a:off x="1116000" y="3716280"/>
            <a:ext cx="3095640" cy="28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DF1-B691-4C39-B9E2-621A7815A3C2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F5E8-078B-4DAE-9BB9-27ECD56AE5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Diagram 16"/>
          <p:cNvGrpSpPr/>
          <p:nvPr/>
        </p:nvGrpSpPr>
        <p:grpSpPr>
          <a:xfrm>
            <a:off x="1856520" y="3007800"/>
            <a:ext cx="6222960" cy="3694680"/>
            <a:chOff x="1856520" y="3007800"/>
            <a:chExt cx="6222960" cy="3694680"/>
          </a:xfrm>
        </p:grpSpPr>
        <p:sp>
          <p:nvSpPr>
            <p:cNvPr id="115" name="_s1028"/>
            <p:cNvSpPr/>
            <p:nvPr/>
          </p:nvSpPr>
          <p:spPr>
            <a:xfrm>
              <a:off x="4182840" y="3533400"/>
              <a:ext cx="1570680" cy="15026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29"/>
            <p:cNvSpPr/>
            <p:nvPr/>
          </p:nvSpPr>
          <p:spPr>
            <a:xfrm>
              <a:off x="4182840" y="3007800"/>
              <a:ext cx="15706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0"/>
            <p:cNvSpPr/>
            <p:nvPr/>
          </p:nvSpPr>
          <p:spPr>
            <a:xfrm>
              <a:off x="4780440" y="4104360"/>
              <a:ext cx="1570680" cy="15026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1"/>
            <p:cNvSpPr/>
            <p:nvPr/>
          </p:nvSpPr>
          <p:spPr>
            <a:xfrm>
              <a:off x="6508800" y="4668840"/>
              <a:ext cx="15706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Коррекцион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развивающе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направ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4182840" y="4676040"/>
              <a:ext cx="1570680" cy="15026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4182840" y="6328080"/>
              <a:ext cx="15706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Организационно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методическ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направление</a:t>
              </a:r>
              <a:r>
                <a:rPr b="1" lang="en-US" sz="1500" spc="-1" strike="noStrike">
                  <a:solidFill>
                    <a:srgbClr val="0000ff"/>
                  </a:solidFill>
                  <a:latin typeface="Georgia"/>
                </a:rPr>
                <a:t>.</a:t>
              </a:r>
              <a:br>
                <a:rPr sz="1500"/>
              </a:br>
              <a:br>
                <a:rPr sz="1500"/>
              </a:b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4"/>
            <p:cNvSpPr/>
            <p:nvPr/>
          </p:nvSpPr>
          <p:spPr>
            <a:xfrm>
              <a:off x="3585240" y="4104360"/>
              <a:ext cx="1570680" cy="1502640"/>
            </a:xfrm>
            <a:prstGeom prst="ellipse">
              <a:avLst/>
            </a:prstGeom>
            <a:solidFill>
              <a:srgbClr val="eeece1">
                <a:alpha val="50000"/>
              </a:srgbClr>
            </a:solidFill>
            <a:ln w="46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5"/>
            <p:cNvSpPr/>
            <p:nvPr/>
          </p:nvSpPr>
          <p:spPr>
            <a:xfrm>
              <a:off x="1856520" y="4668840"/>
              <a:ext cx="15706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Консультативно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просветительск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и профилактическое 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направление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9"/>
          <p:cNvSpPr/>
          <p:nvPr/>
        </p:nvSpPr>
        <p:spPr>
          <a:xfrm>
            <a:off x="1116000" y="47628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Программа коррекцион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на дошкольной сту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образования включ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в себя взаимосвязанные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Данные на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отражают её основное содержание: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 flipV="1" rot="10800000">
            <a:off x="3127320" y="2764800"/>
            <a:ext cx="37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Georgia"/>
              </a:rPr>
              <a:t>Диагностическое напра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479-1C76-4696-B2C6-FA97660A6EC7}" type="slidenum">
              <a:t>7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F990-6DA7-4D18-B2DF-7E2033B998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Диагностическое направление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00000" y="112500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Для успешности вос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и обучения  детей с </a:t>
            </a: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i="1" lang="ru-RU" sz="20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необходима правильна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оценка их возможносте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выявление особых   образов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тельных  потре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В связи с этим особая ро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отводится психолого-медик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педагогической диагнос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:\Users\1\Desktop\in-filleprim.jpg"/>
          <p:cNvPicPr/>
          <p:nvPr/>
        </p:nvPicPr>
        <p:blipFill>
          <a:blip r:embed="rId2"/>
          <a:stretch/>
        </p:blipFill>
        <p:spPr>
          <a:xfrm>
            <a:off x="1116000" y="981000"/>
            <a:ext cx="3024360" cy="5543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http://2.bp.blogspot.com/-2s5nW4goVtM/UHmoW2PrW4I/AAAAAAAAFII/SqDDBWblY0A/s320/SAM_217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4437000"/>
            <a:ext cx="3960720" cy="207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DE5-103E-4B07-88A8-B469D0F3D5D4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B9BA-18BA-411A-BC47-B58D24B21B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28760"/>
            <a:ext cx="76294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Коррекционно-развивающее на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71640" y="1412640"/>
            <a:ext cx="79214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сновными направл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оррекционно -развиваю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аботы психолога с детьми с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аходящимися в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бразовательной интеграции,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развитие эмоционально-личностной сферы и коррекция ее    недостат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развитие познавательной деятельности и целенаправленное форм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высших психических фун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формирование произвольной регуляции деятельности и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формирование и развитие социа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навыков и социализации</a:t>
            </a: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Users\1\Desktop\head1.jpg"/>
          <p:cNvPicPr/>
          <p:nvPr/>
        </p:nvPicPr>
        <p:blipFill>
          <a:blip r:embed="rId2"/>
          <a:stretch/>
        </p:blipFill>
        <p:spPr>
          <a:xfrm>
            <a:off x="6156360" y="1052640"/>
            <a:ext cx="2663640" cy="2232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http://3.bp.blogspot.com/-bxFCOEE_oOg/UHmo-gCzB1I/AAAAAAAAFIQ/_mBbjsVigaI/s320/SAM_220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4292640"/>
            <a:ext cx="180036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781-BE86-4F42-AEF4-BCD133A745CA}" type="slidenum">
              <a:t>9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5:31:12Z</dcterms:created>
  <dc:creator>administrator</dc:creator>
  <dc:description/>
  <dc:language>en-US</dc:language>
  <cp:lastModifiedBy>*</cp:lastModifiedBy>
  <dcterms:modified xsi:type="dcterms:W3CDTF">2013-04-12T18:54:57Z</dcterms:modified>
  <cp:revision>99</cp:revision>
  <dc:subject/>
  <dc:title>Обучение и воспитание успехом</dc:title>
</cp:coreProperties>
</file>