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CD41-91AD-4B9F-8F07-CCE682714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A69-B8B6-4EC3-8774-2DA395D52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0D2-38FF-4279-B0B4-12E21F29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F7E-B3BD-4D46-8B05-19F0EC4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333-8907-41BA-A880-0D7B4A3C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1C1-4C74-47E8-BD07-8ED0EC24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688-9B04-4DEA-8089-5F074A23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73E-71D2-461E-8B9A-8C1FDD4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712-BC5B-47B7-BB86-D9378CE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46B-F6DB-4A5F-AAA0-3571A43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811-16CF-4AC3-958E-AE5DA4E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C66-8FF2-453A-960C-D0F9B6C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0AC-D5EB-4408-8072-446D2F5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C6-DF0A-426D-901E-AF36E1E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A8C-F0DC-4924-9CE4-E46426BFBA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D9B1-3222-4F21-A4FD-E59136DFE3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79560" y="4925880"/>
            <a:ext cx="3949920" cy="10177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hyperlink" Target="http://2.bp.blogspot.com/-2s5nW4goVtM/UHmoW2PrW4I/AAAAAAAAFII/SqDDBWblY0A/s1600/SAM_2173.J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hyperlink" Target="http://3.bp.blogspot.com/-bxFCOEE_oOg/UHmo-gCzB1I/AAAAAAAAFIQ/_mBbjsVigaI/s1600/SAM_2203.J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86F-C4F1-4188-93D4-1868019A9F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r>
              <a:rPr b="1" i="1" lang="en-US" sz="2000" spc="-1" strike="noStrike">
                <a:solidFill>
                  <a:srgbClr val="0b07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b07b9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МБДО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комбинированного вида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детский сад №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«Росин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г.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тецюк Еле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2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People_Children_Girl_in_Grass_034672_29.jpg"/>
          <p:cNvPicPr/>
          <p:nvPr/>
        </p:nvPicPr>
        <p:blipFill>
          <a:blip r:embed="rId3"/>
          <a:stretch/>
        </p:blipFill>
        <p:spPr>
          <a:xfrm>
            <a:off x="971640" y="270828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2E7-B92C-4FCA-A226-0861776792B5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570-F677-4EA3-AD98-B8EFA49A64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chastlivyi-rebenok-invalid"/>
          <p:cNvPicPr/>
          <p:nvPr/>
        </p:nvPicPr>
        <p:blipFill>
          <a:blip r:embed="rId2"/>
          <a:stretch/>
        </p:blipFill>
        <p:spPr>
          <a:xfrm>
            <a:off x="5724360" y="306864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1\Desktop\695_big.jpeg"/>
          <p:cNvPicPr/>
          <p:nvPr/>
        </p:nvPicPr>
        <p:blipFill>
          <a:blip r:embed="rId3"/>
          <a:stretch/>
        </p:blipFill>
        <p:spPr>
          <a:xfrm>
            <a:off x="1417680" y="743040"/>
            <a:ext cx="250668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AD7-BFF7-4F13-8198-CDEE73194795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67B-7C74-4549-A169-98ABBDCFF1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1640" y="1335240"/>
            <a:ext cx="76438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анное направление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педагога - психолога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включает подготовку материалов к консилиумам, методическим объединениям, педагогическим советам, участие в указанных мероприятиях, а также 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71720" y="4046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рганизационно – методическое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1\Desktop\ОБОИ\baner_1.jpg"/>
          <p:cNvPicPr/>
          <p:nvPr/>
        </p:nvPicPr>
        <p:blipFill>
          <a:blip r:embed="rId2"/>
          <a:stretch/>
        </p:blipFill>
        <p:spPr>
          <a:xfrm rot="20663400">
            <a:off x="1329840" y="4641480"/>
            <a:ext cx="1757520" cy="17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ОБОИ\frg.jpg"/>
          <p:cNvPicPr/>
          <p:nvPr/>
        </p:nvPicPr>
        <p:blipFill>
          <a:blip r:embed="rId3"/>
          <a:stretch/>
        </p:blipFill>
        <p:spPr>
          <a:xfrm rot="756000">
            <a:off x="6695640" y="4656240"/>
            <a:ext cx="1852560" cy="18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1\Desktop\ОБОИ\pedagogika.png"/>
          <p:cNvPicPr/>
          <p:nvPr/>
        </p:nvPicPr>
        <p:blipFill>
          <a:blip r:embed="rId4"/>
          <a:stretch/>
        </p:blipFill>
        <p:spPr>
          <a:xfrm>
            <a:off x="971640" y="395280"/>
            <a:ext cx="107928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1\Desktop\menu-page4.png"/>
          <p:cNvPicPr/>
          <p:nvPr/>
        </p:nvPicPr>
        <p:blipFill>
          <a:blip r:embed="rId5"/>
          <a:stretch/>
        </p:blipFill>
        <p:spPr>
          <a:xfrm>
            <a:off x="3708360" y="4653000"/>
            <a:ext cx="2664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865-D70D-4FAC-A699-531B497F95A4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D2A-1547-47CD-BEED-21E149468C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1\Desktop\пе.jpg"/>
          <p:cNvPicPr/>
          <p:nvPr/>
        </p:nvPicPr>
        <p:blipFill>
          <a:blip r:embed="rId2"/>
          <a:stretch/>
        </p:blipFill>
        <p:spPr>
          <a:xfrm>
            <a:off x="4067280" y="486576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1\Desktop\cropped-doshkolnik2.jpg"/>
          <p:cNvPicPr/>
          <p:nvPr/>
        </p:nvPicPr>
        <p:blipFill>
          <a:blip r:embed="rId3"/>
          <a:stretch/>
        </p:blipFill>
        <p:spPr>
          <a:xfrm>
            <a:off x="1332000" y="260280"/>
            <a:ext cx="7127640" cy="20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:\Users\1\Desktop\_MG_5557 okjc.jpg"/>
          <p:cNvPicPr/>
          <p:nvPr/>
        </p:nvPicPr>
        <p:blipFill>
          <a:blip r:embed="rId4"/>
          <a:stretch/>
        </p:blipFill>
        <p:spPr>
          <a:xfrm rot="20790600">
            <a:off x="6797520" y="4651200"/>
            <a:ext cx="20973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1\Desktop\36a48b21f0d8d21947129d0743415182.jpg"/>
          <p:cNvPicPr/>
          <p:nvPr/>
        </p:nvPicPr>
        <p:blipFill>
          <a:blip r:embed="rId5"/>
          <a:stretch/>
        </p:blipFill>
        <p:spPr>
          <a:xfrm rot="637200">
            <a:off x="1171080" y="4722840"/>
            <a:ext cx="21513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872-7E7B-4E9E-8B4A-040436421C58}" type="slidenum">
              <a:t>12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907-466D-4D48-8B2D-E4BDD6CF9E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Рисунок1.jpg"/>
          <p:cNvPicPr/>
          <p:nvPr/>
        </p:nvPicPr>
        <p:blipFill>
          <a:blip r:embed="rId2"/>
          <a:stretch/>
        </p:blipFill>
        <p:spPr>
          <a:xfrm>
            <a:off x="1332000" y="2421000"/>
            <a:ext cx="73436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76C-B440-432C-9688-970E01F30B7B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041-2721-466B-B961-DA9AE4D8DC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1\Desktop\81227_html_m72b9a6c3.png"/>
          <p:cNvPicPr/>
          <p:nvPr/>
        </p:nvPicPr>
        <p:blipFill>
          <a:blip r:embed="rId2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1\Desktop\1089136.jpg"/>
          <p:cNvPicPr/>
          <p:nvPr/>
        </p:nvPicPr>
        <p:blipFill>
          <a:blip r:embed="rId3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1\Desktop\1917114.jpg"/>
          <p:cNvPicPr/>
          <p:nvPr/>
        </p:nvPicPr>
        <p:blipFill>
          <a:blip r:embed="rId4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D93-B13B-44D2-A238-255B6FB35352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C77-BA19-44E3-93BC-AB5350DB95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6"/>
          <p:cNvPicPr/>
          <p:nvPr/>
        </p:nvPicPr>
        <p:blipFill>
          <a:blip r:embed="rId2"/>
          <a:stretch/>
        </p:blipFill>
        <p:spPr>
          <a:xfrm rot="1035600">
            <a:off x="6049440" y="3065040"/>
            <a:ext cx="273528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057-87E9-4D42-9142-2B5E86109F30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FBA-7B55-43E1-A520-9F63A50F40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en-US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1\Desktop\92818790_3646178_imagedeti.pn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8F7-67F0-4591-9202-A01A6AB29B2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04B-B444-46A1-AF77-003FF21F40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1\Desktop\68482414.jpg"/>
          <p:cNvPicPr/>
          <p:nvPr/>
        </p:nvPicPr>
        <p:blipFill>
          <a:blip r:embed="rId2"/>
          <a:stretch/>
        </p:blipFill>
        <p:spPr>
          <a:xfrm>
            <a:off x="1116000" y="3716280"/>
            <a:ext cx="30956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D98-47EF-40E9-8A6F-4ADFFCB5DBBE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862-45D3-416E-81C9-B28BCBF7C1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5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E78-214F-4746-BF91-9FBD131A60ED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7E1F-126E-497E-94E7-A44E0AA7A0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едагогической 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1\Desktop\in-filleprim.jpg"/>
          <p:cNvPicPr/>
          <p:nvPr/>
        </p:nvPicPr>
        <p:blipFill>
          <a:blip r:embed="rId2"/>
          <a:stretch/>
        </p:blipFill>
        <p:spPr>
          <a:xfrm>
            <a:off x="1116000" y="981000"/>
            <a:ext cx="3024360" cy="554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http://2.bp.blogspot.com/-2s5nW4goVtM/UHmoW2PrW4I/AAAAAAAAFII/SqDDBWblY0A/s320/SAM_217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4437000"/>
            <a:ext cx="3960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553-41A9-4352-B0C7-E21E963A11BE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078-7303-4003-A16F-BDEB208CB0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1\Desktop\head1.jpg"/>
          <p:cNvPicPr/>
          <p:nvPr/>
        </p:nvPicPr>
        <p:blipFill>
          <a:blip r:embed="rId2"/>
          <a:stretch/>
        </p:blipFill>
        <p:spPr>
          <a:xfrm>
            <a:off x="6156360" y="1052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3.bp.blogspot.com/-bxFCOEE_oOg/UHmo-gCzB1I/AAAAAAAAFIQ/_mBbjsVigaI/s320/SAM_220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29264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83F-8528-4FDD-95F5-E680C64098D1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*</cp:lastModifiedBy>
  <dcterms:modified xsi:type="dcterms:W3CDTF">2013-04-12T18:54:57Z</dcterms:modified>
  <cp:revision>99</cp:revision>
  <dc:subject/>
  <dc:title>Обучение и воспитание успехом</dc:title>
</cp:coreProperties>
</file>