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AD8F-59CD-4654-A143-97848E667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C1E4-16F5-4E9C-B596-CD7BC8A23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598-68FD-4D4F-9D85-2454E319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047-5B7C-4B48-ACDF-F728D59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F2E-31F0-410F-AD60-98591412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1AE-0FD3-430C-856E-045A0C91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23B-799B-4FDE-9204-AB289E1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F32-E067-4B9E-B2D6-23C9EAF5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B09-7680-431F-AA5E-DE45F45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60B-E566-4ABA-B70D-3720026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5B1-CE01-47B2-A362-D3E1526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E47-01F2-46D4-AF56-3D2393C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6AD-6EFB-4469-8904-C225F6B1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F0A-A3EC-426B-8116-E87CC6E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A5A5-E929-4C42-8B07-6EC2C9EC3B3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4D5-E256-4D76-9393-3F3ED8C5C0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79560" y="4925880"/>
            <a:ext cx="3949920" cy="10177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hyperlink" Target="http://2.bp.blogspot.com/-2s5nW4goVtM/UHmoW2PrW4I/AAAAAAAAFII/SqDDBWblY0A/s1600/SAM_2173.J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hyperlink" Target="http://3.bp.blogspot.com/-bxFCOEE_oOg/UHmo-gCzB1I/AAAAAAAAFIQ/_mBbjsVigaI/s1600/SAM_2203.J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CBD-A723-4234-89DE-03A7C8E060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r>
              <a:rPr b="1" i="1" lang="en-US" sz="2000" spc="-1" strike="noStrike">
                <a:solidFill>
                  <a:srgbClr val="0b07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b07b9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МБДО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комбинированного вида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детский сад №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«Росин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г.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тецюк Еле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2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People_Children_Girl_in_Grass_034672_29.jpg"/>
          <p:cNvPicPr/>
          <p:nvPr/>
        </p:nvPicPr>
        <p:blipFill>
          <a:blip r:embed="rId3"/>
          <a:stretch/>
        </p:blipFill>
        <p:spPr>
          <a:xfrm>
            <a:off x="971640" y="270828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0E5-3C80-436C-BB35-2CD66624A22F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19A1-5C05-4729-A8B5-0A57AC6362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chastlivyi-rebenok-invalid"/>
          <p:cNvPicPr/>
          <p:nvPr/>
        </p:nvPicPr>
        <p:blipFill>
          <a:blip r:embed="rId2"/>
          <a:stretch/>
        </p:blipFill>
        <p:spPr>
          <a:xfrm>
            <a:off x="5724360" y="306864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1\Desktop\695_big.jpeg"/>
          <p:cNvPicPr/>
          <p:nvPr/>
        </p:nvPicPr>
        <p:blipFill>
          <a:blip r:embed="rId3"/>
          <a:stretch/>
        </p:blipFill>
        <p:spPr>
          <a:xfrm>
            <a:off x="1417680" y="743040"/>
            <a:ext cx="250668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2A0-274E-409E-B372-6D62E00A35B6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870E-DDCE-45B2-B221-D584F13D2C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1640" y="1335240"/>
            <a:ext cx="76438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анное направление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педагога - психолога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включает подготовку материалов к консилиумам, методическим объединениям, педагогическим советам, участие в указанных мероприятиях, а также 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71720" y="4046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рганизационно – методическое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1\Desktop\ОБОИ\baner_1.jpg"/>
          <p:cNvPicPr/>
          <p:nvPr/>
        </p:nvPicPr>
        <p:blipFill>
          <a:blip r:embed="rId2"/>
          <a:stretch/>
        </p:blipFill>
        <p:spPr>
          <a:xfrm rot="20663400">
            <a:off x="1329840" y="4641480"/>
            <a:ext cx="1757520" cy="17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ОБОИ\frg.jpg"/>
          <p:cNvPicPr/>
          <p:nvPr/>
        </p:nvPicPr>
        <p:blipFill>
          <a:blip r:embed="rId3"/>
          <a:stretch/>
        </p:blipFill>
        <p:spPr>
          <a:xfrm rot="756000">
            <a:off x="6695640" y="4656240"/>
            <a:ext cx="1852560" cy="18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1\Desktop\ОБОИ\pedagogika.png"/>
          <p:cNvPicPr/>
          <p:nvPr/>
        </p:nvPicPr>
        <p:blipFill>
          <a:blip r:embed="rId4"/>
          <a:stretch/>
        </p:blipFill>
        <p:spPr>
          <a:xfrm>
            <a:off x="971640" y="395280"/>
            <a:ext cx="107928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1\Desktop\menu-page4.png"/>
          <p:cNvPicPr/>
          <p:nvPr/>
        </p:nvPicPr>
        <p:blipFill>
          <a:blip r:embed="rId5"/>
          <a:stretch/>
        </p:blipFill>
        <p:spPr>
          <a:xfrm>
            <a:off x="3708360" y="4653000"/>
            <a:ext cx="2664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64D-F508-44E4-8D2E-3DE01BC12C5F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44BF-F4ED-42C4-8799-929AA1B9D8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1\Desktop\пе.jpg"/>
          <p:cNvPicPr/>
          <p:nvPr/>
        </p:nvPicPr>
        <p:blipFill>
          <a:blip r:embed="rId2"/>
          <a:stretch/>
        </p:blipFill>
        <p:spPr>
          <a:xfrm>
            <a:off x="4067280" y="486576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1\Desktop\cropped-doshkolnik2.jpg"/>
          <p:cNvPicPr/>
          <p:nvPr/>
        </p:nvPicPr>
        <p:blipFill>
          <a:blip r:embed="rId3"/>
          <a:stretch/>
        </p:blipFill>
        <p:spPr>
          <a:xfrm>
            <a:off x="1332000" y="260280"/>
            <a:ext cx="7127640" cy="20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:\Users\1\Desktop\_MG_5557 okjc.jpg"/>
          <p:cNvPicPr/>
          <p:nvPr/>
        </p:nvPicPr>
        <p:blipFill>
          <a:blip r:embed="rId4"/>
          <a:stretch/>
        </p:blipFill>
        <p:spPr>
          <a:xfrm rot="20790600">
            <a:off x="6797520" y="4651200"/>
            <a:ext cx="20973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1\Desktop\36a48b21f0d8d21947129d0743415182.jpg"/>
          <p:cNvPicPr/>
          <p:nvPr/>
        </p:nvPicPr>
        <p:blipFill>
          <a:blip r:embed="rId5"/>
          <a:stretch/>
        </p:blipFill>
        <p:spPr>
          <a:xfrm rot="637200">
            <a:off x="1171080" y="4722840"/>
            <a:ext cx="21513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1E0-DC36-4038-B711-6DE0C1DF07C4}" type="slidenum">
              <a:t>12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8F69-2448-4C4A-9938-52AEA1B3BE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Рисунок1.jpg"/>
          <p:cNvPicPr/>
          <p:nvPr/>
        </p:nvPicPr>
        <p:blipFill>
          <a:blip r:embed="rId2"/>
          <a:stretch/>
        </p:blipFill>
        <p:spPr>
          <a:xfrm>
            <a:off x="1332000" y="2421000"/>
            <a:ext cx="73436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995-56F4-4441-A4BB-47ACA885DB40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BFF7-F044-463A-BE2C-0AFFA42935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1\Desktop\81227_html_m72b9a6c3.png"/>
          <p:cNvPicPr/>
          <p:nvPr/>
        </p:nvPicPr>
        <p:blipFill>
          <a:blip r:embed="rId2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1\Desktop\1089136.jpg"/>
          <p:cNvPicPr/>
          <p:nvPr/>
        </p:nvPicPr>
        <p:blipFill>
          <a:blip r:embed="rId3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1\Desktop\1917114.jpg"/>
          <p:cNvPicPr/>
          <p:nvPr/>
        </p:nvPicPr>
        <p:blipFill>
          <a:blip r:embed="rId4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23F-3044-4363-8C88-3FDA65D5692A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975-49B0-46D1-A549-46233EF258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6"/>
          <p:cNvPicPr/>
          <p:nvPr/>
        </p:nvPicPr>
        <p:blipFill>
          <a:blip r:embed="rId2"/>
          <a:stretch/>
        </p:blipFill>
        <p:spPr>
          <a:xfrm rot="1035600">
            <a:off x="6049440" y="3065040"/>
            <a:ext cx="273528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9E3-7540-49A3-A1C3-6D98C283CDE7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FFF9-13D1-428B-9B68-0C0F0AFCF0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en-US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1\Desktop\92818790_3646178_imagedeti.pn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639-0B8A-4015-9C8B-4E3B71CDC74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D3E-8154-485E-AFFA-BB388BBDF8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1\Desktop\68482414.jpg"/>
          <p:cNvPicPr/>
          <p:nvPr/>
        </p:nvPicPr>
        <p:blipFill>
          <a:blip r:embed="rId2"/>
          <a:stretch/>
        </p:blipFill>
        <p:spPr>
          <a:xfrm>
            <a:off x="1116000" y="3716280"/>
            <a:ext cx="30956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02F-3467-4CEF-8287-ABC151BB7B76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F0A4-7E9E-49AD-9F7B-0EF3DD4B79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5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7A4-ED26-4A14-B11E-0AE047866A95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3B5D-BB79-43AB-B92E-3DFF85B4C0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едагогической 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1\Desktop\in-filleprim.jpg"/>
          <p:cNvPicPr/>
          <p:nvPr/>
        </p:nvPicPr>
        <p:blipFill>
          <a:blip r:embed="rId2"/>
          <a:stretch/>
        </p:blipFill>
        <p:spPr>
          <a:xfrm>
            <a:off x="1116000" y="981000"/>
            <a:ext cx="3024360" cy="554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http://2.bp.blogspot.com/-2s5nW4goVtM/UHmoW2PrW4I/AAAAAAAAFII/SqDDBWblY0A/s320/SAM_217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4437000"/>
            <a:ext cx="3960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359-F3BF-4E53-8CEF-E97E8F7908CA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8B1D-3B8C-4EB8-8C42-1D35F92C4F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1\Desktop\head1.jpg"/>
          <p:cNvPicPr/>
          <p:nvPr/>
        </p:nvPicPr>
        <p:blipFill>
          <a:blip r:embed="rId2"/>
          <a:stretch/>
        </p:blipFill>
        <p:spPr>
          <a:xfrm>
            <a:off x="6156360" y="1052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3.bp.blogspot.com/-bxFCOEE_oOg/UHmo-gCzB1I/AAAAAAAAFIQ/_mBbjsVigaI/s320/SAM_220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29264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E17-22D4-4F1A-ACF8-8E0C47E786AC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*</cp:lastModifiedBy>
  <dcterms:modified xsi:type="dcterms:W3CDTF">2013-04-12T18:54:57Z</dcterms:modified>
  <cp:revision>99</cp:revision>
  <dc:subject/>
  <dc:title>Обучение и воспитание успехом</dc:title>
</cp:coreProperties>
</file>