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51.jpeg" ContentType="image/jpeg"/>
  <Override PartName="/ppt/media/image25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36.gif" ContentType="image/gif"/>
  <Override PartName="/ppt/media/image20.jpeg" ContentType="image/jpeg"/>
  <Override PartName="/ppt/media/image26.gif" ContentType="image/gif"/>
  <Override PartName="/ppt/media/image19.jpeg" ContentType="image/jpeg"/>
  <Override PartName="/ppt/media/image42.jpeg" ContentType="image/jpeg"/>
  <Override PartName="/ppt/media/image18.jpeg" ContentType="image/jpeg"/>
  <Override PartName="/ppt/media/image23.gif" ContentType="image/gif"/>
  <Override PartName="/ppt/media/image49.jpeg" ContentType="image/jpeg"/>
  <Override PartName="/ppt/media/image17.jpeg" ContentType="image/jpeg"/>
  <Override PartName="/ppt/media/image12.gif" ContentType="image/gif"/>
  <Override PartName="/ppt/media/image16.jpeg" ContentType="image/jpeg"/>
  <Override PartName="/ppt/media/image15.jpeg" ContentType="image/jpeg"/>
  <Override PartName="/ppt/media/image14.jpeg" ContentType="image/jpeg"/>
  <Override PartName="/ppt/media/image54.png" ContentType="image/png"/>
  <Override PartName="/ppt/media/image2.jpeg" ContentType="image/jpeg"/>
  <Override PartName="/ppt/media/image3.gif" ContentType="image/gif"/>
  <Override PartName="/ppt/media/image1.jpeg" ContentType="image/jpeg"/>
  <Override PartName="/ppt/media/image35.jpeg" ContentType="image/jpeg"/>
  <Override PartName="/ppt/media/image7.png" ContentType="image/png"/>
  <Override PartName="/ppt/media/image34.jpeg" ContentType="image/jpeg"/>
  <Override PartName="/ppt/media/image37.jpeg" ContentType="image/jpeg"/>
  <Override PartName="/ppt/media/image32.jpeg" ContentType="image/jpeg"/>
  <Override PartName="/ppt/media/image5.jpeg" ContentType="image/jpeg"/>
  <Override PartName="/ppt/media/image38.jpeg" ContentType="image/jpeg"/>
  <Override PartName="/ppt/media/image44.jpeg" ContentType="image/jpeg"/>
  <Override PartName="/ppt/media/image43.jpeg" ContentType="image/jpeg"/>
  <Override PartName="/ppt/media/image45.jpeg" ContentType="image/jpeg"/>
  <Override PartName="/ppt/media/image41.gif" ContentType="image/gif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53.jpeg" ContentType="image/jpeg"/>
  <Override PartName="/ppt/media/image40.jpeg" ContentType="image/jpeg"/>
  <Override PartName="/ppt/media/image13.jpeg" ContentType="image/jpeg"/>
  <Override PartName="/ppt/media/image55.gif" ContentType="image/gif"/>
  <Override PartName="/ppt/media/image9.jpeg" ContentType="image/jpeg"/>
  <Override PartName="/ppt/media/image1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6.jpeg" ContentType="image/jpeg"/>
  <Override PartName="/ppt/media/image50.jpeg" ContentType="image/jpeg"/>
  <Override PartName="/ppt/media/image27.jpeg" ContentType="image/jpeg"/>
  <Override PartName="/ppt/media/image33.jpeg" ContentType="image/jpeg"/>
  <Override PartName="/ppt/media/image4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ABDE-41CF-4AE6-BDD7-14A507890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D983-99BE-4FB5-9D82-ADD99EA5B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43CE-37C0-4185-B608-63113352B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FB2B-4291-4325-8A68-864057571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00D20-B4A9-4EC3-9D84-C35FF903E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C7E0B-13DA-4535-902A-69EF816F3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B2470-26BF-406F-B7B9-F452B5BDB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DED53-0C97-4A18-A270-F8EACF09E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F1834-3691-4C4A-B58B-8666A6D40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0E4A6-5187-4540-B71A-CFDE31A7C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00C99-39C4-45D0-BA1C-EE6671D9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92F7-8F6B-4151-8D75-BBBBE2E2A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C72FB-027E-4DF6-ABEA-864940514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AAF9A-5212-4A84-93EA-E55D5FD7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FC4AE-BC12-49ED-A328-47C94C643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CC51E-2168-4F80-8B30-AEE13E5A7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BA882-80F0-40B6-AD43-46644511C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2FE5-378C-4B07-8680-BCA9FB3F9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5708-7ACB-47E8-86CC-52A88980E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9B23-677C-4C4B-B90F-218C021DA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38E0-F843-4803-96EA-169E77B62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7ACD-3721-4B0B-8467-97043416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2AB1-7D1D-40B1-934B-9E0640AF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9477-061A-433C-A2A9-CEEDD9FC9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2df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8320"/>
              <a:chOff x="-1080" y="2601000"/>
              <a:chExt cx="2687400" cy="311832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480" y="4053600"/>
                <a:ext cx="1833840" cy="1665720"/>
                <a:chOff x="852480" y="4053600"/>
                <a:chExt cx="1833840" cy="16657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8280" y="3940560"/>
                  <a:ext cx="477360" cy="1231200"/>
                </a:xfrm>
                <a:custGeom>
                  <a:avLst/>
                  <a:gdLst>
                    <a:gd name="textAreaLeft" fmla="*/ 360 w 477360"/>
                    <a:gd name="textAreaRight" fmla="*/ 478080 w 477360"/>
                    <a:gd name="textAreaTop" fmla="*/ 0 h 1231200"/>
                    <a:gd name="textAreaBottom" fmla="*/ 1231560 h 123120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47560" y="4979160"/>
                  <a:ext cx="110520" cy="505080"/>
                </a:xfrm>
                <a:custGeom>
                  <a:avLst/>
                  <a:gdLst>
                    <a:gd name="textAreaLeft" fmla="*/ -360 w 110520"/>
                    <a:gd name="textAreaRight" fmla="*/ 110520 w 110520"/>
                    <a:gd name="textAreaTop" fmla="*/ 0 h 505080"/>
                    <a:gd name="textAreaBottom" fmla="*/ 505440 h 50508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0200" y="5567760"/>
                  <a:ext cx="200880" cy="85320"/>
                </a:xfrm>
                <a:custGeom>
                  <a:avLst/>
                  <a:gdLst>
                    <a:gd name="textAreaLeft" fmla="*/ 360 w 200880"/>
                    <a:gd name="textAreaRight" fmla="*/ 201600 w 200880"/>
                    <a:gd name="textAreaTop" fmla="*/ 0 h 85320"/>
                    <a:gd name="textAreaBottom" fmla="*/ 85680 h 8532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5B24A-ADFB-4F70-97FC-C768C5C72D47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2df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9360" y="60840"/>
              <a:ext cx="3621600" cy="6132600"/>
              <a:chOff x="5409360" y="60840"/>
              <a:chExt cx="3621600" cy="61326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240" y="346320"/>
                <a:ext cx="2116080" cy="2354760"/>
              </a:xfrm>
              <a:custGeom>
                <a:avLst/>
                <a:gdLst>
                  <a:gd name="textAreaLeft" fmla="*/ 0 w 2116080"/>
                  <a:gd name="textAreaRight" fmla="*/ 2116440 w 2116080"/>
                  <a:gd name="textAreaTop" fmla="*/ -360 h 2354760"/>
                  <a:gd name="textAreaBottom" fmla="*/ 2354760 h 235476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120" y="1956960"/>
                <a:ext cx="906480" cy="84240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360 h 842400"/>
                  <a:gd name="textAreaBottom" fmla="*/ 843120 h 84240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5240" y="2588400"/>
                <a:ext cx="439920" cy="394560"/>
              </a:xfrm>
              <a:custGeom>
                <a:avLst/>
                <a:gdLst>
                  <a:gd name="textAreaLeft" fmla="*/ 0 w 439920"/>
                  <a:gd name="textAreaRight" fmla="*/ 440280 w 439920"/>
                  <a:gd name="textAreaTop" fmla="*/ 360 h 394560"/>
                  <a:gd name="textAreaBottom" fmla="*/ 395280 h 39456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0040" y="673200"/>
                <a:ext cx="389160" cy="550440"/>
              </a:xfrm>
              <a:custGeom>
                <a:avLst/>
                <a:gdLst>
                  <a:gd name="textAreaLeft" fmla="*/ 0 w 389160"/>
                  <a:gd name="textAreaRight" fmla="*/ 389520 w 389160"/>
                  <a:gd name="textAreaTop" fmla="*/ -360 h 550440"/>
                  <a:gd name="textAreaBottom" fmla="*/ 550440 h 55044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48880" y="2648160"/>
                <a:ext cx="163800" cy="33156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331560"/>
                  <a:gd name="textAreaBottom" fmla="*/ 331560 h 33156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5200" y="1243800"/>
                <a:ext cx="190440" cy="14256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360 h 142560"/>
                  <a:gd name="textAreaBottom" fmla="*/ 143280 h 14256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9280" y="2933640"/>
                <a:ext cx="523800" cy="3265560"/>
              </a:xfrm>
              <a:custGeom>
                <a:avLst/>
                <a:gdLst>
                  <a:gd name="textAreaLeft" fmla="*/ 0 w 523800"/>
                  <a:gd name="textAreaRight" fmla="*/ 524160 w 523800"/>
                  <a:gd name="textAreaTop" fmla="*/ -360 h 3265560"/>
                  <a:gd name="textAreaBottom" fmla="*/ 3265560 h 326556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>
                <a:gd name="textAreaLeft" fmla="*/ 360 w 512640"/>
                <a:gd name="textAreaRight" fmla="*/ 513360 w 512640"/>
                <a:gd name="textAreaTop" fmla="*/ 0 h 1030680"/>
                <a:gd name="textAreaBottom" fmla="*/ 1031040 h 103068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>
                <a:gd name="textAreaLeft" fmla="*/ 0 w 1998720"/>
                <a:gd name="textAreaRight" fmla="*/ 1999080 w 199872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>
                <a:gd name="textAreaLeft" fmla="*/ 0 w 1271520"/>
                <a:gd name="textAreaRight" fmla="*/ 1271880 w 12715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>
                <a:gd name="textAreaLeft" fmla="*/ -360 w 561960"/>
                <a:gd name="textAreaRight" fmla="*/ 561960 w 56196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>
                <a:gd name="textAreaLeft" fmla="*/ 360 w 138240"/>
                <a:gd name="textAreaRight" fmla="*/ 138960 w 13824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>
                <a:gd name="textAreaLeft" fmla="*/ 0 w 1758960"/>
                <a:gd name="textAreaRight" fmla="*/ 1759320 w 175896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50800" y="1033200"/>
              <a:ext cx="1015560" cy="1262520"/>
              <a:chOff x="4150800" y="1033200"/>
              <a:chExt cx="1015560" cy="126252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5160" y="1071000"/>
                <a:ext cx="285840" cy="378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720"/>
                  <a:gd name="textAreaBottom" fmla="*/ 379080 h 378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50120" y="1604160"/>
                <a:ext cx="488880" cy="31464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640"/>
                  <a:gd name="textAreaBottom" fmla="*/ 315000 h 314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10840" y="1962000"/>
                <a:ext cx="511200" cy="16020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60640" y="294840"/>
              <a:ext cx="883440" cy="846360"/>
              <a:chOff x="5660640" y="294840"/>
              <a:chExt cx="883440" cy="8463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72960" y="811080"/>
                <a:ext cx="177120" cy="362160"/>
              </a:xfrm>
              <a:custGeom>
                <a:avLst/>
                <a:gdLst>
                  <a:gd name="textAreaLeft" fmla="*/ 0 w 177120"/>
                  <a:gd name="textAreaRight" fmla="*/ 177480 w 177120"/>
                  <a:gd name="textAreaTop" fmla="*/ 0 h 362160"/>
                  <a:gd name="textAreaBottom" fmla="*/ 362520 h 3621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20760" y="485640"/>
                <a:ext cx="302760" cy="300600"/>
              </a:xfrm>
              <a:custGeom>
                <a:avLst/>
                <a:gdLst>
                  <a:gd name="textAreaLeft" fmla="*/ 0 w 302760"/>
                  <a:gd name="textAreaRight" fmla="*/ 303120 w 30276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6440" y="393840"/>
                <a:ext cx="316800" cy="153000"/>
              </a:xfrm>
              <a:custGeom>
                <a:avLst/>
                <a:gdLst>
                  <a:gd name="textAreaLeft" fmla="*/ 0 w 316800"/>
                  <a:gd name="textAreaRight" fmla="*/ 317160 w 31680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71280" y="5266800"/>
              <a:ext cx="1058040" cy="833400"/>
              <a:chOff x="971280" y="5266800"/>
              <a:chExt cx="1058040" cy="8334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2880" y="5530680"/>
                <a:ext cx="250920" cy="29880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298800"/>
                  <a:gd name="textAreaBottom" fmla="*/ 299160 h 298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8440" y="5745600"/>
                <a:ext cx="429840" cy="248400"/>
              </a:xfrm>
              <a:custGeom>
                <a:avLst/>
                <a:gdLst>
                  <a:gd name="textAreaLeft" fmla="*/ 0 w 429840"/>
                  <a:gd name="textAreaRight" fmla="*/ 430200 w 429840"/>
                  <a:gd name="textAreaTop" fmla="*/ 0 h 248400"/>
                  <a:gd name="textAreaBottom" fmla="*/ 248760 h 248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2280" y="5391360"/>
                <a:ext cx="449280" cy="126360"/>
              </a:xfrm>
              <a:custGeom>
                <a:avLst/>
                <a:gdLst>
                  <a:gd name="textAreaLeft" fmla="*/ 0 w 449280"/>
                  <a:gd name="textAreaRight" fmla="*/ 449640 w 44928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49640"/>
              <a:ext cx="1690560" cy="1146600"/>
              <a:chOff x="375840" y="449640"/>
              <a:chExt cx="169056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440" y="106812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3120" y="59328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736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0720" y="3712320"/>
              <a:ext cx="1156320" cy="1607760"/>
              <a:chOff x="738072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544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6160" y="445536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9080" y="378144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>
                <a:gd name="textAreaLeft" fmla="*/ 0 w 1368360"/>
                <a:gd name="textAreaRight" fmla="*/ 1368720 w 1368360"/>
                <a:gd name="textAreaTop" fmla="*/ 0 h 1406520"/>
                <a:gd name="textAreaBottom" fmla="*/ 1406520 h 1406520"/>
              </a:gdLst>
              <a:ahLst/>
              <a:rect l="textAreaLeft" t="textAreaTop" r="textAreaRight" b="textAreaBottom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>
                <a:gd name="textAreaLeft" fmla="*/ 0 w 1081080"/>
                <a:gd name="textAreaRight" fmla="*/ 1081440 w 108108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360 h 370080"/>
                <a:gd name="textAreaBottom" fmla="*/ 370800 h 370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>
                <a:gd name="textAreaLeft" fmla="*/ 0 w 623880"/>
                <a:gd name="textAreaRight" fmla="*/ 624240 w 62388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AEC78-24C3-429F-825A-1189531FD60D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png"/><Relationship Id="rId3" Type="http://schemas.openxmlformats.org/officeDocument/2006/relationships/image" Target="../media/image55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image" Target="../media/image23.gi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gif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560" y="2997360"/>
            <a:ext cx="8497800" cy="158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ff"/>
                </a:solidFill>
                <a:latin typeface="Verdana"/>
              </a:rPr>
              <a:t>«Организация воспитательно-образовательного процесса в группе раннего возраста с позиции гендерного воспитания»</a:t>
            </a:r>
            <a:br>
              <a:rPr sz="3600"/>
            </a:b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00720" y="4292640"/>
            <a:ext cx="4356000" cy="90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готовил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нфутова Оксана Сергеевна, воспитатель высшей категории МАДОУ детского сада № 172 г.о. Самар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94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ff"/>
                </a:solidFill>
                <a:latin typeface="Times New Roman"/>
              </a:rPr>
              <a:t>Музыка, как одно из средств формирования полоролевого поведения детей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7" name="Picture 4" descr="IMAG0023"/>
          <p:cNvPicPr/>
          <p:nvPr/>
        </p:nvPicPr>
        <p:blipFill>
          <a:blip r:embed="rId1"/>
          <a:stretch/>
        </p:blipFill>
        <p:spPr>
          <a:xfrm>
            <a:off x="4716360" y="4076640"/>
            <a:ext cx="4102200" cy="24559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IMAG0017"/>
          <p:cNvPicPr/>
          <p:nvPr/>
        </p:nvPicPr>
        <p:blipFill>
          <a:blip r:embed="rId2"/>
          <a:stretch/>
        </p:blipFill>
        <p:spPr>
          <a:xfrm>
            <a:off x="4716360" y="1125360"/>
            <a:ext cx="4032360" cy="2556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8" descr="IMAG0027"/>
          <p:cNvPicPr/>
          <p:nvPr/>
        </p:nvPicPr>
        <p:blipFill>
          <a:blip r:embed="rId3"/>
          <a:stretch/>
        </p:blipFill>
        <p:spPr>
          <a:xfrm>
            <a:off x="250920" y="4073400"/>
            <a:ext cx="3744720" cy="25243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0" descr="Фото0154"/>
          <p:cNvPicPr/>
          <p:nvPr/>
        </p:nvPicPr>
        <p:blipFill>
          <a:blip r:embed="rId4"/>
          <a:stretch/>
        </p:blipFill>
        <p:spPr>
          <a:xfrm>
            <a:off x="324000" y="1125360"/>
            <a:ext cx="3671640" cy="254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2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29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3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4"/>
          <p:cNvSpPr/>
          <p:nvPr/>
        </p:nvSpPr>
        <p:spPr>
          <a:xfrm>
            <a:off x="4572000" y="3905280"/>
            <a:ext cx="457200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елика роль сказки 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спитании у дошкольник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лоролевого поведения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бёнок познаёт окружающ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ир, овладевает разнообразны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лоролевым репертуаром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обенностями взаимоотнош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л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250920" y="765000"/>
            <a:ext cx="543564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владению традиционны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чествами личност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ужественности – у мальчиков 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женственности – у девоче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могают и такие средст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здействия, как художественно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лово (стихи, сказки, потешки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19" descr="Фото0226"/>
          <p:cNvPicPr/>
          <p:nvPr/>
        </p:nvPicPr>
        <p:blipFill>
          <a:blip r:embed="rId1"/>
          <a:stretch/>
        </p:blipFill>
        <p:spPr>
          <a:xfrm>
            <a:off x="324000" y="3789360"/>
            <a:ext cx="3600360" cy="27003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5" descr="Изображение 050"/>
          <p:cNvPicPr/>
          <p:nvPr/>
        </p:nvPicPr>
        <p:blipFill>
          <a:blip r:embed="rId2"/>
          <a:stretch/>
        </p:blipFill>
        <p:spPr>
          <a:xfrm>
            <a:off x="6084720" y="476280"/>
            <a:ext cx="2795760" cy="2097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7" descr="Изображение 059"/>
          <p:cNvPicPr/>
          <p:nvPr/>
        </p:nvPicPr>
        <p:blipFill>
          <a:blip r:embed="rId3"/>
          <a:stretch/>
        </p:blipFill>
        <p:spPr>
          <a:xfrm>
            <a:off x="4572000" y="1844640"/>
            <a:ext cx="2735280" cy="205092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28"/>
          <p:cNvSpPr/>
          <p:nvPr/>
        </p:nvSpPr>
        <p:spPr>
          <a:xfrm>
            <a:off x="25092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ff"/>
                </a:solidFill>
                <a:latin typeface="Times New Roman"/>
              </a:rPr>
              <a:t>Полоролевое поведение детей и художественное слов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0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1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2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9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103320"/>
            <a:ext cx="9144000" cy="58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ff"/>
                </a:solidFill>
                <a:latin typeface="Times New Roman"/>
              </a:rPr>
              <a:t>Книжный уголок с учётом гендерных особенностей детей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13744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Девочки отдают предпочтение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книгам о животных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229" name="Organization Chart 5"/>
          <p:cNvGrpSpPr/>
          <p:nvPr/>
        </p:nvGrpSpPr>
        <p:grpSpPr>
          <a:xfrm>
            <a:off x="684360" y="2620440"/>
            <a:ext cx="4642920" cy="3181680"/>
            <a:chOff x="684360" y="2620440"/>
            <a:chExt cx="4642920" cy="3181680"/>
          </a:xfrm>
        </p:grpSpPr>
        <p:cxnSp>
          <p:nvCxnSpPr>
            <p:cNvPr id="230" name="_s1028"/>
            <p:cNvCxnSpPr>
              <a:stCxn id="231" idx="1"/>
              <a:endCxn id="232" idx="2"/>
            </p:cNvCxnSpPr>
            <p:nvPr/>
          </p:nvCxnSpPr>
          <p:spPr>
            <a:xfrm rot="10800000">
              <a:off x="1810080" y="3155760"/>
              <a:ext cx="376200" cy="2379960"/>
            </a:xfrm>
            <a:prstGeom prst="bentConnector2">
              <a:avLst/>
            </a:prstGeom>
            <a:ln w="28440">
              <a:solidFill>
                <a:srgbClr val="006699"/>
              </a:solidFill>
              <a:miter/>
            </a:ln>
          </p:spPr>
        </p:cxnSp>
        <p:cxnSp>
          <p:nvCxnSpPr>
            <p:cNvPr id="233" name="_s1029"/>
            <p:cNvCxnSpPr>
              <a:stCxn id="234" idx="1"/>
              <a:endCxn id="232" idx="2"/>
            </p:cNvCxnSpPr>
            <p:nvPr/>
          </p:nvCxnSpPr>
          <p:spPr>
            <a:xfrm rot="10800000">
              <a:off x="1810080" y="3155040"/>
              <a:ext cx="376200" cy="1718280"/>
            </a:xfrm>
            <a:prstGeom prst="bentConnector2">
              <a:avLst/>
            </a:prstGeom>
            <a:ln w="28440">
              <a:solidFill>
                <a:srgbClr val="006699"/>
              </a:solidFill>
              <a:miter/>
            </a:ln>
          </p:spPr>
        </p:cxnSp>
        <p:cxnSp>
          <p:nvCxnSpPr>
            <p:cNvPr id="235" name="_s1030"/>
            <p:cNvCxnSpPr>
              <a:stCxn id="236" idx="1"/>
              <a:endCxn id="232" idx="2"/>
            </p:cNvCxnSpPr>
            <p:nvPr/>
          </p:nvCxnSpPr>
          <p:spPr>
            <a:xfrm rot="10800000">
              <a:off x="1810080" y="3155040"/>
              <a:ext cx="376200" cy="1056600"/>
            </a:xfrm>
            <a:prstGeom prst="bentConnector2">
              <a:avLst/>
            </a:prstGeom>
            <a:ln w="28440">
              <a:solidFill>
                <a:srgbClr val="006699"/>
              </a:solidFill>
              <a:miter/>
            </a:ln>
          </p:spPr>
        </p:cxnSp>
        <p:cxnSp>
          <p:nvCxnSpPr>
            <p:cNvPr id="237" name="_s1031"/>
            <p:cNvCxnSpPr>
              <a:stCxn id="238" idx="1"/>
              <a:endCxn id="232" idx="2"/>
            </p:cNvCxnSpPr>
            <p:nvPr/>
          </p:nvCxnSpPr>
          <p:spPr>
            <a:xfrm rot="10800000">
              <a:off x="1810080" y="3155040"/>
              <a:ext cx="376200" cy="394200"/>
            </a:xfrm>
            <a:prstGeom prst="bentConnector2">
              <a:avLst/>
            </a:prstGeom>
            <a:ln w="28440">
              <a:solidFill>
                <a:srgbClr val="006699"/>
              </a:solidFill>
              <a:miter/>
            </a:ln>
          </p:spPr>
        </p:cxnSp>
        <p:sp>
          <p:nvSpPr>
            <p:cNvPr id="232" name="_s1032"/>
            <p:cNvSpPr/>
            <p:nvPr/>
          </p:nvSpPr>
          <p:spPr>
            <a:xfrm>
              <a:off x="684360" y="2620440"/>
              <a:ext cx="2253600" cy="534960"/>
            </a:xfrm>
            <a:prstGeom prst="roundRect">
              <a:avLst>
                <a:gd name="adj" fmla="val 16667"/>
              </a:avLst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040" rIns="5004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Девочки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_s1033"/>
            <p:cNvSpPr/>
            <p:nvPr/>
          </p:nvSpPr>
          <p:spPr>
            <a:xfrm>
              <a:off x="2186640" y="3282120"/>
              <a:ext cx="3140640" cy="534960"/>
            </a:xfrm>
            <a:prstGeom prst="roundRect">
              <a:avLst>
                <a:gd name="adj" fmla="val 16667"/>
              </a:avLst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040" rIns="5004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3300"/>
                  </a:solidFill>
                  <a:latin typeface="Times New Roman"/>
                </a:rPr>
                <a:t>«Козлята и волк»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_s1034"/>
            <p:cNvSpPr/>
            <p:nvPr/>
          </p:nvSpPr>
          <p:spPr>
            <a:xfrm>
              <a:off x="2186640" y="3943800"/>
              <a:ext cx="3140640" cy="534960"/>
            </a:xfrm>
            <a:prstGeom prst="roundRect">
              <a:avLst>
                <a:gd name="adj" fmla="val 16667"/>
              </a:avLst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040" rIns="5004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3300"/>
                  </a:solidFill>
                  <a:latin typeface="Times New Roman"/>
                </a:rPr>
                <a:t>«Теремок»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_s1035"/>
            <p:cNvSpPr/>
            <p:nvPr/>
          </p:nvSpPr>
          <p:spPr>
            <a:xfrm>
              <a:off x="2186640" y="4605480"/>
              <a:ext cx="3140640" cy="534960"/>
            </a:xfrm>
            <a:prstGeom prst="roundRect">
              <a:avLst>
                <a:gd name="adj" fmla="val 16667"/>
              </a:avLst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040" rIns="5004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3300"/>
                  </a:solidFill>
                  <a:latin typeface="Times New Roman"/>
                </a:rPr>
                <a:t>«Маша и медведь»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_s1036"/>
            <p:cNvSpPr/>
            <p:nvPr/>
          </p:nvSpPr>
          <p:spPr>
            <a:xfrm>
              <a:off x="2186640" y="5267160"/>
              <a:ext cx="3140640" cy="534960"/>
            </a:xfrm>
            <a:prstGeom prst="roundRect">
              <a:avLst>
                <a:gd name="adj" fmla="val 16667"/>
              </a:avLst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400" rIns="504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3300"/>
                  </a:solidFill>
                  <a:latin typeface="Times New Roman"/>
                </a:rPr>
                <a:t>«Девочка-рёвушка»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9" name="Picture 41" descr="IMAG0040"/>
          <p:cNvPicPr/>
          <p:nvPr/>
        </p:nvPicPr>
        <p:blipFill>
          <a:blip r:embed="rId1"/>
          <a:stretch/>
        </p:blipFill>
        <p:spPr>
          <a:xfrm>
            <a:off x="5580000" y="2205000"/>
            <a:ext cx="3243240" cy="42483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2" descr="962615ac50949e2cb899fd5b2441eff0"/>
          <p:cNvPicPr/>
          <p:nvPr/>
        </p:nvPicPr>
        <p:blipFill>
          <a:blip r:embed="rId2"/>
          <a:stretch/>
        </p:blipFill>
        <p:spPr>
          <a:xfrm>
            <a:off x="0" y="5661000"/>
            <a:ext cx="814320" cy="119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0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46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49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2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5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8" dur="10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61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64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67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Organization Chart 4"/>
          <p:cNvGrpSpPr/>
          <p:nvPr/>
        </p:nvGrpSpPr>
        <p:grpSpPr>
          <a:xfrm>
            <a:off x="324000" y="1142640"/>
            <a:ext cx="5191920" cy="5715360"/>
            <a:chOff x="324000" y="1142640"/>
            <a:chExt cx="5191920" cy="5715360"/>
          </a:xfrm>
        </p:grpSpPr>
        <p:cxnSp>
          <p:nvCxnSpPr>
            <p:cNvPr id="242" name="_s2052"/>
            <p:cNvCxnSpPr>
              <a:stCxn id="243" idx="3"/>
              <a:endCxn id="244" idx="2"/>
            </p:cNvCxnSpPr>
            <p:nvPr/>
          </p:nvCxnSpPr>
          <p:spPr>
            <a:xfrm flipV="1">
              <a:off x="3484800" y="1635120"/>
              <a:ext cx="686160" cy="4804200"/>
            </a:xfrm>
            <a:prstGeom prst="bentConnector2">
              <a:avLst/>
            </a:prstGeom>
            <a:ln w="28440">
              <a:solidFill>
                <a:srgbClr val="006699"/>
              </a:solidFill>
              <a:miter/>
            </a:ln>
          </p:spPr>
        </p:cxnSp>
        <p:cxnSp>
          <p:nvCxnSpPr>
            <p:cNvPr id="245" name="_s2053"/>
            <p:cNvCxnSpPr>
              <a:stCxn id="246" idx="3"/>
              <a:endCxn id="244" idx="2"/>
            </p:cNvCxnSpPr>
            <p:nvPr/>
          </p:nvCxnSpPr>
          <p:spPr>
            <a:xfrm flipV="1">
              <a:off x="3484800" y="1634400"/>
              <a:ext cx="686160" cy="3933000"/>
            </a:xfrm>
            <a:prstGeom prst="bentConnector2">
              <a:avLst/>
            </a:prstGeom>
            <a:ln w="28440">
              <a:solidFill>
                <a:srgbClr val="006699"/>
              </a:solidFill>
              <a:miter/>
            </a:ln>
          </p:spPr>
        </p:cxnSp>
        <p:cxnSp>
          <p:nvCxnSpPr>
            <p:cNvPr id="247" name="_s2054"/>
            <p:cNvCxnSpPr>
              <a:stCxn id="248" idx="3"/>
              <a:endCxn id="244" idx="2"/>
            </p:cNvCxnSpPr>
            <p:nvPr/>
          </p:nvCxnSpPr>
          <p:spPr>
            <a:xfrm flipV="1">
              <a:off x="3484800" y="1634760"/>
              <a:ext cx="686160" cy="3062880"/>
            </a:xfrm>
            <a:prstGeom prst="bentConnector2">
              <a:avLst/>
            </a:prstGeom>
            <a:ln w="28440">
              <a:solidFill>
                <a:srgbClr val="006699"/>
              </a:solidFill>
              <a:miter/>
            </a:ln>
          </p:spPr>
        </p:cxnSp>
        <p:cxnSp>
          <p:nvCxnSpPr>
            <p:cNvPr id="249" name="_s2055"/>
            <p:cNvCxnSpPr>
              <a:stCxn id="250" idx="3"/>
              <a:endCxn id="244" idx="2"/>
            </p:cNvCxnSpPr>
            <p:nvPr/>
          </p:nvCxnSpPr>
          <p:spPr>
            <a:xfrm flipV="1">
              <a:off x="3484800" y="1634760"/>
              <a:ext cx="686160" cy="2193120"/>
            </a:xfrm>
            <a:prstGeom prst="bentConnector2">
              <a:avLst/>
            </a:prstGeom>
            <a:ln w="28440">
              <a:solidFill>
                <a:srgbClr val="006699"/>
              </a:solidFill>
              <a:miter/>
            </a:ln>
          </p:spPr>
        </p:cxnSp>
        <p:cxnSp>
          <p:nvCxnSpPr>
            <p:cNvPr id="251" name="_s2056"/>
            <p:cNvCxnSpPr>
              <a:stCxn id="252" idx="3"/>
              <a:endCxn id="244" idx="2"/>
            </p:cNvCxnSpPr>
            <p:nvPr/>
          </p:nvCxnSpPr>
          <p:spPr>
            <a:xfrm flipV="1">
              <a:off x="3484800" y="1634760"/>
              <a:ext cx="686160" cy="1321200"/>
            </a:xfrm>
            <a:prstGeom prst="bentConnector2">
              <a:avLst/>
            </a:prstGeom>
            <a:ln w="28440">
              <a:solidFill>
                <a:srgbClr val="006699"/>
              </a:solidFill>
              <a:miter/>
            </a:ln>
          </p:spPr>
        </p:cxnSp>
        <p:cxnSp>
          <p:nvCxnSpPr>
            <p:cNvPr id="253" name="_s2057"/>
            <p:cNvCxnSpPr>
              <a:stCxn id="254" idx="3"/>
              <a:endCxn id="244" idx="2"/>
            </p:cNvCxnSpPr>
            <p:nvPr/>
          </p:nvCxnSpPr>
          <p:spPr>
            <a:xfrm flipV="1">
              <a:off x="3484800" y="1634760"/>
              <a:ext cx="686160" cy="451440"/>
            </a:xfrm>
            <a:prstGeom prst="bentConnector2">
              <a:avLst/>
            </a:prstGeom>
            <a:ln w="28440">
              <a:solidFill>
                <a:srgbClr val="006699"/>
              </a:solidFill>
              <a:miter/>
            </a:ln>
          </p:spPr>
        </p:cxnSp>
        <p:sp>
          <p:nvSpPr>
            <p:cNvPr id="244" name="_s2058"/>
            <p:cNvSpPr/>
            <p:nvPr/>
          </p:nvSpPr>
          <p:spPr>
            <a:xfrm>
              <a:off x="2823480" y="1142640"/>
              <a:ext cx="2692440" cy="492480"/>
            </a:xfrm>
            <a:prstGeom prst="roundRect">
              <a:avLst>
                <a:gd name="adj" fmla="val 16667"/>
              </a:avLst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" rIns="9360" tIns="4680" bIns="4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6699"/>
                  </a:solidFill>
                  <a:latin typeface="Times New Roman"/>
                </a:rPr>
                <a:t>Мальчики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_s2059"/>
            <p:cNvSpPr/>
            <p:nvPr/>
          </p:nvSpPr>
          <p:spPr>
            <a:xfrm>
              <a:off x="324000" y="1665360"/>
              <a:ext cx="3160800" cy="840240"/>
            </a:xfrm>
            <a:prstGeom prst="roundRect">
              <a:avLst>
                <a:gd name="adj" fmla="val 16667"/>
              </a:avLst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" rIns="9360" tIns="4680" bIns="4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6699"/>
                  </a:solidFill>
                  <a:latin typeface="Times New Roman"/>
                </a:rPr>
                <a:t>«Муха-цокотуха»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_s2060"/>
            <p:cNvSpPr/>
            <p:nvPr/>
          </p:nvSpPr>
          <p:spPr>
            <a:xfrm>
              <a:off x="324000" y="2535840"/>
              <a:ext cx="3160800" cy="840240"/>
            </a:xfrm>
            <a:prstGeom prst="roundRect">
              <a:avLst>
                <a:gd name="adj" fmla="val 16667"/>
              </a:avLst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" rIns="9360" tIns="4680" bIns="4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6699"/>
                  </a:solidFill>
                  <a:latin typeface="Times New Roman"/>
                </a:rPr>
                <a:t>«Краденное солнце»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_s2061"/>
            <p:cNvSpPr/>
            <p:nvPr/>
          </p:nvSpPr>
          <p:spPr>
            <a:xfrm>
              <a:off x="324000" y="3406320"/>
              <a:ext cx="3160800" cy="840240"/>
            </a:xfrm>
            <a:prstGeom prst="roundRect">
              <a:avLst>
                <a:gd name="adj" fmla="val 16667"/>
              </a:avLst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" rIns="9360" tIns="4680" bIns="4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6699"/>
                  </a:solidFill>
                  <a:latin typeface="Times New Roman"/>
                </a:rPr>
                <a:t>«Ветер по морю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6699"/>
                  </a:solidFill>
                  <a:latin typeface="Times New Roman"/>
                </a:rPr>
                <a:t>гуляет»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_s2062"/>
            <p:cNvSpPr/>
            <p:nvPr/>
          </p:nvSpPr>
          <p:spPr>
            <a:xfrm>
              <a:off x="324000" y="4276800"/>
              <a:ext cx="3160800" cy="840240"/>
            </a:xfrm>
            <a:prstGeom prst="roundRect">
              <a:avLst>
                <a:gd name="adj" fmla="val 16667"/>
              </a:avLst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2400" rIns="324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6699"/>
                  </a:solidFill>
                  <a:latin typeface="Times New Roman"/>
                </a:rPr>
                <a:t>«Кораблик»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_s2063"/>
            <p:cNvSpPr/>
            <p:nvPr/>
          </p:nvSpPr>
          <p:spPr>
            <a:xfrm>
              <a:off x="324000" y="5147280"/>
              <a:ext cx="3160800" cy="840240"/>
            </a:xfrm>
            <a:prstGeom prst="roundRect">
              <a:avLst>
                <a:gd name="adj" fmla="val 16667"/>
              </a:avLst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2400" rIns="324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6699"/>
                  </a:solidFill>
                  <a:latin typeface="Times New Roman"/>
                </a:rPr>
                <a:t>«Грузовик»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_s2064"/>
            <p:cNvSpPr/>
            <p:nvPr/>
          </p:nvSpPr>
          <p:spPr>
            <a:xfrm>
              <a:off x="324000" y="6017760"/>
              <a:ext cx="3160800" cy="840240"/>
            </a:xfrm>
            <a:prstGeom prst="roundRect">
              <a:avLst>
                <a:gd name="adj" fmla="val 16667"/>
              </a:avLst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2400" rIns="324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6699"/>
                  </a:solidFill>
                  <a:latin typeface="Times New Roman"/>
                </a:rPr>
                <a:t>«Самолёт»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Text Box 21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Мальчики любят книги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о машинах, сказки о мужествен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Picture 22" descr="1369084541362"/>
          <p:cNvPicPr/>
          <p:nvPr/>
        </p:nvPicPr>
        <p:blipFill>
          <a:blip r:embed="rId1"/>
          <a:stretch/>
        </p:blipFill>
        <p:spPr>
          <a:xfrm>
            <a:off x="5234040" y="1773360"/>
            <a:ext cx="3668760" cy="481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0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94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ff"/>
                </a:solidFill>
                <a:latin typeface="Times New Roman"/>
              </a:rPr>
              <a:t>Спортивный уголок организован с учётом потребностей мальчиков и девочек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58" name="Picture 6" descr="Изображение 065"/>
          <p:cNvPicPr/>
          <p:nvPr/>
        </p:nvPicPr>
        <p:blipFill>
          <a:blip r:embed="rId1"/>
          <a:stretch/>
        </p:blipFill>
        <p:spPr>
          <a:xfrm>
            <a:off x="324000" y="4005360"/>
            <a:ext cx="3600360" cy="26985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" descr="1369083541844"/>
          <p:cNvPicPr/>
          <p:nvPr/>
        </p:nvPicPr>
        <p:blipFill>
          <a:blip r:embed="rId2"/>
          <a:srcRect l="15819" t="0" r="0" b="0"/>
          <a:stretch/>
        </p:blipFill>
        <p:spPr>
          <a:xfrm>
            <a:off x="5724360" y="1484280"/>
            <a:ext cx="3113280" cy="49690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5" descr="1369083514562"/>
          <p:cNvPicPr/>
          <p:nvPr/>
        </p:nvPicPr>
        <p:blipFill>
          <a:blip r:embed="rId3"/>
          <a:stretch/>
        </p:blipFill>
        <p:spPr>
          <a:xfrm>
            <a:off x="324000" y="1268280"/>
            <a:ext cx="3600360" cy="24228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8" descr="detia-514"/>
          <p:cNvPicPr/>
          <p:nvPr/>
        </p:nvPicPr>
        <p:blipFill>
          <a:blip r:embed="rId4"/>
          <a:stretch/>
        </p:blipFill>
        <p:spPr>
          <a:xfrm>
            <a:off x="4427640" y="2997360"/>
            <a:ext cx="758880" cy="122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0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103320"/>
            <a:ext cx="9144000" cy="58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ff"/>
                </a:solidFill>
                <a:latin typeface="Times New Roman"/>
              </a:rPr>
              <a:t>Участие в совместных проектах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63" name="Picture 9" descr="Фото0095_001"/>
          <p:cNvPicPr/>
          <p:nvPr/>
        </p:nvPicPr>
        <p:blipFill>
          <a:blip r:embed="rId1"/>
          <a:stretch/>
        </p:blipFill>
        <p:spPr>
          <a:xfrm>
            <a:off x="611280" y="4149720"/>
            <a:ext cx="3241440" cy="24382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DSCN2195"/>
          <p:cNvPicPr/>
          <p:nvPr/>
        </p:nvPicPr>
        <p:blipFill>
          <a:blip r:embed="rId2"/>
          <a:stretch/>
        </p:blipFill>
        <p:spPr>
          <a:xfrm>
            <a:off x="250920" y="1484280"/>
            <a:ext cx="2665440" cy="1998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5" descr="DSCN2191"/>
          <p:cNvPicPr/>
          <p:nvPr/>
        </p:nvPicPr>
        <p:blipFill>
          <a:blip r:embed="rId3"/>
          <a:stretch/>
        </p:blipFill>
        <p:spPr>
          <a:xfrm>
            <a:off x="6156360" y="1484280"/>
            <a:ext cx="2771640" cy="20779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6" descr="DSCN2194"/>
          <p:cNvPicPr/>
          <p:nvPr/>
        </p:nvPicPr>
        <p:blipFill>
          <a:blip r:embed="rId4"/>
          <a:stretch/>
        </p:blipFill>
        <p:spPr>
          <a:xfrm>
            <a:off x="3059280" y="1413000"/>
            <a:ext cx="3022560" cy="226836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8"/>
          <p:cNvSpPr/>
          <p:nvPr/>
        </p:nvSpPr>
        <p:spPr>
          <a:xfrm>
            <a:off x="2986200" y="836640"/>
            <a:ext cx="314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Игрушки своими руками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11"/>
          <p:cNvSpPr/>
          <p:nvPr/>
        </p:nvSpPr>
        <p:spPr>
          <a:xfrm>
            <a:off x="-1800" y="3573360"/>
            <a:ext cx="389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Кормушку сделали мы с папой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2" descr="Изображение 015"/>
          <p:cNvPicPr/>
          <p:nvPr/>
        </p:nvPicPr>
        <p:blipFill>
          <a:blip r:embed="rId5"/>
          <a:stretch/>
        </p:blipFill>
        <p:spPr>
          <a:xfrm>
            <a:off x="5724360" y="4221000"/>
            <a:ext cx="3102120" cy="232740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14"/>
          <p:cNvSpPr/>
          <p:nvPr/>
        </p:nvSpPr>
        <p:spPr>
          <a:xfrm>
            <a:off x="5794200" y="3765600"/>
            <a:ext cx="24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Тортик моей мамы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0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8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9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0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1080"/>
                            </p:stCondLst>
                            <p:childTnLst>
                              <p:par>
                                <p:cTn id="43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2080"/>
                            </p:stCondLst>
                            <p:childTnLst>
                              <p:par>
                                <p:cTn id="43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3080"/>
                            </p:stCondLst>
                            <p:childTnLst>
                              <p:par>
                                <p:cTn id="44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4080"/>
                            </p:stCondLst>
                            <p:childTnLst>
                              <p:par>
                                <p:cTn id="45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5080"/>
                            </p:stCondLst>
                            <p:childTnLst>
                              <p:par>
                                <p:cTn id="45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28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ff"/>
                </a:solidFill>
                <a:latin typeface="Times New Roman"/>
              </a:rPr>
              <a:t>Главная цель всех мероприяти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cc00ff"/>
                </a:solidFill>
                <a:latin typeface="Times New Roman"/>
              </a:rPr>
              <a:t>совместной деятельности</a:t>
            </a:r>
            <a:r>
              <a:rPr b="0" lang="ru-RU" sz="2000" spc="-1" strike="noStrike">
                <a:solidFill>
                  <a:srgbClr val="cc00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ru-RU" sz="2000" spc="-1" strike="noStrike">
                <a:solidFill>
                  <a:srgbClr val="cc00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ть родителям знания о воспитании их собственного ребёнка; заинтересовать проблемами гендерного воспитания, стимулировать к пересмотру своей воспитательной позици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72" name="Picture 7" descr="род уголок"/>
          <p:cNvPicPr/>
          <p:nvPr/>
        </p:nvPicPr>
        <p:blipFill>
          <a:blip r:embed="rId1"/>
          <a:stretch/>
        </p:blipFill>
        <p:spPr>
          <a:xfrm>
            <a:off x="5076720" y="3789360"/>
            <a:ext cx="3805200" cy="28544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0" descr="р у"/>
          <p:cNvPicPr/>
          <p:nvPr/>
        </p:nvPicPr>
        <p:blipFill>
          <a:blip r:embed="rId2"/>
          <a:stretch/>
        </p:blipFill>
        <p:spPr>
          <a:xfrm>
            <a:off x="250920" y="3968640"/>
            <a:ext cx="3529080" cy="264636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12"/>
          <p:cNvSpPr/>
          <p:nvPr/>
        </p:nvSpPr>
        <p:spPr>
          <a:xfrm>
            <a:off x="2631240" y="2781360"/>
            <a:ext cx="355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ff"/>
                </a:solidFill>
                <a:latin typeface="Times New Roman"/>
              </a:rPr>
              <a:t>Уголки для родител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13"/>
          <p:cNvSpPr/>
          <p:nvPr/>
        </p:nvSpPr>
        <p:spPr>
          <a:xfrm>
            <a:off x="5076720" y="3213000"/>
            <a:ext cx="37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Советы по воспитанию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14"/>
          <p:cNvSpPr/>
          <p:nvPr/>
        </p:nvSpPr>
        <p:spPr>
          <a:xfrm>
            <a:off x="1440" y="3357720"/>
            <a:ext cx="42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Весёлые истории моей семьи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0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77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8" dur="77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0" dur="77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2" dur="77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77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7" dur="77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9" dur="77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1" dur="77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77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6" dur="77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8" dur="77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0" dur="77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77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5" dur="770" fill="hold"/>
                                        <p:tgtEl>
                                          <p:spTgt spid="2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7" dur="77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9" dur="77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77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4" dur="770" fill="hold"/>
                                        <p:tgtEl>
                                          <p:spTgt spid="2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6" dur="77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8" dur="77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77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3" dur="770" fill="hold"/>
                                        <p:tgtEl>
                                          <p:spTgt spid="2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5" dur="77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7" dur="77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77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2" dur="770" fill="hold"/>
                                        <p:tgtEl>
                                          <p:spTgt spid="2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4" dur="77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6" dur="77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77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1" dur="770" fill="hold"/>
                                        <p:tgtEl>
                                          <p:spTgt spid="2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3" dur="77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5" dur="77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102960"/>
            <a:ext cx="9144000" cy="80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ff"/>
                </a:solidFill>
                <a:latin typeface="Times New Roman"/>
              </a:rPr>
              <a:t>Совместная деятельность с родителями </a:t>
            </a:r>
            <a:br>
              <a:rPr sz="2400"/>
            </a:br>
            <a:r>
              <a:rPr b="0" lang="ru-RU" sz="2400" spc="-1" strike="noStrike">
                <a:solidFill>
                  <a:srgbClr val="cc00ff"/>
                </a:solidFill>
                <a:latin typeface="Times New Roman"/>
              </a:rPr>
              <a:t>(собрания, посещение кружка, индивидуальная консультация)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78" name="Picture 6" descr="Изображение 054"/>
          <p:cNvPicPr/>
          <p:nvPr/>
        </p:nvPicPr>
        <p:blipFill>
          <a:blip r:embed="rId1"/>
          <a:stretch/>
        </p:blipFill>
        <p:spPr>
          <a:xfrm>
            <a:off x="395280" y="1160640"/>
            <a:ext cx="3456000" cy="25938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Изображение 018"/>
          <p:cNvPicPr/>
          <p:nvPr/>
        </p:nvPicPr>
        <p:blipFill>
          <a:blip r:embed="rId2"/>
          <a:stretch/>
        </p:blipFill>
        <p:spPr>
          <a:xfrm>
            <a:off x="324000" y="4005360"/>
            <a:ext cx="3527280" cy="26463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5" descr="Изображение 017"/>
          <p:cNvPicPr/>
          <p:nvPr/>
        </p:nvPicPr>
        <p:blipFill>
          <a:blip r:embed="rId3"/>
          <a:stretch/>
        </p:blipFill>
        <p:spPr>
          <a:xfrm>
            <a:off x="5292720" y="1252440"/>
            <a:ext cx="3240000" cy="24307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8" descr="Фото0255"/>
          <p:cNvPicPr/>
          <p:nvPr/>
        </p:nvPicPr>
        <p:blipFill>
          <a:blip r:embed="rId4"/>
          <a:stretch/>
        </p:blipFill>
        <p:spPr>
          <a:xfrm>
            <a:off x="5292720" y="3968640"/>
            <a:ext cx="3394080" cy="254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nodeType="clickEffect" fill="hold">
                      <p:stCondLst>
                        <p:cond delay="0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5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4" descr="IMAG0030"/>
          <p:cNvPicPr/>
          <p:nvPr/>
        </p:nvPicPr>
        <p:blipFill>
          <a:blip r:embed="rId1"/>
          <a:stretch/>
        </p:blipFill>
        <p:spPr>
          <a:xfrm>
            <a:off x="250920" y="692280"/>
            <a:ext cx="8642160" cy="51069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8" descr="animashki-pogoda-10"/>
          <p:cNvPicPr/>
          <p:nvPr/>
        </p:nvPicPr>
        <p:blipFill>
          <a:blip r:embed="rId2"/>
          <a:stretch/>
        </p:blipFill>
        <p:spPr>
          <a:xfrm>
            <a:off x="1979640" y="5877000"/>
            <a:ext cx="662040" cy="691920"/>
          </a:xfrm>
          <a:prstGeom prst="rect">
            <a:avLst/>
          </a:prstGeom>
          <a:ln w="0">
            <a:noFill/>
          </a:ln>
        </p:spPr>
      </p:pic>
      <p:sp>
        <p:nvSpPr>
          <p:cNvPr id="284" name="Rectangle 7"/>
          <p:cNvSpPr/>
          <p:nvPr/>
        </p:nvSpPr>
        <p:spPr>
          <a:xfrm>
            <a:off x="1835280" y="5877000"/>
            <a:ext cx="52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ff"/>
                </a:solidFill>
                <a:latin typeface="Times New Roman"/>
              </a:rPr>
              <a:t>В добрый путь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Picture 20" descr="zvezdia-196"/>
          <p:cNvPicPr/>
          <p:nvPr/>
        </p:nvPicPr>
        <p:blipFill>
          <a:blip r:embed="rId3"/>
          <a:stretch/>
        </p:blipFill>
        <p:spPr>
          <a:xfrm>
            <a:off x="3059280" y="6858000"/>
            <a:ext cx="190476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8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ff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cc00ff"/>
                </a:solidFill>
                <a:latin typeface="Times New Roman"/>
              </a:rPr>
              <a:t>Гендерный подход – это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cc00ff"/>
                </a:solidFill>
                <a:latin typeface="Times New Roman"/>
              </a:rPr>
              <a:t>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индивидуальный подход к проявлению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ребёнком своей идентичности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- даёт в дальнейшем человеку большую свободу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выбора и самореализации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- помогает быть достаточно гибким и уметь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использовать разные возможности поведения.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0" name="Picture 10" descr="Фото0077"/>
          <p:cNvPicPr/>
          <p:nvPr/>
        </p:nvPicPr>
        <p:blipFill>
          <a:blip r:embed="rId1"/>
          <a:stretch/>
        </p:blipFill>
        <p:spPr>
          <a:xfrm>
            <a:off x="250920" y="349884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7"/>
          <p:cNvSpPr/>
          <p:nvPr/>
        </p:nvSpPr>
        <p:spPr>
          <a:xfrm>
            <a:off x="395280" y="3213000"/>
            <a:ext cx="82440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395280" y="3429000"/>
            <a:ext cx="82440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11" descr="DSCN2217"/>
          <p:cNvPicPr/>
          <p:nvPr/>
        </p:nvPicPr>
        <p:blipFill>
          <a:blip r:embed="rId2"/>
          <a:stretch/>
        </p:blipFill>
        <p:spPr>
          <a:xfrm>
            <a:off x="4859280" y="350028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2204640"/>
            <a:ext cx="9144000" cy="151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ff"/>
                </a:solidFill>
                <a:latin typeface="Times New Roman"/>
              </a:rPr>
              <a:t>Дифференцированный подход к воспитанию мальчиков и девочек в разных видах деятельности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331640" y="3933720"/>
            <a:ext cx="604836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Режимные моменты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редметно-развивающая среда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Работа с родителями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6" name="Picture 19" descr="multyashki-498"/>
          <p:cNvPicPr/>
          <p:nvPr/>
        </p:nvPicPr>
        <p:blipFill>
          <a:blip r:embed="rId1"/>
          <a:stretch/>
        </p:blipFill>
        <p:spPr>
          <a:xfrm>
            <a:off x="0" y="0"/>
            <a:ext cx="1835280" cy="17748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2" descr="detia-799"/>
          <p:cNvPicPr/>
          <p:nvPr/>
        </p:nvPicPr>
        <p:blipFill>
          <a:blip r:embed="rId2"/>
          <a:stretch/>
        </p:blipFill>
        <p:spPr>
          <a:xfrm>
            <a:off x="7696080" y="4869000"/>
            <a:ext cx="1225800" cy="177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71640" y="260280"/>
            <a:ext cx="7129440" cy="5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cc00ff"/>
                </a:solidFill>
                <a:latin typeface="Times New Roman"/>
              </a:rPr>
              <a:t>Основной вид деятельности - игра</a:t>
            </a:r>
            <a:endParaRPr b="0" lang="en-US" sz="33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558000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В сюжетно-ролевой игр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происходит усвоение детьми гендерного поведения, ребёнок принимает на себя роль и действует в соответствии с принятой ролью, которая наиболее полно соответствует его гендерным интересам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0" name="Picture 7" descr="DSCF3235"/>
          <p:cNvPicPr/>
          <p:nvPr/>
        </p:nvPicPr>
        <p:blipFill>
          <a:blip r:embed="rId1"/>
          <a:stretch/>
        </p:blipFill>
        <p:spPr>
          <a:xfrm>
            <a:off x="5796000" y="765000"/>
            <a:ext cx="2536920" cy="33847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игра4"/>
          <p:cNvPicPr/>
          <p:nvPr/>
        </p:nvPicPr>
        <p:blipFill>
          <a:blip r:embed="rId2"/>
          <a:stretch/>
        </p:blipFill>
        <p:spPr>
          <a:xfrm>
            <a:off x="5508720" y="4365720"/>
            <a:ext cx="3241440" cy="24318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0" descr="4"/>
          <p:cNvPicPr/>
          <p:nvPr/>
        </p:nvPicPr>
        <p:blipFill>
          <a:blip r:embed="rId3"/>
          <a:stretch/>
        </p:blipFill>
        <p:spPr>
          <a:xfrm>
            <a:off x="0" y="5851440"/>
            <a:ext cx="1042920" cy="100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ff"/>
                </a:solidFill>
                <a:latin typeface="Times New Roman"/>
              </a:rPr>
              <a:t>В игре происходит воспитание ребёнка, </a:t>
            </a:r>
            <a:br>
              <a:rPr sz="3200"/>
            </a:br>
            <a:r>
              <a:rPr b="1" lang="ru-RU" sz="3200" spc="-1" strike="noStrike">
                <a:solidFill>
                  <a:srgbClr val="cc00ff"/>
                </a:solidFill>
                <a:latin typeface="Times New Roman"/>
              </a:rPr>
              <a:t>   как будущего мужчины или женщины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4" name="Picture 11" descr="игра"/>
          <p:cNvPicPr/>
          <p:nvPr/>
        </p:nvPicPr>
        <p:blipFill>
          <a:blip r:embed="rId1"/>
          <a:stretch/>
        </p:blipFill>
        <p:spPr>
          <a:xfrm>
            <a:off x="250920" y="112536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03280" y="3645000"/>
            <a:ext cx="550872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игре можно увидеть как заметно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личаются мальчики и девочк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вочки предпочитают игры н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мейно-бытовые темы, а мальчик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умные, активные, в движени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6" name="Picture 12" descr="1369083650931"/>
          <p:cNvPicPr/>
          <p:nvPr/>
        </p:nvPicPr>
        <p:blipFill>
          <a:blip r:embed="rId2"/>
          <a:stretch/>
        </p:blipFill>
        <p:spPr>
          <a:xfrm>
            <a:off x="6659640" y="2565360"/>
            <a:ext cx="2187360" cy="31687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4" descr="игра1"/>
          <p:cNvPicPr/>
          <p:nvPr/>
        </p:nvPicPr>
        <p:blipFill>
          <a:blip r:embed="rId3"/>
          <a:stretch/>
        </p:blipFill>
        <p:spPr>
          <a:xfrm>
            <a:off x="196920" y="4437000"/>
            <a:ext cx="1600200" cy="21319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9" descr="Фото106"/>
          <p:cNvPicPr/>
          <p:nvPr/>
        </p:nvPicPr>
        <p:blipFill>
          <a:blip r:embed="rId4"/>
          <a:stretch/>
        </p:blipFill>
        <p:spPr>
          <a:xfrm>
            <a:off x="5867280" y="981000"/>
            <a:ext cx="2051280" cy="27370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0" descr="detia-757"/>
          <p:cNvPicPr/>
          <p:nvPr/>
        </p:nvPicPr>
        <p:blipFill>
          <a:blip r:embed="rId5"/>
          <a:stretch/>
        </p:blipFill>
        <p:spPr>
          <a:xfrm>
            <a:off x="8182080" y="5791320"/>
            <a:ext cx="961920" cy="106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4" descr="Изображение 067"/>
          <p:cNvPicPr/>
          <p:nvPr/>
        </p:nvPicPr>
        <p:blipFill>
          <a:blip r:embed="rId1"/>
          <a:stretch/>
        </p:blipFill>
        <p:spPr>
          <a:xfrm rot="19968000">
            <a:off x="610920" y="980640"/>
            <a:ext cx="2685960" cy="30956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Изображение 066"/>
          <p:cNvPicPr/>
          <p:nvPr/>
        </p:nvPicPr>
        <p:blipFill>
          <a:blip r:embed="rId2"/>
          <a:stretch/>
        </p:blipFill>
        <p:spPr>
          <a:xfrm rot="930000">
            <a:off x="5906880" y="928800"/>
            <a:ext cx="2759040" cy="32414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8" descr="иг зона"/>
          <p:cNvPicPr/>
          <p:nvPr/>
        </p:nvPicPr>
        <p:blipFill>
          <a:blip r:embed="rId3"/>
          <a:stretch/>
        </p:blipFill>
        <p:spPr>
          <a:xfrm>
            <a:off x="2627280" y="3933720"/>
            <a:ext cx="3600360" cy="270216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11"/>
          <p:cNvSpPr/>
          <p:nvPr/>
        </p:nvSpPr>
        <p:spPr>
          <a:xfrm>
            <a:off x="971640" y="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ff"/>
                </a:solidFill>
                <a:latin typeface="Times New Roman"/>
              </a:rPr>
              <a:t>         </a:t>
            </a:r>
            <a:r>
              <a:rPr b="0" lang="ru-RU" sz="3200" spc="-1" strike="noStrike">
                <a:solidFill>
                  <a:srgbClr val="cc00ff"/>
                </a:solidFill>
                <a:latin typeface="Times New Roman"/>
              </a:rPr>
              <a:t>Предметно-развивающая сре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10920" y="0"/>
            <a:ext cx="8243640" cy="65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ff"/>
                </a:solidFill>
                <a:latin typeface="Times New Roman"/>
              </a:rPr>
              <a:t>Гендерное воспитание в трудовой деятельности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5" name="Picture 30" descr="Фото0254"/>
          <p:cNvPicPr/>
          <p:nvPr/>
        </p:nvPicPr>
        <p:blipFill>
          <a:blip r:embed="rId1"/>
          <a:stretch/>
        </p:blipFill>
        <p:spPr>
          <a:xfrm>
            <a:off x="250920" y="357336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5" descr="iCANGMF99"/>
          <p:cNvPicPr/>
          <p:nvPr/>
        </p:nvPicPr>
        <p:blipFill>
          <a:blip r:embed="rId2"/>
          <a:stretch/>
        </p:blipFill>
        <p:spPr>
          <a:xfrm>
            <a:off x="0" y="0"/>
            <a:ext cx="900000" cy="88884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27"/>
          <p:cNvSpPr/>
          <p:nvPr/>
        </p:nvSpPr>
        <p:spPr>
          <a:xfrm>
            <a:off x="1476360" y="11253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29"/>
          <p:cNvSpPr/>
          <p:nvPr/>
        </p:nvSpPr>
        <p:spPr>
          <a:xfrm>
            <a:off x="0" y="642960"/>
            <a:ext cx="8893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влекая мальчика к участию в «женской» работе, поощряя его «рыцарство» в маленьких заботах о других и в разных ситуациях («Помочь взрослому накрыть на стол», «Пропылесосить с папой ковёр» и т.д.) – это обязательно положительно в дальнейшем скажется на результатах его воспитания.  Кроме этого, благодаря совместной трудовой деятельности со взрослым ребёнок начинает осознавать себя членом коллекти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32" descr="Фото0203"/>
          <p:cNvPicPr/>
          <p:nvPr/>
        </p:nvPicPr>
        <p:blipFill>
          <a:blip r:embed="rId3"/>
          <a:stretch/>
        </p:blipFill>
        <p:spPr>
          <a:xfrm>
            <a:off x="4716360" y="3537000"/>
            <a:ext cx="4091040" cy="306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ff"/>
                </a:solidFill>
                <a:latin typeface="Times New Roman"/>
              </a:rPr>
              <a:t>Специально организованная деятельность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01" name="Picture 4" descr="DSCN2257"/>
          <p:cNvPicPr/>
          <p:nvPr/>
        </p:nvPicPr>
        <p:blipFill>
          <a:blip r:embed="rId1"/>
          <a:stretch/>
        </p:blipFill>
        <p:spPr>
          <a:xfrm>
            <a:off x="324000" y="1125360"/>
            <a:ext cx="3384360" cy="25387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9" descr="DSCF3068"/>
          <p:cNvPicPr/>
          <p:nvPr/>
        </p:nvPicPr>
        <p:blipFill>
          <a:blip r:embed="rId2"/>
          <a:stretch/>
        </p:blipFill>
        <p:spPr>
          <a:xfrm>
            <a:off x="5435640" y="1052640"/>
            <a:ext cx="3300480" cy="24746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7" descr="DSCN2293"/>
          <p:cNvPicPr/>
          <p:nvPr/>
        </p:nvPicPr>
        <p:blipFill>
          <a:blip r:embed="rId3"/>
          <a:stretch/>
        </p:blipFill>
        <p:spPr>
          <a:xfrm>
            <a:off x="5435640" y="4076640"/>
            <a:ext cx="3301920" cy="24764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1" descr="Фото0152"/>
          <p:cNvPicPr/>
          <p:nvPr/>
        </p:nvPicPr>
        <p:blipFill>
          <a:blip r:embed="rId4"/>
          <a:stretch/>
        </p:blipFill>
        <p:spPr>
          <a:xfrm>
            <a:off x="324000" y="3979800"/>
            <a:ext cx="3384360" cy="25383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2" descr="5a3b3b90dea43e8e7f6f7daed3a52526"/>
          <p:cNvPicPr/>
          <p:nvPr/>
        </p:nvPicPr>
        <p:blipFill>
          <a:blip r:embed="rId5"/>
          <a:stretch/>
        </p:blipFill>
        <p:spPr>
          <a:xfrm>
            <a:off x="0" y="0"/>
            <a:ext cx="706320" cy="83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5"/>
          <p:cNvSpPr/>
          <p:nvPr/>
        </p:nvSpPr>
        <p:spPr>
          <a:xfrm>
            <a:off x="468360" y="260280"/>
            <a:ext cx="83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ff"/>
                </a:solidFill>
                <a:latin typeface="Times New Roman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18"/>
          <p:cNvSpPr/>
          <p:nvPr/>
        </p:nvSpPr>
        <p:spPr>
          <a:xfrm>
            <a:off x="250920" y="333360"/>
            <a:ext cx="88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20"/>
          <p:cNvSpPr/>
          <p:nvPr/>
        </p:nvSpPr>
        <p:spPr>
          <a:xfrm>
            <a:off x="3564000" y="6922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21"/>
          <p:cNvSpPr/>
          <p:nvPr/>
        </p:nvSpPr>
        <p:spPr>
          <a:xfrm>
            <a:off x="324000" y="3573360"/>
            <a:ext cx="6553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Особенность дифференциации</a:t>
            </a:r>
            <a:r>
              <a:rPr b="0" lang="ru-RU" sz="2800" spc="-1" strike="noStrike">
                <a:solidFill>
                  <a:srgbClr val="cc00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процессе физического воспитания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ff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cc00ff"/>
                </a:solidFill>
                <a:latin typeface="Times New Roman"/>
              </a:rPr>
              <a:t>в том, что девочки и мальчик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ff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cc00ff"/>
                </a:solidFill>
                <a:latin typeface="Times New Roman"/>
              </a:rPr>
              <a:t>вместе в специально-организованно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ff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cc00ff"/>
                </a:solidFill>
                <a:latin typeface="Times New Roman"/>
              </a:rPr>
              <a:t>деятельности развивают физическ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ff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cc00ff"/>
                </a:solidFill>
                <a:latin typeface="Times New Roman"/>
              </a:rPr>
              <a:t>качества, которые принято счита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ff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cc00ff"/>
                </a:solidFill>
                <a:latin typeface="Times New Roman"/>
              </a:rPr>
              <a:t>сугубо женскими или мужски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24" descr="IMAG0034"/>
          <p:cNvPicPr/>
          <p:nvPr/>
        </p:nvPicPr>
        <p:blipFill>
          <a:blip r:embed="rId1"/>
          <a:stretch/>
        </p:blipFill>
        <p:spPr>
          <a:xfrm>
            <a:off x="5076720" y="1341360"/>
            <a:ext cx="3724560" cy="22320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7" descr="IMAG0032"/>
          <p:cNvPicPr/>
          <p:nvPr/>
        </p:nvPicPr>
        <p:blipFill>
          <a:blip r:embed="rId2"/>
          <a:stretch/>
        </p:blipFill>
        <p:spPr>
          <a:xfrm>
            <a:off x="6840360" y="3789360"/>
            <a:ext cx="1979640" cy="28764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3" descr="multyashki-2238"/>
          <p:cNvPicPr/>
          <p:nvPr/>
        </p:nvPicPr>
        <p:blipFill>
          <a:blip r:embed="rId3"/>
          <a:stretch/>
        </p:blipFill>
        <p:spPr>
          <a:xfrm>
            <a:off x="0" y="5661000"/>
            <a:ext cx="754200" cy="11970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cc00ff"/>
                </a:solidFill>
                <a:latin typeface="Times New Roman"/>
              </a:rPr>
              <a:t>Приоритетное направление работы нашего МАДОУ – физическое развитие воспитанников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599840"/>
            <a:ext cx="4038480" cy="21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5" name="Picture 4" descr="1369083595820"/>
          <p:cNvPicPr/>
          <p:nvPr/>
        </p:nvPicPr>
        <p:blipFill>
          <a:blip r:embed="rId4"/>
          <a:stretch/>
        </p:blipFill>
        <p:spPr>
          <a:xfrm>
            <a:off x="395280" y="1370160"/>
            <a:ext cx="3384720" cy="220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0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4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2</cp:lastModifiedBy>
  <dcterms:modified xsi:type="dcterms:W3CDTF">2013-06-04T10:11:43Z</dcterms:modified>
  <cp:revision>166</cp:revision>
  <dc:subject/>
  <dc:title>PowerPoint Presentation</dc:title>
</cp:coreProperties>
</file>