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6CBF0-112F-402C-965C-ECA1915F5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91CB3-A42E-444D-9A2E-5008994D0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951DB-408A-4186-A752-A7DD2FD36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AD912-9AA0-4D02-BDE3-C01EA31BD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ED912-2AA1-4178-B513-CBC4548D6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63897-F273-4093-99C7-58EE48DC2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D9BFD-0EBD-421A-90C3-3AA46D52D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63369-F812-4659-B1E3-5DA9D62EA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0B90D-A6C4-4141-AA92-810B1F464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F6F09-63D7-4D08-94B1-2C92FBFCD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10EFC-39F5-4059-A488-3DED4A9E0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6183E-A586-4D8D-B7AC-2DA41FF86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4004A-1A81-49C0-9303-3705D89D5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D9075-6D83-4129-81A9-360B8F231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647B6-1416-46A6-934D-DADE81D3F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20DB3-932B-4B89-B10C-D7CA8C994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BC63F-A2E7-4B9E-BBF2-08268B786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C953F-4EE3-4C6D-A637-660EE8799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4D637-FB27-48C2-8605-A3A2B57B9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57422-7B14-41D3-B2BD-12CB7FFEF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2AB9C-B40C-4DD0-89F0-38DE5F9FC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21E06-5585-4BC1-AA2C-9C75ABA81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A194C-B202-4902-9BF2-EE6B3EC1F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18B4D-037C-49B2-BC2F-72FE3687C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53EED-C28C-4EC7-ABD5-84C87220137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A9A8B-1639-47D9-A7C5-E46DB45AF65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1476360" y="1700280"/>
            <a:ext cx="6769080" cy="367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Организация проверки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и оценки знаний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учащихся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1116000" y="260280"/>
            <a:ext cx="5543640" cy="88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Устный счет.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042920" y="2133720"/>
            <a:ext cx="748980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пражнения можно написать на доске или, устные упражнения из учебника, или раздать карточ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колонках записывается отв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оверку можно поручить сильным ученика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четный лист можно использовать для терминов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ля проверки знания форму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468360" y="692280"/>
            <a:ext cx="84675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Одновариантные контрольные работы.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26920" y="2205000"/>
            <a:ext cx="6969240" cy="35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задачи;            6 пример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  «5»  - решить максимальное количество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  «4»              устанавливает учитель, исходя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з сложности       зада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  «3»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  «2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50920" y="3357720"/>
            <a:ext cx="360360" cy="2160360"/>
          </a:xfrm>
          <a:custGeom>
            <a:avLst/>
            <a:gdLst>
              <a:gd name="textAreaLeft" fmla="*/ 0 w 360360"/>
              <a:gd name="textAreaRight" fmla="*/ 129960 w 360360"/>
              <a:gd name="textAreaTop" fmla="*/ 56160 h 2160360"/>
              <a:gd name="textAreaBottom" fmla="*/ 2104200 h 21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755640" y="692280"/>
            <a:ext cx="77770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Дифференцированные контрольные работы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258920" y="2349360"/>
            <a:ext cx="648180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оводятся на три вариан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вариант – «5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вариант  -  «4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 вариант  - «3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258920" y="692280"/>
            <a:ext cx="59529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Устная контрольная работа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042920" y="1557360"/>
            <a:ext cx="6913800" cy="18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Вопросы трех видов: а) теория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б) устный счет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в) вопросы для сообразительност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Проводится на учетном листе, минут 20; оценка выставляется после 6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 - 70 вопрос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Учетный лист такой форм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684360" y="3429000"/>
          <a:ext cx="8064360" cy="2890800"/>
        </p:xfrm>
        <a:graphic>
          <a:graphicData uri="http://schemas.openxmlformats.org/drawingml/2006/table">
            <a:tbl>
              <a:tblPr/>
              <a:tblGrid>
                <a:gridCol w="998280"/>
                <a:gridCol w="998640"/>
                <a:gridCol w="998640"/>
                <a:gridCol w="801720"/>
                <a:gridCol w="1314360"/>
                <a:gridCol w="1584360"/>
                <a:gridCol w="1368360"/>
              </a:tblGrid>
              <a:tr h="103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.И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п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дан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цен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омер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дан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2195640" y="260280"/>
            <a:ext cx="5400720" cy="81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очинения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600200" y="2152800"/>
            <a:ext cx="563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адание дается на 2 – 3 неде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1979640" y="476280"/>
            <a:ext cx="439272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Зачеты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55640" y="1628640"/>
            <a:ext cx="8388360" cy="50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ельзя проводить очень часто, в год по 1 – 2 тема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оводится в учебное врем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втоматический зач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давшим зачет, дается дополнительное зада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Комбинированный зачет (в несколько этапов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) письменная проверочная работа (оценка не в журнал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) собеседование по данным проверочной рабо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 результатам письменной проверки и собеседования – оценка в журна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900000" y="260280"/>
            <a:ext cx="792000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роверка домашней работы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095480" y="2513160"/>
            <a:ext cx="76532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 доске или карточк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ешает пример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налогичные домашни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2050920" y="333360"/>
            <a:ext cx="5042160" cy="88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Тесты.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8360" y="1572480"/>
            <a:ext cx="79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). Тесты закрытого типа 1.Избирательные тес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ст состоит из системы заданий, каждому из которых прилагаются как верные, так и неверные ответы. Из них школьник выбирает тот, который считает верным для данного вопроса. При этом неверные ответы содержат такую ошибку, которую учащийся может допустить, имея определенный пробел в знаниях. Такие тесты называются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избирательны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уществуют следующие подвиды избирательных тестов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    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Многовариантны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тесты, в которых среди предлагаемых    ответов на вопрос приведено несколько неверных и единственный верный ответ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755640" y="188640"/>
            <a:ext cx="799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2736720"/>
                <a:tab algn="l" pos="3638520"/>
                <a:tab algn="l" pos="4449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пример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736720"/>
                <a:tab algn="l" pos="3638520"/>
                <a:tab algn="l" pos="4449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дание Определите, являются ли корнями уравнений числ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736720"/>
                <a:tab algn="l" pos="3638520"/>
                <a:tab algn="l" pos="4449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1476360" y="1557360"/>
          <a:ext cx="6167520" cy="4344840"/>
        </p:xfrm>
        <a:graphic>
          <a:graphicData uri="http://schemas.openxmlformats.org/drawingml/2006/table">
            <a:tbl>
              <a:tblPr/>
              <a:tblGrid>
                <a:gridCol w="3382920"/>
                <a:gridCol w="1152720"/>
                <a:gridCol w="720720"/>
                <a:gridCol w="911160"/>
              </a:tblGrid>
              <a:tr h="134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равне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x-15)-(9+6x)=-3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/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,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x=19-(3+12x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/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/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x+9=15-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8" name=""/>
          <p:cNvSpPr/>
          <p:nvPr/>
        </p:nvSpPr>
        <p:spPr>
          <a:xfrm>
            <a:off x="684360" y="6093000"/>
            <a:ext cx="676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талон ответа: 1 –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, 2 – A, 3 – 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1258920" y="404640"/>
            <a:ext cx="684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Многовариантны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тесты с несколькими верными и неверными ответами на вопрос. Например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адание Установите соответствие тождественно-равных выраже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rcRect l="7448" t="0" r="0" b="58550"/>
          <a:stretch/>
        </p:blipFill>
        <p:spPr>
          <a:xfrm>
            <a:off x="1476360" y="2060640"/>
            <a:ext cx="6769080" cy="419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468360" y="476280"/>
            <a:ext cx="849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ценка – это обратная связь от ученика к учител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5640" y="1700280"/>
            <a:ext cx="7777080" cy="28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редства проверки знаний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наиболее распространенные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Индивидуальный опро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ребует большого количества времени. Индивидуальная проверка знаний не отражает истинности знаний всего класс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Фронтальный опро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Не выявляет ни глубину  ни ширину знаний; не является основой для выставления оцен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исьменная контрольная работа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Требует :1. время для проведения; 2. время для провер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00000" y="5229360"/>
            <a:ext cx="662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Можно чаще оценивать учеников, используя следующие методы, которые ведутся параллельно с учебным процесс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rcRect l="5523" t="40070" r="0" b="32381"/>
          <a:stretch/>
        </p:blipFill>
        <p:spPr>
          <a:xfrm>
            <a:off x="539640" y="907920"/>
            <a:ext cx="8604360" cy="54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rcRect l="13246" t="34521" r="6878" b="11545"/>
          <a:stretch/>
        </p:blipFill>
        <p:spPr>
          <a:xfrm>
            <a:off x="611280" y="189000"/>
            <a:ext cx="7562880" cy="623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rcRect l="13227" t="5381" r="5102" b="50535"/>
          <a:stretch/>
        </p:blipFill>
        <p:spPr>
          <a:xfrm>
            <a:off x="0" y="0"/>
            <a:ext cx="9144000" cy="65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rcRect l="13222" t="52557" r="8952" b="22539"/>
          <a:stretch/>
        </p:blipFill>
        <p:spPr>
          <a:xfrm>
            <a:off x="0" y="0"/>
            <a:ext cx="8893080" cy="63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rcRect l="15147" t="5387" r="5102" b="68437"/>
          <a:stretch/>
        </p:blipFill>
        <p:spPr>
          <a:xfrm>
            <a:off x="324000" y="0"/>
            <a:ext cx="860400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rcRect l="16245" t="31748" r="5906" b="47628"/>
          <a:stretch/>
        </p:blipFill>
        <p:spPr>
          <a:xfrm>
            <a:off x="0" y="333360"/>
            <a:ext cx="8820000" cy="65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rcRect l="17072" t="52557" r="7027" b="8725"/>
          <a:stretch/>
        </p:blipFill>
        <p:spPr>
          <a:xfrm>
            <a:off x="0" y="0"/>
            <a:ext cx="9144000" cy="647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1"/>
          <a:srcRect l="15147" t="5384" r="5102" b="62942"/>
          <a:stretch/>
        </p:blipFill>
        <p:spPr>
          <a:xfrm>
            <a:off x="684360" y="1916280"/>
            <a:ext cx="7451640" cy="410832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 txBox="1"/>
          <p:nvPr/>
        </p:nvSpPr>
        <p:spPr>
          <a:xfrm>
            <a:off x="2268360" y="476280"/>
            <a:ext cx="6480360" cy="81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Тест на дополнение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rcRect l="17077" t="55330" r="5102" b="15671"/>
          <a:stretch/>
        </p:blipFill>
        <p:spPr>
          <a:xfrm>
            <a:off x="539640" y="333360"/>
            <a:ext cx="860436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rcRect l="17072" t="5502" r="5868" b="7214"/>
          <a:stretch/>
        </p:blipFill>
        <p:spPr>
          <a:xfrm>
            <a:off x="250920" y="0"/>
            <a:ext cx="8459640" cy="67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900000" y="549360"/>
            <a:ext cx="7561440" cy="594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роверка знаний слабых учащих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 Письменная реценз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Уплотненный опро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роверка через помощни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5.  Контрольная работа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. Устный сч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. Одновариантные контрольные рабо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. Дифференцированные контрольные рабо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9. Устная контрольная рабо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. Сочинения математического характе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1. Заче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2. Проверка домашней работ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3.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Тес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rcRect l="17399" t="5502" r="5401" b="9980"/>
          <a:stretch/>
        </p:blipFill>
        <p:spPr>
          <a:xfrm>
            <a:off x="539640" y="0"/>
            <a:ext cx="8460000" cy="66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rcRect l="15474" t="5502" r="5551" b="18299"/>
          <a:stretch/>
        </p:blipFill>
        <p:spPr>
          <a:xfrm>
            <a:off x="324000" y="0"/>
            <a:ext cx="8388360" cy="65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rcRect l="13550" t="5458" r="6406" b="11266"/>
          <a:stretch/>
        </p:blipFill>
        <p:spPr>
          <a:xfrm>
            <a:off x="539640" y="189000"/>
            <a:ext cx="8460000" cy="63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rcRect l="19324" t="8278" r="3471" b="1522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rcRect l="17465" t="5502" r="3467" b="58503"/>
          <a:stretch/>
        </p:blipFill>
        <p:spPr>
          <a:xfrm>
            <a:off x="611280" y="692280"/>
            <a:ext cx="8532720" cy="56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755640" y="765000"/>
            <a:ext cx="793440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роверка знаний слабых учащихся.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187280" y="2133720"/>
            <a:ext cx="69138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лассу дается задание; учитель подсаживается к слабом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енику и проверяет его знания; у группы учеников можн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брать работы на проверк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763640" y="260280"/>
            <a:ext cx="590400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исьменная рецензия.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116000" y="1989000"/>
            <a:ext cx="648036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Для ответа вызывается хороший ученик. Класс слушает и делает письменную реценз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При проверке учитывается полнота, последовательность, язык, правильность и логичность реч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1835280" y="333360"/>
            <a:ext cx="561636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Уплотненный опрос.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26920" y="1628640"/>
            <a:ext cx="5832720" cy="356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Это такая форма проверки знаний, когда на  первые парты посадить 6 человек – работают по карточкам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ученика - у доск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Ещё 2 ученика – устн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и уплотненном опрос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еобходимо готови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арточки, для провер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еоретических зна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284720" y="2852640"/>
            <a:ext cx="3887640" cy="381636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427640" y="285264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Фамил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227640" y="285264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лас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500720" y="3357720"/>
            <a:ext cx="32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вопрос               2 вопро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643280" y="5084640"/>
            <a:ext cx="309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 вопрос              4 вопро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572000" y="3860640"/>
            <a:ext cx="1295280" cy="86364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72360" y="3860640"/>
            <a:ext cx="1295280" cy="86364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643280" y="5516640"/>
            <a:ext cx="1295640" cy="86364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516720" y="5516640"/>
            <a:ext cx="1295280" cy="86364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1116000" y="260280"/>
            <a:ext cx="698508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роверка через помощника.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900000" y="1557360"/>
            <a:ext cx="74883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Класс разбивается на группы, в каждой по 5 – 6 человек; назначается помощник – руководитель группы (хороший ученик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Перед уроком учитель дает помощнику карточк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55640" y="2565360"/>
          <a:ext cx="3529080" cy="3948120"/>
        </p:xfrm>
        <a:graphic>
          <a:graphicData uri="http://schemas.openxmlformats.org/drawingml/2006/table">
            <a:tbl>
              <a:tblPr/>
              <a:tblGrid>
                <a:gridCol w="351000"/>
                <a:gridCol w="1809720"/>
                <a:gridCol w="503280"/>
                <a:gridCol w="865080"/>
              </a:tblGrid>
              <a:tr h="45972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прос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40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т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амилия, им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цен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1692360" y="260280"/>
            <a:ext cx="575928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Контрольная работа.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187280" y="1916280"/>
            <a:ext cx="655344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омашняя контрольная работа дается слабому ученику; разрешается пользоваться учебником, помощью товарище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ценка в журнал ставится после беседы с ученик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 классной контрольной работе слабым ученикам можно давать контрольную работу подобную домашн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1116000" y="260280"/>
            <a:ext cx="5543640" cy="88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Устный счет.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55640" y="1700280"/>
            <a:ext cx="75614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олжен проводиться во всех класс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едостаток – не все работают. Видоизменять устный счет, использовать учетные листы, которые у каждого учени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539640" y="2924280"/>
          <a:ext cx="8280360" cy="3441600"/>
        </p:xfrm>
        <a:graphic>
          <a:graphicData uri="http://schemas.openxmlformats.org/drawingml/2006/table">
            <a:tbl>
              <a:tblPr/>
              <a:tblGrid>
                <a:gridCol w="647640"/>
                <a:gridCol w="1008360"/>
                <a:gridCol w="360360"/>
                <a:gridCol w="647640"/>
                <a:gridCol w="576360"/>
                <a:gridCol w="576000"/>
                <a:gridCol w="505080"/>
                <a:gridCol w="2160360"/>
                <a:gridCol w="863640"/>
                <a:gridCol w="934920"/>
              </a:tblGrid>
              <a:tr h="7995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лас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 р и м е р 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цен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оспис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      7     8       9    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07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4" name=""/>
          <p:cNvSpPr/>
          <p:nvPr/>
        </p:nvSpPr>
        <p:spPr>
          <a:xfrm>
            <a:off x="5219640" y="3789360"/>
            <a:ext cx="0" cy="252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651640" y="3789360"/>
            <a:ext cx="0" cy="252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40360" y="3789360"/>
            <a:ext cx="0" cy="252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516720" y="3789360"/>
            <a:ext cx="0" cy="252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1T11:10:26Z</dcterms:created>
  <dc:creator>TEST</dc:creator>
  <dc:description/>
  <dc:language>en-US</dc:language>
  <cp:lastModifiedBy>TEST</cp:lastModifiedBy>
  <dcterms:modified xsi:type="dcterms:W3CDTF">2006-06-19T10:16:35Z</dcterms:modified>
  <cp:revision>14</cp:revision>
  <dc:subject/>
  <dc:title>Слайд 1</dc:title>
</cp:coreProperties>
</file>