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45EA-3117-4591-A0A4-57906C88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662-65BC-4482-9639-5A11438B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D086-A302-4E18-B30C-9BE77DE0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E077-EDE9-44D2-9CEC-4824E7E7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5511-0739-4516-AB2B-F5AF0884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A82F-900B-4A88-8B44-C06B0DE7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5A5B-5378-4F09-934A-5F20CECC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E02D-DC3A-45EC-8F04-A2726A08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BB29-3DD9-446C-9938-4DD73DD6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384C-0F67-4870-8718-5B26B75F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F102-2260-45ED-8AFD-A1CEA291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6DF-E5AA-40E5-BE3F-822CA165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4881-0E8F-400E-8EDF-462D0BF5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CA92-52E8-4AA8-95A6-55A204F0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1378-2269-44A8-96D7-CCE84AC5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123D-29A2-4738-847E-E1BFCF46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A44F-B7AE-4712-BF61-1647F09C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C730-48F0-4331-9D2F-7777CD69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DDBF-D34A-4065-9717-AF410F85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A7B4-66AB-416D-A687-4E258FCE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BE3-4DBE-4266-8C46-F14F5309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D8A-8EE4-4504-8833-F9DDF064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3977-406F-4E95-9CF3-90A0D4B6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093-73DF-45CC-AC1D-AD084E81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692C-0DC3-4575-94F2-EC6DE7F91B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B1C0-479B-447C-856C-46F1AFADAE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476360" y="1700280"/>
            <a:ext cx="676908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изация проверк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оценки знани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ащихс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116000" y="260280"/>
            <a:ext cx="55436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тный счет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2133720"/>
            <a:ext cx="7489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ражнения можно написать на доске или, устные упражнения из учебника, или раздать кар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лонках записывается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ку можно поручить сильным учен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тный лист можно использовать для термин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проверки знания форм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360" y="692280"/>
            <a:ext cx="8467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дновариантные контрольные работы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2205000"/>
            <a:ext cx="69692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задачи;            6 приме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 «5»  - решить максимальное колич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 «4»              устанавливает учитель, исходя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сложности      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 «3»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 «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3357720"/>
            <a:ext cx="360360" cy="2160360"/>
          </a:xfrm>
          <a:custGeom>
            <a:avLst/>
            <a:gdLst>
              <a:gd name="textAreaLeft" fmla="*/ 0 w 360360"/>
              <a:gd name="textAreaRight" fmla="*/ 129960 w 36036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755640" y="692280"/>
            <a:ext cx="777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ифференцированные контрольные рабо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8920" y="2349360"/>
            <a:ext cx="6481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одятся на три вариа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вариант – 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вариант  -  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вариант  - 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258920" y="692280"/>
            <a:ext cx="5952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тная контрольная рабо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1557360"/>
            <a:ext cx="691380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просы трех видов: а) теор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) устный сче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) вопросы для сообрази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оводится на учетном листе, минут 20; оценка выставляется после 6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- 70 вопро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четный лист такой фор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4360" y="3429000"/>
          <a:ext cx="8064360" cy="2890800"/>
        </p:xfrm>
        <a:graphic>
          <a:graphicData uri="http://schemas.openxmlformats.org/drawingml/2006/table">
            <a:tbl>
              <a:tblPr/>
              <a:tblGrid>
                <a:gridCol w="998280"/>
                <a:gridCol w="998640"/>
                <a:gridCol w="998640"/>
                <a:gridCol w="801720"/>
                <a:gridCol w="1314360"/>
                <a:gridCol w="1584360"/>
                <a:gridCol w="1368360"/>
              </a:tblGrid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195640" y="260280"/>
            <a:ext cx="540072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чинения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152800"/>
            <a:ext cx="56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дается на 2 – 3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979640" y="47628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че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1628640"/>
            <a:ext cx="83883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льзя проводить очень часто, в год по 1 – 2 тем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одится в учеб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матический за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давшим зачет, дается дополнительно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Комбинированный зачет (в несколько этап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письменная проверочная работа (оценка не в журна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собеседование по данным провероч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результатам письменной проверки и собеседования – оценка в жур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900000" y="260280"/>
            <a:ext cx="7920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ка домашней рабо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95480" y="2513160"/>
            <a:ext cx="765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доске или карточ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ает приме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огичные домашн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050920" y="333360"/>
            <a:ext cx="504216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ы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572480"/>
            <a:ext cx="79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. Тесты закрытого типа 1.Избирательные те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ст состоит из системы заданий, каждому из которых прилагаются как верные, так и неверные ответы. Из них школьник выбирает тот, который считает верным для данного вопроса. При этом неверные ответы содержат такую ошибку, которую учащийся может допустить, имея определенный пробел в знаниях. Такие тесты называютс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збиратель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ют следующие подвиды избирательных тест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ноговариант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сты, в которых среди предлагаемых    ответов на вопрос приведено несколько неверных и единственный верный отв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55640" y="188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36720"/>
                <a:tab algn="l" pos="3638520"/>
                <a:tab algn="l" pos="4449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36720"/>
                <a:tab algn="l" pos="3638520"/>
                <a:tab algn="l" pos="4449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 Определите, являются ли корнями уравнений чис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36720"/>
                <a:tab algn="l" pos="3638520"/>
                <a:tab algn="l" pos="4449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476360" y="1557360"/>
          <a:ext cx="6167520" cy="4344840"/>
        </p:xfrm>
        <a:graphic>
          <a:graphicData uri="http://schemas.openxmlformats.org/drawingml/2006/table">
            <a:tbl>
              <a:tblPr/>
              <a:tblGrid>
                <a:gridCol w="3382920"/>
                <a:gridCol w="1152720"/>
                <a:gridCol w="720720"/>
                <a:gridCol w="9111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x-15)-(9+6x)=-3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x=19-(3+12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x+9=15-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684360" y="6093000"/>
            <a:ext cx="67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лон ответа: 1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 2 – A, 3 –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58920" y="40464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Многовариант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есты с несколькими верными и неверными ответами на вопрос.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ние Установите соответствие тождественно-равных выра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7448" t="0" r="0" b="58550"/>
          <a:stretch/>
        </p:blipFill>
        <p:spPr>
          <a:xfrm>
            <a:off x="1476360" y="2060640"/>
            <a:ext cx="676908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47628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– это обратная связь от ученика к уч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700280"/>
            <a:ext cx="7777080" cy="28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едства проверки знан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наиболее распространенные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дивидуальный оп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бует большого количества времени. Индивидуальная проверка знаний не отражает истинности знаний всего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ронтальный опро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Не выявляет ни глубину  ни ширину знаний; не является основой для выставления оце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исьменная контрольная работ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ребует :1. время для проведения; 2. время для прове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522936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ожно чаще оценивать учеников, используя следующие методы, которые ведутся параллельно с учебным процес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5523" t="40070" r="0" b="32381"/>
          <a:stretch/>
        </p:blipFill>
        <p:spPr>
          <a:xfrm>
            <a:off x="539640" y="907920"/>
            <a:ext cx="860436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13246" t="34521" r="6878" b="11545"/>
          <a:stretch/>
        </p:blipFill>
        <p:spPr>
          <a:xfrm>
            <a:off x="611280" y="189000"/>
            <a:ext cx="75628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13227" t="5381" r="5102" b="50535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13222" t="52557" r="8952" b="22539"/>
          <a:stretch/>
        </p:blipFill>
        <p:spPr>
          <a:xfrm>
            <a:off x="0" y="0"/>
            <a:ext cx="88930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15147" t="5387" r="5102" b="68437"/>
          <a:stretch/>
        </p:blipFill>
        <p:spPr>
          <a:xfrm>
            <a:off x="324000" y="0"/>
            <a:ext cx="860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16245" t="31748" r="5906" b="47628"/>
          <a:stretch/>
        </p:blipFill>
        <p:spPr>
          <a:xfrm>
            <a:off x="0" y="333360"/>
            <a:ext cx="8820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17072" t="52557" r="7027" b="8725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15147" t="5384" r="5102" b="62942"/>
          <a:stretch/>
        </p:blipFill>
        <p:spPr>
          <a:xfrm>
            <a:off x="684360" y="1916280"/>
            <a:ext cx="7451640" cy="4108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268360" y="476280"/>
            <a:ext cx="648036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 на дополн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17077" t="55330" r="5102" b="15671"/>
          <a:stretch/>
        </p:blipFill>
        <p:spPr>
          <a:xfrm>
            <a:off x="539640" y="333360"/>
            <a:ext cx="860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17072" t="5502" r="5868" b="7214"/>
          <a:stretch/>
        </p:blipFill>
        <p:spPr>
          <a:xfrm>
            <a:off x="250920" y="0"/>
            <a:ext cx="845964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00000" y="549360"/>
            <a:ext cx="7561440" cy="59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верка знаний слабых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Письменная реценз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плотненный оп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верка через помощ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5.  Контрольная работ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Устный сч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Одновариантные контрольные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Дифференцированные контрольные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 Устная контрольная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 Сочинения математического х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Зач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 Проверка домашней рабо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17399" t="5502" r="5401" b="9980"/>
          <a:stretch/>
        </p:blipFill>
        <p:spPr>
          <a:xfrm>
            <a:off x="539640" y="0"/>
            <a:ext cx="8460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15474" t="5502" r="5551" b="18299"/>
          <a:stretch/>
        </p:blipFill>
        <p:spPr>
          <a:xfrm>
            <a:off x="324000" y="0"/>
            <a:ext cx="83883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13550" t="5458" r="6406" b="11266"/>
          <a:stretch/>
        </p:blipFill>
        <p:spPr>
          <a:xfrm>
            <a:off x="539640" y="189000"/>
            <a:ext cx="8460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19324" t="8278" r="3471" b="152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17465" t="5502" r="3467" b="58503"/>
          <a:stretch/>
        </p:blipFill>
        <p:spPr>
          <a:xfrm>
            <a:off x="611280" y="692280"/>
            <a:ext cx="853272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55640" y="765000"/>
            <a:ext cx="7934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ка знаний слабых учащихся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2133720"/>
            <a:ext cx="691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у дается задание; учитель подсаживается к слаб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у и проверяет его знания; у группы учеников 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рать работы на провер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63640" y="260280"/>
            <a:ext cx="59040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исьменная рецензия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1989000"/>
            <a:ext cx="6480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ля ответа вызывается хороший ученик. Класс слушает и делает письменную реценз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 проверке учитывается полнота, последовательность, язык, правильность и логичность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35280" y="333360"/>
            <a:ext cx="561636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плотненный опрос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628640"/>
            <a:ext cx="583272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такая форма проверки знаний, когда на  первые парты посадить 6 человек – работают по карточк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ученика - у дос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щё 2 ученика – ус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уплотненном опро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обходимо гото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точки, для провер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оретических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2852640"/>
            <a:ext cx="3887640" cy="381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27640" y="28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м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2852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3357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вопрос               2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5084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вопрос              4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860640"/>
            <a:ext cx="129528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3860640"/>
            <a:ext cx="129528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3280" y="5516640"/>
            <a:ext cx="129564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5516640"/>
            <a:ext cx="129528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16000" y="260280"/>
            <a:ext cx="6985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ка через помощника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1557360"/>
            <a:ext cx="7488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ласс разбивается на группы, в каждой по 5 – 6 человек; назначается помощник – руководитель группы (хороший ученик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 уроком учитель дает помощнику карто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2565360"/>
          <a:ext cx="3529080" cy="3948120"/>
        </p:xfrm>
        <a:graphic>
          <a:graphicData uri="http://schemas.openxmlformats.org/drawingml/2006/table">
            <a:tbl>
              <a:tblPr/>
              <a:tblGrid>
                <a:gridCol w="351000"/>
                <a:gridCol w="1809720"/>
                <a:gridCol w="503280"/>
                <a:gridCol w="8650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, 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692360" y="260280"/>
            <a:ext cx="5759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трольная работа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916280"/>
            <a:ext cx="6553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машняя контрольная работа дается слабому ученику; разрешается пользоваться учебником, помощью товарищ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ценка в журнал ставится после беседы с уче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лассной контрольной работе слабым ученикам можно давать контрольную работу подобную домаш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16000" y="260280"/>
            <a:ext cx="55436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тный счет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170028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лжен проводиться во всех класс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достаток – не все работают. Видоизменять устный счет, использовать учетные листы, которые у каждого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9640" y="2924280"/>
          <a:ext cx="8280360" cy="3441600"/>
        </p:xfrm>
        <a:graphic>
          <a:graphicData uri="http://schemas.openxmlformats.org/drawingml/2006/table">
            <a:tbl>
              <a:tblPr/>
              <a:tblGrid>
                <a:gridCol w="647640"/>
                <a:gridCol w="1008360"/>
                <a:gridCol w="360360"/>
                <a:gridCol w="647640"/>
                <a:gridCol w="576360"/>
                <a:gridCol w="576000"/>
                <a:gridCol w="505080"/>
                <a:gridCol w="2160360"/>
                <a:gridCol w="863640"/>
                <a:gridCol w="934920"/>
              </a:tblGrid>
              <a:tr h="799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 р и м е р 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пи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   7     8       9   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219640" y="378936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1640" y="378936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378936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378936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10:26Z</dcterms:created>
  <dc:creator>TEST</dc:creator>
  <dc:description/>
  <dc:language>en-US</dc:language>
  <cp:lastModifiedBy>TEST</cp:lastModifiedBy>
  <dcterms:modified xsi:type="dcterms:W3CDTF">2006-06-19T10:16:35Z</dcterms:modified>
  <cp:revision>14</cp:revision>
  <dc:subject/>
  <dc:title>Слайд 1</dc:title>
</cp:coreProperties>
</file>