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5D0D-20BD-4F06-A5C7-E0FEE058D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533C-8D03-47E6-A470-7F9A34CA0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85AF-A5F8-4A3E-A83D-0E269A6EA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ECBF-19EE-4BAE-9D49-39B0B0A09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6C3F9-BAEA-4E5C-9770-C9F8855C7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864F1-BF00-412C-BEC9-1745B03AD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FEA4A-22CD-43CD-A0BF-0A1951270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0D939-3B5A-405B-B31B-9EA233CFE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9780F-DA06-4AF2-80B0-6B3206033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63D2D-8FFB-43C3-B16B-3091407DF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DE561-88E8-4FAE-A425-19A11F24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F93E-154B-4067-8303-CF68D05D3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264D7-9776-40AD-A57F-32DC68F2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8D321-E2E1-4A3C-B031-8CC42DF8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B4AF4-8DF8-44BA-B423-6E2D0ADB9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ED618-30A0-4FF5-8A22-504D1CC6E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1A08E-2C7D-437F-AA93-293F50653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79EC-C511-495A-9A5C-2C93926D8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0D52-09D3-4DAE-B5A9-446A129DD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A05B-72D9-47F2-A390-EEE006258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69F3-5D36-4901-88E8-1D870D2E9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E765-DF21-4073-A688-94E822AA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2985-2E58-417C-A70A-0CC92C1D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6F83-5F53-4A98-83BB-BA9C2383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4F2D3-F76C-4720-B7F0-E0F1E62C0DA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A6E96-FA81-425B-9C39-AD037ADDB64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476360" y="1700280"/>
            <a:ext cx="676908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рганизация проверки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 оценки знаний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чащихс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116000" y="260280"/>
            <a:ext cx="554364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стный счет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42920" y="2133720"/>
            <a:ext cx="74898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пражнения можно написать на доске или, устные упражнения из учебника, или раздать карто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колонках записывается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верку можно поручить сильным ученик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етный лист можно использовать для термин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проверки знания форму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68360" y="692280"/>
            <a:ext cx="8467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дновариантные контрольные работы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6920" y="2205000"/>
            <a:ext cx="696924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задачи;            6 приме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 «5»  - решить максимальное количеств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 «4»              устанавливает учитель, исходя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 сложности       за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 «3»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 «2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50920" y="3357720"/>
            <a:ext cx="360360" cy="2160360"/>
          </a:xfrm>
          <a:custGeom>
            <a:avLst/>
            <a:gdLst>
              <a:gd name="textAreaLeft" fmla="*/ 0 w 360360"/>
              <a:gd name="textAreaRight" fmla="*/ 129960 w 360360"/>
              <a:gd name="textAreaTop" fmla="*/ 56160 h 2160360"/>
              <a:gd name="textAreaBottom" fmla="*/ 2104200 h 21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755640" y="692280"/>
            <a:ext cx="7777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ифференцированные контрольные работ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58920" y="2349360"/>
            <a:ext cx="64818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водятся на три вариан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вариант – «5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вариант  -  «4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вариант  - «3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258920" y="692280"/>
            <a:ext cx="5952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стная контрольная работ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42920" y="1557360"/>
            <a:ext cx="6913800" cy="18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опросы трех видов: а) теор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б) устный счет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) вопросы для сообрази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роводится на учетном листе, минут 20; оценка выставляется после 6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- 70 вопрос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Учетный лист такой форм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684360" y="3429000"/>
          <a:ext cx="8064360" cy="2890800"/>
        </p:xfrm>
        <a:graphic>
          <a:graphicData uri="http://schemas.openxmlformats.org/drawingml/2006/table">
            <a:tbl>
              <a:tblPr/>
              <a:tblGrid>
                <a:gridCol w="998280"/>
                <a:gridCol w="998640"/>
                <a:gridCol w="998640"/>
                <a:gridCol w="801720"/>
                <a:gridCol w="1314360"/>
                <a:gridCol w="1584360"/>
                <a:gridCol w="1368360"/>
              </a:tblGrid>
              <a:tr h="103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.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ме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2195640" y="260280"/>
            <a:ext cx="5400720" cy="8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очинения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2152800"/>
            <a:ext cx="563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дается на 2 – 3 нед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1979640" y="476280"/>
            <a:ext cx="4392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чет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55640" y="1628640"/>
            <a:ext cx="83883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льзя проводить очень часто, в год по 1 – 2 тем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водится в учебное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втоматический зач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давшим зачет, дается дополнительное зад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Комбинированный зачет (в несколько этапов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) письменная проверочная работа (оценка не в журнал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) собеседование по данным проверочной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 результатам письменной проверки и собеседования – оценка в журн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900000" y="260280"/>
            <a:ext cx="7920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верка домашней работ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95480" y="2513160"/>
            <a:ext cx="7653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доске или карточ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шает пример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налогичные домашни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2050920" y="333360"/>
            <a:ext cx="504216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сты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572480"/>
            <a:ext cx="79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. Тесты закрытого типа 1.Избирательные тес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ст состоит из системы заданий, каждому из которых прилагаются как верные, так и неверные ответы. Из них школьник выбирает тот, который считает верным для данного вопроса. При этом неверные ответы содержат такую ошибку, которую учащийся может допустить, имея определенный пробел в знаниях. Такие тесты называются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избиратель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ествуют следующие подвиды избирательных тестов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  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ноговариант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есты, в которых среди предлагаемых    ответов на вопрос приведено несколько неверных и единственный верный отв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755640" y="18864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736720"/>
                <a:tab algn="l" pos="3638520"/>
                <a:tab algn="l" pos="4449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736720"/>
                <a:tab algn="l" pos="3638520"/>
                <a:tab algn="l" pos="4449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ние Определите, являются ли корнями уравнений чис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736720"/>
                <a:tab algn="l" pos="3638520"/>
                <a:tab algn="l" pos="4449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476360" y="1557360"/>
          <a:ext cx="6167520" cy="4344840"/>
        </p:xfrm>
        <a:graphic>
          <a:graphicData uri="http://schemas.openxmlformats.org/drawingml/2006/table">
            <a:tbl>
              <a:tblPr/>
              <a:tblGrid>
                <a:gridCol w="3382920"/>
                <a:gridCol w="1152720"/>
                <a:gridCol w="720720"/>
                <a:gridCol w="911160"/>
              </a:tblGrid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авн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x-15)-(9+6x)=-3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x=19-(3+12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x+9=15-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684360" y="6093000"/>
            <a:ext cx="67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алон ответа: 1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, 2 – A, 3 – 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258920" y="404640"/>
            <a:ext cx="68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Многовариантны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тесты с несколькими верными и неверными ответами на вопрос. На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дание Установите соответствие тождественно-равных выраж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7448" t="0" r="0" b="58550"/>
          <a:stretch/>
        </p:blipFill>
        <p:spPr>
          <a:xfrm>
            <a:off x="1476360" y="2060640"/>
            <a:ext cx="6769080" cy="41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68360" y="47628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ценка – это обратная связь от ученика к учите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1700280"/>
            <a:ext cx="7777080" cy="28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редства проверки знани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наиболее распространенные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ндивидуальный опро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ребует большого количества времени. Индивидуальная проверка знаний не отражает истинности знаний всего кла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ронтальный опро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Не выявляет ни глубину  ни ширину знаний; не является основой для выставления оцен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исьменная контрольная работ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Требует :1. время для проведения; 2. время для провер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00000" y="5229360"/>
            <a:ext cx="66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Можно чаще оценивать учеников, используя следующие методы, которые ведутся параллельно с учебным процесс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rcRect l="5523" t="40070" r="0" b="32381"/>
          <a:stretch/>
        </p:blipFill>
        <p:spPr>
          <a:xfrm>
            <a:off x="539640" y="907920"/>
            <a:ext cx="8604360" cy="54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rcRect l="13246" t="34521" r="6878" b="11545"/>
          <a:stretch/>
        </p:blipFill>
        <p:spPr>
          <a:xfrm>
            <a:off x="611280" y="189000"/>
            <a:ext cx="756288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rcRect l="13227" t="5381" r="5102" b="50535"/>
          <a:stretch/>
        </p:blipFill>
        <p:spPr>
          <a:xfrm>
            <a:off x="0" y="0"/>
            <a:ext cx="914400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13222" t="52557" r="8952" b="22539"/>
          <a:stretch/>
        </p:blipFill>
        <p:spPr>
          <a:xfrm>
            <a:off x="0" y="0"/>
            <a:ext cx="889308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rcRect l="15147" t="5387" r="5102" b="68437"/>
          <a:stretch/>
        </p:blipFill>
        <p:spPr>
          <a:xfrm>
            <a:off x="324000" y="0"/>
            <a:ext cx="860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rcRect l="16245" t="31748" r="5906" b="47628"/>
          <a:stretch/>
        </p:blipFill>
        <p:spPr>
          <a:xfrm>
            <a:off x="0" y="333360"/>
            <a:ext cx="882000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rcRect l="17072" t="52557" r="7027" b="8725"/>
          <a:stretch/>
        </p:blipFill>
        <p:spPr>
          <a:xfrm>
            <a:off x="0" y="0"/>
            <a:ext cx="9144000" cy="64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rcRect l="15147" t="5384" r="5102" b="62942"/>
          <a:stretch/>
        </p:blipFill>
        <p:spPr>
          <a:xfrm>
            <a:off x="684360" y="1916280"/>
            <a:ext cx="7451640" cy="41083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2268360" y="476280"/>
            <a:ext cx="6480360" cy="8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ст на дополне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rcRect l="17077" t="55330" r="5102" b="15671"/>
          <a:stretch/>
        </p:blipFill>
        <p:spPr>
          <a:xfrm>
            <a:off x="539640" y="333360"/>
            <a:ext cx="86043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rcRect l="17072" t="5502" r="5868" b="7214"/>
          <a:stretch/>
        </p:blipFill>
        <p:spPr>
          <a:xfrm>
            <a:off x="250920" y="0"/>
            <a:ext cx="8459640" cy="67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00000" y="549360"/>
            <a:ext cx="7561440" cy="59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верка знаний слабых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Письменная реценз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плотненный опро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верка через помощ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5.  Контрольная работа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 Устный сч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 Одновариантные контрольные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 Дифференцированные контрольные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. Устная контрольная рабо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. Сочинения математического характе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. Заче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. Проверка домашней работ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.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ес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rcRect l="17399" t="5502" r="5401" b="9980"/>
          <a:stretch/>
        </p:blipFill>
        <p:spPr>
          <a:xfrm>
            <a:off x="539640" y="0"/>
            <a:ext cx="8460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15474" t="5502" r="5551" b="18299"/>
          <a:stretch/>
        </p:blipFill>
        <p:spPr>
          <a:xfrm>
            <a:off x="324000" y="0"/>
            <a:ext cx="838836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rcRect l="13550" t="5458" r="6406" b="11266"/>
          <a:stretch/>
        </p:blipFill>
        <p:spPr>
          <a:xfrm>
            <a:off x="539640" y="189000"/>
            <a:ext cx="8460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rcRect l="19324" t="8278" r="3471" b="1522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rcRect l="17465" t="5502" r="3467" b="58503"/>
          <a:stretch/>
        </p:blipFill>
        <p:spPr>
          <a:xfrm>
            <a:off x="611280" y="692280"/>
            <a:ext cx="853272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755640" y="765000"/>
            <a:ext cx="79344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верка знаний слабых учащихся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87280" y="2133720"/>
            <a:ext cx="6913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ссу дается задание; учитель подсаживается к слабо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ику и проверяет его знания; у группы учеников мож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рать работы на провер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763640" y="260280"/>
            <a:ext cx="590400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исьменная рецензия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16000" y="1989000"/>
            <a:ext cx="648036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Для ответа вызывается хороший ученик. Класс слушает и делает письменную реценз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ри проверке учитывается полнота, последовательность, язык, правильность и логичность 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835280" y="333360"/>
            <a:ext cx="561636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плотненный опрос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6920" y="1628640"/>
            <a:ext cx="5832720" cy="35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то такая форма проверки знаний, когда на  первые парты посадить 6 человек – работают по карточка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ученика - у дос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щё 2 ученика – уст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 уплотненном опрос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обходимо готов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рточки, для провер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оретических зн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84720" y="2852640"/>
            <a:ext cx="3887640" cy="3816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27640" y="2852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ами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227640" y="285264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00720" y="335772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вопрос               2 во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43280" y="508464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вопрос              4 во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3860640"/>
            <a:ext cx="1295280" cy="863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72360" y="3860640"/>
            <a:ext cx="1295280" cy="863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43280" y="5516640"/>
            <a:ext cx="1295640" cy="863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516720" y="5516640"/>
            <a:ext cx="1295280" cy="863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116000" y="260280"/>
            <a:ext cx="698508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верка через помощника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00000" y="1557360"/>
            <a:ext cx="74883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ласс разбивается на группы, в каждой по 5 – 6 человек; назначается помощник – руководитель группы (хороший ученик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ред уроком учитель дает помощнику карточ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55640" y="2565360"/>
          <a:ext cx="3529080" cy="3948120"/>
        </p:xfrm>
        <a:graphic>
          <a:graphicData uri="http://schemas.openxmlformats.org/drawingml/2006/table">
            <a:tbl>
              <a:tblPr/>
              <a:tblGrid>
                <a:gridCol w="351000"/>
                <a:gridCol w="1809720"/>
                <a:gridCol w="503280"/>
                <a:gridCol w="865080"/>
              </a:tblGrid>
              <a:tr h="4597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про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милия, им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692360" y="260280"/>
            <a:ext cx="57592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онтрольная работа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87280" y="1916280"/>
            <a:ext cx="65534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машняя контрольная работа дается слабому ученику; разрешается пользоваться учебником, помощью товарищ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ценка в журнал ставится после беседы с учени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классной контрольной работе слабым ученикам можно давать контрольную работу подобную домаш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116000" y="260280"/>
            <a:ext cx="554364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стный счет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5640" y="1700280"/>
            <a:ext cx="7561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лжен проводиться во всех класс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достаток – не все работают. Видоизменять устный счет, использовать учетные листы, которые у каждого уче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539640" y="2924280"/>
          <a:ext cx="8280360" cy="3441600"/>
        </p:xfrm>
        <a:graphic>
          <a:graphicData uri="http://schemas.openxmlformats.org/drawingml/2006/table">
            <a:tbl>
              <a:tblPr/>
              <a:tblGrid>
                <a:gridCol w="647640"/>
                <a:gridCol w="1008360"/>
                <a:gridCol w="360360"/>
                <a:gridCol w="647640"/>
                <a:gridCol w="576360"/>
                <a:gridCol w="576000"/>
                <a:gridCol w="505080"/>
                <a:gridCol w="2160360"/>
                <a:gridCol w="863640"/>
                <a:gridCol w="934920"/>
              </a:tblGrid>
              <a:tr h="799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 р и м е р 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пис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      7     8       9    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7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5219640" y="3789360"/>
            <a:ext cx="0" cy="252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651640" y="3789360"/>
            <a:ext cx="0" cy="252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40360" y="3789360"/>
            <a:ext cx="0" cy="252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516720" y="3789360"/>
            <a:ext cx="0" cy="252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1T11:10:26Z</dcterms:created>
  <dc:creator>TEST</dc:creator>
  <dc:description/>
  <dc:language>en-US</dc:language>
  <cp:lastModifiedBy>TEST</cp:lastModifiedBy>
  <dcterms:modified xsi:type="dcterms:W3CDTF">2006-06-19T10:16:35Z</dcterms:modified>
  <cp:revision>14</cp:revision>
  <dc:subject/>
  <dc:title>Слайд 1</dc:title>
</cp:coreProperties>
</file>