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62C56A-DBAD-4BA6-95C4-DC0390A0A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EFD6A9-116D-4960-86A3-2E85D1E38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EC1012-DF11-4114-B32B-A12ED72BB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FB9409-A762-43F2-911E-331AED5DC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1976C-545B-4944-9339-6D14C0FF9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5F289-2300-4CBD-BC8D-F8709BDD3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F3B30-5C1E-40C9-9780-8D2640171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B53C3-9F85-49B5-909B-DA3AC5D83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990FE-6BB4-4CF0-A643-B9A6C9D2F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E5804-231C-44A2-9671-558BCF0AD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F9092-07F8-47A6-A319-454D4535B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381D7A-3267-4317-AC2F-432E6A766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9CCC4-A3CA-4FC2-8B44-09D2608C7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513C4-0B9B-4D09-811D-0B1B3599E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98FED-7181-467E-AD13-1C7ED6A02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80509-A40B-44AC-B091-9AA1A7EC2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CA748-64C8-4198-8DE4-7E6AB265C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5A8FDE-7F83-426D-BFA7-00CA1850B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7F53EA-3118-4FE9-864E-D9F1ACB3E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478E9F-A4DF-42CD-99AF-53BB002F8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853595-2F9E-486D-A636-C9D7D9176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EED7BF-1E5B-425A-BE60-29F76CD42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E6C759-885E-4CE3-ABD6-58D2C3AF0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94BC84-6A6D-4A12-B83E-18F0AFA53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4FC18-63EB-4135-855D-EBD146B780D9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1057E-BCE2-496E-8BCF-65520ADB4F5D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ОРГАНИЗАЦИЯ ДЕЯТЕЛЬНОСТИ СОВЕТА ПРОФИЛАКТИКИ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БОУ «СОШ № 17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лавгородская Людмила Валентиновна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циальный педагог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Особенности в  развитии детей подросткового возраста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Физическое развитие опережает психическое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вышен риск соматических заболеваний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оисходит расширение социальных отношений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5" name="Picture 8" descr="i?id=43154416-13"/>
          <p:cNvPicPr/>
          <p:nvPr/>
        </p:nvPicPr>
        <p:blipFill>
          <a:blip r:embed="rId1"/>
          <a:stretch/>
        </p:blipFill>
        <p:spPr>
          <a:xfrm>
            <a:off x="4724280" y="1600200"/>
            <a:ext cx="36576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Факторы, приводящие детей в «группу риска»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исгармоничная семья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одолжительные заболевания и тяжелые травмы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еблагополучная ситуация в отношении подростка со сверстникам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Задачи Совета профилактики: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здание благоприятных условий для развития личности ребенка (физического, социального, духовно – нравственного, интеллектуального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казание ребенку комплексной помощи в саморазвитии и самореализации в процессе восприятия мира и адаптации в нем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действие в поддержке семьи, повышение её воспитательного потенциал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Защита ребенка в его жизненном пространств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1" lang="ru-RU" sz="4000" spc="-1" strike="noStrike">
                <a:solidFill>
                  <a:srgbClr val="ffffcc"/>
                </a:solidFill>
                <a:latin typeface="Tahoma"/>
              </a:rPr>
              <a:t>Организация работы Совет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едседатель Совета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рганизует работу Совет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пределяет повестку дня, место и время проведения заседания Совет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едседательствует на заседаниях Совет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дписывает протоколы заседаний Совет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отсутствие председателя его обязанности выполняет заместитель председателя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120" y="277920"/>
            <a:ext cx="8077320" cy="712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Секретарь Совета:</a:t>
            </a:r>
            <a:br>
              <a:rPr sz="3200"/>
            </a:b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077320" cy="50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оставляет проект повестки для заседания Совета, организует подготовку материалов к заседаниям Совет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нформирует членов Совета о месте, времени проведения и повестке дня Совета, обеспечивает их необходимыми справочно-информационными материалам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рганизационное обеспечение заседаний Совета осуществляется секретарем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формляет протоколы заседаний Совета, осуществляет анализ и информирует Совет о ходе выполнения принимаемых решен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ff3300"/>
          </a:solidFill>
          <a:ln w="9360">
            <a:solidFill>
              <a:srgbClr val="602000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 </a:t>
            </a:r>
            <a:br>
              <a:rPr sz="4200"/>
            </a:br>
            <a:r>
              <a:rPr b="1" lang="ru-RU" sz="3200" spc="-1" strike="noStrike">
                <a:solidFill>
                  <a:srgbClr val="ffffcc"/>
                </a:solidFill>
                <a:latin typeface="Tahoma"/>
              </a:rPr>
              <a:t>План работы  Совета профилактики</a:t>
            </a:r>
            <a:br>
              <a:rPr sz="3200"/>
            </a:br>
            <a:r>
              <a:rPr b="1" lang="ru-RU" sz="3200" spc="-1" strike="noStrike">
                <a:solidFill>
                  <a:srgbClr val="ffffcc"/>
                </a:solidFill>
                <a:latin typeface="Tahoma"/>
              </a:rPr>
              <a:t>на 2013/2014 учебный год</a:t>
            </a:r>
            <a:br>
              <a:rPr sz="3200"/>
            </a:b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ентябр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.Рассмотрение и корректировка списков детей асоциального поведения, состоящих на  внутришкольном учет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.Рассмотрение и корректировка списков семей, находящихся в социально опасном положени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ктябр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.О постановке на внутришкольный профилактический  учет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.Утверждение  списков семей «группы риска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оябр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.О проведении месячника по ЗОЖ.  Профилактика вредных привычек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.Оказание поддержки семьям в социально опасном положени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3.О постановке на внутришкольный профилактический  уче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6" name="Object 2"/>
          <p:cNvGraphicFramePr/>
          <p:nvPr/>
        </p:nvGraphicFramePr>
        <p:xfrm>
          <a:off x="304920" y="990720"/>
          <a:ext cx="8458200" cy="495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990720"/>
                    <a:ext cx="8458200" cy="495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Диаграмма определения социального благополучия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457200" y="277920"/>
            <a:ext cx="822960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оличество учащихся «группы риска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0" name="Схема 2" descr=""/>
          <p:cNvPicPr/>
          <p:nvPr/>
        </p:nvPicPr>
        <p:blipFill>
          <a:blip r:embed="rId1"/>
          <a:stretch/>
        </p:blipFill>
        <p:spPr>
          <a:xfrm>
            <a:off x="1579680" y="1682640"/>
            <a:ext cx="5984640" cy="34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cc"/>
                </a:solidFill>
                <a:latin typeface="Tahoma"/>
              </a:rPr>
              <a:t>Обследования условий жизни и взаимоотношений в семье.</a:t>
            </a:r>
            <a:br>
              <a:rPr sz="2900"/>
            </a:br>
            <a:endParaRPr b="0" lang="en-US" sz="29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бследование условий жизни несовершеннолетнего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зучение взаимоотношений в семье (анкетирование, диагностирование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ндивидуальные беседы с родителям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В течение 2012-2013 учебного года было проведено 9 заседаний Совета профилактики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Tahoma"/>
              </a:rPr>
              <a:t>Рассматривались материал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по детям                                                         24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 семьям                                                        8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Tahoma"/>
              </a:rPr>
              <a:t>Поставили на уче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детей                                                                 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емей в социально опасном положении             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семей «группы риска»                                      7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Tahoma"/>
              </a:rPr>
              <a:t>Сняли с  учет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детей                                                                 4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емей в социально опасном положении            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семей «группы риска»                                       6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 u="sng">
                <a:solidFill>
                  <a:srgbClr val="ffffcc"/>
                </a:solidFill>
                <a:uFillTx/>
                <a:latin typeface="Tahoma"/>
              </a:rPr>
              <a:t>Совет профилактики занимается организацией работы </a:t>
            </a: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1800"/>
            </a:b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 по предупреждению безнадзорности и правонарушений обучающихся.</a:t>
            </a:r>
            <a:br>
              <a:rPr sz="1800"/>
            </a:br>
            <a:r>
              <a:rPr b="1" lang="ru-RU" sz="1700" spc="-1" strike="noStrike" u="sng">
                <a:solidFill>
                  <a:srgbClr val="ffffcc"/>
                </a:solidFill>
                <a:uFillTx/>
                <a:latin typeface="Tahoma"/>
              </a:rPr>
              <a:t> </a:t>
            </a:r>
            <a:r>
              <a:rPr b="0" lang="ru-RU" sz="1700" spc="-1" strike="noStrike">
                <a:solidFill>
                  <a:srgbClr val="ffffcc"/>
                </a:solidFill>
                <a:latin typeface="Tahoma"/>
              </a:rPr>
              <a:t>  </a:t>
            </a:r>
            <a:endParaRPr b="0" lang="en-US" sz="17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9" name="Picture 7" descr="p1_room"/>
          <p:cNvPicPr/>
          <p:nvPr/>
        </p:nvPicPr>
        <p:blipFill>
          <a:blip r:embed="rId1"/>
          <a:stretch/>
        </p:blipFill>
        <p:spPr>
          <a:xfrm>
            <a:off x="533520" y="1523880"/>
            <a:ext cx="80769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50800"/>
                </a:solidFill>
                <a:latin typeface="Tahoma"/>
              </a:rPr>
              <a:t>Результаты деятельности Совета профилактики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76" name="Rectangle 3" descr=""/>
          <p:cNvPicPr/>
          <p:nvPr/>
        </p:nvPicPr>
        <p:blipFill>
          <a:blip r:embed="rId1"/>
          <a:stretch/>
        </p:blipFill>
        <p:spPr>
          <a:xfrm>
            <a:off x="450720" y="1596960"/>
            <a:ext cx="8242560" cy="454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. Свою деятельность Совет осуществляет на основании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 Федерального закона «Об основах системы профилактики безнадзорности и правонарушений несовершеннолетних» от 24.06.1999 года № 120-ФЗ (с изменениями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. Закона Нижегородской области «О профилактике наркомании и токси-комании» от 28.03.2002 года №16-З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Нормативно-правовая база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. Закона Нижегородской области «О предупреждении распространения эпидемии ВИЧ-инфекции на территории Нижегородской области» от 09.09.2004 года № 95-З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4.Нормативно-правовых актов города Дзержинска и Управления образования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5. Устава образовательного учреждения и настоящего Положе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ahoma"/>
              </a:rPr>
              <a:t>Цели и задачи Совета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533520" y="1295280"/>
            <a:ext cx="815328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Целью деятельности Совета является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формирование законо-послушного поведения и здорового образа жизни обучающихся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офилактика девиантного и асоциального поведения обучающихся, социальная адаптация и реабилитация обучающихся группы «социального риска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К группе риска можно отнести следующих учащихся: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Tahoma"/>
              </a:rPr>
              <a:t>Медицинские: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меют хронические заболевания внутренних органов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блемы с органами слуха, зрения, речи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часто и длительно болеют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еренесли сложные медицинские операции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еренесли стрессы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леворукие дети (левш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Picture 6" descr="i?id=85858562-09"/>
          <p:cNvPicPr/>
          <p:nvPr/>
        </p:nvPicPr>
        <p:blipFill>
          <a:blip r:embed="rId1"/>
          <a:stretch/>
        </p:blipFill>
        <p:spPr>
          <a:xfrm>
            <a:off x="4648320" y="2209680"/>
            <a:ext cx="403848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К группе риска можно отнести следующих учащихся: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Tahoma"/>
              </a:rPr>
              <a:t>Социальные: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живут в асоциальной семье (пренебрежительное или агрессивноеотношение к ребенку)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живут в малообеспеченной семье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семье беженцев, переселенцев (проблемы адаптации и языковые)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облемы адаптации при смене местожительства, школы, класса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амовольный уход из дом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Picture 7" descr="i?id=61770873-06"/>
          <p:cNvPicPr/>
          <p:nvPr/>
        </p:nvPicPr>
        <p:blipFill>
          <a:blip r:embed="rId1"/>
          <a:stretch/>
        </p:blipFill>
        <p:spPr>
          <a:xfrm>
            <a:off x="4419720" y="1600200"/>
            <a:ext cx="42670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К группе риска можно отнести следующих учащихся: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Учебно-педагогические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меют стойкую неуспеваемость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пуски занятий без уважительных причин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пускают отдельные предметы без уважительных причин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7" name="Picture 6" descr="i?id=35104217-12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К группе риска можно отнести следующих учащихся: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Поведенческие: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рушение поведения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рудности во взаимоотношениях со сверстниками и родителями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вышенная тревожность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потребление наркотических веществ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абакокурение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оксикомания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иперактивность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1" name="Picture 5" descr="i?id=154502310-08"/>
          <p:cNvPicPr/>
          <p:nvPr/>
        </p:nvPicPr>
        <p:blipFill>
          <a:blip r:embed="rId1"/>
          <a:stretch/>
        </p:blipFill>
        <p:spPr>
          <a:xfrm>
            <a:off x="4724280" y="1600200"/>
            <a:ext cx="396252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лександр</dc:creator>
  <dc:description/>
  <dc:language>en-US</dc:language>
  <cp:lastModifiedBy>александр</cp:lastModifiedBy>
  <dcterms:modified xsi:type="dcterms:W3CDTF">2013-11-20T18:51:57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