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D2FF5-F4AC-4B74-9FAB-9FC43C77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4A69E-90D8-4FDA-A55E-B328ECE9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D5FA2-265F-49C4-94C4-EDA06FA6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D3881-D98D-4C27-B355-3FF1FDF3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9CB5-2185-4A0A-9213-5B9E0E06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A497-D72F-43A5-9BC7-D9FDB68E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965E-C856-462D-BAA5-607158F0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8C06-7CDF-4F89-9D5E-D2FF7D29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C7CE-69E9-4984-9FA7-D1FB47DF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66C0-D9F3-493A-8F31-21430575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DEF8-AC9F-4A4F-8D56-61516A81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5566F-3C01-4694-8ED4-DB6C316F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9F37-DC03-41BC-8693-1E1189F8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10A6-610A-4CDE-893B-282AC6D4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EA5C-54BA-49BC-BE43-C261517C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BBD7-FFAF-413E-B6B8-C950EEFA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E78F-AB0C-493F-96FB-79914000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4CA62-5CFE-4D64-B0DD-538F6318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3737E-7BAD-478C-A8D8-62C826E5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59367-32D6-42A8-8715-99BE9ABD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31C6C-FDD1-48CC-BF60-7FDB5780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39338-1F96-4DE2-8C65-46B78390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6BC81-E89E-4455-A2F2-6FAAE11E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CBA14-DD35-4182-8D4D-3832B48C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19BA-C16F-4F6E-94B4-A4693F2E480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7BCF-4F81-4E99-89D7-D54ED762BDE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ОРГАНИЗАЦИЯ ДЕЯТЕЛЬНОСТИ СОВЕТА ПРОФИЛАКТИК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БОУ «СОШ № 17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авгородская Людмила Валентиновн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альный педаг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Особенности в  развитии детей подросткового возрас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зическое развитие опережает психическо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ен риск соматических заболева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сходит расширение социальных отноше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8" descr="i?id=43154416-13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Факторы, приводящие детей в «группу риска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сгармоничная семь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должительные заболевания и тяжелые трав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благополучная ситуация в отношении подростка со сверстник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дачи Совета профилактики: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ние благоприятных условий для развития личности ребенка (физического, социального, духовно – нравственного, интеллектуального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азание ребенку комплексной помощи в саморазвитии и самореализации в процессе восприятия мира и адаптации в не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действие в поддержке семьи, повышение её воспитательного потенциа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щита ребенка в его жизненном пространст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Организация работы Совет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седатель Сове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ует работу Сове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яет повестку дня, место и время проведения заседания Сове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седательствует на заседаниях Сове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писывает протоколы заседаний Сов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сутствие председателя его обязанности выполняет заместитель председа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екретарь Совета: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773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ляет проект повестки для заседания Совета, организует подготовку материалов к заседаниям Сове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ирует членов Совета о месте, времени проведения и повестке дня Совета, обеспечивает их необходимыми справочно-информационными материал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онное обеспечение заседаний Совета осуществляется секретаре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формляет протоколы заседаний Совета, осуществляет анализ и информирует Совет о ходе выполнения принимаемых ре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3300"/>
          </a:solidFill>
          <a:ln w="9360">
            <a:solidFill>
              <a:srgbClr val="602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 </a:t>
            </a:r>
            <a:br>
              <a:rPr sz="42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лан работы  Совета профилактики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на 2013/2014 учебный год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нтя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Рассмотрение и корректировка списков детей асоциального поведения, состоящих на  внутришкольном уче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Рассмотрение и корректировка списков семей, находящихся в социально опасном полож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тя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О постановке на внутришкольный профилактический  уч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Утверждение  списков семей «группы рис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я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О проведении месячника по ЗОЖ.  Профилактика вредных привыч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Оказание поддержки семьям в социально опасном полож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О постановке на внутришкольный профилактический  уч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2"/>
          <p:cNvGraphicFramePr/>
          <p:nvPr/>
        </p:nvGraphicFramePr>
        <p:xfrm>
          <a:off x="304920" y="990720"/>
          <a:ext cx="8458200" cy="49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8458200" cy="49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Диаграмма определения социального благополучия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ичество учащихся «группы рис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Схема 2" descr=""/>
          <p:cNvPicPr/>
          <p:nvPr/>
        </p:nvPicPr>
        <p:blipFill>
          <a:blip r:embed="rId1"/>
          <a:stretch/>
        </p:blipFill>
        <p:spPr>
          <a:xfrm>
            <a:off x="1579680" y="1682640"/>
            <a:ext cx="598464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cc"/>
                </a:solidFill>
                <a:latin typeface="Tahoma"/>
              </a:rPr>
              <a:t>Обследования условий жизни и взаимоотношений в семье.</a:t>
            </a:r>
            <a:br>
              <a:rPr sz="2900"/>
            </a:b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следование условий жизни несовершеннолетнег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ение взаимоотношений в семье (анкетирование, диагностировани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видуальные беседы с родител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 течение 2012-2013 учебного года было проведено 9 заседаний Совета профилакти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Рассматривались материа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детям                                                         2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семьям                                                      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оставили на уч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тей                                                                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мей в социально опасном положении            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емей «группы риска»                                      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няли с  уч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тей                                                                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мей в социально опасном положении           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емей «группы риска»                                     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ffffcc"/>
                </a:solidFill>
                <a:uFillTx/>
                <a:latin typeface="Tahoma"/>
              </a:rPr>
              <a:t>Совет профилактики занимается организацией работы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по предупреждению безнадзорности и правонарушений обучающихся.</a:t>
            </a:r>
            <a:br>
              <a:rPr sz="1800"/>
            </a:br>
            <a:r>
              <a:rPr b="1" lang="ru-RU" sz="17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0" lang="ru-RU" sz="1700" spc="-1" strike="noStrike">
                <a:solidFill>
                  <a:srgbClr val="ffffcc"/>
                </a:solidFill>
                <a:latin typeface="Tahoma"/>
              </a:rPr>
              <a:t>  </a:t>
            </a:r>
            <a:endParaRPr b="0" lang="en-US" sz="1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Picture 7" descr="p1_room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50800"/>
                </a:solidFill>
                <a:latin typeface="Tahoma"/>
              </a:rPr>
              <a:t>Результаты деятельности Совета профилактик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6" name="Rectangle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. Свою деятельность Совет осуществляет на основании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Федерального закона «Об основах системы профилактики безнадзорности и правонарушений несовершеннолетних» от 24.06.1999 года № 120-ФЗ (с изменениям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Закона Нижегородской области «О профилактике наркомании и токси-комании» от 28.03.2002 года №16-З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Нормативно-правовая баз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Закона Нижегородской области «О предупреждении распространения эпидемии ВИЧ-инфекции на территории Нижегородской области» от 09.09.2004 года № 95-З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Нормативно-правовых актов города Дзержинска и Управления образован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Устава образовательного учреждения и настоящего Поло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Цели и задачи Совета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520" y="1295280"/>
            <a:ext cx="81532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Целью деятельности Совета являе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законо-послушного поведения и здорового образа жизни обучающихс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филактика девиантного и асоциального поведения обучающихся, социальная адаптация и реабилитация обучающихся группы «социального риск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 группе риска можно отнести следующих учащихся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Медицинские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ют хронические заболевания внутренних орган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блемы с органами слуха, зрения, реч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о и длительно болеют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несли сложные медицинские операци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несли стресс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ворукие дети (левш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i?id=85858562-09"/>
          <p:cNvPicPr/>
          <p:nvPr/>
        </p:nvPicPr>
        <p:blipFill>
          <a:blip r:embed="rId1"/>
          <a:stretch/>
        </p:blipFill>
        <p:spPr>
          <a:xfrm>
            <a:off x="4648320" y="2209680"/>
            <a:ext cx="4038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 группе риска можно отнести следующих учащихся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оциальные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вут в асоциальной семье (пренебрежительное или агрессивноеотношение к ребенку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вут в малообеспеченной семь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емье беженцев, переселенцев (проблемы адаптации и языковые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блемы адаптации при смене местожительства, школы, класс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мовольный уход из до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i?id=61770873-06"/>
          <p:cNvPicPr/>
          <p:nvPr/>
        </p:nvPicPr>
        <p:blipFill>
          <a:blip r:embed="rId1"/>
          <a:stretch/>
        </p:blipFill>
        <p:spPr>
          <a:xfrm>
            <a:off x="4419720" y="1600200"/>
            <a:ext cx="4267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 группе риска можно отнести следующих учащихся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Учебно-педагогическ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ют стойкую неуспеваем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пуски занятий без уважительных причи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пускают отдельные предметы без уважительных прич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6" descr="i?id=35104217-12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 группе риска можно отнести следующих учащихся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оведенческие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поведени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удности во взаимоотношениях со сверстниками и родителям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ная тревожн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потребление наркотических веществ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бакокурени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ксикомани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перактивнос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i?id=154502310-08"/>
          <p:cNvPicPr/>
          <p:nvPr/>
        </p:nvPicPr>
        <p:blipFill>
          <a:blip r:embed="rId1"/>
          <a:stretch/>
        </p:blipFill>
        <p:spPr>
          <a:xfrm>
            <a:off x="4724280" y="1600200"/>
            <a:ext cx="396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</dc:creator>
  <dc:description/>
  <dc:language>en-US</dc:language>
  <cp:lastModifiedBy>александр</cp:lastModifiedBy>
  <dcterms:modified xsi:type="dcterms:W3CDTF">2013-11-20T18:51:5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