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9A205-4A4B-4FF5-8016-CD2C61CE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B814A-C613-49BC-8D1B-FDFDA41C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A67FA-2453-4007-BE69-DF566A5E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34624-482C-4A04-B1F9-22F0DD11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B92C-D8C5-40CB-8A5B-4A754C74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2185-19C4-4B58-B7FD-3DCDB35A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BF5E-3C06-47E7-9286-7B89DF2F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E10B-599A-4DA0-B330-EEA560EE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CD3E-4110-4214-BFD6-49B3F345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130D-D450-4FD0-BECB-6F5DDA94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3A17-D50B-44D5-B34B-09B280B8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25D37-B00B-4D96-AA16-B9FC2850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A3CC-2F32-47F7-B3F4-CBA9AA42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D2A2-965D-4397-87C4-9F8085DF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D825-D288-4E7A-BCAF-29CF746E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F7CA-0835-4255-BCC3-CBFE00D0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D362-69AA-4A20-9D3B-1EB39BC7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36A9C-6D70-43AE-9838-66141EE8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99F32-5B69-4614-86A3-41744947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69166-8A9B-4EFA-B18F-3BE829E5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E0D1F-E5CC-47D0-8839-EC9218B5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C5EAD-194B-4628-8B66-91C2970D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D1E70-3577-463D-9538-06A6BA14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1EC04-4F99-4C29-B8E3-8A4FBEF2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8136-A3D7-4EC8-B44E-6A1C8467878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9010-39E8-4672-A5C0-F558577CEE4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ОРГАНИЗАЦИЯ ДЕЯТЕЛЬНОСТИ СОВЕТА ПРОФИЛАКТИК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БОУ «СОШ № 17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авгородская Людмила Валентиновн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циальный педаг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Особенности в  развитии детей подросткового возрас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изическое развитие опережает психическо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шен риск соматических заболева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сходит расширение социальных отношен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8" descr="i?id=43154416-13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Факторы, приводящие детей в «группу риска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сгармоничная семь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должительные заболевания и тяжелые травм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благополучная ситуация в отношении подростка со сверстник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дачи Совета профилактики: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ние благоприятных условий для развития личности ребенка (физического, социального, духовно – нравственного, интеллектуального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азание ребенку комплексной помощи в саморазвитии и самореализации в процессе восприятия мира и адаптации в не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действие в поддержке семьи, повышение её воспитательного потенциа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щита ребенка в его жизненном пространст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Организация работы Совет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седатель Совет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ует работу Сове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яет повестку дня, место и время проведения заседания Сове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седательствует на заседаниях Сове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писывает протоколы заседаний Сове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сутствие председателя его обязанности выполняет заместитель председат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екретарь Совета: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773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ляет проект повестки для заседания Совета, организует подготовку материалов к заседаниям Сове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ирует членов Совета о месте, времени проведения и повестке дня Совета, обеспечивает их необходимыми справочно-информационными материал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онное обеспечение заседаний Совета осуществляется секретаре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формляет протоколы заседаний Совета, осуществляет анализ и информирует Совет о ходе выполнения принимаемых ре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3300"/>
          </a:solidFill>
          <a:ln w="9360">
            <a:solidFill>
              <a:srgbClr val="602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 </a:t>
            </a:r>
            <a:br>
              <a:rPr sz="42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лан работы  Совета профилактики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на 2013/2014 учебный год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нтябр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Рассмотрение и корректировка списков детей асоциального поведения, состоящих на  внутришкольном учет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Рассмотрение и корректировка списков семей, находящихся в социально опасном полож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тябр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О постановке на внутришкольный профилактический  уч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Утверждение  списков семей «группы рис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ябр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О проведении месячника по ЗОЖ.  Профилактика вредных привыч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Оказание поддержки семьям в социально опасном полож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О постановке на внутришкольный профилактический  уч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2"/>
          <p:cNvGraphicFramePr/>
          <p:nvPr/>
        </p:nvGraphicFramePr>
        <p:xfrm>
          <a:off x="304920" y="990720"/>
          <a:ext cx="8458200" cy="49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8458200" cy="49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Диаграмма определения социального благополучия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ичество учащихся «группы рис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Схема 2" descr=""/>
          <p:cNvPicPr/>
          <p:nvPr/>
        </p:nvPicPr>
        <p:blipFill>
          <a:blip r:embed="rId1"/>
          <a:stretch/>
        </p:blipFill>
        <p:spPr>
          <a:xfrm>
            <a:off x="1579680" y="1682640"/>
            <a:ext cx="598464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cc"/>
                </a:solidFill>
                <a:latin typeface="Tahoma"/>
              </a:rPr>
              <a:t>Обследования условий жизни и взаимоотношений в семье.</a:t>
            </a:r>
            <a:br>
              <a:rPr sz="2900"/>
            </a:b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следование условий жизни несовершеннолетнег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ение взаимоотношений в семье (анкетирование, диагностирование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дивидуальные беседы с родител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 течение 2012-2013 учебного года было проведено 9 заседаний Совета профилактик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Рассматривались материал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 детям                                                         2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семьям                                                      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оставили на уч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тей                                                                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мей в социально опасном положении            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семей «группы риска»                                      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няли с  уч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тей                                                                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мей в социально опасном положении           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семей «группы риска»                                     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ffffcc"/>
                </a:solidFill>
                <a:uFillTx/>
                <a:latin typeface="Tahoma"/>
              </a:rPr>
              <a:t>Совет профилактики занимается организацией работы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по предупреждению безнадзорности и правонарушений обучающихся.</a:t>
            </a:r>
            <a:br>
              <a:rPr sz="1800"/>
            </a:br>
            <a:r>
              <a:rPr b="1" lang="ru-RU" sz="17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0" lang="ru-RU" sz="1700" spc="-1" strike="noStrike">
                <a:solidFill>
                  <a:srgbClr val="ffffcc"/>
                </a:solidFill>
                <a:latin typeface="Tahoma"/>
              </a:rPr>
              <a:t>  </a:t>
            </a:r>
            <a:endParaRPr b="0" lang="en-US" sz="17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Picture 7" descr="p1_room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50800"/>
                </a:solidFill>
                <a:latin typeface="Tahoma"/>
              </a:rPr>
              <a:t>Результаты деятельности Совета профилактик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6" name="Rectangle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. Свою деятельность Совет осуществляет на основании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Федерального закона «Об основах системы профилактики безнадзорности и правонарушений несовершеннолетних» от 24.06.1999 года № 120-ФЗ (с изменениям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Закона Нижегородской области «О профилактике наркомании и токси-комании» от 28.03.2002 года №16-З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Нормативно-правовая баз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Закона Нижегородской области «О предупреждении распространения эпидемии ВИЧ-инфекции на территории Нижегородской области» от 09.09.2004 года № 95-З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Нормативно-правовых актов города Дзержинска и Управления образован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Устава образовательного учреждения и настоящего Поло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Цели и задачи Совета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520" y="1295280"/>
            <a:ext cx="81532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Целью деятельности Совета являе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законо-послушного поведения и здорового образа жизни обучающихс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филактика девиантного и асоциального поведения обучающихся, социальная адаптация и реабилитация обучающихся группы «социального риск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 группе риска можно отнести следующих учащихся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Медицинские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ют хронические заболевания внутренних орган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блемы с органами слуха, зрения, реч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сто и длительно болеют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несли сложные медицинские операци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несли стресс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ворукие дети (левш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6" descr="i?id=85858562-09"/>
          <p:cNvPicPr/>
          <p:nvPr/>
        </p:nvPicPr>
        <p:blipFill>
          <a:blip r:embed="rId1"/>
          <a:stretch/>
        </p:blipFill>
        <p:spPr>
          <a:xfrm>
            <a:off x="4648320" y="2209680"/>
            <a:ext cx="4038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 группе риска можно отнести следующих учащихся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оциальные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вут в асоциальной семье (пренебрежительное или агрессивноеотношение к ребенку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вут в малообеспеченной семь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емье беженцев, переселенцев (проблемы адаптации и языковые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блемы адаптации при смене местожительства, школы, класс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мовольный уход из до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i?id=61770873-06"/>
          <p:cNvPicPr/>
          <p:nvPr/>
        </p:nvPicPr>
        <p:blipFill>
          <a:blip r:embed="rId1"/>
          <a:stretch/>
        </p:blipFill>
        <p:spPr>
          <a:xfrm>
            <a:off x="4419720" y="1600200"/>
            <a:ext cx="4267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 группе риска можно отнести следующих учащихся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Учебно-педагогическ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ют стойкую неуспеваем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пуски занятий без уважительных причин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пускают отдельные предметы без уважительных прич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6" descr="i?id=35104217-12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 группе риска можно отнести следующих учащихся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оведенческие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ушение поведени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удности во взаимоотношениях со сверстниками и родителям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ная тревожн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потребление наркотических веществ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бакокурени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ксикомани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перактивнос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i?id=154502310-08"/>
          <p:cNvPicPr/>
          <p:nvPr/>
        </p:nvPicPr>
        <p:blipFill>
          <a:blip r:embed="rId1"/>
          <a:stretch/>
        </p:blipFill>
        <p:spPr>
          <a:xfrm>
            <a:off x="4724280" y="1600200"/>
            <a:ext cx="3962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</dc:creator>
  <dc:description/>
  <dc:language>en-US</dc:language>
  <cp:lastModifiedBy>александр</cp:lastModifiedBy>
  <dcterms:modified xsi:type="dcterms:W3CDTF">2013-11-20T18:51:5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