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5"/>
          <p:cNvSpPr/>
          <p:nvPr/>
        </p:nvSpPr>
        <p:spPr>
          <a:xfrm>
            <a:off x="971640" y="1628640"/>
            <a:ext cx="784836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Организация деятельности социального педагога специальной (коррекционной) школы - интернат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8 вида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Text Box 6"/>
          <p:cNvSpPr/>
          <p:nvPr/>
        </p:nvSpPr>
        <p:spPr>
          <a:xfrm>
            <a:off x="3851280" y="4869000"/>
            <a:ext cx="41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5111640" y="4149720"/>
            <a:ext cx="4032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ыполнила: Соломенникова Фларида Ясавиевн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6920" y="1844280"/>
            <a:ext cx="7643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 процессе профессиональной подготовки особое значение приобретает социальная адаптация, которая направлена на создание и обеспечение взаимосвязи учащихся с обществом, формирование социально – трудовой лабильности посредством накопления социального опыта.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Диаграмма 4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84036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Деятельность социального педагога сложна и многогранна.  Социальный педагог обеспечивает целенаправленное педагогическое влияние на поведение и деятельность детей и подростков, развитие инициативы, творчества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1042920" y="3284640"/>
            <a:ext cx="7643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 Black"/>
              </a:rPr>
              <a:t>Предмет</a:t>
            </a: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 исследования: организация деятельности </a:t>
            </a:r>
            <a:r>
              <a:rPr b="0" lang="ru-RU" sz="2000" spc="-1" strike="noStrike">
                <a:solidFill>
                  <a:srgbClr val="4d4d4d"/>
                </a:solidFill>
                <a:latin typeface="Arial Black"/>
              </a:rPr>
              <a:t>СП</a:t>
            </a: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  в специальной (коррекционной) школе – интернат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8 вид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 Black"/>
              </a:rPr>
              <a:t>Объект</a:t>
            </a: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 исследования: деятельность социального педагога в специальной (коррекционной) школе – интернат 8</a:t>
            </a: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вид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 Black"/>
              </a:rPr>
              <a:t>Цель</a:t>
            </a: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 исследования: изучить деятельность СП специальной (коррекционной) школы – интернат 8 вида для обобщения и обмена опытом с другими </a:t>
            </a:r>
            <a:r>
              <a:rPr b="0" lang="ru-RU" sz="2000" spc="-1" strike="noStrike">
                <a:solidFill>
                  <a:srgbClr val="4d4d4d"/>
                </a:solidFill>
                <a:latin typeface="Arial Black"/>
              </a:rPr>
              <a:t>СП</a:t>
            </a: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 по работе с воспитанниками СКШИ – 8</a:t>
            </a: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вида</a:t>
            </a:r>
            <a:r>
              <a:rPr b="0" lang="ru-RU" sz="2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115640" y="1628280"/>
            <a:ext cx="7643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Задачи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исследования: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оанализировать психолого – педагогическую литературу по проблеме исследования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ыявить содержание и формы деятельности социального педагога в СКШИ – 8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ида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Обобщить опыт работы социального педагога СКШИ – 8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ид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280" y="907920"/>
            <a:ext cx="77756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Гипотеза</a:t>
            </a: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исследования:</a:t>
            </a: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офессиональная деятельность СП специальной(коррекционной) школы – интернат 8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ида является одним из условий педагогической эффективности в работе с воспитанниками.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8146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763640" y="404640"/>
            <a:ext cx="5905440" cy="576360"/>
          </a:xfrm>
          <a:prstGeom prst="rect">
            <a:avLst/>
          </a:prstGeom>
          <a:solidFill>
            <a:srgbClr val="33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оль социального педагога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79280" y="1341360"/>
            <a:ext cx="2355840" cy="576360"/>
          </a:xfrm>
          <a:prstGeom prst="rect">
            <a:avLst/>
          </a:prstGeom>
          <a:solidFill>
            <a:srgbClr val="33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Наставн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3059280" y="1484280"/>
            <a:ext cx="1728720" cy="576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омощн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508720" y="1413000"/>
            <a:ext cx="2089080" cy="360360"/>
          </a:xfrm>
          <a:prstGeom prst="rect">
            <a:avLst/>
          </a:prstGeom>
          <a:solidFill>
            <a:srgbClr val="33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Защитн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24000" y="2205000"/>
            <a:ext cx="1633320" cy="9144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осредн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700360" y="2492280"/>
            <a:ext cx="3095640" cy="505080"/>
          </a:xfrm>
          <a:prstGeom prst="rect">
            <a:avLst/>
          </a:prstGeom>
          <a:solidFill>
            <a:srgbClr val="33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бщественный деятель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6300720" y="2565360"/>
            <a:ext cx="2519280" cy="9144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ветч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50920" y="4149720"/>
            <a:ext cx="2736720" cy="576360"/>
          </a:xfrm>
          <a:prstGeom prst="rect">
            <a:avLst/>
          </a:prstGeom>
          <a:solidFill>
            <a:srgbClr val="33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Эксперт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3635280" y="3789360"/>
            <a:ext cx="2665440" cy="9144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сихотерапевт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284720" y="5300640"/>
            <a:ext cx="3382920" cy="649440"/>
          </a:xfrm>
          <a:prstGeom prst="rect">
            <a:avLst/>
          </a:prstGeom>
          <a:solidFill>
            <a:srgbClr val="33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Исследователь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 flipH="1">
            <a:off x="4067280" y="981000"/>
            <a:ext cx="217440" cy="50328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 flipH="1">
            <a:off x="1979280" y="981000"/>
            <a:ext cx="576360" cy="43200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5940360" y="981000"/>
            <a:ext cx="360360" cy="43200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Направление деятельности СП: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1197000"/>
            <a:ext cx="864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циально – педагогическая защита прав ребенка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беспечение социально-педагогической поддержки семье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2421000"/>
            <a:ext cx="8642520" cy="792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беспечение социально – педагогической поддержки семье в формировании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ичности учащегос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50920" y="3429000"/>
            <a:ext cx="6048360" cy="5032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- Социально – педагогическое консультирование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50920" y="4221000"/>
            <a:ext cx="7920000" cy="648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- Социально – педагогическая профилактика, коррекция и реабилитация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50920" y="5013360"/>
            <a:ext cx="7272360" cy="64764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циально – педагогическое исследование с целью выявления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циальных и личностных проблем детей всех возрастов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24000" y="5877000"/>
            <a:ext cx="6624360" cy="5094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- Организационно – методическая деятельность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6"/>
          <p:cNvSpPr/>
          <p:nvPr/>
        </p:nvSpPr>
        <p:spPr>
          <a:xfrm>
            <a:off x="971640" y="692280"/>
            <a:ext cx="629424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2544840" y="12636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Line 40"/>
          <p:cNvSpPr/>
          <p:nvPr/>
        </p:nvSpPr>
        <p:spPr>
          <a:xfrm>
            <a:off x="1527120" y="434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9" name="Group 52"/>
          <p:cNvGrpSpPr/>
          <p:nvPr/>
        </p:nvGrpSpPr>
        <p:grpSpPr>
          <a:xfrm>
            <a:off x="1022400" y="806400"/>
            <a:ext cx="6119640" cy="5480280"/>
            <a:chOff x="1022400" y="806400"/>
            <a:chExt cx="6119640" cy="5480280"/>
          </a:xfrm>
        </p:grpSpPr>
        <p:sp>
          <p:nvSpPr>
            <p:cNvPr id="70" name="Rectangle 7"/>
            <p:cNvSpPr/>
            <p:nvPr/>
          </p:nvSpPr>
          <p:spPr>
            <a:xfrm>
              <a:off x="1897200" y="920880"/>
              <a:ext cx="25146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администрация школы – интернат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>
              <a:off x="4897440" y="920880"/>
              <a:ext cx="22446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отдел опеки и попечительства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 flipV="1">
              <a:off x="1434960" y="1035000"/>
              <a:ext cx="462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" name="Line 10"/>
            <p:cNvSpPr/>
            <p:nvPr/>
          </p:nvSpPr>
          <p:spPr>
            <a:xfrm>
              <a:off x="4411800" y="10350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" name="Rectangle 11"/>
            <p:cNvSpPr/>
            <p:nvPr/>
          </p:nvSpPr>
          <p:spPr>
            <a:xfrm>
              <a:off x="1897200" y="1378080"/>
              <a:ext cx="35337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администрации профессиональных училищ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" name="Line 12"/>
            <p:cNvSpPr/>
            <p:nvPr/>
          </p:nvSpPr>
          <p:spPr>
            <a:xfrm flipV="1">
              <a:off x="1434960" y="1492200"/>
              <a:ext cx="462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 flipH="1">
              <a:off x="4211280" y="114948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 flipV="1" rot="10742400">
              <a:off x="1804680" y="1947960"/>
              <a:ext cx="64764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4d4d4d"/>
                  </a:solidFill>
                  <a:latin typeface="Arial"/>
                </a:rPr>
                <a:t>КДН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>
              <a:off x="1434960" y="2063880"/>
              <a:ext cx="3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3008160" y="1949400"/>
              <a:ext cx="55584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ОДН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4118040" y="1949400"/>
              <a:ext cx="64908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РОВД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5137200" y="1949400"/>
              <a:ext cx="739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ЛОВДт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" name="Line 20"/>
            <p:cNvSpPr/>
            <p:nvPr/>
          </p:nvSpPr>
          <p:spPr>
            <a:xfrm>
              <a:off x="2452680" y="206388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 flipV="1">
              <a:off x="3564000" y="2063520"/>
              <a:ext cx="5540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4767120" y="2063880"/>
              <a:ext cx="3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6154560" y="1440000"/>
              <a:ext cx="739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ОЗАГС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" name="Line 24"/>
            <p:cNvSpPr/>
            <p:nvPr/>
          </p:nvSpPr>
          <p:spPr>
            <a:xfrm>
              <a:off x="6594480" y="126360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1711440" y="2521080"/>
              <a:ext cx="555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Суд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" name="Rectangle 26"/>
            <p:cNvSpPr/>
            <p:nvPr/>
          </p:nvSpPr>
          <p:spPr>
            <a:xfrm>
              <a:off x="2730600" y="2521080"/>
              <a:ext cx="27003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Судебно исполнительные органы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1619280" y="3092400"/>
              <a:ext cx="1573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прокуратура  района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1434960" y="2635200"/>
              <a:ext cx="2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Line 29"/>
            <p:cNvSpPr/>
            <p:nvPr/>
          </p:nvSpPr>
          <p:spPr>
            <a:xfrm flipV="1">
              <a:off x="2266920" y="2635200"/>
              <a:ext cx="4636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" name="Line 30"/>
            <p:cNvSpPr/>
            <p:nvPr/>
          </p:nvSpPr>
          <p:spPr>
            <a:xfrm>
              <a:off x="1434960" y="320688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1619280" y="3664080"/>
              <a:ext cx="1573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пенсионный фонд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Line 32"/>
            <p:cNvSpPr/>
            <p:nvPr/>
          </p:nvSpPr>
          <p:spPr>
            <a:xfrm>
              <a:off x="1434960" y="377820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3781440" y="2978280"/>
              <a:ext cx="1573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налоговая служба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1434960" y="3016080"/>
              <a:ext cx="23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" name="Rectangle 35"/>
            <p:cNvSpPr/>
            <p:nvPr/>
          </p:nvSpPr>
          <p:spPr>
            <a:xfrm>
              <a:off x="3564000" y="3435480"/>
              <a:ext cx="18669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сберегательный банк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>
              <a:off x="1434960" y="3549600"/>
              <a:ext cx="21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" name="Rectangle 37"/>
            <p:cNvSpPr/>
            <p:nvPr/>
          </p:nvSpPr>
          <p:spPr>
            <a:xfrm>
              <a:off x="1619280" y="4235400"/>
              <a:ext cx="8334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УФМС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0" name="Rectangle 38"/>
            <p:cNvSpPr/>
            <p:nvPr/>
          </p:nvSpPr>
          <p:spPr>
            <a:xfrm>
              <a:off x="2744640" y="4235400"/>
              <a:ext cx="1481400" cy="51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паспортный стол  - ЖКХ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1" name="Rectangle 39"/>
            <p:cNvSpPr/>
            <p:nvPr/>
          </p:nvSpPr>
          <p:spPr>
            <a:xfrm>
              <a:off x="4503600" y="4235400"/>
              <a:ext cx="2390760" cy="51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главы администраций поселков, сел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2" name="Line 41"/>
            <p:cNvSpPr/>
            <p:nvPr/>
          </p:nvSpPr>
          <p:spPr>
            <a:xfrm>
              <a:off x="1434960" y="434988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3" name="Line 42"/>
            <p:cNvSpPr/>
            <p:nvPr/>
          </p:nvSpPr>
          <p:spPr>
            <a:xfrm flipV="1">
              <a:off x="2467080" y="4349520"/>
              <a:ext cx="2775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Line 43"/>
            <p:cNvSpPr/>
            <p:nvPr/>
          </p:nvSpPr>
          <p:spPr>
            <a:xfrm>
              <a:off x="4226040" y="4349880"/>
              <a:ext cx="27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Rectangle 44"/>
            <p:cNvSpPr/>
            <p:nvPr/>
          </p:nvSpPr>
          <p:spPr>
            <a:xfrm>
              <a:off x="1619280" y="4921200"/>
              <a:ext cx="4257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социальная защита населения при администрации района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6" name="Line 45"/>
            <p:cNvSpPr/>
            <p:nvPr/>
          </p:nvSpPr>
          <p:spPr>
            <a:xfrm>
              <a:off x="1434960" y="503568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>
              <a:off x="1619280" y="5492880"/>
              <a:ext cx="21621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военный комиссариат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Line 47"/>
            <p:cNvSpPr/>
            <p:nvPr/>
          </p:nvSpPr>
          <p:spPr>
            <a:xfrm>
              <a:off x="1434960" y="572148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9" name="Line 48"/>
            <p:cNvSpPr/>
            <p:nvPr/>
          </p:nvSpPr>
          <p:spPr>
            <a:xfrm>
              <a:off x="1341360" y="611172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0" name="Rectangle 49"/>
            <p:cNvSpPr/>
            <p:nvPr/>
          </p:nvSpPr>
          <p:spPr>
            <a:xfrm>
              <a:off x="1022400" y="806400"/>
              <a:ext cx="371520" cy="537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С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О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Ц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И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А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Л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Ь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Н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Ы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Й 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П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Е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Д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А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Г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О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4d4d4d"/>
                  </a:solidFill>
                  <a:latin typeface="Times New Roman"/>
                </a:rPr>
                <a:t>Г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>
              <a:off x="2467080" y="5943600"/>
              <a:ext cx="17143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d4d4d"/>
                  </a:solidFill>
                  <a:latin typeface="Times New Roman"/>
                </a:rPr>
                <a:t>Министерство ЖКХ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56800" y="1500120"/>
            <a:ext cx="7643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«Дефективным ребенка делает не его дефект, а отношение общества к нему и его собственное отношение к самому себе»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Л.С.Выготский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Диаграмма 1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0339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3:36:22Z</dcterms:created>
  <dc:creator>Флора</dc:creator>
  <dc:description/>
  <dc:language>en-US</dc:language>
  <cp:lastModifiedBy>10016</cp:lastModifiedBy>
  <dcterms:modified xsi:type="dcterms:W3CDTF">2013-12-14T02:22:59Z</dcterms:modified>
  <cp:revision>33</cp:revision>
  <dc:subject/>
  <dc:title>Name of presentation</dc:title>
</cp:coreProperties>
</file>