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E312-D532-43DC-8F23-E6DDBA88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E9C-1923-4E6C-BCF2-EC47721A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046-36FF-4D8F-BEA8-A48879DC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00D6-4761-46A8-89CD-622D2E3C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8B06-3F8F-4A4F-B5E7-28A79FC1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4F04-3320-49F8-AFD7-09CAECE9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B3D7-F89B-42D3-9901-68E842D7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68A1-CBC6-4AC6-AFD4-A60E1379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175B-E6AD-4C0C-B079-AC7FEA06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C0AA-3BB3-48AD-AC83-EA9F3814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8BB0-B97E-4E4B-8A63-E15750A4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D35-798C-4D05-941A-BB0D46F9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918A-5C61-4A21-B493-D887C2DD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6DB1-F0EA-496F-9274-97E68FDD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0676-3E1B-4967-9C40-70D01E88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BDA1-B562-4C3C-8E3C-27B4F746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4D52-47AF-4227-9710-3DD8DC44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F75-E327-4EC9-B6FD-C070150C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FFEA-079D-40FE-A2C3-C128A307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974-FEF1-412F-9E1C-27C145A5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0BA-54EE-4C3D-88D6-D5BF50D7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723-4597-4955-A29B-14D6B2D6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8F3-A44A-42B1-89AF-B1003850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833-7782-45F3-B8B2-295D7EA4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012D-9097-4AE6-9D54-BB38C199976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DB02-C628-4A8A-87B8-20DCA9B346B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42472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Обучение заучиванию стихотворений с помощью мнемотехники детей 4-5 лет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76360" y="494172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ыганкова Елена Леонидов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питатель МБДОУ № 1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Мурман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В.Орлов. «Почему медведь спит зимой»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1" name="Picture 4" descr="DSCN0655"/>
          <p:cNvPicPr/>
          <p:nvPr/>
        </p:nvPicPr>
        <p:blipFill>
          <a:blip r:embed="rId1"/>
          <a:stretch/>
        </p:blipFill>
        <p:spPr>
          <a:xfrm>
            <a:off x="1116000" y="1413000"/>
            <a:ext cx="71294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71640" y="5877000"/>
            <a:ext cx="769608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ишка, миш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Копия (2) DSCN0655"/>
          <p:cNvPicPr/>
          <p:nvPr/>
        </p:nvPicPr>
        <p:blipFill>
          <a:blip r:embed="rId1"/>
          <a:stretch/>
        </p:blipFill>
        <p:spPr>
          <a:xfrm>
            <a:off x="2484360" y="981000"/>
            <a:ext cx="45133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640" y="5876640"/>
            <a:ext cx="7696080" cy="6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с тоб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Копия DSCN0655"/>
          <p:cNvPicPr/>
          <p:nvPr/>
        </p:nvPicPr>
        <p:blipFill>
          <a:blip r:embed="rId1"/>
          <a:stretch/>
        </p:blipFill>
        <p:spPr>
          <a:xfrm>
            <a:off x="2411280" y="1197000"/>
            <a:ext cx="44737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99640" y="5876640"/>
            <a:ext cx="76964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ему ты спи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Копия (3) DSCN0655"/>
          <p:cNvPicPr/>
          <p:nvPr/>
        </p:nvPicPr>
        <p:blipFill>
          <a:blip r:embed="rId1"/>
          <a:stretch/>
        </p:blipFill>
        <p:spPr>
          <a:xfrm>
            <a:off x="2700360" y="1125360"/>
            <a:ext cx="4165560" cy="45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71640" y="5876640"/>
            <a:ext cx="769608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им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Копия (4) DSCN0655"/>
          <p:cNvPicPr/>
          <p:nvPr/>
        </p:nvPicPr>
        <p:blipFill>
          <a:blip r:embed="rId1"/>
          <a:stretch/>
        </p:blipFill>
        <p:spPr>
          <a:xfrm>
            <a:off x="2771640" y="1197000"/>
            <a:ext cx="388332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99640" y="5498640"/>
            <a:ext cx="7696440" cy="13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ому, ч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ег и ле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Копия (5) DSCN0655"/>
          <p:cNvPicPr/>
          <p:nvPr/>
        </p:nvPicPr>
        <p:blipFill>
          <a:blip r:embed="rId1"/>
          <a:stretch/>
        </p:blipFill>
        <p:spPr>
          <a:xfrm>
            <a:off x="2627280" y="836640"/>
            <a:ext cx="4400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42560" y="5589360"/>
            <a:ext cx="7696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ма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не ме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Копия (6) DSCN0655"/>
          <p:cNvPicPr/>
          <p:nvPr/>
        </p:nvPicPr>
        <p:blipFill>
          <a:blip r:embed="rId1"/>
          <a:stretch/>
        </p:blipFill>
        <p:spPr>
          <a:xfrm>
            <a:off x="2843280" y="692280"/>
            <a:ext cx="3967200" cy="488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Вывод:</a:t>
            </a:r>
            <a:endParaRPr b="0" lang="en-US" sz="5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ие мнемотехники повышает эффективность заучивания стих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чительно сокращается время заучи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величивается длительность запоминания стих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вается ассоциативное мышление, способность к замещ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изируется реч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является интерес к заучиванию поэтических произвед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и преодолевают робость, застенчивость, учатся свободно держаться перед аудитор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21337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Спасибо за внимание!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428400"/>
            <a:ext cx="69530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Цель: 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59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чить детей запоминанию и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спроизведению поэтических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изведений с помощь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немотехни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Задачи обучения: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170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вать основные психические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цессы – память, внимание, образное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ыш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вать связную реч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ить преобразовывать абстрактны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ы в образы (перекодировани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ци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учать  приёмам работы с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емотаблиц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вать мелкую моторик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1280" y="64260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Мнемотехника</a:t>
            </a:r>
            <a:r>
              <a:rPr b="1" lang="ru-RU" sz="48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в переводе с греческого – «искусство запоминания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о система различных приемов, облегчающих запоминание и увеличивающих объем памяти, путем образования дополнительных ассоциаций.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360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Отличительные особенности мнемотехники: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меет чёткое теоретическое и экспериментальное  обосно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емы запоминания индивидуализирова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ироко используются образные коды, обеспечивающие быстрое запомин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едено понятие ”навык запоминания” и разработана точная система контроля навыка запомин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1159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труктура мнемотехник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8360" y="1483920"/>
            <a:ext cx="22557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мо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Копия (5) DSCN0655"/>
          <p:cNvPicPr/>
          <p:nvPr/>
        </p:nvPicPr>
        <p:blipFill>
          <a:blip r:embed="rId1"/>
          <a:stretch/>
        </p:blipFill>
        <p:spPr>
          <a:xfrm>
            <a:off x="1692360" y="1125360"/>
            <a:ext cx="1220760" cy="1270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DSCN0732"/>
          <p:cNvPicPr/>
          <p:nvPr/>
        </p:nvPicPr>
        <p:blipFill>
          <a:blip r:embed="rId2"/>
          <a:stretch/>
        </p:blipFill>
        <p:spPr>
          <a:xfrm>
            <a:off x="395280" y="2708280"/>
            <a:ext cx="3960720" cy="131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SCN0719"/>
          <p:cNvPicPr/>
          <p:nvPr/>
        </p:nvPicPr>
        <p:blipFill>
          <a:blip r:embed="rId3"/>
          <a:stretch/>
        </p:blipFill>
        <p:spPr>
          <a:xfrm>
            <a:off x="900000" y="4437000"/>
            <a:ext cx="3105360" cy="22035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5148360" y="3213000"/>
            <a:ext cx="251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модорож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5148360" y="5229360"/>
            <a:ext cx="280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мотабл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5940360" y="227664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6012000" y="407664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6964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немотаблица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это схема, в которую заложена определенная информац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Этапы работы по мнемотаблице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343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этап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ссматривание таблицы и разбор того, что на ней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браже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этап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существляется перекодирование информации, т.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образование из абстрактных символов  слов в обра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 этап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сле перекодирования осуществляется воспроизвед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ихотворения. В младшей и средней группе с помощью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теля, в старших – дети должны уметь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остоятель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этап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елается графическая зарисовка мнемотаблиц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 этап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аждая таблица может быть воспроизведена ребенком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ее показе е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3" name="AutoShape 5"/>
          <p:cNvCxnSpPr>
            <a:stCxn id="102" idx="0"/>
            <a:endCxn id="102" idx="0"/>
          </p:cNvCxnSpPr>
          <p:nvPr/>
        </p:nvCxnSpPr>
        <p:spPr>
          <a:xfrm>
            <a:off x="4422240" y="1125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4" name="AutoShape 6"/>
          <p:cNvSpPr/>
          <p:nvPr/>
        </p:nvSpPr>
        <p:spPr>
          <a:xfrm>
            <a:off x="4284720" y="177336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4284720" y="450864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4284720" y="537372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4284720" y="292428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ерспективное планирование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11280" y="1052640"/>
          <a:ext cx="8208720" cy="5483160"/>
        </p:xfrm>
        <a:graphic>
          <a:graphicData uri="http://schemas.openxmlformats.org/drawingml/2006/table">
            <a:tbl>
              <a:tblPr/>
              <a:tblGrid>
                <a:gridCol w="1131840"/>
                <a:gridCol w="2452680"/>
                <a:gridCol w="4624200"/>
              </a:tblGrid>
              <a:tr h="930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я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этические произведения для заучи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нтя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Купите лук…», шотл.нар.песе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тя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Ножки,ножки, где вы были?», «Тень- тень- потетень»,рус.нар.песен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я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Пушкин. «Ветер, ветер! Ты могуч…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ка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.Александрова. «Елочк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.Орлов. «Почему медведь зимой спит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Барто. «Я знаю, что надо придумать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.Ладонщиков. «Весн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пр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Дед хотел уху сварить», рус.нар.песе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.Серова. «Одуванчик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2:50:55Z</dcterms:created>
  <dc:creator>Home</dc:creator>
  <dc:description/>
  <cp:keywords/>
  <dc:language>en-US</dc:language>
  <cp:lastModifiedBy>Toshiba</cp:lastModifiedBy>
  <dcterms:modified xsi:type="dcterms:W3CDTF">2013-05-14T18:47:11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49</vt:lpwstr>
  </property>
</Properties>
</file>