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95C-89C3-4604-ADBF-463CF99C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535-5D6A-45D0-9279-02F59A71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B5C-7098-498F-9D4B-485A6D91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691-C39C-4E7A-B103-BD337D26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2DA-5EE8-4DB8-B42B-3B9BB880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E34-E4F1-449D-AB9B-7B59BD8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1A97-E8CF-44D3-9969-E8D5210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126E-6854-4D60-B0D0-BCCAE615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9238-5559-47FD-8A58-A3E35F4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94F4-C427-43C8-A3C0-3362A974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F21-2B0C-4B10-9838-3B7889B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0D7-7471-4394-A545-666E81B6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985-AD55-489C-9EAA-9C8E433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297C-1960-4885-877F-627E4A0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FE9-1B44-4E26-B611-B050B1D3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5CF0-00B2-4A9C-9CD9-64D503A4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37C8-C04D-48CA-9D30-76017325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0A8-EBC0-4312-93D6-DD7A4BCF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466-DC85-456F-B5AC-9B5A9BD1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36B-49B7-401D-B7A4-1FD7F9ED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E0F-0235-4AE8-84AD-39438C62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379-6284-4D12-BD08-C5A51A9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8E4-4EEF-41C3-A83F-0D49A491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826-82B5-4D01-ABC6-A7FF47E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EE7-EA16-401B-BD15-DB102F3D1C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221-04EC-4945-9B84-349010ACA5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4247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Обучение заучиванию стихотворений с помощью мнемотехники детей 4-5 лет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494172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ыганкова Елена Леонидо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ь МБДОУ № 1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урман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.Орлов. «Почему медведь спит зимой»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1" name="Picture 4" descr="DSCN0655"/>
          <p:cNvPicPr/>
          <p:nvPr/>
        </p:nvPicPr>
        <p:blipFill>
          <a:blip r:embed="rId1"/>
          <a:stretch/>
        </p:blipFill>
        <p:spPr>
          <a:xfrm>
            <a:off x="1116000" y="1413000"/>
            <a:ext cx="7129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5877000"/>
            <a:ext cx="76960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ишка, миш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Копия (2) DSCN0655"/>
          <p:cNvPicPr/>
          <p:nvPr/>
        </p:nvPicPr>
        <p:blipFill>
          <a:blip r:embed="rId1"/>
          <a:stretch/>
        </p:blipFill>
        <p:spPr>
          <a:xfrm>
            <a:off x="2484360" y="981000"/>
            <a:ext cx="45133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5876640"/>
            <a:ext cx="769608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 тоб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Копия DSCN0655"/>
          <p:cNvPicPr/>
          <p:nvPr/>
        </p:nvPicPr>
        <p:blipFill>
          <a:blip r:embed="rId1"/>
          <a:stretch/>
        </p:blipFill>
        <p:spPr>
          <a:xfrm>
            <a:off x="2411280" y="1197000"/>
            <a:ext cx="4473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99640" y="5876640"/>
            <a:ext cx="76964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ты сп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Копия (3) DSCN0655"/>
          <p:cNvPicPr/>
          <p:nvPr/>
        </p:nvPicPr>
        <p:blipFill>
          <a:blip r:embed="rId1"/>
          <a:stretch/>
        </p:blipFill>
        <p:spPr>
          <a:xfrm>
            <a:off x="2700360" y="1125360"/>
            <a:ext cx="416556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5876640"/>
            <a:ext cx="76960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Копия (4) DSCN0655"/>
          <p:cNvPicPr/>
          <p:nvPr/>
        </p:nvPicPr>
        <p:blipFill>
          <a:blip r:embed="rId1"/>
          <a:stretch/>
        </p:blipFill>
        <p:spPr>
          <a:xfrm>
            <a:off x="2771640" y="1197000"/>
            <a:ext cx="38833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5498640"/>
            <a:ext cx="769644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у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ег и 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Копия (5) DSCN0655"/>
          <p:cNvPicPr/>
          <p:nvPr/>
        </p:nvPicPr>
        <p:blipFill>
          <a:blip r:embed="rId1"/>
          <a:stretch/>
        </p:blipFill>
        <p:spPr>
          <a:xfrm>
            <a:off x="2627280" y="836640"/>
            <a:ext cx="4400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42560" y="5589360"/>
            <a:ext cx="7696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а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е м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Копия (6) DSCN0655"/>
          <p:cNvPicPr/>
          <p:nvPr/>
        </p:nvPicPr>
        <p:blipFill>
          <a:blip r:embed="rId1"/>
          <a:stretch/>
        </p:blipFill>
        <p:spPr>
          <a:xfrm>
            <a:off x="2843280" y="692280"/>
            <a:ext cx="3967200" cy="48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мнемотехники повышает эффективность заучивания стих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ельно сокращается время заучи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ивается длительность запоминания стих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ется ассоциативное мышление, способность к замещ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зируется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является интерес к заучиванию поэтических произвед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428400"/>
            <a:ext cx="69530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Цель: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5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ь детей запоминанию и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роизведению поэтически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зведений с помощь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емотехн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Задачи обучения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основные психичес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ы – память, внимание, образно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связную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ь преобразовывать абстрактны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ы в образы (перекодировани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ать  приёмам работы 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емотаблиц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мелкую мотор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64260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Мнемотехника</a:t>
            </a:r>
            <a:r>
              <a:rPr b="1" lang="ru-RU" sz="4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 переводе с греческого – «искусство запоминан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система различных приемов, облегчающих запоминание и увеличивающих объем памяти, путем образования дополнительных ассоциаций.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тличительные особенности мнемотехники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ет чёткое теоретическое и экспериментальное  обосн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емы запоминания индивидуализирова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роко используются образные коды, обеспечивающие быстрое запомин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о понятие ”навык запоминания” и разработана точная система контроля навыка запоми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уктура мнемотехник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8360" y="1483920"/>
            <a:ext cx="22557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Копия (5) DSCN0655"/>
          <p:cNvPicPr/>
          <p:nvPr/>
        </p:nvPicPr>
        <p:blipFill>
          <a:blip r:embed="rId1"/>
          <a:stretch/>
        </p:blipFill>
        <p:spPr>
          <a:xfrm>
            <a:off x="1692360" y="112536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SCN0732"/>
          <p:cNvPicPr/>
          <p:nvPr/>
        </p:nvPicPr>
        <p:blipFill>
          <a:blip r:embed="rId2"/>
          <a:stretch/>
        </p:blipFill>
        <p:spPr>
          <a:xfrm>
            <a:off x="395280" y="2708280"/>
            <a:ext cx="396072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N0719"/>
          <p:cNvPicPr/>
          <p:nvPr/>
        </p:nvPicPr>
        <p:blipFill>
          <a:blip r:embed="rId3"/>
          <a:stretch/>
        </p:blipFill>
        <p:spPr>
          <a:xfrm>
            <a:off x="900000" y="4437000"/>
            <a:ext cx="3105360" cy="2203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5148360" y="3213000"/>
            <a:ext cx="25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доро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148360" y="5229360"/>
            <a:ext cx="28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таб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5940360" y="2276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6012000" y="4076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6964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немотаблиц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схема, в которую заложена определенная информац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апы работы по мнемотаблиц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43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атривание таблицы и разбор того, что на ней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же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уществляется перекодирование информации, т.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образование из абстрактных символов  слов в обра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ле перекодирования осуществляется воспроизве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отворения. В младшей и средней группе с помощью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я, в старших – дети должны уметь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лается графическая зарисовка мнемотабл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ждая таблица может быть воспроизведена ребенко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ее показе 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AutoShape 5"/>
          <p:cNvCxnSpPr>
            <a:stCxn id="102" idx="0"/>
            <a:endCxn id="102" idx="0"/>
          </p:cNvCxnSpPr>
          <p:nvPr/>
        </p:nvCxnSpPr>
        <p:spPr>
          <a:xfrm>
            <a:off x="4422240" y="112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4" name="AutoShape 6"/>
          <p:cNvSpPr/>
          <p:nvPr/>
        </p:nvSpPr>
        <p:spPr>
          <a:xfrm>
            <a:off x="4284720" y="1773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284720" y="4508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4284720" y="53737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4284720" y="292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рспективное планировани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1052640"/>
          <a:ext cx="8208720" cy="5483160"/>
        </p:xfrm>
        <a:graphic>
          <a:graphicData uri="http://schemas.openxmlformats.org/drawingml/2006/table">
            <a:tbl>
              <a:tblPr/>
              <a:tblGrid>
                <a:gridCol w="1131840"/>
                <a:gridCol w="2452680"/>
                <a:gridCol w="4624200"/>
              </a:tblGrid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этические произведения для заучи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упите лук…», шотл.нар.пес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ожки,ножки, где вы были?», «Тень- тень- потетень»,рус.нар.пес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Пушкин. «Ветер, ветер! Ты могуч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.Александрова. «Елочк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Орлов. «Почему медведь зимой спи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Барто. «Я знаю, что надо придума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Ладонщиков. «Вес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Дед хотел уху сварить», рус.нар.пес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.Серова. «Одуванчи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2:50:55Z</dcterms:created>
  <dc:creator>Home</dc:creator>
  <dc:description/>
  <cp:keywords/>
  <dc:language>en-US</dc:language>
  <cp:lastModifiedBy>Toshiba</cp:lastModifiedBy>
  <dcterms:modified xsi:type="dcterms:W3CDTF">2013-05-14T18:47:11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