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CF7-5680-4E0A-A865-23C6A7B2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551-348B-4C24-97B0-0E3DE2D3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CEC-A47C-4A47-9E62-6826506A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E8F-3859-4B05-AAB9-4A7E1EAF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45BE-DA5E-4746-A2C6-4333F2BD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20DA-BAE8-4565-BE88-C004DC17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58A5-A502-47D9-A18A-711F4FB0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065D-3B51-4EED-BF6E-D8148ED5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E843-A411-4BE5-8A6B-90722585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05C2-8FBD-474D-914C-0D9949E6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E828-1E9A-400A-BB69-487B03AA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438-AB7B-4B7A-B47D-4CE69A33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046D-FF88-4498-BB91-5447B7CD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F607-12EB-47DC-8C6B-617B296F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9280-5EB2-491D-A188-A2FAECE4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D373-9D48-44BD-97CF-9A739CD0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3008-413A-4023-92D3-84C92742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7B2-DCDC-4BFF-9558-359DAE5A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172-A7C4-49A4-9079-CB0A827D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4AD-8E9A-45AA-BA42-4C11CCF1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41F-2166-4FF8-975D-B2909A4B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22B-B0AE-411E-9BC0-BAA26FA3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CF9-23EA-4B75-8F7B-D16E6368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74C-347F-40DD-9CF4-4C3746C8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6330-5884-4BCF-B62C-09DE849883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1AFC-B9E3-49CB-BB3E-60A3567099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42472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Обучение заучиванию стихотворений с помощью мнемотехники детей 4-5 лет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76360" y="494172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ыганкова Елена Леонидо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тель МБДОУ № 1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Мурман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.Орлов. «Почему медведь спит зимой»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1" name="Picture 4" descr="DSCN0655"/>
          <p:cNvPicPr/>
          <p:nvPr/>
        </p:nvPicPr>
        <p:blipFill>
          <a:blip r:embed="rId1"/>
          <a:stretch/>
        </p:blipFill>
        <p:spPr>
          <a:xfrm>
            <a:off x="1116000" y="1413000"/>
            <a:ext cx="71294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71640" y="5877000"/>
            <a:ext cx="769608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ишка, миш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Копия (2) DSCN0655"/>
          <p:cNvPicPr/>
          <p:nvPr/>
        </p:nvPicPr>
        <p:blipFill>
          <a:blip r:embed="rId1"/>
          <a:stretch/>
        </p:blipFill>
        <p:spPr>
          <a:xfrm>
            <a:off x="2484360" y="981000"/>
            <a:ext cx="45133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5876640"/>
            <a:ext cx="769608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с тоб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Копия DSCN0655"/>
          <p:cNvPicPr/>
          <p:nvPr/>
        </p:nvPicPr>
        <p:blipFill>
          <a:blip r:embed="rId1"/>
          <a:stretch/>
        </p:blipFill>
        <p:spPr>
          <a:xfrm>
            <a:off x="2411280" y="1197000"/>
            <a:ext cx="4473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99640" y="5876640"/>
            <a:ext cx="76964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ты спи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Копия (3) DSCN0655"/>
          <p:cNvPicPr/>
          <p:nvPr/>
        </p:nvPicPr>
        <p:blipFill>
          <a:blip r:embed="rId1"/>
          <a:stretch/>
        </p:blipFill>
        <p:spPr>
          <a:xfrm>
            <a:off x="2700360" y="1125360"/>
            <a:ext cx="416556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640" y="5876640"/>
            <a:ext cx="76960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Копия (4) DSCN0655"/>
          <p:cNvPicPr/>
          <p:nvPr/>
        </p:nvPicPr>
        <p:blipFill>
          <a:blip r:embed="rId1"/>
          <a:stretch/>
        </p:blipFill>
        <p:spPr>
          <a:xfrm>
            <a:off x="2771640" y="1197000"/>
            <a:ext cx="38833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99640" y="5498640"/>
            <a:ext cx="7696440" cy="13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ому, ч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ег и ле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Копия (5) DSCN0655"/>
          <p:cNvPicPr/>
          <p:nvPr/>
        </p:nvPicPr>
        <p:blipFill>
          <a:blip r:embed="rId1"/>
          <a:stretch/>
        </p:blipFill>
        <p:spPr>
          <a:xfrm>
            <a:off x="2627280" y="836640"/>
            <a:ext cx="4400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42560" y="5589360"/>
            <a:ext cx="7696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ма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е ме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Копия (6) DSCN0655"/>
          <p:cNvPicPr/>
          <p:nvPr/>
        </p:nvPicPr>
        <p:blipFill>
          <a:blip r:embed="rId1"/>
          <a:stretch/>
        </p:blipFill>
        <p:spPr>
          <a:xfrm>
            <a:off x="2843280" y="692280"/>
            <a:ext cx="3967200" cy="48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Вывод:</a:t>
            </a:r>
            <a:endParaRPr b="0" lang="en-US" sz="5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мнемотехники повышает эффективность заучивания стих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тельно сокращается время заучи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еличивается длительность запоминания стих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ется ассоциативное мышление, способность к замещ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изируется реч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является интерес к заучиванию поэтических произвед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и преодолевают робость, застенчивость, учатся свободно держаться перед аудитор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Спасибо за внимание!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428400"/>
            <a:ext cx="69530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Цель: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59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ить детей запоминанию и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спроизведению поэтических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изведений с помощь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немотехн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Задачи обучения: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170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вать основные психически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ы – память, внимание, образно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вать связную реч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ь преобразовывать абстрактны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ы в образы (перекодировани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ать  приёмам работы с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емотаблиц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вать мелкую мотори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1280" y="64260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Мнемотехника</a:t>
            </a:r>
            <a:r>
              <a:rPr b="1" lang="ru-RU" sz="4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в переводе с греческого – «искусство запоминан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система различных приемов, облегчающих запоминание и увеличивающих объем памяти, путем образования дополнительных ассоциаций.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тличительные особенности мнемотехники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ет чёткое теоретическое и экспериментальное  обосн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емы запоминания индивидуализирова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ироко используются образные коды, обеспечивающие быстрое запомин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едено понятие ”навык запоминания” и разработана точная система контроля навыка запомин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руктура мнемотехник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8360" y="1483920"/>
            <a:ext cx="22557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мо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Копия (5) DSCN0655"/>
          <p:cNvPicPr/>
          <p:nvPr/>
        </p:nvPicPr>
        <p:blipFill>
          <a:blip r:embed="rId1"/>
          <a:stretch/>
        </p:blipFill>
        <p:spPr>
          <a:xfrm>
            <a:off x="1692360" y="1125360"/>
            <a:ext cx="1220760" cy="127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SCN0732"/>
          <p:cNvPicPr/>
          <p:nvPr/>
        </p:nvPicPr>
        <p:blipFill>
          <a:blip r:embed="rId2"/>
          <a:stretch/>
        </p:blipFill>
        <p:spPr>
          <a:xfrm>
            <a:off x="395280" y="2708280"/>
            <a:ext cx="3960720" cy="131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SCN0719"/>
          <p:cNvPicPr/>
          <p:nvPr/>
        </p:nvPicPr>
        <p:blipFill>
          <a:blip r:embed="rId3"/>
          <a:stretch/>
        </p:blipFill>
        <p:spPr>
          <a:xfrm>
            <a:off x="900000" y="4437000"/>
            <a:ext cx="3105360" cy="2203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5148360" y="3213000"/>
            <a:ext cx="25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модорож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148360" y="5229360"/>
            <a:ext cx="280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мотаб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5940360" y="227664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6012000" y="407664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6964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немотаблиц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схема, в которую заложена определенная информац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апы работы по мнемотаблиц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343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атривание таблицы и разбор того, что на ней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же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существляется перекодирование информации, т.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образование из абстрактных символов  слов в обра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сле перекодирования осуществляется воспроизвед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хотворения. В младшей и средней группе с помощью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я, в старших – дети должны уметь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елается графическая зарисовка мнемотабл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аждая таблица может быть воспроизведена ребенком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ее показе 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AutoShape 5"/>
          <p:cNvCxnSpPr>
            <a:stCxn id="102" idx="0"/>
            <a:endCxn id="102" idx="0"/>
          </p:cNvCxnSpPr>
          <p:nvPr/>
        </p:nvCxnSpPr>
        <p:spPr>
          <a:xfrm>
            <a:off x="4422240" y="112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4" name="AutoShape 6"/>
          <p:cNvSpPr/>
          <p:nvPr/>
        </p:nvSpPr>
        <p:spPr>
          <a:xfrm>
            <a:off x="4284720" y="1773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4284720" y="450864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4284720" y="537372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4284720" y="2924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рспективное планировани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1052640"/>
          <a:ext cx="8208720" cy="5483160"/>
        </p:xfrm>
        <a:graphic>
          <a:graphicData uri="http://schemas.openxmlformats.org/drawingml/2006/table">
            <a:tbl>
              <a:tblPr/>
              <a:tblGrid>
                <a:gridCol w="1131840"/>
                <a:gridCol w="2452680"/>
                <a:gridCol w="4624200"/>
              </a:tblGrid>
              <a:tr h="93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этические произведения для заучи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Купите лук…», шотл.нар.пес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Ножки,ножки, где вы были?», «Тень- тень- потетень»,рус.нар.пес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Пушкин. «Ветер, ветер! Ты могуч…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.Александрова. «Елочк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Орлов. «Почему медведь зимой спит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Барто. «Я знаю, что надо придумат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Ладонщиков. «Вес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Дед хотел уху сварить», рус.нар.пес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.Серова. «Одуванчи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2:50:55Z</dcterms:created>
  <dc:creator>Home</dc:creator>
  <dc:description/>
  <cp:keywords/>
  <dc:language>en-US</dc:language>
  <cp:lastModifiedBy>Toshiba</cp:lastModifiedBy>
  <dcterms:modified xsi:type="dcterms:W3CDTF">2013-05-14T18:47:11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