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FBE-2587-404B-BACA-F0932C62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76A-8F06-439B-9316-A1205E3F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9F8-04E9-4331-B197-14008EA9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6E3-94BA-4C0A-B036-2270407C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D54-3810-4300-A921-E2DD09E9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68C-0482-4EC2-940B-A0CA2537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B1B-8ECB-4B3D-A7EE-FB456357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03E-2F8E-4965-AF37-8BBAEF2D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484-1312-4183-A907-13561310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715-DC4D-4FC1-81CC-B28B0D9D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2C2-C3BC-4A8D-8D42-20D42149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FED-35D0-4348-9972-0A6F8B57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86A8-3527-40C3-93F7-F8B8930A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Сильнова Екат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Воспитатель МБДОУ №1 «Петуш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609480"/>
            <a:ext cx="8534160" cy="19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492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Eras Bold ITC"/>
              </a:rPr>
              <a:t>ОБИТАТЕЛИ БАЛТИЙСКОГО МОРЯ</a:t>
            </a:r>
            <a:endParaRPr b="1" i="1" lang="en-US" sz="4800" spc="1" strike="noStrike">
              <a:ln w="3492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Eras Bold ITC"/>
              <a:ea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3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2880" y="761760"/>
            <a:ext cx="3810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3886200"/>
            <a:ext cx="3810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итатели Балтийского м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лантическая сель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алака), балти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лька, треска, камб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сось, угорь, корюш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япушка, сиг, окунь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тийский тюл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228600"/>
            <a:ext cx="510552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тийское море</a:t>
            </a:r>
            <a:br>
              <a:rPr sz="20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Расположение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между берегами Северной и Центральной Европы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Площадь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419 тысяч кв. км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Средняя глубина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70 м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Наибольшая глубина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459 м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Средние температуры воды</a:t>
            </a:r>
            <a:r>
              <a:rPr b="1" i="1" lang="en-US" sz="16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1-3 °С в феврале, до 20 °С в августе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Соленость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6-8 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5105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fff29"/>
                </a:solidFill>
                <a:latin typeface="Arial"/>
              </a:rPr>
              <a:t>Сал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алака - наиболее массовая морская рыба в наших во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Это балтийская форма (подвид) атлантической сель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алака раза в два меньше ее по размеру (обычная длин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16-20 см), имеет меньшее число позвонков. Кр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мелкой салаки в Финском заливе попадаются круп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до 40 см длиной, рыбы, которые назы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гигантскими стремлин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тремлингов считают особой, быстрорастущей рас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балтийской сал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934320" cy="25146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1920" y="2895120"/>
            <a:ext cx="8991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Лосось балти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Наиболее известный вид лососей. Эта крупная крас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рыба достигает полутора метров в длину и 39 кг в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Тело лосося покрывает мелкая серебристая чешу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 пятна ниже боковой линии отсутствуют. Лосос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море питается мелкой рыбой и ракообразными, а вхо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в реки для нереста он перестает питаться и с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худеет. Брачный наряд выражается в потемнении т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 появлении на боках тела и голове красных и оранже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ят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095880" cy="2590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9140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29"/>
                </a:solidFill>
                <a:latin typeface="Arial"/>
              </a:rPr>
              <a:t>КУМЖ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29"/>
                </a:solidFill>
                <a:latin typeface="Arial"/>
              </a:rPr>
              <a:t>КУМЖ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беломорско -балтийский подвид обитающий в бассе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Балтийского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Отряд: Лососеобразные -Salmonifor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Семейство: Лососевые - Salmonid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Сокращается в численности популяция кумжи в бассей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Балтийского моря, представленные проходной форм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озерной форелью (озерной кумжей) и ручьевой форел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Некоторые энтузиасты разводят кумжу в домаш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условиях, используя чугунные ван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886200" cy="289548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38320" y="91404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29"/>
                </a:solidFill>
                <a:latin typeface="Arial"/>
              </a:rPr>
              <a:t>Тре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3657240"/>
            <a:ext cx="8839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Треска́, или атлантическая треска - рыба семе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тресковых. Длина тела – до 1,8 м; в промыс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реобладают рыбы длиной 40-80 см, в возрасте 3 -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пинных плавников - 3, анальных -2, на подбород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небольшой мясистый усик. Окраска спины от зеленова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оливковой до бурой с мелкими коричневыми крапин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брюхо б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105520" cy="25905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0080" y="7617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29"/>
                </a:solidFill>
                <a:latin typeface="Arial"/>
              </a:rPr>
              <a:t>КАМБ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з очень большой группы камбалообразных рыб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Финском заливе в пределах Ленинград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можно встретить два вида камбал, относящихс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двум разным семействам. Прежде всего это реч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(или, как ее иногда называют, шершавая) камб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ринадлежащая к семейству собственно камбалов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куда относится очень много видов и родов, в 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числе самые крупные из камбал - палту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4343400" cy="2971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10080" y="60948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29"/>
                </a:solidFill>
                <a:latin typeface="Arial"/>
              </a:rPr>
              <a:t>УГО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В водоемах Балтийского бассейна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нтереснейшая рыба – европейский пресноводный, т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называемый речной угорь. Относится он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единственному семейству отряда угреобраз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живущему в пресных водах. Все остальные угри (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емейства, примерно 350 видов) – морские ры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остоянно живущие в морях и океанах на боль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глубинах. Европейский пресноводный угорь имеет та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же, как и у всех угрей, змеевидной формы тел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лавает изгибаясь как змея. Брюшных плавников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м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419720" cy="2463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85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29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2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3657600" cy="297180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5T22:12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