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4DF-0F55-4BC9-A63D-AD94B344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1A2-6BD3-4A1A-A91F-E111E8DE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AE7-2FC1-4CC8-87E3-CDE1036F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90F-7939-4902-8B61-2DFFD3D8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B3E-4305-41C2-AB1C-F0316D5A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DC9-C02F-4D9B-A8C4-00522E1A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AB1-65F6-498B-861C-A2631365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19D-8982-4BA3-8691-BB7D45B1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290-C114-4D44-873A-DC83B974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5B0-2AF9-4341-BBF8-3BFCF85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5F6-FA13-4473-8729-967AC6D5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6F0-B05E-4231-9AC3-E61866A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93B4-86A8-4991-9B93-CDB0D55E1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Сильнова Екат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оспитатель МБДОУ №1 «Петуш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609480"/>
            <a:ext cx="853416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492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Eras Bold ITC"/>
              </a:rPr>
              <a:t>ОБИТАТЕЛИ БАЛТИЙСКОГО МОРЯ</a:t>
            </a:r>
            <a:endParaRPr b="1" i="1" lang="en-US" sz="4800" spc="1" strike="noStrike">
              <a:ln w="3492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Eras Bold ITC"/>
              <a:ea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3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880" y="761760"/>
            <a:ext cx="3810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3886200"/>
            <a:ext cx="3810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итатели Балтийского 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лантическая сель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алака), балти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лька, треска, камб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сось, угорь, корю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япушка, сиг, окунь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тийский тю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228600"/>
            <a:ext cx="510552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тийское море</a:t>
            </a:r>
            <a:br>
              <a:rPr sz="20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Расположение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между берегами Северной и Центральной Европы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Площадь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19 тысяч кв. км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Средняя глубина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70 м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Наибольшая глубина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59 м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Средние температуры воды</a:t>
            </a:r>
            <a:r>
              <a:rPr b="1" i="1" lang="en-US" sz="16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1-3 °С в феврале, до 20 °С в августе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Соленость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6-8 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5105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ff29"/>
                </a:solidFill>
                <a:latin typeface="Arial"/>
              </a:rPr>
              <a:t>Сал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алака - наиболее массовая морская рыба в наших во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Это балтийская форма (подвид) атлантической сель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алака раза в два меньше ее по размеру (обычная длин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16-20 см), имеет меньшее число позвонков. К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мелкой салаки в Финском заливе попадаются круп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до 40 см длиной, рыбы, которые назы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гигантскими стремлин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тремлингов считают особой, быстрорастущей рас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балтийской сал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934320" cy="25146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920" y="2895120"/>
            <a:ext cx="899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Лосось балти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Наиболее известный вид лососей. Эта крупная крас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рыба достигает полутора метров в длину и 39 кг в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Тело лосося покрывает мелкая серебристая чешу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 пятна ниже боковой линии отсутствуют. Лосос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море питается мелкой рыбой и ракообразными, а вхо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в реки для нереста он перестает питаться и с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худеет. Брачный наряд выражается в потемнении т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 появлении на боках тела и голове красных и оранже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ят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095880" cy="2590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914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29"/>
                </a:solidFill>
                <a:latin typeface="Arial"/>
              </a:rPr>
              <a:t>КУМЖ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29"/>
                </a:solidFill>
                <a:latin typeface="Arial"/>
              </a:rPr>
              <a:t>КУМЖ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беломорско -балтийский подвид обитающий в бассе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Балтийского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Отряд: Лососеобразные -Salmonifor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Семейство: Лососевые - Salmonid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Сокращается в численности популяция кумжи в бассей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Балтийского моря, представленные проходной форм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озерной форелью (озерной кумжей) и ручьевой форел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Некоторые энтузиасты разводят кумжу в домаш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условиях, используя чугунные ван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289548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38320" y="91404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29"/>
                </a:solidFill>
                <a:latin typeface="Arial"/>
              </a:rPr>
              <a:t>Тре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365724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Треска́, или атлантическая треска - рыба семе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тресковых. Длина тела – до 1,8 м; в промы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реобладают рыбы длиной 40-80 см, в возрасте 3 -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пинных плавников - 3, анальных -2, на подбород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небольшой мясистый усик. Окраска спины от зеленова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оливковой до бурой с мелкими коричневыми крапин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брюхо б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105520" cy="25905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0080" y="7617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29"/>
                </a:solidFill>
                <a:latin typeface="Arial"/>
              </a:rPr>
              <a:t>КАМБ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з очень большой группы камбалообразных рыб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Финском заливе в пределах Ленинград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можно встретить два вида камбал, относящих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двум разным семействам. Прежде всего это реч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(или, как ее иногда называют, шершавая) камб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ринадлежащая к семейству собственно камбалов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куда относится очень много видов и родов, в 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числе самые крупные из камбал - палту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4343400" cy="2971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10080" y="60948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29"/>
                </a:solidFill>
                <a:latin typeface="Arial"/>
              </a:rPr>
              <a:t>УГО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В водоемах Балтийского бассейна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нтереснейшая рыба – европейский пресноводный, т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называемый речной угорь. Относится он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единственному семейству отряда угреобраз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живущему в пресных водах. Все остальные угри (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емейства, примерно 350 видов) – морские ры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остоянно живущие в морях и океанах на боль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глубинах. Европейский пресноводный угорь имеет т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же, как и у всех угрей, змеевидной формы тел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лавает изгибаясь как змея. Брюшных плавников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м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419720" cy="2463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85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29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2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657600" cy="297180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5T22:12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