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602-0375-44CF-A149-E322C9A4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3D2-1A67-40C5-AE71-A9B3984E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E34-349C-49D6-80A9-B8D038CB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B86-08F3-485D-979C-D89B1BA3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69F-C31F-4D26-952F-A2BEFBC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5A7-40D3-4323-9586-7A3DC2A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791-EFDE-409A-9EC2-ABB9286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BF7-E3CC-4B5F-8909-1197F01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830-4377-4944-84DE-8D4AD14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22D-6774-4934-BCC9-077D365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491-718C-4238-9B0A-A025637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D2D-0704-4DAB-B9CF-162A331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185B-F36A-4708-81F5-9280C1A5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ильнова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оспитатель МБДОУ №1 «Петуш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609480"/>
            <a:ext cx="853416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492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Eras Bold ITC"/>
              </a:rPr>
              <a:t>ОБИТАТЕЛИ БАЛТИЙСКОГО МОРЯ</a:t>
            </a:r>
            <a:endParaRPr b="1" i="1" lang="en-US" sz="4800" spc="1" strike="noStrike">
              <a:ln w="3492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3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761760"/>
            <a:ext cx="3810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татели Балтийского 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лантическая сель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алака), балти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лька, треска, камб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сось, угорь, корю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япушка, сиг, окун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тийский тю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228600"/>
            <a:ext cx="510552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тийское море</a:t>
            </a:r>
            <a:br>
              <a:rPr sz="20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Расположение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между берегами Северной и Центральной Европы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Площадь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19 тысяч кв. к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редняя глубина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70 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Наибольшая глубина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459 м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редние температуры воды</a:t>
            </a:r>
            <a:r>
              <a:rPr b="1" i="1" lang="en-US" sz="16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1-3 °С в феврале, до 20 °С в августе.</a:t>
            </a:r>
            <a:br>
              <a:rPr sz="1400"/>
            </a:b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Соленость Балтийского моря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6-8 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5105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ff29"/>
                </a:solidFill>
                <a:latin typeface="Arial"/>
              </a:rPr>
              <a:t>Сал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алака - наиболее массовая морская рыба в наших в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Это балтийская форма (подвид) атлантической сель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алака раза в два меньше ее по размеру (обычная длин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16-20 см), имеет меньшее число позвонков. К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елкой салаки в Финском заливе попадаются круп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до 40 см длиной, рыбы, которые наз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гигантскими стремлин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тремлингов считают особой, быстрорастущей рас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балтийской сал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2514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289512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Лосось балти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аиболее известный вид лососей. Эта крупная крас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рыба достигает полутора метров в длину и 39 кг в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ело лосося покрывает мелкая серебристая чеш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 пятна ниже боковой линии отсутствуют. Лосос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оре питается мелкой рыбой и ракообразными, а вхо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в реки для нереста он перестает питаться и с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худеет. Брачный наряд выражается в потемнении 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 появлении на боках тела и голове красных и оранже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ят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095880" cy="2590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914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29"/>
                </a:solidFill>
                <a:latin typeface="Arial"/>
              </a:rPr>
              <a:t>КУМЖ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29"/>
                </a:solidFill>
                <a:latin typeface="Arial"/>
              </a:rPr>
              <a:t>КУМЖ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еломорско -балтийский подвид обитающий в бассе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алтийского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Отряд: Лососеобразные -Salmonifor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Семейство: Лососевые - Salmonid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Сокращается в численности популяция кумжи в бассей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Балтийского моря, представленные проходной фор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озерной форелью (озерной кумжей) и ручьевой форел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Некоторые энтузиасты разводят кумжу в дом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29"/>
                </a:solidFill>
                <a:latin typeface="Arial"/>
              </a:rPr>
              <a:t>условиях, используя чугунные ва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8954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38320" y="91404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29"/>
                </a:solidFill>
                <a:latin typeface="Arial"/>
              </a:rPr>
              <a:t>Тре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365724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реска́, или атлантическая треска - рыба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тресковых. Длина тела – до 1,8 м; в промы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реобладают рыбы длиной 40-80 см, в возрасте 3 -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пинных плавников - 3, анальных -2, на подбород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ебольшой мясистый усик. Окраска спины от зеленова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оливковой до бурой с мелкими коричневыми крапин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брюхо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105520" cy="25905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0080" y="7617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29"/>
                </a:solidFill>
                <a:latin typeface="Arial"/>
              </a:rPr>
              <a:t>КАМБ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з очень большой группы камбалообразных рыб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Финском заливе в пределах Ленинград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можно встретить два вида камбал, относящих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двум разным семействам. Прежде всего это ре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(или, как ее иногда называют, шершавая) камб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ринадлежащая к семейству собственно камбалов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куда относится очень много видов и родов, в 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числе самые крупные из камбал - палту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343400" cy="2971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10080" y="60948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29"/>
                </a:solidFill>
                <a:latin typeface="Arial"/>
              </a:rPr>
              <a:t>У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В водоемах Балтийского бассейна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нтереснейшая рыба – европейский пресноводный, т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называемый речной угорь. Относится он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единственному семейству отряда угреобраз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живущему в пресных водах. Все остальные угри (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семейства, примерно 350 видов) – морские ры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остоянно живущие в морях и океанах на бол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глубинах. Европейский пресноводный угорь имеет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же, как и у всех угрей, змеевидной формы тел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плавает изгибаясь как змея. Брюшных плавников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29"/>
                </a:solidFill>
                <a:latin typeface="Arial"/>
              </a:rPr>
              <a:t>им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19720" cy="2463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2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2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657600" cy="29718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5T22:12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