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7692-2268-4FE7-B2CF-8692B3B0F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57B7-3785-478A-A6D2-89E5DB089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0AAA-0469-4712-99B7-BD3E9F9D6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6E19-3DBE-4EE8-8891-77F163FA7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22765-E6A0-4F26-AEA0-1C8183F39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CBF50-B16B-4CE3-A827-3C02F9D21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CAC0B-AFAB-4710-83E0-A3DB5B658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D09B9-81BD-4DB0-B99D-E4191C2DA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31EB8-F15D-4E40-B6AE-1DE7CA28B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0EE8A-14D5-4ABE-858E-19096DF5F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E27C4-18AD-4884-A910-E271522B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296B-8607-4942-A75D-6CC8DC514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75E22-922F-430E-A121-EA6B01F9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7BF7E-9B26-42B7-8C11-2DF80A3B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108B0-1FEE-4C53-A6E1-D74C985F5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489D3-C6A4-4B4F-AEC1-11E1FB559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D1B44-C747-49D6-BFDC-382AF7E80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E9B8-91C9-4D20-BA19-C13579320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D01B-10B6-48A5-B211-9C9B7EDAD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0D1D-CFC5-4042-B016-DE107A504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550B-B8C1-4B72-B7B1-90C634034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5A25-7D68-4BFB-8E0B-9C408D09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35B0-2130-4AED-B38D-4543B13A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2791-45F0-4B87-BAB4-6960C1C8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173E6-42C5-40D0-83CA-295CAAF792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55F7C-669B-4CC2-9F0A-B3AA9AC0CF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Arial Black"/>
              </a:rPr>
              <a:t>«Обеспечение безопасности</a:t>
            </a:r>
            <a:br>
              <a:rPr sz="3200"/>
            </a:br>
            <a:r>
              <a:rPr b="1" lang="en-US" sz="3200" spc="-1" strike="noStrike">
                <a:solidFill>
                  <a:srgbClr val="336666"/>
                </a:solidFill>
                <a:latin typeface="Arial Black"/>
              </a:rPr>
              <a:t>несовершеннолетних»</a:t>
            </a:r>
            <a:endParaRPr b="0" i="1" lang="en-US" sz="32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ДИТЕЛЬСКОЕ СОБР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28036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66"/>
                </a:solidFill>
                <a:latin typeface="Arial Black"/>
              </a:rPr>
              <a:t>дети с саморазрушительным поведением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2491920"/>
            <a:ext cx="76960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уицид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––осознанный акт устранения из жизни под воздействием острых психотравмирующих ситуаций, при котором собственная жизнь теряет для человека смысл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98520" y="1773360"/>
            <a:ext cx="159840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6666"/>
                </a:solidFill>
                <a:latin typeface="Arial Black"/>
              </a:rPr>
              <a:t>общие причины суицида: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циально-психологическая дезадаптация, возникающая под влиянием острых психотравмирующих ситу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рушение взаимодействия личности с ее ближайшим окружени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удности в поиске своего социального л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блемы самоопредел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6666"/>
                </a:solidFill>
                <a:latin typeface="Arial Black"/>
              </a:rPr>
              <a:t>Психологический смысл подросткового суицида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755640" y="2220840"/>
            <a:ext cx="6083280" cy="3865680"/>
            <a:chOff x="755640" y="2220840"/>
            <a:chExt cx="6083280" cy="3865680"/>
          </a:xfrm>
        </p:grpSpPr>
        <p:sp>
          <p:nvSpPr>
            <p:cNvPr id="97" name="_s25619"/>
            <p:cNvSpPr/>
            <p:nvPr/>
          </p:nvSpPr>
          <p:spPr>
            <a:xfrm>
              <a:off x="3245040" y="2220840"/>
              <a:ext cx="2725560" cy="2723760"/>
            </a:xfrm>
            <a:custGeom>
              <a:avLst/>
              <a:gdLst>
                <a:gd name="textAreaLeft" fmla="*/ 0 w 2725560"/>
                <a:gd name="textAreaRight" fmla="*/ 2725920 w 2725560"/>
                <a:gd name="textAreaTop" fmla="*/ 0 h 2723760"/>
                <a:gd name="textAreaBottom" fmla="*/ 2724120 h 272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25620"/>
            <p:cNvSpPr/>
            <p:nvPr/>
          </p:nvSpPr>
          <p:spPr>
            <a:xfrm rot="7200000">
              <a:off x="3615480" y="2860920"/>
              <a:ext cx="2723760" cy="2725920"/>
            </a:xfrm>
            <a:custGeom>
              <a:avLst/>
              <a:gdLst>
                <a:gd name="textAreaLeft" fmla="*/ 0 w 2723760"/>
                <a:gd name="textAreaRight" fmla="*/ 2724120 w 2723760"/>
                <a:gd name="textAreaTop" fmla="*/ 0 h 2725920"/>
                <a:gd name="textAreaBottom" fmla="*/ 2726280 h 272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25621"/>
            <p:cNvSpPr/>
            <p:nvPr/>
          </p:nvSpPr>
          <p:spPr>
            <a:xfrm rot="14400000">
              <a:off x="2877480" y="2862720"/>
              <a:ext cx="2723760" cy="2725560"/>
            </a:xfrm>
            <a:custGeom>
              <a:avLst/>
              <a:gdLst>
                <a:gd name="textAreaLeft" fmla="*/ 0 w 2723760"/>
                <a:gd name="textAreaRight" fmla="*/ 2724120 w 2723760"/>
                <a:gd name="textAreaTop" fmla="*/ 0 h 2725560"/>
                <a:gd name="textAreaBottom" fmla="*/ 2725920 h 272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25606"/>
            <p:cNvSpPr/>
            <p:nvPr/>
          </p:nvSpPr>
          <p:spPr>
            <a:xfrm>
              <a:off x="5353200" y="2717640"/>
              <a:ext cx="1093680" cy="109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25607"/>
            <p:cNvSpPr/>
            <p:nvPr/>
          </p:nvSpPr>
          <p:spPr>
            <a:xfrm>
              <a:off x="4060800" y="4957560"/>
              <a:ext cx="1094040" cy="109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Крик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о помощ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25610"/>
            <p:cNvSpPr/>
            <p:nvPr/>
          </p:nvSpPr>
          <p:spPr>
            <a:xfrm>
              <a:off x="2766960" y="2719080"/>
              <a:ext cx="1094040" cy="10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2"/>
            <a:stretch/>
          </p:blipFill>
          <p:spPr>
            <a:xfrm>
              <a:off x="755640" y="4518000"/>
              <a:ext cx="1800360" cy="1557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"/>
          <p:cNvSpPr/>
          <p:nvPr/>
        </p:nvSpPr>
        <p:spPr>
          <a:xfrm>
            <a:off x="2290680" y="2833560"/>
            <a:ext cx="456264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трем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ривлечь вним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к своему страдани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443640" y="2925720"/>
            <a:ext cx="2376360" cy="2376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468360" y="1844640"/>
            <a:ext cx="2141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6666"/>
                </a:solidFill>
                <a:latin typeface="Arial Black"/>
              </a:rPr>
              <a:t>ОБЩИЕ ПРИЗНАКИ СУИЦИДАЛЬНОГО РИСКА:</a:t>
            </a:r>
            <a:endParaRPr b="0" lang="en-US" sz="32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60880" indent="-5608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говоры на темы самоубийств, смерти, сны с сюжетами катастроф, сны с гибелью людей или собственной гибелью, повышенный интерес к орудиям лишения себя жизни, рассуждения об утрате смысла жизни, письма или разговоры прощального характ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60880" indent="-5608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ичие опыта самоубийства в прошлом, наличие примера самоубийств в близком окружении, особенно родителей и друзей; максималистические черты характера, склонность к бескомпромиссным решениям и поступкам, деление мира на белое и чер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60880" indent="-5608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ъективная тяжесть жизненных обстоятельств: детство прошедшее в неблагополучной семье; плохие отношения с близкими в данный период; потеря дорогого человека, общественное отвержение, утрата идеалов или ве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60880" indent="-5608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нижение личностных ресурсов, позволяющих противостоять трудностям: депрессия, хронические стрессовые состояния, насилие в близком окружении, неопытность и неумение преодолевать труд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0" i="1" lang="en-US" sz="3200" spc="-1" strike="noStrike">
                <a:solidFill>
                  <a:srgbClr val="336666"/>
                </a:solidFill>
                <a:latin typeface="Arial Black"/>
              </a:rPr>
              <a:t>Суицидальные подростки в сравнении с остальными детьми:</a:t>
            </a:r>
            <a:endParaRPr b="0" lang="en-US" sz="3200" spc="-1" strike="noStrike">
              <a:solidFill>
                <a:srgbClr val="336666"/>
              </a:solidFill>
              <a:latin typeface="Arial Black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724120" y="2290680"/>
            <a:ext cx="3772080" cy="3266640"/>
            <a:chOff x="2724120" y="2290680"/>
            <a:chExt cx="3772080" cy="3266640"/>
          </a:xfrm>
        </p:grpSpPr>
        <p:sp>
          <p:nvSpPr>
            <p:cNvPr id="111" name="_s27654"/>
            <p:cNvSpPr/>
            <p:nvPr/>
          </p:nvSpPr>
          <p:spPr>
            <a:xfrm flipV="1">
              <a:off x="4232160" y="2290680"/>
              <a:ext cx="756000" cy="653760"/>
            </a:xfrm>
            <a:custGeom>
              <a:avLst/>
              <a:gdLst>
                <a:gd name="textAreaLeft" fmla="*/ 271080 w 756000"/>
                <a:gd name="textAreaRight" fmla="*/ 484920 w 756000"/>
                <a:gd name="textAreaTop" fmla="*/ 234360 h 653760"/>
                <a:gd name="textAreaBottom" fmla="*/ 419400 h 65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97cdcc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27655"/>
            <p:cNvSpPr/>
            <p:nvPr/>
          </p:nvSpPr>
          <p:spPr>
            <a:xfrm flipV="1">
              <a:off x="3855960" y="2944080"/>
              <a:ext cx="1508400" cy="651960"/>
            </a:xfrm>
            <a:custGeom>
              <a:avLst/>
              <a:gdLst>
                <a:gd name="textAreaLeft" fmla="*/ 331560 w 1508400"/>
                <a:gd name="textAreaRight" fmla="*/ 1176840 w 1508400"/>
                <a:gd name="textAreaTop" fmla="*/ 143280 h 651960"/>
                <a:gd name="textAreaBottom" fmla="*/ 508680 h 65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7cdcc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мене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Удовлетворен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жизнью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27657"/>
            <p:cNvSpPr/>
            <p:nvPr/>
          </p:nvSpPr>
          <p:spPr>
            <a:xfrm flipV="1">
              <a:off x="3478320" y="3597120"/>
              <a:ext cx="2263680" cy="653760"/>
            </a:xfrm>
            <a:custGeom>
              <a:avLst/>
              <a:gdLst>
                <a:gd name="textAreaLeft" fmla="*/ 392760 w 2263680"/>
                <a:gd name="textAreaRight" fmla="*/ 1870920 w 2263680"/>
                <a:gd name="textAreaTop" fmla="*/ 113400 h 653760"/>
                <a:gd name="textAreaBottom" fmla="*/ 540360 h 65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97cdcc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в межличностных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отношения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более ранимы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27659"/>
            <p:cNvSpPr/>
            <p:nvPr/>
          </p:nvSpPr>
          <p:spPr>
            <a:xfrm flipV="1">
              <a:off x="3102120" y="4250520"/>
              <a:ext cx="3016080" cy="651960"/>
            </a:xfrm>
            <a:custGeom>
              <a:avLst/>
              <a:gdLst>
                <a:gd name="textAreaLeft" fmla="*/ 453600 w 3016080"/>
                <a:gd name="textAreaRight" fmla="*/ 2562480 w 3016080"/>
                <a:gd name="textAreaTop" fmla="*/ 97920 h 651960"/>
                <a:gd name="textAreaBottom" fmla="*/ 554040 h 65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97cdcc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более склонны в проявлении чувст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27663"/>
            <p:cNvSpPr/>
            <p:nvPr/>
          </p:nvSpPr>
          <p:spPr>
            <a:xfrm flipV="1">
              <a:off x="2724120" y="4903560"/>
              <a:ext cx="3772080" cy="653760"/>
            </a:xfrm>
            <a:custGeom>
              <a:avLst/>
              <a:gdLst>
                <a:gd name="textAreaLeft" fmla="*/ 515160 w 3772080"/>
                <a:gd name="textAreaRight" fmla="*/ 3256920 w 3772080"/>
                <a:gd name="textAreaTop" fmla="*/ 89280 h 653760"/>
                <a:gd name="textAreaBottom" fmla="*/ 564480 h 65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97cdcc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их настроение тесно связано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со степенью личной свободы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уверенности в себе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удовлетворенности от учебы.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55640" y="1916280"/>
            <a:ext cx="2664000" cy="1647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940360" y="1768320"/>
            <a:ext cx="2303640" cy="1717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6659640" y="4505400"/>
            <a:ext cx="2160360" cy="1630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684360" y="4268880"/>
            <a:ext cx="194292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Arial Black"/>
              </a:rPr>
              <a:t>КАК ПОМОЧЬ</a:t>
            </a:r>
            <a:br>
              <a:rPr sz="3200"/>
            </a:br>
            <a:endParaRPr b="0" lang="en-US" sz="3200" spc="-1" strike="noStrike">
              <a:solidFill>
                <a:srgbClr val="336666"/>
              </a:solidFill>
              <a:latin typeface="Arial Black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684440" y="2062080"/>
            <a:ext cx="5851440" cy="3439800"/>
            <a:chOff x="1684440" y="2062080"/>
            <a:chExt cx="5851440" cy="3439800"/>
          </a:xfrm>
        </p:grpSpPr>
        <p:sp>
          <p:nvSpPr>
            <p:cNvPr id="122" name="_s22534"/>
            <p:cNvSpPr/>
            <p:nvPr/>
          </p:nvSpPr>
          <p:spPr>
            <a:xfrm>
              <a:off x="3853080" y="2590560"/>
              <a:ext cx="1514160" cy="1514160"/>
            </a:xfrm>
            <a:prstGeom prst="ellipse">
              <a:avLst/>
            </a:prstGeom>
            <a:solidFill>
              <a:srgbClr val="d6e0e0">
                <a:alpha val="50000"/>
              </a:srgbClr>
            </a:solidFill>
            <a:ln w="4680">
              <a:solidFill>
                <a:srgbClr val="d6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22535"/>
            <p:cNvSpPr/>
            <p:nvPr/>
          </p:nvSpPr>
          <p:spPr>
            <a:xfrm>
              <a:off x="3853080" y="2062080"/>
              <a:ext cx="151416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ПОДЧЕРКИВАЙТЕ ВРЕМЕННЫ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ХАРАКТЕР ПРОБЛЕ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22536"/>
            <p:cNvSpPr/>
            <p:nvPr/>
          </p:nvSpPr>
          <p:spPr>
            <a:xfrm>
              <a:off x="4400640" y="2987640"/>
              <a:ext cx="1514520" cy="151416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46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22537"/>
            <p:cNvSpPr/>
            <p:nvPr/>
          </p:nvSpPr>
          <p:spPr>
            <a:xfrm>
              <a:off x="6021360" y="3087720"/>
              <a:ext cx="151452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ВЫСЛУШИВАЙТ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22538"/>
            <p:cNvSpPr/>
            <p:nvPr/>
          </p:nvSpPr>
          <p:spPr>
            <a:xfrm>
              <a:off x="4192560" y="3632040"/>
              <a:ext cx="1514520" cy="1514160"/>
            </a:xfrm>
            <a:prstGeom prst="ellipse">
              <a:avLst/>
            </a:prstGeom>
            <a:solidFill>
              <a:srgbClr val="336666">
                <a:alpha val="50000"/>
              </a:srgbClr>
            </a:solidFill>
            <a:ln w="468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22539"/>
            <p:cNvSpPr/>
            <p:nvPr/>
          </p:nvSpPr>
          <p:spPr>
            <a:xfrm>
              <a:off x="5481720" y="5124240"/>
              <a:ext cx="1514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ОБСУЖДАЙТ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22543"/>
            <p:cNvSpPr/>
            <p:nvPr/>
          </p:nvSpPr>
          <p:spPr>
            <a:xfrm>
              <a:off x="3514680" y="3633840"/>
              <a:ext cx="1514520" cy="1513800"/>
            </a:xfrm>
            <a:prstGeom prst="ellipse">
              <a:avLst/>
            </a:prstGeom>
            <a:solidFill>
              <a:srgbClr val="cccc99">
                <a:alpha val="50000"/>
              </a:srgbClr>
            </a:solidFill>
            <a:ln w="468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22544"/>
            <p:cNvSpPr/>
            <p:nvPr/>
          </p:nvSpPr>
          <p:spPr>
            <a:xfrm>
              <a:off x="2222640" y="5122800"/>
              <a:ext cx="151452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БУДЬТ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ВНИМАТЕЛЬН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22541"/>
            <p:cNvSpPr/>
            <p:nvPr/>
          </p:nvSpPr>
          <p:spPr>
            <a:xfrm>
              <a:off x="3303720" y="2989080"/>
              <a:ext cx="1514520" cy="1514160"/>
            </a:xfrm>
            <a:prstGeom prst="ellipse">
              <a:avLst/>
            </a:prstGeom>
            <a:solidFill>
              <a:srgbClr val="cccc99">
                <a:alpha val="50000"/>
              </a:srgbClr>
            </a:solidFill>
            <a:ln w="468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22542"/>
            <p:cNvSpPr/>
            <p:nvPr/>
          </p:nvSpPr>
          <p:spPr>
            <a:xfrm>
              <a:off x="1684440" y="3085920"/>
              <a:ext cx="1514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ЗАДАВАЙТ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ВОПРОС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8T21:39:00Z</dcterms:created>
  <dc:creator>User</dc:creator>
  <dc:description/>
  <dc:language>en-US</dc:language>
  <cp:lastModifiedBy>Крутовская</cp:lastModifiedBy>
  <dcterms:modified xsi:type="dcterms:W3CDTF">2009-02-23T00:04:01Z</dcterms:modified>
  <cp:revision>5</cp:revision>
  <dc:subject/>
  <dc:title>Слайд 1</dc:title>
</cp:coreProperties>
</file>