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404-2EDD-4998-9CD5-03E23C85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C30-7A74-4BAD-B72F-15CEF766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E2A-A74A-413E-B9C7-3478E825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196-3B95-46A2-B4BB-FCECDE54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83E-B8AC-4B9F-9C5B-2C12B9CE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115B-3244-4774-8B19-B36FCFBA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0D9E-4658-4D3D-8866-07EF756A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FD4B-B2ED-4E67-8481-57FCAA5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C40-22B6-4B41-B1D4-66FCB8BD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C35C-9EED-47C1-9955-2C2ED11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108-C053-4C2F-9874-20E62684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9FE-6F96-45DC-8BD6-2FCAA167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865C-62F6-489D-B3C8-7B7728F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C3EE-075C-49A2-934D-DAC9669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D6E4-FE73-4D11-8769-A88C3F8D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841C-EC03-4CEB-AF55-29D5966A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B977-A29D-4867-9A1A-E5BC1272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296-8C3D-42E4-A476-B2915577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F5F-703C-4054-87EA-E1CEDD3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4AA-77CB-4725-94D6-72CE317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F72-EE5C-4C5A-96E9-4EBE8D76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9DC-9F1A-4F13-9876-5863EEB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F61-C938-490B-878C-BDA8098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59F-DD99-40B2-9646-5F490978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5FC0-FA24-43E5-961E-97E90ECA0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1B0-845C-4978-9CF3-D7E2BE74F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«Обеспечение безопасности</a:t>
            </a:r>
            <a:br>
              <a:rPr sz="32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несовершеннолетних»</a:t>
            </a:r>
            <a:endParaRPr b="0" i="1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80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дети с саморазрушительным поведением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491920"/>
            <a:ext cx="76960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уици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–осознанный акт устранения из жизни под воздействием острых психотравмирующих ситуаций, при котором собственная жизнь теряет для человека смыс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8520" y="1773360"/>
            <a:ext cx="15984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общие причины суицида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ая дезадаптация, возникающая под влиянием острых психотравмирующих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взаимодействия личности с ее ближайшим окру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в поиске своего социальн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самоо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Психологический смысл подросткового суицид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55640" y="2220840"/>
            <a:ext cx="6083280" cy="3865680"/>
            <a:chOff x="755640" y="2220840"/>
            <a:chExt cx="6083280" cy="3865680"/>
          </a:xfrm>
        </p:grpSpPr>
        <p:sp>
          <p:nvSpPr>
            <p:cNvPr id="97" name="_s25619"/>
            <p:cNvSpPr/>
            <p:nvPr/>
          </p:nvSpPr>
          <p:spPr>
            <a:xfrm>
              <a:off x="3245040" y="2220840"/>
              <a:ext cx="2725560" cy="2723760"/>
            </a:xfrm>
            <a:custGeom>
              <a:avLst/>
              <a:gdLst>
                <a:gd name="textAreaLeft" fmla="*/ 0 w 2725560"/>
                <a:gd name="textAreaRight" fmla="*/ 2725920 w 2725560"/>
                <a:gd name="textAreaTop" fmla="*/ 0 h 2723760"/>
                <a:gd name="textAreaBottom" fmla="*/ 2724120 h 27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5620"/>
            <p:cNvSpPr/>
            <p:nvPr/>
          </p:nvSpPr>
          <p:spPr>
            <a:xfrm rot="7200000">
              <a:off x="3615480" y="2860920"/>
              <a:ext cx="2723760" cy="272592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2725920"/>
                <a:gd name="textAreaBottom" fmla="*/ 2726280 h 27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5621"/>
            <p:cNvSpPr/>
            <p:nvPr/>
          </p:nvSpPr>
          <p:spPr>
            <a:xfrm rot="14400000">
              <a:off x="2877480" y="2862720"/>
              <a:ext cx="2723760" cy="272556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2725560"/>
                <a:gd name="textAreaBottom" fmla="*/ 2725920 h 27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5606"/>
            <p:cNvSpPr/>
            <p:nvPr/>
          </p:nvSpPr>
          <p:spPr>
            <a:xfrm>
              <a:off x="5353200" y="2717640"/>
              <a:ext cx="109368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5607"/>
            <p:cNvSpPr/>
            <p:nvPr/>
          </p:nvSpPr>
          <p:spPr>
            <a:xfrm>
              <a:off x="4060800" y="4957560"/>
              <a:ext cx="109404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ри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 помощ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5610"/>
            <p:cNvSpPr/>
            <p:nvPr/>
          </p:nvSpPr>
          <p:spPr>
            <a:xfrm>
              <a:off x="2766960" y="2719080"/>
              <a:ext cx="1094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55640" y="4518000"/>
              <a:ext cx="1800360" cy="155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2290680" y="2833560"/>
            <a:ext cx="4562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ем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влечь вним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 своему страда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2925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214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ОБЩИЕ ПРИЗНАКИ СУИЦИДАЛЬНОГО РИСКА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оры на темы самоубийств, смерти, сны с сюжетами катастроф, сны с гибелью людей или собственной гибелью, повышенный интерес к орудиям лишения себя жизни, рассуждения об утрате смысла жизни, письма или разговоры прощаль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опыта самоубийства в прошлом, наличие примера самоубийств в близком окружении, особенно родителей и друзей; максималистические черты характера, склонность к бескомпромиссным решениям и поступкам, деление мира на белое и чер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ивная тяжесть жизненных обстоятельств: детство прошедшее в неблагополучной семье; плохие отношения с близкими в данный период; потеря дорогого человека, общественное отвержение, утрата идеалов или в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личностных ресурсов, позволяющих противостоять трудностям: депрессия, хронические стрессовые состояния, насилие в близком окружении, неопытность и неумение преодолевать тру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Суицидальные подростки в сравнении с остальными детьми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24120" y="2290680"/>
            <a:ext cx="3772080" cy="3266640"/>
            <a:chOff x="2724120" y="2290680"/>
            <a:chExt cx="3772080" cy="3266640"/>
          </a:xfrm>
        </p:grpSpPr>
        <p:sp>
          <p:nvSpPr>
            <p:cNvPr id="111" name="_s27654"/>
            <p:cNvSpPr/>
            <p:nvPr/>
          </p:nvSpPr>
          <p:spPr>
            <a:xfrm flipV="1">
              <a:off x="4232160" y="2290680"/>
              <a:ext cx="756000" cy="653760"/>
            </a:xfrm>
            <a:custGeom>
              <a:avLst/>
              <a:gdLst>
                <a:gd name="textAreaLeft" fmla="*/ 271080 w 756000"/>
                <a:gd name="textAreaRight" fmla="*/ 484920 w 756000"/>
                <a:gd name="textAreaTop" fmla="*/ 234360 h 653760"/>
                <a:gd name="textAreaBottom" fmla="*/ 41940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7655"/>
            <p:cNvSpPr/>
            <p:nvPr/>
          </p:nvSpPr>
          <p:spPr>
            <a:xfrm flipV="1">
              <a:off x="3855960" y="2944080"/>
              <a:ext cx="1508400" cy="651960"/>
            </a:xfrm>
            <a:custGeom>
              <a:avLst/>
              <a:gdLst>
                <a:gd name="textAreaLeft" fmla="*/ 331560 w 1508400"/>
                <a:gd name="textAreaRight" fmla="*/ 1176840 w 1508400"/>
                <a:gd name="textAreaTop" fmla="*/ 143280 h 651960"/>
                <a:gd name="textAreaBottom" fmla="*/ 508680 h 65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ен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довлетворе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жизнью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7657"/>
            <p:cNvSpPr/>
            <p:nvPr/>
          </p:nvSpPr>
          <p:spPr>
            <a:xfrm flipV="1">
              <a:off x="3478320" y="3597120"/>
              <a:ext cx="2263680" cy="653760"/>
            </a:xfrm>
            <a:custGeom>
              <a:avLst/>
              <a:gdLst>
                <a:gd name="textAreaLeft" fmla="*/ 392760 w 2263680"/>
                <a:gd name="textAreaRight" fmla="*/ 1870920 w 2263680"/>
                <a:gd name="textAreaTop" fmla="*/ 113400 h 653760"/>
                <a:gd name="textAreaBottom" fmla="*/ 54036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в межличност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тнош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более раним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7659"/>
            <p:cNvSpPr/>
            <p:nvPr/>
          </p:nvSpPr>
          <p:spPr>
            <a:xfrm flipV="1">
              <a:off x="3102120" y="4250520"/>
              <a:ext cx="3016080" cy="651960"/>
            </a:xfrm>
            <a:custGeom>
              <a:avLst/>
              <a:gdLst>
                <a:gd name="textAreaLeft" fmla="*/ 453600 w 3016080"/>
                <a:gd name="textAreaRight" fmla="*/ 2562480 w 3016080"/>
                <a:gd name="textAreaTop" fmla="*/ 97920 h 651960"/>
                <a:gd name="textAreaBottom" fmla="*/ 554040 h 65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более склонны в проявлении чувст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7663"/>
            <p:cNvSpPr/>
            <p:nvPr/>
          </p:nvSpPr>
          <p:spPr>
            <a:xfrm flipV="1">
              <a:off x="2724120" y="4903560"/>
              <a:ext cx="3772080" cy="653760"/>
            </a:xfrm>
            <a:custGeom>
              <a:avLst/>
              <a:gdLst>
                <a:gd name="textAreaLeft" fmla="*/ 515160 w 3772080"/>
                <a:gd name="textAreaRight" fmla="*/ 3256920 w 3772080"/>
                <a:gd name="textAreaTop" fmla="*/ 89280 h 653760"/>
                <a:gd name="textAreaBottom" fmla="*/ 56448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х настроение тесно связа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о степенью личной свобод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веренности в себ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довлетворенности от учебы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1768320"/>
            <a:ext cx="2303640" cy="1717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659640" y="4505400"/>
            <a:ext cx="2160360" cy="163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4360" y="42688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 Black"/>
              </a:rPr>
              <a:t>КАК ПОМОЧЬ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84440" y="2062080"/>
            <a:ext cx="5851440" cy="3439800"/>
            <a:chOff x="1684440" y="2062080"/>
            <a:chExt cx="5851440" cy="3439800"/>
          </a:xfrm>
        </p:grpSpPr>
        <p:sp>
          <p:nvSpPr>
            <p:cNvPr id="122" name="_s22534"/>
            <p:cNvSpPr/>
            <p:nvPr/>
          </p:nvSpPr>
          <p:spPr>
            <a:xfrm>
              <a:off x="3853080" y="2590560"/>
              <a:ext cx="1514160" cy="1514160"/>
            </a:xfrm>
            <a:prstGeom prst="ellipse">
              <a:avLst/>
            </a:prstGeom>
            <a:solidFill>
              <a:srgbClr val="d6e0e0">
                <a:alpha val="50000"/>
              </a:srgbClr>
            </a:solidFill>
            <a:ln w="468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35"/>
            <p:cNvSpPr/>
            <p:nvPr/>
          </p:nvSpPr>
          <p:spPr>
            <a:xfrm>
              <a:off x="3853080" y="2062080"/>
              <a:ext cx="15141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ДЧЕРКИВАЙТЕ ВРЕМ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ХАРАКТЕР 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2536"/>
            <p:cNvSpPr/>
            <p:nvPr/>
          </p:nvSpPr>
          <p:spPr>
            <a:xfrm>
              <a:off x="4400640" y="2987640"/>
              <a:ext cx="1514520" cy="1514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2537"/>
            <p:cNvSpPr/>
            <p:nvPr/>
          </p:nvSpPr>
          <p:spPr>
            <a:xfrm>
              <a:off x="6021360" y="3087720"/>
              <a:ext cx="151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СЛУШИВ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38"/>
            <p:cNvSpPr/>
            <p:nvPr/>
          </p:nvSpPr>
          <p:spPr>
            <a:xfrm>
              <a:off x="4192560" y="3632040"/>
              <a:ext cx="1514520" cy="1514160"/>
            </a:xfrm>
            <a:prstGeom prst="ellipse">
              <a:avLst/>
            </a:prstGeom>
            <a:solidFill>
              <a:srgbClr val="336666">
                <a:alpha val="50000"/>
              </a:srgbClr>
            </a:solidFill>
            <a:ln w="4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2539"/>
            <p:cNvSpPr/>
            <p:nvPr/>
          </p:nvSpPr>
          <p:spPr>
            <a:xfrm>
              <a:off x="5481720" y="512424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СУЖД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3"/>
            <p:cNvSpPr/>
            <p:nvPr/>
          </p:nvSpPr>
          <p:spPr>
            <a:xfrm>
              <a:off x="3514680" y="3633840"/>
              <a:ext cx="1514520" cy="151380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2544"/>
            <p:cNvSpPr/>
            <p:nvPr/>
          </p:nvSpPr>
          <p:spPr>
            <a:xfrm>
              <a:off x="2222640" y="5122800"/>
              <a:ext cx="151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УД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ИМАТЕЛЬ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2541"/>
            <p:cNvSpPr/>
            <p:nvPr/>
          </p:nvSpPr>
          <p:spPr>
            <a:xfrm>
              <a:off x="3303720" y="2989080"/>
              <a:ext cx="1514520" cy="151416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2542"/>
            <p:cNvSpPr/>
            <p:nvPr/>
          </p:nvSpPr>
          <p:spPr>
            <a:xfrm>
              <a:off x="1684440" y="308592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ДАВАЙ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ПРОС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9:00Z</dcterms:created>
  <dc:creator>User</dc:creator>
  <dc:description/>
  <dc:language>en-US</dc:language>
  <cp:lastModifiedBy>Крутовская</cp:lastModifiedBy>
  <dcterms:modified xsi:type="dcterms:W3CDTF">2009-02-23T00:04:01Z</dcterms:modified>
  <cp:revision>5</cp:revision>
  <dc:subject/>
  <dc:title>Слайд 1</dc:title>
</cp:coreProperties>
</file>