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1D5-303A-4413-BDDC-1B2B6148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890-0866-44CC-BDF5-086E5357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803-C509-40E7-A2E6-42F0FB02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276-1551-4234-A8FC-967C651E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54BC-B172-4DDB-9CF9-F301E169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1F87-9E8C-48A6-A5C1-EA907068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C486-D1C6-4BFF-868A-7827F648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001B-B3A8-4C65-A51E-6E00DBBF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918F-66C0-4E34-8E7C-35E3349F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7D38-5D42-4B53-ACB4-B34FA17E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0F6C-8031-4659-BB0D-20AEA97D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2D3-C362-4D55-B341-6BA6964D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CA1B-F5E6-40E5-9D56-6ED89CA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B07F-7B41-4DC7-AE9F-71CC7E13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034E-8096-41BC-A200-448A1B6A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DDB4-74DD-4521-AB18-09FA15EF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B073-E4D5-48F1-A24E-2096236F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7FB-01E9-4BEA-9B0F-4410B471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447-ECCD-4232-BA02-2B1EA8C9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F92-60A6-4E3B-89C7-B0A8F312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3AA-D473-4480-BCA2-995A700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DD9-B550-47F7-88CE-099C36ED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BEC-A264-4505-B247-0838ADC4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B80-7EBB-4043-9B46-1AE61A45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9393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34C8-4106-4D47-B3C9-1F5BE739F6D3}" type="slidenum">
              <a:rPr b="0" lang="ru-RU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59C3-48B6-4EF2-AD70-1D56808031F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ормативно-правовое и методическо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провождение деятельнос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лассного руководите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икова Ю.В., старший преподаватель кафедры воспитания и дополнительного образования ГОУ ДПО ЧИППК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выплаты в городской и сельской мест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а Минобрнауки Росс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08.02.06 №17ю-50-9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 расчете размера вознаграждения за выполнение функций классного руководства в классах с пониженной наполняемостью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уменьшением размера вознаграждения в названных выше классах понимается расчет пропорционально численности обучающихся в соответствии с формуло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00 руб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или 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00 руб.*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ежемесячное вознаграждение за классное руководство в одном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количество обучающихся в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счетная наполняемость полнокомплектного класс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М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 человек для классов ОУ, расположенных в городах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=1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для классов ОУ, расположенных в сельской местнос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вая основа вознаграждения за классное руковод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ответствии с п. 3 Правил в размере субсидии, предоставляемой субъекту РФ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выплату вознаграждения за классное руководство, учитываются районные коэффициенты, установленные Правительством РФ, а также отчисления по единому социальному налогу, страховым взнос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обязательное пенсионное страхование и страховым взносам по обязательному социальному страхованию от несчастных случаев на производстве и профессиональных заболева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значает, что по сво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вой природе вознаграждение за классное руководство является не компенсационной выплат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ак зачастую пытаются толковать понятие «вознаграждение», а являетс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ной частью заработной платы педагогического работника со всеми вытекающими правовыми последствиями, а име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вая основа вознаграждения за классное руковод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лачивается одновременно с выплатой заработной пла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дагогическим работни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ак и другие доходы налогоплательщика, полученные им как в денежной, так и в натуральной форме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ываются при определении налоговой базы по налогу на доходы физических ли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педагогически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ботникам за выполнение функций классных руководителей долж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лачиваться во всех классах, входящих в структуру общеобразователь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чреждений, предусмотренных в указанных Правилах, в т. ч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лассах с очно- заочной (вечерней), заочной формой обу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учающиеся в форме семейного образования и экстерната учитываются в списочном составе соответствующих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рядок возложения функций классного руководителя на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ответств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. 5 постановления Правительства РФ от 30.12.05 № 854 п. 66 «Типового положения об общеобразовательном учреждени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полнен абзацем, в соответствии с которым на педагогического работника ОУ с его согласия приказом руководителя ОУ могут возлагаться функции классного руководителя по организации и координации воспитательной работы с обучающимися в клас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возложения функций классного руководител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едагогических рабо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озложении на педагогических рабо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их согласия функций классного руководителя по организации и координации воспитательной работы с обучающимися в классе учитываются обеспеченность ОУ соответствующими кадрами, а также другие условия работы в данном О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ндидатуры педагогических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ые в следующем учебном году будут осуществлять функц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должн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яться одновременно с распределением учебной на грузки по окончании учебного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ение возложенных в начале учебного года обязанностей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 не должно прекращаться по инициативе работодателя в течение учебного года, за исключением случаев сокращения количества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возложения функций классного руководител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едагогических рабо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лучае необходимости обязанности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гу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ж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лагаться на учителей из числа руководящи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други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ще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неисполнение или ненадлежащее исполнение педагогическим работник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его вине функций классного руководителя работодатель име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принять решение о прекращении выполнения работником этих обязанностей и выплаты доплаты и вознагра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олнение работы по классному руководству в двух класса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недостаточном количестве педагогических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при отсутствии желания у отдельных из них выполнять работу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ному руководств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э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нности могут возлагаться на одного педагогического работника с его согласия в двух класса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 т. ч. временно в связи с болезнью педагогического работника, поскольку каких-либо ограничений по выполнению функций классных руководителей более чем в одном классе не установле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о же время имеющая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ка возложения функций по классному руководству в одном кла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классе-комплекте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двух и более педагогических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 целью разделения между ними вознаграждения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имеет правовых основ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применяться не долж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числ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редней заработной пла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п. 2 Положения об особенностях порядка исчисления средней заработной платы, утв. постановлением Правительства РФ от 11.04.03 № 213 "Об особенностях порядка исчисления средней заработной платы"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 расчете среднего заработка для всех случаев его определения учитываются все предусмотренные системой оплаты труда виды выплат, применяемые в организации независимо от источников этих выплат. К таким выплатам относится и вознаграждение з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ое учитываться  пр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числении СЗ для оплаты ежегодных основных и дополнительных отпусков и выплаты компенсации за неиспользованный отпус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также дополнительных отпусков в связи с обучение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ении С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охраняемого за педагогическими работниками ОУ по основному месту работы, направленными с отрывом от основной работ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повышения квалификации в образовательные учреждения ДПО (повышения квалификации) специалис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оскольку сохранение среднего заработка в указанном случае предусмотре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 26Типового положения об образовательном учреждении ДПО (повышения квалификации) специалистов (утв. Постановлением Правительства РФ от 26.06.95 № 610"0б утверждении Типового положения об образовательном учреждении ДПО (повышения квалификации) специалистов" (с изм. и доп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никулярное учебное вре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оды осенних, зимних, весенних и летних каникул для обучающихся, воспитанников ОУ и не совпадающих с ежегодными оплачиваемыми основными и дополнительными отпусками работ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такж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оды отмены учебных занят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бразовательного процесса) для обучающихся по санитарно-эпидемиологическим, климатическим и другим основания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вляются для работников рабочим времен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членского профсоюзного вз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ответствии с п. 52 Устава Профсоюза работников народного образования и науки Р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жемесячный членский взнос взимается из месячного заработка члена профсою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сходя из того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награждение за классное руководство является составной частью заработной пл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азмер членского профсоюзного взноса педагогических работников, являющихся членами профсоюза, на которых возложены функции классного руководителя, определяется с учетом суммы вознаграждения за классное руковод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ства для выплаты вознагра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выполнение функций классного руководителя педагогическим работникам государственных и муниципальных общеобразовательных учреждений, выплачиваемое за счет средств федерального бюджета в виде целевых субсидий бюджетам субъектов РФ,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авливается дополнительно к доплатам, предусмотренным за эту работу п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оянию на 31 декабря 2005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кой порядок определен п. 4.6 «Единых рекомендаций по системам оплаты труда работников организаций, финансируемых из федерального, региональных и местных бюджетов, на 2006 год», утв. Российской трехсторонней комиссией по регулированию социально-трудовых отношений в соответствии со ст. 135 Трудового кодекса РФ в целях обеспечения единых подходов к регулированию заработной платы работников организаций бюджетной сфе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числение пособий по временной нетрудоспособности, беременности и рода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КР должно учитываться при исчислении пособий по временной нетрудоспособности, по беременности и родам, поскольку в соответствии с п. 84 «Положения о порядке обеспечения пособиями по государственному социальному страхованию», утв. постановлением Президиума ВЦСПС от 12.11.84 № 13-6 (с изм. и доп.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 определении указанных пособий педагогическим работникам учитывается весь заработок по месту основной работы, начисленный за 12 календарных месяцев, предшествующих месяцу наступления нетрудоспособности, отпуска по беременности и родам, включая дополнительную оплату за педагогическую работу, которая не считается совместительством, к которой относится доплата и вознаграждение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5000"/>
              </a:lnSpc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огичный порядо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яется также при определении размера пособия по временной нетрудоспособности за первые 2 дня временной нетрудоспособности, выплачиваемого за счет средств работодате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ирование рабочего времени классного руководите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регулировании порядка установления вознагражд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классное руковод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о иметь в виду, что для выполнения функций классного руководителя действующим законодательств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установлено каких-либо норм времени работы в день, в неделю, в месяц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ядок выполнения указанной работы определяется общешкольными планами и графиками, личными планами педагогического работника в зависимости от конкретных обстоятельств и мероприятий, связанных с воспитательной работ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ассный воспита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ность "классный воспитатель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ла введена в начале 90-х гг. в ходе эксперимента, целью которого являлось упразднение доплат з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плачиваемых учителям за осуществление этой дополнительной работы, и введение в штат ОУ работников с наименованием должности "классный воспитатель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лата вознаграждения за выполн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й классного руководите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язана с возлож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педагогического работника с его соглас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функ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организации и координации воспитательной работы с обучающимися в класс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дополнительных обязанностей, т. е. не входящих в обязанности по основной долж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это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обоснова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лачивать указанное вознаграждение работникам, осуществляющим такую работу на условиях занятия штатной дол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одическое сопровождение деятель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ного руководите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 осуществляемой классным руководителем опреде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24 июля 1998 г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4-Ф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"Об основных гарантиях прав ребенка в Российской Федерации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ьмами Минобрнауки   РФ от 15.12.2002 №30-51-914/16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от 15.10.2003г.  №24-51-212/13-28-31-793/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«Методические рекомендации по аттестационной и аккредитационной оценке воспитательной деятельности образовательных учреждений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9320" indent="-409320"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 регламентирую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ическими рекомендациями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 осуществлении функций классного руководителя  педагогическими работниками  государстве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ых учреждений субъектов Российской Федерации и муниципальных общеобразовательных учреждений» утвержденных приказом Минобрнауки РФ От 3 февраля 2006г. № 21, которы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в соответствии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м Правительства Российской Федерации от 30 декабря    2005 г. № 854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 порядке предоставления в 2006 году финансовой помощ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юджетам субъектов Российской Федерации в виде субсидий на выплату вознаграждения за выполнение функций классного руководителя педагогическим работникам государственных общеобразовательных школ субъектов Российской Федерации и муниципальных общеобразовательных школ” (Российская газета, 14 января 2006г.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ные виды гарантированных услуг по воспитани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спитательные ценност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ждение гарантирует воспитательный процесс, ориентированный на ценности демократического общества , общечеловеческие, нравственные приоритеты, гармонизацию взаимоотношений ребенка с окружающим социумом, природой, самим собой; формирование у школьников готовности к самостоятельному выбору в пользу здорового образа жизни, образования, профессионализма, самореализации в общественно и личностно значимой творческой деятельности, таких ценностей, как семья, Отечество, культура, мирное сосуществование народов разных стран, межэтническое, экологическое благополучие; формирование у школьников уважения к прошлому и настоящему своего народа, традициям и культуре, старшим поколениям, родителям, толерантности, ответственности за будущее своей страны и современной цивилизации в це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ные виды гарантированных услуг по воспитани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воспитания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ждением гарантируется использование воспитательного потенциала основных и дополнительных образовательных программ и включение обучающихся в разнообразную, соответствующую их возрастным и индивидуальным особенностям деятельность, направленную на формирование у дет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твенности, патриотизма, уважения к правам и свободам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ений о нравственности и опыта взаимодействия со сверстниками и взрослыми в соответствии с общепринятыми нравственными нормами, приобщение к системе культурных ценност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воспитания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любия, готовности к осознанному выбору будущей профессии, стремления к профессионализму, конкурентоспособн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логической культуры, предполагающей ценностное отношение к природе, людям, собственному здоровью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стетического отношения к окружающему миру, умения видеть и понимать прекрасное, потребности и умения выражать себя в различных, доступных и наиболее привлекательных для ребенка видах творческой деятельн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воспитания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онной культуры, активной жизненной позиции, лидерских качеств, организаторских умений и навыков, опыта руководства небольшой социальной группой и сотрудничества со сверстниками и взрослыми, коммуникативных умений и навыков, навыков самоорганизации, проектирования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ческой культуры, навыков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 – правовой бл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рование воспитывающей сре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ждение гарантирует организацию жизнедеятельности детского и педагогического коллективов в соответствии с общепринятыми нравственными нормами человеческого общежития, правилами этикета, формирование у детей знаний о своих правах и механизмах их реализации в современном социуме, атмосферу терпимости, доброжелательности, уважения к человеческой личности, взаимопомощи, сотворчества в коллективной деятельности и содействия коллектива личностному успеху каждого учащегося. В соответствии с воспитательными целями формируется информационное пространство образовательного учреждения, обеспечивается эстетика помещений, в которых осуществляется воспитательный процесс; осуществляется обеспечение системы противодействия негативным явлениям в детской и подростковой сред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30477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рование воспитывающей сре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рытый характер воспитательной системы обеспечивается тесным контактом с семьей, участием родителей в процессе воспитания, доступностью для родителей информации об эффективности процесса воспитания ребенка, его индивидуальных особенностях, духовно-нравственного становления; повышением психолого-педагогических знании родителей; взаимодействием учреждения с другими социальными институтами окружающего социума, направленного на повышение эффективности воспитательного проце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ядок предоставл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рантом реализации социальных услуг по воспитанию в образовательном учреждении является его учредите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ям, обучающимся и воспитанникам должна предоставляться полная информация об их обязанностях, правах и условиях оказания услуг, они вправе рассчитывать на уважительное и гуманное отношение со стороны работников учрежд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реализации воспитательных услуг образовательными учреждениями могут быть использованы как бюджетные, так и внебюджетные средства, другие источники финансирования в соответствии с законодательств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и и задачи деятельности классного руководител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сьмо Министерства образования и науки Челябинской области от 14.03.2006г. № 04-11 «Примерное положение о классном руководителе…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ятельность классного руководите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целенаправленный, системный, планируемый процесс, строящийся на основе Устава общеобразовательного учреждения, иных локальных актов, анализа предыдущей деятельности, позитивных и негативных тенденций общественной жизни, на основе личностно - ориентированного подхода к обучающимся с учетом актуальных задач, стоящих перед педагогическим коллективом общеобразовательного учреждения, и ситуации в коллективе класса, межэтнических и межконфессиональных отношен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деятельности классного руководител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условий для саморазвития и самореализации обучающегося, его успешной социализации в обществ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деятельности классного руководител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сьмо Министерства образования и науки Челябинской области от 14.03.2006г. № 04-11 «Примерное положение о классном руководителе…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и деятельности классного руководител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и развитие коллектива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оздание благоприятных психолого-педагогических условий для развития личности, самоутверждения каждого обучающегося, сохранения неповторимости и раскрытия его потенциальных способнос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здорового образа жизн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рганизация системы отношений через разнообразные формы воспитывающей деятельности коллектива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защита прав и интересов обучаю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рганизация системной работы с обучающимися в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гуманизация отношений между обучающимися, между обучающимися и педагогическими работник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у обучающихся нравственных смыслов и духовных ориентир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рганизация социально значимой, творческой деятельности обучающихся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литико-прогностическая функ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учении индивидуальных особенностей обучаю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явлении специфики и определении динамики развития классного коллект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учении и анализе состояния и условий семейного воспитания каждого ребен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учении и анализе влияния школьной среды и малого социума на обучающихся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нозировании уровней воспитанности и индивидуального развития обучающихся и этапов формирования классного коллект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нозировании результатов воспит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троении модели воспитания в классе, соответствующей воспитательной системе школы в цел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видении последствий складывающихся в классном коллективе отно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онно-координирующая функ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ординации учебной деятельности каждого обучающегося и всего класса в цел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ординации формирования классного коллектива, организации и стимулировании разнообразных видов деятельности обучающихся в классном коллективе: оказание помощи и организация сотрудничества в планировании общественно значимой деятельности учащихся,  организация деятельности органов ученического самоупр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и взаимодействия деятельности с учителями- предметниками, педагогом – психологом, педагогами дополнительного образования, педагогом – организатором, социальным педагогом, библиотекарем, медицинским работником школы, семьей. Выполнение роли  посредника между личностью ребенка и всеми социальными институтами в разрешении личностных кризисов обучаю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ммуникативная функц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и и регулировании межличностных отношений между обучающимися, между обучающимися и взрослы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и помощи каждому обучающемуся в адаптации к коллектив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и созданию благоприятного климата в коллективе в целом и для каждого отдельного ребен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и помощи обучающимся в установлении отношений с окружающими детьми, социум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и обучающихся о действующих детских и молодежных общественных организациях и объедин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нтрольная функ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е за успеваемостью каждого обучающего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е за посещаемостью учебных занятий обучающими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е за самочувствием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обязан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систематический анализ состояния успеваемости и динамики общего развития своих воспитан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учебно-воспитательный процесс в классе; вовлекать учащихся в систематическую деятельность классного и школьного коллективов, изучать индивидуальные особенности личности обучающихся, условия их жизнедеятельности в семье и шко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ть и своевременно выявлять девиантные проявления в развитии и поведении обучающихся, осуществлять необходимую педагогическую и психологическую коррекцию, в особо сложных и опасных случаях информировать об этом администрацию шко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ть помощь воспитанникам в решении их острых жизненных проблем и ситуаций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049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язанности классного руководителя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получать информацию о физическом и психическом здоровье обучающихся своего класс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осить на рассмотрение администрации школы, педагогического совета, органов школьного самоуправления, родительского комитета предложения, инициативы, как от имени классного коллектива, так и от своего им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ть своевременную методическую и организационно-педагогическую помощь от руководства школы, а также органов самоуправл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планировать воспитательную работу с классным коллективом, разрабатывать индивидуальные программы работы с детьми и их родителями (законными представителями), определять нормы организации деятельности классного коллектива и проведения классных мероприят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7400" y="560520"/>
            <a:ext cx="66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а классного руководит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ства для выплаты вознагра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целях реализации поставленных Президентом РФ задач по выполнению приоритетных национальных проектов органам государственной власти субъектов РФ и органам местного самоуправл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комендова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 установлении систем оплаты труд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допускать ухудшения ранее установленных условий оплаты труда, снижения размеров индексации заработной платы, отмены либо уменьшения размеров надбавок, повышений окладов (ставок), доплат, стимулирующих выплат, установленных указанным категориям работников на региональном и муниципальном уров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. Классный руководи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днев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отсутствующих на занятиях и опоздавших учащихся, выясняет причины их отсутствия или опоздания, проводит профилактическую работу по предупреждению опозданий и непо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мости учебных занят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и контролирует дежурство учащихся в классном кабинет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различные формы индивидуальной работы с учащимися, в том числе в случае возникновения деви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их поведе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. Классный руководител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недель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т ведение учащимися дневников с выставлением отметок за неделю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час классного руководителя (классный час) в соответствии с планом воспитательной работ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работу с родителями (по ситуаци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работу с учителями-предметниками, работающими в классе (по ситуаци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ет состояние успеваемости в классе в целом и у отдельных учащихс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3. Классный руководи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месячн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ет уроки в своем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 консультации у психолога и отдельных учител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заседание родительского комитета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работу классного акт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ет хозяйственные вопросы в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4. Классный руковод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ечение учебной четвер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яет и заполняет классный журнал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ет в работе методического объединения классных руководите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анализ выполнения плана воспитательной работы 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ь, состояние успеваемости и уровня воспитанности уча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коррекцию плана воспитательной работы на новую четвер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классное родительское собр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в учебную часть отчет об успеваемости  учащихся класса за четвер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5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год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яет личные дела уча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ет состояние воспитательной работы в классе и  уровень воспитанности учащихся в течение год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план воспитательной работы в классе (план классного руководите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ет и предоставляет в администрацию школы, статистическую отчетность об учащихся класса (успеваемость, материалы для отчета по форме ОШ-1, трудоустройство выпускников и пр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6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 мероприятия для обучающихся проводятся не менее двух в месяц (без классных час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7. Классные часы проводятся не менее двух раз в меся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. Классные родительские собрания проводятся не реже одного раза в два меся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кументация классного руководител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ведет следующую документацию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план воспитательной работы (на основе перспективного плана работы общеобразовательного учреждения). Форма анализа и плана воспитательной работы определяется школьным методическим объединением классных руководител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лан работы – сетка на каждую четверть (в план-сетку не включатся дела, не связанные с классным руководство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альный паспорт класса (форма устанавливается администрацией школ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зультаты педагогического, социологического, психологического, физического исследования обучающихся класс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токолы заседаний родительских комитетов и родительских собраний, материалы для подготовки родительских собра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работки, сценарии, сценарные планы воспитательных мероприятий, проводимых с детьми (т.ч. классных часов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атериалы методической работы по классному руководств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четы, аналитические материал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работы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осуществления функций классного руководителя можно оценивать на основании двух групп критериев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и 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результативности отражают тот уровень, которого достигают обучающиеся в своем социальном развитии (уровень общей культуры и дисциплины обучающихся, их гражданской зрелости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деятельности позволяют оценить реализацию управленческих функций классного руководителя (организация воспитательной работы с обучающимися; взаимодействие с педагогическими работниками, работающими с обучающимися в данном классе и другими участниками образовательного процесса, а также учебно-вспомогательным персоналом общеобразовательного учреждения, родителями (иными законными представителями) обучающихся и общественностью по воспитанию, обучению, творческому развитию обучающихс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ивно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чальные клас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ваемость учащихся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, положение в коллективе, культуру общения, активность в учебно-воспитательных делах клас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вление детей требующих особой, индивидуальной поддержки защит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оц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ивно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результативности отражают тот уровень, которого достигают обучающиеся в своем социальном развитии (уровень общей культуры и дисциплины обучающихся, их гражданской зрелости).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актив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ство в детских и молодежных объединения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«самости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ая ориента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редняя шко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пределение в выборе професс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ые ориент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регуля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акти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работы классного руководител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ый аппарат оценивания деятельности классного руководителя разрабатывается методическим объединением классных руководителей и утверждается научно-методическим (методическим) и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советом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общеобразовательного учреждения включает в график внутришкольного контроля мероприятия по изучению эффективности реализации функций классного руководите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учреждений в которых выплачивается вознаграж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ответствии с п. 1 Правил предоставления в 2006 г. финансовой помощи бюджетам субъектов Российской Федерации в виде субсидий на выплату вознаграждения за выполнение функций классного руководителя педагогическим работникам государственных общеобразовательных школ субъектов российской Федерации и муниципальных общеобразовательных школ (далее Правила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сидии в 2006 г. предоставляются на выплату вознаграждения за выполнение функций классного руководителя только в следующих видах общеобразовательных учрежде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е и муниципальн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ьные общеобразовательные школы, основные общеобразовательные школы, средние общеобразовательные школы, средние общеобразовательные школы с углубленным изучением отдельных предметов, гимназии и лицеи субъектов РФ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учреждений в которых выплачивается вознаграж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м Правительства РФ от 10.06.06 № 36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"О внесении изменений в постановление Правительства Российской Федерации от 30.12.05 № 85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раво на получение вознаграждения распространено также на педагогических работников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черних (сменных) общеобразовательных учрежд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детских школ и кадетских школ-интерна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ых школ-интерна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 для детей дошкольного и младшего школьного возрас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ьных (коррекционных) образовательных учреждений для обучающихся, воспитанников с отклонениями в развитии (кроме специальных (коррекционных) профессиональных училищ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учреждений в которых выплачивается вознаграж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постановлением Правительства РФ от 10.06.06 № 366 "О внесении изменений в постановление Правительства Российской Федерации от 30.12.05 № 85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раво на получение вознаграждения распространено также на педагогических работников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ьных учебно-воспитательных учреждений для детей и подростков с девиантным поведением (специальных общеобразовательных школ и специальных (коррекционных) общеобразовательных школ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 для детей, нуждающихся в психолого - педагогической и медико-социальной помо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 для детей-сирот и детей, оставшихся без попечения родител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доровительных образовательных учреждений санаторного типа для детей, нуждающихся в длительном лече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ых школ-интернатов с первоначальной летной подготовк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выплаты в городской и сельской мест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абзаце перв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. 3 Правил (в ред. постановления Правительства РФ от 04.02.06 № 67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усмотрено, что объем субсидий, предоставляемых каждому субъекту РФ на вознаграждение за выполнение функций классного руководителя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яется из расчета 1000 руб. за классное руководство в классе наполняемостью 25 и более человек для городской местности и 14 и более человек - для сельской местности, в классе с меньшей наполняемостью - с учетом уменьшения размера вознаграждения пропорционально численности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 вознаграждения за классное руководство за счет средств федерального бюджета не может превышать 1000 руб. в меся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выплаты в городской и сельской мест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ление большего размера вознаграждения за классное руководство в классах наполняемостью более 25 чел. в городской местности противоречило б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. 26 Типового положения об общеобразовательном учреждении, утв. постановлением Правительства РФ от 19.03.01 № 196 (с изм. и доп.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 такж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. 2.3.1 Гигиенических требований к условиям обучения в общеобразовательных учреждениях (Санитарно-эпидемиологические правила - СанПиН 2.4.2.1178-02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оответствии с которыми наполняемость классов в количестве 25 чел. является предель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8-25T06:05:45Z</dcterms:modified>
  <cp:revision>24</cp:revision>
  <dc:subject/>
  <dc:title>Нормативно-правовые аспекты деятельности классного руководителя</dc:title>
</cp:coreProperties>
</file>