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321-D936-4202-A6CB-039D621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3D3-E56A-4C9E-BE5F-401E378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1CA-FDF4-42C1-84BD-C3F395E4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422-FE54-459D-8087-0C314427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E0E6-DA2E-4310-BB4F-14F3852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28EB-774C-475E-A89E-49C241E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720-DBAE-4DE3-A600-8C03345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EB1-14F1-483D-B70F-8C12A905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295B-6FED-4BF0-9F86-14CFAF8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17A-0A12-4B07-B55A-6257123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E2D-3045-4669-8225-0CF35BE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A2E-195E-4139-9067-BDE64B93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4828-ADC2-45EC-A9BA-A048E9A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032-C32D-4950-9A24-BCD19DA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8AA-2D67-48CE-8FCF-52C1D49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27C2-5477-4318-A694-C11EF1CE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64A-D5AC-4084-A944-46F9DD28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9C8-FB2B-4E25-8E95-E9E31451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ED1-137D-4542-88C2-9BF0B963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A49-A6E9-40BC-91A4-5503F28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1F9-975A-4CCD-BE81-6605D49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9FB-A7CB-4C26-B2BA-284967E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CEF-2D4D-46A2-AB80-C9572EB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B6F-2F70-48DC-B940-74A14BC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BB6-7F9A-4273-9998-CC4F3977CD11}" type="slidenum">
              <a:rPr b="0" lang="ru-RU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F267-57F0-4880-9770-D655124B14B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и методическо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провождение деятельн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икова Ю.В., старший преподаватель кафедры воспитания и дополнительного образования ГОУ ДПО ЧИППК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а Минобрнауки Рос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08.02.06 №17ю-50-9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расчете размера вознаграждения за выполнение функций классного руководства в классах с пониженной наполняемость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уменьшением размера вознаграждения в названных выше классах понимается расчет пропорционально численности обучающихся в соответствии с формуло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00 руб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или 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00 руб.*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жемесячное вознаграждение за классное руководство в одно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ичество обучающих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четная наполняемость полнокомплектного класс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человек для классов ОУ, расположенных в городах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=1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для классов ОУ, расположенных в сельской местн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3 Правил в размере субсидии, предоставляемой субъекту РФ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плату вознаграждения за классное руководство, учитываются районные коэффициенты, установленные Правительством РФ, а также отчисления по единому социальному налогу, страховым взнос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обязательное пенсионное страхование и страховым взносам по обязательному социальному страхованию от несчастных случаев на производстве и профессиональных заболев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значает, что по сво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вой природе вознаграждение за классное руководство является не компенсационной выплат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зачастую пытаются толковать понятие «вознаграждение», а являетс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ной частью заработной платы педагогического работника со всеми вытекающими правовыми последствиями, а име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вая основа вознаграждения за классное руко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ется одновременно с выплатой заработной пл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дагогическим работ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ак и другие доходы налогоплательщика, полученные им как в денежной, так и в натуральной форм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ываются при определении налоговой базы по налогу на доходы физических ли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педагогическ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ботникам за выполнение функций классных руководителей долж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ся во всех классах, входящих в структуру общеобразовате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чреждений, предусмотренных в указанных Правилах, в т. ч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лассах с очно- заочной (вечерней), заочной формой об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еся в форме семейного образования и экстерната учитываются в списочном составе соответствующи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на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. 5 постановления Правительства РФ от 30.12.05 № 854 п. 66 «Типового положения об общеобразовательном учрежде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полнен абзацем, в соответствии с которым на педагогического работника ОУ с его согласия приказом руководителя ОУ могут возлагаться функции классного руководителя по организации и координации воспитательной работы с обучающимися в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озложении на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их согласия функций классного руководителя по организации и координации воспитательной работы с обучающимися в классе учитываются обеспеченность ОУ соответствующими кадрами, а также другие условия работы в данном 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ндидатуры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в следующем учебном году будут осуществлять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олжн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ться одновременно с распределением учебной на грузки по окончании учебного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возложенных в начале учебного года обязанностей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 не должно прекращаться по инициативе работодателя в течение учебного года, за исключением случаев сокращения количества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возложения функций классного руководите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 необходимости обязанности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гу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лагаться на учителей из числа руководящ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друг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ще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неисполнение или ненадлежащее исполнение педагогическим работни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его вине функций классного руководителя работодатель име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принять решение о прекращении выполнения работником этих обязанностей и выплаты доплаты и вознагра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ение работы по классному руководству в двух класс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едостаточном количеств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при отсутствии желания у отдельных из них выполнять работу п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ному руководств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язанности могут возлагаться на одного педагогического работника с его согласия в двух класс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т. ч. временно в связи с болезнью педагогического работника, поскольку каких-либо ограничений по выполнению функций классных руководителей более чем в одном классе не установле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 же время имеющая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ка возложения функций по классному руководству в одном кла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классе-комплекте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двух и более педагогических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целью разделения между ними вознаграждения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ет правовых ос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применяться не долж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редней заработной 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. 2 Положения об особенностях порядка исчисления средней заработной платы, утв. постановлением Правительства РФ от 11.04.03 № 213 "Об особенностях порядка исчисления средней заработной платы"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 расчете среднего заработка для всех случаев его определения учитываются все предусмотренные системой оплаты труда виды выплат, применяемые в организации независимо от источников этих выплат. К таким выплатам относится и вознаграждение з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ое учитываться  пр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числении СЗ для оплаты ежегодных основных и дополнительных отпусков и выплаты компенсации за неиспользованный отпус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также дополнительных отпусков в связи с обучени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и С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храняемого за педагогическими работниками ОУ по основному месту работы, направленными с отрывом от основной рабо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овышения квалификации в образовательные учреждения ДПО (повышения квалификации) специалис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скольку сохранение среднего заработка в указанном случае предусмотре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 26Типового положения об образовательном учреждении ДПО (повышения квалификации) специалистов (утв. Постановлением Правительства РФ от 26.06.95 № 610"0б утверждении Типового положения об образовательном учреждении ДПО (повышения квалификации) специалистов" (с изм. и доп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никулярное учеб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сенних, зимних, весенних и летних каникул для обучающихся, воспитанников ОУ и не совпадающих с ежегодными оплачиваемыми основными и дополнительными отпусками работ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ы отмены учебных заня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бразовательного процесса) для обучающихся по санитарно-эпидемиологическим, климатическим и другим основания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ются для работников рабочим времен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членского профсоюзного вз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 п. 52 Устава Профсоюза работников народного образования и науки Р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емесячный членский взнос взимается из месячного заработка члена профсою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сходя из того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награждение за классное руководство является составной частью заработной пл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змер членского профсоюзного взноса педагогических работников, являющихся членами профсоюза, на которых возложены функции классного руководителя, определяется с учетом суммы вознаграждения за классное руко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выполнение функций классного руководителя педагогическим работникам государственных и муниципальных общеобразовательных учреждений, выплачиваемое за счет средств федерального бюджета в виде целевых субсидий бюджетам субъектов РФ,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ся дополнительно к доплатам, предусмотренным за эту работу п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ю на 31 декабря 20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кой порядок определен п. 4.6 «Единых рекомендаций по системам оплаты труда работников организаций, финансируемых из федерального, региональных и местных бюджетов, на 2006 год», утв. Российской трехсторонней комиссией по регулированию социально-трудовых отношений в соответствии со ст. 135 Трудового кодекса РФ в целях обеспечения единых подходов к регулированию заработной платы работников организаций бюджетной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числение пособий по временной нетрудоспособности, беременности и рода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аграждение за КР должно учитываться при исчислении пособий по временной нетрудоспособности, по беременности и родам, поскольку в соответствии с п. 84 «Положения о порядке обеспечения пособиями по государственному социальному страхованию», утв. постановлением Президиума ВЦСПС от 12.11.84 № 13-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определении указанных пособий педагогическим работникам учитывается весь заработок по месту основной работы, начисленный за 12 календарных месяцев, предшествующих месяцу наступления нетрудоспособности, отпуска по беременности и родам, включая дополнительную оплату за педагогическую работу, которая не считается совместительством, к которой относится доплата и вознагражде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5000"/>
              </a:lnSpc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ичный поряд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яется также при определении размера пособия по временной нетрудоспособности за первые 2 дня временной нетрудоспособности, выплачиваемого за счет средств работодате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ирование рабочего времени классного руководите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егулировании порядка установления вознаграж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классное руко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иметь в виду, что для выполнения функций классного руководителя действующим законодательств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становлено каких-либо норм времени работы в день, в неделю, в месяц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выполнения указанной работы определяется общешкольными планами и графиками, личными планами педагогического работника в зависимости от конкретных обстоятельств и мероприятий, связанных с воспитательной рабо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ссный воспита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ь "классный воспитатель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введена в начале 90-х гг. в ходе эксперимента, целью которого являлось упразднение доплат 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плачиваемых учителям за осуществление этой дополнительной работы, и введение в штат ОУ работников с наименованием должности "классный воспитател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лата вознаграждения за выполн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й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ана с возлож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педагогического работника с его соглас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унк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рганизации и координации воспитательной работы с обучающимися в класс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дополнительных обязанностей, т. е. не входящих в обязанности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обоснова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лачивать указанное вознаграждение работникам, осуществляющим такую работу на условиях занятия штатной дол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ическое сопровождение деятель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ного руководит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 осуществляемой классным руководителем опреде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24 июля 1998 г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4-Ф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"Об основных гарантиях прав ребенка в Российской Федерации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ами Минобрнауки   РФ от 15.12.2002 №30-51-914/16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от 15.10.2003г.  №24-51-212/13-28-31-793/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Методические рекомендации по аттестационной и аккредитационной оценке воспитательной деятельности образовательных учреждений…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9320" indent="-40932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 регламентиру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ческими рекомендациями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 осуществлении функций классного руководителя  педагогическими работниками  государств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й субъектов Российской Федерации и муниципальных общеобразовательных учреждений» утвержденных приказом Минобрнауки РФ От 3 февраля 2006г. № 21, котор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оссийской Федерации от 30 декабря    2005 г. № 854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в 2006 году финансовой помощ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” (Российская газета, 14 января 2006г.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 ценност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воспитательный процесс, ориентированный на ценности демократического общества , общечеловеческие, нравственные приоритеты, гармонизацию взаимоотношений ребенка с окружающим социумом, природой, самим собой; формирование у школьников готовности к самостоятельному выбору в пользу здорового образа жизни, образования, профессионализма, самореализации в общественно и личностно значимой творческой деятельности, таких ценностей, как семья, Отечество, культура, мирное сосуществование народов разных стран, межэтническое, экологическое благополучие; формирование у школьников уважения к прошлому и настоящему своего народа, традициям и культуре, старшим поколениям, родителям, толерантности, ответственности за будущее своей страны и современной цивилизации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виды гарантированных услуг по воспита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м гарантируется использование воспитательного потенциала основных и дополнительных образовательных программ и включение обучающихся в разнообразную, соответствующую их возрастным и индивидуальным особенностям деятельность, направленную на формирование у дет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твенности, патриотизма, уважения к правам и свободам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й о нравственности и опыта взаимодействия со сверстниками и взрослыми в соответствии с общепринятыми нравственными нормами, приобщение к системе культурных ценност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любия, готовности к осознанному выбору будущей профессии, стремления к профессионализму, конкурентоспособ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логической культуры, предполагающей ценностное отношение к природе, людям, собственному здоровью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стетического отношения к окружающему миру, умения видеть и понимать прекрасное, потребности и умения выражать себя в различных, доступных и наиболее привлекательных для ребенка видах твор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воспитания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ой культуры, активной жизненной позиции, лидерских качеств, организаторских умений и навыков, опыта руководства небольшой социальной группой и сотрудничества со сверстниками и взрослыми, коммуникативных умений и навыков, навыков самоорганизации, проектирования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ой культуры, навыков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 – правовой б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ждение гарантирует организацию жизнедеятельности детского и педагогического коллективов в соответствии с общепринятыми нравственными нормами человеческого общежития, правилами этикета, формирование у детей знаний о своих правах и механизмах их реализации в современном социуме, атмосферу терпимости, доброжелательности, уважения к человеческой личности, взаимопомощи, сотворчества в коллективной деятельности и содействия коллектива личностному успеху каждого учащегося. В соответствии с воспитательными целями формируется информационное пространство образовательного учреждения, обеспечивается эстетика помещений, в которых осуществляется воспитательный процесс; осуществляется обеспечение системы противодействия негативным явлениям в детской и подростковой сре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воспитывающей сре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тый характер воспитательной системы обеспечивается тесным контактом с семьей, участием родителей в процессе воспитания, доступностью для родителей информации об эффективности процесса воспитания ребенка, его индивидуальных особенностях, духовно-нравственного становления; повышением психолого-педагогических знании родителей; взаимодействием учреждения с другими социальными институтами окружающего социума, направленного на повышение эффективности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организация воспитательной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инобрнауки   РФ от 15.12.2002 №30-51-914/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[О направлении минимального социального стандарта "Минимальный объем социальных услуг по воспитанию в образовательных учреждениях общего образования"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предоставл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рантом реализации социальных услуг по воспитанию в образовательном учреждении является его учредит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ям, обучающимся и воспитанникам должна предоставляться полная информация об их обязанностях, правах и условиях оказания услуг, они вправе рассчитывать на уважительное и гуманное отношение со стороны работников учрежд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еализации воспитательных услуг образовательными учреждениями могут быть использованы как бюджетные, так и внебюджетные средства, другие источники финансирования в соответствии с законода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и 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 классного руковод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целенаправленный, системный, планируемый процесс, строящийся на основе Устава общеобразовательного учреждения, иных локальных актов, анализа предыдущей деятельности, позитивных и негативных тенденций общественной жизни, на основе личностно - ориентированного подхода к обучающимся с учетом актуальных задач, стоящих перед педагогическим коллективом общеобразовательного учреждения, и ситуации в коллективе класса, межэтнических и межконфессиональных отноше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деятельности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развития и самореализации обучающегося, его успешной социализации в обще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Челябинской области от 14.03.2006г. № 04-11 «Примерное положение о классном руководителе…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деятельности классного руководител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и развитие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здание благоприятных психолого-педагогических условий для развития личности, самоутверждения каждого обучающегося, сохранения неповторимости и раскрытия его потенциальных способ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ы отношений через разнообразные формы воспитывающей деятельности коллектив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защита прав и интере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истемной работы с обучающимися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гуманизация отношений между обучающимися, между обучающимися и педагогическими работник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ование у обучающихся нравственных смыслов и духовных ориентир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я социально значимой, творческой деятельности обучающихс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тико-прогностическ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ндивидуальных особенностей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явлении специфики и определении динамики развит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состояния и условий семейного воспитания кажд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учении и анализе влияния школьной среды и малого социума на обучаю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уровней воспитанности и индивидуального развития обучающихся и этапов формирования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нозировании результатов воспит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роении модели воспитания в классе, соответствующей воспитательной системе школы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видении последствий складывающихся в классном коллективе отно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-координирующ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учебной деятельности каждого обучающегося и всего класса в це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рдинации формирования классного коллектива, организации и стимулировании разнообразных видов деятельности обучающихся в классном коллективе: оказание помощи и организация сотрудничества в планировании общественно значимой деятельности учащихся,  организация деятельности органов ученического самоупр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и взаимодействия деятельности с учителями- предметниками, педагогом – психологом, педагогами дополнительного образования, педагогом – организатором, социальным педагогом, библиотекарем, медицинским работником школы, семьей. Выполнение роли  посредника между личностью ребенка и всеми социальными институтами в разрешении личностных кризисов обучаю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 функц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 и регулировании межличностных отношений между обучающимися, между обучающимися и взрослы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каждому обучающемуся в адаптации к коллектив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и созданию благоприятного климата в коллективе в целом и для каждого отдельного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и помощи обучающимся в установлении отношений с окружающими детьми, социум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и обучающихся о действующих детских и молодежных общественных организациях и объедин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ная фун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успеваемостью каждого обучающего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посещаемостью учебных занятий обучающими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е за самочувствием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обяза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истематический анализ состояния успеваемости и динамики общего развития своих воспитан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учебно-воспитательный процесс в классе; вовлекать учащихся в систематическую деятельность классного и школьного коллективов, изучать индивидуальные особенности личности обучающихся, условия их жизнедеятельности в семье и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и своевременно выявлять девиантные проявления в развитии и поведении обучающихся, осуществлять необходимую педагогическую и психологическую коррекцию, в особо сложных и опасных случаях информировать об этом администрацию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омощь воспитанникам в решении их острых жизненных проблем и ситуаци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04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язанности классного руководител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получать информацию о физическом и психическом здоровье обучающихся своего клас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ить на рассмотрение администрации школы, педагогического совета, органов школьного самоуправления, родительского комитета предложения, инициативы, как от имени классного коллектива, так и от своего и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своевременную методическую и организационно-педагогическую помощь от руководства школы, а также органов самоуправл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планировать воспитательную работу с классным коллективом, разрабатывать индивидуальные программы работы с детьми и их родителями (законными представителями), определять нормы организации деятельности классного коллектива и проведения классных мероприят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400" y="56052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классного руководи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 для выплаты вознагра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лях реализации поставленных Президентом РФ задач по выполнению приоритетных национальных проектов органам государственной власти субъектов РФ и органам местного самоуправ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ова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установлении систем оплаты тру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допускать ухудшения ранее установленных условий оплаты труда, снижения размеров индексации заработной платы, отмены либо уменьшения размеров надбавок, повышений окладов (ставок), доплат, стимулирующих выплат, установленных указанным категориям работников на региональном и муниципальном уров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днев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отсутствующих на занятиях и опоздавших учащихся, выясняет причины их отсутствия или опоздания, проводит профилактическую работу по предупреждению опозданий и непо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мости учебных зан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и контролирует дежурство учащихся в классном кабине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зличные формы индивидуальной работы с учащимися, в том числе в случае возникновения деви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х повед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. Классный руководит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недель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т ведение учащимися дневников с выставлением отметок за недел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час классного руководителя (классный час) в соответствии с планом воспитательной рабо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с родителями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работу с учителями-предметниками, работающими в классе (по ситуа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успеваемости в классе в целом и у отдельных учащихс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. Классный руководи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месяч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ет уроки в своем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консультации у психолога и отдельных уч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заседание родительского комитета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работу классного акт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т хозяйственные вопросы в класс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4. Классный 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учебной четвер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и заполняет классный журнал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работе методического объединения классных руководи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анализ выполнения плана воспитательной работы 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, состояние успеваемости и уровня воспитанности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оррекцию плана воспитательной работы на новую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классное родительское собр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 учебную часть отчет об успеваемости  учащихся класса за четвер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организация деятельности классного руководителя (что делает ежедневно, еженедельно, ежемесячно, раз в четверть, полугодие и год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5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егод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ет личные дела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ет состояние воспитательной работы в классе и  уровень воспитанности учащихся в течение год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план воспитательной работы в классе (план классного руководите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ет и предоставляет в администрацию школы, статистическую отчетность об учащихся класса (успеваемость, материалы для отчета по форме ОШ-1, трудоустройство выпускников и п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6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мероприятия для обучающихся проводятся не менее двух в месяц (без классных час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. Классные часы проводятся не менее двух раз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. Классные родительские собрания проводятся не реже одного раза в два меся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ументация классного руководител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ведет следующую документац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план воспитательной работы (на основе перспективного плана работы общеобразовательного учреждения). Форма анализа и плана воспитательной работы определяется школьным методическим объединением классных руководите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 работы – сетка на каждую четверть (в план-сетку не включатся дела, не связанные с классным руководство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альный паспорт класса (форма устанавливается администрацией школ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зультаты педагогического, социологического, психологического, физического исследования обучающихся класс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токолы заседаний родительских комитетов и родительских собраний, материалы для подготовки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ки, сценарии, сценарные планы воспитательных мероприятий, проводимых с детьми (т.ч. классных час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териалы методической работы по классному руководств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четы, аналитические материа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осуществления функций классного руководителя можно оценивать на основании двух групп критериев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и 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деятельности позволяют оценить реализацию управленческих функций классного руководителя (организация воспитательной работы с обучающимися; взаимодействие с педагогическими работниками, работающими с обучающимися в данном классе и другими участниками образовательного процесса, а также учебно-вспомогательным персоналом общеобразовательного учреждения, родителями (иными законными представителями) обучающихся и общественностью по воспитанию, обучению, творческому развитию обучающихс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альные клас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 учащихся клас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, положение в коллективе, культуру общения, активность в учебно-воспитательных делах клас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ление детей требующих особой, индивидуальной поддержки защит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оц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отражают тот уровень, которого достигают обучающиеся в своем социальном развитии (уровень общей культуры и дисциплины обучающихся, их гражданской зрелости).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ство в детских и молодежных объединения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«самост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ая ориента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едняя шко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пределение в выборе професс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ые ориент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just">
              <a:lnSpc>
                <a:spcPct val="90000"/>
              </a:lnSpc>
              <a:spcBef>
                <a:spcPts val="451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классного руководител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ый аппарат оценивания деятельности классного руководителя разрабатывается методическим объединением классных руководителей и утверждается научно-методическим (методическим) 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советом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общеобразовательного учреждения включает в график внутришкольного контроля мероприятия по изучению эффективности реализации функций классного руководит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п. 1 Правил предоставления в 2006 г. финансовой помощи бюджетам субъектов Российской Федерации в виде субсидий на выплату вознаграждения за выполнение функций классного руководителя педагогическим работникам государственных общеобразовательных школ субъектов российской Федерации и муниципальных общеобразовательных школ (далее Правил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сидии в 2006 г. предоставляются на выплату вознаграждения за выполнение функций классного руководителя только в следующих видах общеобразовательных учрежде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и муниципа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ьные общеобразовательные школы, основные общеобразовательные школы, средние общеобразовательные школы, средние общеобразовательные школы с углубленным изучением отдельных предметов, гимназии и лицеи субъектов РФ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Ф от 10.06.06 № 36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них (сменных) обще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детских школ и кадетски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 дошкольного и младшего школьного возра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(коррекционных) образовательных учреждений для обучающихся, воспитанников с отклонениями в развитии (кроме специальных (коррекционных) профессиональных училищ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учреждений в которых выплачивается вознаграж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становлением Правительства РФ от 10.06.06 № 366 "О внесении изменений в постановление Правительства Российской Федерации от 30.12.05 № 85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раво на получение вознаграждения распространено также на педагогических работников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ых учебно-воспитательных учреждений для детей и подростков с девиантным поведением (специальных общеобразовательных школ и специальных (коррекционных) общеобразовательных шко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, нуждающихся в психолого - педагогической и медико-социальн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 для детей-сирот и детей, оставшихся без попечения роди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доровительных образовательных учреждений санаторного типа для детей, нуждающихся в длительном леч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499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ых школ-интернатов с первоначальной летной подготов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абзаце перв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3 Правил (в ред. постановления Правительства РФ от 04.02.06 № 67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усмотрено, что объем субсидий, предоставляемых каждому субъекту РФ на вознаграждение за выполнение функций классного руководителя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яется из расчета 1000 руб. за классное руководство в классе наполняемостью 25 и более человек для городской местности и 14 и более человек - для сельской местности, в классе с меньшей наполняемостью - с учетом уменьшения размера вознаграждения пропорционально численности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вознаграждения за классное руководство за счет средств федерального бюджета не может превышать 1000 руб. в меся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 выплаты в городской и сельской мест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большего размера вознаграждения за классное руководство в классах наполняемостью более 25 чел. в городской местности противоречило б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6 Типового положения об общеобразовательном учреждении, утв. постановлением Правительства РФ от 19.03.01 № 196 (с изм. и доп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так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. 2.3.1 Гигиенических требований к условиям обучения в общеобразовательных учреждениях (Санитарно-эпидемиологические правила - СанПиН 2.4.2.1178-02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оответствии с которыми наполняемость классов в количестве 25 чел. является предель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8-25T06:05:45Z</dcterms:modified>
  <cp:revision>24</cp:revision>
  <dc:subject/>
  <dc:title>Нормативно-правовые аспекты деятельности классного руководителя</dc:title>
</cp:coreProperties>
</file>