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E60-1006-41A4-A1AE-6165ACDB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048-DF45-4951-8DDF-B8E10AE7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984-72AE-4127-83D6-D4452E38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A3C-9AEC-4C70-8202-24DB7C43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034A-8EFB-4619-8EA2-51D02ABF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43E2-0F0F-49EE-95D0-D2EE5D99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4472-58D4-45E7-A5D4-4EEAE75B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771D-EE08-469B-9DA4-59B3F616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EC5C-6329-4814-A844-BAB6E0A5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E6A8-913F-489C-9E07-6354FFA5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738B-D609-4BCE-B662-3D9555C3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8A7-8019-404A-A1EF-9E4F2BF4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4075-13C8-462D-98CA-25F20E6F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0970-0448-4BCE-8B59-A0A46042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B35F-AF1C-49D3-9980-821B43DB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09C8-4069-4EC0-A017-4BD3FEC4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EF85-DDCF-420B-80F6-EDAF3B37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A20-F876-43B0-8124-9B6149AF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C77-BF02-4A40-87D3-FD771368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20A-4B3B-4253-9B25-6A6DBD54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39F-328F-4311-A1A2-E4CECB06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185-A52F-49E9-942B-8866903F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DF2-9B31-473F-983F-7D94FA8E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214-6CA3-43FB-8F19-72B60603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7BA8-2C49-40CE-9540-7D6C3F7A08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534D-4738-4C83-B9E9-58CBD4ABDE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Музейная практика как средство воспитания толерантности у обучающихся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кольный этнографический муз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ей позволит развивать ум и сердце, мышление и чувство, воображение и интуицию, приобретать функциональные знания о мире. А самое главное, позволит творить себя как целостного человека, занимающего достойное место в обществе, сохранившего свою самобытную культуру, вызывающего к себе интерес и уважение других людей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И СОЗДАНИЯ МУЗ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оспитывать чувство любви к своей Родине, гордость за соотечествен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ознакомить с предметами быта 19 – 20 в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спользовать экспонаты на уроках и внеклассных мероприят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охранить старинные вещ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ые направления деятельности музе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нформиров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звитие творческих нача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у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щ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тд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ой принцип деятельности музе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оставление посетителям музея возможности заниматься тем, что их интересует, создание условий для самореал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ие детей в поисково-исследовательской работе, изучение и описание музейных экспонатов, создание экспозиций, проведение экскурс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олнение досуга учащихся, овладение различными приёмами и навыками краеведческой деятель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зультаты работы музе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годное пополнение фонда лучшими творческими работами детей и предметами стари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дение выставок новых поступл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ие в профильных конкурсах (районных, городских, областных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чет о проведении экскурс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cc"/>
                </a:solidFill>
                <a:latin typeface="Tahoma"/>
              </a:rPr>
              <a:t>Школьный музей – центр духовно-нравственного воспитания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87992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и дети должны знать и любить прошлое родной земли, беречь его для счастливого и достойного будущего. Будущее – это новое поколение. Поэтому, чтобы создавались крепкие и дружные семьи, мы должны обратиться к отечественной культуре, так как именно в народной культуре заложены гуманные идеи единения человека и природы, ценные ориентиры для формирования трудолюбия, милосердия, мужества, любви к отчей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2"/>
          <p:cNvSpPr/>
          <p:nvPr/>
        </p:nvSpPr>
        <p:spPr>
          <a:xfrm>
            <a:off x="0" y="3086280"/>
            <a:ext cx="9144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0" y="5018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аким образом, школьный муз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становится своеобразным научно-исследовательским центром духовно-нравственного, гражданского и патриотического воспитания подрастающего покол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развивает творческие способности дет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ак все начиналос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4" descr="03-08-06_0957"/>
          <p:cNvPicPr/>
          <p:nvPr/>
        </p:nvPicPr>
        <p:blipFill>
          <a:blip r:embed="rId1"/>
          <a:stretch/>
        </p:blipFill>
        <p:spPr>
          <a:xfrm>
            <a:off x="711360" y="167652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4-08-06_1623"/>
          <p:cNvPicPr/>
          <p:nvPr/>
        </p:nvPicPr>
        <p:blipFill>
          <a:blip r:embed="rId2"/>
          <a:stretch/>
        </p:blipFill>
        <p:spPr>
          <a:xfrm>
            <a:off x="3809880" y="26668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аким наш музей ста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6" descr="SS852659"/>
          <p:cNvPicPr/>
          <p:nvPr/>
        </p:nvPicPr>
        <p:blipFill>
          <a:blip r:embed="rId1"/>
          <a:stretch/>
        </p:blipFill>
        <p:spPr>
          <a:xfrm>
            <a:off x="1219320" y="11811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ВОРЧЕСКИЕ РАБОТЫ УЧАЩИХС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детского фолькл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малых жанров фолькл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несказочной про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иси текстов лирики, частуш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инения по теме «Улица, на которой я живу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тория храмов Астрахани и Астраханской обла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ельские работы по фольклору (реферат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льтурное наследие стра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 знания основ православной культуры нельзя оценить до конца российскую культуру в целом, язык, на котором говорит все население страны вне зависимости от национальности и вероисповед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славная культура – это культурное наследие нашей страны, так как она связана с национальными культурами многих народов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зультаты деятельности организаторов музе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изированная программа факультативного курса «Русский фольклор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борник фольклорных произведений (авторы: учителя русского языка и литературы Портнова Е.М., Ларионова И.Г.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ценарии народных празд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з истории музейного де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бные музеи как кабинеты истории, литературы существовали во многих российских гимназиях в 19 ве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прос о целесообразности создания школьных музеев историко-краеведческой тематики был впервые поставлен в книге В.Я. Уланова «Опыт методики истории в начальной школе» (1914). С развитием школьного краеведения в 20-е годы ХХ века в России началось массовое создание школьных музе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ьшее развитие этот процесс получил во 2-й половине 50-х годов и особенно в70-е годы под влиянием широкомасштабных акций, проводившихся комсомольской и пионерской организац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1989 году в Париже проходила Генеральная конференция ООН по вопросам образования, науки и культуры. Основной темой заседаний стал фольклор. Результатом работы конференции был ряд рекомендаций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комендации заседания ООН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Государствам – членам ООН рекомендовано (в числе других мер) создавать музеи или отделы фольклора в существующих музеях, где могут устраиваться выставки традиционных и народных культур. Поэтому сохранение культурного наследия является одним из приоритетов и Российской государственной культурной политики. Как же это может быть воплощено в жизнь в конкретно взятом учебном заведении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авая определение фольклора, отмечалось, что его формы включают, в частности, язык, музыку, танцы, игры, мифологию, обряды, обычаи, ремесла, архитектуру и другие виды художественного творче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фика школьного музе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ые музеи являются негосударственными музеями, работающими на общественных началах, и выполняют те же функции, что и государствен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фика школьного музея заключается в том, что в его деятельности преобладают образовательно-воспитательные функ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ый музей – прежде всего действенное средство повышения эффективности обучения и воспитания 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то дают музейные урок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ейные уроки позволяют «вывести» ребенка за пределы школы, дополнить школьное преподавание среди живой природы, в интерьерах музейных за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а преподавателя состоит не только в том, чтобы раскрыть суть ключевых понятий, но и озадачить детей вечными философскими вопросами, ответы на которые они будут искать все свою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 создании муз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 музей русского быта относительно молод, находится в стадии развития. В основе музея лежит принцип – музей для детей и руками детей. Задача образования видится не просто в усвоении ребенком суммы сведений, а в воспитании просвещённой личности путем сопричастности к живому опыту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ьный музей  - это сложный механизм, его жизнедеятельность целиком зависит от работы коллектива педагогов, учащихся, родителей. Наш музей создавался по инициативе педагогов и обучающихся, его организация в нашем образовательном учреждении есть результат краеведческой, экскурсионной работы учащихся и педагог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ая цель организаторов музея – цель духовно-нравственного поряд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«Национальной государственной концепции образования в России» четко сформулированы задачи, стоящие перед школой: «В этих тяжелых условиях наша школа, материально обессиленная, духовно дезориентированная, болеющая всеми болезнями сегодняшнего общества, остается, тем не менее, основным инструментом нравственного и умственного воспитания подрастающих поколений. Если мы еще упустим  несколько поколений, как уже было упущено, то будет уже не с кем восстанавливать наше Отечество. Россия, как духовная сущность, как вдохновляющий идеал перестанет существовать.  Система образования в сегодняшних условиях становится одним из главных инструментов преодоления духовно-нравственного кризиса нашего общества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7:17:13Z</dcterms:created>
  <dc:creator>1</dc:creator>
  <dc:description/>
  <dc:language>en-US</dc:language>
  <cp:lastModifiedBy>BOMBER</cp:lastModifiedBy>
  <dcterms:modified xsi:type="dcterms:W3CDTF">2012-10-22T17:51:3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