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62A-8EA2-4221-9011-8B91101D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9CE-B3BF-48DA-B201-8871935D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7E7-695F-4AB3-85BA-186EAE56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5B0-BFDB-4810-81A8-E0B7FC25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02D6-44BE-4DBD-BEB1-1D3DF256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2CA2-018A-47A8-B77C-D2180969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BE08-E1B0-495B-83B3-66E64484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ED8-E248-44B1-9996-851D167E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49B2-F5B9-4240-ACE3-DB2D303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0154-D225-44BF-8B7A-008A41EA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0775-8710-41A1-AECA-5B47AE89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5E5-28A5-4AA8-8250-56EF5C6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48DB-4853-4DFB-9178-DF37A74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684D-2CB3-47F8-AD23-B7F61B9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709-E7DE-4DB3-9A91-F3A06942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3B52-B712-4E6D-B7F6-10210591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7457-4090-40F9-ABD7-C34928A3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FE2-72FD-4A2A-A6F1-E463D6AF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D54-4410-4FA5-B164-55E9C8D9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CAE-444D-4AF1-8EE2-0D52288C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4BD-4F83-4683-9FED-CE7ED9F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79C-E11F-4CA8-9B12-F0CFDBBD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FE8-FBC5-419E-96EC-1D78ACE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1AE-0E37-4148-8610-BF43437D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CCE8-CBDA-4225-BBA0-1AC2C25E30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1089-9344-4FA7-8C66-6B166EB9CC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узейная практика как средство воспитания толерантности у обучающихся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кольный этнографический муз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ей позволит развивать ум и сердце, мышление и чувство, воображение и интуицию, приобретать функциональные знания о мире. А самое главное, позволит творить себя как целостного человека, занимающего достойное место в обществе, сохранившего свою самобытную культуру, вызывающего к себе интерес и уважение других людей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И СОЗДАНИЯ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оспитывать чувство любви к своей Родине, гордость за соотечествен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знакомить с предметами быта 19 – 20 в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спользовать экспонаты на уроках и внеклассных мероприят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охранить старинные ве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направления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нформиро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витие творческих нача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у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щ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тд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ой принцип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оставление посетителям музея возможности заниматься тем, что их интересует, создание условий для саморе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детей в поисково-исследовательской работе, изучение и описание музейных экспонатов, создание экспозиций, проведение экскурс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олнение досуга учащихся, овладение различными приёмами и навыками краеведческой дея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зультаты работы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годное пополнение фонда лучшими творческими работами детей и предметами стари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дение выставок новых поступл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в профильных конкурсах (районных, городских, областных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т о проведении экскурс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cc"/>
                </a:solidFill>
                <a:latin typeface="Tahoma"/>
              </a:rPr>
              <a:t>Школьный музей – центр духовно-нравственного воспитания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87992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и дети должны знать и любить прошлое родной земли, беречь его для счастливого и достойного будущего. Будущее – это новое поколение. Поэтому, чтобы создавались крепкие и дружные семьи, мы должны обратиться к отечественной культуре, так как именно в народной культуре заложены гуманные идеи единения человека и природы, ценные ориентиры для формирования трудолюбия, милосердия, мужества, любви к отчей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0" y="3086280"/>
            <a:ext cx="9144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0" y="5018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аким образом, школьный муз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становится своеобразным научно-исследовательским центром духовно-нравственного, гражданского и патриотического воспитания подрастающего покол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развивает творческие способности де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ак все начиналос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03-08-06_0957"/>
          <p:cNvPicPr/>
          <p:nvPr/>
        </p:nvPicPr>
        <p:blipFill>
          <a:blip r:embed="rId1"/>
          <a:stretch/>
        </p:blipFill>
        <p:spPr>
          <a:xfrm>
            <a:off x="711360" y="167652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4-08-06_1623"/>
          <p:cNvPicPr/>
          <p:nvPr/>
        </p:nvPicPr>
        <p:blipFill>
          <a:blip r:embed="rId2"/>
          <a:stretch/>
        </p:blipFill>
        <p:spPr>
          <a:xfrm>
            <a:off x="3809880" y="26668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аким наш музей ста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6" descr="SS852659"/>
          <p:cNvPicPr/>
          <p:nvPr/>
        </p:nvPicPr>
        <p:blipFill>
          <a:blip r:embed="rId1"/>
          <a:stretch/>
        </p:blipFill>
        <p:spPr>
          <a:xfrm>
            <a:off x="1219320" y="11811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ВОРЧЕСКИЕ РАБОТЫ УЧАЩИХС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детского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малых жанров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несказочной про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и текстов лирики, частуш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инения по теме «Улица, на которой я живу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рия храмов Астрахани и Астраханской обла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ельские работы по фольклору (реферат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льтурное наследие стра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 знания основ православной культуры нельзя оценить до конца российскую культуру в целом, язык, на котором говорит все население страны вне зависимости от национальности и вероисповед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славная культура – это культурное наследие нашей страны, так как она связана с национальными культурами многих народов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зультаты деятельности организаторов музе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изированная программа факультативного курса «Русский фольклор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ник фольклорных произведений (авторы: учителя русского языка и литературы Портнова Е.М., Ларионова И.Г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ценарии народных празд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з истории музейного де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ые музеи как кабинеты истории, литературы существовали во многих российских гимназиях в 19 ве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прос о целесообразности создания школьных музеев историко-краеведческой тематики был впервые поставлен в книге В.Я. Уланова «Опыт методики истории в начальной школе» (1914). С развитием школьного краеведения в 20-е годы ХХ века в России началось массовое создание школьных музе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ьшее развитие этот процесс получил во 2-й половине 50-х годов и особенно в70-е годы под влиянием широкомасштабных акций, проводившихся комсомольской и пионерской организац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1989 году в Париже проходила Генеральная конференция ООН по вопросам образования, науки и культуры. Основной темой заседаний стал фольклор. Результатом работы конференции был ряд рекомендаций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комендации заседания ООН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осударствам – членам ООН рекомендовано (в числе других мер) создавать музеи или отделы фольклора в существующих музеях, где могут устраиваться выставки традиционных и народных культур. Поэтому сохранение культурного наследия является одним из приоритетов и Российской государственной культурной политики. Как же это может быть воплощено в жизнь в конкретно взятом учебном заведении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авая определение фольклора, отмечалось, что его формы включают, в частности, язык, музыку, танцы, игры, мифологию, обряды, обычаи, ремесла, архитектуру и другие виды художественного творче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фика школьного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е музеи являются негосударственными музеями, работающими на общественных началах, и выполняют те же функции, что и государстве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фика школьного музея заключается в том, что в его деятельности преобладают образовательно-воспитательные функ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й музей – прежде всего действенное средство повышения эффективности обучения и воспитания 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то дают музейные урок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йные уроки позволяют «вывести» ребенка за пределы школы, дополнить школьное преподавание среди живой природы, в интерьерах музейных за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а преподавателя состоит не только в том, чтобы раскрыть суть ключевых понятий, но и озадачить детей вечными философскими вопросами, ответы на которые они будут искать все свою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 создании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 музей русского быта относительно молод, находится в стадии развития. В основе музея лежит принцип – музей для детей и руками детей. Задача образования видится не просто в усвоении ребенком суммы сведений, а в воспитании просвещённой личности путем сопричастности к живому опыту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музей  - это сложный механизм, его жизнедеятельность целиком зависит от работы коллектива педагогов, учащихся, родителей. Наш музей создавался по инициативе педагогов и обучающихся, его организация в нашем образовательном учреждении есть результат краеведческой, экскурсионной работы учащихся и педаго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ая цель организаторов музея – цель духовно-нравственного поряд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«Национальной государственной концепции образования в России» четко сформулированы задачи, стоящие перед школой: «В этих тяжелых условиях наша школа, материально обессиленная, духовно дезориентированная, болеющая всеми болезнями сегодняшнего общества, остается, тем не менее, основным инструментом нравственного и умственного воспитания подрастающих поколений. Если мы еще упустим  несколько поколений, как уже было упущено, то будет уже не с кем восстанавливать наше Отечество. Россия, как духовная сущность, как вдохновляющий идеал перестанет существовать.  Система образования в сегодняшних условиях становится одним из главных инструментов преодоления духовно-нравственного кризиса нашего общества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7:17:13Z</dcterms:created>
  <dc:creator>1</dc:creator>
  <dc:description/>
  <dc:language>en-US</dc:language>
  <cp:lastModifiedBy>BOMBER</cp:lastModifiedBy>
  <dcterms:modified xsi:type="dcterms:W3CDTF">2012-10-22T17:51:3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