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0C3-D00B-455C-9C41-A4E79E43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7F7C-FA12-4072-AFA7-A3D8C92D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581-E3FC-4879-BAB2-B42D38B7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1BE-EF3D-4A7C-B2C8-963E3451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D388-EA0D-458B-BDFF-51F6608F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9409-FACC-4405-BE58-6E304306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AD12-70DB-40CB-B70D-54159EAC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0B71-6428-4728-96F8-75461294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333F-42D8-4272-9EF0-0A740DAA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AE8E-D5A7-4640-9081-820C6BF8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6F6D-406B-4E12-9AB2-18135432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370-0E23-490F-8D83-C8BF495E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7DB9-8A3E-478C-96E6-8F0F5D44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82A3-2618-483A-B93F-31655AC5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63D9-8093-4EC5-AD2B-8657CAC8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2169-8A6B-4610-AB73-A0ED4484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915D-C37D-4A84-9680-43064CEB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FE6-6D3C-4A40-9BE1-B72C9EE5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D69-2FF9-44FB-9516-6DE7FC8E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C8B-4B77-4833-95A0-3D86AA91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BAA-AD88-4C47-B644-7F1C774C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61A7-3645-424C-B9CD-FA3A329B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E56E-F38F-4D19-803C-5A5249E0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E4E-4562-4A9A-ADED-41EF801A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612C-349F-42C6-8D08-3BD396AF1B7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359F-A372-463F-825A-BF11D41D30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Музейная практика как средство воспитания толерантности у обучающихся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кольный этнографический муз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ей позволит развивать ум и сердце, мышление и чувство, воображение и интуицию, приобретать функциональные знания о мире. А самое главное, позволит творить себя как целостного человека, занимающего достойное место в обществе, сохранившего свою самобытную культуру, вызывающего к себе интерес и уважение других людей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ЕЛИ СОЗДАНИЯ МУЗ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оспитывать чувство любви к своей Родине, гордость за соотечествен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ознакомить с предметами быта 19 – 20 в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использовать экспонаты на уроках и внеклассных мероприяти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охранить старинные вещ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овные направления деятельности музе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информирова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развитие творческих нача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буч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бщ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тд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овной принцип деятельности музе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оставление посетителям музея возможности заниматься тем, что их интересует, создание условий для самореализ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стие детей в поисково-исследовательской работе, изучение и описание музейных экспонатов, создание экспозиций, проведение экскурс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олнение досуга учащихся, овладение различными приёмами и навыками краеведческой деятель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зультаты работы музе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жегодное пополнение фонда лучшими творческими работами детей и предметами стари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дение выставок новых поступл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стие в профильных конкурсах (районных, городских, областных и т.д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чет о проведении экскурс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cc"/>
                </a:solidFill>
                <a:latin typeface="Tahoma"/>
              </a:rPr>
              <a:t>Школьный музей – центр духовно-нравственного воспитания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879920"/>
            <a:ext cx="861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и дети должны знать и любить прошлое родной земли, беречь его для счастливого и достойного будущего. Будущее – это новое поколение. Поэтому, чтобы создавались крепкие и дружные семьи, мы должны обратиться к отечественной культуре, так как именно в народной культуре заложены гуманные идеи единения человека и природы, ценные ориентиры для формирования трудолюбия, милосердия, мужества, любви к отчей зем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2"/>
          <p:cNvSpPr/>
          <p:nvPr/>
        </p:nvSpPr>
        <p:spPr>
          <a:xfrm>
            <a:off x="0" y="3086280"/>
            <a:ext cx="9144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0" y="5018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аким образом, школьный музе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становится своеобразным научно-исследовательским центром духовно-нравственного, гражданского и патриотического воспитания подрастающего покол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развивает творческие способности дет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ак все начиналос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4" descr="03-08-06_0957"/>
          <p:cNvPicPr/>
          <p:nvPr/>
        </p:nvPicPr>
        <p:blipFill>
          <a:blip r:embed="rId1"/>
          <a:stretch/>
        </p:blipFill>
        <p:spPr>
          <a:xfrm>
            <a:off x="711360" y="167652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4-08-06_1623"/>
          <p:cNvPicPr/>
          <p:nvPr/>
        </p:nvPicPr>
        <p:blipFill>
          <a:blip r:embed="rId2"/>
          <a:stretch/>
        </p:blipFill>
        <p:spPr>
          <a:xfrm>
            <a:off x="3809880" y="26668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аким наш музей стал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Picture 6" descr="SS852659"/>
          <p:cNvPicPr/>
          <p:nvPr/>
        </p:nvPicPr>
        <p:blipFill>
          <a:blip r:embed="rId1"/>
          <a:stretch/>
        </p:blipFill>
        <p:spPr>
          <a:xfrm>
            <a:off x="1219320" y="11811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ВОРЧЕСКИЕ РАБОТЫ УЧАЩИХС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текстов детского фолькло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текстов малых жанров фолькло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текстов несказочной проз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иси текстов лирики, частуш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чинения по теме «Улица, на которой я живу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тория храмов Астрахани и Астраханской обла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тельские работы по фольклору (рефераты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ультурное наследие стран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 знания основ православной культуры нельзя оценить до конца российскую культуру в целом, язык, на котором говорит все население страны вне зависимости от национальности и вероисповед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славная культура – это культурное наследие нашей страны, так как она связана с национальными культурами многих народов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зультаты деятельности организаторов музе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изированная программа факультативного курса «Русский фольклор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борник фольклорных произведений (авторы: учителя русского языка и литературы Портнова Е.М., Ларионова И.Г.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ценарии народных празд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з истории музейного дел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бные музеи как кабинеты истории, литературы существовали во многих российских гимназиях в 19 ве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прос о целесообразности создания школьных музеев историко-краеведческой тематики был впервые поставлен в книге В.Я. Уланова «Опыт методики истории в начальной школе» (1914). С развитием школьного краеведения в 20-е годы ХХ века в России началось массовое создание школьных музе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ибольшее развитие этот процесс получил во 2-й половине 50-х годов и особенно в70-е годы под влиянием широкомасштабных акций, проводившихся комсомольской и пионерской организац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1989 году в Париже проходила Генеральная конференция ООН по вопросам образования, науки и культуры. Основной темой заседаний стал фольклор. Результатом работы конференции был ряд рекомендаций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комендации заседания ООН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Государствам – членам ООН рекомендовано (в числе других мер) создавать музеи или отделы фольклора в существующих музеях, где могут устраиваться выставки традиционных и народных культур. Поэтому сохранение культурного наследия является одним из приоритетов и Российской государственной культурной политики. Как же это может быть воплощено в жизнь в конкретно взятом учебном заведении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авая определение фольклора, отмечалось, что его формы включают, в частности, язык, музыку, танцы, игры, мифологию, обряды, обычаи, ремесла, архитектуру и другие виды художественного творчест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ецифика школьного музе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ьные музеи являются негосударственными музеями, работающими на общественных началах, и выполняют те же функции, что и государствен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фика школьного музея заключается в том, что в его деятельности преобладают образовательно-воспитательные функ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ьный музей – прежде всего действенное средство повышения эффективности обучения и воспитания школь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то дают музейные урок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ейные уроки позволяют «вывести» ребенка за пределы школы, дополнить школьное преподавание среди живой природы, в интерьерах музейных за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а преподавателя состоит не только в том, чтобы раскрыть суть ключевых понятий, но и озадачить детей вечными философскими вопросами, ответы на которые они будут искать все свою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 создании муз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ш музей русского быта относительно молод, находится в стадии развития. В основе музея лежит принцип – музей для детей и руками детей. Задача образования видится не просто в усвоении ребенком суммы сведений, а в воспитании просвещённой личности путем сопричастности к живому опыту куль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ьный музей  - это сложный механизм, его жизнедеятельность целиком зависит от работы коллектива педагогов, учащихся, родителей. Наш музей создавался по инициативе педагогов и обучающихся, его организация в нашем образовательном учреждении есть результат краеведческой, экскурсионной работы учащихся и педагог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ая цель организаторов музея – цель духовно-нравственного поряд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«Национальной государственной концепции образования в России» четко сформулированы задачи, стоящие перед школой: «В этих тяжелых условиях наша школа, материально обессиленная, духовно дезориентированная, болеющая всеми болезнями сегодняшнего общества, остается, тем не менее, основным инструментом нравственного и умственного воспитания подрастающих поколений. Если мы еще упустим  несколько поколений, как уже было упущено, то будет уже не с кем восстанавливать наше Отечество. Россия, как духовная сущность, как вдохновляющий идеал перестанет существовать.  Система образования в сегодняшних условиях становится одним из главных инструментов преодоления духовно-нравственного кризиса нашего общества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7:17:13Z</dcterms:created>
  <dc:creator>1</dc:creator>
  <dc:description/>
  <dc:language>en-US</dc:language>
  <cp:lastModifiedBy>BOMBER</cp:lastModifiedBy>
  <dcterms:modified xsi:type="dcterms:W3CDTF">2012-10-22T17:51:35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