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D2B-F20A-4A47-A463-9A1FCACB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6B2-1DBF-4DF5-8E97-16C412D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C84-0AE4-4653-8250-D38C5081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EC3-4715-40B5-AF7F-003F6AF6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D6E-2858-4894-9787-6013430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6BE-593A-44FD-9ACC-5C26F45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557-FCD1-438E-8B7C-EB1C26C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3DD-EE76-4252-870D-43EECAB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AFF-9C53-4C40-BBF7-71A4020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58D-A2A4-462C-955A-DE8695C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2F8-DAD0-4A3B-A174-D726F28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0D8-BEAD-4DD9-B54E-3B4F58F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C30-C06C-40EC-8B94-759DABC84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resizedimage600316-family_w500_h263"/>
          <p:cNvPicPr/>
          <p:nvPr/>
        </p:nvPicPr>
        <p:blipFill>
          <a:blip r:embed="rId1"/>
          <a:stretch/>
        </p:blipFill>
        <p:spPr>
          <a:xfrm>
            <a:off x="395280" y="1565280"/>
            <a:ext cx="874872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258920" y="189000"/>
            <a:ext cx="65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3276720" y="1268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ы №10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тему: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2411280" y="2133720"/>
            <a:ext cx="4251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оя Семья"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55640" y="333360"/>
            <a:ext cx="77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95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работчики проекта "Моя Семь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рмошкина.Н.Н, Гвоздева.Н.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1700280"/>
            <a:ext cx="320364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5867280" y="1700280"/>
            <a:ext cx="327672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843280" y="1700280"/>
            <a:ext cx="331308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03280" y="1700280"/>
            <a:ext cx="86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211640" y="1700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732720" y="1700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88000" y="162864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 реализации      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68360" y="2276640"/>
            <a:ext cx="223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организационно-педагогических условий формирования у детей дошкольного возраста духовно-нравственного отношения и чувства сопричастности к родному дому,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492360" y="213372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348000" y="2133720"/>
            <a:ext cx="25192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е о семье, професси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ть у детей любовь и уважение к членам семьи, учить проявлять заботу о родных люд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гащать детско-родительские отношения опытом совместной творче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ть коммуникативные навык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516720" y="2133720"/>
            <a:ext cx="21589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ние детьми информации о свое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детьми значимости семья в жизни каждо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ние организовывать сюжетно-ролевые игры на основе имеющихся знаний о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вление заботы и уважения ко всем членам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bfd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549360"/>
            <a:ext cx="8642160" cy="179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ставление творческих рассказов на тему: «Моя семья»,«Как я помогаю дома»,«Мой домашний питомец»;                                                                                                                   -Пословицы и поговорки о семье;                                                                                            -Беседы на тему:«Кем работают мои родители»;                                                                   -Чтение художественной литературы на тему:«Семья», сказки «Кукушка»,«Сестрица Аленушка и братец Иванушка», «Гуси-лебеди»,«Сыновья»,«Мальчик-с пальчик»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268360" y="189000"/>
            <a:ext cx="46310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ение проек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2637000"/>
            <a:ext cx="8640720" cy="13107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матические занятия: «Права и обязанности в семье»,«Мое имя»,«Моя дружная семья»,«Моя родословная»,«Папа-мой лучший друг»,«Моя любимая бабуля»;                -Изготовление газеты: «Наши имена»,«Моя семья»;                                                             -Знакомство с профессиям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24000" y="4292640"/>
            <a:ext cx="8640720" cy="22842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- Сюжетно-ролевые игры: «Семья»,«День Рождение», «Магазин»,«Больница»,«Дочки-матери»,«Библиотека»,«Путешествие»;                                                                                -Дидактические игры: «Кем ты приходишься своим родителям?»,«Кто ты для бабушки?»,«Кто старше?»,«Кем быть?»,«Кому что нужно для работы?»;                          -Игры-драматизации по сказкам: «Красная шапочка», «Федорино горе»,                          «Муха-цокотуха»;                                                                                                                                  -Инсценировки: «Три мамы»,«Сказка для мамочки»;                                                            -Строительные игры: «Мебель для дома»,«Дом в котором я живу»,«Моя комна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ea"/>
            </a:gs>
            <a:gs pos="50000">
              <a:srgbClr val="ff0066"/>
            </a:gs>
            <a:gs pos="100000">
              <a:srgbClr val="ffdc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836640"/>
            <a:ext cx="8497800" cy="15541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дуктивн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исование на темы: «Моя семья»,«Дом в котором я живу»,«Я рисую,я рисую, мамочка тебя»;                                                                                                                       -Аппликация: «Моя семья»;                                                                                                   -Изготовление подарков для мам,пап,бабушек,дедушек,приглашений,открыток для всех членов семь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2924280"/>
            <a:ext cx="8497800" cy="3014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бота с родителям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стреча с родителями: рассказы родителей о своей профессии;                                                                                      -Консультации для родителей: «Родословная- моя гордость»;                                         -Индивидуальные беседы и консультации;                                                                         -Консультация: «Мама,папа,я-счастливая семья или незабываемый выходной»;           -Беседа: «Семейные традиции»;                                                                                           -Проект: «Счастливый выходной день»;                                                                              -Выпуск газеты ко дню матери;                                                                                             -Выставка: «Генеалогическое древо моей семьи»;                                                             -Помощь родителей по сбору материалов, необходимых для реализации проекта «Моя семья»;                                                                                                                          -Участие родителей в открытых меропри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b4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708360" y="260280"/>
            <a:ext cx="51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рисую,я рисую,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мочка,тебя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5" descr="Рисунок3"/>
          <p:cNvPicPr/>
          <p:nvPr/>
        </p:nvPicPr>
        <p:blipFill>
          <a:blip r:embed="rId1"/>
          <a:stretch/>
        </p:blipFill>
        <p:spPr>
          <a:xfrm>
            <a:off x="468360" y="404640"/>
            <a:ext cx="2484360" cy="331164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3" name="Picture 6" descr="Фото0196"/>
          <p:cNvPicPr/>
          <p:nvPr/>
        </p:nvPicPr>
        <p:blipFill>
          <a:blip r:embed="rId2"/>
          <a:stretch/>
        </p:blipFill>
        <p:spPr>
          <a:xfrm>
            <a:off x="3203640" y="1557360"/>
            <a:ext cx="2725560" cy="2044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4" name="Picture 7" descr="Фото0190"/>
          <p:cNvPicPr/>
          <p:nvPr/>
        </p:nvPicPr>
        <p:blipFill>
          <a:blip r:embed="rId3"/>
          <a:stretch/>
        </p:blipFill>
        <p:spPr>
          <a:xfrm>
            <a:off x="4284720" y="4221000"/>
            <a:ext cx="3301920" cy="2476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5" name="Picture 8" descr="Фото0038"/>
          <p:cNvPicPr/>
          <p:nvPr/>
        </p:nvPicPr>
        <p:blipFill>
          <a:blip r:embed="rId4"/>
          <a:stretch/>
        </p:blipFill>
        <p:spPr>
          <a:xfrm>
            <a:off x="611280" y="4149720"/>
            <a:ext cx="3203640" cy="240192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6156360" y="1484280"/>
            <a:ext cx="3709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даpок pазноцвет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аpить pешила ма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таpалась, pисов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тыpьмя каpандаш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о сначала я на кpас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шком сильно нажи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, за кpасным сpазy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олетовый сло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 сломался сини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pанжевый сломала..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pавно поpтpет кpасивый,     Потомy что это - мама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SC07595"/>
          <p:cNvPicPr/>
          <p:nvPr/>
        </p:nvPicPr>
        <p:blipFill>
          <a:blip r:embed="rId2"/>
          <a:stretch/>
        </p:blipFill>
        <p:spPr>
          <a:xfrm>
            <a:off x="179280" y="189000"/>
            <a:ext cx="2428920" cy="32400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0" name="Picture 5" descr="DSC07611"/>
          <p:cNvPicPr/>
          <p:nvPr/>
        </p:nvPicPr>
        <p:blipFill>
          <a:blip r:embed="rId3"/>
          <a:stretch/>
        </p:blipFill>
        <p:spPr>
          <a:xfrm>
            <a:off x="2700360" y="189000"/>
            <a:ext cx="2843280" cy="2131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1" name="Picture 6" descr="DSC07636"/>
          <p:cNvPicPr/>
          <p:nvPr/>
        </p:nvPicPr>
        <p:blipFill>
          <a:blip r:embed="rId4"/>
          <a:stretch/>
        </p:blipFill>
        <p:spPr>
          <a:xfrm>
            <a:off x="3276720" y="2565360"/>
            <a:ext cx="2869920" cy="2152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2" name="Picture 7" descr="DSC07655"/>
          <p:cNvPicPr/>
          <p:nvPr/>
        </p:nvPicPr>
        <p:blipFill>
          <a:blip r:embed="rId5"/>
          <a:stretch/>
        </p:blipFill>
        <p:spPr>
          <a:xfrm>
            <a:off x="179280" y="3933720"/>
            <a:ext cx="2952720" cy="22147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3" name="Picture 8" descr="DSC07731"/>
          <p:cNvPicPr/>
          <p:nvPr/>
        </p:nvPicPr>
        <p:blipFill>
          <a:blip r:embed="rId6"/>
          <a:stretch/>
        </p:blipFill>
        <p:spPr>
          <a:xfrm>
            <a:off x="5940360" y="189000"/>
            <a:ext cx="2916360" cy="2187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4" name="Picture 9" descr="DSC07805"/>
          <p:cNvPicPr/>
          <p:nvPr/>
        </p:nvPicPr>
        <p:blipFill>
          <a:blip r:embed="rId7"/>
          <a:stretch/>
        </p:blipFill>
        <p:spPr>
          <a:xfrm>
            <a:off x="6372360" y="4724280"/>
            <a:ext cx="2582640" cy="1936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85" name="Text Box 10"/>
          <p:cNvSpPr/>
          <p:nvPr/>
        </p:nvSpPr>
        <p:spPr>
          <a:xfrm>
            <a:off x="6443640" y="314172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Любим мы музеи посещ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6308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56400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Семья Отводенк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4:19:49Z</dcterms:created>
  <dc:creator>оксана</dc:creator>
  <dc:description/>
  <dc:language>en-US</dc:language>
  <cp:lastModifiedBy>Наташа</cp:lastModifiedBy>
  <dcterms:modified xsi:type="dcterms:W3CDTF">2012-06-10T11:52:52Z</dcterms:modified>
  <cp:revision>33</cp:revision>
  <dc:subject/>
  <dc:title>Слайд 1</dc:title>
</cp:coreProperties>
</file>