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45B-9C45-4269-9FD8-2BA84959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2E4-F9BF-4926-8B4C-5733EF54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47C-92DA-40E8-8543-66F67C09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C53-5CFB-4016-B07B-D61C99C4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EFB-CFBC-49E4-8CE4-8E55D36B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E50-D1C2-4BB7-AE26-99B289B5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9E3-DC10-434A-8528-49BD27C9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CA8-6123-4160-8B97-F7DED341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914-1014-49F3-8258-8CE5352D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4EC-4F4E-4035-96FC-26E9DD49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52A-17E6-4DFF-B988-04CE72CB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545-655B-4D01-9F9A-6F34D8F1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70BB-1194-46D6-9B81-F741E99B69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resizedimage600316-family_w500_h263"/>
          <p:cNvPicPr/>
          <p:nvPr/>
        </p:nvPicPr>
        <p:blipFill>
          <a:blip r:embed="rId1"/>
          <a:stretch/>
        </p:blipFill>
        <p:spPr>
          <a:xfrm>
            <a:off x="395280" y="1565280"/>
            <a:ext cx="8748720" cy="529272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1258920" y="189000"/>
            <a:ext cx="655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3276720" y="1268280"/>
            <a:ext cx="25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ы №10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тему: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WordArt 11"/>
          <p:cNvSpPr txBox="1"/>
          <p:nvPr/>
        </p:nvSpPr>
        <p:spPr>
          <a:xfrm>
            <a:off x="2411280" y="2133720"/>
            <a:ext cx="4251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оя Семья"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ff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755640" y="333360"/>
            <a:ext cx="777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95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работчики проекта "Моя Семья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рмошкина.Н.Н, Гвоздева.Н.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1700280"/>
            <a:ext cx="3203640" cy="4608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5867280" y="1700280"/>
            <a:ext cx="3276720" cy="4608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843280" y="1700280"/>
            <a:ext cx="3313080" cy="4608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403280" y="1700280"/>
            <a:ext cx="865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211640" y="170028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732720" y="170028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588000" y="1628640"/>
            <a:ext cx="23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тоги реализации      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68360" y="2276640"/>
            <a:ext cx="2232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ние организационно-педагогических условий формирования у детей дошкольного возраста духовно-нравственного отношения и чувства сопричастности к родному дому, сем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492360" y="2133720"/>
            <a:ext cx="21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348000" y="2133720"/>
            <a:ext cx="25192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ть у детей представление о семье, профессии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ывать у детей любовь и уважение к членам семьи, учить проявлять заботу о родных люд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гащать детско-родительские отношения опытом совместной творческ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вать коммуникативные навыки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6516720" y="2133720"/>
            <a:ext cx="21589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ние детьми информации о своей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нимание детьми значимости семья в жизни каждого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ние организовывать сюжетно-ролевые игры на основе имеющихся знаний о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явление заботы и уважения ко всем членам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bfd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24000" y="549360"/>
            <a:ext cx="8642160" cy="179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чевое развит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оставление творческих рассказов на тему: «Моя семья»,«Как я помогаю дома»,«Мой домашний питомец»;                                                                                                                   -Пословицы и поговорки о семье;                                                                                            -Беседы на тему:«Кем работают мои родители»;                                                                   -Чтение художественной литературы на тему:«Семья», сказки «Кукушка»,«Сестрица Аленушка и братец Иванушка», «Гуси-лебеди»,«Сыновья»,«Мальчик-с пальчик»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268360" y="189000"/>
            <a:ext cx="46310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олнение проект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4000" y="2637000"/>
            <a:ext cx="8640720" cy="131076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е развит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Тематические занятия: «Права и обязанности в семье»,«Мое имя»,«Моя дружная семья»,«Моя родословная»,«Папа-мой лучший друг»,«Моя любимая бабуля»;                -Изготовление газеты: «Наши имена»,«Моя семья»;                                                             -Знакомство с профессиями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24000" y="4292640"/>
            <a:ext cx="8640720" cy="2284200"/>
          </a:xfrm>
          <a:prstGeom prst="rect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гровая деятельность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- Сюжетно-ролевые игры: «Семья»,«День Рождение», «Магазин»,«Больница»,«Дочки-матери»,«Библиотека»,«Путешествие»;                                                                                -Дидактические игры: «Кем ты приходишься своим родителям?»,«Кто ты для бабушки?»,«Кто старше?»,«Кем быть?»,«Кому что нужно для работы?»;                          -Игры-драматизации по сказкам: «Красная шапочка», «Федорино горе»,                          «Муха-цокотуха»;                                                                                                                                  -Инсценировки: «Три мамы»,«Сказка для мамочки»;                                                            -Строительные игры: «Мебель для дома»,«Дом в котором я живу»,«Моя комна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cea"/>
            </a:gs>
            <a:gs pos="50000">
              <a:srgbClr val="ff0066"/>
            </a:gs>
            <a:gs pos="100000">
              <a:srgbClr val="ffdc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5280" y="836640"/>
            <a:ext cx="8497800" cy="15541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дуктивная деятельность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Рисование на темы: «Моя семья»,«Дом в котором я живу»,«Я рисую,я рисую, мамочка тебя»;                                                                                                                       -Аппликация: «Моя семья»;                                                                                                   -Изготовление подарков для мам,пап,бабушек,дедушек,приглашений,открыток для всех членов семь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2924280"/>
            <a:ext cx="8497800" cy="3014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бота с родителям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стреча с родителями: рассказы родителей о своей профессии;                                                                                      -Консультации для родителей: «Родословная- моя гордость»;                                         -Индивидуальные беседы и консультации;                                                                         -Консультация: «Мама,папа,я-счастливая семья или незабываемый выходной»;           -Беседа: «Семейные традиции»;                                                                                           -Проект: «Счастливый выходной день»;                                                                              -Выпуск газеты ко дню матери;                                                                                             -Выставка: «Генеалогическое древо моей семьи»;                                                             -Помощь родителей по сбору материалов, необходимых для реализации проекта «Моя семья»;                                                                                                                          -Участие родителей в открытых мероприят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b4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3708360" y="260280"/>
            <a:ext cx="511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810034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 рисую,я рисую,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810034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810034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мочка,тебя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810034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Picture 5" descr="Рисунок3"/>
          <p:cNvPicPr/>
          <p:nvPr/>
        </p:nvPicPr>
        <p:blipFill>
          <a:blip r:embed="rId1"/>
          <a:stretch/>
        </p:blipFill>
        <p:spPr>
          <a:xfrm>
            <a:off x="468360" y="404640"/>
            <a:ext cx="2484360" cy="3311640"/>
          </a:xfrm>
          <a:prstGeom prst="rect">
            <a:avLst/>
          </a:prstGeom>
          <a:ln w="25560">
            <a:solidFill>
              <a:srgbClr val="ff3399"/>
            </a:solidFill>
            <a:miter/>
          </a:ln>
        </p:spPr>
      </p:pic>
      <p:pic>
        <p:nvPicPr>
          <p:cNvPr id="73" name="Picture 6" descr="Фото0196"/>
          <p:cNvPicPr/>
          <p:nvPr/>
        </p:nvPicPr>
        <p:blipFill>
          <a:blip r:embed="rId2"/>
          <a:stretch/>
        </p:blipFill>
        <p:spPr>
          <a:xfrm>
            <a:off x="3203640" y="1557360"/>
            <a:ext cx="2725560" cy="2044800"/>
          </a:xfrm>
          <a:prstGeom prst="rect">
            <a:avLst/>
          </a:prstGeom>
          <a:ln w="25560">
            <a:solidFill>
              <a:srgbClr val="ff3399"/>
            </a:solidFill>
            <a:miter/>
          </a:ln>
        </p:spPr>
      </p:pic>
      <p:pic>
        <p:nvPicPr>
          <p:cNvPr id="74" name="Picture 7" descr="Фото0190"/>
          <p:cNvPicPr/>
          <p:nvPr/>
        </p:nvPicPr>
        <p:blipFill>
          <a:blip r:embed="rId3"/>
          <a:stretch/>
        </p:blipFill>
        <p:spPr>
          <a:xfrm>
            <a:off x="4284720" y="4221000"/>
            <a:ext cx="3301920" cy="2476800"/>
          </a:xfrm>
          <a:prstGeom prst="rect">
            <a:avLst/>
          </a:prstGeom>
          <a:ln w="25560">
            <a:solidFill>
              <a:srgbClr val="ff3399"/>
            </a:solidFill>
            <a:miter/>
          </a:ln>
        </p:spPr>
      </p:pic>
      <p:pic>
        <p:nvPicPr>
          <p:cNvPr id="75" name="Picture 8" descr="Фото0038"/>
          <p:cNvPicPr/>
          <p:nvPr/>
        </p:nvPicPr>
        <p:blipFill>
          <a:blip r:embed="rId4"/>
          <a:stretch/>
        </p:blipFill>
        <p:spPr>
          <a:xfrm>
            <a:off x="611280" y="4149720"/>
            <a:ext cx="3203640" cy="2401920"/>
          </a:xfrm>
          <a:prstGeom prst="rect">
            <a:avLst/>
          </a:prstGeom>
          <a:ln w="25560">
            <a:solidFill>
              <a:srgbClr val="ff3399"/>
            </a:solidFill>
            <a:miter/>
          </a:ln>
        </p:spPr>
      </p:pic>
      <p:sp>
        <p:nvSpPr>
          <p:cNvPr id="76" name="Text Box 9"/>
          <p:cNvSpPr/>
          <p:nvPr/>
        </p:nvSpPr>
        <p:spPr>
          <a:xfrm>
            <a:off x="6156360" y="1484280"/>
            <a:ext cx="3709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даpок pазноцветны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аpить pешила мам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стаpалась, pисова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тыpьмя каpандашам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о сначала я на кpасны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шком сильно нажимал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потом, за кpасным сpазy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олетовый сломал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потом сломался сини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оpанжевый сломала..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pавно поpтpет кpасивый,     Потомy что это - мама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SC07595"/>
          <p:cNvPicPr/>
          <p:nvPr/>
        </p:nvPicPr>
        <p:blipFill>
          <a:blip r:embed="rId2"/>
          <a:stretch/>
        </p:blipFill>
        <p:spPr>
          <a:xfrm>
            <a:off x="179280" y="189000"/>
            <a:ext cx="2428920" cy="324000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0" name="Picture 5" descr="DSC07611"/>
          <p:cNvPicPr/>
          <p:nvPr/>
        </p:nvPicPr>
        <p:blipFill>
          <a:blip r:embed="rId3"/>
          <a:stretch/>
        </p:blipFill>
        <p:spPr>
          <a:xfrm>
            <a:off x="2700360" y="189000"/>
            <a:ext cx="2843280" cy="213192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1" name="Picture 6" descr="DSC07636"/>
          <p:cNvPicPr/>
          <p:nvPr/>
        </p:nvPicPr>
        <p:blipFill>
          <a:blip r:embed="rId4"/>
          <a:stretch/>
        </p:blipFill>
        <p:spPr>
          <a:xfrm>
            <a:off x="3276720" y="2565360"/>
            <a:ext cx="2869920" cy="215280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2" name="Picture 7" descr="DSC07655"/>
          <p:cNvPicPr/>
          <p:nvPr/>
        </p:nvPicPr>
        <p:blipFill>
          <a:blip r:embed="rId5"/>
          <a:stretch/>
        </p:blipFill>
        <p:spPr>
          <a:xfrm>
            <a:off x="179280" y="3933720"/>
            <a:ext cx="2952720" cy="221472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3" name="Picture 8" descr="DSC07731"/>
          <p:cNvPicPr/>
          <p:nvPr/>
        </p:nvPicPr>
        <p:blipFill>
          <a:blip r:embed="rId6"/>
          <a:stretch/>
        </p:blipFill>
        <p:spPr>
          <a:xfrm>
            <a:off x="5940360" y="189000"/>
            <a:ext cx="2916360" cy="218736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4" name="Picture 9" descr="DSC07805"/>
          <p:cNvPicPr/>
          <p:nvPr/>
        </p:nvPicPr>
        <p:blipFill>
          <a:blip r:embed="rId7"/>
          <a:stretch/>
        </p:blipFill>
        <p:spPr>
          <a:xfrm>
            <a:off x="6372360" y="4724280"/>
            <a:ext cx="2582640" cy="193680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sp>
        <p:nvSpPr>
          <p:cNvPr id="85" name="Text Box 10"/>
          <p:cNvSpPr/>
          <p:nvPr/>
        </p:nvSpPr>
        <p:spPr>
          <a:xfrm>
            <a:off x="6443640" y="314172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Любим мы музеи посещ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340000" y="6308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564000" y="5445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Семья Отводенков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4:19:49Z</dcterms:created>
  <dc:creator>оксана</dc:creator>
  <dc:description/>
  <dc:language>en-US</dc:language>
  <cp:lastModifiedBy>Наташа</cp:lastModifiedBy>
  <dcterms:modified xsi:type="dcterms:W3CDTF">2012-06-10T11:52:52Z</dcterms:modified>
  <cp:revision>33</cp:revision>
  <dc:subject/>
  <dc:title>Слайд 1</dc:title>
</cp:coreProperties>
</file>