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media/push.wav" ContentType="audio/x-wav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48B-39E1-499E-A258-BAE7D2837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FEF0-C0A4-4E56-B9E9-FAD6F06D7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3" descr="gfd ge ytr tyuaz yurt 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758AD2B8-70C6-4206-A39F-02442A76741C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orpsy.ru/methodology/pedagogicheskaya_deyatelnost/" TargetMode="External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18_&#1092;&#1077;&#1074;&#1088;&#1072;&#1083;&#1103;" TargetMode="External"/><Relationship Id="rId3" Type="http://schemas.openxmlformats.org/officeDocument/2006/relationships/hyperlink" Target="http://ru.wikipedia.org/wiki/1903_&#1075;&#1086;&#1076;" TargetMode="External"/><Relationship Id="rId4" Type="http://schemas.openxmlformats.org/officeDocument/2006/relationships/hyperlink" Target="http://ru.wikipedia.org/wiki/&#1052;&#1086;&#1089;&#1082;&#1074;&#1072;" TargetMode="External"/><Relationship Id="rId5" Type="http://schemas.openxmlformats.org/officeDocument/2006/relationships/hyperlink" Target="http://ru.wikipedia.org/wiki/21_&#1103;&#1085;&#1074;&#1072;&#1088;&#1103;" TargetMode="External"/><Relationship Id="rId6" Type="http://schemas.openxmlformats.org/officeDocument/2006/relationships/hyperlink" Target="http://ru.wikipedia.org/wiki/1979_&#1075;&#1086;&#1076;" TargetMode="External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9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8" descr="df dsf sdf zr 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Text Box 6" descr=""/>
          <p:cNvPicPr/>
          <p:nvPr/>
        </p:nvPicPr>
        <p:blipFill>
          <a:blip r:embed="rId3"/>
          <a:stretch/>
        </p:blipFill>
        <p:spPr>
          <a:xfrm>
            <a:off x="-36360" y="85680"/>
            <a:ext cx="8802360" cy="628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4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4292640"/>
            <a:ext cx="802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кова Аэлита Капитоновна</a:t>
            </a:r>
            <a:br>
              <a:rPr sz="4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тор психологических наук, профессор кафедры акмеологии и психологии профессиональной деятельности РАГС, академик Международной Академии акмеологических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3321360" cy="4363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А.К. Маркова описывает две группы психологических характеристик познавательных и социальных мотив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2707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группа мотивационных характеристик — их называю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тельным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прямо связана с содержанием осуществляемой школьником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ая группа характеристик — их условно называю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инамически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характеризует форму, динамику выражения этих моти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2f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2f01"/>
                </a:solidFill>
                <a:latin typeface="Arial"/>
              </a:rPr>
              <a:t>Содержательными характеристиками мотивов 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   наличие личностного смысла учения для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   наличие действенности мотива, т.е. его реального влияния на ход учебной деятельности и всего повед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   место мотива в общей структуре мотив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   самостоятельность возникновения и проявления мо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   уровень осознания мо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степень распространения мотива на разные типы деятельности, виды учебных предметов, формы учебны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15560"/>
            <a:ext cx="8642160" cy="65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намические характеристики мотив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Устойчивость мотивов. Проявляется и в том, что ученик учится с охотой даже вопреки неблагоприятным внешним стимулам, помехам, и в том, что ученик не может не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  Модальность мотивов — их эмоциональная окраска. Психологи говорят об отрицательной и положительной мотивации 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  Другие формы проявления мотивов выражаются также в силе мотива, его выраженности, быстроте возникновения и т.д. Они обнаруживаются в том, например, как долго может сидеть школьник над работой, сколько заданий он может выполнить, движимый данным мотивом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40464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  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аблюдени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 поведением учеников во время урока и вне его, за учебной, общественно полезной, организационной и другими видами деятельности, характером общения школьников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•          результаты этих наблюдений фиксируются в дневниках учителя, в педагогических характеристиках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•          использование ряда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специально подобранных ситуаций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 (их можно назвать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экспериментальными педагогическими ситуациями),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которые можно включить в естественный ход учебного процесса в виде контрольной работы, заданий классного руководителя на классном часе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•          </a:t>
            </a: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индивидуальная беседа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 с учеником, предполагающая прямые и косвенные вопросы учителя о мотивах, смысле, целях учения для данного ученик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         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кетирование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могающее довольно быстро собрать массовый материал в нескольких классах, школах об отношении школьников к 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054160" y="-42840"/>
            <a:ext cx="7407360" cy="722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440" y="48528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9280" y="5589720"/>
            <a:ext cx="7200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ис Герасимович Ананьев    01 августа 1907 – 197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етский психолог, создатель и лидер Петербургской научной школы психол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"/>
          <p:cNvPicPr/>
          <p:nvPr/>
        </p:nvPicPr>
        <p:blipFill>
          <a:blip r:embed="rId1"/>
          <a:srcRect l="0" t="13124" r="0" b="13124"/>
          <a:stretch/>
        </p:blipFill>
        <p:spPr>
          <a:xfrm>
            <a:off x="1792440" y="189000"/>
            <a:ext cx="601956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ути развития учебной мотивации. Рекомендации для учител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смысленная деятельность учителя – осмысленное об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витие внутренней мотивации – это движение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тратегия «Положительная мотивац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отивация достижения и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 помочь ученику выйти из состояния «выученной беспомощ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Эмоциональность урока –стимул или вр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Любознательность и познавательный инте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Взаимоотношение учителя с классом и учебная мотив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바탕"/>
                <a:ea typeface="바탕"/>
              </a:rPr>
              <a:t>ВЫВОДЫ:</a:t>
            </a:r>
            <a:br>
              <a:rPr sz="4400"/>
            </a:b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바탕"/>
              </a:rPr>
              <a:t>Мотивация является особо важным и специфическим компонентом учебной деятельности, через реализацию и посредством которого возможно формирование учебной деятельности школьников в целом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바탕"/>
              </a:rPr>
              <a:t>Через мотивацию педагогические цели быстрее превращаются в психические цели обучаемых; через содержание формируется определенное отношение учащихся к учебному предмету и осознается его ценностная значимость для личностного, в том числе интеллектуального развития ребенка; с помощью побуждающих функций средств в педагогической коммуникации актуализируются и осваиваются учебные ситуации; систематический контроль за учебной деятельностью и его результаты используются для формирования ответственности и принятия корректир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Может пригодиться:</a:t>
            </a:r>
            <a:br>
              <a:rPr sz="4400"/>
            </a:br>
            <a:br>
              <a:rPr sz="4400"/>
            </a:br>
            <a:r>
              <a:rPr b="0" i="1" lang="ru-RU" sz="40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http://forpsy.ru/methodology/pedagogicheskaya_deyatelnost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266920" y="1206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МОТИВАЦИЯ УЧЕБНОЙ ДЕЯТЕЛЬНОСТИ И ЕЕ ФОР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 Box 8" descr=""/>
          <p:cNvPicPr/>
          <p:nvPr/>
        </p:nvPicPr>
        <p:blipFill>
          <a:blip r:embed="rId1"/>
          <a:stretch/>
        </p:blipFill>
        <p:spPr>
          <a:xfrm>
            <a:off x="1657440" y="2114640"/>
            <a:ext cx="7340400" cy="4707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тернет ресурсы:</a:t>
            </a:r>
            <a:br>
              <a:rPr sz="4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komfort2011.narod.ru/markowa.html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forpsy.ru/biography/otechestvennye_psikhologi/markova_aelita_kapitonovna/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rudocs.exdat.com/docs/index-269665.html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people.su/5760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/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rc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cher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e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ol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50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y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m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388360" cy="619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050920" y="4292640"/>
            <a:ext cx="67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оветский психолог, занимавшийся проблемами общей психологии и методологией психологического исследования. Был одним из создателей факультета психологии Московского государственного универс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305080" y="436680"/>
            <a:ext cx="2998800" cy="3725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448240" y="190080"/>
            <a:ext cx="337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Алексе́й Никола́евич Лео́нтьев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(5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18) февраля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03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сква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1 января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79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Москв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7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47280" y="549000"/>
            <a:ext cx="7139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 — это предвидимый результат, представляемый и осознаваемый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тив - побуждение к достижению ц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92160" y="4762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2663640" cy="230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4"/>
          <a:stretch/>
        </p:blipFill>
        <p:spPr>
          <a:xfrm>
            <a:off x="4500720" y="479520"/>
            <a:ext cx="381636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5" name="push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ы мотивации учебной деятель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4"/>
          <p:cNvCxnSpPr/>
          <p:nvPr/>
        </p:nvCxnSpPr>
        <p:spPr>
          <a:xfrm flipH="1">
            <a:off x="3058920" y="1773000"/>
            <a:ext cx="1442160" cy="935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4" name="Овал 5" descr=""/>
          <p:cNvPicPr/>
          <p:nvPr/>
        </p:nvPicPr>
        <p:blipFill>
          <a:blip r:embed="rId1"/>
          <a:stretch/>
        </p:blipFill>
        <p:spPr>
          <a:xfrm>
            <a:off x="-298440" y="2475000"/>
            <a:ext cx="3852720" cy="3097080"/>
          </a:xfrm>
          <a:prstGeom prst="rect">
            <a:avLst/>
          </a:prstGeom>
          <a:ln w="0">
            <a:noFill/>
          </a:ln>
        </p:spPr>
      </p:pic>
      <p:cxnSp>
        <p:nvCxnSpPr>
          <p:cNvPr id="65" name="Прямая со стрелкой 7"/>
          <p:cNvCxnSpPr/>
          <p:nvPr/>
        </p:nvCxnSpPr>
        <p:spPr>
          <a:xfrm>
            <a:off x="4500720" y="1773360"/>
            <a:ext cx="1242000" cy="792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6" name="Овал 8" descr=""/>
          <p:cNvPicPr/>
          <p:nvPr/>
        </p:nvPicPr>
        <p:blipFill>
          <a:blip r:embed="rId2"/>
          <a:stretch/>
        </p:blipFill>
        <p:spPr>
          <a:xfrm>
            <a:off x="5694480" y="2163600"/>
            <a:ext cx="3004920" cy="206712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12"/>
          <p:cNvCxnSpPr/>
          <p:nvPr/>
        </p:nvCxnSpPr>
        <p:spPr>
          <a:xfrm flipH="1">
            <a:off x="5624280" y="3862440"/>
            <a:ext cx="964080" cy="668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8" name="Скругленный прямоугольник 13" descr=""/>
          <p:cNvPicPr/>
          <p:nvPr/>
        </p:nvPicPr>
        <p:blipFill>
          <a:blip r:embed="rId3"/>
          <a:stretch/>
        </p:blipFill>
        <p:spPr>
          <a:xfrm>
            <a:off x="3651120" y="4346640"/>
            <a:ext cx="2146320" cy="226692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15"/>
          <p:cNvCxnSpPr/>
          <p:nvPr/>
        </p:nvCxnSpPr>
        <p:spPr>
          <a:xfrm>
            <a:off x="6659640" y="3862080"/>
            <a:ext cx="216720" cy="1151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0" name="Скругленный прямоугольник 16" descr=""/>
          <p:cNvPicPr/>
          <p:nvPr/>
        </p:nvPicPr>
        <p:blipFill>
          <a:blip r:embed="rId4"/>
          <a:stretch/>
        </p:blipFill>
        <p:spPr>
          <a:xfrm>
            <a:off x="6162840" y="4973760"/>
            <a:ext cx="313992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5" name="push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9120" y="188640"/>
            <a:ext cx="8715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658800" y="122400"/>
            <a:ext cx="7808760" cy="1968480"/>
          </a:xfrm>
          <a:prstGeom prst="rect">
            <a:avLst/>
          </a:prstGeom>
          <a:ln w="0">
            <a:noFill/>
          </a:ln>
        </p:spPr>
      </p:pic>
      <p:grpSp>
        <p:nvGrpSpPr>
          <p:cNvPr id="74" name="Стрелка вниз 4"/>
          <p:cNvGrpSpPr/>
          <p:nvPr/>
        </p:nvGrpSpPr>
        <p:grpSpPr>
          <a:xfrm>
            <a:off x="927000" y="1584360"/>
            <a:ext cx="3144960" cy="2066760"/>
            <a:chOff x="927000" y="1584360"/>
            <a:chExt cx="3144960" cy="2066760"/>
          </a:xfrm>
        </p:grpSpPr>
        <p:pic>
          <p:nvPicPr>
            <p:cNvPr id="75" name="Стрелка вниз 4" descr=""/>
            <p:cNvPicPr/>
            <p:nvPr/>
          </p:nvPicPr>
          <p:blipFill>
            <a:blip r:embed="rId2"/>
            <a:stretch/>
          </p:blipFill>
          <p:spPr>
            <a:xfrm>
              <a:off x="927000" y="1584360"/>
              <a:ext cx="314496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55640" y="1628640"/>
              <a:ext cx="13687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трелка вниз 6"/>
          <p:cNvGrpSpPr/>
          <p:nvPr/>
        </p:nvGrpSpPr>
        <p:grpSpPr>
          <a:xfrm>
            <a:off x="6686640" y="1584360"/>
            <a:ext cx="2212920" cy="2066760"/>
            <a:chOff x="6686640" y="1584360"/>
            <a:chExt cx="2212920" cy="2066760"/>
          </a:xfrm>
        </p:grpSpPr>
        <p:pic>
          <p:nvPicPr>
            <p:cNvPr id="78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6686640" y="1584360"/>
              <a:ext cx="22129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99200" y="1628640"/>
              <a:ext cx="106704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Багетная рамка 8" descr=""/>
          <p:cNvPicPr/>
          <p:nvPr/>
        </p:nvPicPr>
        <p:blipFill>
          <a:blip r:embed="rId4"/>
          <a:stretch/>
        </p:blipFill>
        <p:spPr>
          <a:xfrm>
            <a:off x="353880" y="3413160"/>
            <a:ext cx="3803760" cy="1787400"/>
          </a:xfrm>
          <a:prstGeom prst="rect">
            <a:avLst/>
          </a:prstGeom>
          <a:ln w="0">
            <a:noFill/>
          </a:ln>
        </p:spPr>
      </p:pic>
      <p:pic>
        <p:nvPicPr>
          <p:cNvPr id="81" name="Багетная рамка 9" descr=""/>
          <p:cNvPicPr/>
          <p:nvPr/>
        </p:nvPicPr>
        <p:blipFill>
          <a:blip r:embed="rId5"/>
          <a:stretch/>
        </p:blipFill>
        <p:spPr>
          <a:xfrm>
            <a:off x="5048280" y="3614760"/>
            <a:ext cx="373068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6" name="push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285920" y="291960"/>
            <a:ext cx="7321680" cy="1792440"/>
          </a:xfrm>
          <a:prstGeom prst="rect">
            <a:avLst/>
          </a:prstGeom>
          <a:ln w="0">
            <a:noFill/>
          </a:ln>
        </p:spPr>
      </p:pic>
      <p:sp>
        <p:nvSpPr>
          <p:cNvPr id="85" name="Горизонтальный свиток 4"/>
          <p:cNvSpPr/>
          <p:nvPr/>
        </p:nvSpPr>
        <p:spPr>
          <a:xfrm>
            <a:off x="826920" y="1916280"/>
            <a:ext cx="5977080" cy="15127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ирокие познава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5"/>
          <p:cNvSpPr/>
          <p:nvPr/>
        </p:nvSpPr>
        <p:spPr>
          <a:xfrm>
            <a:off x="2340000" y="3429000"/>
            <a:ext cx="5472000" cy="14400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ae1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учебно-познавате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Горизонтальный свиток 6"/>
          <p:cNvSpPr/>
          <p:nvPr/>
        </p:nvSpPr>
        <p:spPr>
          <a:xfrm>
            <a:off x="900000" y="5013360"/>
            <a:ext cx="5904000" cy="1584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тивы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285920" y="291960"/>
            <a:ext cx="7321680" cy="1792440"/>
          </a:xfrm>
          <a:prstGeom prst="rect">
            <a:avLst/>
          </a:prstGeom>
          <a:ln w="0">
            <a:noFill/>
          </a:ln>
        </p:spPr>
      </p:pic>
      <p:sp>
        <p:nvSpPr>
          <p:cNvPr id="91" name="Горизонтальный свиток 4"/>
          <p:cNvSpPr/>
          <p:nvPr/>
        </p:nvSpPr>
        <p:spPr>
          <a:xfrm>
            <a:off x="826920" y="1916280"/>
            <a:ext cx="5977080" cy="15127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ирокие со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Горизонтальный свиток 5"/>
          <p:cNvSpPr/>
          <p:nvPr/>
        </p:nvSpPr>
        <p:spPr>
          <a:xfrm>
            <a:off x="2340000" y="3429000"/>
            <a:ext cx="5472000" cy="14400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ae1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узкие соци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Горизонтальный свиток 6"/>
          <p:cNvSpPr/>
          <p:nvPr/>
        </p:nvSpPr>
        <p:spPr>
          <a:xfrm>
            <a:off x="900000" y="5013360"/>
            <a:ext cx="5904000" cy="1584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оциальные мо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Ruslan</cp:lastModifiedBy>
  <dcterms:modified xsi:type="dcterms:W3CDTF">2013-11-20T17:00:59Z</dcterms:modified>
  <cp:revision>103</cp:revision>
  <dc:subject/>
  <dc:title>Colorful multi curves</dc:title>
</cp:coreProperties>
</file>