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602-1003-45FC-A04B-CC924B1C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C0B-DC08-412F-BB3F-4404EDB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861-1606-4823-B06C-C4CEBD03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4C1-A1B1-4DDB-A990-B08051B4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600F-78E6-47D7-BA07-37CE4EC2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70DC-FC90-4F10-85E5-51B2EB4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CB3-706F-4A8F-89CE-CBED5E5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9CC7-77F3-4BA8-90A7-55B7916E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0221-7AE3-4DF7-9783-558EBEC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36DF-E82B-4E4F-A793-93DC4AB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721-84B2-486A-88A1-50E7F2D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EED-F7B6-40F0-99E8-BF84EC7B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CCD9-E748-41B9-8FCB-95829B4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2C6E-28BF-4E21-90F3-F167AE6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1A5F-EC29-4EB6-A84C-36F22567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EB7-2DA3-4BDF-A2B1-3CDFEC4F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931-E8D8-4C14-A86B-A692722D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D46-837E-492A-9B22-ACC96A3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23E-9122-424B-B01B-1D0E733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6E1-47EE-4A45-AFDF-BB79A1E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E1E-2FE9-4181-908A-72BD6CA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BFA-2BDE-4B9A-B501-88924302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A87-43BE-4ED6-931F-5F43142B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EFE-2F71-43C8-9B74-49AEF12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57D6-CBC9-4D4D-AD89-895AD44FA1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46C3-2B0B-4B9F-A140-9B5C98CBC0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623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Мониторинг усвоения детьми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планируемых результатов освоения основной общеобразовательной программы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 дошкольного образования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В детском саду «Красная шапочка»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равила подведения результатов диагностики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153280" cy="4266720"/>
        </p:xfrm>
        <a:graphic>
          <a:graphicData uri="http://schemas.openxmlformats.org/drawingml/2006/table">
            <a:tbl>
              <a:tblPr/>
              <a:tblGrid>
                <a:gridCol w="1496880"/>
                <a:gridCol w="665640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не может выполнить, все предложенные задания, помощь взрослого не принима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 помощью взрослого выполняет некоторые предложенны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все предложенные задания с частичной помощью взросл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самостоятельно и с частичной помощью взрослых все предложенны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выполняет все предложенные задания самостоятель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одведение итогов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562120"/>
                <a:gridCol w="1355760"/>
                <a:gridCol w="654120"/>
                <a:gridCol w="703440"/>
                <a:gridCol w="668160"/>
                <a:gridCol w="914400"/>
                <a:gridCol w="452520"/>
                <a:gridCol w="91908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 (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учебного года (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Критерии определения уровне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8 б – низкий уровень (Н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15 б – средний  уровень (С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-20 б – высокий уровень (В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снова для организации системы мониторинга в ДОУ:</a:t>
            </a:r>
            <a:br>
              <a:rPr sz="3200"/>
            </a:br>
            <a:r>
              <a:rPr b="0" lang="ru-RU" sz="38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Приказ Минобрнауки РФ </a:t>
            </a:r>
            <a:br>
              <a:rPr sz="3500"/>
            </a:b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от 23.11.2009 № 655</a:t>
            </a:r>
            <a:br>
              <a:rPr sz="3500"/>
            </a:br>
            <a:r>
              <a:rPr b="1" lang="ru-RU" sz="3500" spc="-1" strike="noStrike">
                <a:solidFill>
                  <a:srgbClr val="0033cc"/>
                </a:solidFill>
                <a:latin typeface="Times New Roman"/>
              </a:rPr>
              <a:t>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я мониторин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ниторинг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- форма организации 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бора, хранения, обработки и распространения информации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о деятельности педагогической системы, обеспечивающая 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прерывное слежение за ее состоянием и прогнозирование развития</a:t>
            </a:r>
            <a:r>
              <a:rPr b="0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ониторинг  должен соответствовать следующим принципам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Научност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 (учет закономерностей развития ребенка, использование научно-обоснованных методов и форм мониторинг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Непрерывности и цикличност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(постоянная оценка достижения детьми планируемых результатов освоения ООП, периодичность провед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Гуманизации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 (уважение к личности ребенка, его интересам, права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Коллегиа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33cc"/>
                </a:solidFill>
                <a:latin typeface="Times New Roman"/>
              </a:rPr>
              <a:t>(задействованность в проведении и обсуждении результатов мониторинга всех педагогов и др.специалистов ДО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 системы  мониторинга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личие объекта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мониторин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личие форм для сбора, оформления информации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использование диагностических карт, карт развития и др. форм), утверждаемых в ДОУ для всех категорий педагогических кадров, участвующих в монитори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дбор (разработка) инструментария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формы, метод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формы фиксации резуль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в цвете, цифрах, баллах,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сроков и периодичности сбора информации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  ответственных за сбор и хранение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ведения мониторин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Нормативно – установ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Диагно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этап. Итог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ом мониторинга являются физические, интеллектуальные и личностные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а ребенка, которые представлены в интегративных качествах ребенка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изически развитый, овладевший основными культурно-гигиеническими навык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юбознательный, активны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моционально отзывчивы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средствами общения и способами взаимодействия со взрослыми и сверстник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особный решать интеллектуальные и личностные задачи (проблемы), адекватные возрасту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меющий первичные представления о себе, семье, обществе (ближайшем социуме), государстве (стране), мире и природ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универсальными предпосылками учеб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владевший необходимыми умениями и навык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з продуктов деятельности ребенка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 получения информации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 внутреннем мире ребенка, его психологическом состоянии, степени овладения необходимыми умениями и навыками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основе исследования результатов различных видов его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метом анализа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являются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дукты познавательной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ятельности (решенное задание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гровой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сюжет придуманной ребенком игры, построенный из кубиков дом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зобразительной и конструктивной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ятельности (рисунки, аппликации, объемные изображения, конструкции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узыкальной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(выполнение и творчество в песне, танце, игре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музыкальных инструментах)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сказы, сказки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истема мониторинга освоения детьми ООПДО</a:t>
            </a:r>
            <a:br>
              <a:rPr sz="24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Диагностическая карта ОО «ЗДОРОВЬЕ»      </a:t>
            </a:r>
            <a:br>
              <a:rPr sz="16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Первая  младшая группа на 20__/20__</a:t>
            </a: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учебный год</a:t>
            </a:r>
            <a:br>
              <a:rPr sz="1600"/>
            </a:br>
            <a:r>
              <a:rPr b="1" lang="ru-RU" sz="1600" spc="-1" strike="noStrike">
                <a:solidFill>
                  <a:srgbClr val="0033cc"/>
                </a:solidFill>
                <a:latin typeface="Garamond"/>
              </a:rPr>
              <a:t>Воспитатели: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04" name=""/>
          <p:cNvSpPr/>
          <p:nvPr/>
        </p:nvSpPr>
        <p:spPr>
          <a:xfrm>
            <a:off x="2550960" y="-8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523880"/>
          <a:ext cx="7543800" cy="5075280"/>
        </p:xfrm>
        <a:graphic>
          <a:graphicData uri="http://schemas.openxmlformats.org/drawingml/2006/table">
            <a:tbl>
              <a:tblPr/>
              <a:tblGrid>
                <a:gridCol w="480960"/>
                <a:gridCol w="1355760"/>
                <a:gridCol w="555840"/>
                <a:gridCol w="533160"/>
                <a:gridCol w="439920"/>
                <a:gridCol w="439560"/>
                <a:gridCol w="587520"/>
                <a:gridCol w="509760"/>
                <a:gridCol w="438120"/>
                <a:gridCol w="441360"/>
                <a:gridCol w="439560"/>
                <a:gridCol w="439920"/>
                <a:gridCol w="409320"/>
                <a:gridCol w="473040"/>
              </a:tblGrid>
              <a:tr h="231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 ребён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одеваться и раздеваться в определённой последова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ет навыки опрятности (замечает непорядок в одежде, устраняет ег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уется индивидуальными предметами гигиены (платком, салфеткой, полотенцем, расчёской, горшко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принимать жидкую и твёрдую пищ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3:26:12Z</dcterms:created>
  <dc:creator>Красная шапочка</dc:creator>
  <dc:description/>
  <dc:language>en-US</dc:language>
  <cp:lastModifiedBy>Красная шапочка</cp:lastModifiedBy>
  <dcterms:modified xsi:type="dcterms:W3CDTF">2012-12-12T03:51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