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57B-C1E3-46E1-94BD-4EC9F872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59A-A2AF-4C18-B446-B2C8B426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97B-2B28-4F85-B73E-9EBE16F6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A27-1480-42E0-B9F9-DF6EB2F8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C58E-08E9-47B9-940A-6FCC0690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F58F-CEF2-45B6-B7C7-5D3118C9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FD1D-4283-4761-AE3A-3225AB16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CCC7-D1DB-47AC-8F60-7A796873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61BD-C9DA-4FD7-A342-8B132AEC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654A-5258-4AD3-B1AC-51CEFE2E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3749-F15A-4890-AAEC-184D52B6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A72-5D27-4ECE-9E7F-CE5D2C39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9024-60CE-40C9-9C29-AC16548C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0F28-39F5-4819-81BF-556555EC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590F-04C3-44F0-92E7-8DA14939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E988-5D01-41CF-ACC7-BAB71152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E182-7E10-4658-8BF4-1EF122ED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665-3296-4C66-8279-7484B3AD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101-FF35-441C-A938-EBBD9513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427-10E8-4C93-A2A1-FFFF9F4E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C1E-4B93-4EED-A5F4-BAEA9DC9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B01-8548-4CFA-A4B8-E312E042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5BA-37AF-4C37-9AD7-4F04936F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778-FE10-4300-9D3F-30908397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8381-D08B-4A59-A062-964394A5652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EBF7-7BA3-43AC-9F88-B5DA701DEA5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623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Мониторинг усвоения детьми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планируемых результатов освоения основной общеобразовательной программы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 дошкольного образования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В детском саду «Красная шапочка»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Правила подведения результатов диагностики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153280" cy="4266720"/>
        </p:xfrm>
        <a:graphic>
          <a:graphicData uri="http://schemas.openxmlformats.org/drawingml/2006/table">
            <a:tbl>
              <a:tblPr/>
              <a:tblGrid>
                <a:gridCol w="1496880"/>
                <a:gridCol w="6656400"/>
              </a:tblGrid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не может выполнить, все предложенные задания, помощь взрослого не принима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 помощью взрослого выполняет некоторые предложенные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выполняет все предложенные задания с частичной помощью взрослы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выполняет самостоятельно и с частичной помощью взрослых все предложенные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выполняет все предложенные задания самостоятель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Подведение итогов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562120"/>
                <a:gridCol w="1355760"/>
                <a:gridCol w="654120"/>
                <a:gridCol w="703440"/>
                <a:gridCol w="668160"/>
                <a:gridCol w="914400"/>
                <a:gridCol w="452520"/>
                <a:gridCol w="91908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уровень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 (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учебного года (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Критерии определения уровней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-8 б – низкий уровень (Н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-15 б – средний  уровень (С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-20 б – высокий уровень (В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снова для организации системы мониторинга в ДОУ:</a:t>
            </a:r>
            <a:br>
              <a:rPr sz="3200"/>
            </a:br>
            <a:r>
              <a:rPr b="0" lang="ru-RU" sz="3800" spc="-1" strike="noStrike">
                <a:solidFill>
                  <a:srgbClr val="006633"/>
                </a:solidFill>
                <a:latin typeface="Times New Roman"/>
              </a:rPr>
              <a:t>    </a:t>
            </a:r>
            <a:r>
              <a:rPr b="1" lang="ru-RU" sz="3500" spc="-1" strike="noStrike">
                <a:solidFill>
                  <a:srgbClr val="0033cc"/>
                </a:solidFill>
                <a:latin typeface="Times New Roman"/>
              </a:rPr>
              <a:t>Приказ Минобрнауки РФ </a:t>
            </a:r>
            <a:br>
              <a:rPr sz="3500"/>
            </a:br>
            <a:r>
              <a:rPr b="1" lang="ru-RU" sz="3500" spc="-1" strike="noStrike">
                <a:solidFill>
                  <a:srgbClr val="0033cc"/>
                </a:solidFill>
                <a:latin typeface="Times New Roman"/>
              </a:rPr>
              <a:t>от 23.11.2009 № 655</a:t>
            </a:r>
            <a:br>
              <a:rPr sz="3500"/>
            </a:br>
            <a:r>
              <a:rPr b="1" lang="ru-RU" sz="3500" spc="-1" strike="noStrike">
                <a:solidFill>
                  <a:srgbClr val="0033cc"/>
                </a:solidFill>
                <a:latin typeface="Times New Roman"/>
              </a:rPr>
              <a:t> «Об утверждении и введении в действие Федеральных государственных требований к структуре основной общеобразовательной программы дошкольного образования»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я мониторин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ониторинг</a:t>
            </a:r>
            <a:r>
              <a:rPr b="0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- форма организации 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бора, хранения, обработки и распространения информации</a:t>
            </a:r>
            <a:r>
              <a:rPr b="0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о деятельности педагогической системы, обеспечивающая 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епрерывное слежение за ее состоянием и прогнозирование развития</a:t>
            </a:r>
            <a:r>
              <a:rPr b="0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Мониторинг  должен соответствовать следующим принципам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Научности</a:t>
            </a:r>
            <a:r>
              <a:rPr b="0" lang="ru-RU" sz="2200" spc="-1" strike="noStrike">
                <a:solidFill>
                  <a:srgbClr val="0033cc"/>
                </a:solidFill>
                <a:latin typeface="Times New Roman"/>
              </a:rPr>
              <a:t> (учет закономерностей развития ребенка, использование научно-обоснованных методов и форм мониторинг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Непрерывности и цикличности</a:t>
            </a:r>
            <a:r>
              <a:rPr b="0" lang="ru-RU" sz="2200" spc="-1" strike="noStrike">
                <a:solidFill>
                  <a:srgbClr val="0033cc"/>
                </a:solidFill>
                <a:latin typeface="Times New Roman"/>
              </a:rPr>
              <a:t>(постоянная оценка достижения детьми планируемых результатов освоения ООП, периодичность проведен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Гуманизации</a:t>
            </a:r>
            <a:r>
              <a:rPr b="0" lang="ru-RU" sz="2200" spc="-1" strike="noStrike">
                <a:solidFill>
                  <a:srgbClr val="0033cc"/>
                </a:solidFill>
                <a:latin typeface="Times New Roman"/>
              </a:rPr>
              <a:t> (уважение к личности ребенка, его интересам, правам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Коллегиальност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33cc"/>
                </a:solidFill>
                <a:latin typeface="Times New Roman"/>
              </a:rPr>
              <a:t>(задействованность в проведении и обсуждении результатов мониторинга всех педагогов и др.специалистов ДО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 системы  мониторинга: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личие объекта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мониторинг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личие форм для сбора, оформления информации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(использование диагностических карт, карт развития и др. форм), утверждаемых в ДОУ для всех категорий педагогических кадров, участвующих в монитори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дбор (разработка) инструментария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формы, методы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ределение формы фиксации результа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в цвете, цифрах, баллах,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ределение сроков и периодичности сбора информации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ределение  ответственных за сбор и хранение ин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проведения мониторин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этап. Нормативно – установ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этап. Диагнос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этап. Итог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ектом мониторинга являются физические, интеллектуальные и личностные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чества ребенка, которые представлены в интегративных качествах ребенка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Физически развитый, овладевший основными культурно-гигиеническими навыкам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Любознательный, активный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Эмоционально отзывчивый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владевший средствами общения и способами взаимодействия со взрослыми и сверстникам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особный управлять своим поведением и планировать свои действия на основе первичных ценностных представлений, соблюдающий элементарные общепринятые нормы и правила поведения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особный решать интеллектуальные и личностные задачи (проблемы), адекватные возрасту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меющий первичные представления о себе, семье, обществе (ближайшем социуме), государстве (стране), мире и природе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владевший универсальными предпосылками учебной деятельност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владевший необходимыми умениями и навык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ализ продуктов деятельности ребенка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 получения информации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 внутреннем мире ребенка, его психологическом состоянии, степени овладения необходимыми умениями и навыками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 основе исследования результатов различных видов его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дметом анализа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являются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одукты познавательной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еятельности (решенное задание)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гровой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(сюжет придуманной ребенком игры, построенный из кубиков дом)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зобразительной и конструктивной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еятельности (рисунки, аппликации, объемные изображения, конструкции)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узыкальной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(выполнение и творчество в песне, танце, игре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 музыкальных инструментах)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ассказы, сказки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 т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Система мониторинга освоения детьми ООПДО</a:t>
            </a:r>
            <a:br>
              <a:rPr sz="2400"/>
            </a:br>
            <a:r>
              <a:rPr b="1" lang="ru-RU" sz="1600" spc="-1" strike="noStrike">
                <a:solidFill>
                  <a:srgbClr val="0033cc"/>
                </a:solidFill>
                <a:latin typeface="Garamond"/>
              </a:rPr>
              <a:t>Диагностическая карта ОО «ЗДОРОВЬЕ»      </a:t>
            </a:r>
            <a:br>
              <a:rPr sz="1600"/>
            </a:br>
            <a:r>
              <a:rPr b="1" lang="ru-RU" sz="1600" spc="-1" strike="noStrike">
                <a:solidFill>
                  <a:srgbClr val="0033cc"/>
                </a:solidFill>
                <a:latin typeface="Garamond"/>
              </a:rPr>
              <a:t>Первая  младшая группа на 20__/20__</a:t>
            </a:r>
            <a:r>
              <a:rPr b="1" lang="ru-RU" sz="1600" spc="-1" strike="noStrike">
                <a:solidFill>
                  <a:srgbClr val="0033cc"/>
                </a:solidFill>
                <a:latin typeface="Garamond"/>
              </a:rPr>
              <a:t>	</a:t>
            </a:r>
            <a:r>
              <a:rPr b="1" lang="ru-RU" sz="1600" spc="-1" strike="noStrike">
                <a:solidFill>
                  <a:srgbClr val="0033cc"/>
                </a:solidFill>
                <a:latin typeface="Garamond"/>
              </a:rPr>
              <a:t>учебный год</a:t>
            </a:r>
            <a:br>
              <a:rPr sz="1600"/>
            </a:br>
            <a:r>
              <a:rPr b="1" lang="ru-RU" sz="1600" spc="-1" strike="noStrike">
                <a:solidFill>
                  <a:srgbClr val="0033cc"/>
                </a:solidFill>
                <a:latin typeface="Garamond"/>
              </a:rPr>
              <a:t>Воспитатели:</a:t>
            </a:r>
            <a:br>
              <a:rPr sz="1600"/>
            </a:b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04" name=""/>
          <p:cNvSpPr/>
          <p:nvPr/>
        </p:nvSpPr>
        <p:spPr>
          <a:xfrm>
            <a:off x="2550960" y="-85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6680" y="1523880"/>
          <a:ext cx="7543800" cy="5075280"/>
        </p:xfrm>
        <a:graphic>
          <a:graphicData uri="http://schemas.openxmlformats.org/drawingml/2006/table">
            <a:tbl>
              <a:tblPr/>
              <a:tblGrid>
                <a:gridCol w="480960"/>
                <a:gridCol w="1355760"/>
                <a:gridCol w="555840"/>
                <a:gridCol w="533160"/>
                <a:gridCol w="439920"/>
                <a:gridCol w="439560"/>
                <a:gridCol w="587520"/>
                <a:gridCol w="509760"/>
                <a:gridCol w="438120"/>
                <a:gridCol w="441360"/>
                <a:gridCol w="439560"/>
                <a:gridCol w="439920"/>
                <a:gridCol w="409320"/>
                <a:gridCol w="473040"/>
              </a:tblGrid>
              <a:tr h="231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 имя ребён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ет одеваться и раздеваться в определённой последователь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яет навыки опрятности (замечает непорядок в одежде, устраняет ег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зуется индивидуальными предметами гигиены (платком, салфеткой, полотенцем, расчёской, горшком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ет принимать жидкую и твёрдую пищ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 показ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алл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3:26:12Z</dcterms:created>
  <dc:creator>Красная шапочка</dc:creator>
  <dc:description/>
  <dc:language>en-US</dc:language>
  <cp:lastModifiedBy>Красная шапочка</cp:lastModifiedBy>
  <dcterms:modified xsi:type="dcterms:W3CDTF">2012-12-12T03:51:0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