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1E78-47BF-4597-B5DC-52EC9DFBB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C47B-7045-4775-B485-92D4CD59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C4FD-FCFB-4CEF-AD4E-41F7B18F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36B5-BBDF-4A19-B678-B14E61CA5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E290-7CF8-4689-A375-B2B7F6ED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B8C8-B55A-44D0-9355-35B6E708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DE6F-5D0F-4BB3-BA55-9793AADE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0DC1-EBC2-4386-B682-5CF2F0E8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A30C-5284-4C3F-8844-60B8F836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51F5-BE07-41A8-B5BF-B13C9589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F56F-D233-4750-ABA3-BE0B4C72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3B59-BAF5-4CC6-BB79-C744826F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4530-76C0-481B-9068-1CDDB56F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4EE6-67A7-44B7-807E-90100217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C3F0-B163-49B3-815D-5BC25AB4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E45F-231B-45D1-98C3-AD6B44454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A483-4FC9-42DF-B577-96F92FD7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AA0E-0E16-4719-973B-418282E8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F155-4916-4422-87A5-68DABEF9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A0A8-2B0B-46F9-9789-AE7EF9D2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9451-52EB-4657-A3F7-AA600EB8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B5B1-9605-4244-8DE5-4F54B0D8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2E24-828B-4EC3-9DED-BC0D2E03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53F6-ADCE-4568-ABFC-67F86F38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A4BB-066A-4F03-AF20-BF0E1AB64FC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F60D-76DB-445D-B4FE-4293C7BCD92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7623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Georgia"/>
              </a:rPr>
              <a:t>Мониторинг усвоения детьми 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Georgia"/>
              </a:rPr>
              <a:t>планируемых результатов освоения основной общеобразовательной программы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Georgia"/>
              </a:rPr>
              <a:t> дошкольного образования 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Georgia"/>
              </a:rPr>
              <a:t>В детском саду «Красная шапочка»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Правила подведения результатов диагностики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00200"/>
          <a:ext cx="8153280" cy="4266720"/>
        </p:xfrm>
        <a:graphic>
          <a:graphicData uri="http://schemas.openxmlformats.org/drawingml/2006/table">
            <a:tbl>
              <a:tblPr/>
              <a:tblGrid>
                <a:gridCol w="1496880"/>
                <a:gridCol w="6656400"/>
              </a:tblGrid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 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ок не может выполнить, все предложенные задания, помощь взрослого не принимае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ал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ок с помощью взрослого выполняет некоторые предложенные зад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ал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ок выполняет все предложенные задания с частичной помощью взрослы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бал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ок выполняет самостоятельно и с частичной помощью взрослых все предложенные зад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ок выполняет все предложенные задания самостоятельн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Подведение итогов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562120"/>
                <a:gridCol w="1355760"/>
                <a:gridCol w="654120"/>
                <a:gridCol w="703440"/>
                <a:gridCol w="668160"/>
                <a:gridCol w="914400"/>
                <a:gridCol w="452520"/>
                <a:gridCol w="91908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уровень груп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учебного года (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(10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ец учебного года (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(10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Критерии определения уровней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-8 б – низкий уровень (НУ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9-15 б – средний  уровень (СУ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6-20 б – высокий уровень (ВУ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Основа для организации системы мониторинга в ДОУ:</a:t>
            </a:r>
            <a:br>
              <a:rPr sz="3200"/>
            </a:br>
            <a:r>
              <a:rPr b="0" lang="ru-RU" sz="3800" spc="-1" strike="noStrike">
                <a:solidFill>
                  <a:srgbClr val="006633"/>
                </a:solidFill>
                <a:latin typeface="Times New Roman"/>
              </a:rPr>
              <a:t>    </a:t>
            </a:r>
            <a:r>
              <a:rPr b="1" lang="ru-RU" sz="3500" spc="-1" strike="noStrike">
                <a:solidFill>
                  <a:srgbClr val="0033cc"/>
                </a:solidFill>
                <a:latin typeface="Times New Roman"/>
              </a:rPr>
              <a:t>Приказ Минобрнауки РФ </a:t>
            </a:r>
            <a:br>
              <a:rPr sz="3500"/>
            </a:br>
            <a:r>
              <a:rPr b="1" lang="ru-RU" sz="3500" spc="-1" strike="noStrike">
                <a:solidFill>
                  <a:srgbClr val="0033cc"/>
                </a:solidFill>
                <a:latin typeface="Times New Roman"/>
              </a:rPr>
              <a:t>от 23.11.2009 № 655</a:t>
            </a:r>
            <a:br>
              <a:rPr sz="3500"/>
            </a:br>
            <a:r>
              <a:rPr b="1" lang="ru-RU" sz="3500" spc="-1" strike="noStrike">
                <a:solidFill>
                  <a:srgbClr val="0033cc"/>
                </a:solidFill>
                <a:latin typeface="Times New Roman"/>
              </a:rPr>
              <a:t> «Об утверждении и введении в действие Федеральных государственных требований к структуре основной общеобразовательной программы дошкольного образования»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ения мониторинг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ониторинг</a:t>
            </a:r>
            <a:r>
              <a:rPr b="0" lang="en-US" sz="3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- форма организации </a:t>
            </a:r>
            <a:r>
              <a:rPr b="1" lang="en-US" sz="3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бора, хранения, обработки и распространения информации</a:t>
            </a:r>
            <a:r>
              <a:rPr b="0" lang="en-US" sz="3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о деятельности педагогической системы, обеспечивающая </a:t>
            </a:r>
            <a:r>
              <a:rPr b="1" lang="en-US" sz="3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епрерывное слежение за ее состоянием и прогнозирование развития</a:t>
            </a:r>
            <a:r>
              <a:rPr b="0" lang="en-US" sz="3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Мониторинг  должен соответствовать следующим принципам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imes New Roman"/>
              </a:rPr>
              <a:t>Научности</a:t>
            </a:r>
            <a:r>
              <a:rPr b="0" lang="ru-RU" sz="2200" spc="-1" strike="noStrike">
                <a:solidFill>
                  <a:srgbClr val="0033cc"/>
                </a:solidFill>
                <a:latin typeface="Times New Roman"/>
              </a:rPr>
              <a:t> (учет закономерностей развития ребенка, использование научно-обоснованных методов и форм мониторинг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imes New Roman"/>
              </a:rPr>
              <a:t>Непрерывности и цикличности</a:t>
            </a:r>
            <a:r>
              <a:rPr b="0" lang="ru-RU" sz="2200" spc="-1" strike="noStrike">
                <a:solidFill>
                  <a:srgbClr val="0033cc"/>
                </a:solidFill>
                <a:latin typeface="Times New Roman"/>
              </a:rPr>
              <a:t>(постоянная оценка достижения детьми планируемых результатов освоения ООП, периодичность проведени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imes New Roman"/>
              </a:rPr>
              <a:t>Гуманизации</a:t>
            </a:r>
            <a:r>
              <a:rPr b="0" lang="ru-RU" sz="2200" spc="-1" strike="noStrike">
                <a:solidFill>
                  <a:srgbClr val="0033cc"/>
                </a:solidFill>
                <a:latin typeface="Times New Roman"/>
              </a:rPr>
              <a:t> (уважение к личности ребенка, его интересам, правам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imes New Roman"/>
              </a:rPr>
              <a:t>Коллегиальност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33cc"/>
                </a:solidFill>
                <a:latin typeface="Times New Roman"/>
              </a:rPr>
              <a:t>(задействованность в проведении и обсуждении результатов мониторинга всех педагогов и др.специалистов ДОУ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уктура  системы  мониторинга: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аличие объекта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мониторинг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аличие форм для сбора, оформления информации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(использование диагностических карт, карт развития и др. форм), утверждаемых в ДОУ для всех категорий педагогических кадров, участвующих в мониторин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одбор (разработка) инструментария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(формы, методы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пределение формы фиксации результа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(в цвете, цифрах, баллах,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пределение сроков и периодичности сбора информации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пределение  ответственных за сбор и хранение информ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пы проведения мониторинг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этап. Нормативно – установо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I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этап. Диагност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II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этап. Итог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ъектом мониторинга являются физические, интеллектуальные и личностные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чества ребенка, которые представлены в интегративных качествах ребенка: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Физически развитый, овладевший основными культурно-гигиеническими навыкам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Любознательный, активный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Эмоционально отзывчивый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владевший средствами общения и способами взаимодействия со взрослыми и сверстникам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пособный управлять своим поведением и планировать свои действия на основе первичных ценностных представлений, соблюдающий элементарные общепринятые нормы и правила поведения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пособный решать интеллектуальные и личностные задачи (проблемы), адекватные возрасту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меющий первичные представления о себе, семье, обществе (ближайшем социуме), государстве (стране), мире и природе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владевший универсальными предпосылками учебной деятельност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владевший необходимыми умениями и навыкам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нализ продуктов деятельности ребенка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етод получения информации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 внутреннем мире ребенка, его психологическом состоянии, степени овладения необходимыми умениями и навыками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а основе исследования результатов различных видов его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едметом анализа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являются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одукты познавательной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деятельности (решенное задание),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гровой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(сюжет придуманной ребенком игры, построенный из кубиков дом),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зобразительной и конструктивной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деятельности (рисунки, аппликации, объемные изображения, конструкции),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узыкальной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(выполнение и творчество в песне, танце, игре</a:t>
            </a:r>
            <a:r>
              <a:rPr b="0" lang="en-US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а музыкальных инструментах),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рассказы, сказки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 т. 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Система мониторинга освоения детьми ООПДО</a:t>
            </a:r>
            <a:br>
              <a:rPr sz="2400"/>
            </a:br>
            <a:r>
              <a:rPr b="1" lang="ru-RU" sz="1600" spc="-1" strike="noStrike">
                <a:solidFill>
                  <a:srgbClr val="0033cc"/>
                </a:solidFill>
                <a:latin typeface="Garamond"/>
              </a:rPr>
              <a:t>Диагностическая карта ОО «ЗДОРОВЬЕ»      </a:t>
            </a:r>
            <a:br>
              <a:rPr sz="1600"/>
            </a:br>
            <a:r>
              <a:rPr b="1" lang="ru-RU" sz="1600" spc="-1" strike="noStrike">
                <a:solidFill>
                  <a:srgbClr val="0033cc"/>
                </a:solidFill>
                <a:latin typeface="Garamond"/>
              </a:rPr>
              <a:t>Первая  младшая группа на 20__/20__</a:t>
            </a:r>
            <a:r>
              <a:rPr b="1" lang="ru-RU" sz="1600" spc="-1" strike="noStrike">
                <a:solidFill>
                  <a:srgbClr val="0033cc"/>
                </a:solidFill>
                <a:latin typeface="Garamond"/>
              </a:rPr>
              <a:t>	</a:t>
            </a:r>
            <a:r>
              <a:rPr b="1" lang="ru-RU" sz="1600" spc="-1" strike="noStrike">
                <a:solidFill>
                  <a:srgbClr val="0033cc"/>
                </a:solidFill>
                <a:latin typeface="Garamond"/>
              </a:rPr>
              <a:t>учебный год</a:t>
            </a:r>
            <a:br>
              <a:rPr sz="1600"/>
            </a:br>
            <a:r>
              <a:rPr b="1" lang="ru-RU" sz="1600" spc="-1" strike="noStrike">
                <a:solidFill>
                  <a:srgbClr val="0033cc"/>
                </a:solidFill>
                <a:latin typeface="Garamond"/>
              </a:rPr>
              <a:t>Воспитатели:</a:t>
            </a:r>
            <a:br>
              <a:rPr sz="1600"/>
            </a:b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599840"/>
          <a:ext cx="8229600" cy="4530600"/>
        </p:xfrm>
        <a:graphic>
          <a:graphicData uri="http://schemas.openxmlformats.org/drawingml/2006/table"/>
        </a:graphic>
      </p:graphicFrame>
      <p:sp>
        <p:nvSpPr>
          <p:cNvPr id="104" name=""/>
          <p:cNvSpPr/>
          <p:nvPr/>
        </p:nvSpPr>
        <p:spPr>
          <a:xfrm>
            <a:off x="2550960" y="-85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066680" y="1523880"/>
          <a:ext cx="7543800" cy="5075280"/>
        </p:xfrm>
        <a:graphic>
          <a:graphicData uri="http://schemas.openxmlformats.org/drawingml/2006/table">
            <a:tbl>
              <a:tblPr/>
              <a:tblGrid>
                <a:gridCol w="480960"/>
                <a:gridCol w="1355760"/>
                <a:gridCol w="555840"/>
                <a:gridCol w="533160"/>
                <a:gridCol w="439920"/>
                <a:gridCol w="439560"/>
                <a:gridCol w="587520"/>
                <a:gridCol w="509760"/>
                <a:gridCol w="438120"/>
                <a:gridCol w="441360"/>
                <a:gridCol w="439560"/>
                <a:gridCol w="439920"/>
                <a:gridCol w="409320"/>
                <a:gridCol w="473040"/>
              </a:tblGrid>
              <a:tr h="2311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, имя ребён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ет одеваться и раздеваться в определённой последовательност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являет навыки опрятности (замечает непорядок в одежде, устраняет его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зуется индивидуальными предметами гигиены (платком, салфеткой, полотенцем, расчёской, горшком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ет принимать жидкую и твёрдую пищ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ый показател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балл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03:26:12Z</dcterms:created>
  <dc:creator>Красная шапочка</dc:creator>
  <dc:description/>
  <dc:language>en-US</dc:language>
  <cp:lastModifiedBy>Красная шапочка</cp:lastModifiedBy>
  <dcterms:modified xsi:type="dcterms:W3CDTF">2012-12-12T03:51:0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