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ACF-FC4A-4D68-8503-C4BC80E7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D2A-1F6F-4037-BB5F-E3C02B9E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7CE-357E-4FD9-A958-402EC552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F5D-C7CD-4245-82B4-67145853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6CE9-79CA-4802-92F9-60F1D13A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4B8B-F40B-478A-AEA8-E44E573D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C4C3-2FF1-47EF-A4B8-D6BCD0FC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7F20-FB02-4325-AAB6-13D7218A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BAEA-F70E-414C-83F0-FFBAAC4F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3856-7D06-4DA0-896B-1386A638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EF2A-CAFE-4DEC-A817-A2637CC8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375-1821-48F1-93F7-11B02B1B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1F87-3A9B-4FF1-8C59-0B98ABBA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39CD-7F91-4A74-A0CA-EE7E505D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4EA5-3F97-4D10-A31C-456D7F44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35EB-09CC-4D10-B707-3D154F3D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B2F6-F0B5-45F0-9C31-F77259C2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206-2623-4DF4-929E-EFB334E3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534-DDC0-4E43-A963-CFE051CB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968-F06D-4A84-A84D-B7BF6477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BDC-1413-44B8-B95F-B1553FA9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7D2-5565-427B-B403-75C6E41E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5FF-EEA7-449D-B234-886A4264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F2D-8285-46AF-AE59-FCEE972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18B8-7DA8-4B14-A157-9B460D707D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9C09-68CB-43C3-8897-A025F90565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f4da7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136000" cy="4824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cc"/>
                </a:solidFill>
                <a:uFillTx/>
                <a:latin typeface="Comic Sans MS"/>
              </a:rPr>
              <a:t>ТЕМА УРОКА: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br>
              <a:rPr sz="5400"/>
            </a:b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Цель урока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овторить свойства квадратных корней  и умение применять их на практике.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640" y="1413000"/>
            <a:ext cx="7775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Квадратные корни»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dff"/>
                </a:solidFill>
                <a:latin typeface="Comic Sans MS"/>
              </a:rPr>
              <a:t>ВЫПОЛНЯЙ НА ЛИСТОЧ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15 МИНУ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6" descr="BS00935_"/>
          <p:cNvPicPr/>
          <p:nvPr/>
        </p:nvPicPr>
        <p:blipFill>
          <a:blip r:embed="rId1"/>
          <a:stretch/>
        </p:blipFill>
        <p:spPr>
          <a:xfrm rot="510000">
            <a:off x="5866920" y="3716280"/>
            <a:ext cx="234180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415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ОВЕРКА САМОСТОЯТЕЛЬНОЙ РАБОТЫ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560" y="3068640"/>
            <a:ext cx="7696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ЗА КАЖДЫЙ ПРАВИЛЬНЫЙ ОТВ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ПОСТАВЬ СЕБЕ ПЛЮ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170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1" lang="en-US" sz="3800" spc="-1" strike="noStrike" u="sng">
                <a:solidFill>
                  <a:srgbClr val="000099"/>
                </a:solidFill>
                <a:uFillTx/>
                <a:latin typeface="Comic Sans MS"/>
              </a:rPr>
              <a:t>Решение заданий 2 уровня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38473" b="0"/>
          <a:stretch/>
        </p:blipFill>
        <p:spPr>
          <a:xfrm>
            <a:off x="395280" y="1197000"/>
            <a:ext cx="8282160" cy="280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0" r="66999" b="0"/>
          <a:stretch/>
        </p:blipFill>
        <p:spPr>
          <a:xfrm>
            <a:off x="2627280" y="4508640"/>
            <a:ext cx="5472000" cy="198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539640" y="549360"/>
            <a:ext cx="5400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35280" y="4581360"/>
            <a:ext cx="5396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4365720"/>
            <a:ext cx="936720" cy="71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333360"/>
            <a:ext cx="936360" cy="719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ccecff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c0dff"/>
                </a:solidFill>
                <a:latin typeface="Comic Sans MS"/>
              </a:rPr>
              <a:t>Учебник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c0dff"/>
                </a:solidFill>
                <a:latin typeface="Comic Sans MS"/>
              </a:rPr>
              <a:t>стр. 102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c0dff"/>
                </a:solidFill>
                <a:latin typeface="Comic Sans MS"/>
              </a:rPr>
              <a:t>«Проверь себя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1773360"/>
            <a:ext cx="6400800" cy="1412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СПАСИБО ЗА УРОК!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549080" y="3500280"/>
            <a:ext cx="60325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УРОК ОКОНЧЕ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ДО СВИДАНИЯ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e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Историческая справка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Исаак Ньюто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774880" y="2060640"/>
            <a:ext cx="3333960" cy="3960720"/>
          </a:xfrm>
          <a:prstGeom prst="rect">
            <a:avLst/>
          </a:prstGeom>
          <a:ln w="114480">
            <a:solidFill>
              <a:srgbClr val="800080"/>
            </a:solidFill>
            <a:miter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47640" y="425160"/>
            <a:ext cx="583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=1/2(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+Х/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157752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i="1" lang="ru-RU" sz="4800" spc="-1" strike="noStrike" baseline="-25000">
                <a:solidFill>
                  <a:srgbClr val="000000"/>
                </a:solidFill>
                <a:latin typeface="Comic Sans MS"/>
              </a:rPr>
              <a:t>+1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 =1/2(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+Х/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i="1" lang="ru-RU" sz="4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520" y="4169880"/>
            <a:ext cx="7688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=1/2(5+28/5)=53/10=5,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635280" y="2637000"/>
                <a:ext cx="19447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Свойства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Возведение корня в квадр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Корень из степен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Сравнение корн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Корень из произве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Корень из частн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2709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cc"/>
                </a:solidFill>
                <a:uFillTx/>
                <a:latin typeface="Comic Sans MS"/>
              </a:rPr>
              <a:t>1</a:t>
            </a:r>
            <a:r>
              <a:rPr b="1" lang="ru-RU" sz="4400" spc="-1" strike="noStrike" u="sng">
                <a:solidFill>
                  <a:srgbClr val="0033cc"/>
                </a:solidFill>
                <a:uFillTx/>
                <a:latin typeface="Comic Sans MS"/>
              </a:rPr>
              <a:t>. Упрости выраж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1940040"/>
            <a:ext cx="2089080" cy="722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9640" y="213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1133640" cy="1236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9640" y="31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4365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187280" y="4221000"/>
            <a:ext cx="1513080" cy="80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843280" y="5445000"/>
            <a:ext cx="890640" cy="755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411280" y="5589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2. Внеси множитель под знак кор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1152720" cy="847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26920" y="2349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90840" cy="865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26920" y="3573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8000"/>
                </a:solidFill>
                <a:uFillTx/>
                <a:latin typeface="Comic Sans MS"/>
              </a:rPr>
              <a:t>3. Вынеси множитель из-под знака кор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58920" y="2708280"/>
                <a:ext cx="21589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97080" y="40464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Задани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0dff"/>
                </a:solidFill>
                <a:latin typeface="Comic Sans MS"/>
              </a:rPr>
              <a:t>Дидактические материал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Стр. 108, К-4А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Вариант 3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№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, №2(а, б), №3, №5*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идактические материалы: Стр. 108,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-4А, Вариант 3 №1, №2(а, б), №3, №5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1:32:49Z</dcterms:created>
  <dc:creator>Акимова Татьяна Анатольевна</dc:creator>
  <dc:description/>
  <dc:language>en-US</dc:language>
  <cp:lastModifiedBy>Vlad</cp:lastModifiedBy>
  <dcterms:modified xsi:type="dcterms:W3CDTF">2010-02-08T20:38:40Z</dcterms:modified>
  <cp:revision>27</cp:revision>
  <dc:subject/>
  <dc:title>ТЕМА УРОКА</dc:title>
</cp:coreProperties>
</file>