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BAC-7B96-4D35-96AE-D3B07050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DD3-0923-4FA1-938B-76603AC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42B-BCC3-46FA-8A6F-73407E86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525-0E33-4C92-B432-439FA624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ABDD-A61D-44AD-8DE5-407B60BD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58F-B0B0-4EB8-85A1-C90F205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E78-3862-4C02-80FE-929F5EF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137-0501-4FAA-8233-5C8E947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D466-171D-4659-B25E-5CBBA233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124-02BB-4334-89D5-9A4DA86C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CBA4-6CAD-4062-A395-0B190AC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EF8-828C-4FB0-AC20-2A359093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39C4-E7DF-4704-9A47-2CC9F69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72AC-7B2E-4668-992C-39CFB57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A15-1D9B-41D5-82C8-8CA8428A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F622-8E19-400D-A7ED-747D21AA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F2A-D7E1-4F59-A24B-BBF3E19E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CFD-3CF5-4541-8F59-FC419F2C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0F4-62F3-458A-8458-1D90C2FE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78E-3492-4CA4-85E1-7FDE9217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447-9D2D-48EB-8AE6-6E751BDE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A16-302F-4A33-BC62-151BBD2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045-67CC-46A7-95A5-5DB4946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4A9-FB70-4584-A843-3056CB6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EB70-AB64-4505-9CA8-8E5EAD7FD1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F12-3D2E-460F-ABDA-9E38A000D8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f4da7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36000" cy="4824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cc"/>
                </a:solidFill>
                <a:uFillTx/>
                <a:latin typeface="Comic Sans MS"/>
              </a:rPr>
              <a:t>ТЕМА УРОКА: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br>
              <a:rPr sz="5400"/>
            </a:b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Цель урок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вторить свойства квадратных корней  и умение применять их на практике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640" y="1413000"/>
            <a:ext cx="7775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вадратные корни»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0dff"/>
                </a:solidFill>
                <a:latin typeface="Comic Sans MS"/>
              </a:rPr>
              <a:t>ВЫПОЛНЯЙ НА ЛИСТОЧ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15 МИНУ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BS00935_"/>
          <p:cNvPicPr/>
          <p:nvPr/>
        </p:nvPicPr>
        <p:blipFill>
          <a:blip r:embed="rId1"/>
          <a:stretch/>
        </p:blipFill>
        <p:spPr>
          <a:xfrm rot="510000">
            <a:off x="5866920" y="3716280"/>
            <a:ext cx="234180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415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КА САМОСТОЯТЕЛЬНОЙ РАБОТ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7696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ЗА КАЖДЫЙ ПРАВИЛЬН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ПОСТАВЬ СЕБЕ ПЛЮ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17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en-US" sz="3800" spc="-1" strike="noStrike" u="sng">
                <a:solidFill>
                  <a:srgbClr val="000099"/>
                </a:solidFill>
                <a:uFillTx/>
                <a:latin typeface="Comic Sans MS"/>
              </a:rPr>
              <a:t>Решение заданий 2 уровня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38473" b="0"/>
          <a:stretch/>
        </p:blipFill>
        <p:spPr>
          <a:xfrm>
            <a:off x="395280" y="1197000"/>
            <a:ext cx="8282160" cy="280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6999" b="0"/>
          <a:stretch/>
        </p:blipFill>
        <p:spPr>
          <a:xfrm>
            <a:off x="2627280" y="4508640"/>
            <a:ext cx="5472000" cy="198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39640" y="549360"/>
            <a:ext cx="5400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35280" y="4581360"/>
            <a:ext cx="5396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4365720"/>
            <a:ext cx="93672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333360"/>
            <a:ext cx="93636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ccec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Учебник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стр. 102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0dff"/>
                </a:solidFill>
                <a:latin typeface="Comic Sans MS"/>
              </a:rPr>
              <a:t>«Проверь себя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1773360"/>
            <a:ext cx="6400800" cy="1412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СПАСИБО ЗА УРОК!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549080" y="3500280"/>
            <a:ext cx="603252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РОК ОКОНЧ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ДО СВИДАНИЯ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e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Историческая справка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Исаак Ньют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74880" y="2060640"/>
            <a:ext cx="3333960" cy="3960720"/>
          </a:xfrm>
          <a:prstGeom prst="rect">
            <a:avLst/>
          </a:prstGeom>
          <a:ln w="114480">
            <a:solidFill>
              <a:srgbClr val="800080"/>
            </a:solidFill>
            <a:miter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47640" y="425160"/>
            <a:ext cx="583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=1/2(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+Х/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157752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 baseline="-25000">
                <a:solidFill>
                  <a:srgbClr val="000000"/>
                </a:solidFill>
                <a:latin typeface="Comic Sans MS"/>
              </a:rPr>
              <a:t>+1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=1/2(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+Х/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i="1" lang="ru-RU" sz="4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20" y="4169880"/>
            <a:ext cx="7688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=1/2(5+28/5)=53/10=5,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635280" y="2637000"/>
                <a:ext cx="19447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Свойств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Возведение корня в 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Корень из степен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Сравнение корн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Корень из произве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Корень из част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cc"/>
                </a:solidFill>
                <a:uFillTx/>
                <a:latin typeface="Comic Sans MS"/>
              </a:rPr>
              <a:t>1</a:t>
            </a:r>
            <a:r>
              <a:rPr b="1" lang="ru-RU" sz="4400" spc="-1" strike="noStrike" u="sng">
                <a:solidFill>
                  <a:srgbClr val="0033cc"/>
                </a:solidFill>
                <a:uFillTx/>
                <a:latin typeface="Comic Sans MS"/>
              </a:rPr>
              <a:t>. Упрости выраж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1940040"/>
            <a:ext cx="2089080" cy="722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21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1133640" cy="1236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640" y="31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151308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843280" y="5445000"/>
            <a:ext cx="89064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11280" y="558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2. Внеси множитель под знак кор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1152720" cy="847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26920" y="2349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90840" cy="865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35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8000"/>
                </a:solidFill>
                <a:uFillTx/>
                <a:latin typeface="Comic Sans MS"/>
              </a:rPr>
              <a:t>3. Вынеси множитель из-под знака кор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58920" y="2708280"/>
                <a:ext cx="21589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97080" y="40464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0dff"/>
                </a:solidFill>
                <a:latin typeface="Comic Sans MS"/>
              </a:rPr>
              <a:t>Дидактические материал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тр. 108, К-4А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Вариант 3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№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, №2(а, б), №3, №5*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идактические материалы: Стр. 108,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-4А, Вариант 3 №1, №2(а, б), №3, №5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1:32:49Z</dcterms:created>
  <dc:creator>Акимова Татьяна Анатольевна</dc:creator>
  <dc:description/>
  <dc:language>en-US</dc:language>
  <cp:lastModifiedBy>Vlad</cp:lastModifiedBy>
  <dcterms:modified xsi:type="dcterms:W3CDTF">2010-02-08T20:38:40Z</dcterms:modified>
  <cp:revision>27</cp:revision>
  <dc:subject/>
  <dc:title>ТЕМА УРОКА</dc:title>
</cp:coreProperties>
</file>