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1DE-52ED-4114-B79E-3D630E9A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73B-E469-40D6-A179-59E12AA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33D-2936-4C5E-9C93-47CD35DE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D41-DA52-403A-A015-6DBE99CE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D3BF-96DA-4134-970E-F6D1B24F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95BB-8076-4F98-BBC9-5004A3B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929B-3B1D-49ED-B233-EE9B3FF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4D7-590B-414F-9025-B5EA712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16B6-9F3A-4602-9A6E-7C26B57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59CA-5FDB-40AE-AAE8-BF1E470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51FD-8974-423D-8628-B11D4C4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BD0-AA63-41B9-97FF-CA1F3A6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8724-AFEE-4499-A463-C7E812B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8C86-4D46-44E3-B1FD-0F0AF48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BD9-0CEC-4283-A4B9-F5642A3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0B87-DFEB-437B-BB60-EB73DD8D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712-90C9-4034-8349-2222CA9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BF3-9580-4CB7-8A85-9C664464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1D8-E03B-48BF-815B-D3DAC79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C2F-C518-49CA-96D3-42C72623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356-D217-472D-85DF-AF1C274A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D6A-17F7-4798-BD54-0DBBBB5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592-63CB-4B32-844A-CFE39B1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952-8A55-41D2-8F51-76477BE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7FB0-6A22-4506-90C9-9C59829017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35B-C74D-4A16-ADFB-C3285B0632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f4da7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48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cc"/>
                </a:solidFill>
                <a:uFillTx/>
                <a:latin typeface="Comic Sans MS"/>
              </a:rPr>
              <a:t>ТЕМА УРОКА: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5400"/>
            </a:b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Цель урок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вторить свойства квадратных корней  и умение применять их на практике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1413000"/>
            <a:ext cx="7775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вадратные корни»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dff"/>
                </a:solidFill>
                <a:latin typeface="Comic Sans MS"/>
              </a:rPr>
              <a:t>ВЫПОЛНЯЙ НА ЛИСТОЧ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15 МИНУ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BS00935_"/>
          <p:cNvPicPr/>
          <p:nvPr/>
        </p:nvPicPr>
        <p:blipFill>
          <a:blip r:embed="rId1"/>
          <a:stretch/>
        </p:blipFill>
        <p:spPr>
          <a:xfrm rot="510000">
            <a:off x="5866920" y="3716280"/>
            <a:ext cx="234180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415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КА САМОСТОЯТЕЛЬНОЙ РАБОТ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7696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ЗА КАЖДЫЙ ПРАВИЛЬН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ПОСТАВЬ СЕБЕ ПЛЮ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17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3800" spc="-1" strike="noStrike" u="sng">
                <a:solidFill>
                  <a:srgbClr val="000099"/>
                </a:solidFill>
                <a:uFillTx/>
                <a:latin typeface="Comic Sans MS"/>
              </a:rPr>
              <a:t>Решение заданий 2 уровня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38473" b="0"/>
          <a:stretch/>
        </p:blipFill>
        <p:spPr>
          <a:xfrm>
            <a:off x="395280" y="1197000"/>
            <a:ext cx="8282160" cy="280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6999" b="0"/>
          <a:stretch/>
        </p:blipFill>
        <p:spPr>
          <a:xfrm>
            <a:off x="2627280" y="4508640"/>
            <a:ext cx="5472000" cy="198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39640" y="549360"/>
            <a:ext cx="5400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35280" y="4581360"/>
            <a:ext cx="5396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4365720"/>
            <a:ext cx="93672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333360"/>
            <a:ext cx="93636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Учебник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стр. 102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«Проверь себя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1773360"/>
            <a:ext cx="6400800" cy="1412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О СВИДАНИЯ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e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Историческая справка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74880" y="2060640"/>
            <a:ext cx="3333960" cy="3960720"/>
          </a:xfrm>
          <a:prstGeom prst="rect">
            <a:avLst/>
          </a:prstGeom>
          <a:ln w="114480">
            <a:solidFill>
              <a:srgbClr val="800080"/>
            </a:solidFill>
            <a:miter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425160"/>
            <a:ext cx="583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157752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+1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20" y="4169880"/>
            <a:ext cx="7688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5+28/5)=53/10=5,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635280" y="2637000"/>
                <a:ext cx="19447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Свойств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Возведение корня в 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Корень из степен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Сравнение корн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Корень из произ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Корень из част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cc"/>
                </a:solidFill>
                <a:uFillTx/>
                <a:latin typeface="Comic Sans MS"/>
              </a:rPr>
              <a:t>1</a:t>
            </a:r>
            <a:r>
              <a:rPr b="1" lang="ru-RU" sz="4400" spc="-1" strike="noStrike" u="sng">
                <a:solidFill>
                  <a:srgbClr val="0033cc"/>
                </a:solidFill>
                <a:uFillTx/>
                <a:latin typeface="Comic Sans MS"/>
              </a:rPr>
              <a:t>. Упрости выраж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2089080" cy="722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21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133640" cy="1236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31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151308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843280" y="5445000"/>
            <a:ext cx="89064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11280" y="558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2. Внеси множитель под знак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1152720" cy="847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2692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90840" cy="86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8000"/>
                </a:solidFill>
                <a:uFillTx/>
                <a:latin typeface="Comic Sans MS"/>
              </a:rPr>
              <a:t>3. Вынеси множитель из-под знака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58920" y="2708280"/>
                <a:ext cx="21589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97080" y="40464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0dff"/>
                </a:solidFill>
                <a:latin typeface="Comic Sans MS"/>
              </a:rPr>
              <a:t>Дидактические материал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тр. 108, К-4А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ариант 3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№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, №2(а, б), №3, №5*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идактические материалы: Стр. 108,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-4А, Вариант 3 №1, №2(а, б), №3, №5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1:32:49Z</dcterms:created>
  <dc:creator>Акимова Татьяна Анатольевна</dc:creator>
  <dc:description/>
  <dc:language>en-US</dc:language>
  <cp:lastModifiedBy>Vlad</cp:lastModifiedBy>
  <dcterms:modified xsi:type="dcterms:W3CDTF">2010-02-08T20:38:40Z</dcterms:modified>
  <cp:revision>27</cp:revision>
  <dc:subject/>
  <dc:title>ТЕМА УРОКА</dc:title>
</cp:coreProperties>
</file>