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844-C46A-4452-9976-3AF45A78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D98-AD57-4452-8452-5EF3E94A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670-4691-4E92-BEF8-F40DA31F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3AD-912B-4B8C-9839-58B39453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965E-4368-4301-911A-297CDB6B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97CFF-2BBA-48EC-97B7-6AFCD372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F9F02-9A9D-4AD0-9DFB-EF27AD5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4EADE-09A5-4D29-82DB-D7F665FE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3E8D-FD1E-4D19-86D5-B4DBB6C0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5D529-9485-48A1-911E-FE92A378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EF7A4-284F-4F9B-9CD8-58645D3D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5BB-E4E5-4EBB-A675-00B0CB41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7432-4198-494B-BCB7-BB6F57CE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BE277-3992-478F-8A76-76E1BB3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F6C7-9038-4302-A10B-B49C7362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ECD84-7C01-4F6C-BCC1-464C11FA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29367-4698-487B-8DA9-1A6CE249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50E-B84C-42A2-BE4C-57AB39DC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537-CB8A-41D0-B217-20A31BDC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030-C94F-4732-AA85-88C55DA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FDE-F947-44A3-8335-B5F2E5DF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A6E-B9E7-408A-843B-0393CDE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633-E189-47F4-B38D-1C799D9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DA3-0CD0-4CBC-80F3-230E38C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570-156E-4054-84EC-78C23CBF1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C9FF-91A9-4862-84D9-C8BE446E37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расная книга Саратовско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Растени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74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лаун год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84720" y="1905120"/>
            <a:ext cx="26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Растет в тенистых хвойных лесах, в ельниках, по краям болот. Лекарственно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плаун годичный"/>
          <p:cNvPicPr/>
          <p:nvPr/>
        </p:nvPicPr>
        <p:blipFill>
          <a:blip r:embed="rId1"/>
          <a:stretch/>
        </p:blipFill>
        <p:spPr>
          <a:xfrm>
            <a:off x="324000" y="260280"/>
            <a:ext cx="525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35280" y="291960"/>
            <a:ext cx="325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леска сибир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Многолетнее растение высотой 10 - 20 с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пролеска сибирская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32511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ябчик ру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0000" y="692280"/>
            <a:ext cx="3178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В некоторых деревнях Поволжья до сих пор можно услышать быль о том, как рябчик русский помог в трудную минуту деревенскому мальчугану. А дело было так. Играли ребятишки в лесу, и один из них решил спрятаться от своих товарищей понадежнее. Забрался на дно оврага и притаился. С радостью слушал паренек, как удаляются голоса его друзей, которые даже предположить не могли, где его нужно искать. И вот вокруг наступила мертвая тишина. Мальчик решил, что пора вылезать, но, как оказалось, это нелегко - овраг слишком глубок. Испугался паренек и принялся звать своих друзей. Долго звал, охрип, и только еле слышные звуки вылетали из его горла. Отчаялся он, упал на склоне оврага и разрыдался. Но вдруг взгляд его остановился на красивых цветах, которые своими усиками цеплялись за стебли цветов, растущих рядом. И понял тогда мальчуган, как ему надо действовать, чтобы выбраться из оврага. Он стал карабкаться по склону, цепляясь за траву, ветки кустарника, корни деревьев. Наконец он перевалился через край оврага и упал на землю без сил. Здесь-то его вскоре и обнаружили прибежавшие на поиски из деревни взрослые, которых позвали ребятиш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рябчик русский"/>
          <p:cNvPicPr/>
          <p:nvPr/>
        </p:nvPicPr>
        <p:blipFill>
          <a:blip r:embed="rId1"/>
          <a:stretch/>
        </p:blipFill>
        <p:spPr>
          <a:xfrm>
            <a:off x="324000" y="981000"/>
            <a:ext cx="4824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5128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юльпан Гесн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90512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Ядовит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одиной этого многолетнего луковичного растения можно считать Переднюю Азию. По всей Европе выращивается как 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тюльпан Геснера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461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35280" y="6021000"/>
            <a:ext cx="3467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Бортникер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untitl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808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донис весен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35280" y="1915920"/>
            <a:ext cx="32511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99"/>
                </a:solidFill>
                <a:latin typeface="Tahoma"/>
              </a:rPr>
              <a:t>Растёт по сухим открытым степным склонам, по кустарникам, опушкам, балкам, на известня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адонис весенний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2000" y="291960"/>
            <a:ext cx="267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локрыльник бол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Используется для озеленения неглубоких искусственных водоемов или береговых частей водо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белокрыльник болотный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463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енерин башмач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Встречается в равнинных и горных лиственных, смешанных, реже хвойных лесах, на лесных опушках, лесных луг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венерин башмачок"/>
          <p:cNvPicPr/>
          <p:nvPr/>
        </p:nvPicPr>
        <p:blipFill>
          <a:blip r:embed="rId1"/>
          <a:stretch/>
        </p:blipFill>
        <p:spPr>
          <a:xfrm>
            <a:off x="179280" y="260280"/>
            <a:ext cx="51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720" y="404640"/>
            <a:ext cx="3097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Гвоздика л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2000" y="190512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Полевые гвоздики в народе называли диким мылом (их корень мылится), зорками, искрами, егорьевым копьем, травянцом, полевыми слезками, девичьей травк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гвоздика луговая"/>
          <p:cNvPicPr/>
          <p:nvPr/>
        </p:nvPicPr>
        <p:blipFill>
          <a:blip r:embed="rId1"/>
          <a:stretch/>
        </p:blipFill>
        <p:spPr>
          <a:xfrm>
            <a:off x="179280" y="620640"/>
            <a:ext cx="5619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рис бо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Этот ирис любит известняк и места посолнечнее и посуше.</a:t>
            </a:r>
            <a:br>
              <a:rPr sz="2400"/>
            </a:b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рис боровой"/>
          <p:cNvPicPr/>
          <p:nvPr/>
        </p:nvPicPr>
        <p:blipFill>
          <a:blip r:embed="rId1"/>
          <a:stretch/>
        </p:blipFill>
        <p:spPr>
          <a:xfrm>
            <a:off x="395280" y="54936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3178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увшинка бел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00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Считалось, что кувшинки — это русалки, которые днем спят, превратившись в крупные белые лилии, и лишь ночью принимают свой настоящий облик. Тот, кто бережно относится к цветам кувшинки, находится под защитой Водяного ца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кувшинка белая"/>
          <p:cNvPicPr/>
          <p:nvPr/>
        </p:nvPicPr>
        <p:blipFill>
          <a:blip r:embed="rId1"/>
          <a:stretch/>
        </p:blipFill>
        <p:spPr>
          <a:xfrm>
            <a:off x="179280" y="762120"/>
            <a:ext cx="518472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Майник двули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Ягоды двулистного майника в большом количестве поедаются рябчиками. Знать оттого-то в народных говорах и названа эта трава рябчиковыми ягод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майник двулистный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7280" y="291960"/>
            <a:ext cx="281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жевельник каза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астение сильно ядовитое</a:t>
            </a: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можжевельник казацкий"/>
          <p:cNvPicPr/>
          <p:nvPr/>
        </p:nvPicPr>
        <p:blipFill>
          <a:blip r:embed="rId1"/>
          <a:stretch/>
        </p:blipFill>
        <p:spPr>
          <a:xfrm>
            <a:off x="179280" y="907920"/>
            <a:ext cx="511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43:37Z</dcterms:created>
  <dc:creator>Алексей</dc:creator>
  <dc:description/>
  <dc:language>en-US</dc:language>
  <cp:lastModifiedBy>Алексей</cp:lastModifiedBy>
  <dcterms:modified xsi:type="dcterms:W3CDTF">2013-05-01T09:49:32Z</dcterms:modified>
  <cp:revision>8</cp:revision>
  <dc:subject/>
  <dc:title>Красная книга Саратовской области</dc:title>
</cp:coreProperties>
</file>