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90B-D886-4E97-9205-294C30D3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9D4-207D-48E4-9FCF-8EB01570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39A-8801-4A22-B0AF-0F36B790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3F2-03A9-4090-81B7-83AB2C2C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7DA01-0749-4385-8B2D-61072B24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AFB6D-ABBC-4608-A46F-CE6B13AB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50528-7B1A-4603-8434-0CF5E74D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556E8-F044-4629-AA99-CB6A5DAF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5C55C-0C7E-40CB-9673-AB980F3B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21030-2C89-4EA0-A24C-D18A33F8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016E7-0459-4409-AE7D-EACF63AD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A0B-0306-4C10-BBFF-029F5223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196BD-712C-46BC-B3E5-F40B5FE2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362A9-4042-4DAA-AFB6-0C206625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53D4C-AAC9-45C3-8352-66D32490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CCE08-9E42-4EE5-B25A-78E64276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6478F-3147-40CC-AC5B-FC2E7B58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41C-11DB-42F0-8DD5-AA37C7EF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E2C-E1A6-4C13-8E47-731CB5C2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070-75B3-4A03-A940-5368374B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5FC-4C61-401C-A496-D12F8062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F37-946A-47A3-BAB0-EA8882A6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F6E-F45E-4882-86CA-329D5D7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721-3FD7-44CF-8FC4-66379ED8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7471-A664-4AC9-A218-227393ACF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F9B3-6FEA-4398-8068-1725FED5DA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Красная книга Саратовской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блас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93372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600"/>
                </a:solidFill>
                <a:latin typeface="Tahoma"/>
              </a:rPr>
              <a:t>Растени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746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лаун годи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84720" y="1905120"/>
            <a:ext cx="26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Растет в тенистых хвойных лесах, в ельниках, по краям болот. Лекарственно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плаун годичный"/>
          <p:cNvPicPr/>
          <p:nvPr/>
        </p:nvPicPr>
        <p:blipFill>
          <a:blip r:embed="rId1"/>
          <a:stretch/>
        </p:blipFill>
        <p:spPr>
          <a:xfrm>
            <a:off x="324000" y="260280"/>
            <a:ext cx="5256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35280" y="291960"/>
            <a:ext cx="3251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олеска сибир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Многолетнее растение высотой 10 - 20 с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пролеска сибирская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-459000"/>
            <a:ext cx="32511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ябчик рус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80000" y="692280"/>
            <a:ext cx="3178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В некоторых деревнях Поволжья до сих пор можно услышать быль о том, как рябчик русский помог в трудную минуту деревенскому мальчугану. А дело было так. Играли ребятишки в лесу, и один из них решил спрятаться от своих товарищей понадежнее. Забрался на дно оврага и притаился. С радостью слушал паренек, как удаляются голоса его друзей, которые даже предположить не могли, где его нужно искать. И вот вокруг наступила мертвая тишина. Мальчик решил, что пора вылезать, но, как оказалось, это нелегко - овраг слишком глубок. Испугался паренек и принялся звать своих друзей. Долго звал, охрип, и только еле слышные звуки вылетали из его горла. Отчаялся он, упал на склоне оврага и разрыдался. Но вдруг взгляд его остановился на красивых цветах, которые своими усиками цеплялись за стебли цветов, растущих рядом. И понял тогда мальчуган, как ему надо действовать, чтобы выбраться из оврага. Он стал карабкаться по склону, цепляясь за траву, ветки кустарника, корни деревьев. Наконец он перевалился через край оврага и упал на землю без сил. Здесь-то его вскоре и обнаружили прибежавшие на поиски из деревни взрослые, которых позвали ребятиш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рябчик русский"/>
          <p:cNvPicPr/>
          <p:nvPr/>
        </p:nvPicPr>
        <p:blipFill>
          <a:blip r:embed="rId1"/>
          <a:stretch/>
        </p:blipFill>
        <p:spPr>
          <a:xfrm>
            <a:off x="324000" y="981000"/>
            <a:ext cx="4824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51280" y="291960"/>
            <a:ext cx="3035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Тюльпан Гесн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905120"/>
            <a:ext cx="30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Ядовит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одиной этого многолетнего луковичного растения можно считать Переднюю Азию. По всей Европе выращивается как декоративное раст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тюльпан Геснера"/>
          <p:cNvPicPr/>
          <p:nvPr/>
        </p:nvPicPr>
        <p:blipFill>
          <a:blip r:embed="rId1"/>
          <a:stretch/>
        </p:blipFill>
        <p:spPr>
          <a:xfrm>
            <a:off x="395280" y="260280"/>
            <a:ext cx="489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4619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20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35280" y="6021000"/>
            <a:ext cx="3467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Бортникер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untitled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808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Адонис весен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35280" y="1915920"/>
            <a:ext cx="325116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99"/>
                </a:solidFill>
                <a:latin typeface="Tahoma"/>
              </a:rPr>
              <a:t>Растёт по сухим открытым степным склонам, по кустарникам, опушкам, балкам, на известня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адонис весенний"/>
          <p:cNvPicPr/>
          <p:nvPr/>
        </p:nvPicPr>
        <p:blipFill>
          <a:blip r:embed="rId1"/>
          <a:stretch/>
        </p:blipFill>
        <p:spPr>
          <a:xfrm>
            <a:off x="179280" y="260280"/>
            <a:ext cx="475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12000" y="291960"/>
            <a:ext cx="267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локрыльник боло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Используется для озеленения неглубоких искусственных водоемов или береговых частей водоем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белокрыльник болотный"/>
          <p:cNvPicPr/>
          <p:nvPr/>
        </p:nvPicPr>
        <p:blipFill>
          <a:blip r:embed="rId1"/>
          <a:stretch/>
        </p:blipFill>
        <p:spPr>
          <a:xfrm>
            <a:off x="250920" y="189000"/>
            <a:ext cx="47624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51640" y="333000"/>
            <a:ext cx="30463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енерин башмач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Встречается в равнинных и горных лиственных, смешанных, реже хвойных лесах, на лесных опушках, лесных луга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венерин башмачок"/>
          <p:cNvPicPr/>
          <p:nvPr/>
        </p:nvPicPr>
        <p:blipFill>
          <a:blip r:embed="rId1"/>
          <a:stretch/>
        </p:blipFill>
        <p:spPr>
          <a:xfrm>
            <a:off x="179280" y="260280"/>
            <a:ext cx="5141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720" y="404640"/>
            <a:ext cx="3097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Гвоздика луг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72000" y="1905120"/>
            <a:ext cx="231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Полевые гвоздики в народе называли диким мылом (их корень мылится), зорками, искрами, егорьевым копьем, травянцом, полевыми слезками, девичьей травк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гвоздика луговая"/>
          <p:cNvPicPr/>
          <p:nvPr/>
        </p:nvPicPr>
        <p:blipFill>
          <a:blip r:embed="rId1"/>
          <a:stretch/>
        </p:blipFill>
        <p:spPr>
          <a:xfrm>
            <a:off x="179280" y="620640"/>
            <a:ext cx="56199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Ирис бор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Этот ирис любит известняк и места посолнечнее и посуше.</a:t>
            </a:r>
            <a:br>
              <a:rPr sz="2400"/>
            </a:b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ирис боровой"/>
          <p:cNvPicPr/>
          <p:nvPr/>
        </p:nvPicPr>
        <p:blipFill>
          <a:blip r:embed="rId1"/>
          <a:stretch/>
        </p:blipFill>
        <p:spPr>
          <a:xfrm>
            <a:off x="395280" y="549360"/>
            <a:ext cx="540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7280" y="333000"/>
            <a:ext cx="3178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увшинка бел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80000" y="190512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Считалось, что кувшинки — это русалки, которые днем спят, превратившись в крупные белые лилии, и лишь ночью принимают свой настоящий облик. Тот, кто бережно относится к цветам кувшинки, находится под защитой Водяного цар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кувшинка белая"/>
          <p:cNvPicPr/>
          <p:nvPr/>
        </p:nvPicPr>
        <p:blipFill>
          <a:blip r:embed="rId1"/>
          <a:stretch/>
        </p:blipFill>
        <p:spPr>
          <a:xfrm>
            <a:off x="179280" y="762120"/>
            <a:ext cx="518472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Майник двули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Ягоды двулистного майника в большом количестве поедаются рябчиками. Знать оттого-то в народных говорах и названа эта трава рябчиковыми ягод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майник двулистный"/>
          <p:cNvPicPr/>
          <p:nvPr/>
        </p:nvPicPr>
        <p:blipFill>
          <a:blip r:embed="rId1"/>
          <a:stretch/>
        </p:blipFill>
        <p:spPr>
          <a:xfrm>
            <a:off x="179280" y="765000"/>
            <a:ext cx="55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7280" y="291960"/>
            <a:ext cx="2819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жжевельник казац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астение сильно ядовитое</a:t>
            </a: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можжевельник казацкий"/>
          <p:cNvPicPr/>
          <p:nvPr/>
        </p:nvPicPr>
        <p:blipFill>
          <a:blip r:embed="rId1"/>
          <a:stretch/>
        </p:blipFill>
        <p:spPr>
          <a:xfrm>
            <a:off x="179280" y="907920"/>
            <a:ext cx="51134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2:43:37Z</dcterms:created>
  <dc:creator>Алексей</dc:creator>
  <dc:description/>
  <dc:language>en-US</dc:language>
  <cp:lastModifiedBy>Алексей</cp:lastModifiedBy>
  <dcterms:modified xsi:type="dcterms:W3CDTF">2013-05-01T09:49:32Z</dcterms:modified>
  <cp:revision>8</cp:revision>
  <dc:subject/>
  <dc:title>Красная книга Саратовской области</dc:title>
</cp:coreProperties>
</file>