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45E-49B7-4F59-8714-1706AA51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E99-9AEF-4F83-9DA9-6649592A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967-E6FD-4F11-91E8-3304D9E3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C2C-499F-430A-941E-D925F0E8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5ADF8-78AC-43EB-A047-6DCF969C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28B93-DC57-485C-9625-EE7D1C0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A7AC4-A142-441A-8971-9234CADC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B84E2-8CC9-45C9-87CA-9AA66052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493C6-6142-40A9-85B1-443A2710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4FAFA-805B-4CC0-B7CA-B835C5CC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4B5ED-690D-4F1E-992F-608CD94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E16-196E-47D2-8078-EF083545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91F0-E558-4370-A117-3B099926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249D4-AF62-4265-A030-79672D1F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F1EC3-7AFD-41A7-84A6-D9E7E502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4FCB0-7F61-41DA-B65A-310731BB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BCE7B-C819-4541-9ADB-CC126F1C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F69-FB62-41B1-A05B-AF544DAD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2EE-75C7-4F0B-A7B1-CC61E8DB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CB0-8B78-46E8-AFBF-5258F772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EC5-BA23-4FEA-9C37-630F584D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DCD-F890-47E0-BBD2-706CB84E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AB0-C0D4-4A34-A0BE-360CA0D7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6ED-D100-42B0-9D94-C3278CE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352C-7B09-407C-855B-F360EA941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363-AF8E-4610-8951-AB72349F1B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Красная книга Саратовско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бла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600"/>
                </a:solidFill>
                <a:latin typeface="Tahoma"/>
              </a:rPr>
              <a:t>Растени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746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лаун годи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84720" y="1905120"/>
            <a:ext cx="26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Растет в тенистых хвойных лесах, в ельниках, по краям болот. Лекарственно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плаун годичный"/>
          <p:cNvPicPr/>
          <p:nvPr/>
        </p:nvPicPr>
        <p:blipFill>
          <a:blip r:embed="rId1"/>
          <a:stretch/>
        </p:blipFill>
        <p:spPr>
          <a:xfrm>
            <a:off x="324000" y="260280"/>
            <a:ext cx="525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35280" y="291960"/>
            <a:ext cx="325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олеска сибир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Многолетнее растение высотой 10 - 20 с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пролеска сибирская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-459000"/>
            <a:ext cx="32511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ябчик рус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0000" y="692280"/>
            <a:ext cx="3178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В некоторых деревнях Поволжья до сих пор можно услышать быль о том, как рябчик русский помог в трудную минуту деревенскому мальчугану. А дело было так. Играли ребятишки в лесу, и один из них решил спрятаться от своих товарищей понадежнее. Забрался на дно оврага и притаился. С радостью слушал паренек, как удаляются голоса его друзей, которые даже предположить не могли, где его нужно искать. И вот вокруг наступила мертвая тишина. Мальчик решил, что пора вылезать, но, как оказалось, это нелегко - овраг слишком глубок. Испугался паренек и принялся звать своих друзей. Долго звал, охрип, и только еле слышные звуки вылетали из его горла. Отчаялся он, упал на склоне оврага и разрыдался. Но вдруг взгляд его остановился на красивых цветах, которые своими усиками цеплялись за стебли цветов, растущих рядом. И понял тогда мальчуган, как ему надо действовать, чтобы выбраться из оврага. Он стал карабкаться по склону, цепляясь за траву, ветки кустарника, корни деревьев. Наконец он перевалился через край оврага и упал на землю без сил. Здесь-то его вскоре и обнаружили прибежавшие на поиски из деревни взрослые, которых позвали ребятиш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рябчик русский"/>
          <p:cNvPicPr/>
          <p:nvPr/>
        </p:nvPicPr>
        <p:blipFill>
          <a:blip r:embed="rId1"/>
          <a:stretch/>
        </p:blipFill>
        <p:spPr>
          <a:xfrm>
            <a:off x="324000" y="981000"/>
            <a:ext cx="4824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51280" y="291960"/>
            <a:ext cx="303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юльпан Гесн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90512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Ядовит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одиной этого многолетнего луковичного растения можно считать Переднюю Азию. По всей Европе выращивается как декоративное раст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тюльпан Геснера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4619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0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35280" y="6021000"/>
            <a:ext cx="3467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Бортникер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untitled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808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Адонис весен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35280" y="1915920"/>
            <a:ext cx="32511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99"/>
                </a:solidFill>
                <a:latin typeface="Tahoma"/>
              </a:rPr>
              <a:t>Растёт по сухим открытым степным склонам, по кустарникам, опушкам, балкам, на известня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адонис весенний"/>
          <p:cNvPicPr/>
          <p:nvPr/>
        </p:nvPicPr>
        <p:blipFill>
          <a:blip r:embed="rId1"/>
          <a:stretch/>
        </p:blipFill>
        <p:spPr>
          <a:xfrm>
            <a:off x="179280" y="26028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12000" y="291960"/>
            <a:ext cx="267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локрыльник боло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Используется для озеленения неглубоких искусственных водоемов или береговых частей водоем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белокрыльник болотный"/>
          <p:cNvPicPr/>
          <p:nvPr/>
        </p:nvPicPr>
        <p:blipFill>
          <a:blip r:embed="rId1"/>
          <a:stretch/>
        </p:blipFill>
        <p:spPr>
          <a:xfrm>
            <a:off x="250920" y="189000"/>
            <a:ext cx="47624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51640" y="333000"/>
            <a:ext cx="30463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енерин башмач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Встречается в равнинных и горных лиственных, смешанных, реже хвойных лесах, на лесных опушках, лесных луга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венерин башмачок"/>
          <p:cNvPicPr/>
          <p:nvPr/>
        </p:nvPicPr>
        <p:blipFill>
          <a:blip r:embed="rId1"/>
          <a:stretch/>
        </p:blipFill>
        <p:spPr>
          <a:xfrm>
            <a:off x="179280" y="260280"/>
            <a:ext cx="5141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720" y="404640"/>
            <a:ext cx="3097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Гвоздика луг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72000" y="1905120"/>
            <a:ext cx="231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Полевые гвоздики в народе называли диким мылом (их корень мылится), зорками, искрами, егорьевым копьем, травянцом, полевыми слезками, девичьей травк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гвоздика луговая"/>
          <p:cNvPicPr/>
          <p:nvPr/>
        </p:nvPicPr>
        <p:blipFill>
          <a:blip r:embed="rId1"/>
          <a:stretch/>
        </p:blipFill>
        <p:spPr>
          <a:xfrm>
            <a:off x="179280" y="620640"/>
            <a:ext cx="56199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рис бор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Этот ирис любит известняк и места посолнечнее и посуше.</a:t>
            </a:r>
            <a:br>
              <a:rPr sz="2400"/>
            </a:b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ирис боровой"/>
          <p:cNvPicPr/>
          <p:nvPr/>
        </p:nvPicPr>
        <p:blipFill>
          <a:blip r:embed="rId1"/>
          <a:stretch/>
        </p:blipFill>
        <p:spPr>
          <a:xfrm>
            <a:off x="395280" y="549360"/>
            <a:ext cx="540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7280" y="333000"/>
            <a:ext cx="3178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увшинка бел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80000" y="190512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Считалось, что кувшинки — это русалки, которые днем спят, превратившись в крупные белые лилии, и лишь ночью принимают свой настоящий облик. Тот, кто бережно относится к цветам кувшинки, находится под защитой Водяного цар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кувшинка белая"/>
          <p:cNvPicPr/>
          <p:nvPr/>
        </p:nvPicPr>
        <p:blipFill>
          <a:blip r:embed="rId1"/>
          <a:stretch/>
        </p:blipFill>
        <p:spPr>
          <a:xfrm>
            <a:off x="179280" y="762120"/>
            <a:ext cx="518472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Майник двули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Ягоды двулистного майника в большом количестве поедаются рябчиками. Знать оттого-то в народных говорах и названа эта трава рябчиковыми ягод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майник двулистный"/>
          <p:cNvPicPr/>
          <p:nvPr/>
        </p:nvPicPr>
        <p:blipFill>
          <a:blip r:embed="rId1"/>
          <a:stretch/>
        </p:blipFill>
        <p:spPr>
          <a:xfrm>
            <a:off x="179280" y="76500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7280" y="291960"/>
            <a:ext cx="2819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жжевельник казац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астение сильно ядовитое</a:t>
            </a: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можжевельник казацкий"/>
          <p:cNvPicPr/>
          <p:nvPr/>
        </p:nvPicPr>
        <p:blipFill>
          <a:blip r:embed="rId1"/>
          <a:stretch/>
        </p:blipFill>
        <p:spPr>
          <a:xfrm>
            <a:off x="179280" y="907920"/>
            <a:ext cx="51134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2:43:37Z</dcterms:created>
  <dc:creator>Алексей</dc:creator>
  <dc:description/>
  <dc:language>en-US</dc:language>
  <cp:lastModifiedBy>Алексей</cp:lastModifiedBy>
  <dcterms:modified xsi:type="dcterms:W3CDTF">2013-05-01T09:49:32Z</dcterms:modified>
  <cp:revision>8</cp:revision>
  <dc:subject/>
  <dc:title>Красная книга Саратовской области</dc:title>
</cp:coreProperties>
</file>