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43D-7A1F-44B8-B011-915ABCF3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30D-DD58-4B53-BAB2-04CF9669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BB3-F82D-4D31-BA2A-C020E2B9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918-8A6B-491E-960D-82A23338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6A9C-2BF6-494B-9774-5A6DFBFC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7F37-F531-4F3C-B4EB-A58156B8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7EA7-9657-42F8-8D30-1D13A236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7D30-AF8D-43B9-975E-BFC56642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C134-269B-4D5C-A278-44E550BE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CB9A-DE55-4FA4-B205-58C96191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70E8-C78C-46DF-90B4-535362A6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EFE-DA9B-4989-AD3E-B1DB5B19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366A-F002-4C6D-938D-53D1153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A126-1E7C-4FE2-897C-027CD6CC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D365-7A47-4E47-A836-5014D271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FE11-2F47-4E19-8926-FCA36C80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FCE0-E4B0-466B-8977-A1550DFB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EBD-EEBF-4B1F-B292-DB0F9612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63D-5A3E-43E7-9FB2-A36E340B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952-A576-4EC4-A2FE-1C3519F5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D50-8C5F-4230-B490-0D20E069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A7F-1DE5-4EC5-AC22-02162253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A6A-AF1F-4073-9C15-9B4787E7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BC9-8495-4AA7-929B-CF808C3E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3A55-D073-4CC6-A20D-B5555F041C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3E30-E634-4D37-A4E1-6756B304202A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ТАНОВЛЕНИИ КЛАССНОГО КОЛЛЕКТИВА И ЕГО ВЛИЯНИЕ НА ФОРМИРОВАНИЕ ЛИЧНОСТИ КАЖДОГО УЧЕНИКА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Picture 4" descr="C:\Users\Дабро\Desktop\ОТДЕЛЬНАЯ ПАПКА\04102013057.jpg"/>
          <p:cNvPicPr/>
          <p:nvPr/>
        </p:nvPicPr>
        <p:blipFill>
          <a:blip r:embed="rId2"/>
          <a:stretch/>
        </p:blipFill>
        <p:spPr>
          <a:xfrm>
            <a:off x="1835280" y="2637000"/>
            <a:ext cx="51130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4284720" y="1413000"/>
            <a:ext cx="4635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решили создать свою собственную экскурсию «Литературные места Одинцовского района» Мы готовы предложить её всем школьникам Одинцово. Учащиеся 4 б класса будут гидами, а плата- 10 шишек, как у К. И. Чуковского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2" descr="C:\Users\Дабро\Desktop\ОТДЕЛЬНАЯ ПАПКА\IMG_1421.JPG"/>
          <p:cNvPicPr/>
          <p:nvPr/>
        </p:nvPicPr>
        <p:blipFill>
          <a:blip r:embed="rId2"/>
          <a:stretch/>
        </p:blipFill>
        <p:spPr>
          <a:xfrm>
            <a:off x="611280" y="476280"/>
            <a:ext cx="3240000" cy="242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Дабро\Desktop\ОТДЕЛЬНАЯ ПАПКА\IMG_1419.JPG"/>
          <p:cNvPicPr/>
          <p:nvPr/>
        </p:nvPicPr>
        <p:blipFill>
          <a:blip r:embed="rId3"/>
          <a:stretch/>
        </p:blipFill>
        <p:spPr>
          <a:xfrm>
            <a:off x="539640" y="3500280"/>
            <a:ext cx="3405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Users\Дабро\Desktop\ОТДЕЛЬНАЯ ПАПКА\IMG_1550.JPG"/>
          <p:cNvPicPr/>
          <p:nvPr/>
        </p:nvPicPr>
        <p:blipFill>
          <a:blip r:embed="rId2"/>
          <a:stretch/>
        </p:blipFill>
        <p:spPr>
          <a:xfrm>
            <a:off x="826920" y="3716280"/>
            <a:ext cx="3292560" cy="245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Дабро\Desktop\ОТДЕЛЬНАЯ ПАПКА\IMG_1439.JPG"/>
          <p:cNvPicPr/>
          <p:nvPr/>
        </p:nvPicPr>
        <p:blipFill>
          <a:blip r:embed="rId3"/>
          <a:stretch/>
        </p:blipFill>
        <p:spPr>
          <a:xfrm>
            <a:off x="900000" y="620640"/>
            <a:ext cx="3291120" cy="245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Users\Дабро\Desktop\ОТДЕЛЬНАЯ ПАПКА\IMG_1454.JPG"/>
          <p:cNvPicPr/>
          <p:nvPr/>
        </p:nvPicPr>
        <p:blipFill>
          <a:blip r:embed="rId4"/>
          <a:stretch/>
        </p:blipFill>
        <p:spPr>
          <a:xfrm>
            <a:off x="5219640" y="620640"/>
            <a:ext cx="3292560" cy="245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Дабро\Desktop\ОТДЕЛЬНАЯ ПАПКА\IMG_1462.JPG"/>
          <p:cNvPicPr/>
          <p:nvPr/>
        </p:nvPicPr>
        <p:blipFill>
          <a:blip r:embed="rId5"/>
          <a:stretch/>
        </p:blipFill>
        <p:spPr>
          <a:xfrm>
            <a:off x="5292720" y="3716280"/>
            <a:ext cx="3290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3419640" y="1052640"/>
            <a:ext cx="255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шло 2 месяца, а  сколько всего интересного произошло!!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2" descr="C:\Users\Дабро\Desktop\ОТДЕЛЬНАЯ ПАПКА\IMG_1525.JPG"/>
          <p:cNvPicPr/>
          <p:nvPr/>
        </p:nvPicPr>
        <p:blipFill>
          <a:blip r:embed="rId2"/>
          <a:stretch/>
        </p:blipFill>
        <p:spPr>
          <a:xfrm>
            <a:off x="179280" y="981000"/>
            <a:ext cx="2633760" cy="1967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Дабро\Desktop\ОТДЕЛЬНАЯ ПАПКА\IMG_1535.JPG"/>
          <p:cNvPicPr/>
          <p:nvPr/>
        </p:nvPicPr>
        <p:blipFill>
          <a:blip r:embed="rId3"/>
          <a:stretch/>
        </p:blipFill>
        <p:spPr>
          <a:xfrm>
            <a:off x="6227640" y="3500280"/>
            <a:ext cx="2633760" cy="1967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Users\Дабро\Desktop\ОТДЕЛЬНАЯ ПАПКА\IMG_1538.JPG"/>
          <p:cNvPicPr/>
          <p:nvPr/>
        </p:nvPicPr>
        <p:blipFill>
          <a:blip r:embed="rId4"/>
          <a:stretch/>
        </p:blipFill>
        <p:spPr>
          <a:xfrm>
            <a:off x="3276720" y="4724280"/>
            <a:ext cx="2631960" cy="1968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Дабро\Desktop\ОТДЕЛЬНАЯ ПАПКА\IMG_1539.JPG"/>
          <p:cNvPicPr/>
          <p:nvPr/>
        </p:nvPicPr>
        <p:blipFill>
          <a:blip r:embed="rId5"/>
          <a:stretch/>
        </p:blipFill>
        <p:spPr>
          <a:xfrm>
            <a:off x="250920" y="3429000"/>
            <a:ext cx="2633400" cy="196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Дабро\Desktop\ОТДЕЛЬНАЯ ПАПКА\IMG_1544.JPG"/>
          <p:cNvPicPr/>
          <p:nvPr/>
        </p:nvPicPr>
        <p:blipFill>
          <a:blip r:embed="rId6"/>
          <a:stretch/>
        </p:blipFill>
        <p:spPr>
          <a:xfrm>
            <a:off x="6300720" y="765000"/>
            <a:ext cx="2633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C:\Users\Дабро\Desktop\ОТДЕЛЬНАЯ ПАПКА\IMG_1238.JPG"/>
          <p:cNvPicPr/>
          <p:nvPr/>
        </p:nvPicPr>
        <p:blipFill>
          <a:blip r:embed="rId2"/>
          <a:stretch/>
        </p:blipFill>
        <p:spPr>
          <a:xfrm>
            <a:off x="539640" y="333360"/>
            <a:ext cx="2962440" cy="2211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СПИТАТЕЛЬНЫЙ КОЛЛЕКТИВ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492280"/>
            <a:ext cx="380988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И КОЛЛЕКТИВА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ОВАЯ НАПРАВЛЕННОСТЬ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ОСТЬ ГРУППЫ К САМОУПРАВЛЕНИЮ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ЛЕННОСТЬ К СОВМЕСТНОЙ ДЕЯТЕЛЬНОСТ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И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Я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РИЯТИЕ И ВЗАИМОПОНИМАНИ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Е И ПОДДЕРЖКА В РАДОСТИ И ГОР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ОУСТОЙЧИВОСТЬ И  НАДЕЖНОСТЬ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C:\Users\Дабро\Desktop\ОТДЕЛЬНАЯ ПАПКА\IMG_1194.JPG"/>
          <p:cNvPicPr/>
          <p:nvPr/>
        </p:nvPicPr>
        <p:blipFill>
          <a:blip r:embed="rId2"/>
          <a:stretch/>
        </p:blipFill>
        <p:spPr>
          <a:xfrm>
            <a:off x="539640" y="260280"/>
            <a:ext cx="3291120" cy="2459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ИНЦИПЫ СОТРУДНИЧЕСТВА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781000"/>
            <a:ext cx="380988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УСЛОВНОЕ ПРИНЯТИЕ ЛИЧНОСТИ, ЕЕ СЛАБЫХ И СИЛЬНЫХ СТОРОН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ПРИСТРАСТНОСТЬ В ОЦЕНКЕ ПОСТУПКОВ УЧАЩИХСЯ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ПЕНИЕ И ТЕРПИМОСТЬ В ДОСТИЖЕНИИ РЕЗУЛЬТАТОВ ВОЗДЕЙСТВИЯ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ЛОГИЧНОСТЬ В ОБЩЕНИИ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СТРАХА В ПРИЗНАНИИ СВОЕЙ НЕПРАВОТЫ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УВСТВО ЮМОРА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БОЯТЬСЯ СДЕЛАТЬ ОШИБКУ И ПРИЗНАТЬ Е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C:\Users\Дабро\Desktop\ОТДЕЛЬНАЯ ПАПКА\DSC02768.JPG"/>
          <p:cNvPicPr/>
          <p:nvPr/>
        </p:nvPicPr>
        <p:blipFill>
          <a:blip r:embed="rId2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ЛЯ ФОРМИРОВАНИЯ И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И КОЛЛЕКТИВА НЕОБХОДИМО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907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СТЬ ДЕЯТЕЛЬНОСТИ КЛАССНОГО РУКОВОДИТЕЛЯ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БРАТНАЯ СВЯЗЬ» ПОСЛЕ КАЖДОГО ПРОВЕДЕННОГО ДЕЛА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ВОРЧЕСТВО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ОСТЬ (ИНСТРУМЕНТ ОЦЕНКИ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А ВЫБОРА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АЯ НАПРАВЛЕННОСТЬ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КАТЕЛЬНАЯ ДЕЯТЕЛЬНОСТЬ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:\Users\Дабро\Desktop\ОТДЕЛЬНАЯ ПАПКА\DSC02890.JPG"/>
          <p:cNvPicPr/>
          <p:nvPr/>
        </p:nvPicPr>
        <p:blipFill>
          <a:blip r:embed="rId2"/>
          <a:stretch/>
        </p:blipFill>
        <p:spPr>
          <a:xfrm>
            <a:off x="5867280" y="2060640"/>
            <a:ext cx="3276720" cy="2881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оветы педагогу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98064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ботая с детьми, чаще вспоминай себя в детстве, тебе будет легче понять ребенк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райся видеть успехи детей и радоваться каждому из них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егда найди то, за что можно похвалить ребенк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увидел что-то, плохо сделанное детьми, подумай, в чем твоя ошибк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делай ничего за ребенка, а делай вместе с ним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алок воспитатель, лишенный чувства юмора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учись не приказывать, а просить, тогда ребенок все сделае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ни, человек сложен, даже если ему 10-11 ле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будь ханжой в острых и трудных вопросах детской жизни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учись все видеть и слышать, а кое-что не замечать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читай много нотаций - все равно не поможе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ное достоинство учителя - это чувство справедливости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играй в друзья с детьми, а будь им другом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бы иметь согласие - уважай разногласия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убивай ребенка потоком знаний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тыгрывайся на детях, если у тебя плохое настроение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мей признавать свои ошибки (и уж тем более старайся не повторять их)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удьте открытыми для новых идей и предложений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удьте готовы рискнуть, проявляйте энтузиазм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удьте образцом уровня ответственности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3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Дабро\Desktop\ОТДЕЛЬНАЯ ПАПКА\IMG_8650.JPG"/>
          <p:cNvPicPr/>
          <p:nvPr/>
        </p:nvPicPr>
        <p:blipFill>
          <a:blip r:embed="rId3"/>
          <a:stretch/>
        </p:blipFill>
        <p:spPr>
          <a:xfrm>
            <a:off x="0" y="260280"/>
            <a:ext cx="2874960" cy="1917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Users\Дабро\Desktop\ОТДЕЛЬНАЯ ПАПКА\IMG_8641.JPG"/>
          <p:cNvPicPr/>
          <p:nvPr/>
        </p:nvPicPr>
        <p:blipFill>
          <a:blip r:embed="rId4"/>
          <a:stretch/>
        </p:blipFill>
        <p:spPr>
          <a:xfrm>
            <a:off x="6156360" y="260280"/>
            <a:ext cx="2808360" cy="187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:\Users\Дабро\Desktop\ОТДЕЛЬНАЯ ПАПКА\IMG_8642.JPG"/>
          <p:cNvPicPr/>
          <p:nvPr/>
        </p:nvPicPr>
        <p:blipFill>
          <a:blip r:embed="rId5"/>
          <a:stretch/>
        </p:blipFill>
        <p:spPr>
          <a:xfrm>
            <a:off x="3203640" y="260280"/>
            <a:ext cx="2808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1026"/>
          <p:cNvSpPr/>
          <p:nvPr/>
        </p:nvSpPr>
        <p:spPr>
          <a:xfrm>
            <a:off x="250920" y="0"/>
            <a:ext cx="2228760" cy="1523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Oval 1027"/>
          <p:cNvSpPr/>
          <p:nvPr/>
        </p:nvSpPr>
        <p:spPr>
          <a:xfrm>
            <a:off x="6324480" y="0"/>
            <a:ext cx="2319480" cy="15001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кружающий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и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Oval 1028"/>
          <p:cNvSpPr/>
          <p:nvPr/>
        </p:nvSpPr>
        <p:spPr>
          <a:xfrm>
            <a:off x="2971800" y="1928880"/>
            <a:ext cx="2895480" cy="1576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ЛАССНЫЙ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УКОВОДИТЕЛ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Rectangle 1030"/>
          <p:cNvSpPr/>
          <p:nvPr/>
        </p:nvSpPr>
        <p:spPr>
          <a:xfrm>
            <a:off x="0" y="1928880"/>
            <a:ext cx="2571840" cy="857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заимоотношение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 класс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Rectangle 1031"/>
          <p:cNvSpPr/>
          <p:nvPr/>
        </p:nvSpPr>
        <p:spPr>
          <a:xfrm>
            <a:off x="142920" y="3571920"/>
            <a:ext cx="2428920" cy="9288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нтересы 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клонност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Rectangle 1032"/>
          <p:cNvSpPr/>
          <p:nvPr/>
        </p:nvSpPr>
        <p:spPr>
          <a:xfrm>
            <a:off x="6500880" y="3429000"/>
            <a:ext cx="2500200" cy="9288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1033"/>
          <p:cNvSpPr/>
          <p:nvPr/>
        </p:nvSpPr>
        <p:spPr>
          <a:xfrm>
            <a:off x="2362320" y="5410080"/>
            <a:ext cx="4190760" cy="9144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оллективная работ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Line 1034"/>
          <p:cNvSpPr/>
          <p:nvPr/>
        </p:nvSpPr>
        <p:spPr>
          <a:xfrm flipH="1" flipV="1">
            <a:off x="2057400" y="1523880"/>
            <a:ext cx="990720" cy="99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Line 1035"/>
          <p:cNvSpPr/>
          <p:nvPr/>
        </p:nvSpPr>
        <p:spPr>
          <a:xfrm flipV="1">
            <a:off x="5867280" y="1523880"/>
            <a:ext cx="762120" cy="106704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Line 1036"/>
          <p:cNvSpPr/>
          <p:nvPr/>
        </p:nvSpPr>
        <p:spPr>
          <a:xfrm>
            <a:off x="4495680" y="34290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Line 1037"/>
          <p:cNvSpPr/>
          <p:nvPr/>
        </p:nvSpPr>
        <p:spPr>
          <a:xfrm>
            <a:off x="2057400" y="4495680"/>
            <a:ext cx="2286000" cy="91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1038"/>
          <p:cNvSpPr/>
          <p:nvPr/>
        </p:nvSpPr>
        <p:spPr>
          <a:xfrm flipH="1">
            <a:off x="4343400" y="4495680"/>
            <a:ext cx="2666880" cy="91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1039"/>
          <p:cNvSpPr/>
          <p:nvPr/>
        </p:nvSpPr>
        <p:spPr>
          <a:xfrm>
            <a:off x="4419720" y="4800600"/>
            <a:ext cx="0" cy="6094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2643120" y="285840"/>
            <a:ext cx="364356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Что влияет 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формирование коллекти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Прямоугольник 17"/>
          <p:cNvSpPr/>
          <p:nvPr/>
        </p:nvSpPr>
        <p:spPr>
          <a:xfrm>
            <a:off x="6500880" y="1928880"/>
            <a:ext cx="2643120" cy="857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 flipH="1" flipV="1">
            <a:off x="7716600" y="1499760"/>
            <a:ext cx="106200" cy="4287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Прямая соединительная линия 21"/>
          <p:cNvSpPr/>
          <p:nvPr/>
        </p:nvSpPr>
        <p:spPr>
          <a:xfrm flipV="1">
            <a:off x="1285920" y="1571760"/>
            <a:ext cx="71280" cy="357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 flipH="1">
            <a:off x="2499840" y="3274920"/>
            <a:ext cx="895320" cy="5828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25"/>
          <p:cNvSpPr/>
          <p:nvPr/>
        </p:nvSpPr>
        <p:spPr>
          <a:xfrm>
            <a:off x="5643720" y="3214800"/>
            <a:ext cx="914400" cy="914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21" descr="C:\Users\Дабро\Desktop\ОТДЕЛЬНАЯ ПАПКА\IMG_1161.JPG"/>
          <p:cNvPicPr/>
          <p:nvPr/>
        </p:nvPicPr>
        <p:blipFill>
          <a:blip r:embed="rId2"/>
          <a:stretch/>
        </p:blipFill>
        <p:spPr>
          <a:xfrm>
            <a:off x="3276720" y="3573360"/>
            <a:ext cx="23889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3334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 сформированного коллектив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плоченность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рганизованность;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вторитет актива класса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вязь с общешкольным коллективом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частие в общественно полезном труде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заимоотношения в классе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ровень сознательной дисциплины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Рисунок 2" descr="http://www.school12.siteedit.ru/images/pic_torg08.gif"/>
          <p:cNvPicPr/>
          <p:nvPr/>
        </p:nvPicPr>
        <p:blipFill>
          <a:blip r:embed="rId2"/>
          <a:stretch/>
        </p:blipFill>
        <p:spPr>
          <a:xfrm>
            <a:off x="6012000" y="3716280"/>
            <a:ext cx="2786040" cy="121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Дабро\Desktop\ОТДЕЛЬНАЯ ПАПКА\DSC00097.JPG"/>
          <p:cNvPicPr/>
          <p:nvPr/>
        </p:nvPicPr>
        <p:blipFill>
          <a:blip r:embed="rId3"/>
          <a:stretch/>
        </p:blipFill>
        <p:spPr>
          <a:xfrm>
            <a:off x="611280" y="47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Дабро\Desktop\ОТДЕЛЬНАЯ ПАПКА\DSC00095.JPG"/>
          <p:cNvPicPr/>
          <p:nvPr/>
        </p:nvPicPr>
        <p:blipFill>
          <a:blip r:embed="rId4"/>
          <a:stretch/>
        </p:blipFill>
        <p:spPr>
          <a:xfrm>
            <a:off x="4643280" y="476280"/>
            <a:ext cx="35100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0" y="-375840"/>
            <a:ext cx="8858160" cy="71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4 б класса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овремя приходи на уро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тносись к людям так, как ты бы хотел, чтобы они относились к теб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иходи в школу подготовленным, с выполненным домашним задани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Будь вежлив, не груби, не дерис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ережно относись к школьному имуществ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На уроках соблюдай тишин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Во время перемены не бегай в класс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иходи в школу в форме, будь аккуратен и опряте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Помогай слабом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Не бери чужие вещи без разреш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Не пользуйся мобильным телефоном в класс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Бережно относись к чужим вещ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Активно участвуй в общественной жизни класса и школ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Следи за чистотой и порядком класса и своего рабочего мест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Дабро\Desktop\ОТДЕЛЬНАЯ ПАПКА\DSC02842.JPG"/>
          <p:cNvPicPr/>
          <p:nvPr/>
        </p:nvPicPr>
        <p:blipFill>
          <a:blip r:embed="rId2"/>
          <a:stretch/>
        </p:blipFill>
        <p:spPr>
          <a:xfrm>
            <a:off x="611280" y="69228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Дабро\Desktop\ОТДЕЛЬНАЯ ПАПКА\DSC02843.JPG"/>
          <p:cNvPicPr/>
          <p:nvPr/>
        </p:nvPicPr>
        <p:blipFill>
          <a:blip r:embed="rId3"/>
          <a:stretch/>
        </p:blipFill>
        <p:spPr>
          <a:xfrm>
            <a:off x="5580000" y="6922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Дабро\Desktop\ОТДЕЛЬНАЯ ПАПКА\DSC02845.JPG"/>
          <p:cNvPicPr/>
          <p:nvPr/>
        </p:nvPicPr>
        <p:blipFill>
          <a:blip r:embed="rId4"/>
          <a:stretch/>
        </p:blipFill>
        <p:spPr>
          <a:xfrm>
            <a:off x="395280" y="39337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Дабро\Desktop\ОТДЕЛЬНАЯ ПАПКА\DSC02846.JPG"/>
          <p:cNvPicPr/>
          <p:nvPr/>
        </p:nvPicPr>
        <p:blipFill>
          <a:blip r:embed="rId5"/>
          <a:stretch/>
        </p:blipFill>
        <p:spPr>
          <a:xfrm>
            <a:off x="4284720" y="3860640"/>
            <a:ext cx="3841560" cy="2880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1042920" y="299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м видом деятельности для школьников является учени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5" descr="C:\Users\Дабро\Desktop\ОТДЕЛЬНАЯ ПАПКА\DSC02771.JPG"/>
          <p:cNvPicPr/>
          <p:nvPr/>
        </p:nvPicPr>
        <p:blipFill>
          <a:blip r:embed="rId2"/>
          <a:stretch/>
        </p:blipFill>
        <p:spPr>
          <a:xfrm>
            <a:off x="468360" y="47628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:\Users\Дабро\Desktop\ОТДЕЛЬНАЯ ПАПКА\DSC02775.JPG"/>
          <p:cNvPicPr/>
          <p:nvPr/>
        </p:nvPicPr>
        <p:blipFill>
          <a:blip r:embed="rId3"/>
          <a:stretch/>
        </p:blipFill>
        <p:spPr>
          <a:xfrm>
            <a:off x="468360" y="3429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6"/>
          <p:cNvSpPr/>
          <p:nvPr/>
        </p:nvSpPr>
        <p:spPr>
          <a:xfrm>
            <a:off x="5003640" y="476280"/>
            <a:ext cx="32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ой создания, укрепления и развития коллектива учащихся является их совместная деятельность, направленная на достижение общих целей: учение, общественно полезная работа, производительный труд, деятельность по художественному творчеству, спорту и т. п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Дабро\Desktop\ОТДЕЛЬНАЯ ПАПКА\DSC02870.JPG"/>
          <p:cNvPicPr/>
          <p:nvPr/>
        </p:nvPicPr>
        <p:blipFill>
          <a:blip r:embed="rId2"/>
          <a:stretch/>
        </p:blipFill>
        <p:spPr>
          <a:xfrm>
            <a:off x="395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Дабро\Desktop\ОТДЕЛЬНАЯ ПАПКА\DSC02871.JPG"/>
          <p:cNvPicPr/>
          <p:nvPr/>
        </p:nvPicPr>
        <p:blipFill>
          <a:blip r:embed="rId3"/>
          <a:stretch/>
        </p:blipFill>
        <p:spPr>
          <a:xfrm>
            <a:off x="324000" y="326700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5003640" y="1325520"/>
            <a:ext cx="37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креплении связей и отношений в коллективе большое значение имеет совместное проведение досуга. Именно досуг приобщает школьников к коллективным переживаниям, действиям, помогает им лучше познакомиться с духовным миром друг друг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4932360" y="1413000"/>
            <a:ext cx="343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х стадиях развития классного коллектива возникают, крепнут и сплачивают коллектив большие и малые традици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3" descr="C:\Users\Дабро\Desktop\ОТДЕЛЬНАЯ ПАПКА\IMG_1205.JPG"/>
          <p:cNvPicPr/>
          <p:nvPr/>
        </p:nvPicPr>
        <p:blipFill>
          <a:blip r:embed="rId2"/>
          <a:stretch/>
        </p:blipFill>
        <p:spPr>
          <a:xfrm>
            <a:off x="395280" y="673200"/>
            <a:ext cx="3529080" cy="2635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Users\Дабро\Desktop\ОТДЕЛЬНАЯ ПАПКА\IMG_1208.JPG"/>
          <p:cNvPicPr/>
          <p:nvPr/>
        </p:nvPicPr>
        <p:blipFill>
          <a:blip r:embed="rId3"/>
          <a:stretch/>
        </p:blipFill>
        <p:spPr>
          <a:xfrm>
            <a:off x="395280" y="3481560"/>
            <a:ext cx="3529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4500720" y="1341360"/>
            <a:ext cx="436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и мы решили , что 2 октября- это День рождения класса. По мнению А. С. Макаренко, ничто так не скрепляет коллектив, как традици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2" descr="C:\Users\Дабро\Desktop\ОТДЕЛЬНАЯ ПАПКА\IMG_1235.JPG"/>
          <p:cNvPicPr/>
          <p:nvPr/>
        </p:nvPicPr>
        <p:blipFill>
          <a:blip r:embed="rId2"/>
          <a:stretch/>
        </p:blipFill>
        <p:spPr>
          <a:xfrm>
            <a:off x="539640" y="404640"/>
            <a:ext cx="3373560" cy="25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Дабро\Desktop\ОТДЕЛЬНАЯ ПАПКА\IMG_1225.JPG"/>
          <p:cNvPicPr/>
          <p:nvPr/>
        </p:nvPicPr>
        <p:blipFill>
          <a:blip r:embed="rId3"/>
          <a:stretch/>
        </p:blipFill>
        <p:spPr>
          <a:xfrm>
            <a:off x="611280" y="3716280"/>
            <a:ext cx="3375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6:32Z</dcterms:created>
  <dc:creator>user</dc:creator>
  <dc:description/>
  <dc:language>en-US</dc:language>
  <cp:lastModifiedBy>Слава</cp:lastModifiedBy>
  <dcterms:modified xsi:type="dcterms:W3CDTF">2013-11-30T13:00:24Z</dcterms:modified>
  <cp:revision>63</cp:revision>
  <dc:subject/>
  <dc:title>РОЛЬ КЛАССНОГО РУКОВОДИТЕЛЯ В СТАНОВЛЕНИИ КЛАССНОГО КОЛЛЕКТИВА И ЕГО ВЛИЯНИЕ НА ФОРМИРОВАНИЕ ЛИЧНОСТИ КАЖДОГО УЧЕНИКА</dc:title>
</cp:coreProperties>
</file>