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A74-DD12-4D2F-B9EF-14BE3535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B29-DC6E-4F30-9997-3F09BE62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6A3-85FD-4ADA-A1BA-87BDC391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719-CD4F-43EE-814D-E6941647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813-ED99-4560-BCCD-79916F66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5C86-FE30-4D80-8950-BDCC89C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1CE-AB64-4B33-825D-69672EB2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0B1A-1DC6-412F-A5AA-C88C93E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F1D-3EBB-47AB-BBBD-33658A91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559-EAF8-419B-91FC-E3732FF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2D9C-9A18-4130-B3EF-29924B2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18F-FA5B-4010-B86E-11B9667D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CB0A-E761-4D37-AFAB-DB52A15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5B05-B66F-4916-A469-921542F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0CE-730F-4A94-AB49-753C4F2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E99-E6F4-4512-BC7D-89FFD9E8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FE2F-03D1-4E83-AC21-609611CF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1C7-43B1-4D7E-9E15-E784B906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6EE-AB7D-4A24-9536-0FAD35B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C6F-59FC-4B5A-B146-ACC056C6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0FF-7E51-423D-8BC7-EA67AEF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804-9BB9-46A9-941A-224E051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79F-1187-4816-81A2-EA62299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B07-F99A-45CC-BE63-10C7CBA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36B-E679-4185-86AC-15096353DD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3F4E-3B6E-410F-9186-432423C40C3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АНОВЛЕНИИ КЛАССНОГО КОЛЛЕКТИВА И ЕГО ВЛИЯНИЕ НА ФОРМИРОВАНИЕ ЛИЧНОСТИ КАЖДОГО УЧЕНИКА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Picture 4" descr="C:\Users\Дабро\Desktop\ОТДЕЛЬНАЯ ПАПКА\04102013057.jpg"/>
          <p:cNvPicPr/>
          <p:nvPr/>
        </p:nvPicPr>
        <p:blipFill>
          <a:blip r:embed="rId2"/>
          <a:stretch/>
        </p:blipFill>
        <p:spPr>
          <a:xfrm>
            <a:off x="1835280" y="2637000"/>
            <a:ext cx="51130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284720" y="1413000"/>
            <a:ext cx="463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решили создать свою собственную экскурсию «Литературные места Одинцовского района» Мы готовы предложить её всем школьникам Одинцово. Учащиеся 4 б класса будут гидами, а плата- 10 шишек, как у К. И. Чуковског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C:\Users\Дабро\Desktop\ОТДЕЛЬНАЯ ПАПКА\IMG_1421.JPG"/>
          <p:cNvPicPr/>
          <p:nvPr/>
        </p:nvPicPr>
        <p:blipFill>
          <a:blip r:embed="rId2"/>
          <a:stretch/>
        </p:blipFill>
        <p:spPr>
          <a:xfrm>
            <a:off x="611280" y="476280"/>
            <a:ext cx="3240000" cy="242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Дабро\Desktop\ОТДЕЛЬНАЯ ПАПКА\IMG_1419.JPG"/>
          <p:cNvPicPr/>
          <p:nvPr/>
        </p:nvPicPr>
        <p:blipFill>
          <a:blip r:embed="rId3"/>
          <a:stretch/>
        </p:blipFill>
        <p:spPr>
          <a:xfrm>
            <a:off x="539640" y="3500280"/>
            <a:ext cx="3405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Дабро\Desktop\ОТДЕЛЬНАЯ ПАПКА\IMG_1550.JPG"/>
          <p:cNvPicPr/>
          <p:nvPr/>
        </p:nvPicPr>
        <p:blipFill>
          <a:blip r:embed="rId2"/>
          <a:stretch/>
        </p:blipFill>
        <p:spPr>
          <a:xfrm>
            <a:off x="826920" y="371628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Дабро\Desktop\ОТДЕЛЬНАЯ ПАПКА\IMG_1439.JPG"/>
          <p:cNvPicPr/>
          <p:nvPr/>
        </p:nvPicPr>
        <p:blipFill>
          <a:blip r:embed="rId3"/>
          <a:stretch/>
        </p:blipFill>
        <p:spPr>
          <a:xfrm>
            <a:off x="900000" y="620640"/>
            <a:ext cx="3291120" cy="245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Дабро\Desktop\ОТДЕЛЬНАЯ ПАПКА\IMG_1454.JPG"/>
          <p:cNvPicPr/>
          <p:nvPr/>
        </p:nvPicPr>
        <p:blipFill>
          <a:blip r:embed="rId4"/>
          <a:stretch/>
        </p:blipFill>
        <p:spPr>
          <a:xfrm>
            <a:off x="5219640" y="62064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Дабро\Desktop\ОТДЕЛЬНАЯ ПАПКА\IMG_1462.JPG"/>
          <p:cNvPicPr/>
          <p:nvPr/>
        </p:nvPicPr>
        <p:blipFill>
          <a:blip r:embed="rId5"/>
          <a:stretch/>
        </p:blipFill>
        <p:spPr>
          <a:xfrm>
            <a:off x="5292720" y="3716280"/>
            <a:ext cx="3290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3419640" y="1052640"/>
            <a:ext cx="255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шло 2 месяца, а  сколько всего интересного произошло!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2" descr="C:\Users\Дабро\Desktop\ОТДЕЛЬНАЯ ПАПКА\IMG_1525.JPG"/>
          <p:cNvPicPr/>
          <p:nvPr/>
        </p:nvPicPr>
        <p:blipFill>
          <a:blip r:embed="rId2"/>
          <a:stretch/>
        </p:blipFill>
        <p:spPr>
          <a:xfrm>
            <a:off x="179280" y="98100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Дабро\Desktop\ОТДЕЛЬНАЯ ПАПКА\IMG_1535.JPG"/>
          <p:cNvPicPr/>
          <p:nvPr/>
        </p:nvPicPr>
        <p:blipFill>
          <a:blip r:embed="rId3"/>
          <a:stretch/>
        </p:blipFill>
        <p:spPr>
          <a:xfrm>
            <a:off x="6227640" y="350028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Дабро\Desktop\ОТДЕЛЬНАЯ ПАПКА\IMG_1538.JPG"/>
          <p:cNvPicPr/>
          <p:nvPr/>
        </p:nvPicPr>
        <p:blipFill>
          <a:blip r:embed="rId4"/>
          <a:stretch/>
        </p:blipFill>
        <p:spPr>
          <a:xfrm>
            <a:off x="3276720" y="4724280"/>
            <a:ext cx="2631960" cy="196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Дабро\Desktop\ОТДЕЛЬНАЯ ПАПКА\IMG_1539.JPG"/>
          <p:cNvPicPr/>
          <p:nvPr/>
        </p:nvPicPr>
        <p:blipFill>
          <a:blip r:embed="rId5"/>
          <a:stretch/>
        </p:blipFill>
        <p:spPr>
          <a:xfrm>
            <a:off x="250920" y="3429000"/>
            <a:ext cx="2633400" cy="19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Дабро\Desktop\ОТДЕЛЬНАЯ ПАПКА\IMG_1544.JPG"/>
          <p:cNvPicPr/>
          <p:nvPr/>
        </p:nvPicPr>
        <p:blipFill>
          <a:blip r:embed="rId6"/>
          <a:stretch/>
        </p:blipFill>
        <p:spPr>
          <a:xfrm>
            <a:off x="6300720" y="765000"/>
            <a:ext cx="2633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Дабро\Desktop\ОТДЕЛЬНАЯ ПАПКА\IMG_1238.JPG"/>
          <p:cNvPicPr/>
          <p:nvPr/>
        </p:nvPicPr>
        <p:blipFill>
          <a:blip r:embed="rId2"/>
          <a:stretch/>
        </p:blipFill>
        <p:spPr>
          <a:xfrm>
            <a:off x="539640" y="333360"/>
            <a:ext cx="2962440" cy="2211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СПИТАТЕЛЬНЫЙ КОЛЛЕКТИВ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492280"/>
            <a:ext cx="380988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 КОЛЛЕКТИВ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АЯ НАПРАВЛЕН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ГРУППЫ К САМОУПРАВЛЕНИЮ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ЛЕННОСТЬ К СОВМЕСТНОЙ ДЕЯТЕЛЬНО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И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 И ВЗАИМОПОНИМА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И ПОДДЕРЖКА В РАДОСТИ И ГОР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ОУСТОЙЧИВОСТЬ И  НАДЕЖ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Users\Дабро\Desktop\ОТДЕЛЬНАЯ ПАПКА\IMG_1194.JPG"/>
          <p:cNvPicPr/>
          <p:nvPr/>
        </p:nvPicPr>
        <p:blipFill>
          <a:blip r:embed="rId2"/>
          <a:stretch/>
        </p:blipFill>
        <p:spPr>
          <a:xfrm>
            <a:off x="539640" y="260280"/>
            <a:ext cx="3291120" cy="245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НЦИПЫ СОТРУДНИЧЕСТВ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781000"/>
            <a:ext cx="380988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УСЛОВНОЕ ПРИНЯТИЕ ЛИЧНОСТИ, ЕЕ СЛАБЫХ И СИЛЬНЫХ СТОРОН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ПРИСТРАСТНОСТЬ В ОЦЕНКЕ ПОСТУПКОВ УЧАЩИХС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ПЕНИЕ И ТЕРПИМОСТЬ В ДОСТИЖЕНИИ РЕЗУЛЬТАТОВ ВОЗДЕЙСТВИ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ИЧНОСТЬ В ОБЩЕНИИ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СТРАХА В ПРИЗНАНИИ СВОЕЙ НЕПРАВОТЫ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О ЮМОРА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БОЯТЬСЯ СДЕЛАТЬ ОШИБКУ И ПРИЗНАТЬ Е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Users\Дабро\Desktop\ОТДЕЛЬНАЯ ПАПКА\DSC02768.JPG"/>
          <p:cNvPicPr/>
          <p:nvPr/>
        </p:nvPicPr>
        <p:blipFill>
          <a:blip r:embed="rId2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ФОРМИРОВАНИЯ 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КОЛЛЕКТИВА НЕОБХОДИМО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907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СТЬ ДЕЯТЕЛЬНОСТИ КЛАССНОГО РУКОВОДИТЕЛ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РАТНАЯ СВЯЗЬ» ПОСЛЕ КАЖДОГО ПРОВЕДЕННОГО ДЕЛ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ВОРЧЕСТВ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(ИНСТРУМЕНТ ОЦЕНКИ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А ВЫБОР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НАПРАВЛЕННОСТЬ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ТЕЛЬНАЯ ДЕЯТЕЛЬНОСТ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Дабро\Desktop\ОТДЕЛЬНАЯ ПАПКА\DSC02890.JPG"/>
          <p:cNvPicPr/>
          <p:nvPr/>
        </p:nvPicPr>
        <p:blipFill>
          <a:blip r:embed="rId2"/>
          <a:stretch/>
        </p:blipFill>
        <p:spPr>
          <a:xfrm>
            <a:off x="5867280" y="2060640"/>
            <a:ext cx="3276720" cy="2881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оветы педагогу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98064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ая с детьми, чаще вспоминай себя в детстве, тебе будет легче поня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райся видеть успехи детей и радоваться каждому из них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гда найди то, за что можно похвали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увидел что-то, плохо сделанное детьми, подумай, в чем твоя ошиб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делай ничего за ребенка, а делай вместе с ни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алок воспитатель, лишенный чувства юмор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не приказывать, а просить, тогда ребенок все сдела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ни, человек сложен, даже если ему 10-11 л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будь ханжой в острых и трудных вопросах детской жизн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все видеть и слышать, а кое-что не замечать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читай много нотаций - все равно не помож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ое достоинство учителя - это чувство справедливост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играй в друзья с детьми, а будь им друго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иметь согласие - уважай разногласия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убивай ребенка потоком зна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тыгрывайся на детях, если у тебя плохое настроение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мей признавать свои ошибки (и уж тем более старайся не повторять их)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ткрытыми для новых идей и предложе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готовы рискнуть, проявляйте энтузиаз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бразцом уровня ответственности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Дабро\Desktop\ОТДЕЛЬНАЯ ПАПКА\IMG_8650.JPG"/>
          <p:cNvPicPr/>
          <p:nvPr/>
        </p:nvPicPr>
        <p:blipFill>
          <a:blip r:embed="rId3"/>
          <a:stretch/>
        </p:blipFill>
        <p:spPr>
          <a:xfrm>
            <a:off x="0" y="260280"/>
            <a:ext cx="2874960" cy="191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Дабро\Desktop\ОТДЕЛЬНАЯ ПАПКА\IMG_8641.JPG"/>
          <p:cNvPicPr/>
          <p:nvPr/>
        </p:nvPicPr>
        <p:blipFill>
          <a:blip r:embed="rId4"/>
          <a:stretch/>
        </p:blipFill>
        <p:spPr>
          <a:xfrm>
            <a:off x="6156360" y="26028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Users\Дабро\Desktop\ОТДЕЛЬНАЯ ПАПКА\IMG_8642.JPG"/>
          <p:cNvPicPr/>
          <p:nvPr/>
        </p:nvPicPr>
        <p:blipFill>
          <a:blip r:embed="rId5"/>
          <a:stretch/>
        </p:blipFill>
        <p:spPr>
          <a:xfrm>
            <a:off x="3203640" y="260280"/>
            <a:ext cx="2808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026"/>
          <p:cNvSpPr/>
          <p:nvPr/>
        </p:nvSpPr>
        <p:spPr>
          <a:xfrm>
            <a:off x="250920" y="0"/>
            <a:ext cx="2228760" cy="1523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Oval 1027"/>
          <p:cNvSpPr/>
          <p:nvPr/>
        </p:nvSpPr>
        <p:spPr>
          <a:xfrm>
            <a:off x="6324480" y="0"/>
            <a:ext cx="2319480" cy="15001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кружающи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и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Oval 1028"/>
          <p:cNvSpPr/>
          <p:nvPr/>
        </p:nvSpPr>
        <p:spPr>
          <a:xfrm>
            <a:off x="2971800" y="1928880"/>
            <a:ext cx="2895480" cy="1576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НЫ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Rectangle 1030"/>
          <p:cNvSpPr/>
          <p:nvPr/>
        </p:nvSpPr>
        <p:spPr>
          <a:xfrm>
            <a:off x="0" y="1928880"/>
            <a:ext cx="257184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заимоотношени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класс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Rectangle 1031"/>
          <p:cNvSpPr/>
          <p:nvPr/>
        </p:nvSpPr>
        <p:spPr>
          <a:xfrm>
            <a:off x="142920" y="3571920"/>
            <a:ext cx="242892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нтересы 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клонност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Rectangle 1032"/>
          <p:cNvSpPr/>
          <p:nvPr/>
        </p:nvSpPr>
        <p:spPr>
          <a:xfrm>
            <a:off x="6500880" y="3429000"/>
            <a:ext cx="250020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1033"/>
          <p:cNvSpPr/>
          <p:nvPr/>
        </p:nvSpPr>
        <p:spPr>
          <a:xfrm>
            <a:off x="2362320" y="5410080"/>
            <a:ext cx="4190760" cy="914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ная рабо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034"/>
          <p:cNvSpPr/>
          <p:nvPr/>
        </p:nvSpPr>
        <p:spPr>
          <a:xfrm flipH="1" flipV="1">
            <a:off x="2057400" y="1523880"/>
            <a:ext cx="99072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1035"/>
          <p:cNvSpPr/>
          <p:nvPr/>
        </p:nvSpPr>
        <p:spPr>
          <a:xfrm flipV="1">
            <a:off x="5867280" y="1523880"/>
            <a:ext cx="762120" cy="10670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1036"/>
          <p:cNvSpPr/>
          <p:nvPr/>
        </p:nvSpPr>
        <p:spPr>
          <a:xfrm>
            <a:off x="4495680" y="3429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1037"/>
          <p:cNvSpPr/>
          <p:nvPr/>
        </p:nvSpPr>
        <p:spPr>
          <a:xfrm>
            <a:off x="2057400" y="4495680"/>
            <a:ext cx="22860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1038"/>
          <p:cNvSpPr/>
          <p:nvPr/>
        </p:nvSpPr>
        <p:spPr>
          <a:xfrm flipH="1">
            <a:off x="4343400" y="4495680"/>
            <a:ext cx="266688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1039"/>
          <p:cNvSpPr/>
          <p:nvPr/>
        </p:nvSpPr>
        <p:spPr>
          <a:xfrm>
            <a:off x="4419720" y="4800600"/>
            <a:ext cx="0" cy="6094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2643120" y="285840"/>
            <a:ext cx="364356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то влияет 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формирование коллект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6500880" y="1928880"/>
            <a:ext cx="264312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 flipH="1" flipV="1">
            <a:off x="7716600" y="1499760"/>
            <a:ext cx="106200" cy="4287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21"/>
          <p:cNvSpPr/>
          <p:nvPr/>
        </p:nvSpPr>
        <p:spPr>
          <a:xfrm flipV="1">
            <a:off x="1285920" y="1571760"/>
            <a:ext cx="71280" cy="357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 flipH="1">
            <a:off x="2499840" y="3274920"/>
            <a:ext cx="895320" cy="582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25"/>
          <p:cNvSpPr/>
          <p:nvPr/>
        </p:nvSpPr>
        <p:spPr>
          <a:xfrm>
            <a:off x="5643720" y="3214800"/>
            <a:ext cx="9144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21" descr="C:\Users\Дабро\Desktop\ОТДЕЛЬНАЯ ПАПКА\IMG_1161.JPG"/>
          <p:cNvPicPr/>
          <p:nvPr/>
        </p:nvPicPr>
        <p:blipFill>
          <a:blip r:embed="rId2"/>
          <a:stretch/>
        </p:blipFill>
        <p:spPr>
          <a:xfrm>
            <a:off x="3276720" y="3573360"/>
            <a:ext cx="23889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3334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 сформированного коллектив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плоченность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рганизованность;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торитет актива класса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вязь с общешкольным коллективом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частие в общественно полезном труд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заимоотношения в класс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ровень сознательной дисциплины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2" descr="http://www.school12.siteedit.ru/images/pic_torg08.gif"/>
          <p:cNvPicPr/>
          <p:nvPr/>
        </p:nvPicPr>
        <p:blipFill>
          <a:blip r:embed="rId2"/>
          <a:stretch/>
        </p:blipFill>
        <p:spPr>
          <a:xfrm>
            <a:off x="6012000" y="3716280"/>
            <a:ext cx="2786040" cy="121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Дабро\Desktop\ОТДЕЛЬНАЯ ПАПКА\DSC00097.JPG"/>
          <p:cNvPicPr/>
          <p:nvPr/>
        </p:nvPicPr>
        <p:blipFill>
          <a:blip r:embed="rId3"/>
          <a:stretch/>
        </p:blipFill>
        <p:spPr>
          <a:xfrm>
            <a:off x="61128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Дабро\Desktop\ОТДЕЛЬНАЯ ПАПКА\DSC00095.JPG"/>
          <p:cNvPicPr/>
          <p:nvPr/>
        </p:nvPicPr>
        <p:blipFill>
          <a:blip r:embed="rId4"/>
          <a:stretch/>
        </p:blipFill>
        <p:spPr>
          <a:xfrm>
            <a:off x="4643280" y="476280"/>
            <a:ext cx="3510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0" y="-375840"/>
            <a:ext cx="8858160" cy="71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4 б класс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время приходи на уро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носись к людям так, как ты бы хотел, чтобы они относились к теб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ходи в школу подготовленным, с выполненным домашним задан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Будь вежлив, не груби, не дери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режно относись к школьному имуществ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а уроках соблюдай тишин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о время перемены не бегай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иходи в школу в форме, будь аккуратен и опряте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могай слаб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е бери чужие вещи без разре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 пользуйся мобильным телефоном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Бережно относись к чужим вещ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Активно участвуй в общественной жизни класса и школ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леди за чистотой и порядком класса и своего рабочего мес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Дабро\Desktop\ОТДЕЛЬНАЯ ПАПКА\DSC02842.JPG"/>
          <p:cNvPicPr/>
          <p:nvPr/>
        </p:nvPicPr>
        <p:blipFill>
          <a:blip r:embed="rId2"/>
          <a:stretch/>
        </p:blipFill>
        <p:spPr>
          <a:xfrm>
            <a:off x="611280" y="692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Дабро\Desktop\ОТДЕЛЬНАЯ ПАПКА\DSC02843.JPG"/>
          <p:cNvPicPr/>
          <p:nvPr/>
        </p:nvPicPr>
        <p:blipFill>
          <a:blip r:embed="rId3"/>
          <a:stretch/>
        </p:blipFill>
        <p:spPr>
          <a:xfrm>
            <a:off x="5580000" y="692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Дабро\Desktop\ОТДЕЛЬНАЯ ПАПКА\DSC02845.JPG"/>
          <p:cNvPicPr/>
          <p:nvPr/>
        </p:nvPicPr>
        <p:blipFill>
          <a:blip r:embed="rId4"/>
          <a:stretch/>
        </p:blipFill>
        <p:spPr>
          <a:xfrm>
            <a:off x="395280" y="39337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Дабро\Desktop\ОТДЕЛЬНАЯ ПАПКА\DSC02846.JPG"/>
          <p:cNvPicPr/>
          <p:nvPr/>
        </p:nvPicPr>
        <p:blipFill>
          <a:blip r:embed="rId5"/>
          <a:stretch/>
        </p:blipFill>
        <p:spPr>
          <a:xfrm>
            <a:off x="4284720" y="3860640"/>
            <a:ext cx="3841560" cy="288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042920" y="299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м видом деятельности для школьников является учени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C:\Users\Дабро\Desktop\ОТДЕЛЬНАЯ ПАПКА\DSC02771.JPG"/>
          <p:cNvPicPr/>
          <p:nvPr/>
        </p:nvPicPr>
        <p:blipFill>
          <a:blip r:embed="rId2"/>
          <a:stretch/>
        </p:blipFill>
        <p:spPr>
          <a:xfrm>
            <a:off x="468360" y="47628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:\Users\Дабро\Desktop\ОТДЕЛЬНАЯ ПАПКА\DSC02775.JPG"/>
          <p:cNvPicPr/>
          <p:nvPr/>
        </p:nvPicPr>
        <p:blipFill>
          <a:blip r:embed="rId3"/>
          <a:stretch/>
        </p:blipFill>
        <p:spPr>
          <a:xfrm>
            <a:off x="46836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6"/>
          <p:cNvSpPr/>
          <p:nvPr/>
        </p:nvSpPr>
        <p:spPr>
          <a:xfrm>
            <a:off x="5003640" y="476280"/>
            <a:ext cx="32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ой создания, укрепления и развития коллектива учащихся является их совместная деятельность, направленная на достижение общих целей: учение, общественно полезная работа, производительный труд, деятельность по художественному творчеству, спорту и т. п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Дабро\Desktop\ОТДЕЛЬНАЯ ПАПКА\DSC02870.JPG"/>
          <p:cNvPicPr/>
          <p:nvPr/>
        </p:nvPicPr>
        <p:blipFill>
          <a:blip r:embed="rId2"/>
          <a:stretch/>
        </p:blipFill>
        <p:spPr>
          <a:xfrm>
            <a:off x="395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Дабро\Desktop\ОТДЕЛЬНАЯ ПАПКА\DSC02871.JPG"/>
          <p:cNvPicPr/>
          <p:nvPr/>
        </p:nvPicPr>
        <p:blipFill>
          <a:blip r:embed="rId3"/>
          <a:stretch/>
        </p:blipFill>
        <p:spPr>
          <a:xfrm>
            <a:off x="324000" y="326700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03640" y="13255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креплении связей и отношений в коллективе большое значение имеет совместное проведение досуга. Именно досуг приобщает школьников к коллективным переживаниям, действиям, помогает им лучше познакомиться с духовным миром друг дру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4932360" y="1413000"/>
            <a:ext cx="343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х стадиях развития классного коллектива возникают, крепнут и сплачивают коллектив большие и малые традици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3" descr="C:\Users\Дабро\Desktop\ОТДЕЛЬНАЯ ПАПКА\IMG_1205.JPG"/>
          <p:cNvPicPr/>
          <p:nvPr/>
        </p:nvPicPr>
        <p:blipFill>
          <a:blip r:embed="rId2"/>
          <a:stretch/>
        </p:blipFill>
        <p:spPr>
          <a:xfrm>
            <a:off x="395280" y="673200"/>
            <a:ext cx="3529080" cy="263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Дабро\Desktop\ОТДЕЛЬНАЯ ПАПКА\IMG_1208.JPG"/>
          <p:cNvPicPr/>
          <p:nvPr/>
        </p:nvPicPr>
        <p:blipFill>
          <a:blip r:embed="rId3"/>
          <a:stretch/>
        </p:blipFill>
        <p:spPr>
          <a:xfrm>
            <a:off x="395280" y="3481560"/>
            <a:ext cx="3529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4500720" y="1341360"/>
            <a:ext cx="43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мы решили , что 2 октября- это День рождения класса. По мнению А. С. Макаренко, ничто так не скрепляет коллектив, как традиц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2" descr="C:\Users\Дабро\Desktop\ОТДЕЛЬНАЯ ПАПКА\IMG_1235.JPG"/>
          <p:cNvPicPr/>
          <p:nvPr/>
        </p:nvPicPr>
        <p:blipFill>
          <a:blip r:embed="rId2"/>
          <a:stretch/>
        </p:blipFill>
        <p:spPr>
          <a:xfrm>
            <a:off x="539640" y="404640"/>
            <a:ext cx="3373560" cy="25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Дабро\Desktop\ОТДЕЛЬНАЯ ПАПКА\IMG_1225.JPG"/>
          <p:cNvPicPr/>
          <p:nvPr/>
        </p:nvPicPr>
        <p:blipFill>
          <a:blip r:embed="rId3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6:32Z</dcterms:created>
  <dc:creator>user</dc:creator>
  <dc:description/>
  <dc:language>en-US</dc:language>
  <cp:lastModifiedBy>Слава</cp:lastModifiedBy>
  <dcterms:modified xsi:type="dcterms:W3CDTF">2013-11-30T13:00:24Z</dcterms:modified>
  <cp:revision>63</cp:revision>
  <dc:subject/>
  <dc:title>РОЛЬ КЛАССНОГО РУКОВОДИТЕЛЯ В СТАНОВЛЕНИИ КЛАССНОГО КОЛЛЕКТИВА И ЕГО ВЛИЯНИЕ НА ФОРМИРОВАНИЕ ЛИЧНОСТИ КАЖДОГО УЧЕНИКА</dc:title>
</cp:coreProperties>
</file>