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558-8C4A-4A02-928D-8FECE26F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A6D-9EB3-4EE5-86A2-3C344E81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3D9-6A13-4009-8092-1CEB08D4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578-994F-4F31-93EA-6906FF34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B952-5752-4F6B-95EE-E82074A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D7D0-DC13-4693-8CA6-D002CCD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145-48EA-4B04-A433-45A442D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E6B-DD62-4600-A215-6BE97C2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572-6F10-4DBE-8515-03ED4795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9FD3-FD6E-4B61-8868-C2683A7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7F9C-E403-4B41-B37D-1D2778A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E95-C15F-4BD2-A880-3A2E977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ED3-78B4-4DF5-8449-F69D262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A2E6-F756-4175-B889-A6F2403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F4FA-240E-46E4-A9C6-BF45F0E6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C1F-F217-4CC4-9949-30731CD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EE57-FE14-4095-9C20-8043D83F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ED58-D946-49B3-A530-86ADDACF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57ED-A4E1-4760-AECF-3C72564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594F-1494-466F-97E7-91E4316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B6BC-886F-4C4F-9225-9865EED0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66E2-8BB4-43C7-BC2B-153DBEF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C33-558B-466C-9745-CC8DCEA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1EE8-A02A-449F-99EA-EC3D35E9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3E90-32B8-425A-8968-0F1D242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2906-0505-40BE-AA6D-98C986F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57BA-0F90-4E9B-AB66-33A3515A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32E7-A8D4-44A4-9322-72A73F8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AFE1-0051-44CC-B23B-52DFE64F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28BC-7D9D-4F6C-9276-44F38B8C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C76B-897E-4F51-9241-3CAE6260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AA6C-8BD1-41FF-BB84-BF46F649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36A2-0206-42FD-AF19-63C8BAE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CFF-63F9-4176-95B2-724035DD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2FFD-DDDA-4A39-B25C-A77F22D1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27F6-BD7A-4FE5-ACEB-FB5CDA8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7991-A1CD-48D5-B8E0-F49744D3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EA27-9E3B-42B7-93F3-50B64DF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AF000-5E0A-4683-A6BE-53C3B06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2BEB-074D-4A8B-9D99-587C210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CBAE-BC60-448D-A3D5-482FD01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4F69-6A2E-4E3C-BCD6-1C121026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1CCF-92F4-4A8C-A26A-DEC086BE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4FD-5481-413A-91E3-1135D3E2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B87-D36D-495C-9948-E58CD32E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2F3-ACD5-4A8D-B6FA-5B91F7C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AC7-153D-4261-B29F-1474025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B29-17E1-4697-9FFA-4FFA086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7F0-B667-4BA5-B32A-08B76946CB89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A51D-348D-413C-A1CF-D614B8D9D3F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CB6-9A56-4C52-8F84-7DD4759A69A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A63-3F27-42FC-BC99-C02811DDCA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«как мы лук сажал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989440" y="1571760"/>
            <a:ext cx="2521080" cy="128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492360" y="476280"/>
            <a:ext cx="49672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Метод проектирования актуален и очень эффективен. Он даёт ребёнку возможность экспериментировать, синтезировать. полученные знания. Развивает творческие способности и коммуникативные навыки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0" name="ВЕСЕЛАЯ МУЗЫКА (mp3ostrov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82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2"/>
          <a:stretch/>
        </p:blipFill>
        <p:spPr>
          <a:xfrm>
            <a:off x="5218200" y="469800"/>
            <a:ext cx="3932280" cy="2535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33148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Цель проекта: Развитие познавательных способностей, творческого воображения и мышления, развитие коммуникативных навыков, формирование у детей активного словар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2106360" y="32464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 групп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Все и взрослые, и дети, знают, что такое лук. Витаминами богатый – избавляет от недуг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6" name="Рисунок 4" descr="IMGA0023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9720" y="-6018480"/>
            <a:ext cx="98280" cy="822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89560" y="692280"/>
            <a:ext cx="2998800" cy="4465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На окошко выставляем с тёплою землёй лоток. Лук сажаем, поливаем, ждём, когда взойдёт рост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1189440" y="24922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посадки лу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наблюдения детьми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24000" y="1052640"/>
            <a:ext cx="3022920" cy="3456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Если солнце ярко светит, быстро прорастёт лучок, и уже через неделю будет зелени пучок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то  как дети наблюдают за ростом лука</a:t>
            </a: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40000" y="620640"/>
            <a:ext cx="2878200" cy="38880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Очень вкусен лук в салате, мама варит с луком щи. Так что ешьте больше лука и другие овощи!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9200" y="836280"/>
            <a:ext cx="3429000" cy="4367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Black"/>
              </a:rPr>
              <a:t>А тому кто скажет: « горький, горло щиплет, губы жжёт!» Мы ответим : «лук полезный, он здоровье нам несёт !»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30686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 де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6:37:34Z</dcterms:created>
  <dc:creator>ЭЛЕКС</dc:creator>
  <dc:description/>
  <dc:language>en-US</dc:language>
  <cp:lastModifiedBy>USER</cp:lastModifiedBy>
  <dcterms:modified xsi:type="dcterms:W3CDTF">2012-04-11T17:28:30Z</dcterms:modified>
  <cp:revision>16</cp:revision>
  <dc:subject/>
  <dc:title>Проектная деятельность</dc:title>
</cp:coreProperties>
</file>