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3DD-A3BB-40B4-A001-5EF83DE4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22C-938E-4BAF-8F58-654667C6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D66B-4CB4-48C9-9546-E5C8EA7A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9459-09A3-46EC-9FCF-B6F3E054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D488-D7A9-4D2A-9E50-FA7535A3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B742-23D0-4660-8C7E-0073A184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E697-76C2-4785-B343-07023466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9FFC-4145-4DBF-8643-192217CB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6891-32D7-4FB3-87AC-342D313B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51E7-4F34-4D70-BD14-8ECC7543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3711-1F23-480C-85C3-DE18D820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5A65-D299-4742-AD9C-A68BD1F9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5484-EAB5-4CB3-8FCA-AE9A5888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8400-000A-4EAC-9187-A3CC21BA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3EF0-2C2F-4AEA-BDB2-54C717EC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E587-6E99-46C4-81E8-7DD1B004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8C5B-D19D-478E-8F19-6A55F037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4CC21-E5D2-4E5B-A4AE-7A7F956A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0722C-41A7-4F31-BBD2-705680C3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0B15A-82A9-493A-9F64-4C4226D4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650F6-7DB9-4E17-B3A1-C459D416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05F69-3300-432B-8073-26FE8BDA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3E49-1425-401E-AC6C-C1FA7A73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A1221-B402-4554-B05B-1ED473F8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A7A2F-402F-4450-B604-3C71631D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A3CAB-A576-46E2-A553-58C1A222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AB2B6-BE44-4F8C-9A54-1EE90288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B54EC-8160-48A9-BF30-DC35BA54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9BB5E-DBFB-4057-B17B-369527C5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52235-B2FE-400E-BC2D-B87095A4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220B7-C004-4D54-9E90-A8E22B78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62ECE-0516-4456-97AB-6FC2B622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0FEBF-14D8-43AD-B716-7BD636D6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6ED0-B30C-448D-998F-F3EE239B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8E35B-2547-492E-9BFF-5EFE18AD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D116C-48A0-4E3E-9013-26191120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DEDE3-076E-4806-B6AE-1DDA1339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D030B-B554-4296-BF0A-1DBC7773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7C50B-FF28-4A7F-B087-0B1D23AD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CDB07-1352-4B2D-807F-569EACD6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6740B-ADE0-433D-A43A-0299694E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11789-73A2-4734-9CBA-AAFCDC47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08C3A-9996-4654-BA9F-B6F6BF52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ABA-B25C-411F-8A33-0B8F4F89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708-C073-4E3D-ADAE-0DF25080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160-ED52-4AE8-8A84-11887CDD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7C27-0DBF-4693-9DFF-2ED00121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F663-8E0F-4077-BE9E-53AD2B00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1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B7E0-9D64-4250-8C06-93E0E19921C8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0E7E-749D-44D7-A58B-E7434DA162A3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AF7A-8C18-42D3-9CC9-2256134F60B6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5416-BC06-44B0-A56D-705A774F961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529240" cy="2878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«как мы лук сажали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2989440" y="1571760"/>
            <a:ext cx="2521080" cy="1280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492360" y="476280"/>
            <a:ext cx="4967280" cy="561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Метод проектирования актуален и очень эффективен. Он даёт ребёнку возможность экспериментировать, синтезировать. полученные знания. Развивает творческие способности и коммуникативные навыки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0" name="ВЕСЕЛАЯ МУЗЫКА (mp3ostrov.co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7824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Заголовок 1" descr=""/>
          <p:cNvPicPr/>
          <p:nvPr/>
        </p:nvPicPr>
        <p:blipFill>
          <a:blip r:embed="rId2"/>
          <a:stretch/>
        </p:blipFill>
        <p:spPr>
          <a:xfrm>
            <a:off x="5218200" y="469800"/>
            <a:ext cx="3932280" cy="25354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331488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Цель проекта: Развитие познавательных способностей, творческого воображения и мышления, развитие коммуникативных навыков, формирование у детей активного словаря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"/>
          <p:cNvSpPr/>
          <p:nvPr/>
        </p:nvSpPr>
        <p:spPr>
          <a:xfrm>
            <a:off x="2106360" y="324648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то детей групп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89200" y="1142640"/>
            <a:ext cx="34290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89200" y="836280"/>
            <a:ext cx="3429000" cy="43671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Все и взрослые, и дети, знают, что такое лук. Витаминами богатый – избавляет от недуг!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86" name="Рисунок 4" descr="IMGA0023.JPG"/>
          <p:cNvPicPr/>
          <p:nvPr/>
        </p:nvPicPr>
        <p:blipFill>
          <a:blip r:embed="rId2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609720" y="-6018480"/>
            <a:ext cx="98280" cy="8223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89560" y="692280"/>
            <a:ext cx="2998800" cy="446544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На окошко выставляем с тёплою землёй лоток. Лук сажаем, поливаем, ждём, когда взойдёт росток!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"/>
          <p:cNvSpPr/>
          <p:nvPr/>
        </p:nvSpPr>
        <p:spPr>
          <a:xfrm>
            <a:off x="1189440" y="249228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то посадки лук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2276280"/>
            <a:ext cx="34290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ото наблюдения детьми за ростом лука</a:t>
            </a:r>
            <a:endParaRPr b="1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24000" y="1052640"/>
            <a:ext cx="3022920" cy="345600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Если солнце ярко светит, быстро прорастёт лучок, и уже через неделю будет зелени пучок!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6920" y="1988640"/>
            <a:ext cx="34290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ото  как дети наблюдают за ростом лука</a:t>
            </a:r>
            <a:endParaRPr b="1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40000" y="620640"/>
            <a:ext cx="2878200" cy="388800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Очень вкусен лук в салате, мама варит с луком щи. Так что ешьте больше лука и другие овощи!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89200" y="1142640"/>
            <a:ext cx="34290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9200" y="836280"/>
            <a:ext cx="3429000" cy="43671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 Black"/>
              </a:rPr>
              <a:t>А тому кто скажет: « горький, горло щиплет, губы жжёт!» Мы ответим : «лук полезный, он здоровье нам несёт !»</a:t>
            </a:r>
            <a:endParaRPr b="0" lang="en-US" sz="31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"/>
          <p:cNvSpPr/>
          <p:nvPr/>
        </p:nvSpPr>
        <p:spPr>
          <a:xfrm>
            <a:off x="1911240" y="306864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то дете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16:37:34Z</dcterms:created>
  <dc:creator>ЭЛЕКС</dc:creator>
  <dc:description/>
  <dc:language>en-US</dc:language>
  <cp:lastModifiedBy>USER</cp:lastModifiedBy>
  <dcterms:modified xsi:type="dcterms:W3CDTF">2012-04-11T17:28:30Z</dcterms:modified>
  <cp:revision>16</cp:revision>
  <dc:subject/>
  <dc:title>Проектная деятельность</dc:title>
</cp:coreProperties>
</file>