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1F2-8B66-4848-A87C-BCE85504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044-E331-4FCA-824E-731F51A5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1D0-21A2-4AF1-8C8C-8855C38A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7A9-548E-4C10-805E-C28681D8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4366-8A32-4DB1-9177-8420305C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4D1E-A16C-4F9D-A4C1-224192FB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1599-95B9-4748-9E06-20EDD0DB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ACD-14CE-4A6C-8397-A14F5E3F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B90C-7747-4598-A2FC-D480DFEC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31C0-4E1E-4E08-8308-32D773F5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BD00-FF37-47B1-B68A-DDD2639B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593-DB76-45C4-9F5B-9018E6E0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5C85-2D35-459B-B3B6-A85AF7C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365B-3F97-4410-8776-734CD01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CE61-5C93-4ACF-9FDC-4C77E26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490F-97B1-476C-AFD7-0038B3B3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8610-6C3A-4AFE-8CF3-138A6C43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7D2D-27A3-485D-B407-6471BF17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5C61-DC79-4076-B582-899DB698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22A2-D0E4-4BC8-9A5E-112044DF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30F1-DCA3-4898-B42B-CD20D5B0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3B0F-D9B4-45B4-960E-7ACD07A3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02A-858F-49DC-9047-A575A949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FAA0-7541-4DEC-8859-8BB91DD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A502-02B1-4703-AEFB-1FCBA1A4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AF74-7548-4F7D-A2CB-54F4D01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155F-CBDD-4016-9015-DB04946D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BA9A-DAE2-485B-A2C5-0008DB39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19A2-F780-4EB5-8272-50585A9D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BB398-6ADC-4456-BCDB-45A19C27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55EE-2E13-4BB5-B391-49095F85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EACC-6CFD-47DD-B8B6-05ADC296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6EE04-8FD3-416C-B897-2C56E4F3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E32-2B16-457E-B99B-C4BA26AE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5F5FC-CB4D-4145-98AC-528D68A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73C7-E71C-4915-8D69-00C6F722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F0DDD-1CB8-449B-98F1-288EE5EA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5848E-C622-4120-AA21-37130AC0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74F77-5B29-47B6-AA30-DA6DE4F6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B67E0-3B11-44C4-B645-12F5BD73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3FEB7-A8BF-413C-BFBF-0B2355D4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75B6-C838-428A-99E0-32493B58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935A-D6D2-4CB2-87A0-77ED1721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F67-31B5-4107-A00D-AFE5299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A09-B1A4-4463-A189-43CD1D77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405-70C9-422C-95BD-94AB799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603-23A8-45AE-994F-C665EE9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329-F5E2-49FE-AD93-747A5680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FA81-A143-45D3-B6B7-EAB8E98DD49F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92E4-2954-4788-940B-5B9FD57F4AE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F56-5081-4F52-9932-BB2E5F0EA51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2C51-D5BC-4287-BAA5-1F7875846C2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29240" cy="2878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«как мы лук сажали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2989440" y="1571760"/>
            <a:ext cx="2521080" cy="1280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492360" y="476280"/>
            <a:ext cx="4967280" cy="561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Метод проектирования актуален и очень эффективен. Он даёт ребёнку возможность экспериментировать, синтезировать. полученные знания. Развивает творческие способности и коммуникативные навыки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0" name="ВЕСЕЛАЯ МУЗЫКА (mp3ostrov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82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2"/>
          <a:stretch/>
        </p:blipFill>
        <p:spPr>
          <a:xfrm>
            <a:off x="5218200" y="469800"/>
            <a:ext cx="3932280" cy="2535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33148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Цель проекта: Развитие познавательных способностей, творческого воображения и мышления, развитие коммуникативных навыков, формирование у детей активного словар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"/>
          <p:cNvSpPr/>
          <p:nvPr/>
        </p:nvSpPr>
        <p:spPr>
          <a:xfrm>
            <a:off x="2106360" y="32464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 детей групп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89200" y="836280"/>
            <a:ext cx="3429000" cy="43671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Все и взрослые, и дети, знают, что такое лук. Витаминами богатый – избавляет от недуг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6" name="Рисунок 4" descr="IMGA0023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09720" y="-6018480"/>
            <a:ext cx="98280" cy="822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89560" y="692280"/>
            <a:ext cx="2998800" cy="44654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На окошко выставляем с тёплою землёй лоток. Лук сажаем, поливаем, ждём, когда взойдёт росток!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>
            <a:off x="1189440" y="24922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 посадки лу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227628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ото наблюдения детьми за ростом лука</a:t>
            </a: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24000" y="1052640"/>
            <a:ext cx="3022920" cy="34560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Если солнце ярко светит, быстро прорастёт лучок, и уже через неделю будет зелени пучок!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6920" y="1988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ото  как дети наблюдают за ростом лука</a:t>
            </a: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40000" y="620640"/>
            <a:ext cx="2878200" cy="38880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Очень вкусен лук в салате, мама варит с луком щи. Так что ешьте больше лука и другие овощи!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9200" y="836280"/>
            <a:ext cx="3429000" cy="43671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 Black"/>
              </a:rPr>
              <a:t>А тому кто скажет: « горький, горло щиплет, губы жжёт!» Мы ответим : «лук полезный, он здоровье нам несёт !»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1911240" y="306864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 дет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6:37:34Z</dcterms:created>
  <dc:creator>ЭЛЕКС</dc:creator>
  <dc:description/>
  <dc:language>en-US</dc:language>
  <cp:lastModifiedBy>USER</cp:lastModifiedBy>
  <dcterms:modified xsi:type="dcterms:W3CDTF">2012-04-11T17:28:30Z</dcterms:modified>
  <cp:revision>16</cp:revision>
  <dc:subject/>
  <dc:title>Проектная деятельность</dc:title>
</cp:coreProperties>
</file>