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153-ECE2-4064-8100-AB381185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5FA-AD1E-4A34-8538-A412814D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093-70A3-412D-BE2B-232522FD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DC9-C323-4B85-A2CD-7E1BD4C9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719-82C9-404B-B3EA-DAD5D596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1F64-C8A5-43BF-AB3C-B7AA2036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6B29-ADB6-4A9F-891D-E0FCD5B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C6F-5FBE-450F-91CE-2A1AEE35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D29-5EB4-427A-8378-9DACFC6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FB97-E67E-4D2F-81B6-2890F5A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C51F-7628-4EF7-B40A-1F43AE6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EDF-CC40-4D5F-B926-AB65109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4FE-FA8C-415D-904A-1DD45F4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7D1-A107-4644-B73C-D1499946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3D6-205F-4F8A-9503-DC80A472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0A3C-20C4-4171-876E-4953FC96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C6E2-FB66-4398-9381-BC3C7DB2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FFE-A6DB-4A95-BA0A-0FEB8ED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2C8-00B6-4E1A-98B7-79F9C104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5A6-F7DC-4E20-943E-7D0DC2F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9CB-7E29-4EB8-9AF4-D861877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4F7-0006-4EDB-BA6D-087744A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516-EAED-4145-BCB0-1BB80BB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BB4-3AEF-4571-9FAC-CC7FE4F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6A5-2E91-4446-9EC4-BAAF44FBF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CE32-C622-4016-8AFD-942755983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41212" TargetMode="External"/><Relationship Id="rId2" Type="http://schemas.openxmlformats.org/officeDocument/2006/relationships/hyperlink" Target="http://dic.academic.ru/dic.nsf/ruwiki/72335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6;&#1080;&#1084;" TargetMode="External"/><Relationship Id="rId3" Type="http://schemas.openxmlformats.org/officeDocument/2006/relationships/hyperlink" Target="http://ru.wikipedia.org/wiki/&#1056;&#1099;&#1085;&#1086;&#1082;" TargetMode="External"/><Relationship Id="rId4" Type="http://schemas.openxmlformats.org/officeDocument/2006/relationships/hyperlink" Target="http://ru.wikipedia.org/wiki/&#1050;&#1086;&#1084;&#1080;&#1094;&#1080;&#1080;" TargetMode="External"/><Relationship Id="rId5" Type="http://schemas.openxmlformats.org/officeDocument/2006/relationships/hyperlink" Target="http://ru.wikipedia.org/wiki/&#1050;&#1091;&#1088;&#1080;&#1103;" TargetMode="External"/><Relationship Id="rId6" Type="http://schemas.openxmlformats.org/officeDocument/2006/relationships/hyperlink" Target="http://ru.wikipedia.org/wiki/&#1057;&#1077;&#1085;&#1072;&#1090;_(&#1044;&#1088;&#1077;&#1074;&#1085;&#1080;&#1081;_&#1056;&#1080;&#1084;)" TargetMode="External"/><Relationship Id="rId7" Type="http://schemas.openxmlformats.org/officeDocument/2006/relationships/hyperlink" Target="http://ru.wikipedia.org/wiki/&#1060;&#1086;&#1088;&#1091;&#1084;_(&#1086;&#1073;&#1097;&#1077;&#1085;&#1080;&#1077;)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Архитектура Древнего Рим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920" y="2133360"/>
            <a:ext cx="64008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10 клас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МХК и музы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тникова С.Г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Ноябрь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СОШ №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9370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нна Трая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45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а из 20 блоков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карарск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мрам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меет высоту 38 м (вместе с пьедесталом) и диаметр 4 м. Внутри колонна полая: в ней находится винтовая лестница со 185 ступенями, ведущая к площадке на капители. Весит монумент около 40 тонн. Ствол колонны 23 раза спиралью огибает лента длиной 190 м с рельефами, изображающими эпизоды войны Рима и Дакии. Изначально была увенчана орлом, позже статуей Траяна. В 1588 вместо неё Сикст V установил статую апостола Петра, которая и находится на колонне по сей д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ании колонны расположена дверь, ведущая в залу, где помещались золотые урны с прахом Траяна и его супруги Помпеи Пло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вол колон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706840" cy="3571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34369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рам Сату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атурн 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один из древнейших римских богов (уже в 497 г. до н.э. ему был посвящён храм на Форуме). Согласно мифам, Сатурн научил людей земледелию, виноградарству и цивилизованной жизни, вот почему вся римская земля - "земля Сатурна". К праздникам в честь Сатурна - сатурналиям, которые отмечались в Риме 17 декабря, восходят первые карнавалы: господа и слуги менялись своим положением, царило безудержное веселье, люди обменивались подарками, избирался шуточный царь праздн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имский бог Сатур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520704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ам сатур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ыл воздвигнут консулом Титом Ларцием 17 декабря 498 года до новой эры. Был всегда общественной сокровищницей. Здесь хранились штандарты легионов, декреты Сената. В подземной камере хранились священные сокровища, среди которых золото, отданное в качестве выкупа Бренну, но возвращенное потом достойным Камилл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жасное проклятие должно было постичь кощунственную руку, которая попыталась бы вынести это золото по любой причине, за исключением тех случаев, когда оно должно было служить делу новой войны против гал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зарь, легко получив согласие Сената, хотел овладеть этим сокровищем, но на его пути, охраняя двери, встал трибун Метеллий, заявивший, что пройти в хранилище можно только через его труп. "Галлы повержены навсегда", - воскликнул Цезарь и сокрушил двери топор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еллий, зная, что удары диктатора быстрее его слов, отступил. В 42 году до новой эры храм был реконструирован и стал больше по размерам. В IV веке он снова был реконструирован, как об этом говорит одна из надпис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онны хр.Сату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041720" cy="2922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203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им! Всемогущее, таинственное слово!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ё, что есть жизнь ума, всё, что души есть страст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, мужество, победа, слава, власть,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ё выражало ты живым своим глаголо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было ты всего великого символом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нтеон – «Храм всех богов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романтической красоты руин форума и величия Колизея древняя грандиозност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нтео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иболее ярко рисует облик античного города. Пантеон (греч. "храм, посвященный всем богам") - единственное сохранившееся в Риме до наших дней практически неповрежденным, величайшее античное купольное сооружение высотой 43 м. Пантеон был построен в 128 г. при Адриане на месте аналогичного храма 27 г. до н.э., воздвигнутого Марком Агриппой (сохранилась надпись), но в 110 г. уничтоженного ударом мол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6642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560" y="765000"/>
            <a:ext cx="71866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антеон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стоит из шестнадцати коринфских колонн десяти метров высотой, поддерживающих крышу с треугольным фронтоном. Портик с двускатной крышей служит проходом в центральное строение цилиндрической формы, которое расчленено нишами, где некогда стояли статуи богов. В интерьере как бы вписан круг, диаметр которого и высота одинаковые (43.3 метра). Во внутреннее помещение свет проникает через отверстия в купол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919320" cy="3889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721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Грандиозный купольный храм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286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лизей – «Чудо свет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1069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27496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ка стоит Колизей, будет стоять Рим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гда Колизей падет, падет Рим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гда падет Рим, падет мир..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з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Colosseum) - это самое грандиозное из дошедших до наших дней древнеримских сооружений - символ славы Вечного Города, превосходящий своими размерами все когда-либо построенные в Риме амфитеатры. В его стенах раздавалось эхо гладиаторских сражений, а позднее, когда камни Колизея расхищались на строительство средневековых церквей и дворцов, на смену ему пришло эхо от ударов моло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годня, хотя и полуразрушенные, стены Колизея продолжают стоять, заманивая к себе тысячи туристов. Колизей (первоначальное название - амфитеатр Флавиев) был детищем императора Веспасиана (из семьи Флавиев), который в 72 году задумал воздвигнуть памятник в честь военного триумфа на Ближнем Вост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101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15652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двенадцати столетий (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. до н.э. п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.н.э.) насчитывает история Древнего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иумфальные арки и общественные сооруж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риумфальная ар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— архитектурный памятник, состоящий из больших портиков. Триумфальные арки устраиваются при входе в города, в конце улиц, на мостах, на больших дорогах в честь победителей или в память важных событ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6899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гут быть временными или постоянными. Имеют один или три пролёта, перекрытые полуцилиндрическими сводами, завершаются антаблементом и аттиком, украшаются статуями, рельефами и памятными надпис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69720"/>
            <a:ext cx="76183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иумфальная арка императора Ти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666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2612880" cy="2565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2048040" cy="2958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232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ору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987640" cy="1992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4640400"/>
            <a:ext cx="3664080" cy="221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30600" y="1484280"/>
            <a:ext cx="461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ал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46908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стопримечатель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19640" y="3370320"/>
            <a:ext cx="36925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591000" cy="2378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613240" cy="1730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0920" y="4365720"/>
            <a:ext cx="3213000" cy="2127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492360" y="4797360"/>
            <a:ext cx="27241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67360" y="1341360"/>
            <a:ext cx="4976640" cy="311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27360" cy="2401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34052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2579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тория Древнего Рима оставила человечеству богатое культурное и художественное наследие: грандиозные архитектурные ансамбли, новые типы инженерных сооружений, реалистические скульптурные портреты, замечательные фрески, мозаики, произведения декоративно-прикладного искусства, поэтические творения, сатиры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развитии художественной культуры Древнего Рима различают три основных период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этруск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Римской республи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кусство римской импер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имский Фору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Все дороги ведут в Рим»- древнее изречение. В нём заложен не только буквальный смысл, но и выражено величие центра огромной Римской империи. Здесь, в Риме, велось строительство огромных масштаб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До н.э. центром деловой и общественной жизни города стал знаменитый римский Фору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проходили народные собрания, решались важнейшие вопросы войны и мира, управления государством, заключались торговые сделки, слушались судебные разбирательства, кипели страсти…На территории Форума было много зданий, памятников и статуй. От Форума начинались важнейшие дороги государства, к нему сходились основные улицы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мский Фору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Forum Roman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 — площадь в центре Древнего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и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месте с прилегающими зданиями. Первоначально на ней размещался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рын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зже она включила в себя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оми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есто народных собраний),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кури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есто заседаний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Сен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приобрела также политические фун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у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ужил центром общественной жизни, и из повседневного общения людей эволюционировало тематическое общение, носящее все признаки того, что мы сегодня называем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форум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0661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01:16Z</dcterms:created>
  <dc:creator>USER</dc:creator>
  <dc:description/>
  <dc:language>en-US</dc:language>
  <cp:lastModifiedBy>USER</cp:lastModifiedBy>
  <dcterms:modified xsi:type="dcterms:W3CDTF">2010-04-19T13:43:40Z</dcterms:modified>
  <cp:revision>6</cp:revision>
  <dc:subject/>
  <dc:title>Архитектура Древнего Рима</dc:title>
</cp:coreProperties>
</file>