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486-FD1E-4A05-970F-A470B919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D51-F58B-40F2-B10C-6410278B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781-CEC2-4C33-AE39-F5D4B37D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FBE-1024-4881-86E4-8DE5E773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E6CA-CFD1-49B2-96E4-96C80742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5005-D0C5-4DDA-A24E-E2B788CB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B1D5-AF05-4C8B-8AD1-9AB5538C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B5A6-B8C0-4751-B4D4-94115010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B59A-A558-43D3-9E80-307E83AF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3FDF-90E5-4B63-92BF-F915B4CB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0D50-86E2-4D8C-9FB2-8C777901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7F6-1212-48BA-85A7-A5FC9C49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013E-C445-4D10-94B1-48338B63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2844-6BFC-4875-A643-EBEF2D71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1713-D335-4267-B0B2-C7F9B2A0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62BC-CE4C-49D1-9229-64FC1D91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AFB2-734E-4D75-A010-C3F16A86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90C-1212-4F9C-9108-85960230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198-E355-405B-A34B-C95B7EBF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C06-7DAC-43A6-B0B3-10DBAE00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748-2138-4E26-8749-2C64B75F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CFD-455A-4741-9493-2F43BE34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748-0F95-4B4A-8B83-BA1272CD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DB8-CB82-477F-A2EA-A0EE7FB5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4E22-84BD-47EE-B100-B1612D7262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AD2C-18DC-49D8-AEF1-DE1A684AA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141212" TargetMode="External"/><Relationship Id="rId2" Type="http://schemas.openxmlformats.org/officeDocument/2006/relationships/hyperlink" Target="http://dic.academic.ru/dic.nsf/ruwiki/72335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56;&#1080;&#1084;" TargetMode="External"/><Relationship Id="rId3" Type="http://schemas.openxmlformats.org/officeDocument/2006/relationships/hyperlink" Target="http://ru.wikipedia.org/wiki/&#1056;&#1099;&#1085;&#1086;&#1082;" TargetMode="External"/><Relationship Id="rId4" Type="http://schemas.openxmlformats.org/officeDocument/2006/relationships/hyperlink" Target="http://ru.wikipedia.org/wiki/&#1050;&#1086;&#1084;&#1080;&#1094;&#1080;&#1080;" TargetMode="External"/><Relationship Id="rId5" Type="http://schemas.openxmlformats.org/officeDocument/2006/relationships/hyperlink" Target="http://ru.wikipedia.org/wiki/&#1050;&#1091;&#1088;&#1080;&#1103;" TargetMode="External"/><Relationship Id="rId6" Type="http://schemas.openxmlformats.org/officeDocument/2006/relationships/hyperlink" Target="http://ru.wikipedia.org/wiki/&#1057;&#1077;&#1085;&#1072;&#1090;_(&#1044;&#1088;&#1077;&#1074;&#1085;&#1080;&#1081;_&#1056;&#1080;&#1084;)" TargetMode="External"/><Relationship Id="rId7" Type="http://schemas.openxmlformats.org/officeDocument/2006/relationships/hyperlink" Target="http://ru.wikipedia.org/wiki/&#1060;&#1086;&#1088;&#1091;&#1084;_(&#1086;&#1073;&#1097;&#1077;&#1085;&#1080;&#1077;)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Архитектура Древнего Рим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58920" y="2133360"/>
            <a:ext cx="640080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10 клас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МХК и музы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етникова С.Г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Ноябрьс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УСОШ №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9370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лонна Трая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45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ена из 20 блоков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карарског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мрамо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имеет высоту 38 м (вместе с пьедесталом) и диаметр 4 м. Внутри колонна полая: в ней находится винтовая лестница со 185 ступенями, ведущая к площадке на капители. Весит монумент около 40 тонн. Ствол колонны 23 раза спиралью огибает лента длиной 190 м с рельефами, изображающими эпизоды войны Рима и Дакии. Изначально была увенчана орлом, позже статуей Траяна. В 1588 вместо неё Сикст V установил статую апостола Петра, которая и находится на колонне по сей ден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сновании колонны расположена дверь, ведущая в залу, где помещались золотые урны с прахом Траяна и его супруги Помпеи Плот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вол колон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2706840" cy="3571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19640" y="2349360"/>
            <a:ext cx="34369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Храм Сатур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атурн 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один из древнейших римских богов (уже в 497 г. до н.э. ему был посвящён храм на Форуме). Согласно мифам, Сатурн научил людей земледелию, виноградарству и цивилизованной жизни, вот почему вся римская земля - "земля Сатурна". К праздникам в честь Сатурна - сатурналиям, которые отмечались в Риме 17 декабря, восходят первые карнавалы: господа и слуги менялись своим положением, царило безудержное веселье, люди обменивались подарками, избирался шуточный царь праздни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имский бог Сатур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520704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Храм сатурн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был воздвигнут консулом Титом Ларцием 17 декабря 498 года до новой эры. Был всегда общественной сокровищницей. Здесь хранились штандарты легионов, декреты Сената. В подземной камере хранились священные сокровища, среди которых золото, отданное в качестве выкупа Бренну, но возвращенное потом достойным Камилл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жасное проклятие должно было постичь кощунственную руку, которая попыталась бы вынести это золото по любой причине, за исключением тех случаев, когда оно должно было служить делу новой войны против галл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зарь, легко получив согласие Сената, хотел овладеть этим сокровищем, но на его пути, охраняя двери, встал трибун Метеллий, заявивший, что пройти в хранилище можно только через его труп. "Галлы повержены навсегда", - воскликнул Цезарь и сокрушил двери топор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9647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теллий, зная, что удары диктатора быстрее его слов, отступил. В 42 году до новой эры храм был реконструирован и стал больше по размерам. В IV веке он снова был реконструирован, как об этом говорит одна из надпис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лонны хр.Сатур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4041720" cy="2922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42037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им! Всемогущее, таинственное слово!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сё, что есть жизнь ума, всё, что души есть страсть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усство, мужество, победа, слава, власть,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сё выражало ты живым своим глаголо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было ты всего великого символом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антеон – «Храм всех богов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романтической красоты руин форума и величия Колизея древняя грандиозность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нтеон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иболее ярко рисует облик античного города. Пантеон (греч. "храм, посвященный всем богам") - единственное сохранившееся в Риме до наших дней практически неповрежденным, величайшее античное купольное сооружение высотой 43 м. Пантеон был построен в 128 г. при Адриане на месте аналогичного храма 27 г. до н.э., воздвигнутого Марком Агриппой (сохранилась надпись), но в 110 г. уничтоженного ударом молн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6642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560" y="765000"/>
            <a:ext cx="718668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антеон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стоит из шестнадцати коринфских колонн десяти метров высотой, поддерживающих крышу с треугольным фронтоном. Портик с двускатной крышей служит проходом в центральное строение цилиндрической формы, которое расчленено нишами, где некогда стояли статуи богов. В интерьере как бы вписан круг, диаметр которого и высота одинаковые (43.3 метра). Во внутреннее помещение свет проникает через отверстия в купол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3919320" cy="3889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7213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Грандиозный купольный храм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4286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лизей – «Чудо свет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510696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867280" y="3068640"/>
            <a:ext cx="27496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ка стоит Колизей, будет стоять Рим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гда Колизей падет, падет Рим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гда падет Рим, падет мир...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лизе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Colosseum) - это самое грандиозное из дошедших до наших дней древнеримских сооружений - символ славы Вечного Города, превосходящий своими размерами все когда-либо построенные в Риме амфитеатры. В его стенах раздавалось эхо гладиаторских сражений, а позднее, когда камни Колизея расхищались на строительство средневековых церквей и дворцов, на смену ему пришло эхо от ударов моло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годня, хотя и полуразрушенные, стены Колизея продолжают стоять, заманивая к себе тысячи туристов. Колизей (первоначальное название - амфитеатр Флавиев) был детищем императора Веспасиана (из семьи Флавиев), который в 72 году задумал воздвигнуть памятник в честь военного триумфа на Ближнем Восто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6101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15652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ее двенадцати столетий ( с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. до н.э. п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.н.э.) насчитывает история Древнего Ри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риумфальные арки и общественные сооруж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риумфальная арк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— архитектурный памятник, состоящий из больших портиков. Триумфальные арки устраиваются при входе в города, в конце улиц, на мостах, на больших дорогах в честь победителей или в память важных событ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76899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гут быть временными или постоянными. Имеют один или три пролёта, перекрытые полуцилиндрическими сводами, завершаются антаблементом и аттиком, украшаются статуями, рельефами и памятными надпис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369720"/>
            <a:ext cx="76183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риумфальная арка императора Тит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26668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2612880" cy="2565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995640" y="692280"/>
            <a:ext cx="2048040" cy="2958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2232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оору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987640" cy="1992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403280" y="4640400"/>
            <a:ext cx="3664080" cy="2217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530600" y="1484280"/>
            <a:ext cx="46134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тал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46908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остопримечательност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219640" y="3370320"/>
            <a:ext cx="3692520" cy="2308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3591000" cy="2378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364000" y="1413000"/>
            <a:ext cx="2613240" cy="1730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250920" y="4365720"/>
            <a:ext cx="3213000" cy="2127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3492360" y="4797360"/>
            <a:ext cx="27241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67360" y="1341360"/>
            <a:ext cx="4976640" cy="3111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3627360" cy="2401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95280" y="765000"/>
            <a:ext cx="340524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280" y="475920"/>
            <a:ext cx="72579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тория Древнего Рима оставила человечеству богатое культурное и художественное наследие: грандиозные архитектурные ансамбли, новые типы инженерных сооружений, реалистические скульптурные портреты, замечательные фрески, мозаики, произведения декоративно-прикладного искусства, поэтические творения, сатиры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развитии художественной культуры Древнего Рима различают три основных период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усство этруск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усство Римской республик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усство римской импери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имский Фору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Все дороги ведут в Рим»- древнее изречение. В нём заложен не только буквальный смысл, но и выражено величие центра огромной Римской империи. Здесь, в Риме, велось строительство огромных масштаб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 До н.э. центром деловой и общественной жизни города стал знаменитый римский Фору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есь проходили народные собрания, решались важнейшие вопросы войны и мира, управления государством, заключались торговые сделки, слушались судебные разбирательства, кипели страсти…На территории Форума было много зданий, памятников и статуй. От Форума начинались важнейшие дороги государства, к нему сходились основные улицы гор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имский Фору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ла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Forum Romanu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 — площадь в центре Древнего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Рим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месте с прилегающими зданиями. Первоначально на ней размещался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рыно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озже она включила в себя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коми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место народных собраний),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кури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место заседаний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Сена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и приобрела также политические функ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у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лужил центром общественной жизни, и из повседневного общения людей эволюционировало тематическое общение, носящее все признаки того, что мы сегодня называем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форум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06616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9:01:16Z</dcterms:created>
  <dc:creator>USER</dc:creator>
  <dc:description/>
  <dc:language>en-US</dc:language>
  <cp:lastModifiedBy>USER</cp:lastModifiedBy>
  <dcterms:modified xsi:type="dcterms:W3CDTF">2010-04-19T13:43:40Z</dcterms:modified>
  <cp:revision>6</cp:revision>
  <dc:subject/>
  <dc:title>Архитектура Древнего Рима</dc:title>
</cp:coreProperties>
</file>