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9E2D-9AE7-41D9-B6DC-5C6F30D4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364-FD00-4D3D-AC51-E65D4828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A9B-1D77-41D2-B50C-F965356C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BFFE-3559-4DE4-BBF8-8A955400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7CBE-EA98-48F2-8C12-710332A0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EAC9-FE25-46C7-9864-E46C6EDD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65D7-28BB-4A36-BF2D-5A9585CA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C469-7B79-413D-8512-C73059FB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A92F-F4C4-4DA4-A9A3-548D5545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4921-68F3-463D-9F7A-69E46E89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D905-EF08-4BD2-B01F-856C51E4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F4C-52FD-456B-BEAB-0EA93021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50DC-8003-4CAB-9C03-57A8AFC4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783A-9C84-46AD-B6A7-A93FC1CC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BA02-74F7-41A4-B6CA-5EF4218D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0576-22CC-496F-8B7C-C9D8DE08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E74E-1D3F-478D-9C02-373355A4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4CB-FFA1-4F68-AF9F-E764454F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216-C7B8-4AAC-9084-4581B2A0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20DC-3726-4BDC-AF5D-409665C1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6A7A-F99F-4894-AF22-0DF4DDA9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352-9C2C-49CF-B020-2F4D2DFE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1452-20B9-49BE-9879-8A23F1B1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E07-4977-472E-B6E4-C78661BD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6FA2-4C78-4B89-97CC-0E28A6546D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79BF-DCE7-4A93-957A-FC385F591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141212" TargetMode="External"/><Relationship Id="rId2" Type="http://schemas.openxmlformats.org/officeDocument/2006/relationships/hyperlink" Target="http://dic.academic.ru/dic.nsf/ruwiki/72335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56;&#1080;&#1084;" TargetMode="External"/><Relationship Id="rId3" Type="http://schemas.openxmlformats.org/officeDocument/2006/relationships/hyperlink" Target="http://ru.wikipedia.org/wiki/&#1056;&#1099;&#1085;&#1086;&#1082;" TargetMode="External"/><Relationship Id="rId4" Type="http://schemas.openxmlformats.org/officeDocument/2006/relationships/hyperlink" Target="http://ru.wikipedia.org/wiki/&#1050;&#1086;&#1084;&#1080;&#1094;&#1080;&#1080;" TargetMode="External"/><Relationship Id="rId5" Type="http://schemas.openxmlformats.org/officeDocument/2006/relationships/hyperlink" Target="http://ru.wikipedia.org/wiki/&#1050;&#1091;&#1088;&#1080;&#1103;" TargetMode="External"/><Relationship Id="rId6" Type="http://schemas.openxmlformats.org/officeDocument/2006/relationships/hyperlink" Target="http://ru.wikipedia.org/wiki/&#1057;&#1077;&#1085;&#1072;&#1090;_(&#1044;&#1088;&#1077;&#1074;&#1085;&#1080;&#1081;_&#1056;&#1080;&#1084;)" TargetMode="External"/><Relationship Id="rId7" Type="http://schemas.openxmlformats.org/officeDocument/2006/relationships/hyperlink" Target="http://ru.wikipedia.org/wiki/&#1060;&#1086;&#1088;&#1091;&#1084;_(&#1086;&#1073;&#1097;&#1077;&#1085;&#1080;&#1077;)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Архитектура Древнего Рима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58920" y="2133360"/>
            <a:ext cx="640080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10 клас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МХК и музы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етникова С.Г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 Ноябрьс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УСОШ №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93704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олонна Трая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45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ена из 20 блоков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карарског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мрамо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имеет высоту 38 м (вместе с пьедесталом) и диаметр 4 м. Внутри колонна полая: в ней находится винтовая лестница со 185 ступенями, ведущая к площадке на капители. Весит монумент около 40 тонн. Ствол колонны 23 раза спиралью огибает лента длиной 190 м с рельефами, изображающими эпизоды войны Рима и Дакии. Изначально была увенчана орлом, позже статуей Траяна. В 1588 вместо неё Сикст V установил статую апостола Петра, которая и находится на колонне по сей ден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основании колонны расположена дверь, ведущая в залу, где помещались золотые урны с прахом Траяна и его супруги Помпеи Плоти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твол колон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2706840" cy="3571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19640" y="2349360"/>
            <a:ext cx="34369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Храм Сатур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атурн 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один из древнейших римских богов (уже в 497 г. до н.э. ему был посвящён храм на Форуме). Согласно мифам, Сатурн научил людей земледелию, виноградарству и цивилизованной жизни, вот почему вся римская земля - "земля Сатурна". К праздникам в честь Сатурна - сатурналиям, которые отмечались в Риме 17 декабря, восходят первые карнавалы: господа и слуги менялись своим положением, царило безудержное веселье, люди обменивались подарками, избирался шуточный царь праздни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имский бог Сатур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520704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Храм сатурн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был воздвигнут консулом Титом Ларцием 17 декабря 498 года до новой эры. Был всегда общественной сокровищницей. Здесь хранились штандарты легионов, декреты Сената. В подземной камере хранились священные сокровища, среди которых золото, отданное в качестве выкупа Бренну, но возвращенное потом достойным Камилл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жасное проклятие должно было постичь кощунственную руку, которая попыталась бы вынести это золото по любой причине, за исключением тех случаев, когда оно должно было служить делу новой войны против галл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зарь, легко получив согласие Сената, хотел овладеть этим сокровищем, но на его пути, охраняя двери, встал трибун Метеллий, заявивший, что пройти в хранилище можно только через его труп. "Галлы повержены навсегда", - воскликнул Цезарь и сокрушил двери топор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9647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теллий, зная, что удары диктатора быстрее его слов, отступил. В 42 году до новой эры храм был реконструирован и стал больше по размерам. В IV веке он снова был реконструирован, как об этом говорит одна из надпис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олонны хр.Сатур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4041720" cy="2922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716360" y="2781360"/>
            <a:ext cx="42037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им! Всемогущее, таинственное слово!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сё, что есть жизнь ума, всё, что души есть страсть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кусство, мужество, победа, слава, власть,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сё выражало ты живым своим глаголом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 было ты всего великого символом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антеон – «Храм всех богов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 романтической красоты руин форума и величия Колизея древняя грандиозность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антеон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иболее ярко рисует облик античного города. Пантеон (греч. "храм, посвященный всем богам") - единственное сохранившееся в Риме до наших дней практически неповрежденным, величайшее античное купольное сооружение высотой 43 м. Пантеон был построен в 128 г. при Адриане на месте аналогичного храма 27 г. до н.э., воздвигнутого Марком Агриппой (сохранилась надпись), но в 110 г. уничтоженного ударом молни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6642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560" y="765000"/>
            <a:ext cx="718668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антеон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стоит из шестнадцати коринфских колонн десяти метров высотой, поддерживающих крышу с треугольным фронтоном. Портик с двускатной крышей служит проходом в центральное строение цилиндрической формы, которое расчленено нишами, где некогда стояли статуи богов. В интерьере как бы вписан круг, диаметр которого и высота одинаковые (43.3 метра). Во внутреннее помещение свет проникает через отверстия в купол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3919320" cy="3889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7213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Грандиозный купольный храм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4286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олизей – «Чудо свет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5106960" cy="3200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867280" y="3068640"/>
            <a:ext cx="274968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ока стоит Колизей, будет стоять Рим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гда Колизей падет, падет Рим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гда падет Рим, падет мир...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лизе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Colosseum) - это самое грандиозное из дошедших до наших дней древнеримских сооружений - символ славы Вечного Города, превосходящий своими размерами все когда-либо построенные в Риме амфитеатры. В его стенах раздавалось эхо гладиаторских сражений, а позднее, когда камни Колизея расхищались на строительство средневековых церквей и дворцов, на смену ему пришло эхо от ударов молот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годня, хотя и полуразрушенные, стены Колизея продолжают стоять, заманивая к себе тысячи туристов. Колизей (первоначальное название - амфитеатр Флавиев) был детищем императора Веспасиана (из семьи Флавиев), который в 72 году задумал воздвигнуть памятник в честь военного триумфа на Ближнем Восток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6101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15652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ее двенадцати столетий ( с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. до н.э. п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.н.э.) насчитывает история Древнего Ри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риумфальные арки и общественные сооруже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риумфальная арк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— архитектурный памятник, состоящий из больших портиков. Триумфальные арки устраиваются при входе в города, в конце улиц, на мостах, на больших дорогах в честь победителей или в память важных событ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76899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гут быть временными или постоянными. Имеют один или три пролёта, перекрытые полуцилиндрическими сводами, завершаются антаблементом и аттиком, украшаются статуями, рельефами и памятными надпися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369720"/>
            <a:ext cx="76183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риумфальная арка императора Тит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419640" y="2349360"/>
            <a:ext cx="26668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2612880" cy="2565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995640" y="692280"/>
            <a:ext cx="2048040" cy="2958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443640" y="3933720"/>
            <a:ext cx="22320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ооруж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987640" cy="1992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403280" y="4640400"/>
            <a:ext cx="3664080" cy="2217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530600" y="1484280"/>
            <a:ext cx="46134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тал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46908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остопримечательност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219640" y="3370320"/>
            <a:ext cx="3692520" cy="2308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3591000" cy="2378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364000" y="1413000"/>
            <a:ext cx="2613240" cy="1730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250920" y="4365720"/>
            <a:ext cx="3213000" cy="2127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3492360" y="4797360"/>
            <a:ext cx="272412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67360" y="1341360"/>
            <a:ext cx="4976640" cy="3111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95280" y="4076640"/>
            <a:ext cx="3627360" cy="2401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95280" y="765000"/>
            <a:ext cx="340524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280" y="475920"/>
            <a:ext cx="72579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тория Древнего Рима оставила человечеству богатое культурное и художественное наследие: грандиозные архитектурные ансамбли, новые типы инженерных сооружений, реалистические скульптурные портреты, замечательные фрески, мозаики, произведения декоративно-прикладного искусства, поэтические творения, сатиры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развитии художественной культуры Древнего Рима различают три основных период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кусство этруск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кусство Римской республик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кусство римской импери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имский Фору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Все дороги ведут в Рим»- древнее изречение. В нём заложен не только буквальный смысл, но и выражено величие центра огромной Римской империи. Здесь, в Риме, велось строительство огромных масштабов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. До н.э. центром деловой и общественной жизни города стал знаменитый римский Фору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есь проходили народные собрания, решались важнейшие вопросы войны и мира, управления государством, заключались торговые сделки, слушались судебные разбирательства, кипели страсти…На территории Форума было много зданий, памятников и статуй. От Форума начинались важнейшие дороги государства, к нему сходились основные улицы гор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имский Фору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ла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Forum Romanum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 — площадь в центре Древнего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Рим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месте с прилегающими зданиями. Первоначально на ней размещался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рыно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позже она включила в себя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коми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место народных собраний),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кури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место заседаний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Сена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и приобрела также политические функ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ру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лужил центром общественной жизни, и из повседневного общения людей эволюционировало тематическое общение, носящее все признаки того, что мы сегодня называем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7"/>
              </a:rPr>
              <a:t>форумо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06616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9:01:16Z</dcterms:created>
  <dc:creator>USER</dc:creator>
  <dc:description/>
  <dc:language>en-US</dc:language>
  <cp:lastModifiedBy>USER</cp:lastModifiedBy>
  <dcterms:modified xsi:type="dcterms:W3CDTF">2010-04-19T13:43:40Z</dcterms:modified>
  <cp:revision>6</cp:revision>
  <dc:subject/>
  <dc:title>Архитектура Древнего Рима</dc:title>
</cp:coreProperties>
</file>