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CAA-3360-4F6C-A819-3567F1F1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431-E0F7-4531-B0DF-EB58B3B8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629-2115-4866-8176-1CD7BD83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55D-95A4-4280-979A-CDD00133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4AF-2647-47FA-8650-85BE9E66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9A1-1041-493A-8C5F-5D57C3A2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DE4-33A0-445C-99E1-7A171432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8F2-8CFC-4D71-B40D-D161E2E7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0D2-B59E-4D1F-8925-99EFB36B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53C-C59B-4886-B5C6-E207A187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DC3-05C5-47BB-9B46-D0D386D7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3B3-84DB-4E9A-A2EB-BB77522C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C791-AB75-4FEA-8395-776C25FA29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8640" y="214272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Times New Roman"/>
              </a:rPr>
              <a:t>Исследование поведения функций вблизи точек разрыва и на бесконечности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Группа 8"/>
          <p:cNvGrpSpPr/>
          <p:nvPr/>
        </p:nvGrpSpPr>
        <p:grpSpPr>
          <a:xfrm>
            <a:off x="1643040" y="571320"/>
            <a:ext cx="6572520" cy="5645160"/>
            <a:chOff x="1643040" y="571320"/>
            <a:chExt cx="6572520" cy="5645160"/>
          </a:xfrm>
        </p:grpSpPr>
        <p:cxnSp>
          <p:nvCxnSpPr>
            <p:cNvPr id="312" name="Прямая со стрелкой 2"/>
            <p:cNvCxnSpPr/>
            <p:nvPr/>
          </p:nvCxnSpPr>
          <p:spPr>
            <a:xfrm flipV="1">
              <a:off x="4570200" y="571320"/>
              <a:ext cx="3600" cy="564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Прямая со стрелкой 4"/>
            <p:cNvCxnSpPr/>
            <p:nvPr/>
          </p:nvCxnSpPr>
          <p:spPr>
            <a:xfrm>
              <a:off x="1643040" y="4857840"/>
              <a:ext cx="6572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4" name="TextBox 5"/>
            <p:cNvSpPr/>
            <p:nvPr/>
          </p:nvSpPr>
          <p:spPr>
            <a:xfrm>
              <a:off x="2860200" y="4858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6"/>
            <p:cNvSpPr/>
            <p:nvPr/>
          </p:nvSpPr>
          <p:spPr>
            <a:xfrm>
              <a:off x="5860800" y="4858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7"/>
            <p:cNvSpPr/>
            <p:nvPr/>
          </p:nvSpPr>
          <p:spPr>
            <a:xfrm>
              <a:off x="4289040" y="4500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Полилиния 9"/>
          <p:cNvSpPr/>
          <p:nvPr/>
        </p:nvSpPr>
        <p:spPr>
          <a:xfrm>
            <a:off x="2286000" y="2214720"/>
            <a:ext cx="5346720" cy="3143160"/>
          </a:xfrm>
          <a:custGeom>
            <a:avLst/>
            <a:gdLst/>
            <a:ahLst/>
            <a:rect l="l" t="t" r="r" b="b"/>
            <a:pathLst>
              <a:path w="5346716" h="3143272">
                <a:moveTo>
                  <a:pt x="0" y="0"/>
                </a:moveTo>
                <a:cubicBezTo>
                  <a:pt x="74415" y="342307"/>
                  <a:pt x="223837" y="1199366"/>
                  <a:pt x="357190" y="1643074"/>
                </a:cubicBezTo>
                <a:cubicBezTo>
                  <a:pt x="481031" y="2093919"/>
                  <a:pt x="616770" y="2433636"/>
                  <a:pt x="800116" y="2662246"/>
                </a:cubicBezTo>
                <a:cubicBezTo>
                  <a:pt x="919718" y="2828393"/>
                  <a:pt x="931077" y="2860693"/>
                  <a:pt x="1000132" y="2928958"/>
                </a:cubicBezTo>
                <a:cubicBezTo>
                  <a:pt x="1128719" y="3009129"/>
                  <a:pt x="1259961" y="3141673"/>
                  <a:pt x="1500198" y="3143272"/>
                </a:cubicBezTo>
                <a:cubicBezTo>
                  <a:pt x="1782253" y="3126841"/>
                  <a:pt x="1874853" y="3004884"/>
                  <a:pt x="1955816" y="2967046"/>
                </a:cubicBezTo>
                <a:cubicBezTo>
                  <a:pt x="2074879" y="2883702"/>
                  <a:pt x="2173833" y="2757506"/>
                  <a:pt x="2286016" y="2643206"/>
                </a:cubicBezTo>
                <a:cubicBezTo>
                  <a:pt x="2398199" y="2528906"/>
                  <a:pt x="2509853" y="2364590"/>
                  <a:pt x="2628916" y="2281246"/>
                </a:cubicBezTo>
                <a:cubicBezTo>
                  <a:pt x="2747979" y="2197902"/>
                  <a:pt x="2894563" y="2147373"/>
                  <a:pt x="3000396" y="2143140"/>
                </a:cubicBezTo>
                <a:cubicBezTo>
                  <a:pt x="3080829" y="2153723"/>
                  <a:pt x="3215763" y="2230712"/>
                  <a:pt x="3263916" y="2255846"/>
                </a:cubicBezTo>
                <a:cubicBezTo>
                  <a:pt x="3324769" y="2287330"/>
                  <a:pt x="3464479" y="2472813"/>
                  <a:pt x="3500462" y="2500330"/>
                </a:cubicBezTo>
                <a:cubicBezTo>
                  <a:pt x="3575605" y="2564890"/>
                  <a:pt x="3619525" y="2655112"/>
                  <a:pt x="3714776" y="2643206"/>
                </a:cubicBezTo>
                <a:cubicBezTo>
                  <a:pt x="3810027" y="2631300"/>
                  <a:pt x="3973003" y="2562235"/>
                  <a:pt x="4071966" y="2428892"/>
                </a:cubicBezTo>
                <a:cubicBezTo>
                  <a:pt x="4229656" y="2250032"/>
                  <a:pt x="4529946" y="1772454"/>
                  <a:pt x="4660916" y="1570046"/>
                </a:cubicBezTo>
                <a:cubicBezTo>
                  <a:pt x="4873374" y="1177138"/>
                  <a:pt x="5298013" y="416469"/>
                  <a:pt x="5346716" y="71446"/>
                </a:cubicBezTo>
              </a:path>
            </a:pathLst>
          </a:cu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2"/>
          <p:cNvGraphicFramePr/>
          <p:nvPr/>
        </p:nvGraphicFramePr>
        <p:xfrm>
          <a:off x="857160" y="642960"/>
          <a:ext cx="28051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642960"/>
                    <a:ext cx="28051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Группа 13"/>
          <p:cNvGrpSpPr/>
          <p:nvPr/>
        </p:nvGrpSpPr>
        <p:grpSpPr>
          <a:xfrm>
            <a:off x="999720" y="1987560"/>
            <a:ext cx="7370280" cy="4371480"/>
            <a:chOff x="999720" y="1987560"/>
            <a:chExt cx="7370280" cy="4371480"/>
          </a:xfrm>
        </p:grpSpPr>
        <p:cxnSp>
          <p:nvCxnSpPr>
            <p:cNvPr id="321" name="Прямая со стрелкой 2"/>
            <p:cNvCxnSpPr/>
            <p:nvPr/>
          </p:nvCxnSpPr>
          <p:spPr>
            <a:xfrm flipV="1">
              <a:off x="4570560" y="1999440"/>
              <a:ext cx="2160" cy="435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2" name="Прямая со стрелкой 5"/>
            <p:cNvCxnSpPr/>
            <p:nvPr/>
          </p:nvCxnSpPr>
          <p:spPr>
            <a:xfrm>
              <a:off x="999720" y="5572080"/>
              <a:ext cx="72162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3" name="Прямая соединительная линия 7"/>
            <p:cNvSpPr/>
            <p:nvPr/>
          </p:nvSpPr>
          <p:spPr>
            <a:xfrm>
              <a:off x="1000080" y="4857840"/>
              <a:ext cx="7143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8"/>
            <p:cNvSpPr/>
            <p:nvPr/>
          </p:nvSpPr>
          <p:spPr>
            <a:xfrm>
              <a:off x="8074800" y="5644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9"/>
            <p:cNvSpPr/>
            <p:nvPr/>
          </p:nvSpPr>
          <p:spPr>
            <a:xfrm>
              <a:off x="4717080" y="1987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1"/>
            <p:cNvSpPr/>
            <p:nvPr/>
          </p:nvSpPr>
          <p:spPr>
            <a:xfrm>
              <a:off x="4289040" y="4500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12"/>
            <p:cNvSpPr/>
            <p:nvPr/>
          </p:nvSpPr>
          <p:spPr>
            <a:xfrm>
              <a:off x="4262040" y="3786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Полилиния 14"/>
          <p:cNvSpPr/>
          <p:nvPr/>
        </p:nvSpPr>
        <p:spPr>
          <a:xfrm>
            <a:off x="1231920" y="4143240"/>
            <a:ext cx="6411960" cy="574920"/>
          </a:xfrm>
          <a:custGeom>
            <a:avLst/>
            <a:gdLst/>
            <a:ahLst/>
            <a:rect l="l" t="t" r="r" b="b"/>
            <a:pathLst>
              <a:path w="6411934" h="574670">
                <a:moveTo>
                  <a:pt x="0" y="568320"/>
                </a:moveTo>
                <a:cubicBezTo>
                  <a:pt x="100542" y="568320"/>
                  <a:pt x="385233" y="574670"/>
                  <a:pt x="482600" y="568320"/>
                </a:cubicBezTo>
                <a:cubicBezTo>
                  <a:pt x="801157" y="545038"/>
                  <a:pt x="1554153" y="475723"/>
                  <a:pt x="1911340" y="428628"/>
                </a:cubicBezTo>
                <a:cubicBezTo>
                  <a:pt x="2268527" y="381533"/>
                  <a:pt x="2387593" y="357190"/>
                  <a:pt x="2625720" y="285752"/>
                </a:cubicBezTo>
                <a:cubicBezTo>
                  <a:pt x="2863847" y="214314"/>
                  <a:pt x="3101973" y="0"/>
                  <a:pt x="3340100" y="0"/>
                </a:cubicBezTo>
                <a:cubicBezTo>
                  <a:pt x="3578227" y="0"/>
                  <a:pt x="3916897" y="248182"/>
                  <a:pt x="4054480" y="285752"/>
                </a:cubicBezTo>
                <a:cubicBezTo>
                  <a:pt x="4292607" y="357190"/>
                  <a:pt x="4521201" y="426239"/>
                  <a:pt x="4768860" y="428628"/>
                </a:cubicBezTo>
                <a:cubicBezTo>
                  <a:pt x="5117039" y="461956"/>
                  <a:pt x="5356243" y="464085"/>
                  <a:pt x="5626116" y="500067"/>
                </a:cubicBezTo>
                <a:lnTo>
                  <a:pt x="6411934" y="571504"/>
                </a:lnTo>
              </a:path>
            </a:pathLst>
          </a:cu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2"/>
          <p:cNvGraphicFramePr/>
          <p:nvPr/>
        </p:nvGraphicFramePr>
        <p:xfrm>
          <a:off x="1482840" y="1571760"/>
          <a:ext cx="1836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571760"/>
                    <a:ext cx="1836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1" name="Прямая со стрелкой 2"/>
          <p:cNvCxnSpPr/>
          <p:nvPr/>
        </p:nvCxnSpPr>
        <p:spPr>
          <a:xfrm flipV="1">
            <a:off x="4570560" y="785520"/>
            <a:ext cx="3600" cy="550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Прямая со стрелкой 4"/>
          <p:cNvCxnSpPr/>
          <p:nvPr/>
        </p:nvCxnSpPr>
        <p:spPr>
          <a:xfrm>
            <a:off x="928800" y="3429000"/>
            <a:ext cx="7287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TextBox 5"/>
          <p:cNvSpPr/>
          <p:nvPr/>
        </p:nvSpPr>
        <p:spPr>
          <a:xfrm>
            <a:off x="2899080" y="3500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6"/>
          <p:cNvSpPr/>
          <p:nvPr/>
        </p:nvSpPr>
        <p:spPr>
          <a:xfrm>
            <a:off x="586080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8"/>
          <p:cNvSpPr/>
          <p:nvPr/>
        </p:nvSpPr>
        <p:spPr>
          <a:xfrm>
            <a:off x="3143160" y="57168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10"/>
          <p:cNvSpPr/>
          <p:nvPr/>
        </p:nvSpPr>
        <p:spPr>
          <a:xfrm>
            <a:off x="6000840" y="642960"/>
            <a:ext cx="0" cy="564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1"/>
          <p:cNvSpPr/>
          <p:nvPr/>
        </p:nvSpPr>
        <p:spPr>
          <a:xfrm>
            <a:off x="4717080" y="714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2"/>
          <p:cNvSpPr/>
          <p:nvPr/>
        </p:nvSpPr>
        <p:spPr>
          <a:xfrm>
            <a:off x="7989120" y="350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4646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4"/>
          <p:cNvSpPr/>
          <p:nvPr/>
        </p:nvSpPr>
        <p:spPr>
          <a:xfrm>
            <a:off x="1003320" y="3581280"/>
            <a:ext cx="2006640" cy="2590920"/>
          </a:xfrm>
          <a:custGeom>
            <a:avLst/>
            <a:gdLst/>
            <a:ahLst/>
            <a:rect l="l" t="t" r="r" b="b"/>
            <a:pathLst>
              <a:path w="2006600" h="2590800">
                <a:moveTo>
                  <a:pt x="0" y="0"/>
                </a:moveTo>
                <a:cubicBezTo>
                  <a:pt x="284685" y="20638"/>
                  <a:pt x="564630" y="22225"/>
                  <a:pt x="854056" y="61914"/>
                </a:cubicBezTo>
                <a:cubicBezTo>
                  <a:pt x="1220787" y="71437"/>
                  <a:pt x="1568451" y="319088"/>
                  <a:pt x="1639874" y="419104"/>
                </a:cubicBezTo>
                <a:cubicBezTo>
                  <a:pt x="1869813" y="674950"/>
                  <a:pt x="1864505" y="700097"/>
                  <a:pt x="1925626" y="1062046"/>
                </a:cubicBezTo>
                <a:cubicBezTo>
                  <a:pt x="1956836" y="1395123"/>
                  <a:pt x="2006600" y="1947141"/>
                  <a:pt x="2006600" y="259080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олилиния 15"/>
          <p:cNvSpPr/>
          <p:nvPr/>
        </p:nvSpPr>
        <p:spPr>
          <a:xfrm>
            <a:off x="6146640" y="800280"/>
            <a:ext cx="2497320" cy="2436480"/>
          </a:xfrm>
          <a:custGeom>
            <a:avLst/>
            <a:gdLst/>
            <a:ahLst/>
            <a:rect l="l" t="t" r="r" b="b"/>
            <a:pathLst>
              <a:path w="2497166" h="2437074">
                <a:moveTo>
                  <a:pt x="0" y="0"/>
                </a:moveTo>
                <a:cubicBezTo>
                  <a:pt x="22758" y="233358"/>
                  <a:pt x="41276" y="463552"/>
                  <a:pt x="68274" y="700074"/>
                </a:cubicBezTo>
                <a:cubicBezTo>
                  <a:pt x="127278" y="1007254"/>
                  <a:pt x="270682" y="1616862"/>
                  <a:pt x="354026" y="1843082"/>
                </a:cubicBezTo>
                <a:cubicBezTo>
                  <a:pt x="496902" y="2116928"/>
                  <a:pt x="669151" y="2288378"/>
                  <a:pt x="925530" y="2343148"/>
                </a:cubicBezTo>
                <a:cubicBezTo>
                  <a:pt x="1272926" y="2408501"/>
                  <a:pt x="2181985" y="2437074"/>
                  <a:pt x="2497166" y="2414585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олилиния 16"/>
          <p:cNvSpPr/>
          <p:nvPr/>
        </p:nvSpPr>
        <p:spPr>
          <a:xfrm>
            <a:off x="3214800" y="749160"/>
            <a:ext cx="2692440" cy="5394600"/>
          </a:xfrm>
          <a:custGeom>
            <a:avLst/>
            <a:gdLst/>
            <a:ahLst/>
            <a:rect l="l" t="t" r="r" b="b"/>
            <a:pathLst>
              <a:path w="2692939" h="5394344">
                <a:moveTo>
                  <a:pt x="2690822" y="0"/>
                </a:moveTo>
                <a:cubicBezTo>
                  <a:pt x="2688176" y="129646"/>
                  <a:pt x="2692939" y="408517"/>
                  <a:pt x="2678122" y="622300"/>
                </a:cubicBezTo>
                <a:cubicBezTo>
                  <a:pt x="2665422" y="776817"/>
                  <a:pt x="2620972" y="1149350"/>
                  <a:pt x="2601922" y="1282700"/>
                </a:cubicBezTo>
                <a:cubicBezTo>
                  <a:pt x="2591339" y="1316567"/>
                  <a:pt x="2572289" y="1388533"/>
                  <a:pt x="2563822" y="1422400"/>
                </a:cubicBezTo>
                <a:cubicBezTo>
                  <a:pt x="2558587" y="1443341"/>
                  <a:pt x="2558701" y="1465689"/>
                  <a:pt x="2551122" y="1485900"/>
                </a:cubicBezTo>
                <a:cubicBezTo>
                  <a:pt x="2536305" y="1540933"/>
                  <a:pt x="2513022" y="1655233"/>
                  <a:pt x="2474922" y="1752600"/>
                </a:cubicBezTo>
                <a:cubicBezTo>
                  <a:pt x="2447405" y="1813983"/>
                  <a:pt x="2375439" y="1987550"/>
                  <a:pt x="2322522" y="2070100"/>
                </a:cubicBezTo>
                <a:cubicBezTo>
                  <a:pt x="2286539" y="2114550"/>
                  <a:pt x="2234944" y="2182019"/>
                  <a:pt x="2157422" y="2247900"/>
                </a:cubicBezTo>
                <a:cubicBezTo>
                  <a:pt x="2092600" y="2296848"/>
                  <a:pt x="1955019" y="2405326"/>
                  <a:pt x="1857388" y="2465386"/>
                </a:cubicBezTo>
                <a:cubicBezTo>
                  <a:pt x="1806324" y="2504280"/>
                  <a:pt x="1654186" y="2561695"/>
                  <a:pt x="1571636" y="2608262"/>
                </a:cubicBezTo>
                <a:cubicBezTo>
                  <a:pt x="1542003" y="2640012"/>
                  <a:pt x="1403889" y="2641600"/>
                  <a:pt x="1344622" y="2679700"/>
                </a:cubicBezTo>
                <a:cubicBezTo>
                  <a:pt x="1298055" y="2700867"/>
                  <a:pt x="1194339" y="2736850"/>
                  <a:pt x="1141422" y="2755900"/>
                </a:cubicBezTo>
                <a:cubicBezTo>
                  <a:pt x="1075805" y="2779183"/>
                  <a:pt x="1079512" y="2759074"/>
                  <a:pt x="950922" y="2819400"/>
                </a:cubicBezTo>
                <a:cubicBezTo>
                  <a:pt x="708302" y="2942430"/>
                  <a:pt x="505363" y="3205694"/>
                  <a:pt x="285752" y="3608394"/>
                </a:cubicBezTo>
                <a:cubicBezTo>
                  <a:pt x="95799" y="3976679"/>
                  <a:pt x="82305" y="4095736"/>
                  <a:pt x="61922" y="4521200"/>
                </a:cubicBezTo>
                <a:cubicBezTo>
                  <a:pt x="43135" y="4687891"/>
                  <a:pt x="12901" y="5212439"/>
                  <a:pt x="0" y="5394344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2"/>
          <p:cNvGraphicFramePr/>
          <p:nvPr/>
        </p:nvGraphicFramePr>
        <p:xfrm>
          <a:off x="285840" y="428760"/>
          <a:ext cx="258912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28760"/>
                    <a:ext cx="258912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45584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5"/>
          <p:cNvGraphicFramePr/>
          <p:nvPr/>
        </p:nvGraphicFramePr>
        <p:xfrm>
          <a:off x="900000" y="476280"/>
          <a:ext cx="201636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76280"/>
                    <a:ext cx="201636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6"/>
          <p:cNvSpPr/>
          <p:nvPr/>
        </p:nvSpPr>
        <p:spPr>
          <a:xfrm>
            <a:off x="2392200" y="236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7"/>
          <p:cNvGraphicFramePr/>
          <p:nvPr/>
        </p:nvGraphicFramePr>
        <p:xfrm>
          <a:off x="6021360" y="476280"/>
          <a:ext cx="177948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21360" y="476280"/>
                    <a:ext cx="17794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20"/>
          <p:cNvSpPr/>
          <p:nvPr/>
        </p:nvSpPr>
        <p:spPr>
          <a:xfrm>
            <a:off x="44784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21"/>
          <p:cNvGraphicFramePr/>
          <p:nvPr/>
        </p:nvGraphicFramePr>
        <p:xfrm>
          <a:off x="324000" y="1484280"/>
          <a:ext cx="3887640" cy="14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1484280"/>
                    <a:ext cx="388764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22"/>
          <p:cNvSpPr/>
          <p:nvPr/>
        </p:nvSpPr>
        <p:spPr>
          <a:xfrm>
            <a:off x="563256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24"/>
          <p:cNvGraphicFramePr/>
          <p:nvPr/>
        </p:nvGraphicFramePr>
        <p:xfrm>
          <a:off x="4457880" y="1413000"/>
          <a:ext cx="4690800" cy="142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57880" y="1413000"/>
                    <a:ext cx="469080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Группа 38"/>
          <p:cNvGrpSpPr/>
          <p:nvPr/>
        </p:nvGrpSpPr>
        <p:grpSpPr>
          <a:xfrm>
            <a:off x="250920" y="3573360"/>
            <a:ext cx="3589200" cy="3095640"/>
            <a:chOff x="250920" y="3573360"/>
            <a:chExt cx="3589200" cy="3095640"/>
          </a:xfrm>
        </p:grpSpPr>
        <p:grpSp>
          <p:nvGrpSpPr>
            <p:cNvPr id="55" name="Group 12"/>
            <p:cNvGrpSpPr/>
            <p:nvPr/>
          </p:nvGrpSpPr>
          <p:grpSpPr>
            <a:xfrm>
              <a:off x="250920" y="3573360"/>
              <a:ext cx="3589200" cy="3095640"/>
              <a:chOff x="250920" y="3573360"/>
              <a:chExt cx="3589200" cy="3095640"/>
            </a:xfrm>
          </p:grpSpPr>
          <p:sp>
            <p:nvSpPr>
              <p:cNvPr id="56" name="Line 8"/>
              <p:cNvSpPr/>
              <p:nvPr/>
            </p:nvSpPr>
            <p:spPr>
              <a:xfrm flipV="1">
                <a:off x="1692360" y="3716280"/>
                <a:ext cx="0" cy="29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>
                <a:off x="250920" y="5589360"/>
                <a:ext cx="345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10"/>
              <p:cNvSpPr/>
              <p:nvPr/>
            </p:nvSpPr>
            <p:spPr>
              <a:xfrm>
                <a:off x="1744560" y="35733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11"/>
              <p:cNvSpPr/>
              <p:nvPr/>
            </p:nvSpPr>
            <p:spPr>
              <a:xfrm>
                <a:off x="3544920" y="5581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 Box 18"/>
            <p:cNvSpPr/>
            <p:nvPr/>
          </p:nvSpPr>
          <p:spPr>
            <a:xfrm>
              <a:off x="2321280" y="5510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5"/>
            <p:cNvSpPr/>
            <p:nvPr/>
          </p:nvSpPr>
          <p:spPr>
            <a:xfrm>
              <a:off x="1405080" y="5149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6"/>
            <p:cNvSpPr/>
            <p:nvPr/>
          </p:nvSpPr>
          <p:spPr>
            <a:xfrm>
              <a:off x="1405080" y="4646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27"/>
          <p:cNvSpPr/>
          <p:nvPr/>
        </p:nvSpPr>
        <p:spPr>
          <a:xfrm>
            <a:off x="2355840" y="4427640"/>
            <a:ext cx="14436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8"/>
          <p:cNvSpPr/>
          <p:nvPr/>
        </p:nvSpPr>
        <p:spPr>
          <a:xfrm flipV="1">
            <a:off x="2071800" y="4572000"/>
            <a:ext cx="285480" cy="2858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28"/>
          <p:cNvCxnSpPr>
            <a:endCxn id="63" idx="7"/>
          </p:cNvCxnSpPr>
          <p:nvPr/>
        </p:nvCxnSpPr>
        <p:spPr>
          <a:xfrm flipH="1">
            <a:off x="2478960" y="4142160"/>
            <a:ext cx="322920" cy="305640"/>
          </a:xfrm>
          <a:prstGeom prst="straightConnector1">
            <a:avLst/>
          </a:prstGeom>
          <a:ln w="2844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66" name="Прямая соединительная линия 34"/>
          <p:cNvSpPr/>
          <p:nvPr/>
        </p:nvSpPr>
        <p:spPr>
          <a:xfrm>
            <a:off x="7429680" y="3357720"/>
            <a:ext cx="0" cy="264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Группа 40"/>
          <p:cNvGrpSpPr/>
          <p:nvPr/>
        </p:nvGrpSpPr>
        <p:grpSpPr>
          <a:xfrm>
            <a:off x="5229360" y="3141720"/>
            <a:ext cx="3588840" cy="3095640"/>
            <a:chOff x="5229360" y="3141720"/>
            <a:chExt cx="3588840" cy="3095640"/>
          </a:xfrm>
        </p:grpSpPr>
        <p:grpSp>
          <p:nvGrpSpPr>
            <p:cNvPr id="68" name="Group 13"/>
            <p:cNvGrpSpPr/>
            <p:nvPr/>
          </p:nvGrpSpPr>
          <p:grpSpPr>
            <a:xfrm>
              <a:off x="5229360" y="3141720"/>
              <a:ext cx="3588840" cy="3095640"/>
              <a:chOff x="5229360" y="3141720"/>
              <a:chExt cx="3588840" cy="3095640"/>
            </a:xfrm>
          </p:grpSpPr>
          <p:sp>
            <p:nvSpPr>
              <p:cNvPr id="69" name="Line 14"/>
              <p:cNvSpPr/>
              <p:nvPr/>
            </p:nvSpPr>
            <p:spPr>
              <a:xfrm flipV="1">
                <a:off x="6670440" y="3284640"/>
                <a:ext cx="0" cy="29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5"/>
              <p:cNvSpPr/>
              <p:nvPr/>
            </p:nvSpPr>
            <p:spPr>
              <a:xfrm>
                <a:off x="5229360" y="5157720"/>
                <a:ext cx="34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16"/>
              <p:cNvSpPr/>
              <p:nvPr/>
            </p:nvSpPr>
            <p:spPr>
              <a:xfrm>
                <a:off x="6722640" y="31417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17"/>
              <p:cNvSpPr/>
              <p:nvPr/>
            </p:nvSpPr>
            <p:spPr>
              <a:xfrm>
                <a:off x="8523000" y="51498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 Box 19"/>
            <p:cNvSpPr/>
            <p:nvPr/>
          </p:nvSpPr>
          <p:spPr>
            <a:xfrm>
              <a:off x="7382160" y="5158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5"/>
            <p:cNvSpPr/>
            <p:nvPr/>
          </p:nvSpPr>
          <p:spPr>
            <a:xfrm>
              <a:off x="6432120" y="4643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Полилиния 36"/>
          <p:cNvSpPr/>
          <p:nvPr/>
        </p:nvSpPr>
        <p:spPr>
          <a:xfrm>
            <a:off x="7072200" y="4851360"/>
            <a:ext cx="309600" cy="1077840"/>
          </a:xfrm>
          <a:custGeom>
            <a:avLst/>
            <a:gdLst/>
            <a:ahLst/>
            <a:rect l="l" t="t" r="r" b="b"/>
            <a:pathLst>
              <a:path w="309566" h="1077930">
                <a:moveTo>
                  <a:pt x="0" y="0"/>
                </a:moveTo>
                <a:cubicBezTo>
                  <a:pt x="37042" y="26458"/>
                  <a:pt x="63484" y="24342"/>
                  <a:pt x="142877" y="77798"/>
                </a:cubicBezTo>
                <a:cubicBezTo>
                  <a:pt x="180977" y="126481"/>
                  <a:pt x="242342" y="196321"/>
                  <a:pt x="285753" y="292112"/>
                </a:cubicBezTo>
                <a:cubicBezTo>
                  <a:pt x="309566" y="399269"/>
                  <a:pt x="285753" y="601677"/>
                  <a:pt x="285753" y="720740"/>
                </a:cubicBezTo>
                <a:cubicBezTo>
                  <a:pt x="294220" y="813873"/>
                  <a:pt x="277286" y="1005963"/>
                  <a:pt x="285753" y="1077930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олилиния 37"/>
          <p:cNvSpPr/>
          <p:nvPr/>
        </p:nvSpPr>
        <p:spPr>
          <a:xfrm>
            <a:off x="7516800" y="3530520"/>
            <a:ext cx="192240" cy="1193760"/>
          </a:xfrm>
          <a:custGeom>
            <a:avLst/>
            <a:gdLst/>
            <a:ahLst/>
            <a:rect l="l" t="t" r="r" b="b"/>
            <a:pathLst>
              <a:path w="192617" h="1193800">
                <a:moveTo>
                  <a:pt x="2117" y="0"/>
                </a:moveTo>
                <a:cubicBezTo>
                  <a:pt x="2117" y="71437"/>
                  <a:pt x="0" y="256117"/>
                  <a:pt x="2117" y="342900"/>
                </a:cubicBezTo>
                <a:cubicBezTo>
                  <a:pt x="6350" y="402167"/>
                  <a:pt x="6003" y="461940"/>
                  <a:pt x="14817" y="520700"/>
                </a:cubicBezTo>
                <a:cubicBezTo>
                  <a:pt x="25400" y="615950"/>
                  <a:pt x="55034" y="842433"/>
                  <a:pt x="65617" y="914400"/>
                </a:cubicBezTo>
                <a:cubicBezTo>
                  <a:pt x="84667" y="1011767"/>
                  <a:pt x="107950" y="1058333"/>
                  <a:pt x="129117" y="1104900"/>
                </a:cubicBezTo>
                <a:cubicBezTo>
                  <a:pt x="146050" y="1136650"/>
                  <a:pt x="179388" y="1175279"/>
                  <a:pt x="192617" y="1193800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2085840" y="2071800"/>
          <a:ext cx="4524480" cy="9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2071800"/>
                    <a:ext cx="45244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3"/>
          <p:cNvGraphicFramePr/>
          <p:nvPr/>
        </p:nvGraphicFramePr>
        <p:xfrm>
          <a:off x="1214280" y="714240"/>
          <a:ext cx="674856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714240"/>
                    <a:ext cx="67485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4"/>
          <p:cNvGraphicFramePr/>
          <p:nvPr/>
        </p:nvGraphicFramePr>
        <p:xfrm>
          <a:off x="857160" y="3571920"/>
          <a:ext cx="235764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571920"/>
                    <a:ext cx="2357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" name="Группа 9"/>
          <p:cNvGrpSpPr/>
          <p:nvPr/>
        </p:nvGrpSpPr>
        <p:grpSpPr>
          <a:xfrm>
            <a:off x="285840" y="4357800"/>
            <a:ext cx="8643960" cy="1922760"/>
            <a:chOff x="285840" y="4357800"/>
            <a:chExt cx="8643960" cy="1922760"/>
          </a:xfrm>
        </p:grpSpPr>
        <p:sp>
          <p:nvSpPr>
            <p:cNvPr id="84" name="TextBox 5"/>
            <p:cNvSpPr/>
            <p:nvPr/>
          </p:nvSpPr>
          <p:spPr>
            <a:xfrm>
              <a:off x="285840" y="4357800"/>
              <a:ext cx="8643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функция бесконечно возрастает (по модулю) при                           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рава или слева(                                                                     )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 прямая               называется    </a:t>
              </a:r>
              <a:r>
                <a:rPr b="1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вертикальной асимптотой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фика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" name="Object 5"/>
            <p:cNvGraphicFramePr/>
            <p:nvPr/>
          </p:nvGraphicFramePr>
          <p:xfrm>
            <a:off x="7572600" y="4429080"/>
            <a:ext cx="1066680" cy="35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72600" y="4429080"/>
                      <a:ext cx="106668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Object 6"/>
            <p:cNvGraphicFramePr/>
            <p:nvPr/>
          </p:nvGraphicFramePr>
          <p:xfrm>
            <a:off x="1793880" y="5215320"/>
            <a:ext cx="90648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8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793880" y="5215320"/>
                      <a:ext cx="90648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Object 7"/>
            <p:cNvGraphicFramePr/>
            <p:nvPr/>
          </p:nvGraphicFramePr>
          <p:xfrm>
            <a:off x="2786040" y="4714920"/>
            <a:ext cx="5049720" cy="498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0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86040" y="4714920"/>
                      <a:ext cx="5049720" cy="49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1"/>
          <p:cNvSpPr/>
          <p:nvPr/>
        </p:nvSpPr>
        <p:spPr>
          <a:xfrm>
            <a:off x="44784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2"/>
          <p:cNvGraphicFramePr/>
          <p:nvPr/>
        </p:nvGraphicFramePr>
        <p:xfrm>
          <a:off x="1071720" y="2714760"/>
          <a:ext cx="214776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714760"/>
                    <a:ext cx="21477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28"/>
          <p:cNvGraphicFramePr/>
          <p:nvPr/>
        </p:nvGraphicFramePr>
        <p:xfrm>
          <a:off x="5429160" y="2714760"/>
          <a:ext cx="214812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2714760"/>
                    <a:ext cx="21481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29"/>
          <p:cNvGraphicFramePr/>
          <p:nvPr/>
        </p:nvGraphicFramePr>
        <p:xfrm>
          <a:off x="1214280" y="5857920"/>
          <a:ext cx="214812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4280" y="5857920"/>
                    <a:ext cx="21481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30"/>
          <p:cNvGraphicFramePr/>
          <p:nvPr/>
        </p:nvGraphicFramePr>
        <p:xfrm>
          <a:off x="5786280" y="5786280"/>
          <a:ext cx="2146320" cy="43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Object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86280" y="5786280"/>
                    <a:ext cx="21463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Freeform 31"/>
          <p:cNvSpPr/>
          <p:nvPr/>
        </p:nvSpPr>
        <p:spPr>
          <a:xfrm>
            <a:off x="5724360" y="546120"/>
            <a:ext cx="879480" cy="1295280"/>
          </a:xfrm>
          <a:custGeom>
            <a:avLst/>
            <a:gdLst>
              <a:gd name="textAreaLeft" fmla="*/ 0 w 879480"/>
              <a:gd name="textAreaRight" fmla="*/ 879840 w 87948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554" h="816">
                <a:moveTo>
                  <a:pt x="0" y="816"/>
                </a:moveTo>
                <a:cubicBezTo>
                  <a:pt x="77" y="800"/>
                  <a:pt x="376" y="810"/>
                  <a:pt x="465" y="722"/>
                </a:cubicBezTo>
                <a:cubicBezTo>
                  <a:pt x="554" y="634"/>
                  <a:pt x="529" y="418"/>
                  <a:pt x="533" y="290"/>
                </a:cubicBezTo>
                <a:cubicBezTo>
                  <a:pt x="537" y="162"/>
                  <a:pt x="542" y="60"/>
                  <a:pt x="544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7"/>
          <p:cNvSpPr/>
          <p:nvPr/>
        </p:nvSpPr>
        <p:spPr>
          <a:xfrm rot="10800000">
            <a:off x="5867280" y="4292280"/>
            <a:ext cx="733680" cy="1281240"/>
          </a:xfrm>
          <a:custGeom>
            <a:avLst/>
            <a:gdLst>
              <a:gd name="textAreaLeft" fmla="*/ 0 w 733680"/>
              <a:gd name="textAreaRight" fmla="*/ 734040 w 733680"/>
              <a:gd name="textAreaTop" fmla="*/ 0 h 1281240"/>
              <a:gd name="textAreaBottom" fmla="*/ 1281600 h 1281240"/>
            </a:gdLst>
            <a:ahLst/>
            <a:rect l="textAreaLeft" t="textAreaTop" r="textAreaRight" b="textAreaBottom"/>
            <a:pathLst>
              <a:path w="462" h="807">
                <a:moveTo>
                  <a:pt x="0" y="0"/>
                </a:moveTo>
                <a:cubicBezTo>
                  <a:pt x="2" y="74"/>
                  <a:pt x="7" y="310"/>
                  <a:pt x="11" y="446"/>
                </a:cubicBezTo>
                <a:cubicBezTo>
                  <a:pt x="15" y="582"/>
                  <a:pt x="108" y="703"/>
                  <a:pt x="203" y="745"/>
                </a:cubicBezTo>
                <a:cubicBezTo>
                  <a:pt x="298" y="787"/>
                  <a:pt x="408" y="794"/>
                  <a:pt x="462" y="807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1"/>
          <p:cNvGrpSpPr/>
          <p:nvPr/>
        </p:nvGrpSpPr>
        <p:grpSpPr>
          <a:xfrm>
            <a:off x="5695920" y="3164040"/>
            <a:ext cx="2232000" cy="2322360"/>
            <a:chOff x="5695920" y="3164040"/>
            <a:chExt cx="2232000" cy="2322360"/>
          </a:xfrm>
        </p:grpSpPr>
        <p:sp>
          <p:nvSpPr>
            <p:cNvPr id="103" name="Line 24"/>
            <p:cNvSpPr/>
            <p:nvPr/>
          </p:nvSpPr>
          <p:spPr>
            <a:xfrm flipV="1">
              <a:off x="7078680" y="3308040"/>
              <a:ext cx="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>
              <a:off x="5695920" y="4173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>
              <a:off x="6664320" y="339732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3"/>
            <p:cNvSpPr/>
            <p:nvPr/>
          </p:nvSpPr>
          <p:spPr>
            <a:xfrm>
              <a:off x="7632720" y="4029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4"/>
            <p:cNvSpPr/>
            <p:nvPr/>
          </p:nvSpPr>
          <p:spPr>
            <a:xfrm>
              <a:off x="7086600" y="3164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35"/>
            <p:cNvSpPr/>
            <p:nvPr/>
          </p:nvSpPr>
          <p:spPr>
            <a:xfrm>
              <a:off x="6642360" y="40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Freeform 22"/>
          <p:cNvSpPr/>
          <p:nvPr/>
        </p:nvSpPr>
        <p:spPr>
          <a:xfrm>
            <a:off x="2195640" y="4456080"/>
            <a:ext cx="836640" cy="1168560"/>
          </a:xfrm>
          <a:custGeom>
            <a:avLst/>
            <a:gdLst>
              <a:gd name="textAreaLeft" fmla="*/ 0 w 836640"/>
              <a:gd name="textAreaRight" fmla="*/ 837000 w 836640"/>
              <a:gd name="textAreaTop" fmla="*/ 0 h 1168560"/>
              <a:gd name="textAreaBottom" fmla="*/ 1168920 h 1168560"/>
            </a:gdLst>
            <a:ahLst/>
            <a:rect l="textAreaLeft" t="textAreaTop" r="textAreaRight" b="textAreaBottom"/>
            <a:pathLst>
              <a:path w="527" h="736">
                <a:moveTo>
                  <a:pt x="527" y="4"/>
                </a:moveTo>
                <a:cubicBezTo>
                  <a:pt x="476" y="13"/>
                  <a:pt x="307" y="0"/>
                  <a:pt x="223" y="56"/>
                </a:cubicBezTo>
                <a:cubicBezTo>
                  <a:pt x="107" y="108"/>
                  <a:pt x="47" y="239"/>
                  <a:pt x="23" y="340"/>
                </a:cubicBezTo>
                <a:cubicBezTo>
                  <a:pt x="0" y="441"/>
                  <a:pt x="7" y="654"/>
                  <a:pt x="3" y="736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0"/>
          <p:cNvGrpSpPr/>
          <p:nvPr/>
        </p:nvGrpSpPr>
        <p:grpSpPr>
          <a:xfrm>
            <a:off x="1386000" y="3409920"/>
            <a:ext cx="2309400" cy="2305080"/>
            <a:chOff x="1386000" y="3409920"/>
            <a:chExt cx="2309400" cy="2305080"/>
          </a:xfrm>
        </p:grpSpPr>
        <p:sp>
          <p:nvSpPr>
            <p:cNvPr id="111" name="Line 19"/>
            <p:cNvSpPr/>
            <p:nvPr/>
          </p:nvSpPr>
          <p:spPr>
            <a:xfrm flipV="1">
              <a:off x="2819520" y="3554280"/>
              <a:ext cx="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0"/>
            <p:cNvSpPr/>
            <p:nvPr/>
          </p:nvSpPr>
          <p:spPr>
            <a:xfrm>
              <a:off x="1386000" y="4417920"/>
              <a:ext cx="21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1"/>
            <p:cNvSpPr/>
            <p:nvPr/>
          </p:nvSpPr>
          <p:spPr>
            <a:xfrm>
              <a:off x="2116080" y="362592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7"/>
            <p:cNvSpPr/>
            <p:nvPr/>
          </p:nvSpPr>
          <p:spPr>
            <a:xfrm>
              <a:off x="3400200" y="4365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8"/>
            <p:cNvSpPr/>
            <p:nvPr/>
          </p:nvSpPr>
          <p:spPr>
            <a:xfrm>
              <a:off x="2773080" y="3409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9"/>
            <p:cNvSpPr/>
            <p:nvPr/>
          </p:nvSpPr>
          <p:spPr>
            <a:xfrm>
              <a:off x="1876680" y="432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reeform 17"/>
          <p:cNvSpPr/>
          <p:nvPr/>
        </p:nvSpPr>
        <p:spPr>
          <a:xfrm>
            <a:off x="2155680" y="625320"/>
            <a:ext cx="733680" cy="1281240"/>
          </a:xfrm>
          <a:custGeom>
            <a:avLst/>
            <a:gdLst>
              <a:gd name="textAreaLeft" fmla="*/ 0 w 733680"/>
              <a:gd name="textAreaRight" fmla="*/ 734040 w 733680"/>
              <a:gd name="textAreaTop" fmla="*/ 0 h 1281240"/>
              <a:gd name="textAreaBottom" fmla="*/ 1281600 h 1281240"/>
            </a:gdLst>
            <a:ahLst/>
            <a:rect l="textAreaLeft" t="textAreaTop" r="textAreaRight" b="textAreaBottom"/>
            <a:pathLst>
              <a:path w="462" h="807">
                <a:moveTo>
                  <a:pt x="0" y="0"/>
                </a:moveTo>
                <a:cubicBezTo>
                  <a:pt x="2" y="74"/>
                  <a:pt x="7" y="310"/>
                  <a:pt x="11" y="446"/>
                </a:cubicBezTo>
                <a:cubicBezTo>
                  <a:pt x="15" y="582"/>
                  <a:pt x="108" y="703"/>
                  <a:pt x="203" y="745"/>
                </a:cubicBezTo>
                <a:cubicBezTo>
                  <a:pt x="298" y="787"/>
                  <a:pt x="408" y="794"/>
                  <a:pt x="462" y="807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5"/>
          <p:cNvGrpSpPr/>
          <p:nvPr/>
        </p:nvGrpSpPr>
        <p:grpSpPr>
          <a:xfrm>
            <a:off x="1376280" y="476280"/>
            <a:ext cx="2160720" cy="2233080"/>
            <a:chOff x="1376280" y="476280"/>
            <a:chExt cx="2160720" cy="2233080"/>
          </a:xfrm>
        </p:grpSpPr>
        <p:sp>
          <p:nvSpPr>
            <p:cNvPr id="119" name="Text Box 10"/>
            <p:cNvSpPr/>
            <p:nvPr/>
          </p:nvSpPr>
          <p:spPr>
            <a:xfrm>
              <a:off x="2016360" y="1909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4"/>
            <p:cNvSpPr/>
            <p:nvPr/>
          </p:nvSpPr>
          <p:spPr>
            <a:xfrm flipV="1">
              <a:off x="2757600" y="549000"/>
              <a:ext cx="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5"/>
            <p:cNvSpPr/>
            <p:nvPr/>
          </p:nvSpPr>
          <p:spPr>
            <a:xfrm>
              <a:off x="1376280" y="19828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6"/>
            <p:cNvSpPr/>
            <p:nvPr/>
          </p:nvSpPr>
          <p:spPr>
            <a:xfrm>
              <a:off x="2111400" y="61920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2"/>
            <p:cNvSpPr/>
            <p:nvPr/>
          </p:nvSpPr>
          <p:spPr>
            <a:xfrm>
              <a:off x="3225600" y="1916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3"/>
            <p:cNvSpPr/>
            <p:nvPr/>
          </p:nvSpPr>
          <p:spPr>
            <a:xfrm>
              <a:off x="2773080" y="476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49"/>
          <p:cNvGrpSpPr/>
          <p:nvPr/>
        </p:nvGrpSpPr>
        <p:grpSpPr>
          <a:xfrm>
            <a:off x="5548320" y="352440"/>
            <a:ext cx="2365200" cy="2286000"/>
            <a:chOff x="5548320" y="352440"/>
            <a:chExt cx="2365200" cy="2286000"/>
          </a:xfrm>
        </p:grpSpPr>
        <p:sp>
          <p:nvSpPr>
            <p:cNvPr id="126" name="Line 5"/>
            <p:cNvSpPr/>
            <p:nvPr/>
          </p:nvSpPr>
          <p:spPr>
            <a:xfrm flipV="1">
              <a:off x="6993000" y="476280"/>
              <a:ext cx="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5548320" y="19162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>
              <a:off x="6620040" y="54936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6"/>
            <p:cNvSpPr/>
            <p:nvPr/>
          </p:nvSpPr>
          <p:spPr>
            <a:xfrm>
              <a:off x="7618320" y="1865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47"/>
            <p:cNvSpPr/>
            <p:nvPr/>
          </p:nvSpPr>
          <p:spPr>
            <a:xfrm>
              <a:off x="7094520" y="35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8"/>
            <p:cNvSpPr/>
            <p:nvPr/>
          </p:nvSpPr>
          <p:spPr>
            <a:xfrm>
              <a:off x="6548760" y="1835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7"/>
          <p:cNvSpPr/>
          <p:nvPr/>
        </p:nvSpPr>
        <p:spPr>
          <a:xfrm flipV="1">
            <a:off x="214200" y="571320"/>
            <a:ext cx="3571920" cy="357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54"/>
          <p:cNvGrpSpPr/>
          <p:nvPr/>
        </p:nvGrpSpPr>
        <p:grpSpPr>
          <a:xfrm>
            <a:off x="1214280" y="571680"/>
            <a:ext cx="843120" cy="3643200"/>
            <a:chOff x="1214280" y="571680"/>
            <a:chExt cx="843120" cy="3643200"/>
          </a:xfrm>
        </p:grpSpPr>
        <p:sp>
          <p:nvSpPr>
            <p:cNvPr id="134" name="Полилиния 12"/>
            <p:cNvSpPr/>
            <p:nvPr/>
          </p:nvSpPr>
          <p:spPr>
            <a:xfrm>
              <a:off x="1760400" y="571680"/>
              <a:ext cx="297000" cy="1447560"/>
            </a:xfrm>
            <a:custGeom>
              <a:avLst/>
              <a:gdLst/>
              <a:ahLst/>
              <a:rect l="l" t="t" r="r" b="b"/>
              <a:pathLst>
                <a:path w="296280" h="1447820">
                  <a:moveTo>
                    <a:pt x="24798" y="0"/>
                  </a:moveTo>
                  <a:cubicBezTo>
                    <a:pt x="23637" y="319171"/>
                    <a:pt x="0" y="85943"/>
                    <a:pt x="16880" y="482620"/>
                  </a:cubicBezTo>
                  <a:cubicBezTo>
                    <a:pt x="19476" y="543628"/>
                    <a:pt x="35393" y="778605"/>
                    <a:pt x="42280" y="850920"/>
                  </a:cubicBezTo>
                  <a:cubicBezTo>
                    <a:pt x="52863" y="960987"/>
                    <a:pt x="57097" y="1054120"/>
                    <a:pt x="80380" y="1143020"/>
                  </a:cubicBezTo>
                  <a:cubicBezTo>
                    <a:pt x="129082" y="1343056"/>
                    <a:pt x="203129" y="1377960"/>
                    <a:pt x="239112" y="1428760"/>
                  </a:cubicBezTo>
                  <a:cubicBezTo>
                    <a:pt x="262517" y="1441763"/>
                    <a:pt x="296280" y="1447820"/>
                    <a:pt x="296280" y="144782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олилиния 13"/>
            <p:cNvSpPr/>
            <p:nvPr/>
          </p:nvSpPr>
          <p:spPr>
            <a:xfrm>
              <a:off x="1214280" y="3399120"/>
              <a:ext cx="357120" cy="815760"/>
            </a:xfrm>
            <a:custGeom>
              <a:avLst/>
              <a:gdLst/>
              <a:ahLst/>
              <a:rect l="l" t="t" r="r" b="b"/>
              <a:pathLst>
                <a:path w="357190" h="815451">
                  <a:moveTo>
                    <a:pt x="0" y="29633"/>
                  </a:moveTo>
                  <a:cubicBezTo>
                    <a:pt x="91017" y="0"/>
                    <a:pt x="175438" y="48683"/>
                    <a:pt x="220686" y="80433"/>
                  </a:cubicBezTo>
                  <a:cubicBezTo>
                    <a:pt x="278634" y="160866"/>
                    <a:pt x="324935" y="389730"/>
                    <a:pt x="347686" y="512233"/>
                  </a:cubicBezTo>
                  <a:cubicBezTo>
                    <a:pt x="351387" y="569119"/>
                    <a:pt x="355210" y="752281"/>
                    <a:pt x="357190" y="815451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46"/>
          <p:cNvGrpSpPr/>
          <p:nvPr/>
        </p:nvGrpSpPr>
        <p:grpSpPr>
          <a:xfrm>
            <a:off x="1074600" y="1844640"/>
            <a:ext cx="1092600" cy="1738800"/>
            <a:chOff x="1074600" y="1844640"/>
            <a:chExt cx="1092600" cy="1738800"/>
          </a:xfrm>
        </p:grpSpPr>
        <p:sp>
          <p:nvSpPr>
            <p:cNvPr id="137" name="TextBox 8"/>
            <p:cNvSpPr/>
            <p:nvPr/>
          </p:nvSpPr>
          <p:spPr>
            <a:xfrm>
              <a:off x="1860120" y="2714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9"/>
            <p:cNvSpPr/>
            <p:nvPr/>
          </p:nvSpPr>
          <p:spPr>
            <a:xfrm>
              <a:off x="1360080" y="184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10"/>
            <p:cNvSpPr/>
            <p:nvPr/>
          </p:nvSpPr>
          <p:spPr>
            <a:xfrm>
              <a:off x="1074600" y="23569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11"/>
            <p:cNvSpPr/>
            <p:nvPr/>
          </p:nvSpPr>
          <p:spPr>
            <a:xfrm>
              <a:off x="1717200" y="32151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15"/>
            <p:cNvSpPr/>
            <p:nvPr/>
          </p:nvSpPr>
          <p:spPr>
            <a:xfrm flipH="1">
              <a:off x="1233360" y="2727360"/>
              <a:ext cx="33120" cy="70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ая соединительная линия 22"/>
            <p:cNvSpPr/>
            <p:nvPr/>
          </p:nvSpPr>
          <p:spPr>
            <a:xfrm>
              <a:off x="1214280" y="3429000"/>
              <a:ext cx="500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ая соединительная линия 26"/>
            <p:cNvSpPr/>
            <p:nvPr/>
          </p:nvSpPr>
          <p:spPr>
            <a:xfrm flipH="1" flipV="1">
              <a:off x="2038320" y="1993680"/>
              <a:ext cx="3312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ая соединительная линия 33"/>
            <p:cNvSpPr/>
            <p:nvPr/>
          </p:nvSpPr>
          <p:spPr>
            <a:xfrm>
              <a:off x="1714680" y="200016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Группа 45"/>
          <p:cNvGrpSpPr/>
          <p:nvPr/>
        </p:nvGrpSpPr>
        <p:grpSpPr>
          <a:xfrm>
            <a:off x="285840" y="428760"/>
            <a:ext cx="3297960" cy="3714480"/>
            <a:chOff x="285840" y="428760"/>
            <a:chExt cx="3297960" cy="3714480"/>
          </a:xfrm>
        </p:grpSpPr>
        <p:cxnSp>
          <p:nvCxnSpPr>
            <p:cNvPr id="146" name="Прямая со стрелкой 2"/>
            <p:cNvCxnSpPr/>
            <p:nvPr/>
          </p:nvCxnSpPr>
          <p:spPr>
            <a:xfrm flipH="1" flipV="1">
              <a:off x="1642680" y="499680"/>
              <a:ext cx="72000" cy="3643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" name="Прямая со стрелкой 5"/>
            <p:cNvCxnSpPr/>
            <p:nvPr/>
          </p:nvCxnSpPr>
          <p:spPr>
            <a:xfrm>
              <a:off x="285840" y="2714760"/>
              <a:ext cx="3215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TextBox 43"/>
            <p:cNvSpPr/>
            <p:nvPr/>
          </p:nvSpPr>
          <p:spPr>
            <a:xfrm>
              <a:off x="3288600" y="2714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44"/>
            <p:cNvSpPr/>
            <p:nvPr/>
          </p:nvSpPr>
          <p:spPr>
            <a:xfrm>
              <a:off x="1273680" y="428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0" name="Object 3"/>
          <p:cNvGraphicFramePr/>
          <p:nvPr/>
        </p:nvGraphicFramePr>
        <p:xfrm>
          <a:off x="5857920" y="71280"/>
          <a:ext cx="1571760" cy="10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920" y="71280"/>
                    <a:ext cx="157176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4"/>
          <p:cNvGraphicFramePr/>
          <p:nvPr/>
        </p:nvGraphicFramePr>
        <p:xfrm>
          <a:off x="4206960" y="2455920"/>
          <a:ext cx="15080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6960" y="2455920"/>
                    <a:ext cx="15080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5"/>
          <p:cNvGraphicFramePr/>
          <p:nvPr/>
        </p:nvGraphicFramePr>
        <p:xfrm>
          <a:off x="5261040" y="1143000"/>
          <a:ext cx="2766960" cy="113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1040" y="1143000"/>
                    <a:ext cx="2766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6"/>
          <p:cNvGraphicFramePr/>
          <p:nvPr/>
        </p:nvGraphicFramePr>
        <p:xfrm>
          <a:off x="6111720" y="2714760"/>
          <a:ext cx="2389320" cy="56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1720" y="2714760"/>
                    <a:ext cx="238932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" name="Группа 57"/>
          <p:cNvGrpSpPr/>
          <p:nvPr/>
        </p:nvGrpSpPr>
        <p:grpSpPr>
          <a:xfrm>
            <a:off x="285840" y="714240"/>
            <a:ext cx="3181320" cy="3424320"/>
            <a:chOff x="285840" y="714240"/>
            <a:chExt cx="3181320" cy="3424320"/>
          </a:xfrm>
        </p:grpSpPr>
        <p:sp>
          <p:nvSpPr>
            <p:cNvPr id="159" name="Полилиния 55"/>
            <p:cNvSpPr/>
            <p:nvPr/>
          </p:nvSpPr>
          <p:spPr>
            <a:xfrm>
              <a:off x="2052720" y="714240"/>
              <a:ext cx="1414440" cy="1300320"/>
            </a:xfrm>
            <a:custGeom>
              <a:avLst/>
              <a:gdLst/>
              <a:ahLst/>
              <a:rect l="l" t="t" r="r" b="b"/>
              <a:pathLst>
                <a:path w="1414462" h="1300163">
                  <a:moveTo>
                    <a:pt x="0" y="1300163"/>
                  </a:moveTo>
                  <a:cubicBezTo>
                    <a:pt x="320675" y="1165226"/>
                    <a:pt x="527050" y="868363"/>
                    <a:pt x="790575" y="652463"/>
                  </a:cubicBezTo>
                  <a:cubicBezTo>
                    <a:pt x="1026319" y="435769"/>
                    <a:pt x="1284486" y="135930"/>
                    <a:pt x="1414462" y="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олилиния 56"/>
            <p:cNvSpPr/>
            <p:nvPr/>
          </p:nvSpPr>
          <p:spPr>
            <a:xfrm>
              <a:off x="285840" y="3429000"/>
              <a:ext cx="938160" cy="709560"/>
            </a:xfrm>
            <a:custGeom>
              <a:avLst/>
              <a:gdLst/>
              <a:ahLst/>
              <a:rect l="l" t="t" r="r" b="b"/>
              <a:pathLst>
                <a:path w="938242" h="709617">
                  <a:moveTo>
                    <a:pt x="938242" y="0"/>
                  </a:moveTo>
                  <a:cubicBezTo>
                    <a:pt x="706483" y="22225"/>
                    <a:pt x="312747" y="473078"/>
                    <a:pt x="0" y="709617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Группа 65"/>
          <p:cNvGrpSpPr/>
          <p:nvPr/>
        </p:nvGrpSpPr>
        <p:grpSpPr>
          <a:xfrm>
            <a:off x="285840" y="4357800"/>
            <a:ext cx="8715240" cy="1628280"/>
            <a:chOff x="285840" y="4357800"/>
            <a:chExt cx="8715240" cy="1628280"/>
          </a:xfrm>
        </p:grpSpPr>
        <p:sp>
          <p:nvSpPr>
            <p:cNvPr id="162" name="TextBox 58"/>
            <p:cNvSpPr/>
            <p:nvPr/>
          </p:nvSpPr>
          <p:spPr>
            <a:xfrm>
              <a:off x="285840" y="4429080"/>
              <a:ext cx="8715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функция представима в виде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де                                                    , то прямая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зывается </a:t>
              </a:r>
              <a:r>
                <a:rPr b="1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наклонной асимптотой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фика функции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3" name="Object 8"/>
            <p:cNvGraphicFramePr/>
            <p:nvPr/>
          </p:nvGraphicFramePr>
          <p:xfrm>
            <a:off x="5000760" y="4357800"/>
            <a:ext cx="3125160" cy="500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4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00760" y="4357800"/>
                      <a:ext cx="312516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Object 9"/>
            <p:cNvGraphicFramePr/>
            <p:nvPr/>
          </p:nvGraphicFramePr>
          <p:xfrm>
            <a:off x="857160" y="4786560"/>
            <a:ext cx="3876480" cy="561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6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57160" y="4786560"/>
                      <a:ext cx="38764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Object 10"/>
            <p:cNvGraphicFramePr/>
            <p:nvPr/>
          </p:nvGraphicFramePr>
          <p:xfrm>
            <a:off x="6357960" y="4786560"/>
            <a:ext cx="1562040" cy="500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8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357960" y="4786560"/>
                      <a:ext cx="15620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Object 11"/>
            <p:cNvGraphicFramePr/>
            <p:nvPr/>
          </p:nvGraphicFramePr>
          <p:xfrm>
            <a:off x="7564680" y="5143680"/>
            <a:ext cx="1436400" cy="500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0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564680" y="5143680"/>
                      <a:ext cx="143640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1" name="Группа 69"/>
          <p:cNvGrpSpPr/>
          <p:nvPr/>
        </p:nvGrpSpPr>
        <p:grpSpPr>
          <a:xfrm>
            <a:off x="380880" y="5857920"/>
            <a:ext cx="8334360" cy="734040"/>
            <a:chOff x="380880" y="5857920"/>
            <a:chExt cx="8334360" cy="734040"/>
          </a:xfrm>
        </p:grpSpPr>
        <p:sp>
          <p:nvSpPr>
            <p:cNvPr id="172" name="TextBox 66"/>
            <p:cNvSpPr/>
            <p:nvPr/>
          </p:nvSpPr>
          <p:spPr>
            <a:xfrm>
              <a:off x="380880" y="5857920"/>
              <a:ext cx="83343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 асимптота             называется </a:t>
              </a:r>
              <a:r>
                <a:rPr b="0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горизонтальной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3" name="Object 12"/>
            <p:cNvGraphicFramePr/>
            <p:nvPr/>
          </p:nvGraphicFramePr>
          <p:xfrm>
            <a:off x="1213560" y="5857920"/>
            <a:ext cx="874800" cy="438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4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213560" y="5857920"/>
                      <a:ext cx="87480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Object 13"/>
            <p:cNvGraphicFramePr/>
            <p:nvPr/>
          </p:nvGraphicFramePr>
          <p:xfrm>
            <a:off x="3999960" y="5857920"/>
            <a:ext cx="874800" cy="500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6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999960" y="5857920"/>
                      <a:ext cx="87480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2"/>
          <p:cNvSpPr/>
          <p:nvPr/>
        </p:nvSpPr>
        <p:spPr>
          <a:xfrm>
            <a:off x="2443320" y="35712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изонтальные асимп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Группа 12"/>
          <p:cNvGrpSpPr/>
          <p:nvPr/>
        </p:nvGrpSpPr>
        <p:grpSpPr>
          <a:xfrm>
            <a:off x="357120" y="1143000"/>
            <a:ext cx="2655000" cy="2142720"/>
            <a:chOff x="357120" y="1143000"/>
            <a:chExt cx="2655000" cy="2142720"/>
          </a:xfrm>
        </p:grpSpPr>
        <p:cxnSp>
          <p:nvCxnSpPr>
            <p:cNvPr id="179" name="Прямая со стрелкой 4"/>
            <p:cNvCxnSpPr/>
            <p:nvPr/>
          </p:nvCxnSpPr>
          <p:spPr>
            <a:xfrm flipV="1">
              <a:off x="1571400" y="121356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" name="Прямая со стрелкой 6"/>
            <p:cNvCxnSpPr/>
            <p:nvPr/>
          </p:nvCxnSpPr>
          <p:spPr>
            <a:xfrm>
              <a:off x="357120" y="257184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1" name="TextBox 9"/>
            <p:cNvSpPr/>
            <p:nvPr/>
          </p:nvSpPr>
          <p:spPr>
            <a:xfrm>
              <a:off x="1645200" y="1143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0"/>
            <p:cNvSpPr/>
            <p:nvPr/>
          </p:nvSpPr>
          <p:spPr>
            <a:xfrm>
              <a:off x="2716920" y="2643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1"/>
            <p:cNvSpPr/>
            <p:nvPr/>
          </p:nvSpPr>
          <p:spPr>
            <a:xfrm>
              <a:off x="1288800" y="2571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Группа 13"/>
          <p:cNvGrpSpPr/>
          <p:nvPr/>
        </p:nvGrpSpPr>
        <p:grpSpPr>
          <a:xfrm>
            <a:off x="3214800" y="1143000"/>
            <a:ext cx="2655000" cy="2142720"/>
            <a:chOff x="3214800" y="1143000"/>
            <a:chExt cx="2655000" cy="2142720"/>
          </a:xfrm>
        </p:grpSpPr>
        <p:cxnSp>
          <p:nvCxnSpPr>
            <p:cNvPr id="185" name="Прямая со стрелкой 14"/>
            <p:cNvCxnSpPr/>
            <p:nvPr/>
          </p:nvCxnSpPr>
          <p:spPr>
            <a:xfrm flipV="1">
              <a:off x="4429080" y="121356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" name="Прямая со стрелкой 15"/>
            <p:cNvCxnSpPr/>
            <p:nvPr/>
          </p:nvCxnSpPr>
          <p:spPr>
            <a:xfrm>
              <a:off x="3214800" y="257184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7" name="TextBox 16"/>
            <p:cNvSpPr/>
            <p:nvPr/>
          </p:nvSpPr>
          <p:spPr>
            <a:xfrm>
              <a:off x="4502880" y="1143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7"/>
            <p:cNvSpPr/>
            <p:nvPr/>
          </p:nvSpPr>
          <p:spPr>
            <a:xfrm>
              <a:off x="5574600" y="2643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8"/>
            <p:cNvSpPr/>
            <p:nvPr/>
          </p:nvSpPr>
          <p:spPr>
            <a:xfrm>
              <a:off x="4146480" y="2571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Группа 19"/>
          <p:cNvGrpSpPr/>
          <p:nvPr/>
        </p:nvGrpSpPr>
        <p:grpSpPr>
          <a:xfrm>
            <a:off x="6143760" y="1143000"/>
            <a:ext cx="2655000" cy="2142720"/>
            <a:chOff x="6143760" y="1143000"/>
            <a:chExt cx="2655000" cy="2142720"/>
          </a:xfrm>
        </p:grpSpPr>
        <p:cxnSp>
          <p:nvCxnSpPr>
            <p:cNvPr id="191" name="Прямая со стрелкой 20"/>
            <p:cNvCxnSpPr/>
            <p:nvPr/>
          </p:nvCxnSpPr>
          <p:spPr>
            <a:xfrm flipV="1">
              <a:off x="7358040" y="121356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Прямая со стрелкой 21"/>
            <p:cNvCxnSpPr/>
            <p:nvPr/>
          </p:nvCxnSpPr>
          <p:spPr>
            <a:xfrm>
              <a:off x="6143760" y="257184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3" name="TextBox 22"/>
            <p:cNvSpPr/>
            <p:nvPr/>
          </p:nvSpPr>
          <p:spPr>
            <a:xfrm>
              <a:off x="7431840" y="1143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23"/>
            <p:cNvSpPr/>
            <p:nvPr/>
          </p:nvSpPr>
          <p:spPr>
            <a:xfrm>
              <a:off x="8503560" y="2643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24"/>
            <p:cNvSpPr/>
            <p:nvPr/>
          </p:nvSpPr>
          <p:spPr>
            <a:xfrm>
              <a:off x="7075440" y="2571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Группа 25"/>
          <p:cNvGrpSpPr/>
          <p:nvPr/>
        </p:nvGrpSpPr>
        <p:grpSpPr>
          <a:xfrm>
            <a:off x="285840" y="4429080"/>
            <a:ext cx="2655000" cy="2142720"/>
            <a:chOff x="285840" y="4429080"/>
            <a:chExt cx="2655000" cy="2142720"/>
          </a:xfrm>
        </p:grpSpPr>
        <p:cxnSp>
          <p:nvCxnSpPr>
            <p:cNvPr id="197" name="Прямая со стрелкой 26"/>
            <p:cNvCxnSpPr/>
            <p:nvPr/>
          </p:nvCxnSpPr>
          <p:spPr>
            <a:xfrm flipV="1">
              <a:off x="1500120" y="449964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Прямая со стрелкой 27"/>
            <p:cNvCxnSpPr/>
            <p:nvPr/>
          </p:nvCxnSpPr>
          <p:spPr>
            <a:xfrm>
              <a:off x="285840" y="585792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TextBox 28"/>
            <p:cNvSpPr/>
            <p:nvPr/>
          </p:nvSpPr>
          <p:spPr>
            <a:xfrm>
              <a:off x="1573920" y="4429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29"/>
            <p:cNvSpPr/>
            <p:nvPr/>
          </p:nvSpPr>
          <p:spPr>
            <a:xfrm>
              <a:off x="2645640" y="5929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30"/>
            <p:cNvSpPr/>
            <p:nvPr/>
          </p:nvSpPr>
          <p:spPr>
            <a:xfrm>
              <a:off x="1217520" y="585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73"/>
          <p:cNvGrpSpPr/>
          <p:nvPr/>
        </p:nvGrpSpPr>
        <p:grpSpPr>
          <a:xfrm>
            <a:off x="3200400" y="4429080"/>
            <a:ext cx="2655000" cy="2142720"/>
            <a:chOff x="3200400" y="4429080"/>
            <a:chExt cx="2655000" cy="2142720"/>
          </a:xfrm>
        </p:grpSpPr>
        <p:cxnSp>
          <p:nvCxnSpPr>
            <p:cNvPr id="203" name="Прямая со стрелкой 32"/>
            <p:cNvCxnSpPr/>
            <p:nvPr/>
          </p:nvCxnSpPr>
          <p:spPr>
            <a:xfrm flipV="1">
              <a:off x="4414680" y="449964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Прямая со стрелкой 33"/>
            <p:cNvCxnSpPr/>
            <p:nvPr/>
          </p:nvCxnSpPr>
          <p:spPr>
            <a:xfrm>
              <a:off x="3200400" y="585792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5" name="TextBox 34"/>
            <p:cNvSpPr/>
            <p:nvPr/>
          </p:nvSpPr>
          <p:spPr>
            <a:xfrm>
              <a:off x="4074120" y="4429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5"/>
            <p:cNvSpPr/>
            <p:nvPr/>
          </p:nvSpPr>
          <p:spPr>
            <a:xfrm>
              <a:off x="5560200" y="5929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36"/>
            <p:cNvSpPr/>
            <p:nvPr/>
          </p:nvSpPr>
          <p:spPr>
            <a:xfrm>
              <a:off x="4132080" y="585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Группа 37"/>
          <p:cNvGrpSpPr/>
          <p:nvPr/>
        </p:nvGrpSpPr>
        <p:grpSpPr>
          <a:xfrm>
            <a:off x="6200640" y="4429080"/>
            <a:ext cx="2655000" cy="2142720"/>
            <a:chOff x="6200640" y="4429080"/>
            <a:chExt cx="2655000" cy="2142720"/>
          </a:xfrm>
        </p:grpSpPr>
        <p:cxnSp>
          <p:nvCxnSpPr>
            <p:cNvPr id="209" name="Прямая со стрелкой 38"/>
            <p:cNvCxnSpPr/>
            <p:nvPr/>
          </p:nvCxnSpPr>
          <p:spPr>
            <a:xfrm flipV="1">
              <a:off x="7414920" y="4499640"/>
              <a:ext cx="2160" cy="20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Прямая со стрелкой 39"/>
            <p:cNvCxnSpPr/>
            <p:nvPr/>
          </p:nvCxnSpPr>
          <p:spPr>
            <a:xfrm>
              <a:off x="6200640" y="5857920"/>
              <a:ext cx="2572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1" name="TextBox 40"/>
            <p:cNvSpPr/>
            <p:nvPr/>
          </p:nvSpPr>
          <p:spPr>
            <a:xfrm>
              <a:off x="7488720" y="4429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41"/>
            <p:cNvSpPr/>
            <p:nvPr/>
          </p:nvSpPr>
          <p:spPr>
            <a:xfrm>
              <a:off x="8560440" y="5929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42"/>
            <p:cNvSpPr/>
            <p:nvPr/>
          </p:nvSpPr>
          <p:spPr>
            <a:xfrm>
              <a:off x="7132320" y="585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Группа 46"/>
          <p:cNvGrpSpPr/>
          <p:nvPr/>
        </p:nvGrpSpPr>
        <p:grpSpPr>
          <a:xfrm>
            <a:off x="74880" y="1643040"/>
            <a:ext cx="2711160" cy="368280"/>
            <a:chOff x="74880" y="1643040"/>
            <a:chExt cx="2711160" cy="368280"/>
          </a:xfrm>
        </p:grpSpPr>
        <p:sp>
          <p:nvSpPr>
            <p:cNvPr id="215" name="Прямая соединительная линия 44"/>
            <p:cNvSpPr/>
            <p:nvPr/>
          </p:nvSpPr>
          <p:spPr>
            <a:xfrm>
              <a:off x="428400" y="2001240"/>
              <a:ext cx="235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45"/>
            <p:cNvSpPr/>
            <p:nvPr/>
          </p:nvSpPr>
          <p:spPr>
            <a:xfrm>
              <a:off x="74880" y="16430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Группа 47"/>
          <p:cNvGrpSpPr/>
          <p:nvPr/>
        </p:nvGrpSpPr>
        <p:grpSpPr>
          <a:xfrm>
            <a:off x="3218400" y="1643040"/>
            <a:ext cx="2710800" cy="368280"/>
            <a:chOff x="3218400" y="1643040"/>
            <a:chExt cx="2710800" cy="368280"/>
          </a:xfrm>
        </p:grpSpPr>
        <p:sp>
          <p:nvSpPr>
            <p:cNvPr id="218" name="Прямая соединительная линия 48"/>
            <p:cNvSpPr/>
            <p:nvPr/>
          </p:nvSpPr>
          <p:spPr>
            <a:xfrm>
              <a:off x="3571920" y="2001240"/>
              <a:ext cx="235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49"/>
            <p:cNvSpPr/>
            <p:nvPr/>
          </p:nvSpPr>
          <p:spPr>
            <a:xfrm>
              <a:off x="3218400" y="16430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Группа 50"/>
          <p:cNvGrpSpPr/>
          <p:nvPr/>
        </p:nvGrpSpPr>
        <p:grpSpPr>
          <a:xfrm>
            <a:off x="6075720" y="1643040"/>
            <a:ext cx="2711160" cy="368280"/>
            <a:chOff x="6075720" y="1643040"/>
            <a:chExt cx="2711160" cy="368280"/>
          </a:xfrm>
        </p:grpSpPr>
        <p:sp>
          <p:nvSpPr>
            <p:cNvPr id="221" name="Прямая соединительная линия 51"/>
            <p:cNvSpPr/>
            <p:nvPr/>
          </p:nvSpPr>
          <p:spPr>
            <a:xfrm>
              <a:off x="6429240" y="2001240"/>
              <a:ext cx="235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52"/>
            <p:cNvSpPr/>
            <p:nvPr/>
          </p:nvSpPr>
          <p:spPr>
            <a:xfrm>
              <a:off x="6075720" y="16430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Полилиния 53"/>
          <p:cNvSpPr/>
          <p:nvPr/>
        </p:nvSpPr>
        <p:spPr>
          <a:xfrm>
            <a:off x="609480" y="1670040"/>
            <a:ext cx="2146320" cy="1251000"/>
          </a:xfrm>
          <a:custGeom>
            <a:avLst/>
            <a:gdLst/>
            <a:ahLst/>
            <a:rect l="l" t="t" r="r" b="b"/>
            <a:pathLst>
              <a:path w="2146300" h="1251479">
                <a:moveTo>
                  <a:pt x="0" y="1251479"/>
                </a:moveTo>
                <a:cubicBezTo>
                  <a:pt x="86145" y="900115"/>
                  <a:pt x="715434" y="0"/>
                  <a:pt x="962004" y="44967"/>
                </a:cubicBezTo>
                <a:cubicBezTo>
                  <a:pt x="1184804" y="23284"/>
                  <a:pt x="1299141" y="176763"/>
                  <a:pt x="1549400" y="222779"/>
                </a:cubicBezTo>
                <a:cubicBezTo>
                  <a:pt x="1923537" y="268827"/>
                  <a:pt x="2021946" y="252942"/>
                  <a:pt x="2146300" y="260879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олилиния 54"/>
          <p:cNvSpPr/>
          <p:nvPr/>
        </p:nvSpPr>
        <p:spPr>
          <a:xfrm>
            <a:off x="3695760" y="2073240"/>
            <a:ext cx="2095560" cy="873000"/>
          </a:xfrm>
          <a:custGeom>
            <a:avLst/>
            <a:gdLst/>
            <a:ahLst/>
            <a:rect l="l" t="t" r="r" b="b"/>
            <a:pathLst>
              <a:path w="2095500" h="873663">
                <a:moveTo>
                  <a:pt x="0" y="873663"/>
                </a:moveTo>
                <a:cubicBezTo>
                  <a:pt x="177805" y="543994"/>
                  <a:pt x="309564" y="279409"/>
                  <a:pt x="733424" y="141817"/>
                </a:cubicBezTo>
                <a:cubicBezTo>
                  <a:pt x="1082674" y="0"/>
                  <a:pt x="1811734" y="47566"/>
                  <a:pt x="2095500" y="22763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олилиния 55"/>
          <p:cNvSpPr/>
          <p:nvPr/>
        </p:nvSpPr>
        <p:spPr>
          <a:xfrm>
            <a:off x="6500880" y="1535040"/>
            <a:ext cx="2500200" cy="1449360"/>
          </a:xfrm>
          <a:custGeom>
            <a:avLst/>
            <a:gdLst/>
            <a:ahLst/>
            <a:rect l="l" t="t" r="r" b="b"/>
            <a:pathLst>
              <a:path w="2500330" h="1448873">
                <a:moveTo>
                  <a:pt x="0" y="1448873"/>
                </a:moveTo>
                <a:cubicBezTo>
                  <a:pt x="77377" y="1078326"/>
                  <a:pt x="535785" y="128590"/>
                  <a:pt x="714380" y="35985"/>
                </a:cubicBezTo>
                <a:cubicBezTo>
                  <a:pt x="871015" y="0"/>
                  <a:pt x="888125" y="906311"/>
                  <a:pt x="1071570" y="893241"/>
                </a:cubicBezTo>
                <a:cubicBezTo>
                  <a:pt x="1183535" y="908760"/>
                  <a:pt x="1195905" y="133363"/>
                  <a:pt x="1285884" y="178861"/>
                </a:cubicBezTo>
                <a:cubicBezTo>
                  <a:pt x="1371056" y="133896"/>
                  <a:pt x="1364181" y="828689"/>
                  <a:pt x="1428760" y="750365"/>
                </a:cubicBezTo>
                <a:cubicBezTo>
                  <a:pt x="1507557" y="829228"/>
                  <a:pt x="1547272" y="277297"/>
                  <a:pt x="1643074" y="321737"/>
                </a:cubicBezTo>
                <a:cubicBezTo>
                  <a:pt x="1719776" y="299525"/>
                  <a:pt x="1727454" y="751959"/>
                  <a:pt x="1785950" y="678927"/>
                </a:cubicBezTo>
                <a:cubicBezTo>
                  <a:pt x="1858682" y="739262"/>
                  <a:pt x="1860275" y="365932"/>
                  <a:pt x="1928826" y="393175"/>
                </a:cubicBezTo>
                <a:cubicBezTo>
                  <a:pt x="1978301" y="377566"/>
                  <a:pt x="2044677" y="650369"/>
                  <a:pt x="2082800" y="585273"/>
                </a:cubicBezTo>
                <a:cubicBezTo>
                  <a:pt x="2149443" y="582109"/>
                  <a:pt x="2144990" y="544255"/>
                  <a:pt x="2214578" y="536051"/>
                </a:cubicBezTo>
                <a:cubicBezTo>
                  <a:pt x="2284166" y="527847"/>
                  <a:pt x="2462195" y="523363"/>
                  <a:pt x="2500330" y="536051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6"/>
          <p:cNvSpPr/>
          <p:nvPr/>
        </p:nvSpPr>
        <p:spPr>
          <a:xfrm>
            <a:off x="3048480" y="357192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клонные асимп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Группа 60"/>
          <p:cNvGrpSpPr/>
          <p:nvPr/>
        </p:nvGrpSpPr>
        <p:grpSpPr>
          <a:xfrm>
            <a:off x="428760" y="4518000"/>
            <a:ext cx="2480760" cy="1982880"/>
            <a:chOff x="428760" y="4518000"/>
            <a:chExt cx="2480760" cy="1982880"/>
          </a:xfrm>
        </p:grpSpPr>
        <p:sp>
          <p:nvSpPr>
            <p:cNvPr id="228" name="Прямая соединительная линия 58"/>
            <p:cNvSpPr/>
            <p:nvPr/>
          </p:nvSpPr>
          <p:spPr>
            <a:xfrm flipV="1">
              <a:off x="428760" y="4572000"/>
              <a:ext cx="2143800" cy="1928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9"/>
            <p:cNvSpPr/>
            <p:nvPr/>
          </p:nvSpPr>
          <p:spPr>
            <a:xfrm rot="19069200">
              <a:off x="1854720" y="482904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74"/>
          <p:cNvGrpSpPr/>
          <p:nvPr/>
        </p:nvGrpSpPr>
        <p:grpSpPr>
          <a:xfrm>
            <a:off x="5717880" y="4572000"/>
            <a:ext cx="2711880" cy="2211120"/>
            <a:chOff x="5717880" y="4572000"/>
            <a:chExt cx="2711880" cy="2211120"/>
          </a:xfrm>
        </p:grpSpPr>
        <p:sp>
          <p:nvSpPr>
            <p:cNvPr id="231" name="Прямая соединительная линия 62"/>
            <p:cNvSpPr/>
            <p:nvPr/>
          </p:nvSpPr>
          <p:spPr>
            <a:xfrm flipV="1">
              <a:off x="6286320" y="4572000"/>
              <a:ext cx="2143440" cy="1928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63"/>
            <p:cNvSpPr/>
            <p:nvPr/>
          </p:nvSpPr>
          <p:spPr>
            <a:xfrm rot="19069200">
              <a:off x="5702760" y="610344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Группа 76"/>
          <p:cNvGrpSpPr/>
          <p:nvPr/>
        </p:nvGrpSpPr>
        <p:grpSpPr>
          <a:xfrm>
            <a:off x="3051000" y="4221360"/>
            <a:ext cx="3359160" cy="2636280"/>
            <a:chOff x="3051000" y="4221360"/>
            <a:chExt cx="3359160" cy="2636280"/>
          </a:xfrm>
        </p:grpSpPr>
        <p:grpSp>
          <p:nvGrpSpPr>
            <p:cNvPr id="234" name="Группа 72"/>
            <p:cNvGrpSpPr/>
            <p:nvPr/>
          </p:nvGrpSpPr>
          <p:grpSpPr>
            <a:xfrm>
              <a:off x="3051000" y="4221360"/>
              <a:ext cx="2207160" cy="2279880"/>
              <a:chOff x="3051000" y="4221360"/>
              <a:chExt cx="2207160" cy="2279880"/>
            </a:xfrm>
          </p:grpSpPr>
          <p:sp>
            <p:nvSpPr>
              <p:cNvPr id="235" name="Прямая соединительная линия 65"/>
              <p:cNvSpPr/>
              <p:nvPr/>
            </p:nvSpPr>
            <p:spPr>
              <a:xfrm flipV="1">
                <a:off x="3051000" y="4572360"/>
                <a:ext cx="2143440" cy="19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66"/>
              <p:cNvSpPr/>
              <p:nvPr/>
            </p:nvSpPr>
            <p:spPr>
              <a:xfrm rot="19069200">
                <a:off x="4203360" y="4532400"/>
                <a:ext cx="106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kx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Группа 67"/>
            <p:cNvGrpSpPr/>
            <p:nvPr/>
          </p:nvGrpSpPr>
          <p:grpSpPr>
            <a:xfrm>
              <a:off x="3929400" y="4875120"/>
              <a:ext cx="2480760" cy="1982520"/>
              <a:chOff x="3929400" y="4875120"/>
              <a:chExt cx="2480760" cy="1982520"/>
            </a:xfrm>
          </p:grpSpPr>
          <p:sp>
            <p:nvSpPr>
              <p:cNvPr id="238" name="Прямая соединительная линия 68"/>
              <p:cNvSpPr/>
              <p:nvPr/>
            </p:nvSpPr>
            <p:spPr>
              <a:xfrm flipV="1">
                <a:off x="3929400" y="4929120"/>
                <a:ext cx="2143440" cy="192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Box 69"/>
              <p:cNvSpPr/>
              <p:nvPr/>
            </p:nvSpPr>
            <p:spPr>
              <a:xfrm rot="19069200">
                <a:off x="5355360" y="5186160"/>
                <a:ext cx="106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x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Полилиния 70"/>
          <p:cNvSpPr/>
          <p:nvPr/>
        </p:nvSpPr>
        <p:spPr>
          <a:xfrm>
            <a:off x="357120" y="4500720"/>
            <a:ext cx="2143080" cy="2214360"/>
          </a:xfrm>
          <a:custGeom>
            <a:avLst/>
            <a:gdLst/>
            <a:ahLst/>
            <a:rect l="l" t="t" r="r" b="b"/>
            <a:pathLst>
              <a:path w="2143140" h="2214578">
                <a:moveTo>
                  <a:pt x="0" y="2214578"/>
                </a:moveTo>
                <a:lnTo>
                  <a:pt x="551543" y="1697030"/>
                </a:lnTo>
                <a:cubicBezTo>
                  <a:pt x="734583" y="1489651"/>
                  <a:pt x="685371" y="1084543"/>
                  <a:pt x="783771" y="913259"/>
                </a:cubicBezTo>
                <a:cubicBezTo>
                  <a:pt x="1060548" y="540865"/>
                  <a:pt x="1442582" y="586497"/>
                  <a:pt x="1669143" y="434287"/>
                </a:cubicBezTo>
                <a:cubicBezTo>
                  <a:pt x="1765076" y="349811"/>
                  <a:pt x="2044391" y="90476"/>
                  <a:pt x="214314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олилиния 71"/>
          <p:cNvSpPr/>
          <p:nvPr/>
        </p:nvSpPr>
        <p:spPr>
          <a:xfrm>
            <a:off x="3857760" y="4541760"/>
            <a:ext cx="1454040" cy="2244960"/>
          </a:xfrm>
          <a:custGeom>
            <a:avLst/>
            <a:gdLst/>
            <a:ahLst/>
            <a:rect l="l" t="t" r="r" b="b"/>
            <a:pathLst>
              <a:path w="1454608" h="2245538">
                <a:moveTo>
                  <a:pt x="0" y="2245538"/>
                </a:moveTo>
                <a:lnTo>
                  <a:pt x="428627" y="1745471"/>
                </a:lnTo>
                <a:cubicBezTo>
                  <a:pt x="695329" y="1435889"/>
                  <a:pt x="576267" y="964401"/>
                  <a:pt x="785817" y="673901"/>
                </a:cubicBezTo>
                <a:lnTo>
                  <a:pt x="1454608" y="0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олилиния 75"/>
          <p:cNvSpPr/>
          <p:nvPr/>
        </p:nvSpPr>
        <p:spPr>
          <a:xfrm>
            <a:off x="6715080" y="4500720"/>
            <a:ext cx="1857600" cy="2286000"/>
          </a:xfrm>
          <a:custGeom>
            <a:avLst/>
            <a:gdLst/>
            <a:ahLst/>
            <a:rect l="l" t="t" r="r" b="b"/>
            <a:pathLst>
              <a:path w="1857389" h="2286016">
                <a:moveTo>
                  <a:pt x="0" y="2286016"/>
                </a:moveTo>
                <a:cubicBezTo>
                  <a:pt x="10773" y="1924334"/>
                  <a:pt x="109391" y="874353"/>
                  <a:pt x="440403" y="710059"/>
                </a:cubicBezTo>
                <a:cubicBezTo>
                  <a:pt x="644189" y="745652"/>
                  <a:pt x="953599" y="1292352"/>
                  <a:pt x="1071571" y="1214446"/>
                </a:cubicBezTo>
                <a:cubicBezTo>
                  <a:pt x="1135577" y="1167258"/>
                  <a:pt x="734133" y="643612"/>
                  <a:pt x="857257" y="571504"/>
                </a:cubicBezTo>
                <a:cubicBezTo>
                  <a:pt x="885811" y="456143"/>
                  <a:pt x="1192712" y="800625"/>
                  <a:pt x="1238689" y="724573"/>
                </a:cubicBezTo>
                <a:cubicBezTo>
                  <a:pt x="1311459" y="718625"/>
                  <a:pt x="1083719" y="365042"/>
                  <a:pt x="1143009" y="357190"/>
                </a:cubicBezTo>
                <a:cubicBezTo>
                  <a:pt x="1181714" y="308809"/>
                  <a:pt x="1385879" y="561100"/>
                  <a:pt x="1428761" y="500066"/>
                </a:cubicBezTo>
                <a:cubicBezTo>
                  <a:pt x="1486112" y="442754"/>
                  <a:pt x="1252207" y="258225"/>
                  <a:pt x="1357323" y="214314"/>
                </a:cubicBezTo>
                <a:cubicBezTo>
                  <a:pt x="1419503" y="156091"/>
                  <a:pt x="1515593" y="341986"/>
                  <a:pt x="1587031" y="318173"/>
                </a:cubicBezTo>
                <a:cubicBezTo>
                  <a:pt x="1645764" y="312615"/>
                  <a:pt x="1676518" y="222073"/>
                  <a:pt x="1709724" y="180968"/>
                </a:cubicBezTo>
                <a:cubicBezTo>
                  <a:pt x="1790448" y="49343"/>
                  <a:pt x="1711307" y="142073"/>
                  <a:pt x="1857389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3"/>
          <p:cNvGraphicFramePr/>
          <p:nvPr/>
        </p:nvGraphicFramePr>
        <p:xfrm>
          <a:off x="785880" y="428760"/>
          <a:ext cx="2062080" cy="100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428760"/>
                    <a:ext cx="20620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Группа 13"/>
          <p:cNvGrpSpPr/>
          <p:nvPr/>
        </p:nvGrpSpPr>
        <p:grpSpPr>
          <a:xfrm>
            <a:off x="214200" y="1571760"/>
            <a:ext cx="8643960" cy="4483080"/>
            <a:chOff x="214200" y="1571760"/>
            <a:chExt cx="8643960" cy="4483080"/>
          </a:xfrm>
        </p:grpSpPr>
        <p:sp>
          <p:nvSpPr>
            <p:cNvPr id="246" name="TextBox 4"/>
            <p:cNvSpPr/>
            <p:nvPr/>
          </p:nvSpPr>
          <p:spPr>
            <a:xfrm>
              <a:off x="214200" y="1571760"/>
              <a:ext cx="86439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рни              - вертикальные асимптоты графика функции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             , то график имеет горизонтальную асимптоту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             , то график имеет горизонтальную асимптоту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                 , то график имеет наклонную асимптот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ли                   , то график не имеет наклонных и горизонтальных асимптот</a:t>
              </a:r>
              <a:br>
                <a:rPr sz="2400"/>
              </a:b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7" name="Object 5"/>
            <p:cNvGraphicFramePr/>
            <p:nvPr/>
          </p:nvGraphicFramePr>
          <p:xfrm>
            <a:off x="7705800" y="1928880"/>
            <a:ext cx="795240" cy="47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05800" y="1928880"/>
                      <a:ext cx="795240" cy="47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9" name="Object 6"/>
            <p:cNvGraphicFramePr/>
            <p:nvPr/>
          </p:nvGraphicFramePr>
          <p:xfrm>
            <a:off x="1571400" y="3175200"/>
            <a:ext cx="912600" cy="32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71400" y="3175200"/>
                      <a:ext cx="91260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Object 7"/>
            <p:cNvGraphicFramePr/>
            <p:nvPr/>
          </p:nvGraphicFramePr>
          <p:xfrm>
            <a:off x="1587240" y="2389320"/>
            <a:ext cx="912600" cy="325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2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87240" y="2389320"/>
                      <a:ext cx="91260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8"/>
            <p:cNvGraphicFramePr/>
            <p:nvPr/>
          </p:nvGraphicFramePr>
          <p:xfrm>
            <a:off x="1500120" y="4143600"/>
            <a:ext cx="1323720" cy="414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4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00120" y="4143600"/>
                      <a:ext cx="13237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9"/>
            <p:cNvGraphicFramePr/>
            <p:nvPr/>
          </p:nvGraphicFramePr>
          <p:xfrm>
            <a:off x="1571400" y="4572000"/>
            <a:ext cx="1325520" cy="412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6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571400" y="4572000"/>
                      <a:ext cx="132552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0"/>
            <p:cNvGraphicFramePr/>
            <p:nvPr/>
          </p:nvGraphicFramePr>
          <p:xfrm>
            <a:off x="7500960" y="2714760"/>
            <a:ext cx="823680" cy="474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8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00960" y="2714760"/>
                      <a:ext cx="823680" cy="47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9" name="Object 11"/>
            <p:cNvGraphicFramePr/>
            <p:nvPr/>
          </p:nvGraphicFramePr>
          <p:xfrm>
            <a:off x="6929280" y="3327480"/>
            <a:ext cx="1384200" cy="887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60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929280" y="3327480"/>
                      <a:ext cx="1384200" cy="8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" name="Object 12"/>
            <p:cNvGraphicFramePr/>
            <p:nvPr/>
          </p:nvGraphicFramePr>
          <p:xfrm>
            <a:off x="1642680" y="1571760"/>
            <a:ext cx="971280" cy="531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2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642680" y="1571760"/>
                      <a:ext cx="971280" cy="5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Группа 12"/>
          <p:cNvGrpSpPr/>
          <p:nvPr/>
        </p:nvGrpSpPr>
        <p:grpSpPr>
          <a:xfrm>
            <a:off x="571320" y="1143000"/>
            <a:ext cx="4869720" cy="511200"/>
            <a:chOff x="571320" y="1143000"/>
            <a:chExt cx="4869720" cy="511200"/>
          </a:xfrm>
        </p:grpSpPr>
        <p:cxnSp>
          <p:nvCxnSpPr>
            <p:cNvPr id="264" name="Прямая со стрелкой 3"/>
            <p:cNvCxnSpPr/>
            <p:nvPr/>
          </p:nvCxnSpPr>
          <p:spPr>
            <a:xfrm>
              <a:off x="571320" y="1214280"/>
              <a:ext cx="4786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5" name="TextBox 4"/>
            <p:cNvSpPr/>
            <p:nvPr/>
          </p:nvSpPr>
          <p:spPr>
            <a:xfrm>
              <a:off x="5145840" y="1285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6" name="Object 3"/>
            <p:cNvGraphicFramePr/>
            <p:nvPr/>
          </p:nvGraphicFramePr>
          <p:xfrm>
            <a:off x="3765600" y="1143000"/>
            <a:ext cx="545760" cy="47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65600" y="1143000"/>
                      <a:ext cx="545760" cy="4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8" name="Object 4"/>
            <p:cNvGraphicFramePr/>
            <p:nvPr/>
          </p:nvGraphicFramePr>
          <p:xfrm>
            <a:off x="1500120" y="1143000"/>
            <a:ext cx="504720" cy="47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9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00120" y="1143000"/>
                      <a:ext cx="504720" cy="4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0" name="Группа 17"/>
          <p:cNvGrpSpPr/>
          <p:nvPr/>
        </p:nvGrpSpPr>
        <p:grpSpPr>
          <a:xfrm>
            <a:off x="642600" y="2928960"/>
            <a:ext cx="4798440" cy="971640"/>
            <a:chOff x="642600" y="2928960"/>
            <a:chExt cx="4798440" cy="971640"/>
          </a:xfrm>
        </p:grpSpPr>
        <p:graphicFrame>
          <p:nvGraphicFramePr>
            <p:cNvPr id="271" name="Object 5"/>
            <p:cNvGraphicFramePr/>
            <p:nvPr/>
          </p:nvGraphicFramePr>
          <p:xfrm>
            <a:off x="1479600" y="3429000"/>
            <a:ext cx="54756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2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79600" y="3429000"/>
                      <a:ext cx="54756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" name="Object 7"/>
            <p:cNvGraphicFramePr/>
            <p:nvPr/>
          </p:nvGraphicFramePr>
          <p:xfrm>
            <a:off x="3622680" y="2928960"/>
            <a:ext cx="546120" cy="47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4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22680" y="2928960"/>
                      <a:ext cx="54612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75" name="Прямая со стрелкой 14"/>
            <p:cNvCxnSpPr/>
            <p:nvPr/>
          </p:nvCxnSpPr>
          <p:spPr>
            <a:xfrm>
              <a:off x="642600" y="3429000"/>
              <a:ext cx="4715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TextBox 15"/>
            <p:cNvSpPr/>
            <p:nvPr/>
          </p:nvSpPr>
          <p:spPr>
            <a:xfrm>
              <a:off x="5145840" y="350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Группа 22"/>
          <p:cNvGrpSpPr/>
          <p:nvPr/>
        </p:nvGrpSpPr>
        <p:grpSpPr>
          <a:xfrm>
            <a:off x="571680" y="5715000"/>
            <a:ext cx="4869360" cy="511200"/>
            <a:chOff x="571680" y="5715000"/>
            <a:chExt cx="4869360" cy="511200"/>
          </a:xfrm>
        </p:grpSpPr>
        <p:graphicFrame>
          <p:nvGraphicFramePr>
            <p:cNvPr id="278" name="Object 6"/>
            <p:cNvGraphicFramePr/>
            <p:nvPr/>
          </p:nvGraphicFramePr>
          <p:xfrm>
            <a:off x="1336680" y="5715000"/>
            <a:ext cx="547560" cy="47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9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36680" y="5715000"/>
                      <a:ext cx="547560" cy="4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Object 8"/>
            <p:cNvGraphicFramePr/>
            <p:nvPr/>
          </p:nvGraphicFramePr>
          <p:xfrm>
            <a:off x="3837240" y="5715000"/>
            <a:ext cx="545760" cy="471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1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37240" y="5715000"/>
                      <a:ext cx="545760" cy="4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82" name="Прямая со стрелкой 19"/>
            <p:cNvCxnSpPr/>
            <p:nvPr/>
          </p:nvCxnSpPr>
          <p:spPr>
            <a:xfrm>
              <a:off x="571680" y="5786280"/>
              <a:ext cx="4858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3" name="TextBox 21"/>
            <p:cNvSpPr/>
            <p:nvPr/>
          </p:nvSpPr>
          <p:spPr>
            <a:xfrm>
              <a:off x="5145840" y="5857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Полилиния 23"/>
          <p:cNvSpPr/>
          <p:nvPr/>
        </p:nvSpPr>
        <p:spPr>
          <a:xfrm>
            <a:off x="1143000" y="696960"/>
            <a:ext cx="900000" cy="1073160"/>
          </a:xfrm>
          <a:custGeom>
            <a:avLst/>
            <a:gdLst/>
            <a:ahLst/>
            <a:rect l="l" t="t" r="r" b="b"/>
            <a:pathLst>
              <a:path w="899886" h="1074057">
                <a:moveTo>
                  <a:pt x="0" y="1074057"/>
                </a:moveTo>
                <a:cubicBezTo>
                  <a:pt x="119083" y="826718"/>
                  <a:pt x="271482" y="646040"/>
                  <a:pt x="500066" y="517736"/>
                </a:cubicBezTo>
                <a:cubicBezTo>
                  <a:pt x="707212" y="386369"/>
                  <a:pt x="850763" y="241773"/>
                  <a:pt x="899886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олилиния 24"/>
          <p:cNvSpPr/>
          <p:nvPr/>
        </p:nvSpPr>
        <p:spPr>
          <a:xfrm>
            <a:off x="3714840" y="696960"/>
            <a:ext cx="973080" cy="1058760"/>
          </a:xfrm>
          <a:custGeom>
            <a:avLst/>
            <a:gdLst/>
            <a:ahLst/>
            <a:rect l="l" t="t" r="r" b="b"/>
            <a:pathLst>
              <a:path w="972458" h="1059543">
                <a:moveTo>
                  <a:pt x="0" y="0"/>
                </a:moveTo>
                <a:cubicBezTo>
                  <a:pt x="106893" y="255152"/>
                  <a:pt x="237596" y="381697"/>
                  <a:pt x="406400" y="522514"/>
                </a:cubicBezTo>
                <a:cubicBezTo>
                  <a:pt x="617536" y="640836"/>
                  <a:pt x="942367" y="884326"/>
                  <a:pt x="972458" y="1059543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олилиния 25"/>
          <p:cNvSpPr/>
          <p:nvPr/>
        </p:nvSpPr>
        <p:spPr>
          <a:xfrm>
            <a:off x="928800" y="2714760"/>
            <a:ext cx="1417680" cy="714240"/>
          </a:xfrm>
          <a:custGeom>
            <a:avLst/>
            <a:gdLst/>
            <a:ahLst/>
            <a:rect l="l" t="t" r="r" b="b"/>
            <a:pathLst>
              <a:path w="1417173" h="714830">
                <a:moveTo>
                  <a:pt x="0" y="0"/>
                </a:moveTo>
                <a:cubicBezTo>
                  <a:pt x="86884" y="134040"/>
                  <a:pt x="176103" y="505205"/>
                  <a:pt x="417041" y="643391"/>
                </a:cubicBezTo>
                <a:cubicBezTo>
                  <a:pt x="476058" y="703943"/>
                  <a:pt x="620545" y="714829"/>
                  <a:pt x="702793" y="714829"/>
                </a:cubicBezTo>
                <a:cubicBezTo>
                  <a:pt x="785041" y="714829"/>
                  <a:pt x="882225" y="714830"/>
                  <a:pt x="986971" y="638629"/>
                </a:cubicBezTo>
                <a:cubicBezTo>
                  <a:pt x="1206059" y="538618"/>
                  <a:pt x="1327548" y="133403"/>
                  <a:pt x="1417173" y="449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олилиния 26"/>
          <p:cNvSpPr/>
          <p:nvPr/>
        </p:nvSpPr>
        <p:spPr>
          <a:xfrm>
            <a:off x="3214800" y="3427560"/>
            <a:ext cx="1239840" cy="787320"/>
          </a:xfrm>
          <a:custGeom>
            <a:avLst/>
            <a:gdLst/>
            <a:ahLst/>
            <a:rect l="l" t="t" r="r" b="b"/>
            <a:pathLst>
              <a:path w="1239161" h="786792">
                <a:moveTo>
                  <a:pt x="0" y="786792"/>
                </a:moveTo>
                <a:cubicBezTo>
                  <a:pt x="45248" y="417693"/>
                  <a:pt x="145110" y="283395"/>
                  <a:pt x="285752" y="143850"/>
                </a:cubicBezTo>
                <a:cubicBezTo>
                  <a:pt x="403457" y="14733"/>
                  <a:pt x="512161" y="0"/>
                  <a:pt x="629561" y="1889"/>
                </a:cubicBezTo>
                <a:cubicBezTo>
                  <a:pt x="738796" y="6346"/>
                  <a:pt x="943281" y="77480"/>
                  <a:pt x="1000132" y="143850"/>
                </a:cubicBezTo>
                <a:cubicBezTo>
                  <a:pt x="1187227" y="341077"/>
                  <a:pt x="1231144" y="622748"/>
                  <a:pt x="1239161" y="78566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олилиния 27"/>
          <p:cNvSpPr/>
          <p:nvPr/>
        </p:nvSpPr>
        <p:spPr>
          <a:xfrm>
            <a:off x="714240" y="5224320"/>
            <a:ext cx="1792440" cy="1133640"/>
          </a:xfrm>
          <a:custGeom>
            <a:avLst/>
            <a:gdLst/>
            <a:ahLst/>
            <a:rect l="l" t="t" r="r" b="b"/>
            <a:pathLst>
              <a:path w="1792310" h="1132815">
                <a:moveTo>
                  <a:pt x="0" y="1132815"/>
                </a:moveTo>
                <a:cubicBezTo>
                  <a:pt x="21541" y="1034592"/>
                  <a:pt x="149478" y="835135"/>
                  <a:pt x="357190" y="704187"/>
                </a:cubicBezTo>
                <a:cubicBezTo>
                  <a:pt x="545440" y="578874"/>
                  <a:pt x="749630" y="605233"/>
                  <a:pt x="928694" y="561311"/>
                </a:cubicBezTo>
                <a:cubicBezTo>
                  <a:pt x="1056903" y="529863"/>
                  <a:pt x="1424614" y="503162"/>
                  <a:pt x="1560081" y="406400"/>
                </a:cubicBezTo>
                <a:cubicBezTo>
                  <a:pt x="1634629" y="364733"/>
                  <a:pt x="1724900" y="270378"/>
                  <a:pt x="1792310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олилиния 28"/>
          <p:cNvSpPr/>
          <p:nvPr/>
        </p:nvSpPr>
        <p:spPr>
          <a:xfrm>
            <a:off x="3214800" y="5286240"/>
            <a:ext cx="1690560" cy="1055880"/>
          </a:xfrm>
          <a:custGeom>
            <a:avLst/>
            <a:gdLst/>
            <a:ahLst/>
            <a:rect l="l" t="t" r="r" b="b"/>
            <a:pathLst>
              <a:path w="1691371" h="1056355">
                <a:moveTo>
                  <a:pt x="0" y="0"/>
                </a:moveTo>
                <a:cubicBezTo>
                  <a:pt x="39331" y="267446"/>
                  <a:pt x="163325" y="339914"/>
                  <a:pt x="285752" y="428628"/>
                </a:cubicBezTo>
                <a:cubicBezTo>
                  <a:pt x="556761" y="525282"/>
                  <a:pt x="477292" y="482349"/>
                  <a:pt x="785818" y="500066"/>
                </a:cubicBezTo>
                <a:cubicBezTo>
                  <a:pt x="1092882" y="517699"/>
                  <a:pt x="1240636" y="510901"/>
                  <a:pt x="1357322" y="571504"/>
                </a:cubicBezTo>
                <a:cubicBezTo>
                  <a:pt x="1508248" y="664219"/>
                  <a:pt x="1676395" y="894637"/>
                  <a:pt x="1691371" y="1056355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9"/>
          <p:cNvGraphicFramePr/>
          <p:nvPr/>
        </p:nvGraphicFramePr>
        <p:xfrm>
          <a:off x="4714920" y="357120"/>
          <a:ext cx="777960" cy="500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1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14920" y="357120"/>
                    <a:ext cx="7779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10"/>
          <p:cNvGraphicFramePr/>
          <p:nvPr/>
        </p:nvGraphicFramePr>
        <p:xfrm>
          <a:off x="4773600" y="2214720"/>
          <a:ext cx="804960" cy="500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3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73600" y="2214720"/>
                    <a:ext cx="8049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1"/>
          <p:cNvGraphicFramePr/>
          <p:nvPr/>
        </p:nvGraphicFramePr>
        <p:xfrm>
          <a:off x="4500720" y="4643280"/>
          <a:ext cx="806400" cy="50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00720" y="4643280"/>
                    <a:ext cx="80640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Box 32"/>
          <p:cNvSpPr/>
          <p:nvPr/>
        </p:nvSpPr>
        <p:spPr>
          <a:xfrm>
            <a:off x="5439960" y="35712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ни первой кра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3"/>
          <p:cNvSpPr/>
          <p:nvPr/>
        </p:nvSpPr>
        <p:spPr>
          <a:xfrm>
            <a:off x="5511960" y="2214720"/>
            <a:ext cx="35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ни четной кра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4"/>
          <p:cNvSpPr/>
          <p:nvPr/>
        </p:nvSpPr>
        <p:spPr>
          <a:xfrm>
            <a:off x="5366520" y="46432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ни нечетной кра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олилиния 9"/>
          <p:cNvSpPr/>
          <p:nvPr/>
        </p:nvSpPr>
        <p:spPr>
          <a:xfrm>
            <a:off x="2643120" y="1214280"/>
            <a:ext cx="3857760" cy="3637080"/>
          </a:xfrm>
          <a:custGeom>
            <a:avLst/>
            <a:gdLst/>
            <a:ahLst/>
            <a:rect l="l" t="t" r="r" b="b"/>
            <a:pathLst>
              <a:path w="3857653" h="3636978">
                <a:moveTo>
                  <a:pt x="0" y="71438"/>
                </a:moveTo>
                <a:cubicBezTo>
                  <a:pt x="44649" y="220267"/>
                  <a:pt x="50021" y="369110"/>
                  <a:pt x="142877" y="785818"/>
                </a:cubicBezTo>
                <a:cubicBezTo>
                  <a:pt x="233378" y="1281128"/>
                  <a:pt x="281013" y="1452583"/>
                  <a:pt x="428629" y="1857388"/>
                </a:cubicBezTo>
                <a:cubicBezTo>
                  <a:pt x="561990" y="2312209"/>
                  <a:pt x="631036" y="2405079"/>
                  <a:pt x="714380" y="2571768"/>
                </a:cubicBezTo>
                <a:cubicBezTo>
                  <a:pt x="749260" y="2640825"/>
                  <a:pt x="788474" y="2745861"/>
                  <a:pt x="928694" y="2857520"/>
                </a:cubicBezTo>
                <a:cubicBezTo>
                  <a:pt x="1090096" y="2930013"/>
                  <a:pt x="1156500" y="2909908"/>
                  <a:pt x="1186133" y="2928958"/>
                </a:cubicBezTo>
                <a:cubicBezTo>
                  <a:pt x="1234816" y="2973674"/>
                  <a:pt x="1352822" y="3071834"/>
                  <a:pt x="1400447" y="3143272"/>
                </a:cubicBezTo>
                <a:cubicBezTo>
                  <a:pt x="1505225" y="3299900"/>
                  <a:pt x="1496492" y="3363670"/>
                  <a:pt x="1543323" y="3429024"/>
                </a:cubicBezTo>
                <a:cubicBezTo>
                  <a:pt x="1581687" y="3485911"/>
                  <a:pt x="1616349" y="3508400"/>
                  <a:pt x="1686199" y="3571900"/>
                </a:cubicBezTo>
                <a:cubicBezTo>
                  <a:pt x="1730649" y="3601533"/>
                  <a:pt x="1832780" y="3636978"/>
                  <a:pt x="1913213" y="3636978"/>
                </a:cubicBezTo>
                <a:cubicBezTo>
                  <a:pt x="2035980" y="3624798"/>
                  <a:pt x="2044976" y="3622142"/>
                  <a:pt x="2186265" y="3500462"/>
                </a:cubicBezTo>
                <a:cubicBezTo>
                  <a:pt x="2303212" y="3394365"/>
                  <a:pt x="2319614" y="3250422"/>
                  <a:pt x="2400579" y="3143272"/>
                </a:cubicBezTo>
                <a:cubicBezTo>
                  <a:pt x="2489479" y="3051989"/>
                  <a:pt x="2531549" y="2976583"/>
                  <a:pt x="2614893" y="2928958"/>
                </a:cubicBezTo>
                <a:cubicBezTo>
                  <a:pt x="2698237" y="2881333"/>
                  <a:pt x="2775225" y="2897202"/>
                  <a:pt x="2900645" y="2857520"/>
                </a:cubicBezTo>
                <a:cubicBezTo>
                  <a:pt x="3000564" y="2786078"/>
                  <a:pt x="3052863" y="2747979"/>
                  <a:pt x="3143272" y="2571768"/>
                </a:cubicBezTo>
                <a:cubicBezTo>
                  <a:pt x="3233262" y="2388960"/>
                  <a:pt x="3389571" y="2031529"/>
                  <a:pt x="3429025" y="1857388"/>
                </a:cubicBezTo>
                <a:cubicBezTo>
                  <a:pt x="3564746" y="1478772"/>
                  <a:pt x="3650694" y="1106766"/>
                  <a:pt x="3714777" y="785818"/>
                </a:cubicBezTo>
                <a:cubicBezTo>
                  <a:pt x="3812173" y="374933"/>
                  <a:pt x="3813283" y="141550"/>
                  <a:pt x="3857653" y="0"/>
                </a:cubicBezTo>
              </a:path>
            </a:pathLst>
          </a:cu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2"/>
          <p:cNvGraphicFramePr/>
          <p:nvPr/>
        </p:nvGraphicFramePr>
        <p:xfrm>
          <a:off x="857160" y="4943520"/>
          <a:ext cx="222084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4943520"/>
                    <a:ext cx="22208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2" name="Группа 12"/>
          <p:cNvGrpSpPr/>
          <p:nvPr/>
        </p:nvGrpSpPr>
        <p:grpSpPr>
          <a:xfrm>
            <a:off x="999720" y="571320"/>
            <a:ext cx="7156080" cy="5643720"/>
            <a:chOff x="999720" y="571320"/>
            <a:chExt cx="7156080" cy="5643720"/>
          </a:xfrm>
        </p:grpSpPr>
        <p:grpSp>
          <p:nvGrpSpPr>
            <p:cNvPr id="303" name="Группа 8"/>
            <p:cNvGrpSpPr/>
            <p:nvPr/>
          </p:nvGrpSpPr>
          <p:grpSpPr>
            <a:xfrm>
              <a:off x="999720" y="571320"/>
              <a:ext cx="7144560" cy="5643720"/>
              <a:chOff x="999720" y="571320"/>
              <a:chExt cx="7144560" cy="5643720"/>
            </a:xfrm>
          </p:grpSpPr>
          <p:cxnSp>
            <p:nvCxnSpPr>
              <p:cNvPr id="304" name="Прямая со стрелкой 2"/>
              <p:cNvCxnSpPr/>
              <p:nvPr/>
            </p:nvCxnSpPr>
            <p:spPr>
              <a:xfrm flipV="1">
                <a:off x="4570560" y="571320"/>
                <a:ext cx="2160" cy="5644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5" name="Прямая со стрелкой 4"/>
              <p:cNvCxnSpPr/>
              <p:nvPr/>
            </p:nvCxnSpPr>
            <p:spPr>
              <a:xfrm>
                <a:off x="999720" y="4141800"/>
                <a:ext cx="7144920" cy="3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6" name="TextBox 5"/>
              <p:cNvSpPr/>
              <p:nvPr/>
            </p:nvSpPr>
            <p:spPr>
              <a:xfrm>
                <a:off x="3503880" y="41425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Box 6"/>
              <p:cNvSpPr/>
              <p:nvPr/>
            </p:nvSpPr>
            <p:spPr>
              <a:xfrm>
                <a:off x="4503960" y="47142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Box 7"/>
              <p:cNvSpPr/>
              <p:nvPr/>
            </p:nvSpPr>
            <p:spPr>
              <a:xfrm>
                <a:off x="5075280" y="4143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Box 10"/>
            <p:cNvSpPr/>
            <p:nvPr/>
          </p:nvSpPr>
          <p:spPr>
            <a:xfrm>
              <a:off x="7860600" y="4214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1"/>
            <p:cNvSpPr/>
            <p:nvPr/>
          </p:nvSpPr>
          <p:spPr>
            <a:xfrm>
              <a:off x="4717080" y="642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12:58:39Z</dcterms:created>
  <dc:creator>alex</dc:creator>
  <dc:description/>
  <dc:language>en-US</dc:language>
  <cp:lastModifiedBy>alex</cp:lastModifiedBy>
  <dcterms:modified xsi:type="dcterms:W3CDTF">2014-12-06T13:16:18Z</dcterms:modified>
  <cp:revision>100</cp:revision>
  <dc:subject/>
  <dc:title>Слайд 1</dc:title>
</cp:coreProperties>
</file>