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A7E-8FE9-430E-A016-5334EA25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83B-BD43-4EFA-A8E7-07457552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621-7F6D-41E3-819F-EDBEE5D2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2FA-7014-4778-92AA-89D1FCCF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BFE-5051-42A1-838A-73C6096F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776-D2BE-43B4-A63B-20BE1DBD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F1B-9A7A-447C-97EA-4DE5758F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417-2F6B-4FDE-8C75-0AB6058A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F61-C1EE-4A17-8593-7213D2B1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624-C6E8-41A8-8954-F39CC039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178-2BDA-4549-8189-CB23B588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40E-FDF0-48F3-A3D1-813E08B7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F4E7-6358-4F18-A7B1-C179348224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скусство публичного выступле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Рисунок 7" descr="декабрь 2009 149.JPG"/>
          <p:cNvPicPr/>
          <p:nvPr/>
        </p:nvPicPr>
        <p:blipFill>
          <a:blip r:embed="rId1"/>
          <a:stretch/>
        </p:blipFill>
        <p:spPr>
          <a:xfrm>
            <a:off x="219240" y="3736800"/>
            <a:ext cx="2847960" cy="3060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3000240" y="428616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щерякова Любовь Владисла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1кв.ка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642960" y="28584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 развития ребёнка – детский сад № 11 «Росин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мён ты или глуп, велик ты или мал 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Не знаем мы пока ты слова не сказа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аад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71680" y="12859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тойкий  солдатик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Рисунок 8" descr="C:\Users\RoMaN\Desktop\stojkii.olovyannyi.soldatik.avi.image1.jpg"/>
          <p:cNvPicPr/>
          <p:nvPr/>
        </p:nvPicPr>
        <p:blipFill>
          <a:blip r:embed="rId1"/>
          <a:stretch/>
        </p:blipFill>
        <p:spPr>
          <a:xfrm>
            <a:off x="4937040" y="1652760"/>
            <a:ext cx="3780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23880" y="928800"/>
          <a:ext cx="6096240" cy="857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Выступлени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51" name="Прямая со стрелкой 15"/>
          <p:cNvCxnSpPr/>
          <p:nvPr/>
        </p:nvCxnSpPr>
        <p:spPr>
          <a:xfrm flipH="1">
            <a:off x="2428200" y="1785960"/>
            <a:ext cx="786600" cy="714960"/>
          </a:xfrm>
          <a:prstGeom prst="straightConnector1">
            <a:avLst/>
          </a:prstGeom>
          <a:ln w="25560">
            <a:solidFill>
              <a:srgbClr val="0099cc"/>
            </a:solidFill>
            <a:miter/>
            <a:tailEnd len="med" type="arrow" w="med"/>
          </a:ln>
        </p:spPr>
      </p:cxnSp>
      <p:cxnSp>
        <p:nvCxnSpPr>
          <p:cNvPr id="52" name="Прямая со стрелкой 20"/>
          <p:cNvCxnSpPr/>
          <p:nvPr/>
        </p:nvCxnSpPr>
        <p:spPr>
          <a:xfrm flipH="1">
            <a:off x="4214520" y="1785960"/>
            <a:ext cx="286560" cy="1929600"/>
          </a:xfrm>
          <a:prstGeom prst="straightConnector1">
            <a:avLst/>
          </a:prstGeom>
          <a:ln w="25560">
            <a:solidFill>
              <a:srgbClr val="0099cc"/>
            </a:solidFill>
            <a:miter/>
            <a:tailEnd len="med" type="arrow" w="med"/>
          </a:ln>
        </p:spPr>
      </p:cxnSp>
      <p:graphicFrame>
        <p:nvGraphicFramePr>
          <p:cNvPr id="53" name=""/>
          <p:cNvGraphicFramePr/>
          <p:nvPr/>
        </p:nvGraphicFramePr>
        <p:xfrm>
          <a:off x="2143080" y="3643200"/>
          <a:ext cx="3429000" cy="108756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b"/>
                          </a:solidFill>
                          <a:latin typeface="Times New Roman"/>
                          <a:ea typeface="Times New Roman"/>
                        </a:rPr>
                        <a:t>Увлекательная серед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57160" y="2500200"/>
          <a:ext cx="3286080" cy="94464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b"/>
                          </a:solidFill>
                          <a:latin typeface="Times New Roman"/>
                          <a:ea typeface="Times New Roman"/>
                        </a:rPr>
                        <a:t>Захватывающее нача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000760" y="5000760"/>
          <a:ext cx="3429000" cy="10872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b"/>
                          </a:solidFill>
                          <a:latin typeface="Times New Roman"/>
                          <a:ea typeface="Times New Roman"/>
                        </a:rPr>
                        <a:t>Сильное заверш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56" name="Прямая со стрелкой 35"/>
          <p:cNvCxnSpPr/>
          <p:nvPr/>
        </p:nvCxnSpPr>
        <p:spPr>
          <a:xfrm>
            <a:off x="5429160" y="1785960"/>
            <a:ext cx="1929600" cy="3215520"/>
          </a:xfrm>
          <a:prstGeom prst="straightConnector1">
            <a:avLst/>
          </a:prstGeom>
          <a:ln w="25560">
            <a:solidFill>
              <a:srgbClr val="0099cc"/>
            </a:solidFill>
            <a:miter/>
            <a:tailEnd len="med" type="arrow" w="med"/>
          </a:ln>
        </p:spPr>
      </p:cxn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/>
          <p:cNvSpPr/>
          <p:nvPr/>
        </p:nvSpPr>
        <p:spPr>
          <a:xfrm>
            <a:off x="357120" y="642960"/>
            <a:ext cx="84297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ёмы, способствующие удержанию вним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еофициа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ю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амат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нами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гля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ямое обращение к аудитории,   диалог с  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ование неожиданной           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Рисунок 6" descr="1208722185_ancient-greece-clipart.jpg"/>
          <p:cNvPicPr/>
          <p:nvPr/>
        </p:nvPicPr>
        <p:blipFill>
          <a:blip r:embed="rId1"/>
          <a:stretch/>
        </p:blipFill>
        <p:spPr>
          <a:xfrm>
            <a:off x="79200" y="1798560"/>
            <a:ext cx="2408400" cy="28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ческие навыки, позволяющие добиться успеха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837760" y="1984320"/>
            <a:ext cx="2276280" cy="13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положение рук   и жес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блако 4"/>
          <p:cNvSpPr/>
          <p:nvPr/>
        </p:nvSpPr>
        <p:spPr>
          <a:xfrm>
            <a:off x="5429160" y="4000680"/>
            <a:ext cx="3286080" cy="192852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сила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блако 5"/>
          <p:cNvSpPr/>
          <p:nvPr/>
        </p:nvSpPr>
        <p:spPr>
          <a:xfrm>
            <a:off x="2643120" y="4929120"/>
            <a:ext cx="2786040" cy="164304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контроль за дыха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Облако 6"/>
          <p:cNvSpPr/>
          <p:nvPr/>
        </p:nvSpPr>
        <p:spPr>
          <a:xfrm>
            <a:off x="857160" y="1785960"/>
            <a:ext cx="3571920" cy="1485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равновес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блако 7"/>
          <p:cNvSpPr/>
          <p:nvPr/>
        </p:nvSpPr>
        <p:spPr>
          <a:xfrm>
            <a:off x="438120" y="3652920"/>
            <a:ext cx="3571920" cy="1485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зрительный конта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49968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инное красноречие - это умение сказать все, что нужно, и не больше, чем нужн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рошфук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Рисунок 6" descr="75628993.jpg"/>
          <p:cNvPicPr/>
          <p:nvPr/>
        </p:nvPicPr>
        <p:blipFill>
          <a:blip r:embed="rId1"/>
          <a:stretch/>
        </p:blipFill>
        <p:spPr>
          <a:xfrm>
            <a:off x="642960" y="2071800"/>
            <a:ext cx="301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7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2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3:52:32Z</dcterms:created>
  <dc:creator>1</dc:creator>
  <dc:description/>
  <dc:language>en-US</dc:language>
  <cp:lastModifiedBy>RoMaN</cp:lastModifiedBy>
  <dcterms:modified xsi:type="dcterms:W3CDTF">2010-04-06T19:30:08Z</dcterms:modified>
  <cp:revision>23</cp:revision>
  <dc:subject/>
  <dc:title>С началом нового учебного года!</dc:title>
</cp:coreProperties>
</file>