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982-3883-486D-B977-501381CA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17E-A4B5-4D34-8F86-B0FA3FB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DE4-68E0-4996-8585-E93105A9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AC7-D0FE-40C3-A001-AD459F31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D62-D64F-4954-B56C-A5667AC7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846-FE68-4D1F-B34F-2F6AAB74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146-48F5-436F-9782-C0B9E43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638-7755-493B-ABC0-FEA24F5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445-42EA-4DE1-BC05-EC6DF536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F70-3553-47BF-A53D-5E30139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27A-A852-4A31-AAD3-C2B2C24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51E-D891-4D64-AC8D-471125F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EDE9-F58B-4BCD-B287-B79246E610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кусство публичного выступл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Рисунок 7" descr="декабрь 2009 149.JPG"/>
          <p:cNvPicPr/>
          <p:nvPr/>
        </p:nvPicPr>
        <p:blipFill>
          <a:blip r:embed="rId1"/>
          <a:stretch/>
        </p:blipFill>
        <p:spPr>
          <a:xfrm>
            <a:off x="219240" y="3736800"/>
            <a:ext cx="2847960" cy="3060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000240" y="42861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щерякова Любовь Владисла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1кв.к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42960" y="2858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 развития ребёнка – детский сад № 11 «Росин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ён ты или глуп, велик ты или мал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е знаем мы пока ты слова не сказа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аад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71680" y="12859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ойкий  солдати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Рисунок 8" descr="C:\Users\RoMaN\Desktop\stojkii.olovyannyi.soldatik.avi.image1.jpg"/>
          <p:cNvPicPr/>
          <p:nvPr/>
        </p:nvPicPr>
        <p:blipFill>
          <a:blip r:embed="rId1"/>
          <a:stretch/>
        </p:blipFill>
        <p:spPr>
          <a:xfrm>
            <a:off x="4937040" y="1652760"/>
            <a:ext cx="3780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3880" y="928800"/>
          <a:ext cx="6096240" cy="857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ыступлени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51" name="Прямая со стрелкой 15"/>
          <p:cNvCxnSpPr/>
          <p:nvPr/>
        </p:nvCxnSpPr>
        <p:spPr>
          <a:xfrm flipH="1">
            <a:off x="2428200" y="1785960"/>
            <a:ext cx="786600" cy="71496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52" name="Прямая со стрелкой 20"/>
          <p:cNvCxnSpPr/>
          <p:nvPr/>
        </p:nvCxnSpPr>
        <p:spPr>
          <a:xfrm flipH="1">
            <a:off x="4214520" y="1785960"/>
            <a:ext cx="286560" cy="192960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  <p:graphicFrame>
        <p:nvGraphicFramePr>
          <p:cNvPr id="53" name=""/>
          <p:cNvGraphicFramePr/>
          <p:nvPr/>
        </p:nvGraphicFramePr>
        <p:xfrm>
          <a:off x="2143080" y="3643200"/>
          <a:ext cx="3429000" cy="10875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Увлекательная серед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57160" y="2500200"/>
          <a:ext cx="3286080" cy="94464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Захватывающе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000760" y="5000760"/>
          <a:ext cx="3429000" cy="1087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7b"/>
                          </a:solidFill>
                          <a:latin typeface="Times New Roman"/>
                          <a:ea typeface="Times New Roman"/>
                        </a:rPr>
                        <a:t>Сильное заверш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224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56" name="Прямая со стрелкой 35"/>
          <p:cNvCxnSpPr/>
          <p:nvPr/>
        </p:nvCxnSpPr>
        <p:spPr>
          <a:xfrm>
            <a:off x="5429160" y="1785960"/>
            <a:ext cx="1929600" cy="3215520"/>
          </a:xfrm>
          <a:prstGeom prst="straightConnector1">
            <a:avLst/>
          </a:prstGeom>
          <a:ln w="25560">
            <a:solidFill>
              <a:srgbClr val="0099cc"/>
            </a:solidFill>
            <a:miter/>
            <a:tailEnd len="med" type="arrow" w="med"/>
          </a:ln>
        </p:spPr>
      </p:cxn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357120" y="642960"/>
            <a:ext cx="84297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ёмы, способствующие удержанию вним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фициа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гля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е обращение к аудитории,   диалог с  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неожиданной           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Рисунок 6" descr="1208722185_ancient-greece-clipart.jpg"/>
          <p:cNvPicPr/>
          <p:nvPr/>
        </p:nvPicPr>
        <p:blipFill>
          <a:blip r:embed="rId1"/>
          <a:stretch/>
        </p:blipFill>
        <p:spPr>
          <a:xfrm>
            <a:off x="79200" y="1798560"/>
            <a:ext cx="2408400" cy="28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навыки, позволяющие добиться успех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837760" y="1984320"/>
            <a:ext cx="2276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положение рук   и жес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блако 4"/>
          <p:cNvSpPr/>
          <p:nvPr/>
        </p:nvSpPr>
        <p:spPr>
          <a:xfrm>
            <a:off x="5429160" y="4000680"/>
            <a:ext cx="3286080" cy="1928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сила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блако 5"/>
          <p:cNvSpPr/>
          <p:nvPr/>
        </p:nvSpPr>
        <p:spPr>
          <a:xfrm>
            <a:off x="2643120" y="4929120"/>
            <a:ext cx="2786040" cy="164304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контроль за дых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блако 6"/>
          <p:cNvSpPr/>
          <p:nvPr/>
        </p:nvSpPr>
        <p:spPr>
          <a:xfrm>
            <a:off x="857160" y="178596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равновес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блако 7"/>
          <p:cNvSpPr/>
          <p:nvPr/>
        </p:nvSpPr>
        <p:spPr>
          <a:xfrm>
            <a:off x="438120" y="3652920"/>
            <a:ext cx="357192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b"/>
                </a:solidFill>
                <a:latin typeface="Times New Roman"/>
                <a:ea typeface="Times New Roman"/>
              </a:rPr>
              <a:t>зрительный конта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49968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инное красноречие - это умение сказать все, что нужно, и не больше, чем нуж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рошфу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6" descr="75628993.jpg"/>
          <p:cNvPicPr/>
          <p:nvPr/>
        </p:nvPicPr>
        <p:blipFill>
          <a:blip r:embed="rId1"/>
          <a:stretch/>
        </p:blipFill>
        <p:spPr>
          <a:xfrm>
            <a:off x="642960" y="2071800"/>
            <a:ext cx="301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7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52:32Z</dcterms:created>
  <dc:creator>1</dc:creator>
  <dc:description/>
  <dc:language>en-US</dc:language>
  <cp:lastModifiedBy>RoMaN</cp:lastModifiedBy>
  <dcterms:modified xsi:type="dcterms:W3CDTF">2010-04-06T19:30:08Z</dcterms:modified>
  <cp:revision>23</cp:revision>
  <dc:subject/>
  <dc:title>С началом нового учебного года!</dc:title>
</cp:coreProperties>
</file>