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3B8-6868-449F-B2EF-8FF3C5DA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DAC-CDDD-472B-9A5B-47F5A6D1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50A-0F97-4006-AE54-83DD8517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D6D-F076-4C12-B343-17C795B8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FDF9-7052-4FCC-B269-CD9443A6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2185-0265-4846-9A8F-5D6F149F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226C-E8DF-4317-85A8-7018347F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BAD6-E172-445B-BCF5-23CF0532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4644-5BC5-4956-B4C5-1FDA562B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040B-61BD-4A7C-A84B-3209FB81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4334-04FB-47AD-9C5B-4B9F1932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777-0FF3-407A-949E-8D8A4459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E7DC-F8BF-4A49-9420-7D28E6FC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1697-F7CC-4253-9443-327B6A70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8F9F-7B9A-43DB-8586-CA1602AC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6140-29E4-44A4-B40B-87D76199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A63C-8944-4017-8C9D-98B8D62C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F8B-56F1-47E7-B147-74BD3A4C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DBB-823B-48D7-AB22-00DE98A5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3BD-116A-4E86-9430-6FCCF818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602-EB61-4258-8851-F6BFDA01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BD0-C687-482E-B5CB-55C24142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A04-21B3-43D8-B86F-F5609F3C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A65-AF4F-43D4-B42B-62D2B9BA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AC6A-0150-4D05-9FB3-393305A0F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DC99-F54B-4A4E-9D49-DC5AB6D18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Интеграция детских деятельносте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867280" y="4652640"/>
            <a:ext cx="295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Подготов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воспитатель Богуцкая И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МБДОУ «Детский са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комбинированного вида №67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г. Энгель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00360" y="2997360"/>
            <a:ext cx="3384360" cy="1512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разовательная деяте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781360"/>
            <a:ext cx="1871640" cy="934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руд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04000" y="270828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род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3933720"/>
            <a:ext cx="1944720" cy="863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г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3789360"/>
            <a:ext cx="2160720" cy="792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Двига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141300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узык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художеств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5661000"/>
            <a:ext cx="257040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5589720"/>
            <a:ext cx="266364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знавате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сследователь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1413000"/>
            <a:ext cx="235440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Чтение художествен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ой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349360"/>
            <a:ext cx="485640" cy="617760"/>
          </a:xfrm>
          <a:prstGeom prst="upArrow">
            <a:avLst>
              <a:gd name="adj1" fmla="val 50000"/>
              <a:gd name="adj2" fmla="val 3180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3213000"/>
            <a:ext cx="576360" cy="486000"/>
          </a:xfrm>
          <a:prstGeom prst="leftArrow">
            <a:avLst>
              <a:gd name="adj1" fmla="val 50000"/>
              <a:gd name="adj2" fmla="val 296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6360" y="3068640"/>
            <a:ext cx="503280" cy="485640"/>
          </a:xfrm>
          <a:prstGeom prst="rightArrow">
            <a:avLst>
              <a:gd name="adj1" fmla="val 50000"/>
              <a:gd name="adj2" fmla="val 259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393372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349360"/>
            <a:ext cx="485640" cy="574920"/>
          </a:xfrm>
          <a:prstGeom prst="upArrow">
            <a:avLst>
              <a:gd name="adj1" fmla="val 50000"/>
              <a:gd name="adj2" fmla="val 2959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005360"/>
            <a:ext cx="503280" cy="485640"/>
          </a:xfrm>
          <a:prstGeom prst="leftArrow">
            <a:avLst>
              <a:gd name="adj1" fmla="val 50000"/>
              <a:gd name="adj2" fmla="val 259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465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4653000"/>
            <a:ext cx="485640" cy="936720"/>
          </a:xfrm>
          <a:prstGeom prst="downArrow">
            <a:avLst>
              <a:gd name="adj1" fmla="val 50000"/>
              <a:gd name="adj2" fmla="val 4822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рганизация образова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четание видов детской деятельности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 форм работы 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97000"/>
            <a:ext cx="2519640" cy="10587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Прод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349360"/>
            <a:ext cx="2519280" cy="9874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3500280"/>
            <a:ext cx="2592360" cy="936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Двига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581360"/>
            <a:ext cx="2592360" cy="9860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Труд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5661000"/>
            <a:ext cx="2592360" cy="9144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Иг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1197000"/>
            <a:ext cx="4896000" cy="10587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Мастерская по изготовл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родуктов детского твор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ализация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2276640"/>
            <a:ext cx="489600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Бесед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итуативный разгово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чевая ситу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оставление, отгадывание загад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357720"/>
            <a:ext cx="496908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одвижные игры с правил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гровые упраж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одвижные дидактические иг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оревн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437000"/>
            <a:ext cx="4896000" cy="1079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овместные действ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Дежур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Поруч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ализация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516640"/>
            <a:ext cx="489600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южетные игры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гры с правил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07000" y="55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155736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2565360"/>
            <a:ext cx="503280" cy="485640"/>
          </a:xfrm>
          <a:prstGeom prst="rightArrow">
            <a:avLst>
              <a:gd name="adj1" fmla="val 50000"/>
              <a:gd name="adj2" fmla="val 259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3645000"/>
            <a:ext cx="4320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4797360"/>
            <a:ext cx="576000" cy="486000"/>
          </a:xfrm>
          <a:prstGeom prst="rightArrow">
            <a:avLst>
              <a:gd name="adj1" fmla="val 50000"/>
              <a:gd name="adj2" fmla="val 296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5877000"/>
            <a:ext cx="502920" cy="485640"/>
          </a:xfrm>
          <a:prstGeom prst="rightArrow">
            <a:avLst>
              <a:gd name="adj1" fmla="val 50000"/>
              <a:gd name="adj2" fmla="val 2589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8440" y="491652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четание видов детской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 форм работы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73360"/>
            <a:ext cx="3456000" cy="1079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Музыкально-художеств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3529080" cy="1008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Чтение художеств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4869000"/>
            <a:ext cx="4105440" cy="1296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Познавательно-исследователь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4724280"/>
            <a:ext cx="4176720" cy="1944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Наблю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Экскурс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шение проблем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Эксперимен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Коллекцио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Модел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еализация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гры с правил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22920" y="3429000"/>
            <a:ext cx="4070160" cy="1224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Чт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Обсу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Разучи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1628640"/>
            <a:ext cx="4176720" cy="17290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Слуш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сполн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Импровиз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Эксперимен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Музыкально-дидактические иг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206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364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544500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12:54:37Z</dcterms:created>
  <dc:creator>User</dc:creator>
  <dc:description/>
  <dc:language>en-US</dc:language>
  <cp:lastModifiedBy>User</cp:lastModifiedBy>
  <dcterms:modified xsi:type="dcterms:W3CDTF">2013-10-13T13:47:27Z</dcterms:modified>
  <cp:revision>2</cp:revision>
  <dc:subject/>
  <dc:title>Интеграция детских деятельностей</dc:title>
</cp:coreProperties>
</file>