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597A-D8F0-4648-8D1C-299A489A5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17F6-7830-4450-A82B-5E453C62E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0091-2B1F-4A02-9591-765892E61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3CC4-3CF5-4CD6-8C63-3C0DB5CC6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5879C-40FC-4838-BCA9-51CF159AC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A94DA-F61B-40BE-8E43-AAD24EC62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E4C9E-14FD-4F9A-ADE4-62AB88F34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927B8-1FF3-4C70-8BCB-54766F7F0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D60D0-3CFD-4B6F-9E27-254191C1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0E1A2-B989-447B-8DCF-B55C8F03C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4576C-4C6E-4A43-9DC6-98892D7F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118A-E4C7-46C8-9968-7046A08DA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C688B-2D38-4E0F-AFE0-2A552CE6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16AED-F318-49D8-9016-9FE64EE5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27482-B1FA-4F5F-8205-DDE83955D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E453D-92D4-4661-BE9A-999A336B2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09C52-8938-4DA1-88DE-63E180F08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3304-5AE7-4568-83AD-C40F1B68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7625-9F02-4EA8-BF0E-1F7D6A8E8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90D2-D460-4FAA-B110-7D1B374C7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47F3-DB19-4373-8620-8C6651B79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06AC-6667-43CF-B748-3B5A2613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BB8E-5719-46B0-9F2F-5AA5A3BA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EC71-506C-4FE6-BB99-70F57F8B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9292A-3626-4B6E-91B9-A1C17BFA15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F41FA-6D63-4A99-AB61-6C60B9F047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Интеграция детских деятельностей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867280" y="4652640"/>
            <a:ext cx="295272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Подготовил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воспитатель Богуцкая И.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МБДОУ «Детский сад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комбинированного вида №67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г. Энгель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700360" y="2997360"/>
            <a:ext cx="3384360" cy="151272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Образовательная деятель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9280" y="2781360"/>
            <a:ext cx="1871640" cy="93492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Трудов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04000" y="2708280"/>
            <a:ext cx="2160720" cy="91440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Продуктив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9280" y="3933720"/>
            <a:ext cx="1944720" cy="86364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Игров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04000" y="3789360"/>
            <a:ext cx="2160720" cy="79200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Двигатель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292720" y="1413000"/>
            <a:ext cx="2376360" cy="91440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Музыкальн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художествен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47640" y="5661000"/>
            <a:ext cx="2570400" cy="91440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Коммуникатив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788000" y="5589720"/>
            <a:ext cx="2663640" cy="91440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Познавательн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исследователь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76360" y="1413000"/>
            <a:ext cx="2354400" cy="91440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Чтение художествен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ной литерату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2349360"/>
            <a:ext cx="485640" cy="617760"/>
          </a:xfrm>
          <a:prstGeom prst="upArrow">
            <a:avLst>
              <a:gd name="adj1" fmla="val 50000"/>
              <a:gd name="adj2" fmla="val 3180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50920" y="3213000"/>
            <a:ext cx="576360" cy="486000"/>
          </a:xfrm>
          <a:prstGeom prst="leftArrow">
            <a:avLst>
              <a:gd name="adj1" fmla="val 50000"/>
              <a:gd name="adj2" fmla="val 2964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56360" y="3068640"/>
            <a:ext cx="503280" cy="485640"/>
          </a:xfrm>
          <a:prstGeom prst="rightArrow">
            <a:avLst>
              <a:gd name="adj1" fmla="val 50000"/>
              <a:gd name="adj2" fmla="val 2590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156360" y="3933720"/>
            <a:ext cx="576360" cy="486000"/>
          </a:xfrm>
          <a:prstGeom prst="rightArrow">
            <a:avLst>
              <a:gd name="adj1" fmla="val 50000"/>
              <a:gd name="adj2" fmla="val 2964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292720" y="2349360"/>
            <a:ext cx="485640" cy="574920"/>
          </a:xfrm>
          <a:prstGeom prst="upArrow">
            <a:avLst>
              <a:gd name="adj1" fmla="val 50000"/>
              <a:gd name="adj2" fmla="val 29596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24000" y="4005360"/>
            <a:ext cx="503280" cy="485640"/>
          </a:xfrm>
          <a:prstGeom prst="leftArrow">
            <a:avLst>
              <a:gd name="adj1" fmla="val 50000"/>
              <a:gd name="adj2" fmla="val 2590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87640" y="46530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92720" y="4653000"/>
            <a:ext cx="485640" cy="936720"/>
          </a:xfrm>
          <a:prstGeom prst="downArrow">
            <a:avLst>
              <a:gd name="adj1" fmla="val 50000"/>
              <a:gd name="adj2" fmla="val 4822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2602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Организация образовательной деятель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Сочетание видов детской деятельности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и форм работы </a:t>
            </a:r>
            <a:br>
              <a:rPr sz="2800"/>
            </a:b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1197000"/>
            <a:ext cx="2519640" cy="105876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a4"/>
                </a:solidFill>
                <a:latin typeface="Arial"/>
              </a:rPr>
              <a:t>Продуктив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2349360"/>
            <a:ext cx="2519280" cy="98748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a4"/>
                </a:solidFill>
                <a:latin typeface="Arial"/>
              </a:rPr>
              <a:t>Коммуникатив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3500280"/>
            <a:ext cx="2592360" cy="93672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a4"/>
                </a:solidFill>
                <a:latin typeface="Arial"/>
              </a:rPr>
              <a:t>Двигатель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5280" y="4581360"/>
            <a:ext cx="2592360" cy="98604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a4"/>
                </a:solidFill>
                <a:latin typeface="Arial"/>
              </a:rPr>
              <a:t>Трудов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5661000"/>
            <a:ext cx="2592360" cy="91440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a4"/>
                </a:solidFill>
                <a:latin typeface="Arial"/>
              </a:rPr>
              <a:t>Игров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08360" y="1197000"/>
            <a:ext cx="4896000" cy="105876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Мастерская по изготовлению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продуктов детского творчест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Реализация проект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08360" y="2276640"/>
            <a:ext cx="4896000" cy="107928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Бесед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Ситуативный разговор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Речевая ситуац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Составление, отгадывание загадо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35280" y="3357720"/>
            <a:ext cx="4969080" cy="107928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Подвижные игры с правила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Игровые упражн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Подвижные дидактические игр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Соревновани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08360" y="4437000"/>
            <a:ext cx="4896000" cy="107964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Совместные действ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Дежурств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Поруче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Реализация проек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08360" y="5516640"/>
            <a:ext cx="4896000" cy="107928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Сюжетные игры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Игры с правила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07000" y="55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03640" y="1557360"/>
            <a:ext cx="4316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32000" y="2565360"/>
            <a:ext cx="503280" cy="485640"/>
          </a:xfrm>
          <a:prstGeom prst="rightArrow">
            <a:avLst>
              <a:gd name="adj1" fmla="val 50000"/>
              <a:gd name="adj2" fmla="val 2590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32000" y="3645000"/>
            <a:ext cx="43200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59280" y="4797360"/>
            <a:ext cx="576000" cy="486000"/>
          </a:xfrm>
          <a:prstGeom prst="rightArrow">
            <a:avLst>
              <a:gd name="adj1" fmla="val 50000"/>
              <a:gd name="adj2" fmla="val 296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5877000"/>
            <a:ext cx="502920" cy="485640"/>
          </a:xfrm>
          <a:prstGeom prst="rightArrow">
            <a:avLst>
              <a:gd name="adj1" fmla="val 50000"/>
              <a:gd name="adj2" fmla="val 2589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368440" y="4916520"/>
            <a:ext cx="4562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Сочетание видов детской деятельности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и форм работы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9280" y="1773360"/>
            <a:ext cx="3456000" cy="107928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a4"/>
                </a:solidFill>
                <a:latin typeface="Arial"/>
              </a:rPr>
              <a:t>Музыкально-художествен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9280" y="3357720"/>
            <a:ext cx="3529080" cy="100800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a4"/>
                </a:solidFill>
                <a:latin typeface="Arial"/>
              </a:rPr>
              <a:t>Чтение художественн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a4"/>
                </a:solidFill>
                <a:latin typeface="Arial"/>
              </a:rPr>
              <a:t>литерату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9280" y="4869000"/>
            <a:ext cx="4105440" cy="129672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a4"/>
                </a:solidFill>
                <a:latin typeface="Arial"/>
              </a:rPr>
              <a:t>Познавательно-исследователь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16360" y="4724280"/>
            <a:ext cx="4176720" cy="194472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Наблюде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Экскурс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Решение проблемных ситуац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Экспериментирова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Коллекционирова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Моделирова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Реализация проек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Игры с правила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822920" y="3429000"/>
            <a:ext cx="4070160" cy="122400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Чте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Обсужде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Разучивани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16360" y="1628640"/>
            <a:ext cx="4176720" cy="172908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Слуша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Исполне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Импровизац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Экспериментирова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Музыкально-дидактические игр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708360" y="2060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80000" y="3645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56000" y="5445000"/>
            <a:ext cx="360360" cy="4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3T12:54:37Z</dcterms:created>
  <dc:creator>User</dc:creator>
  <dc:description/>
  <dc:language>en-US</dc:language>
  <cp:lastModifiedBy>User</cp:lastModifiedBy>
  <dcterms:modified xsi:type="dcterms:W3CDTF">2013-10-13T13:47:27Z</dcterms:modified>
  <cp:revision>2</cp:revision>
  <dc:subject/>
  <dc:title>Интеграция детских деятельностей</dc:title>
</cp:coreProperties>
</file>