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E9F-56BE-45B1-891E-86BE3770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E2A-6D41-4CC9-8B85-BC294698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9A6-08EA-47A5-8971-EB1F20DC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5A3-F431-4F4C-8BB0-EF9F8069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9A5-FBAF-4FFC-94D2-4C84CFBC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FB35-EA0C-4C2B-92B3-6887D692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2B80-9666-4D43-B9EB-CFC62EF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61D0-B9BA-43F9-B6CB-B80A3B1D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78D3-6DB5-4907-8506-65C868DD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849D-F9DD-4FCC-9F6F-4D8F28A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939A-EC75-49F3-AFFD-FECB7D22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239-E075-4BEF-A099-20C14B01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C510-B7B3-4B27-AD8C-CE6D07D7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526E-902D-418F-A556-5AB184D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CDD9-76AF-48F6-9E13-B21AC25A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FABD-A826-4E66-AD95-5AEF4C60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0AD-5CDE-4110-8412-755E7B54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AD6-FFFA-4A13-A0AB-DB33822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6C1-E323-4719-A89C-95B5E4FF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489-C762-4247-BA11-F58FE62B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0D2-13F4-4EB5-8D7C-DA90A9F8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662-0D56-4254-A6DE-6E418F4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755-D5D6-4AAF-86EC-26C9D17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816-708F-47D5-A928-AF26642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37BE-9BC4-4529-93ED-80D5F9B82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B46D-C527-423C-A3FE-0C9D326BD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нтеграция детских деятельносте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867280" y="4652640"/>
            <a:ext cx="295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Подгото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воспитатель Богуцкая И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МБДОУ «Детский са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комбинированного вида №67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г. Энгель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00360" y="2997360"/>
            <a:ext cx="3384360" cy="151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разовательная деяте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781360"/>
            <a:ext cx="1871640" cy="934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27082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933720"/>
            <a:ext cx="1944720" cy="863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г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3789360"/>
            <a:ext cx="2160720" cy="792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41300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зык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5661000"/>
            <a:ext cx="257040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589720"/>
            <a:ext cx="266364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знавате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1413000"/>
            <a:ext cx="235440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тение художестве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ой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349360"/>
            <a:ext cx="485640" cy="617760"/>
          </a:xfrm>
          <a:prstGeom prst="upArrow">
            <a:avLst>
              <a:gd name="adj1" fmla="val 50000"/>
              <a:gd name="adj2" fmla="val 3180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3213000"/>
            <a:ext cx="576360" cy="486000"/>
          </a:xfrm>
          <a:prstGeom prst="leftArrow">
            <a:avLst>
              <a:gd name="adj1" fmla="val 50000"/>
              <a:gd name="adj2" fmla="val 296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3068640"/>
            <a:ext cx="503280" cy="485640"/>
          </a:xfrm>
          <a:prstGeom prst="righ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393372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349360"/>
            <a:ext cx="485640" cy="574920"/>
          </a:xfrm>
          <a:prstGeom prst="upArrow">
            <a:avLst>
              <a:gd name="adj1" fmla="val 50000"/>
              <a:gd name="adj2" fmla="val 2959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005360"/>
            <a:ext cx="503280" cy="485640"/>
          </a:xfrm>
          <a:prstGeom prst="lef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465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4653000"/>
            <a:ext cx="485640" cy="936720"/>
          </a:xfrm>
          <a:prstGeom prst="downArrow">
            <a:avLst>
              <a:gd name="adj1" fmla="val 50000"/>
              <a:gd name="adj2" fmla="val 4822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рганизация образо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четание видов детской деятельности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форм работы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2519640" cy="10587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2519280" cy="9874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50028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581360"/>
            <a:ext cx="2592360" cy="9860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66100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Иг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1197000"/>
            <a:ext cx="4896000" cy="10587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астерская по изготовл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родуктов детского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276640"/>
            <a:ext cx="489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Бесед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итуативный разгово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чевая ситу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ставление, отгадывание загад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357720"/>
            <a:ext cx="496908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движные 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овые упраж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движные дидактические 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ревн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437000"/>
            <a:ext cx="4896000" cy="1079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вместные действ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Дежу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ру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516640"/>
            <a:ext cx="489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южетные игр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7000" y="55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155736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2565360"/>
            <a:ext cx="503280" cy="485640"/>
          </a:xfrm>
          <a:prstGeom prst="righ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3645000"/>
            <a:ext cx="4320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797360"/>
            <a:ext cx="576000" cy="486000"/>
          </a:xfrm>
          <a:prstGeom prst="rightArrow">
            <a:avLst>
              <a:gd name="adj1" fmla="val 50000"/>
              <a:gd name="adj2" fmla="val 296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877000"/>
            <a:ext cx="502920" cy="485640"/>
          </a:xfrm>
          <a:prstGeom prst="rightArrow">
            <a:avLst>
              <a:gd name="adj1" fmla="val 50000"/>
              <a:gd name="adj2" fmla="val 2589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8440" y="49165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четание видов детск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форм работ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73360"/>
            <a:ext cx="345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Музыкально-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3529080" cy="1008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Чтение художеств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869000"/>
            <a:ext cx="4105440" cy="129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Познавательно-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724280"/>
            <a:ext cx="4176720" cy="1944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Наблю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кур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шение проблем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перимен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Коллекцио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одел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2920" y="3429000"/>
            <a:ext cx="4070160" cy="1224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Чт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Обсу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азучи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1628640"/>
            <a:ext cx="4176720" cy="17290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луш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спол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мпровиз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перимен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узыкально-дидактические 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206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364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544500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2:54:37Z</dcterms:created>
  <dc:creator>User</dc:creator>
  <dc:description/>
  <dc:language>en-US</dc:language>
  <cp:lastModifiedBy>User</cp:lastModifiedBy>
  <dcterms:modified xsi:type="dcterms:W3CDTF">2013-10-13T13:47:27Z</dcterms:modified>
  <cp:revision>2</cp:revision>
  <dc:subject/>
  <dc:title>Интеграция детских деятельностей</dc:title>
</cp:coreProperties>
</file>