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5E2-43BF-4E0E-9D23-9E77CDCE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143-247B-4643-80DA-C6829610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72E-F398-4A9B-A904-3F9578FB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EBE-4FFB-41B1-B482-047953BA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A97-59B5-4305-94AE-3590CC6C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1B0-04DA-44FC-BB64-AD8EEFF7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2B6-7D24-4AC4-B9DB-4CC0FF09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BE8-ADDC-4C2A-868E-A87D35F4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541-E6C5-4C64-B3F9-F0E1DF07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B52-E593-446E-B9DD-B2731A61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D82-48A7-47E8-9604-5591D9D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9C9-6394-431A-B9F5-5B842CF6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1CA4-ECF3-4BF7-8EC9-8D8D034DB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76e5"/>
                </a:solidFill>
                <a:latin typeface="Arial"/>
              </a:rPr>
              <a:t>Т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«Повторение. Решение квадратных уравн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2b76e5"/>
                </a:solidFill>
                <a:latin typeface="Arial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овторить, обобщить приобретённые знания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2b76e5"/>
                </a:solidFill>
                <a:latin typeface="Arial"/>
              </a:rPr>
              <a:t>Форма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гра «Знатоки квадратных уравн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ешить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43280" y="1268280"/>
          <a:ext cx="29527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268280"/>
                    <a:ext cx="29527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1280" y="2708280"/>
          <a:ext cx="2232000" cy="22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08280"/>
                    <a:ext cx="22320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246640" y="3213000"/>
          <a:ext cx="196236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46640" y="3213000"/>
                    <a:ext cx="19623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132000" y="1844640"/>
          <a:ext cx="2300400" cy="71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1844640"/>
                    <a:ext cx="23004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203640" y="2565360"/>
          <a:ext cx="21603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2565360"/>
                    <a:ext cx="2160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916360" y="5373720"/>
          <a:ext cx="273528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16360" y="5373720"/>
                    <a:ext cx="273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685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ешить уравнения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00360" y="1560600"/>
          <a:ext cx="2933640" cy="34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560600"/>
                    <a:ext cx="29336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700360" y="2637000"/>
          <a:ext cx="326556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2637000"/>
                    <a:ext cx="32655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843280" y="5013360"/>
          <a:ext cx="29718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5013360"/>
                    <a:ext cx="2971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739960" y="3860640"/>
          <a:ext cx="298440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39960" y="3860640"/>
                    <a:ext cx="2984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1115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2b76e5"/>
                </a:solidFill>
                <a:latin typeface="Arial"/>
              </a:rPr>
              <a:t>«Эруди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&lt;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2b76e5"/>
                </a:solidFill>
                <a:latin typeface="Arial"/>
              </a:rPr>
              <a:t>уравнение не имеет кор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2b76e5"/>
                </a:solidFill>
                <a:latin typeface="Arial"/>
              </a:rPr>
              <a:t>уравнение имеет один кор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Сумма корней приведенного квадратного уравнения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2b76e5"/>
                </a:solidFill>
                <a:latin typeface="Arial"/>
              </a:rPr>
              <a:t>второму коэффициенту взятому с противоположным зна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2920" y="189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Отлич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меет 2 различных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Если второй коэффициент квадратного уравнения – четное число, 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роизведение корней приведенного квадратного уравнения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вободному чл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40360" y="2565360"/>
          <a:ext cx="129708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565360"/>
                    <a:ext cx="1297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380360" y="2276640"/>
          <a:ext cx="33012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2276640"/>
                    <a:ext cx="330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1280" y="692280"/>
          <a:ext cx="173988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173988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700360" y="836640"/>
          <a:ext cx="604692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836640"/>
                    <a:ext cx="60469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56000" y="189000"/>
          <a:ext cx="367164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89000"/>
                    <a:ext cx="3671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627280" y="4508640"/>
          <a:ext cx="5761080" cy="20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508640"/>
                    <a:ext cx="576108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237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76e5"/>
                </a:solidFill>
                <a:uFillTx/>
                <a:latin typeface="Arial"/>
              </a:rPr>
              <a:t>«Эруди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867280" y="115560"/>
            <a:ext cx="2232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тличник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620640"/>
          <a:ext cx="25923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20640"/>
                    <a:ext cx="25923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084720" y="620640"/>
          <a:ext cx="2664000" cy="34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620640"/>
                    <a:ext cx="2664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4360" y="400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Среди данных уравнений укажите  номера тех, которые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пол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приведен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непол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В уравнении №5 запишите значения коэффициенто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, b,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йдите сумму и произведение корней уравнения №5.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Решите уравнение №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2b76e5"/>
                </a:solidFill>
                <a:uFillTx/>
                <a:latin typeface="Arial"/>
              </a:rPr>
              <a:t>«Эруди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2920" y="260280"/>
            <a:ext cx="40388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«Отлич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93880" y="2421000"/>
          <a:ext cx="14126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421000"/>
                    <a:ext cx="1412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48360" y="2492280"/>
          <a:ext cx="143496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492280"/>
                    <a:ext cx="14349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076720" y="3284640"/>
          <a:ext cx="2933640" cy="33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284640"/>
                    <a:ext cx="293364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38360" y="836640"/>
          <a:ext cx="2450880" cy="15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360" y="836640"/>
                    <a:ext cx="24508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076720" y="692280"/>
          <a:ext cx="2476440" cy="180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692280"/>
                    <a:ext cx="24764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900000" y="3284640"/>
          <a:ext cx="2448000" cy="345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0000" y="3284640"/>
                    <a:ext cx="244800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34:51Z</dcterms:created>
  <dc:creator>Анатолий</dc:creator>
  <dc:description/>
  <dc:language>en-US</dc:language>
  <cp:lastModifiedBy>Анатолий</cp:lastModifiedBy>
  <dcterms:modified xsi:type="dcterms:W3CDTF">2008-04-22T10:43:50Z</dcterms:modified>
  <cp:revision>20</cp:revision>
  <dc:subject/>
  <dc:title>Слайд 1</dc:title>
</cp:coreProperties>
</file>