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921-B728-4E7E-AB9D-4B609CEB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1491-228C-4294-95D9-DF6D3BC8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F784-3568-4846-88A9-AC75CB8E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DA4F-41D8-4087-8BDD-119289C3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5337-7FF2-431C-9900-0DEDA46E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F98-9A58-4E7C-91D4-B13139FA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D98-42C6-4C86-AEE3-89E63725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964-1154-49D4-B757-EF3C3FDC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2230-5ADC-4E70-9582-E491D3B9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D46-23CA-40E6-868D-00CE378D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D25-4B6D-46C5-9A2A-829A5219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160-5423-40F8-9223-B0D00544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01AD-3177-4D16-926D-0AFB46074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76e5"/>
                </a:solidFill>
                <a:latin typeface="Arial"/>
              </a:rPr>
              <a:t>Те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«Повторение. Решение квадратных уравне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800" spc="-1" strike="noStrike">
                <a:solidFill>
                  <a:srgbClr val="2b76e5"/>
                </a:solidFill>
                <a:latin typeface="Arial"/>
              </a:rPr>
              <a:t>Ц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овторить, обобщить приобретённые знания решения квадрат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2b76e5"/>
                </a:solidFill>
                <a:latin typeface="Arial"/>
              </a:rPr>
              <a:t>Форма пр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Игра «Знатоки квадратных уравне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Решить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843280" y="1268280"/>
          <a:ext cx="295272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268280"/>
                    <a:ext cx="29527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11280" y="2708280"/>
          <a:ext cx="2232000" cy="22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708280"/>
                    <a:ext cx="223200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246640" y="3213000"/>
          <a:ext cx="1962360" cy="17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46640" y="3213000"/>
                    <a:ext cx="196236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132000" y="1844640"/>
          <a:ext cx="2300400" cy="71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1844640"/>
                    <a:ext cx="23004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203640" y="2565360"/>
          <a:ext cx="216036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3640" y="2565360"/>
                    <a:ext cx="2160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916360" y="5373720"/>
          <a:ext cx="2735280" cy="503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16360" y="5373720"/>
                    <a:ext cx="2735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6851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Решить уравнения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700360" y="1560600"/>
          <a:ext cx="2933640" cy="34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560600"/>
                    <a:ext cx="293364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700360" y="2637000"/>
          <a:ext cx="3265560" cy="38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2637000"/>
                    <a:ext cx="326556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843280" y="5013360"/>
          <a:ext cx="297180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3280" y="5013360"/>
                    <a:ext cx="29718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739960" y="3860640"/>
          <a:ext cx="298440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39960" y="3860640"/>
                    <a:ext cx="29844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41115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2b76e5"/>
                </a:solidFill>
                <a:latin typeface="Arial"/>
              </a:rPr>
              <a:t>«Эруди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Ес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&lt;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2b76e5"/>
                </a:solidFill>
                <a:latin typeface="Arial"/>
              </a:rPr>
              <a:t>уравнение не имеет кор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Ес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=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2b76e5"/>
                </a:solidFill>
                <a:latin typeface="Arial"/>
              </a:rPr>
              <a:t>уравнение имеет один кор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Сумма корней приведенного квадратного уравнения ра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2b76e5"/>
                </a:solidFill>
                <a:latin typeface="Arial"/>
              </a:rPr>
              <a:t>второму коэффициенту взятому с противоположным зна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2920" y="189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Отличн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Ес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&gt;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меет 2 различных кор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Если второй коэффициент квадратного уравнения – четное число, 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Произведение корней приведенного квадратного уравнения рав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вободному чл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40360" y="2565360"/>
          <a:ext cx="1297080" cy="4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565360"/>
                    <a:ext cx="12970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380360" y="2276640"/>
          <a:ext cx="330120" cy="39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2276640"/>
                    <a:ext cx="3301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11280" y="692280"/>
          <a:ext cx="173988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92280"/>
                    <a:ext cx="173988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700360" y="836640"/>
          <a:ext cx="6046920" cy="33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836640"/>
                    <a:ext cx="604692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556000" y="189000"/>
          <a:ext cx="367164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189000"/>
                    <a:ext cx="36716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627280" y="4508640"/>
          <a:ext cx="5761080" cy="20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4508640"/>
                    <a:ext cx="576108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237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b76e5"/>
                </a:solidFill>
                <a:uFillTx/>
                <a:latin typeface="Arial"/>
              </a:rPr>
              <a:t>«Эруди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867280" y="115560"/>
            <a:ext cx="2232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Отличники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620640"/>
          <a:ext cx="259236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20640"/>
                    <a:ext cx="25923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084720" y="620640"/>
          <a:ext cx="2664000" cy="345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620640"/>
                    <a:ext cx="2664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84360" y="400536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 Среди данных уравнений укажите  номера тех, которые явля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полны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приведенны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непол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 В уравнении №5 запишите значения коэффициенто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, b,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йдите сумму и произведение корней уравнения №5.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&gt;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Решите уравнение №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43192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2b76e5"/>
                </a:solidFill>
                <a:uFillTx/>
                <a:latin typeface="Arial"/>
              </a:rPr>
              <a:t>«Эруди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2920" y="260280"/>
            <a:ext cx="40388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«Отличн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893880" y="2421000"/>
          <a:ext cx="141264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2421000"/>
                    <a:ext cx="14126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148360" y="2492280"/>
          <a:ext cx="1434960" cy="7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2492280"/>
                    <a:ext cx="14349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076720" y="3284640"/>
          <a:ext cx="2933640" cy="33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3284640"/>
                    <a:ext cx="293364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738360" y="836640"/>
          <a:ext cx="2450880" cy="15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8360" y="836640"/>
                    <a:ext cx="24508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5076720" y="692280"/>
          <a:ext cx="2476440" cy="1800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76720" y="692280"/>
                    <a:ext cx="24764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77" name=""/>
          <p:cNvGraphicFramePr/>
          <p:nvPr/>
        </p:nvGraphicFramePr>
        <p:xfrm>
          <a:off x="900000" y="3284640"/>
          <a:ext cx="2448000" cy="345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0000" y="3284640"/>
                    <a:ext cx="244800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4:34:51Z</dcterms:created>
  <dc:creator>Анатолий</dc:creator>
  <dc:description/>
  <dc:language>en-US</dc:language>
  <cp:lastModifiedBy>Анатолий</cp:lastModifiedBy>
  <dcterms:modified xsi:type="dcterms:W3CDTF">2008-04-22T10:43:50Z</dcterms:modified>
  <cp:revision>20</cp:revision>
  <dc:subject/>
  <dc:title>Слайд 1</dc:title>
</cp:coreProperties>
</file>