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9D0-9E7A-47C1-8650-68759F5C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F85-F15D-4974-8013-1F37020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F17-2F48-4BDE-9C97-BFBC6D77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98C-6818-4E15-AE16-E33C21B3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ED7-1213-45E1-9586-69A2A40B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EEC-605C-4FC4-B1AB-95797EBA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303-7FD7-45B4-A6D5-88AD979A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4BC-BFF5-48DB-8F7F-EB473CC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1BE-4CE7-4BBB-B420-3F26F764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9B6-910C-415E-8FB9-2DF42E1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A4A-698B-49F7-9818-1737FCA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D0A-6D78-4921-AAC4-90E69385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740C-D7DC-4492-A767-98F55058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«Повторение. Решение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вторить, обобщить приобретённые знания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Форма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гра «Знатоки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43280" y="1268280"/>
          <a:ext cx="29527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268280"/>
                    <a:ext cx="2952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1280" y="2708280"/>
          <a:ext cx="223200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22320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46640" y="3213000"/>
          <a:ext cx="196236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46640" y="3213000"/>
                    <a:ext cx="1962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132000" y="1844640"/>
          <a:ext cx="230040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1844640"/>
                    <a:ext cx="23004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203640" y="2565360"/>
          <a:ext cx="21603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565360"/>
                    <a:ext cx="2160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916360" y="5373720"/>
          <a:ext cx="273528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6360" y="5373720"/>
                    <a:ext cx="273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685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ешить уравнения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00360" y="1560600"/>
          <a:ext cx="2933640" cy="34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60600"/>
                    <a:ext cx="29336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700360" y="2637000"/>
          <a:ext cx="326556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637000"/>
                    <a:ext cx="3265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43280" y="5013360"/>
          <a:ext cx="29718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5013360"/>
                    <a:ext cx="297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739960" y="3860640"/>
          <a:ext cx="298440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39960" y="3860640"/>
                    <a:ext cx="298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111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2b76e5"/>
                </a:solidFill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уравнение не име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уравнение имеет один кор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Сумма корней приведенного квадратного уравнения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второму коэффициенту взятому с противоположным зна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2920" y="189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Отлич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меет 2 различных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Если второй коэффициент квадратного уравнения – четное число, 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роизведение корней приведенного квадратного уравнения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вободному ч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0360" y="2565360"/>
          <a:ext cx="129708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565360"/>
                    <a:ext cx="1297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380360" y="2276640"/>
          <a:ext cx="3301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2276640"/>
                    <a:ext cx="330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1280" y="692280"/>
          <a:ext cx="173988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17398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700360" y="836640"/>
          <a:ext cx="604692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836640"/>
                    <a:ext cx="60469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56000" y="189000"/>
          <a:ext cx="367164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89000"/>
                    <a:ext cx="36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627280" y="4508640"/>
          <a:ext cx="5761080" cy="20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08640"/>
                    <a:ext cx="576108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237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76e5"/>
                </a:solidFill>
                <a:uFillTx/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867280" y="115560"/>
            <a:ext cx="2232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тлич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620640"/>
          <a:ext cx="25923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20640"/>
                    <a:ext cx="2592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084720" y="620640"/>
          <a:ext cx="2664000" cy="34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620640"/>
                    <a:ext cx="2664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4360" y="400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Среди данных уравнений укажите  номера тех, которые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пол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риведе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непол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В уравнении №5 запишите значения коэффициенто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, b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йдите сумму и произведение корней уравнения №5.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Решите уравнение №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2b76e5"/>
                </a:solidFill>
                <a:uFillTx/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2920" y="260280"/>
            <a:ext cx="40388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«Отлич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93880" y="2421000"/>
          <a:ext cx="1412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421000"/>
                    <a:ext cx="1412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48360" y="2492280"/>
          <a:ext cx="14349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92280"/>
                    <a:ext cx="14349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076720" y="3284640"/>
          <a:ext cx="2933640" cy="33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284640"/>
                    <a:ext cx="293364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38360" y="836640"/>
          <a:ext cx="24508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360" y="836640"/>
                    <a:ext cx="2450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076720" y="692280"/>
          <a:ext cx="2476440" cy="18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692280"/>
                    <a:ext cx="24764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900000" y="3284640"/>
          <a:ext cx="2448000" cy="345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3284640"/>
                    <a:ext cx="24480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34:51Z</dcterms:created>
  <dc:creator>Анатолий</dc:creator>
  <dc:description/>
  <dc:language>en-US</dc:language>
  <cp:lastModifiedBy>Анатолий</cp:lastModifiedBy>
  <dcterms:modified xsi:type="dcterms:W3CDTF">2008-04-22T10:43:50Z</dcterms:modified>
  <cp:revision>20</cp:revision>
  <dc:subject/>
  <dc:title>Слайд 1</dc:title>
</cp:coreProperties>
</file>