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11.png" ContentType="image/png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E13C-F05D-43F2-A186-3D2C3DC87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1127-4F04-4DE6-8078-704C6DEB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19ED-E382-40B4-ADD8-8723CC1DA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4D20-EB48-4477-9850-134415E14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5202-8E5F-4A9E-84D7-9F0817351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BDD7-370B-4E27-B61B-2A72A4F2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84BA-8794-4A35-8236-7063E554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AE31-813B-4C18-8051-8BB165FB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C29A-7A3A-46C6-9871-CBD8EDE3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3FCD-10BC-4A44-B85F-19A5C217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3863-D77C-412A-9994-5E368DB5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FEAF-5654-4615-A925-5055F511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8806-4CB0-4A5D-9541-927CBE95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A516-D6B5-435B-9621-D4C7A482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8778-2F95-48F2-874F-1D2922E2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660C-FD31-4D63-9F52-0ED38DA94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2A26-0400-4086-BBA1-4E0FF85F4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AC51-C282-41BC-9E50-890712F6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F2FE-28FC-48D9-A482-08B60BC3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7754-9C83-48B1-8D1D-473E02A8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42D5-35BB-42A0-ABD5-915F5578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EE1F-9030-4DD9-9AE5-E025C408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72D3-2E34-4361-8A83-02EBF373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8262-EB05-4639-8631-6F5064F8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AEC6-9FE2-400F-8EE3-8974802574E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5367-3F09-4B01-8793-36C51761020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hyperlink" Target="http://festivl.1september.ru/" TargetMode="Externa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Тема проекта</a:t>
            </a:r>
            <a:br>
              <a:rPr sz="3200"/>
            </a:br>
            <a:r>
              <a:rPr b="0" lang="ru-RU" sz="3200" spc="-1" strike="noStrike">
                <a:solidFill>
                  <a:srgbClr val="ffffb7"/>
                </a:solidFill>
                <a:latin typeface="Arial Black"/>
              </a:rPr>
              <a:t> «Игра как метод экологического воспитания»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7636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р проекта: Чернышева Елена Викторовн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спитатель МАДОУ детский сад       общеразвивающего вида «Ивушка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. Татаново, Тамбовский район, Тамбовская область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Этапы  проекта:</a:t>
            </a:r>
            <a:br>
              <a:rPr sz="3200"/>
            </a:b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подготовительный этап: (1 месяц)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ведение до участников проекта важности данной проблем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интересовать каждого педагога темой проек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бор методической литературы, иллюстративного материала, пособий, игрушек, атрибутов по данной те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авление списка необходимого оборудования (фотоаппарат, компьютер, мультимедийный проектор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работка диагностического инструментария для определения уровня знаний, умений, навыков детей по эколог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ведение первоначальной диагност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авление перспективного пла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26920" y="549360"/>
            <a:ext cx="7777440" cy="10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62064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сновной этап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( 7 месяцев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2133720"/>
            <a:ext cx="3745080" cy="1368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16360" y="3429000"/>
            <a:ext cx="3744720" cy="1368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03640" y="4941720"/>
            <a:ext cx="3745080" cy="1368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556000" y="1557360"/>
            <a:ext cx="1944720" cy="576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00720" y="1557360"/>
            <a:ext cx="431640" cy="187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00720" y="1557360"/>
            <a:ext cx="3095640" cy="3384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249228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дание развивающей экологической сред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393372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бота с деть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35640" y="544500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бота с родителя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564000" y="2060640"/>
            <a:ext cx="2374920" cy="2160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редметно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звивающ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экологическа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ред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уголок природы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3217800">
            <a:off x="673200" y="3942720"/>
            <a:ext cx="2030400" cy="1724040"/>
          </a:xfrm>
          <a:prstGeom prst="flowChartMerg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ини 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горо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9335000">
            <a:off x="794880" y="246240"/>
            <a:ext cx="2008440" cy="1785600"/>
          </a:xfrm>
          <a:prstGeom prst="flowChartExtra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оллекци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емя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2425200">
            <a:off x="5867280" y="476280"/>
            <a:ext cx="2041560" cy="1463760"/>
          </a:xfrm>
          <a:prstGeom prst="flowChartExtra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гр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экологическ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8396000">
            <a:off x="6690960" y="3109680"/>
            <a:ext cx="1655640" cy="2004840"/>
          </a:xfrm>
          <a:prstGeom prst="flowChartMerg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ини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лаборатор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40360" y="5229360"/>
            <a:ext cx="1873080" cy="1368360"/>
          </a:xfrm>
          <a:prstGeom prst="flowChartMerg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грушк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налог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уляж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8188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652320"/>
            <a:ext cx="9144000" cy="555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272880"/>
            <a:ext cx="9144000" cy="631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348000" y="3500280"/>
            <a:ext cx="2519280" cy="1224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Г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08360" y="1700280"/>
            <a:ext cx="1871640" cy="1439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гр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равила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2421000"/>
            <a:ext cx="1944720" cy="1582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О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литературны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ерсонажа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88000" y="2492280"/>
            <a:ext cx="1871640" cy="158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южетно 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олев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г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19280" y="4797360"/>
            <a:ext cx="1873080" cy="1656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О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грушкам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налога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80000" y="4941720"/>
            <a:ext cx="1800360" cy="151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О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тип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утешеств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32000" y="476280"/>
            <a:ext cx="662472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бота с деть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771280" y="3715920"/>
            <a:ext cx="57636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867280" y="3644640"/>
            <a:ext cx="72072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572000" y="3141720"/>
            <a:ext cx="0" cy="358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132000" y="4508640"/>
            <a:ext cx="503280" cy="43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08720" y="4581360"/>
            <a:ext cx="64764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777080" cy="633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713800" cy="57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71200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ктуальность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гра- ведущая деятельность детей дошкольного возраста, средство самовыражения ребё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ствует развитию познавательных интере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острение экологической проблемы в стране, необходимость формирования у детей экологического созн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64000" y="3141720"/>
            <a:ext cx="2089440" cy="1368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Участие 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утренник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80000" y="1700280"/>
            <a:ext cx="1871640" cy="1439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агляд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нформ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1844640"/>
            <a:ext cx="1944360" cy="1511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одительски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обр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04000" y="1773360"/>
            <a:ext cx="2160720" cy="1726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ндивидуальны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беседы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онсульта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19280" y="2997360"/>
            <a:ext cx="2305080" cy="1439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ривлечение 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формлени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редметной сред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32000" y="476280"/>
            <a:ext cx="662472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бота с родителя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124000" y="1413000"/>
            <a:ext cx="244800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76720" y="1413000"/>
            <a:ext cx="187164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484000" y="1413000"/>
            <a:ext cx="208764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03640" y="1413000"/>
            <a:ext cx="1584360" cy="172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16360" y="1413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Заключительный этап</a:t>
            </a: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(1 месяц)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ультимедийная презентация по итогам реализации проекта на педагогическом сове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ганизация совместной с родителями выставки «Природа и фантазия»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ганизация выставки дидактических игр в методическом кабинете с природоведческим содержание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трольный срез. Подведение итог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Результаты исследования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125000"/>
            <a:ext cx="800748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ознакомлении детей с природой посредством игровой деятельности происходит формирование представлений о многообразии растительного ми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огообразие и широкий спектр игр природоведческого характера помогают детям приобретать навыки заботливого и бережного отношения к обитателям природы, навыки ухода за ни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детей сформирована произвольная регуляция поведения через выработку умения соблюдать правила игр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ти стали доброжелательными, научились работать совмест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Оценка результат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052280"/>
            <a:ext cx="800748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диагностики уровня ЗУН использовался метод индивидуальной беседы (по С.Н.Николаевой), который включает в себя 3 част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вая – представление ребенка о существенных признаках живого и целостности как важнейшем условии жизни организм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торая – изучение представление о свойствах целостного живого организма: его потребность в условиях среды, состоян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етья – о приспособлении живых существ к различным средам обит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итоге выделены следующие критер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ставления о сезонных изменениях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ставления о домашних и диких животных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нание деревьев, кустарников, овощей, фруктов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мение называть окружающие предметы, их свойства и назначени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режное отношение к природ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выки ухода за растениями и животным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нание  о правилах поведения в природ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нание экологических иг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619280" y="320760"/>
            <a:ext cx="54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Диагностирование уровня экологических зна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643280" y="1628640"/>
          <a:ext cx="4035600" cy="453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628640"/>
                    <a:ext cx="4035600" cy="453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68360" y="1628640"/>
          <a:ext cx="4035240" cy="453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1628640"/>
                    <a:ext cx="4035240" cy="453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7"/>
                </a:solidFill>
                <a:latin typeface="Arial Black"/>
              </a:rPr>
              <a:t>Значимость работы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чимость работы определяется разработкой и подбором игр, приобщающих детей к природе, посредством ознакомления с окружающей действительностью детей совместно с родител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также использованием всех видов игр природоведческого характера, направленных на формирование экологического образования де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ВЫВОДЫ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620280"/>
            <a:ext cx="8007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ами педагогической деятельности по экологическому воспитанию дошкольников считаю - мои воспитанники научились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онимать свою роль в окружающем мир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Осознавать последствия своих действий во взаимоотношении с природ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меют представления о законах приро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Знают экологические особенности родного кра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Знают множество разнообразных игр, самостоятельно могут их организовыва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ети приобрели навыки бережного и внимательного отношения к объектам растительного и животного мира, в том числе и навыки по уходу за ни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У детей сформирована произвольная регуляция поведения через выработку умения соблюдать правила иг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ежду детьми укрепились дружеские взаимоотношения, дети научились работать совместно, стали более доброжелательн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 rot="21288000">
            <a:off x="250560" y="4149720"/>
            <a:ext cx="2985840" cy="2239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 rot="510000">
            <a:off x="5076360" y="4076280"/>
            <a:ext cx="3238560" cy="24289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979640" y="549360"/>
            <a:ext cx="5400720" cy="29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Arial"/>
              </a:rPr>
              <a:t>Интернет ресурс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en-US" sz="20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http://festivl.1september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http://doshvozrast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http://www.moi-detsad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http://www.malysham.into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http://www.poznayka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http://www.teremok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Литерату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. Н. Николаева. Методика экологического воспитания дошколь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. Н. Николаева.  Юный эколог – программа и условия её реализации в детском саду.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. Н. Николаева Воспитание экологической культуры в дошкольном детств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.В. РыньковаТ. В. Юдина. Азбука экологического воспитания.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. В. Смирнова. Н. И. Балуева . Тропинка в природу.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. И. Иванова Экологические наблюдения и эксперименты в детском саду.   Мир растений.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Цель:</a:t>
            </a:r>
            <a:br>
              <a:rPr sz="3200"/>
            </a:b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доказать: метод игры – наиболее эффективен в экологическом воспитании дошкольника</a:t>
            </a: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265800" cy="46738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дачи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ВИВАТЬ НАБЛЮДАТЕЛЬНОСТЬ И ЛЮБОЗНАТЕЛЬНОСТЬ ДЕТЕЙ В ПРОЦЕССЕ ОЗНАКОМЛЕНИЯ ИХ С ЯВЛЕНИМИ ПРИРОД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ОРМИРОВАТЬ ОБОБЩЁННЫЕ ПРЕДСТАВЛЕНИЯ О ПРИЗНАКАХ ПРИРОДНЫХ ОБЪЕКТОВ И ЯВЛЕНИЙ, УСТАНАВЛИВАТЬ ПРОСТЕЙШИЕ СВЯЗИ МЕЖДУ НИМ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ПИТЫВАТЬ У ДЕТЕЙ ЧУТКОЕ ОТНОШЕНИЕ КО ВСЕМУ ЖИВОМУ (РАСТЕНИЯМ, ЖИВОТНЫМ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ПИТЫВАТЬ ЛЮБОВЬ К ПРИРОДЕ, ИНТЕРЕС И ЗАБОТЛИВОЕ ОТНОШЕНИЕ К РАСТИТЕЛЬНОМУ МИР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ТАНАВЛИВАТЬ ВЗАИМОПОНИМАНИЯ МЕЖДУ ПЕДАГОГАМИ И ДЕТЬМИ, ИХ РОДИТЕЛ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Противоречия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жду тем, что основной деятельностью дошкольников является игра   и недостаточностью использования их в экологическом образовании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жду знаниями детей и их применен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Основной вопрос проект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с помощью игры добиться у детей прочных знаний и устойчивых правил поведения в природ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частники проекта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ти старшей  группы, родители воспитанников, воспитате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Гипотеза педагогического исследования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пользуя игру как основной метод экологического воспитания дошкольников, я  буду содействовать  в более успешном овладении ими знаниями, накоплению у них эмоционально–позитивного опыта общения  с природой, воспитанию бережного отношения к н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ъект исследования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цесс формирования экологических знаний, умений и навыков у детей дошкольного возрас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дмет исследования: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пользование игры как основного метода             формирования экологических ЗУН дошкольников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258920" y="449640"/>
            <a:ext cx="75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Научно-методическ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обоснова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актуальности темы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970920"/>
            <a:ext cx="820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ервый аспек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школьное детство – начальный этап формирования личности человека, его ценностной ориентации в окружающем мир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этот период закладываются позитивное отношение к природе, к «рукотворному миру», к себе и к окружающим людям. Очень важно уже в раннем детстве сформировать у ребёнка щадящее, оберегающее и ответственное отношение к объектам живой и неживой природы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95280" y="378000"/>
            <a:ext cx="8497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торой аспек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обенно актуальным и эффективным методом в экологическом воспитании детей для периода дошкольного детства является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гра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так как  в жизни детей дошкольного возраста игра является ведущей                     деятельностью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гра – это прежде всего эмоциональная деятельность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грающий ребенок находится в хорошем расположении духа, активен и доброжелателен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ё, что нравится детям, все, что их впечатлило, преобразуется в практику сюжетной или какой-либо другой игры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этому, если дошкольники организовали игру на природоведческий сюжет (зоопарк, ферма, цирк и пр.)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о означает, что полученные представления оказались яркими, запомнились, вызвали эмоциональный откли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«Экологические знания, вызывающие эмоциональную реакцию у детей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войдут в их самостоятельную игру, станут ее содержанием, лучше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чем знания, воздействие которых затрагивает лишь интеллектуальную сферу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. Н.Николаев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bster</cp:lastModifiedBy>
  <dcterms:modified xsi:type="dcterms:W3CDTF">2010-02-16T09:56:58Z</dcterms:modified>
  <cp:revision>25</cp:revision>
  <dc:subject/>
  <dc:title>PowerPoint Presentation</dc:title>
</cp:coreProperties>
</file>