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C9F-5D22-4C92-8B8A-FFA2DAB4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69E-3695-4EED-A868-9210C07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997-A18B-4F11-B9D3-203EF83D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B38-320A-4A3A-8088-4D6D2831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A7B7-FB64-4E21-9E06-CA0EE601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B713-E5AD-4352-A908-ED4D507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014D-6ED4-41C3-A555-362B0071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AFD4-6CDA-400A-8E2F-4A96162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E293-885B-49A3-9EEC-CA5408E0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4497-F6F6-4546-96A2-7A44DC8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CF2B-B714-466E-9051-1473378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E33-31B8-477C-BF3C-04DEC8E9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B7A0-DBED-41E5-B309-B319327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BE76-EF4F-44B8-9088-C868AC2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EF77-D88D-439C-BAA9-8DB0A499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0CF0-9B8E-4769-8CFA-1399350E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4E72-827C-4B48-ADEF-3F1E3989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908-4111-4239-9645-5C67E6E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73C-5A98-4A9C-BB60-62AE6A0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B78-CF39-421B-AC63-836C546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B4A-6B45-45E3-AFBD-47F00C6D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D2F-89E4-45C8-B270-2B1B89E3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08D-EDFA-4180-BDFF-EBF832C9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5BF-46DD-43B9-9CFB-EC06C00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310C-12A0-4F5E-A039-864EFE034D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9B27-6ABB-4A1B-8D74-393E7818A0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festivl.1september.ru/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ема проекта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«Игра как метод экологического воспитания»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проекта: Чернышева Елена Викторо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МАДОУ детский сад       общеразвивающего вида «Ивуш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. Татаново, Тамбовский район, Тамбовская область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тапы  проекта:</a:t>
            </a:r>
            <a:br>
              <a:rPr sz="32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дготовительный этап: (1 месяц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ведение до участников проекта важности данной пробле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интересовать каждого педагога темой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бор методической литературы, иллюстративного материала, пособий, игрушек, атрибутов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списка необходимого оборудования (фотоаппарат, компьютер, мультимедийный проек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диагностического инструментария для определения уровня знаний, умений, навыков детей по эк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ие первоначальной диагнос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ерспективного п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549360"/>
            <a:ext cx="77774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62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новной эта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 7 месяце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133720"/>
            <a:ext cx="374508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3429000"/>
            <a:ext cx="374472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941720"/>
            <a:ext cx="374508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56000" y="1557360"/>
            <a:ext cx="194472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557360"/>
            <a:ext cx="43164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557360"/>
            <a:ext cx="3095640" cy="33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492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е развивающей экологическо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933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4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64000" y="2060640"/>
            <a:ext cx="2374920" cy="21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метно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вающ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кологиче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уголок природ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217800">
            <a:off x="673200" y="3942720"/>
            <a:ext cx="2030400" cy="172404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ни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гор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335000">
            <a:off x="794880" y="246240"/>
            <a:ext cx="2008440" cy="178560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ллек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емя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425200">
            <a:off x="5867280" y="476280"/>
            <a:ext cx="2041560" cy="146376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колог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396000">
            <a:off x="6690960" y="3109680"/>
            <a:ext cx="1655640" cy="200484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ни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абора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5229360"/>
            <a:ext cx="1873080" cy="136836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ушк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ог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уляж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188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348000" y="3500280"/>
            <a:ext cx="251928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700280"/>
            <a:ext cx="187164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авил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421000"/>
            <a:ext cx="1944720" cy="1582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тературны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ерсонаж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2492280"/>
            <a:ext cx="1871640" cy="158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но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ев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4797360"/>
            <a:ext cx="1873080" cy="165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ушкам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ог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4941720"/>
            <a:ext cx="1800360" cy="151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и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утеше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76280"/>
            <a:ext cx="66247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771280" y="3715920"/>
            <a:ext cx="576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67280" y="364464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72000" y="3141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32000" y="450864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458136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2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- ведущая деятельность детей дошкольного возраста, средство самовыражения ребё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развитию познавательных интере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стрение экологической проблемы в стране, необходимость формирования у детей экологического с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64000" y="3141720"/>
            <a:ext cx="208944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астие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тренни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1700280"/>
            <a:ext cx="187164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гляд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194436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дительск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б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773360"/>
            <a:ext cx="2160720" cy="1726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есед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2997360"/>
            <a:ext cx="230508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влечение 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формл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метно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476280"/>
            <a:ext cx="66247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24000" y="1413000"/>
            <a:ext cx="244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1413000"/>
            <a:ext cx="1871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84000" y="1413000"/>
            <a:ext cx="2087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1413000"/>
            <a:ext cx="158436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14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ключительный этап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(1 месяц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льтимедийная презентация по итогам реализации проекта на педагогическом сов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совместной с родителями выставки «Природа и фантазия»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выставки дидактических игр в методическом кабинете с природоведческим содержа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ьный срез. Подведение ито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езультаты исследова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знакомлении детей с природой посредством игровой деятельности происходит формирование представлений о многообразии растительного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образие и широкий спектр игр природоведческого характера помогают детям приобретать навыки заботливого и бережного отношения к обитателям природы, навыки ухода за н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тали доброжелательными, научились работать совмест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ценка результа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диагностики уровня ЗУН использовался метод индивидуальной беседы (по С.Н.Николаевой), который включает в себя 3 ча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– представление ребенка о существенных признаках живого и целостности как важнейшем условии жизни орган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ая – изучение представление о свойствах целостного живого организма: его потребность в условиях среды, состоя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я – о приспособлении живых существ к различным средам об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тоге выделены следующие критер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сезонных изменения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 о домашних и диких животны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деревьев, кустарников, овощей, фрук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называть окружающие предметы, их свойства и назнач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ежное отношение к природ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ыки ухода за растениями и живот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 о правилах поведения в природ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ние экологических и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19280" y="32076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Диагностирование уровня экологических зна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43280" y="1628640"/>
          <a:ext cx="403560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28640"/>
                    <a:ext cx="403560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8360" y="1628640"/>
          <a:ext cx="4035240" cy="453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628640"/>
                    <a:ext cx="4035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Значимость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мость работы определяется разработкой и подбором игр, приобщающих детей к природе, посредством ознакомления с окружающей действительностью детей совместно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также использованием всех видов игр природоведческого характера, направленных на формирование экологического образова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ами педагогической деятельности по экологическому воспитанию дошкольников считаю - мои воспитанники научили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мать свою роль в окружающе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сознавать последствия своих действий во взаимоотношении с природ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меют представления о законах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нают экологические особенности родного кр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нают множество разнообразных игр, самостоятельно могут их организовы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ти приобрели навыки бережного и внимательного отношения к объектам растительного и животного мира, в том числе и навыки по уходу за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 детей сформирована произвольная регуляция поведения через выработку умения соблюдать правила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жду детьми укрепились дружеские взаимоотношения, дети научились работать совместно, стали более доброжела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21288000">
            <a:off x="250560" y="4149720"/>
            <a:ext cx="2985840" cy="2239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rot="510000">
            <a:off x="5076360" y="407628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79640" y="549360"/>
            <a:ext cx="540072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Интернет ресур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festivl.1september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doshvozrast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moi-detsad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http://www.malysham.int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poznayka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ttp://www.teremok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. Методика экологического воспитания до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.  Юный эколог – программа и условия её реализации в детском саду.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 Н. Николаева Воспитание экологической культуры в дошкольном дет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В. РыньковаТ. В. Юдина. Азбука экологического воспитания.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В. Смирнова. Н. И. Балуева . Тропинка в природу.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И. Иванова Экологические наблюдения и эксперименты в детском саду.   Мир растений.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:</a:t>
            </a:r>
            <a:br>
              <a:rPr sz="32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доказать: метод игры – наиболее эффективен в экологическом воспитании дошкольника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265800" cy="4673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ВАТЬ НАБЛЮДАТЕЛЬНОСТЬ И ЛЮБОЗНАТЕЛЬНОСТЬ ДЕТЕЙ В ПРОЦЕССЕ ОЗНАКОМЛЕНИЯ ИХ С ЯВЛЕНИМИ ПРИР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ТЬ ОБОБЩЁННЫЕ ПРЕДСТАВЛЕНИЯ О ПРИЗНАКАХ ПРИРОДНЫХ ОБЪЕКТОВ И ЯВЛЕНИЙ, УСТАНАВЛИВАТЬ ПРОСТЕЙШИЕ СВЯЗИ МЕЖДУ Н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У ДЕТЕЙ ЧУТКОЕ ОТНОШЕНИЕ КО ВСЕМУ ЖИВОМУ (РАСТЕНИЯМ, ЖИВОТНЫ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ЛЮБОВЬ К ПРИРОДЕ, ИНТЕРЕС И ЗАБОТЛИВОЕ ОТНОШЕНИЕ К РАСТИТЕЛЬНОМУ МИР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ТЬ ВЗАИМОПОНИМАНИЯ МЕЖДУ ПЕДАГОГАМИ И ДЕТЬМИ, ИХ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ротивореч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тем, что основной деятельностью дошкольников является игра   и недостаточностью использования их в экологическом образовании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знаниями детей и их примен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сновной вопрос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 помощью игры добиться у детей прочных знаний и устойчивых правил поведения в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старшей  группы, родители воспитанников, воспит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Гипотеза педагогического исследо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я игру как основной метод экологического воспитания дошкольников, я  буду содействовать  в более успешном овладении ими знаниями, накоплению у них эмоционально–позитивного опыта общения  с природой, воспитанию бережного отношения к 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сследова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сс формирования экологических знаний, умений и навыков у детей дошкольного возра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исследования: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ние игры как основного метода             формирования экологических ЗУН дошкольнико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58920" y="449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учно-методическ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босн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ктуальности тем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7092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ый асп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ое детство – начальный этап формирования личности человека, его ценностной ориентации в окружающем ми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т период закладываются позитивное отношение к природе, к «рукотворному миру», к себе и к окружающим людям. Очень важно уже в раннем детстве сформировать у ребёнка щадящее, оберегающее и ответственное отношение к объектам живой и неживой природ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3780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ой асп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 актуальным и эффективным методом в экологическом воспитании детей для периода дошкольного детства является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гр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ак как  в жизни детей дошкольного возраста игра является ведущей                     деятельность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– это прежде всего эмоциональная деятельност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ющий ребенок находится в хорошем расположении духа, активен и доброжелателен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, что нравится детям, все, что их впечатлило, преобразуется в практику сюжетной или какой-либо другой игр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, если дошкольники организовали игру на природоведческий сюжет (зоопарк, ферма, цирк и пр.)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значает, что полученные представления оказались яркими, запомнились, вызвали эмоциональный откл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Экологические знания, вызывающие эмоциональную реакцию у де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йдут в их самостоятельную игру, станут ее содержанием, лучш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чем знания, воздействие которых затрагивает лишь интеллектуальную сферу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. Н.Николае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ster</cp:lastModifiedBy>
  <dcterms:modified xsi:type="dcterms:W3CDTF">2010-02-16T09:56:58Z</dcterms:modified>
  <cp:revision>25</cp:revision>
  <dc:subject/>
  <dc:title>PowerPoint Presentation</dc:title>
</cp:coreProperties>
</file>