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A38-5226-4E6B-AB46-0523557D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68D-D1D3-4AB8-B5A1-1D61D05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272-517E-4323-828E-E6772FF8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C24-1439-48C7-9A4D-1C5B66C8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BDD-12E7-4FC9-A050-50CE23AB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075F-A24E-492C-95DF-D0EFF18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ADDA-CB0D-4697-8F29-11DCC90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C0D1-470F-4CFF-A485-28E2D19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31C-5AE3-47F5-B12C-422032CB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1F25-5C94-48C2-8F01-EAAFBC34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ECF5-24E9-42B2-9E9D-5861553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2A1-D4D3-41A6-AD61-E55A02AF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2E61-455F-48EA-BE6F-572D2B9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3C15-5C30-44ED-8579-BC5C231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6A49-4740-4FF0-A103-E5122A8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2604-0CDA-402B-8165-430170B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9517-2E67-4987-8B4C-A4B0E09F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DAE-742E-460B-9FA3-C5A2397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590-F02C-4939-97F7-F542164D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7FA-BBAB-425B-B6A2-36D8B7A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152-B28C-407E-B1FF-98482009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DEA-F74C-4961-8D0C-D61B8FB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D4D-C23A-4C6E-9E3E-E28BB55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71A-4FC4-4C08-B1B0-8A5EC24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382-54E8-485A-9CF5-69E1B8DBD8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30FC-9D95-4484-BE3F-718148DCF2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festivl.1september.ru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ема проекта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«Игра как метод экологического воспитания»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оекта: Чернышева Елена Викто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МАДОУ детский сад       общеразвивающего вида «Ивуш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 Татаново, Тамбовский район, Тамбовская область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тапы  проекта:</a:t>
            </a:r>
            <a:br>
              <a:rPr sz="32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дготовительный этап: (1 месяц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ведение до участников проекта важности данной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интересовать каждого педагога темой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бор методической литературы, иллюстративного материала, пособий, игрушек, атрибутов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списка необходимого оборудования (фотоаппарат, компьютер, мультимедийный проек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диагностического инструментария для определения уровня знаний, умений, навыков детей по эк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ие первоначальной диагнос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ерспективного п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549360"/>
            <a:ext cx="7777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62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новной эта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 7 месяце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133720"/>
            <a:ext cx="374508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3429000"/>
            <a:ext cx="37447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941720"/>
            <a:ext cx="374508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56000" y="1557360"/>
            <a:ext cx="19447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557360"/>
            <a:ext cx="43164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557360"/>
            <a:ext cx="3095640" cy="33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4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е развивающей экологическ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933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64000" y="2060640"/>
            <a:ext cx="2374920" cy="21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уголок природ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217800">
            <a:off x="673200" y="3942720"/>
            <a:ext cx="2030400" cy="17240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гор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335000">
            <a:off x="794880" y="246240"/>
            <a:ext cx="2008440" cy="178560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ллек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мя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425200">
            <a:off x="5867280" y="476280"/>
            <a:ext cx="2041560" cy="146376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396000">
            <a:off x="6690960" y="3109680"/>
            <a:ext cx="1655640" cy="20048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абора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5229360"/>
            <a:ext cx="1873080" cy="136836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уля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188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48000" y="3500280"/>
            <a:ext cx="2519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авил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421000"/>
            <a:ext cx="1944720" cy="158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тератур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ерсонаж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2492280"/>
            <a:ext cx="187164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но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ев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4797360"/>
            <a:ext cx="1873080" cy="165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ам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941720"/>
            <a:ext cx="1800360" cy="151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и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утеше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771280" y="3715920"/>
            <a:ext cx="576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67280" y="364464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0" y="3141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32000" y="450864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581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2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- ведущая деятельность детей дошкольного возраста, средство самовыражения ребё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развитию познавательных интере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трение экологической проблемы в стране, необходимость формирования у детей экологического с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64000" y="3141720"/>
            <a:ext cx="20894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астие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тренни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гляд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194436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дительск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773360"/>
            <a:ext cx="2160720" cy="172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есед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997360"/>
            <a:ext cx="230508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влечение 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формл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24000" y="1413000"/>
            <a:ext cx="244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1413000"/>
            <a:ext cx="1871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84000" y="1413000"/>
            <a:ext cx="208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1413000"/>
            <a:ext cx="158436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4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ключительный этап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(1 месяц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льтимедийная презентация по итогам реализации проекта на педагогическом сов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совместной с родителями выставки «Природа и фантазия»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выставки дидактических игр в методическом кабинете с природоведческим содерж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ный срез. Подведение ит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зультаты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знакомлении детей с природой посредством игровой деятельности происходит формирование представлений о многообразии растительного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образие и широкий спектр игр природоведческого характера помогают детям приобретать навыки заботливого и бережного отношения к обитателям природы, навыки ухода за н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ли доброжелательными, научились работать совмест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ценка результа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диагностики уровня ЗУН использовался метод индивидуальной беседы (по С.Н.Николаевой), который включает в себя 3 ча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– представление ребенка о существенных признаках живого и целостности как важнейшем условии жизни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– изучение представление о свойствах целостного живого организма: его потребность в условиях среды, состоя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я – о приспособлении живых существ к различным средам об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выделены следующие критер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сезонных изменения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домашних и диких животн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деревьев, кустарников, овощей, фрук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называть окружающие предметы, их свойства и назнач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ежное отношение к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ыки ухода за растениями и живот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 о правилах поведения в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экологически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9280" y="3207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иагностирование уровня экологических зн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43280" y="1628640"/>
          <a:ext cx="403560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0356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8360" y="1628640"/>
          <a:ext cx="4035240" cy="453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628640"/>
                    <a:ext cx="4035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Значимость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мость работы определяется разработкой и подбором игр, приобщающих детей к природе, посредством ознакомления с окружающей действительностью детей совместно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акже использованием всех видов игр природоведческого характера, направленных на формирование экологического образов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ами педагогической деятельности по экологическому воспитанию дошкольников считаю - мои воспитанники научили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мать свою роль в окружающе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знавать последствия своих действий во взаимоотношении с прир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меют представления о законах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экологические особенности родного кр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множество разнообразных игр, самостоятельно могут их организов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ти приобрели навыки бережного и внимательного отношения к объектам растительного и животного мира, в том числе и навыки по уходу за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жду детьми укрепились дружеские взаимоотношения, дети научились работать совместно, стали более доброжел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21288000">
            <a:off x="250560" y="4149720"/>
            <a:ext cx="2985840" cy="22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510000">
            <a:off x="5076360" y="40762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79640" y="549360"/>
            <a:ext cx="54007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нтернет ресур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festivl.1september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doshvozrast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moi-detsad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http://www.malysham.int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poznayka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teremok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Методика экологического воспитания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 Юный эколог – программа и условия её реализации в детском саду.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 Воспитание экологической культуры в дошкольном дет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В. РыньковаТ. В. Юдина. Азбука экологического воспитания.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В. Смирнова. Н. И. Балуева . Тропинка в природу.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И. Иванова Экологические наблюдения и эксперименты в детском саду.   Мир растений.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:</a:t>
            </a:r>
            <a:br>
              <a:rPr sz="32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доказать: метод игры – наиболее эффективен в экологическом воспитании дошкольника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65800" cy="4673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НАБЛЮДАТЕЛЬНОСТЬ И ЛЮБОЗНАТЕЛЬНОСТЬ ДЕТЕЙ В ПРОЦЕССЕ ОЗНАКОМЛЕНИЯ ИХ С ЯВЛЕНИМИ ПРИР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ТЬ ОБОБЩЁННЫЕ ПРЕДСТАВЛЕНИЯ О ПРИЗНАКАХ ПРИРОДНЫХ ОБЪЕКТОВ И ЯВЛЕНИЙ, УСТАНАВЛИВАТЬ ПРОСТЕЙШИЕ СВЯЗИ МЕЖДУ Н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У ДЕТЕЙ ЧУТКОЕ ОТНОШЕНИЕ КО ВСЕМУ ЖИВОМУ (РАСТЕНИЯМ, ЖИВОТНЫ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ЛЮБОВЬ К ПРИРОДЕ, ИНТЕРЕС И ЗАБОТЛИВОЕ ОТНОШЕНИЕ К РАСТИТЕЛЬНОМУ МИ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ТЬ ВЗАИМОПОНИМАНИЯ МЕЖДУ ПЕДАГОГАМИ И ДЕТЬМИ, ИХ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ротивореч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тем, что основной деятельностью дошкольников является игра   и недостаточностью использования их в экологическом образовании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знаниями детей и их примен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сновной вопрос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 помощью игры добиться у детей прочных знаний и устойчивых правил поведения в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старшей  группы, родители воспитанников, воспит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Гипотеза педагогического исслед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игру как основной метод экологического воспитания дошкольников, я  буду содействовать  в более успешном овладении ими знаниями, накоплению у них эмоционально–позитивного опыта общения  с природой, воспитанию бережного отношения к 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сследова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 формирования экологических знаний, умений и навыков у детей дошкольного возра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исследования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гры как основного метода             формирования экологических ЗУН дошкольнико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8920" y="449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учно-методическ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осн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ктуальности тем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7092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детство – начальный этап формирования личности человека, его ценностной ориентации в окружающем ми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т период закладываются позитивное отношение к природе, к «рукотворному миру», к себе и к окружающим людям. Очень важно уже в раннем детстве сформировать у ребёнка щадящее, оберегающее и ответственное отношение к объектам живой и неживой прир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3780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 актуальным и эффективным методом в экологическом воспитании детей для периода дошкольного детства является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гр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 как  в жизни детей дошкольного возраста игра является ведущей                     деятельность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это прежде всего эмоциональная деятельн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ющий ребенок находится в хорошем расположении духа, активен и доброжелателе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, что нравится детям, все, что их впечатлило, преобразуется в практику сюжетной или какой-либо другой игр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, если дошкольники организовали игру на природоведческий сюжет (зоопарк, ферма, цирк и пр.)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значает, что полученные представления оказались яркими, запомнились, вызвали эмоциональный откл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Экологические знания, вызывающие эмоциональную реакцию у де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йдут в их самостоятельную игру, станут ее содержанием, лучш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м знания, воздействие которых затрагивает лишь интеллектуальную сферу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. Н.Никола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2-16T09:56:58Z</dcterms:modified>
  <cp:revision>25</cp:revision>
  <dc:subject/>
  <dc:title>PowerPoint Presentation</dc:title>
</cp:coreProperties>
</file>