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B51-020B-41AB-AAF8-23F3A77F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72F-BCB6-405E-AD20-356F30CD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6B7-4F0E-40B7-9808-AFF1E224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8DE-2A18-481A-AEEC-75970E9E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08BE-A0A9-4DB7-9B7E-BCDBF1C8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ABD4-F32E-4421-A3D1-AB6C6F2E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EE38-6EDA-43AF-B652-8E05DED4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82A0-9DE7-47CE-8AE8-536DEDFE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9A27-A2A6-42D6-B80A-554B6E7A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31E2-724E-4F3D-92B1-7846D202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EBDC-37E3-449C-A517-9CE2757E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556-0280-4247-A460-CA9A8B78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6781-07BE-4FED-B626-140FF6F5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ADC5-FD2F-45F4-8039-6C980018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1BEB-147D-401B-B54E-6F8F798B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68A4-EFB7-4D87-9011-3E25D2A3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35DF-E063-4B09-AD61-BFE21913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7F6-8963-4BAE-9378-CD033B76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12A2-674C-4C0F-9812-E335D59F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6EA-73E1-4CD5-A55C-8DF85FD3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024-4B4F-48E1-AF19-58EA56D8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0A4-0F43-417B-AA3B-92465CC4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986-A3F5-472A-832F-C89C725C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E51-B0AE-45F9-AB9B-2C3C095C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A0AE-B041-46B1-9951-BF334746D9A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E107-B6F7-49BC-97DD-FA8841206D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353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Готовность к обучению в школе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484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дагог-психолог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шей категори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ланова Елена Викторов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отовность к школе — это сложный комплекс определенных психофизиологических состояний, умений, навыков и здоровья ребенк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564000" y="4149720"/>
            <a:ext cx="20685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ыки чтения, письма, счета и другие относятся к общеучебным умениям, но, несмотря на свою важность, не они определяют          готовность ребенка к школ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сновные направления психофизиологической готовност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12000" y="5084640"/>
            <a:ext cx="2604960" cy="1373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2491920"/>
            <a:ext cx="748836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психофизиологическое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интеллектуальное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личностно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Психофизиологическа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Высшие психические функци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нимани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память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мышле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Физическое развит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Состояние здоровь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59640" y="4724280"/>
            <a:ext cx="18716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Интеллектуальна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воение программного материала согласно возрастным норма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зо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учаем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04000" y="4005360"/>
            <a:ext cx="192096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Личностна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моционально-волевая сфе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отива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оммуникативная сфе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419640" y="4002120"/>
            <a:ext cx="2447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Готовность к школе - это не только желание, </a:t>
            </a:r>
            <a:br>
              <a:rPr sz="4000"/>
            </a:b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но еще и  умение учиться</a:t>
            </a: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!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7478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19:59Z</dcterms:created>
  <dc:creator>Admin</dc:creator>
  <dc:description/>
  <dc:language>en-US</dc:language>
  <cp:lastModifiedBy>Алёна</cp:lastModifiedBy>
  <dcterms:modified xsi:type="dcterms:W3CDTF">2012-11-05T17:41:08Z</dcterms:modified>
  <cp:revision>3</cp:revision>
  <dc:subject/>
  <dc:title>Готовность к обучению в школе</dc:title>
</cp:coreProperties>
</file>