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388-9E21-40CF-A83B-ED049657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5A5-8E06-44AF-BBCE-FC43D937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B22-616E-44F2-BCC3-F821CB11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D6A-A98D-4B27-BF61-612983A5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5219-5BCE-4C61-A51C-AC204CC1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1099-97F0-48F8-8460-F29904F9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B4CC-484E-4806-87F0-FF873C27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885E-5114-4708-A8CB-640D7335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BC42-C377-43C3-B8B3-7BBF56FA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5F03-78D7-42F8-9E47-D565EED4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E7FA-30C1-42BD-BEB8-C693601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500-D729-4F90-9183-32EEC515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B7F7-C1F1-42D0-BDB5-C7DAABF0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589D-7E25-4FAE-8548-492D240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AD28-F569-4437-AEB0-75F2B4AC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1446-4A09-4A21-8712-D034956D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22B7-C099-4400-9976-F4263421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1DD-9A98-452E-9A1A-C7A83D41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37A-2CA3-4BA4-9329-C855B43A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FA1-4D8D-48E8-82CC-D0669CD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8FA-7860-4ACE-BEE8-13AEA615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444-BF66-47FD-B8A8-7512A9EE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D33-8933-4C8F-AD4E-45D803E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60B-0C06-4DF9-898F-2EB35BE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936-7B2D-44B6-9D92-C78A75CBC6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4FD6-45D2-40EC-A32F-6DF8248FD8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Готовность к обучению в школ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дагог-психолог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шей категори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ланова Елена Виктор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отовность к школе — это сложный комплекс определенных психофизиологических состояний, умений, навыков и здоровья ребен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ыки чтения, письма, счета и другие относятся к общеучебным умениям, но, несмотря на свою важность, не они определяют          готовность ребенка к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сновные направления психофизиологической готов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2000" y="5084640"/>
            <a:ext cx="2604960" cy="1373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2491920"/>
            <a:ext cx="748836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сихофизиологическо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интеллектуально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личностно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сихофизиологическ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Высшие психические функци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ниман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памят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мышл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Физическое разви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Состояние здоровь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1871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Интеллектуаль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воение программного материала согласно возрастным норма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учаем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04000" y="4005360"/>
            <a:ext cx="192096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Личност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моционально-волевая сфе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отив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ммуникативная сфе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19640" y="4002120"/>
            <a:ext cx="2447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Готовность к школе - это не только желание, 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но еще и  умение учиться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!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7478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19:59Z</dcterms:created>
  <dc:creator>Admin</dc:creator>
  <dc:description/>
  <dc:language>en-US</dc:language>
  <cp:lastModifiedBy>Алёна</cp:lastModifiedBy>
  <dcterms:modified xsi:type="dcterms:W3CDTF">2012-11-05T17:41:08Z</dcterms:modified>
  <cp:revision>3</cp:revision>
  <dc:subject/>
  <dc:title>Готовность к обучению в школе</dc:title>
</cp:coreProperties>
</file>