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1EAC-31E3-4BAD-B875-528BA3CA2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4FDF-85AE-4D97-84C0-A4F903A99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9F61-0F98-4D55-8E69-A7F10FBD3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6FD9-09BC-4233-BA0F-55C766F87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76C02-5234-42BB-947E-A29F27DD7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17291-8CEC-4935-B30F-523123D69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E98F5-489D-423C-9AF5-09E3E3256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11D1D-1D03-4A4C-A095-2834FA701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BF965-B6D0-4EE3-8A22-0F68B5A47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E3FF3-6BEC-402E-8974-61A8A11CE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E2010-A0C3-4121-841D-C787BF87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C731-C2C8-4EBF-8199-FF7905B61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E4B32-0ECB-4139-B168-A7D4C880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FECA4-DBB0-4800-861C-6D7B1BDA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E1C78-7021-4D10-B975-69D674282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D04BD-9D2A-4E5E-AF90-294824B04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59CE5-5CBD-4716-B85B-DA94D1E3A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7C49-FD6F-437D-A2C1-F84E3B420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CF4D-FA10-4EA5-AF52-638393A57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27A0-6229-41A3-8A5E-99ECE814D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EC7C-3DD2-44A1-B0C6-DB48ABAD1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D21F-80C8-426D-BC11-70FF467A6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6833-D57F-4746-8AD4-F0ECF878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3970-D4C0-4FCE-9082-B538C8D2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787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787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9ED89-86DF-4E5E-B522-5FBBD157A0E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948cc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787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787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604E6-9446-4846-A350-883EA26C40C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948cce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5280" y="1196640"/>
            <a:ext cx="83534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Arial"/>
              </a:rPr>
              <a:t>Готовность к обучению в школе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48436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дагог-психолог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сшей категории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ланова Елена Викторовн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Готовность к школе — это сложный комплекс определенных психофизиологических состояний, умений, навыков и здоровья ребенка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564000" y="4149720"/>
            <a:ext cx="2068560" cy="21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ыки чтения, письма, счета и другие относятся к общеучебным умениям, но, несмотря на свою важность, не они определяют          готовность ребенка к школ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Основные направления психофизиологической готовности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012000" y="5084640"/>
            <a:ext cx="2604960" cy="13734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9280" y="2491920"/>
            <a:ext cx="7488360" cy="39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психофизиологическое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интеллектуальное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личностное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Психофизиологическа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.Высшие психические функции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внимание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память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мышлени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. Физическое развит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. Состояние здоровь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659640" y="4724280"/>
            <a:ext cx="187164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Интеллектуальна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воение программного материала согласно возрастным норма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угозо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учаемост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804000" y="4005360"/>
            <a:ext cx="1920960" cy="22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Личностна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Эмоционально-волевая сфер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Мотивац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Коммуникативная сфер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419640" y="4002120"/>
            <a:ext cx="244764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5280" y="1267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cc"/>
                </a:solidFill>
                <a:latin typeface="Arial"/>
              </a:rPr>
              <a:t>Готовность к школе - это не только желание, </a:t>
            </a:r>
            <a:br>
              <a:rPr sz="4000"/>
            </a:br>
            <a:r>
              <a:rPr b="0" i="1" lang="en-US" sz="4000" spc="-1" strike="noStrike">
                <a:solidFill>
                  <a:srgbClr val="ffffcc"/>
                </a:solidFill>
                <a:latin typeface="Arial"/>
              </a:rPr>
              <a:t>но еще и  умение учиться</a:t>
            </a:r>
            <a:r>
              <a:rPr b="1" i="1" lang="en-US" sz="4000" spc="-1" strike="noStrike">
                <a:solidFill>
                  <a:srgbClr val="ffffcc"/>
                </a:solidFill>
                <a:latin typeface="Arial"/>
              </a:rPr>
              <a:t>!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276720" y="2781360"/>
            <a:ext cx="274788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8T08:19:59Z</dcterms:created>
  <dc:creator>Admin</dc:creator>
  <dc:description/>
  <dc:language>en-US</dc:language>
  <cp:lastModifiedBy>Алёна</cp:lastModifiedBy>
  <dcterms:modified xsi:type="dcterms:W3CDTF">2012-11-05T17:41:08Z</dcterms:modified>
  <cp:revision>3</cp:revision>
  <dc:subject/>
  <dc:title>Готовность к обучению в школе</dc:title>
</cp:coreProperties>
</file>