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1.png" ContentType="image/png"/>
  <Override PartName="/ppt/media/image7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.wmf" ContentType="image/x-wmf"/>
  <Override PartName="/ppt/media/image2.png" ContentType="image/png"/>
  <Override PartName="/ppt/media/image8.png" ContentType="image/png"/>
  <Override PartName="/ppt/media/image14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5C4D-3BCB-43C9-A440-84C4746FC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49F5-B195-470B-8826-C4E4A7529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7C94-8C18-49C8-89A8-D49C031C0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8C51-5D21-4490-9FCA-FB417E8B9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9769F-58FA-4F7E-826B-5FFA5836B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7FE05-C6BA-41A4-A5E8-4EDCAC19D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66A31-86B8-46DB-B456-90EA8777C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EBE82-BD9D-4FC3-B421-4724306D7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A93A8-466C-4D44-871C-E03098F73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6567B-0924-4636-B813-1181F091F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1EB89-6820-4022-BB58-5B3298FC2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5E43-3AC3-41CC-905F-53615AB1D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D93D8-2D00-4D04-AA7E-079A7659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19EC7-0D0F-468D-B43B-CA38DFC7C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581E9-719A-4759-BC2B-746FDA297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A5AF3-4874-4FDD-9D96-1FAC70749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D12B9-57EF-4AAA-B355-287761230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DE1D-68EE-4421-A4F1-8FA8A9BAF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EA3B-114D-4340-9187-94DB611D1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B0A7-E1E4-443A-90A3-941654434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369F-1FA3-4E78-814D-BAE9932A5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D32C-1646-4765-B751-8C876EE0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0366-7ED8-47CE-A5ED-FC7FB787A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C939-EB0F-4045-B195-5D98BD1F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7B478-4548-4AD8-A1AE-C19717CAC756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D6F8E-9446-4ECF-BA35-6DAAE516B496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17.jpeg"/><Relationship Id="rId1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50040"/>
                </a:solidFill>
                <a:latin typeface="Arial"/>
              </a:rPr>
              <a:t>Консультация для воспитателей</a:t>
            </a:r>
            <a:br>
              <a:rPr sz="2400"/>
            </a:b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«Формирование доброжелательных отношений среди дошкольников»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f1311"/>
                </a:solidFill>
                <a:latin typeface="Arial"/>
              </a:rPr>
              <a:t>Подготовила и провела Короткова Е.Д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Москва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                          </a:t>
            </a: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ГОУ д/с комбинированного вида № 696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              </a:t>
            </a: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Март, 2013 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880" y="119880"/>
            <a:ext cx="7476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-181440" y="476280"/>
            <a:ext cx="783108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30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Эффективным методом формирования доброжелательности является </a:t>
            </a:r>
            <a:r>
              <a:rPr b="1" lang="en-US" sz="2000" spc="-1" strike="noStrike">
                <a:solidFill>
                  <a:srgbClr val="f0b854"/>
                </a:solidFill>
                <a:latin typeface="Arial"/>
              </a:rPr>
              <a:t>беседа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, в ходе которой педагог имеет возможность привлечь внимание ребенка к страданиям другого человека. Беседа в повседневной жизни, перед игрой, во время ее и после нее способствует появлению отклика - сострадания, побуждает ребенка находить правильные способы проявления сочувствия, оказания помощи.</a:t>
            </a: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Содержание бесед: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- можно предложить детям назвать известные им правила поведения, а также объяснить, как они понимают смысл этих правил;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- можно предложить вспомнить конкретные случаи проявления взаимоотношений в группе и дать оценку поведению детей;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- можно прочитать неоконченный рассказ, в котором изображаются различные ситуации, напоминающие реальные события, происходящие в группе; предложить закончить рассказ по своему усмотрению, а затем мотивировать поступки героев;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- можно прочесть рассказ, где описываются различные проблемные ситуации, в которые попадал герой; дети должны поставить себя на место участника описанных событий, аргументировать его действия и поступки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В беседах с детьми воспитатели часто используют пословицы и поговорки - кладезь народной мудрости, естественным образом воспитывающие в духе доброты и милосердия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-41400"/>
            <a:ext cx="7476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63520" y="549000"/>
            <a:ext cx="738648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Эффективными являются </a:t>
            </a:r>
            <a:r>
              <a:rPr b="1" lang="en-US" sz="2400" spc="-1" strike="noStrike">
                <a:solidFill>
                  <a:srgbClr val="f0b854"/>
                </a:solidFill>
                <a:latin typeface="Arial"/>
              </a:rPr>
              <a:t>беседы с рассматриванием картин</a:t>
            </a:r>
            <a:r>
              <a:rPr b="0" lang="en-US" sz="2400" spc="-1" strike="noStrike">
                <a:solidFill>
                  <a:srgbClr val="f0b854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Также используются </a:t>
            </a:r>
            <a:r>
              <a:rPr b="1" lang="en-US" sz="2400" spc="-1" strike="noStrike">
                <a:solidFill>
                  <a:srgbClr val="f0b854"/>
                </a:solidFill>
                <a:latin typeface="Arial"/>
              </a:rPr>
              <a:t>беседы по серии картин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, сопровождающих развитие сюжет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3564000" y="2852640"/>
            <a:ext cx="3614760" cy="34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-41400"/>
            <a:ext cx="7476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63520" y="620280"/>
            <a:ext cx="7386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Полезны </a:t>
            </a:r>
            <a:r>
              <a:rPr b="1" lang="en-US" sz="2000" spc="-1" strike="noStrike">
                <a:solidFill>
                  <a:srgbClr val="f0b854"/>
                </a:solidFill>
                <a:latin typeface="Arial"/>
              </a:rPr>
              <a:t>практические</a:t>
            </a:r>
            <a:r>
              <a:rPr b="0" lang="en-US" sz="2000" spc="-1" strike="noStrike">
                <a:solidFill>
                  <a:srgbClr val="f0b85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0b854"/>
                </a:solidFill>
                <a:latin typeface="Arial"/>
              </a:rPr>
              <a:t>тренинги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для разрешения ситуаций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- помоги другу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- как нужно обращаться с просьбой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- как поступить, если хочется поиграть именно с этой игрушкой, которая  у другого ребенка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- как нужно здороваться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(прощаться)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- как надо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просить прощение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0"/>
          <a:stretch/>
        </p:blipFill>
        <p:spPr>
          <a:xfrm>
            <a:off x="3995640" y="3357720"/>
            <a:ext cx="3116520" cy="31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18880" y="-208080"/>
            <a:ext cx="7476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63520" y="333000"/>
            <a:ext cx="738648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Для усвоения вежливых форм общения проводятся разные </a:t>
            </a:r>
            <a:r>
              <a:rPr b="1" lang="en-US" sz="2000" spc="-1" strike="noStrike">
                <a:solidFill>
                  <a:srgbClr val="f0b854"/>
                </a:solidFill>
                <a:latin typeface="Arial"/>
              </a:rPr>
              <a:t>игровые задания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, среди которых:</a:t>
            </a: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- «Помоги зайчишке придумать вежливое слово»,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- «Колобок» – детям предлагают перекатывать мяч друг другу, здороваться с колобком и говорить ему приятные слова. Например: «Ты красивый, ты мне нравишься», «ты миленький», «ты пухленький»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- «Назови ласково героев сказки «Теремок». Формируется умение детей обращаться друг к другу ласково, вежливо и культурно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После таких игр дети понимают, что после вежливого обращения людям становиться радостнее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6"/>
          <a:stretch/>
        </p:blipFill>
        <p:spPr>
          <a:xfrm>
            <a:off x="1979640" y="4292640"/>
            <a:ext cx="359424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8880" y="-208080"/>
            <a:ext cx="7476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50920" y="404280"/>
            <a:ext cx="738648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В старшем дошкольном возрасте используются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0b854"/>
                </a:solidFill>
                <a:latin typeface="Arial"/>
              </a:rPr>
              <a:t>игры и упражнения с пиктограммами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и графическими, схематическими изображениями основных эмоций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11280" y="2133720"/>
            <a:ext cx="1800000" cy="172404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5"/>
          <a:stretch/>
        </p:blipFill>
        <p:spPr>
          <a:xfrm>
            <a:off x="3132000" y="2133720"/>
            <a:ext cx="1667160" cy="17049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6"/>
          <a:stretch/>
        </p:blipFill>
        <p:spPr>
          <a:xfrm>
            <a:off x="2268360" y="4437000"/>
            <a:ext cx="1781280" cy="16765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7"/>
          <a:stretch/>
        </p:blipFill>
        <p:spPr>
          <a:xfrm>
            <a:off x="4716360" y="4437000"/>
            <a:ext cx="170496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8880" y="-208080"/>
            <a:ext cx="7476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63520" y="333000"/>
            <a:ext cx="738648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Важным подспорьем в развитии доброжелательности является репродуктивная деятельность детей – </a:t>
            </a:r>
            <a:r>
              <a:rPr b="1" lang="en-US" sz="2000" spc="-1" strike="noStrike">
                <a:solidFill>
                  <a:srgbClr val="f0b854"/>
                </a:solidFill>
                <a:latin typeface="Arial"/>
              </a:rPr>
              <a:t>решение проблемных ситуаций</a:t>
            </a:r>
            <a:r>
              <a:rPr b="0" lang="en-US" sz="2000" spc="-1" strike="noStrike">
                <a:solidFill>
                  <a:srgbClr val="f0b854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f1311"/>
                </a:solidFill>
                <a:latin typeface="Arial"/>
              </a:rPr>
              <a:t>Задачи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1)   воспитывать отзывчивое отношение к окружающим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2)   активизировать собственный опыт переживаний детей в конкретной ситуации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3)   формировать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умение находить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разные способы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решения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0"/>
          <a:stretch/>
        </p:blipFill>
        <p:spPr>
          <a:xfrm>
            <a:off x="3132000" y="3429000"/>
            <a:ext cx="403236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18880" y="-208080"/>
            <a:ext cx="7476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63520" y="333000"/>
            <a:ext cx="738648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Немаловажное условие развитие доброжелательности и других нравственных качеств – это </a:t>
            </a:r>
            <a:r>
              <a:rPr b="1" lang="en-US" sz="2000" spc="-1" strike="noStrike">
                <a:solidFill>
                  <a:srgbClr val="f0b854"/>
                </a:solidFill>
                <a:latin typeface="Arial"/>
              </a:rPr>
              <a:t>пример взрослых</a:t>
            </a:r>
            <a:r>
              <a:rPr b="0" lang="en-US" sz="2000" spc="-1" strike="noStrike">
                <a:solidFill>
                  <a:srgbClr val="f0b854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Внимательное, доброе отношение к детям оставляет глубокий след в их сознании, находит отклик в играх, содействует развитию нравственных начал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Зададим себе вопрос: А сами то мы всегда поступаем нравственно? Не подглядел ли ребенок наши поступки, не взял ли для себя модель неадекватного поведения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Необходима высокая требовательность к себе как образцу проявления гуманистического стиля отношений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2195640" y="3789360"/>
            <a:ext cx="345744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9240" y="226800"/>
            <a:ext cx="723240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Доброжелательность - желание добра,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готовность содействовать благополучию других.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(Толковый словарь. С.И. Ожегов).</a:t>
            </a:r>
            <a:br>
              <a:rPr sz="2000"/>
            </a:br>
            <a:r>
              <a:rPr b="0" i="1" lang="en-US" sz="2000" spc="-1" strike="noStrike">
                <a:solidFill>
                  <a:srgbClr val="ee17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7d47d"/>
                </a:solidFill>
                <a:latin typeface="Arial"/>
              </a:rPr>
              <a:t>Доброта и милосердие – это высочайшие нравственные ценности, вершина человеческого духа. </a:t>
            </a:r>
            <a:br>
              <a:rPr sz="2000"/>
            </a:br>
            <a:r>
              <a:rPr b="0" lang="en-US" sz="2000" spc="-1" strike="noStrike">
                <a:solidFill>
                  <a:srgbClr val="f7d47d"/>
                </a:solidFill>
                <a:latin typeface="Arial"/>
              </a:rPr>
              <a:t>В них проявляются гармония чувств, мыслей, поступков; активное противостояние всему дурному, борьба со злом; готовность помочь кому-нибудь или простить кого-либо из сострадания. </a:t>
            </a: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3500280"/>
            <a:ext cx="7386480" cy="25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Проблему формирования детских взаимоотношений невозможно решить вне организации совместной детской деятельности и педагогического процесса в целом. Во взаимодействии со сверстниками дети учатся действовать совместно, произвольно управлять своим поведением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-208080"/>
            <a:ext cx="7476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333000"/>
            <a:ext cx="738648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Важно познакомить детей с правилами поведения и научить  использовать правила как ориентиры формирования мнения детей о поведении сверстников и самого себя, воспитания доброжелательных взаимоотношений, например: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- хочешь играть, попроси разрешения;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- если начал игру с другом, не бросай ее без его согласия;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- играя, думай, чем помочь товарищам;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- если предложение товарища интереснее, поддержи его;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- будь доброжелателен при выборе партнера на роль, которая нравится тебе;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- относись к окружающим так, как хочется, чтобы относились к тебе;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- не ссорься, если приходится отстаивать свои права, свою позицию, то делай это вежливо;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- внимательно выслушивай всех участников;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- не требуй для себя все время главных ролей;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- будь справедливым в игре;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- если рядом кому-то грустно, поговори, поиграй с ним: в следующий раз помогут тебе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Зная эти правила, дети сами научатся оценивать отрицательные поступки сверстников, а, впоследствии, и свои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0b854"/>
                </a:solidFill>
                <a:latin typeface="Arial"/>
              </a:rPr>
              <a:t>Как обучать детей правилам?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63160" y="1268280"/>
            <a:ext cx="36162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Сначала важно выяснить характер понимания ребенком правил детских взаимоотношений и того, почему эти правила необходимо выполнять, а затем помочь детям увидеть взаимосвязь представлений о правилах с реальным поведением ребенка в детском коллективе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032000" y="1268280"/>
            <a:ext cx="3617640" cy="25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Не лишнее ввести в словарь детей не только всем привычные «спасибо», «пожалуйста», но и «будьте добры», «благодарю», «разрешите»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4140360" y="4149720"/>
            <a:ext cx="3384360" cy="23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95280" y="226800"/>
            <a:ext cx="7300800" cy="25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f7d47d"/>
                </a:solidFill>
                <a:latin typeface="Arial"/>
              </a:rPr>
              <a:t>Необходимо создать благоприятные условия для формирования социально-коммуникативных умений и навыков, дружеских чувств, воспитания отзывчивости, заботы, доброты, справедливости, а также воспитания заботливого отношения к малышам, уважительного отношения к пожилым людям.</a:t>
            </a: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63160" y="2923920"/>
            <a:ext cx="71881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f1311"/>
                </a:solidFill>
                <a:latin typeface="Arial"/>
              </a:rPr>
              <a:t>Основными условиями воспитания доброжелательных отношений у дошкольников являются: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332000" y="4149720"/>
            <a:ext cx="6318000" cy="19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- создание эмоционально-положительного климата в группе;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- моделирование педагогических ситуаций, которые позволяют детям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проявлять добрые чувства к окружающим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-208080"/>
            <a:ext cx="7476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4076640"/>
            <a:ext cx="370836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buSzPct val="4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Установлению доброжелательных отношений способствует умение детей общаться, приветливо разговаривать друг с другом.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779640" y="333360"/>
            <a:ext cx="338436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Определяющее влияние на детей оказывает пример общения взрослых. Поэтому педагогами в первую очередь используются естественно возникающие ситуации, например, связанные с приходом в группу сотрудников детского сада и их общением. Обращают внимание детей на то, как приветливо, по-доброму разговаривают взрослые друг с другом, побуждают их так же общаться между собой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5"/>
          <a:stretch/>
        </p:blipFill>
        <p:spPr>
          <a:xfrm>
            <a:off x="684360" y="476280"/>
            <a:ext cx="282708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698508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Для формирования у воспитанников доброжелательных отношений, педагоги используют все доступные </a:t>
            </a:r>
            <a:br>
              <a:rPr sz="2400"/>
            </a:b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формы и методы работы: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63520" y="2205000"/>
            <a:ext cx="738648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дидактические, подвижные, сюжетно-ролевые, театрализованные, проблемные и народные игры;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непосредственно образовательная деятельность;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моделирование и анализ заданных ситуаций;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сочинение историй, сказок, заучивание стихов, потешек, прибауток;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беседы, чтение художественной литературы, загадывание загадок;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рассматривание картин и иллюстраций;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решение кроссвордов, развлечения, просмотр видеофильмов;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организация выставок детского творчества;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метод проектов   и др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-208080"/>
            <a:ext cx="7476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-360" y="333000"/>
            <a:ext cx="759636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Не нужно доказывать, что ребенок учится, играя, что игра является наилучшим средством воспитания детей. Именно </a:t>
            </a:r>
            <a:r>
              <a:rPr b="1" lang="ru-RU" sz="2000" spc="-1" strike="noStrike">
                <a:solidFill>
                  <a:srgbClr val="f0b854"/>
                </a:solidFill>
                <a:latin typeface="Arial"/>
              </a:rPr>
              <a:t>в игре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у детей лучше всего проявляются и закрепляются добрые чувства. По мнению Нечаевой В.Г., Котырло В.К., Марковой Т.А. и др. игра выполняет функцию воспитания и формирования гуманных отношений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Основное содержание игры малышей заключается в выполнении определенных действий с игрушками, воспроизведении действий людей; детей среднего возраста – в воспроизведении отношений между взрослыми;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0" y="3068280"/>
            <a:ext cx="37800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у старших дошкольников содержанием становятся правила общественного поведения и общественные отношения между людьми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Когда дети играют, ситуации проявления доброты, внимания, организовать еще легче, чем просто в обычной жизни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6"/>
          <a:stretch/>
        </p:blipFill>
        <p:spPr>
          <a:xfrm>
            <a:off x="3995640" y="3357720"/>
            <a:ext cx="3384720" cy="30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8880" y="-208080"/>
            <a:ext cx="7476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63160" y="333000"/>
            <a:ext cx="36162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Обязательным компонентом в развитии доброжелательности у дошкольников является </a:t>
            </a:r>
            <a:r>
              <a:rPr b="1" lang="en-US" sz="1800" spc="-1" strike="noStrike">
                <a:solidFill>
                  <a:srgbClr val="f0b854"/>
                </a:solidFill>
                <a:latin typeface="Arial"/>
              </a:rPr>
              <a:t>художественная литература.</a:t>
            </a: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Художественное слово воздействует не только на сознание, но и на чувства и поступки ребенка. Слово может окрылить ребенка, вызвать желание стать лучше, сделать что-то хорошее, помогает осознать человеческие взаимоотношения, познакомиться с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нормами поведения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634920" y="2852280"/>
            <a:ext cx="4249800" cy="32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Тематическое распределение произведений для чтения детям на организованных видах деятельности позволяет педагогу проводить работу по воспитанию чувств детей целенаправленно и комплексно. При этом используем повторное чтение, которое углубляет чувства и представления детей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5"/>
          <a:stretch/>
        </p:blipFill>
        <p:spPr>
          <a:xfrm>
            <a:off x="4067280" y="333360"/>
            <a:ext cx="343836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5T08:43:37Z</dcterms:created>
  <dc:creator>Admin</dc:creator>
  <dc:description/>
  <dc:language>en-US</dc:language>
  <cp:lastModifiedBy>Admin</cp:lastModifiedBy>
  <dcterms:modified xsi:type="dcterms:W3CDTF">2013-04-05T10:01:31Z</dcterms:modified>
  <cp:revision>2</cp:revision>
  <dc:subject/>
  <dc:title>Консультация для воспитателей «Формирование доброжелательных отношений среди дошкольников»</dc:title>
</cp:coreProperties>
</file>