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B17-455E-4854-9958-893EB7E8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2A5-E115-4CD6-AC44-3F7014B6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845-80EA-4C66-923D-40BCEE8F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14D-90AD-4A54-B40C-D49E7BDA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F038-F990-4AFB-9057-4B725647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7D2D-62EE-40B2-9A2A-4C9694D0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E907-0DE5-4853-9EB5-CF65D581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0DC9-26BF-43FD-9475-D1EB4694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DA5B-7ACB-44E0-A8C7-7E5288FE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55B6-39D0-4C6C-9A11-F6C9EA7A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233B-994A-4D6C-B2A8-BE958A30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E01-DEBB-4DE8-9394-02066165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1814-D4CE-4382-B0E6-7818B0E4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2C28-3476-4FE4-A48A-41764BE9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8B3B-091F-4D4B-96C2-51066BCB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13A5-F61F-4958-BCEC-8DD8C217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1A66-7EC6-45E8-B045-32136B89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1B1-A517-4DEF-A828-94446DD3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FB1-5DF7-4EB5-821A-D3222A4C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1F7-6A5C-4CAF-B63E-D4968D2F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60E-F58B-49FA-B4CD-CB1685CB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6CE-AA6A-481D-B9C2-8FF4220A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947-D122-4843-AEDE-84EC7847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B14-074E-4B32-8494-2646B848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2B4C-9DFB-42A7-A8AF-83615F4CC9B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7189-A675-428E-BA2C-311EFAAA04A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40"/>
                </a:solidFill>
                <a:latin typeface="Arial"/>
              </a:rPr>
              <a:t>Консультация для воспитателей</a:t>
            </a:r>
            <a:br>
              <a:rPr sz="24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«Формирование доброжелательных отношений среди дошкольников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Подготовила и провела Короткова Е.Д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Моск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ГОУ д/с комбинированного вида № 696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Март, 2013 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1198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181440" y="476280"/>
            <a:ext cx="78310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0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Эффективным методом формирования доброжелательности является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беседа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, в ходе которой педагог имеет возможность привлечь внимание ребенка к страданиям другого человека. Беседа в повседневной жизни, перед игрой, во время ее и после нее способствует появлению отклика - сострадания, побуждает ребенка находить правильные способы проявления сочувствия, оказания помощи.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Содержание бесед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можно предложить детям назвать известные им правила поведения, а также объяснить, как они понимают смысл этих правил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можно предложить вспомнить конкретные случаи проявления взаимоотношений в группе и дать оценку поведению детей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можно прочитать неоконченный рассказ, в котором изображаются различные ситуации, напоминающие реальные события, происходящие в группе; предложить закончить рассказ по своему усмотрению, а затем мотивировать поступки героев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можно прочесть рассказ, где описываются различные проблемные ситуации, в которые попадал герой; дети должны поставить себя на место участника описанных событий, аргументировать его действия и поступк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 беседах с детьми воспитатели часто используют пословицы и поговорки - кладезь народной мудрости, естественным образом воспитывающие в духе доброты и милосердия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Эффективными являются </a:t>
            </a:r>
            <a:r>
              <a:rPr b="1" lang="en-US" sz="2400" spc="-1" strike="noStrike">
                <a:solidFill>
                  <a:srgbClr val="f0b854"/>
                </a:solidFill>
                <a:latin typeface="Arial"/>
              </a:rPr>
              <a:t>беседы с рассматриванием картин</a:t>
            </a:r>
            <a:r>
              <a:rPr b="0" lang="en-US" sz="2400" spc="-1" strike="noStrike">
                <a:solidFill>
                  <a:srgbClr val="f0b854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Также используются </a:t>
            </a:r>
            <a:r>
              <a:rPr b="1" lang="en-US" sz="2400" spc="-1" strike="noStrike">
                <a:solidFill>
                  <a:srgbClr val="f0b854"/>
                </a:solidFill>
                <a:latin typeface="Arial"/>
              </a:rPr>
              <a:t>беседы по серии карти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, сопровождающих развитие сюже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564000" y="2852640"/>
            <a:ext cx="36147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лезны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практические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тренинги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ля разрешения ситуаций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помоги другу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как нужно обращаться с просьбой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как поступить, если хочется поиграть именно с этой игрушкой, которая  у другого ребенка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как нужно здороватьс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прощаться)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как надо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росить прощени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3995640" y="3357720"/>
            <a:ext cx="311652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ля усвоения вежливых форм общения проводятся разные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игровые задания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, среди которых: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«Помоги зайчишке придумать вежливое слово»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«Колобок» – детям предлагают перекатывать мяч друг другу, здороваться с колобком и говорить ему приятные слова. Например: «Ты красивый, ты мне нравишься», «ты миленький», «ты пухленький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«Назови ласково героев сказки «Теремок». Формируется умение детей обращаться друг к другу ласково, вежливо и культурно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сле таких игр дети понимают, что после вежливого обращения людям становиться радостне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1979640" y="4292640"/>
            <a:ext cx="3594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404280"/>
            <a:ext cx="7386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 старшем дошкольном возрасте используютс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игры и упражнения с пиктограммами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и графическими, схематическими изображениями основных эмоци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11280" y="2133720"/>
            <a:ext cx="1800000" cy="1724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3132000" y="2133720"/>
            <a:ext cx="1667160" cy="1704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2268360" y="4437000"/>
            <a:ext cx="1781280" cy="1676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4716360" y="4437000"/>
            <a:ext cx="17049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ажным подспорьем в развитии доброжелательности является репродуктивная деятельность детей –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решение проблемных ситуаций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)   воспитывать отзывчивое отношение к окружающим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)   активизировать собственный опыт переживаний детей в конкретной ситуац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3)   формировать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мение находить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разные способы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реш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3132000" y="3429000"/>
            <a:ext cx="40323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емаловажное условие развитие доброжелательности и других нравственных качеств – это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пример взрослых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Внимательное, доброе отношение к детям оставляет глубокий след в их сознании, находит отклик в играх, содействует развитию нравственных нача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Зададим себе вопрос: А сами то мы всегда поступаем нравственно? Не подглядел ли ребенок наши поступки, не взял ли для себя модель неадекватного поведения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еобходима высокая требовательность к себе как образцу проявления гуманистического стиля отношени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2195640" y="3789360"/>
            <a:ext cx="345744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2324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оброжелательность - желание добра,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отовность содействовать благополучию других.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Толковый словарь. С.И. Ожегов).</a:t>
            </a:r>
            <a:br>
              <a:rPr sz="2000"/>
            </a:br>
            <a:r>
              <a:rPr b="0" i="1" lang="en-US" sz="2000" spc="-1" strike="noStrike">
                <a:solidFill>
                  <a:srgbClr val="ee17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Доброта и милосердие – это высочайшие нравственные ценности, вершина человеческого духа. </a:t>
            </a:r>
            <a:br>
              <a:rPr sz="2000"/>
            </a:b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В них проявляются гармония чувств, мыслей, поступков; активное противостояние всему дурному, борьба со злом; готовность помочь кому-нибудь или простить кого-либо из сострадания. 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3500280"/>
            <a:ext cx="738648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облему формирования детских взаимоотношений невозможно решить вне организации совместной детской деятельности и педагогического процесса в целом. Во взаимодействии со сверстниками дети учатся действовать совместно, произвольно управлять своим поведение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Важно познакомить детей с правилами поведения и научить  использовать правила как ориентиры формирования мнения детей о поведении сверстников и самого себя, воспитания доброжелательных взаимоотношений, например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хочешь играть, попроси разрешения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если начал игру с другом, не бросай ее без его согласия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играя, думай, чем помочь товарищам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если предложение товарища интереснее, поддержи его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будь доброжелателен при выборе партнера на роль, которая нравится тебе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относись к окружающим так, как хочется, чтобы относились к тебе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не ссорься, если приходится отстаивать свои права, свою позицию, то делай это вежливо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внимательно выслушивай всех участников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не требуй для себя все время главных ролей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будь справедливым в игре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если рядом кому-то грустно, поговори, поиграй с ним: в следующий раз помогут тебе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Зная эти правила, дети сами научатся оценивать отрицательные поступки сверстников, а, впоследствии, и сво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b854"/>
                </a:solidFill>
                <a:latin typeface="Arial"/>
              </a:rPr>
              <a:t>Как обучать детей правилам?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63160" y="1268280"/>
            <a:ext cx="36162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Сначала важно выяснить характер понимания ребенком правил детских взаимоотношений и того, почему эти правила необходимо выполнять, а затем помочь детям увидеть взаимосвязь представлений о правилах с реальным поведением ребенка в детском коллективе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032000" y="1268280"/>
            <a:ext cx="361764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Не лишнее ввести в словарь детей не только всем привычные «спасибо», «пожалуйста», но и «будьте добры», «благодарю», «разрешите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140360" y="4149720"/>
            <a:ext cx="338436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3008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Необходимо создать благоприятные условия для формирования социально-коммуникативных умений и навыков, дружеских чувств, воспитания отзывчивости, заботы, доброты, справедливости, а также воспитания заботливого отношения к малышам, уважительного отношения к пожилым людям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63160" y="2923920"/>
            <a:ext cx="7188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Основными условиями воспитания доброжелательных отношений у дошкольников являются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32000" y="4149720"/>
            <a:ext cx="63180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создание эмоционально-положительного климата в группе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моделирование педагогических ситуаций, которые позволяют детя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роявлять добрые чувства к окружающим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4076640"/>
            <a:ext cx="3708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становлению доброжелательных отношений способствует умение детей общаться, приветливо разговаривать друг с другом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79640" y="333360"/>
            <a:ext cx="3384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Определяющее влияние на детей оказывает пример общения взрослых. Поэтому педагогами в первую очередь используются естественно возникающие ситуации, например, связанные с приходом в группу сотрудников детского сада и их общением. Обращают внимание детей на то, как приветливо, по-доброму разговаривают взрослые друг с другом, побуждают их так же общаться между собо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684360" y="476280"/>
            <a:ext cx="2827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69850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Для формирования у воспитанников доброжелательных отношений, педагоги используют все доступные 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формы и методы работы: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2205000"/>
            <a:ext cx="73864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идактические, подвижные, сюжетно-ролевые, театрализованные, проблемные и народные игры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епосредственно образовательная деятельность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моделирование и анализ заданных ситуаций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очинение историй, сказок, заучивание стихов, потешек, прибауток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беседы, чтение художественной литературы, загадывание загадок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ссматривание картин и иллюстраций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ешение кроссвордов, развлечения, просмотр видеофильмов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рганизация выставок детского творчества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метод проектов   и др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333000"/>
            <a:ext cx="7596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е нужно доказывать, что ребенок учится, играя, что игра является наилучшим средством воспитания детей. Именно </a:t>
            </a:r>
            <a:r>
              <a:rPr b="1" lang="ru-RU" sz="2000" spc="-1" strike="noStrike">
                <a:solidFill>
                  <a:srgbClr val="f0b854"/>
                </a:solidFill>
                <a:latin typeface="Arial"/>
              </a:rPr>
              <a:t>в игре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у детей лучше всего проявляются и закрепляются добрые чувства. По мнению Нечаевой В.Г., Котырло В.К., Марковой Т.А. и др. игра выполняет функцию воспитания и формирования гуманных отношени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сновное содержание игры малышей заключается в выполнении определенных действий с игрушками, воспроизведении действий людей; детей среднего возраста – в воспроизведении отношений между взрослыми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3068280"/>
            <a:ext cx="3780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 старших дошкольников содержанием становятся правила общественного поведения и общественные отношения между людьм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Когда дети играют, ситуации проявления доброты, внимания, организовать еще легче, чем просто в обычной жизн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3995640" y="3357720"/>
            <a:ext cx="338472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160" y="333000"/>
            <a:ext cx="36162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Обязательным компонентом в развитии доброжелательности у дошкольников является </a:t>
            </a:r>
            <a:r>
              <a:rPr b="1" lang="en-US" sz="1800" spc="-1" strike="noStrike">
                <a:solidFill>
                  <a:srgbClr val="f0b854"/>
                </a:solidFill>
                <a:latin typeface="Arial"/>
              </a:rPr>
              <a:t>художественная литература.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Художественное слово воздействует не только на сознание, но и на чувства и поступки ребенка. Слово может окрылить ребенка, вызвать желание стать лучше, сделать что-то хорошее, помогает осознать человеческие взаимоотношения, познакомиться с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нормами поведени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34920" y="2852280"/>
            <a:ext cx="4249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Тематическое распределение произведений для чтения детям на организованных видах деятельности позволяет педагогу проводить работу по воспитанию чувств детей целенаправленно и комплексно. При этом используем повторное чтение, которое углубляет чувства и представления дет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4067280" y="333360"/>
            <a:ext cx="3438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8:43:37Z</dcterms:created>
  <dc:creator>Admin</dc:creator>
  <dc:description/>
  <dc:language>en-US</dc:language>
  <cp:lastModifiedBy>Admin</cp:lastModifiedBy>
  <dcterms:modified xsi:type="dcterms:W3CDTF">2013-04-05T10:01:31Z</dcterms:modified>
  <cp:revision>2</cp:revision>
  <dc:subject/>
  <dc:title>Консультация для воспитателей «Формирование доброжелательных отношений среди дошкольников»</dc:title>
</cp:coreProperties>
</file>