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D74-F016-4665-8ED1-32A8F771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5C5-FA4E-41DF-B000-793A2858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5A3-F09C-4692-BCF8-D3DC79F2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D9F-2D0D-490F-B9CD-291A8674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D131-EDBB-4AD9-A52B-95709D9B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91E0-1F7B-4CE9-8B8A-1C78917B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B79D-C1BC-4E99-994A-E6192C53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9913-2463-47A3-B207-1EF4E831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642C-0C73-4059-ACCE-58196C02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3FB1-CB06-4597-897B-7C2EC731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C2E9-E688-4367-B1BF-D9958B69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B73-A4CB-4A46-AF64-77179817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C99B-761D-463B-81E9-BADD5E7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213B-E987-4876-912E-69A9DBF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33CE-B709-4AF3-847E-11CAD43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7721-48DC-4854-BFCB-B7C0EB1D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4C32-7DD4-4211-ABE1-33FA6E45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5EB-D8A2-47B6-A960-CB6727C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6BB-380F-453C-83CB-6C061275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D63-9A59-4085-83B3-4BD28E5D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D57-89BE-4A8B-A4AC-F77C1292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528-88E1-4456-9196-0A594B9D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D55-7FB7-4177-8C1A-369F53B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F4F-814C-4330-A94D-D240D825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1CED-C72F-4ABE-AD0D-2D173A8B522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855A-75CF-4664-B5F5-178BF06A6FD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40"/>
                </a:solidFill>
                <a:latin typeface="Arial"/>
              </a:rPr>
              <a:t>Консультация для воспитателей</a:t>
            </a:r>
            <a:br>
              <a:rPr sz="24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Формирование доброжелательных отношений среди дошкольников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Подготовила и провела Короткова Е.Д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ГОУ д/с комбинированного вида № 696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Март, 2013 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1198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181440" y="476280"/>
            <a:ext cx="78310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Эффективным методом формирования доброжелательности является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беседа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, в ходе которой педагог имеет возможность привлечь внимание ребенка к страданиям другого человека. Беседа в повседневной жизни, перед игрой, во время ее и после нее способствует появлению отклика - сострадания, побуждает ребенка находить правильные способы проявления сочувствия, оказания помощи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Содержание бесед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едложить детям назвать известные им правила поведения, а также объяснить, как они понимают смысл этих правил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едложить вспомнить конкретные случаи проявления взаимоотношений в группе и дать оценку поведению детей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очитать неоконченный рассказ, в котором изображаются различные ситуации, напоминающие реальные события, происходящие в группе; предложить закончить рассказ по своему усмотрению, а затем мотивировать поступки героев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очесть рассказ, где описываются различные проблемные ситуации, в которые попадал герой; дети должны поставить себя на место участника описанных событий, аргументировать его действия и поступ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 беседах с детьми воспитатели часто используют пословицы и поговорки - кладезь народной мудрости, естественным образом воспитывающие в духе доброты и милосердия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Эффективными являются </a:t>
            </a:r>
            <a:r>
              <a:rPr b="1" lang="en-US" sz="2400" spc="-1" strike="noStrike">
                <a:solidFill>
                  <a:srgbClr val="f0b854"/>
                </a:solidFill>
                <a:latin typeface="Arial"/>
              </a:rPr>
              <a:t>беседы с рассматриванием картин</a:t>
            </a:r>
            <a:r>
              <a:rPr b="0" lang="en-US" sz="2400" spc="-1" strike="noStrike">
                <a:solidFill>
                  <a:srgbClr val="f0b85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акже используются </a:t>
            </a:r>
            <a:r>
              <a:rPr b="1" lang="en-US" sz="2400" spc="-1" strike="noStrike">
                <a:solidFill>
                  <a:srgbClr val="f0b854"/>
                </a:solidFill>
                <a:latin typeface="Arial"/>
              </a:rPr>
              <a:t>беседы по серии карт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сопровождающих развитие сюже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564000" y="2852640"/>
            <a:ext cx="3614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лезны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практические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тренинги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ля разрешения ситуаций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помоги другу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нужно обращаться с просьбо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поступить, если хочется поиграть именно с этой игрушкой, которая  у другого ребенк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нужно здороватьс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прощаться)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над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осить проще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3995640" y="3357720"/>
            <a:ext cx="31165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ля усвоения вежливых форм общения проводятся разные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игровые задания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, среди которых: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«Помоги зайчишке придумать вежливое слово»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«Колобок» – детям предлагают перекатывать мяч друг другу, здороваться с колобком и говорить ему приятные слова. Например: «Ты красивый, ты мне нравишься», «ты миленький», «ты пухленький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«Назови ласково героев сказки «Теремок». Формируется умение детей обращаться друг к другу ласково, вежливо и культурно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сле таких игр дети понимают, что после вежливого обращения людям становиться радостне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1979640" y="4292640"/>
            <a:ext cx="3594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7386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 старшем дошкольном возрасте используют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игры и упражнения с пиктограммами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 графическими, схематическими изображениями основных эмоц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1800000" cy="1724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132000" y="2133720"/>
            <a:ext cx="1667160" cy="1704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2268360" y="4437000"/>
            <a:ext cx="1781280" cy="1676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4716360" y="4437000"/>
            <a:ext cx="17049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ажным подспорьем в развитии доброжелательности является репродуктивная деятельность детей –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решение проблемных ситуаций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)   воспитывать отзывчивое отношение к окружающим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)   активизировать собственный опыт переживаний детей в конкретной ситуа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3)   формироват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мение находит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разные способы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реш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3132000" y="3429000"/>
            <a:ext cx="40323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емаловажное условие развитие доброжелательности и других нравственных качеств – это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пример взрослых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Внимательное, доброе отношение к детям оставляет глубокий след в их сознании, находит отклик в играх, содействует развитию нравственных нача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дадим себе вопрос: А сами то мы всегда поступаем нравственно? Не подглядел ли ребенок наши поступки, не взял ли для себя модель неадекватного поведени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еобходима высокая требовательность к себе как образцу проявления гуманистического стиля отношени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2195640" y="3789360"/>
            <a:ext cx="34574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2324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брожелательность - желание добра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товность содействовать благополучию других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Толковый словарь. С.И. Ожегов).</a:t>
            </a:r>
            <a:br>
              <a:rPr sz="2000"/>
            </a:br>
            <a:r>
              <a:rPr b="0" i="1" lang="en-US" sz="2000" spc="-1" strike="noStrike">
                <a:solidFill>
                  <a:srgbClr val="ee17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Доброта и милосердие – это высочайшие нравственные ценности, вершина человеческого духа. </a:t>
            </a: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В них проявляются гармония чувств, мыслей, поступков; активное противостояние всему дурному, борьба со злом; готовность помочь кому-нибудь или простить кого-либо из сострадания. 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500280"/>
            <a:ext cx="738648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блему формирования детских взаимоотношений невозможно решить вне организации совместной детской деятельности и педагогического процесса в целом. Во взаимодействии со сверстниками дети учатся действовать совместно, произвольно управлять своим поведени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Важно познакомить детей с правилами поведения и научить  использовать правила как ориентиры формирования мнения детей о поведении сверстников и самого себя, воспитания доброжелательных взаимоотношений, например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хочешь играть, попроси разрешения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если начал игру с другом, не бросай ее без его согласия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играя, думай, чем помочь товарищам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если предложение товарища интереснее, поддержи его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будь доброжелателен при выборе партнера на роль, которая нравится тебе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относись к окружающим так, как хочется, чтобы относились к тебе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не ссорься, если приходится отстаивать свои права, свою позицию, то делай это вежливо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внимательно выслушивай всех участников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не требуй для себя все время главных ролей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будь справедливым в игре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если рядом кому-то грустно, поговори, поиграй с ним: в следующий раз помогут теб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Зная эти правила, дети сами научатся оценивать отрицательные поступки сверстников, а, впоследствии, и сво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b854"/>
                </a:solidFill>
                <a:latin typeface="Arial"/>
              </a:rPr>
              <a:t>Как обучать детей правилам?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3160" y="1268280"/>
            <a:ext cx="36162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начала важно выяснить характер понимания ребенком правил детских взаимоотношений и того, почему эти правила необходимо выполнять, а затем помочь детям увидеть взаимосвязь представлений о правилах с реальным поведением ребенка в детском коллективе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032000" y="1268280"/>
            <a:ext cx="361764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Не лишнее ввести в словарь детей не только всем привычные «спасибо», «пожалуйста», но и «будьте добры», «благодарю», «разрешите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140360" y="4149720"/>
            <a:ext cx="33843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3008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Необходимо создать благоприятные условия для формирования социально-коммуникативных умений и навыков, дружеских чувств, воспитания отзывчивости, заботы, доброты, справедливости, а также воспитания заботливого отношения к малышам, уважительного отношения к пожилым людям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160" y="2923920"/>
            <a:ext cx="7188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Основными условиями воспитания доброжелательных отношений у дошкольников являются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32000" y="4149720"/>
            <a:ext cx="63180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создание эмоционально-положительного климата в группе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моделирование педагогических ситуаций, которые позволяют дет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оявлять добрые чувства к окружающим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4076640"/>
            <a:ext cx="3708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становлению доброжелательных отношений способствует умение детей общаться, приветливо разговаривать друг с другом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79640" y="333360"/>
            <a:ext cx="3384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Определяющее влияние на детей оказывает пример общения взрослых. Поэтому педагогами в первую очередь используются естественно возникающие ситуации, например, связанные с приходом в группу сотрудников детского сада и их общением. Обращают внимание детей на то, как приветливо, по-доброму разговаривают взрослые друг с другом, побуждают их так же общаться между соб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684360" y="476280"/>
            <a:ext cx="2827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9850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формирования у воспитанников доброжелательных отношений, педагоги используют все доступные 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формы и методы работы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2205000"/>
            <a:ext cx="73864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идактические, подвижные, сюжетно-ролевые, театрализованные, проблемные и народные игры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посредственно образовательная деятельность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оделирование и анализ заданных ситуаций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чинение историй, сказок, заучивание стихов, потешек, прибауток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беседы, чтение художественной литературы, загадывание загадок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сматривание картин и иллюстраций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шение кроссвордов, развлечения, просмотр видеофильмов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рганизация выставок детского творчеств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етод проектов   и др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7596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 нужно доказывать, что ребенок учится, играя, что игра является наилучшим средством воспитания детей. Именно </a:t>
            </a:r>
            <a:r>
              <a:rPr b="1" lang="ru-RU" sz="2000" spc="-1" strike="noStrike">
                <a:solidFill>
                  <a:srgbClr val="f0b854"/>
                </a:solidFill>
                <a:latin typeface="Arial"/>
              </a:rPr>
              <a:t>в игре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у детей лучше всего проявляются и закрепляются добрые чувства. По мнению Нечаевой В.Г., Котырло В.К., Марковой Т.А. и др. игра выполняет функцию воспитания и формирования гуманных отношени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новное содержание игры малышей заключается в выполнении определенных действий с игрушками, воспроизведении действий людей; детей среднего возраста – в воспроизведении отношений между взрослым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3068280"/>
            <a:ext cx="3780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 старших дошкольников содержанием становятся правила общественного поведения и общественные отношения между людьм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Когда дети играют, ситуации проявления доброты, внимания, организовать еще легче, чем просто в обычной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3995640" y="3357720"/>
            <a:ext cx="338472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333000"/>
            <a:ext cx="36162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Обязательным компонентом в развитии доброжелательности у дошкольников является </a:t>
            </a:r>
            <a:r>
              <a:rPr b="1" lang="en-US" sz="1800" spc="-1" strike="noStrike">
                <a:solidFill>
                  <a:srgbClr val="f0b854"/>
                </a:solidFill>
                <a:latin typeface="Arial"/>
              </a:rPr>
              <a:t>художественная литература.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Художественное слово воздействует не только на сознание, но и на чувства и поступки ребенка. Слово может окрылить ребенка, вызвать желание стать лучше, сделать что-то хорошее, помогает осознать человеческие взаимоотношения, познакомиться с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ормами повед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34920" y="2852280"/>
            <a:ext cx="4249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Тематическое распределение произведений для чтения детям на организованных видах деятельности позволяет педагогу проводить работу по воспитанию чувств детей целенаправленно и комплексно. При этом используем повторное чтение, которое углубляет чувства и представления дет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067280" y="333360"/>
            <a:ext cx="3438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8:43:37Z</dcterms:created>
  <dc:creator>Admin</dc:creator>
  <dc:description/>
  <dc:language>en-US</dc:language>
  <cp:lastModifiedBy>Admin</cp:lastModifiedBy>
  <dcterms:modified xsi:type="dcterms:W3CDTF">2013-04-05T10:01:31Z</dcterms:modified>
  <cp:revision>2</cp:revision>
  <dc:subject/>
  <dc:title>Консультация для воспитателей «Формирование доброжелательных отношений среди дошкольников»</dc:title>
</cp:coreProperties>
</file>