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FD0-E830-4EB7-8F4F-3DC4AB35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F8C-05FE-419A-A027-FD652D4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44A-547C-4D56-9722-951B57C7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7EB-FD9B-48B5-B1E9-7FB9EA3B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F138-1B04-4C69-AF8A-0C8DF004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FAD-7688-4DB0-969F-A5E6E118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F0CE-C4BE-46DB-9880-08667C0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66A-AAC6-4A79-AD03-1078FFB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CC5-E151-45DC-B1AD-DD5FC980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D15F-1096-4C66-8244-97F8D17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3D6-7FF5-4890-A213-7E270294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F39-DDFC-42EF-BFD9-9D5645A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59AF-F559-4E5E-8B09-EAE8291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5E1-D80F-46C1-AF9F-EE6C3F8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1B6-788A-4D51-8926-7AE6A8C4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D1A5-21E3-4AE3-BCA1-33E1BB8B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824-8934-4A94-BB59-FBD1C237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701-0BCA-4085-8DA1-CAF1AAC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6E0-5CB8-41C3-A50A-A5C2727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0AB-3948-4B22-8C38-EF6064BB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E90-03CB-4281-9445-D03FF8D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B0D-6DEE-428E-AE8B-35C13A5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C25-4131-4073-A9C7-0351537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7F7-E018-4992-8F12-9A904F8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FFED-36B4-4D3D-A7F2-D0FE3C1F8B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FB2-11BD-4919-9302-6765EBCAF1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3080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4b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534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Формы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взаимодействия   педагогов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с  семьей  ребенка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дошкольного   возраста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с   особыми  образовательными потребностями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132000" y="4653000"/>
            <a:ext cx="561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Автор: Ромашкина Е.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учитель-дефектоло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МОУ школа-интернат № 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г. Ярослав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49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торой  этап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диагно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ключает социологическо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сихологическое исследование сем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тематическое анкетирование и опрос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 интерв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Трети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сихолого-педагогическое просве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ланирование  форм  и  направлений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заимодействия  с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Четверт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практическая деятельность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в образовательном процессе учре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овместные мероприятия для дет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оддержка  и помощ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  благоустройстве учреждени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оспитательно-образовательн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досуговая работа с деть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Формы  работы с родителями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 условиях дошкольных образовательных учреждений компенсирующего вида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Наглядная пропаганда –  печатная информационная  продукция  для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собр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знакомитель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формацио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омендатель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филактическ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еминары  и  конференци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нсуль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дивидуальные  и  коллектив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яющие   и   направляющие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Мероприя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казательными   или  совместны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одительские объединения, клубы, цент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Аспекты актуальности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форм взаимодействия педагогов с родителям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квалифицированной  поддержки  родителям (социально-правовой, психолого-педагогическо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помощи близким взрослым в  создании комфортной,  для развития               ребенка семейной сре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оздание условий для активного участия родителей в воспитании и обучении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Спасибо за внимание !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0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Дошкольное учреждение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–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это  первое  образовательное учрежде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рвый внесемейный социальный институт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 которым вступают в контак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родители  «особого» ребе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где начинается их систематическо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дагогическое  просвещение</a:t>
            </a:r>
            <a:r>
              <a:rPr b="0" lang="ru-RU" sz="36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0809"/>
                </a:solidFill>
                <a:latin typeface="Garamond"/>
              </a:rPr>
              <a:t>Е.А. Стребеле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03536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Фактор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определившие работу с родител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ак  важное  напра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оррекционно - 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ннее выявление проблемных детей  и  возможность своевременного  начала  коррекционной работы с н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явление различных новых форм организации коррекционно-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активность самих родителей, желающих понять проблемы развития своих детей и помочь им адаптироваться в соци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Цель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ыявление  актуальных  фор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боты   с 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 дошкольном образовательном учрежд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мпенсирующего   ви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Задачи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проблемы семь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этапы работы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формы взаимодействия педагогов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Проблемы семьи ребенка с особыми образовательными потребностями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получения  и  восприятия родителями первой негативной информации о состоянии психофизического здоровья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выбора  стратегии  поведения            в  социуме  семьи, воспитывающей  ребенка  с  особыми 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информированности  родителей  в вопросах социальной и психолого-педагогической помощи  ребенку с интеллектуальной недостаточност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компетенции родителей в вопросах защиты прав и  интересов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Этапы   работы   с  родителями</a:t>
            </a: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ерв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ознакомит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дразумева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ламу дошкольного  учрежде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едставление педагогических  кадр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бразовательных  услу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0:57:55Z</dcterms:created>
  <dc:creator>Admin</dc:creator>
  <dc:description/>
  <dc:language>en-US</dc:language>
  <cp:lastModifiedBy>Елена</cp:lastModifiedBy>
  <dcterms:modified xsi:type="dcterms:W3CDTF">2010-03-12T12:44:57Z</dcterms:modified>
  <cp:revision>3</cp:revision>
  <dc:subject/>
  <dc:title>Слайд 1</dc:title>
</cp:coreProperties>
</file>