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379-57B3-447F-B966-DE0A9BBB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32E-A6F7-4E51-9053-8229A71C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0FAA-4078-42AE-BE13-D89AC9F5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135-7531-4F0A-B300-55603F54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C53D-8F64-45BA-BCA8-137225CA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C560-B7A4-45EE-A1BB-2C57C60E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A054-6711-4474-AE58-A15F8496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213E-2D71-4EA1-8769-A0CAE9A3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2318-8DF4-467F-9B44-B9E58BF1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B473-2943-45EC-941E-07804B45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2191-E7EB-4154-95BB-606DCD4F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718-9D88-475D-83BE-75BF74DE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54D9-986A-472E-9E51-5C76F7C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01B1-3BAD-4995-B41D-8718F54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89F2-8252-465F-903F-0B3AEF9A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B1F2-6CC7-4087-B85E-CE10F676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B56C-B14D-4942-88C8-170C726E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F5A-29DB-44D3-8795-E7C69074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D61-ADF5-4E75-BC63-C9767225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F12-07A3-4A61-B9A1-B26C0624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BA3-681E-4FCF-98C2-6C15EABD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838-4D5A-41D8-BC59-F97B28AA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D81-9C8C-45DE-902C-0956ABAB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C1B-5392-4063-80EB-9C2EBC99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080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66B9-B65D-460C-A0DF-2A003996B1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3080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3156-D85E-4BEC-A185-1168B8ADE69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3080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4bf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534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Формы  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взаимодействия   педагогов  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с  семьей  ребенка 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дошкольного   возраста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с   особыми  образовательными потребностями</a:t>
            </a:r>
            <a:endParaRPr b="1" lang="en-US" sz="40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132000" y="4653000"/>
            <a:ext cx="561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Автор: Ромашкина Е.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учитель-дефектолог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МОУ школа-интернат № 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г. Ярославл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49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Второй  этап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диагно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ключает социологическо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сихологическое исследование семе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тематическое анкетирование и опрос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беседы и  интервь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Третий этап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психолого-педагогическое просвещ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ланирование  форм  и  направлений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заимодействия  с  родителя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Четвертый этап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практическая деятельность род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в образовательном процессе учреж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совместные мероприятия для дете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поддержка  и помощь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в  благоустройстве учреждени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воспитательно-образовательна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досуговая работа с деть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Формы  работы с родителями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в условиях дошкольных образовательных учреждений компенсирующего вида</a:t>
            </a: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Наглядная пропаганда –  печатная информационная  продукция  для род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Беседы и собр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знакомитель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информацио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екомендатель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филактически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Семинары  и  конференци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Консуль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индивидуальные  и  коллектив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яющие   и   направляющие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Мероприят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оказательными   или  совместны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одительские объединения, клубы, центр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Аспекты актуальности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форм взаимодействия педагогов с родителями ребенка с особыми образовательными потребност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казание квалифицированной  поддержки  родителям (социально-правовой, психолого-педагогическо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казание помощи близким взрослым в  создании комфортной,  для развития               ребенка семейной сре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создание условий для активного участия родителей в воспитании и обучении реб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Спасибо за внимание !</a:t>
            </a:r>
            <a:endParaRPr b="1" lang="en-US" sz="3600" spc="-1" strike="noStrike">
              <a:solidFill>
                <a:srgbClr val="03080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0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0809"/>
                </a:solidFill>
                <a:latin typeface="Garamond"/>
              </a:rPr>
              <a:t>Дошкольное учреждение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–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это  первое  образовательное учреждени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первый внесемейный социальный институт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с которым вступают в контак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родители  «особого» ребен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и где начинается их систематическо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педагогическое  просвещение</a:t>
            </a:r>
            <a:r>
              <a:rPr b="0" lang="ru-RU" sz="36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0809"/>
                </a:solidFill>
                <a:latin typeface="Garamond"/>
              </a:rPr>
              <a:t>Е.А. Стребеле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035360"/>
            <a:ext cx="8713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0809"/>
                </a:solidFill>
                <a:latin typeface="Garamond"/>
              </a:rPr>
              <a:t>Факторы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определившие работу с родителям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как  важное  направл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коррекционно - педагогического проц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аннее выявление проблемных детей  и  возможность своевременного  начала  коррекционной работы с ни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оявление различных новых форм организации коррекционно-педагогического процес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активность самих родителей, желающих понять проблемы развития своих детей и помочь им адаптироваться в соци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 </a:t>
            </a: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Цель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ыявление  актуальных  фор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аботы   с   родителя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 дошкольном образовательном учрежд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компенсирующего   ви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Задачи</a:t>
            </a:r>
            <a:endParaRPr b="1" lang="en-US" sz="36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ить проблемы семьи ребенка с особыми образовательными потребност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ить этапы работы с родител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ить формы взаимодействия педагогов с родител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Проблемы семьи ребенка с особыми образовательными потребностями</a:t>
            </a: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 получения  и  восприятия родителями первой негативной информации о состоянии психофизического здоровья реб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 выбора  стратегии  поведения            в  социуме  семьи, воспитывающей  ребенка  с  особыми  образовательными потребност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недостаточной информированности  родителей  в вопросах социальной и психолого-педагогической помощи  ребенку с интеллектуальной недостаточность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недостаточной компетенции родителей в вопросах защиты прав и  интересов реб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Этапы   работы   с  родителями</a:t>
            </a:r>
            <a:r>
              <a:rPr b="1" lang="en-US" sz="44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Первый этап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ознакомитель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одразумевае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екламу дошкольного  учреждени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едставление педагогических  кадро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бразовательных  услу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0:57:55Z</dcterms:created>
  <dc:creator>Admin</dc:creator>
  <dc:description/>
  <dc:language>en-US</dc:language>
  <cp:lastModifiedBy>Елена</cp:lastModifiedBy>
  <dcterms:modified xsi:type="dcterms:W3CDTF">2010-03-12T12:44:57Z</dcterms:modified>
  <cp:revision>3</cp:revision>
  <dc:subject/>
  <dc:title>Слайд 1</dc:title>
</cp:coreProperties>
</file>