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C12-3629-4C6F-A90C-6115F5B9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2EA-082E-4231-9E2E-463A32B0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62B-1043-4137-8920-DAF665E6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DEA-69EE-452B-9A0D-8D89CDF1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58B6-4C31-497F-BDFE-CBE7ACEA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D22E-08F9-4E18-B327-4EF535C1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5BFE-5E5E-4EAA-8D24-33A3DDA7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CECC-C1F7-4499-A8CF-FD653E84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E622-3EF5-4EAB-BCAD-DAF4EE87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E766-113E-4BC6-9ABE-C89D4D4C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A12C-BC7F-4039-B88C-CE5FB415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1E0-F958-4A76-B25E-A0CC62B8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C8DC-7ACB-4F39-A2FE-3588851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8F60-55B9-40EE-B9C2-6C391138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654F-DD87-472F-9CE1-EF6F35BD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E185-7EAD-4C86-83DC-F2CD5824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068C-690C-4A42-A74B-84BC868C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ED6-8007-43BE-A2D2-5F66F05F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144-B96E-43A8-A663-F9756F27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D83-BEC3-4B52-9935-9E6D53D5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AB1-B393-4AD7-894B-B80E3DD2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68A-17D1-4B65-A8D9-AE205A00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90C-AF1C-4162-A9B2-584BDF65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23B-8EDC-4BDD-9834-FD25E650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080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C2C5-E61B-45D1-B6B9-E4D444FC3B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3080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F16F-2906-4074-A5C1-DE48A359E3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3080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4bf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534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Формы  </a:t>
            </a:r>
            <a:br>
              <a:rPr sz="4000"/>
            </a:b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 взаимодействия   педагогов  </a:t>
            </a:r>
            <a:br>
              <a:rPr sz="4000"/>
            </a:b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с  семьей  ребенка </a:t>
            </a:r>
            <a:br>
              <a:rPr sz="4000"/>
            </a:b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дошкольного   возраста</a:t>
            </a:r>
            <a:br>
              <a:rPr sz="4000"/>
            </a:b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 с   особыми  образовательными потребностями</a:t>
            </a:r>
            <a:endParaRPr b="1" lang="en-US" sz="40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132000" y="4653000"/>
            <a:ext cx="561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809"/>
                </a:solidFill>
                <a:latin typeface="Garamond"/>
              </a:rPr>
              <a:t>Автор: Ромашкина Е.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809"/>
                </a:solidFill>
                <a:latin typeface="Garamond"/>
              </a:rPr>
              <a:t>учитель-дефектолог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809"/>
                </a:solidFill>
                <a:latin typeface="Garamond"/>
              </a:rPr>
              <a:t>МОУ школа-интернат № 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809"/>
                </a:solidFill>
                <a:latin typeface="Garamond"/>
              </a:rPr>
              <a:t>г. Ярославл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49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Второй  этап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диагно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включает социологическо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сихологическое исследование семе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тематическое анкетирование и опрос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беседы и  интервь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Третий этап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психолого-педагогическое просвещ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ланирование  форм  и  направлений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взаимодействия  с  родителя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30809"/>
                </a:solidFill>
                <a:latin typeface="Garamond"/>
              </a:rPr>
              <a:t>Четвертый этап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30809"/>
                </a:solidFill>
                <a:latin typeface="Garamond"/>
              </a:rPr>
              <a:t>практическая деятельность род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30809"/>
                </a:solidFill>
                <a:latin typeface="Garamond"/>
              </a:rPr>
              <a:t>в образовательном процессе учреж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совместные мероприятия для дете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поддержка  и помощь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в  благоустройстве учреждени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воспитательно-образовательна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досуговая работа с деть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Формы  работы с родителями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в условиях дошкольных образовательных учреждений компенсирующего вида</a:t>
            </a: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Наглядная пропаганда –  печатная информационная  продукция  для род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Беседы и собр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знакомитель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информацио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екомендатель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филактически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Семинары  и  конференци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Консуль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индивидуальные  и  коллектив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пределяющие   и   направляющие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Мероприят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оказательными   или  совместны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одительские объединения, клубы, центр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Аспекты актуальности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форм взаимодействия педагогов с родителями ребенка с особыми образовательными потребност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казание квалифицированной  поддержки  родителям (социально-правовой, психолого-педагогическо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казание помощи близким взрослым в  создании комфортной,  для развития               ребенка семейной сре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создание условий для активного участия родителей в воспитании и обучении реб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Спасибо за внимание !</a:t>
            </a:r>
            <a:endParaRPr b="1" lang="en-US" sz="3600" spc="-1" strike="noStrike">
              <a:solidFill>
                <a:srgbClr val="03080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0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0809"/>
                </a:solidFill>
                <a:latin typeface="Garamond"/>
              </a:rPr>
              <a:t>Дошкольное учреждение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–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это  первое  образовательное учреждени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первый внесемейный социальный институт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с которым вступают в контак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родители  «особого» ребен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и где начинается их систематическо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педагогическое  просвещение</a:t>
            </a:r>
            <a:r>
              <a:rPr b="0" lang="ru-RU" sz="36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0809"/>
                </a:solidFill>
                <a:latin typeface="Garamond"/>
              </a:rPr>
              <a:t>Е.А. Стребеле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035360"/>
            <a:ext cx="8713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0809"/>
                </a:solidFill>
                <a:latin typeface="Garamond"/>
              </a:rPr>
              <a:t>Факторы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определившие работу с родителям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как  важное  направл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0809"/>
                </a:solidFill>
                <a:latin typeface="Garamond"/>
              </a:rPr>
              <a:t>коррекционно - педагогического проц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аннее выявление проблемных детей  и  возможность своевременного  начала  коррекционной работы с ни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оявление различных новых форм организации коррекционно-педагогического процес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активность самих родителей, желающих понять проблемы развития своих детей и помочь им адаптироваться в соци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 </a:t>
            </a: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Цель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выявление  актуальных  фор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аботы   с   родителя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в дошкольном образовательном учрежде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компенсирующего   ви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Задачи</a:t>
            </a:r>
            <a:endParaRPr b="1" lang="en-US" sz="36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пределить проблемы семьи ребенка с особыми образовательными потребност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пределить этапы работы с родител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пределить формы взаимодействия педагогов с родител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Проблемы семьи ребенка с особыми образовательными потребностями</a:t>
            </a:r>
            <a:r>
              <a:rPr b="1" lang="en-US" sz="40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блема  получения  и  восприятия родителями первой негативной информации о состоянии психофизического здоровья реб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блема  выбора  стратегии  поведения            в  социуме  семьи, воспитывающей  ребенка  с  особыми  образовательными потребност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блема недостаточной информированности  родителей  в вопросах социальной и психолого-педагогической помощи  ребенку с интеллектуальной недостаточность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308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облема недостаточной компетенции родителей в вопросах защиты прав и  интересов реб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809"/>
                </a:solidFill>
                <a:latin typeface="Garamond"/>
              </a:rPr>
              <a:t>Этапы   работы   с  родителями</a:t>
            </a:r>
            <a:r>
              <a:rPr b="1" lang="en-US" sz="4400" spc="-1" strike="noStrike">
                <a:solidFill>
                  <a:srgbClr val="03080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03080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Первый этап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30809"/>
                </a:solidFill>
                <a:latin typeface="Garamond"/>
              </a:rPr>
              <a:t>ознакомитель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одразумевае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рекламу дошкольного  учреждени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представление педагогических  кадро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809"/>
                </a:solidFill>
                <a:latin typeface="Garamond"/>
              </a:rPr>
              <a:t>образовательных  услу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0:57:55Z</dcterms:created>
  <dc:creator>Admin</dc:creator>
  <dc:description/>
  <dc:language>en-US</dc:language>
  <cp:lastModifiedBy>Елена</cp:lastModifiedBy>
  <dcterms:modified xsi:type="dcterms:W3CDTF">2010-03-12T12:44:57Z</dcterms:modified>
  <cp:revision>3</cp:revision>
  <dc:subject/>
  <dc:title>Слайд 1</dc:title>
</cp:coreProperties>
</file>